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B67-1808-442B-B701-F7EB04D0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4E3-E206-4FB0-9F36-D4F04DE1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153-91F5-4501-BD82-684BDED6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0EB-2F0E-4750-ACC2-DD3007A2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73D2-59F5-487D-B72F-A4883C7C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5CEC-1648-43AC-8158-EC0CF613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51F3-BB34-47C4-BCF3-51C24459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9EAB-BA92-4BC7-89F2-584B9409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4188-2091-410B-B6A8-FBF243A3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6BC0-A93E-497D-AA0F-214DE899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0D18-AE3C-4031-9981-DE4F7302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A05-E6A1-4157-877E-18583531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53F5-E891-4359-A6BC-127C3AF1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953B-1961-46F8-B657-097999E3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6485-BAF6-48D1-8A35-3441550B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4FAB-49B3-4164-A6B7-FFD3A2A2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B791-B545-4A80-95D1-0408412B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468-A9D7-4674-85BA-DA1E4725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B68-032C-465D-A88C-B0290E8D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602-332E-42E2-BE69-CE880B85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D6C-28D6-4217-981E-B3E39FBB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270-BB4B-4952-9631-C1ED5ED2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A2F-68A9-41BE-9804-B9E6604C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557-309A-4BD9-98D8-04A50078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B1D8-8E28-40EC-9B46-25C8997923F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5BDA-530E-4DD4-A6F7-851BDA5E718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rochanteric Nail Insertion for the Treatment of Femoral Shaft Fract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3276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Journal of Orthopedic Trauma </a:t>
            </a:r>
            <a:r>
              <a:rPr b="0" i="1" lang="ar-SA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vol.19,8,Sep.200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DR.ABDULRAHMAN ALGARN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omplic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 iatrogenic fractures or infection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eterotopic ossification :5 hip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in : mild (6) ,moderate (2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ip Func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ts :Harris Hip Score 77 (45 – 96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p ROM :similar to normal side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isual &amp; video taped gait analysis : 3 Trend. Gai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untscher :lateral;tip of GT; infection,AVN of femoral head and neck fracture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ohler : top of G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O : lateral to avoid damage to retinacular vessels and hip join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raight nails through GT  : comminution; varus esp. proximal fracture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inquist :lateral ;switch to piriformis fos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ohanson : &gt;6mm anterior to PF; increase risk of complications ; position evolved to supine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c fee and Waddle : morbidly obese          ;difficult in supine using PF;increased risk of complications;accept more lateral star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oin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strum :trochantric starting point; supine;           satisfactory results in obese Pt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.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 this study;esp. nail and tip of G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ks et al : 21% risk of HO using PF; 15% in this stud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ait and abductor weakness : comparable to   PF starting poin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1599840"/>
            <a:ext cx="91425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tegrade femoral nailing in supine position using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pecially designed nail inserted through tip of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reater trochanter provides high union rate and  low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ate of complications including comminution and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gulation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.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10824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2971800" y="533520"/>
            <a:ext cx="31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04920" y="1905120"/>
            <a:ext cx="7848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194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untscher : tip of greater trochante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ate1940,Bohler: ridge of greater               trochante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inquist : lateral to G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rus malalignmen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ccentric reaming of medial cortex of             proximal fragmen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minution at fracture site or both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vocated piriformis                                        fossa (difficult;supine;obese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sing a nail especially designed for insertion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rough G.T (TAN) could eliminate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ications seen with straight nail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terials and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sign and sitting : prospective; 3 trauma centers; 1 of 4 fellow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.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an. 1 ,1999 and Dec. 31 ,200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.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6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tients (14 – 97 yrs ) average (43.6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losed ; 11 open 5(1) , 2(3A) , 2(3B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bese (113 – 159 kg) ; 3 &gt; 181 kg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-360" y="457200"/>
            <a:ext cx="7620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tervention :                                                    supine ; TAN(cannulated,interlocking,Tit.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13mm ; 7 cm ; 4 valgus bend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ip of GT,nail rotated 90 ;avoid iatrogenic complication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5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amed , 9 unreamed .All locked           proximally and all but 4 distall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in outcome measures : union ,               alignment,complications and hip function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ts died ;46 of 57 Pts (81%) for F\U at a Min. of 12 month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5736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linical and radiographic, all but 1 at 13 week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1dynamisation at12 wks and united at 22 wk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T  : once start WB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lignme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-3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gulation(&gt;10% in any plane or rotation&gt;10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ne;1 Pt shortening of 2cm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19:28:59Z</dcterms:created>
  <dc:creator>***</dc:creator>
  <dc:description/>
  <dc:language>en-US</dc:language>
  <cp:lastModifiedBy>dell</cp:lastModifiedBy>
  <dcterms:modified xsi:type="dcterms:W3CDTF">2009-03-06T15:44:38Z</dcterms:modified>
  <cp:revision>37</cp:revision>
  <dc:subject/>
  <dc:title>Introduction</dc:title>
</cp:coreProperties>
</file>