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03C-F85C-4F2D-8B88-2A479D82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16A-01FF-4443-A5EB-8FED79E6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CEE-1B90-4EC6-AA48-01D7521B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C88-2337-45F3-A695-1156E529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268B-85C9-4618-A3E6-BDCCF8CD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DFDA-54F9-422A-A31B-4FEE5D4F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34E8-9A00-40BF-BE6A-F5FD7951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D81-7ED6-423A-A42F-53D08393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C926-9138-4127-878F-B5C347DA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DDC5-F0CB-40CB-8835-0160EE15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CC88-BC3F-4099-AE5D-7A726E8D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5B7-1137-480D-B606-A97F06D6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D3BA-392D-402E-A687-BBA8A264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613A-B375-44F7-A04D-A29CB63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48F6-C89F-486E-9753-7B2E5C71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E4AE-30BF-46BC-A45E-0DDBF275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6A30-A875-4F69-A818-51DBF65E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DA6-ED12-4FF7-BDF0-5D01851E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668-C292-4D4B-9731-726937C2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CE9-FE24-4366-A5BE-8A8F86C7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86F-02F4-4ED4-B874-43950DEA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81B-E3CA-4DE2-B0DB-7A549845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253-26F9-467E-82A5-3C98EAE8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AA1-FDD6-45D6-8FB3-F8402AC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D7B6-C355-47A1-AD76-D358413B172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676F-52C4-4F8B-8BC3-D63D6A77AD5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chanteric Nail Insertion for the Treatment of Femoral Shaft Frac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276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Journal of Orthopedic Trauma </a:t>
            </a:r>
            <a:r>
              <a:rPr b="0" i="1" lang="ar-SA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vol.19,8,Sep.200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DR.ABDULRAHMAN ALGARN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 iatrogenic fractures or infection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eterotopic ossification :5 hip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in : mild (6) ,moderate (2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p Func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ts :Harris Hip Score 77 (45 – 96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p ROM :similar to normal sid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isual &amp; video taped gait analysis : 3 Trend. Gai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untscher :lateral;tip of GT; infection,AVN of femoral head and neck fracture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ohler : top of G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O : lateral to avoid damage to retinacular vessels and hip joi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raight nails through GT  : comminution; varus esp. proximal fracture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inquist :lateral ;switch to piriformis fos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ohanson : &gt;6mm anterior to PF; increase risk of complications ; position evolved to supin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c fee and Waddle : morbidly obese          ;difficult in supine using PF;increased risk of complications;accept more lateral sta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oi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strum :trochantric starting point; supine;           satisfactory results in obese Pt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.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 this study;esp. nail and tip of G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ks et al : 21% risk of HO using PF; 15% in this stud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it and abductor weakness : comparable to   PF starting poi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25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tegrade femoral nailing in supine position using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ecially designed nail inserted through tip of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reater trochanter provides high union rate and  low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ate of complications including comminution a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gulatio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.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10824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971800" y="533520"/>
            <a:ext cx="31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04920" y="1905120"/>
            <a:ext cx="784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94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untscher : tip of greater trochante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te1940,Bohler: ridge of greater               trochante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inquist : lateral to G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rus malalignme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centric reaming of medial cortex of             proximal fragme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minution at fracture site or both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vocated piriformis                                        fossa (difficult;supine;obese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sing a nail especially designed for insertio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rough G.T (TAN) could eliminat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ications seen with straight nail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terials and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ign and sitting : prospective; 3 trauma centers; 1 of 4 fellow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.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an. 1 ,1999 and Dec. 31 ,200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.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6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tients (14 – 97 yrs ) average (43.6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osed ; 11 open 5(1) , 2(3A) , 2(3B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bese (113 – 159 kg) ; 3 &gt; 181 kg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360" y="457200"/>
            <a:ext cx="7620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tervention :                                                    supine ; TAN(cannulated,interlocking,Tit.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3mm ; 7 cm ; 4 valgus be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ip of GT,nail rotated 90 ;avoid iatrogenic complication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5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amed , 9 unreamed .All locked           proximally and all but 4 distall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n outcome measures : union ,               alignment,complications and hip functio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ts died ;46 of 57 Pts (81%) for F\U at a Min. of 12 month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inical and radiographic, all but 1 at 13 week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dynamisation at12 wks and united at 22 wk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T  : once start WB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lignme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-3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gulation(&gt;10% in any plane or rotation&gt;10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e;1 Pt shortening of 2cm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9:28:59Z</dcterms:created>
  <dc:creator>***</dc:creator>
  <dc:description/>
  <dc:language>en-US</dc:language>
  <cp:lastModifiedBy>dell</cp:lastModifiedBy>
  <dcterms:modified xsi:type="dcterms:W3CDTF">2009-03-06T15:44:38Z</dcterms:modified>
  <cp:revision>37</cp:revision>
  <dc:subject/>
  <dc:title>Introduction</dc:title>
</cp:coreProperties>
</file>