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646C-F3C3-46DA-9723-6DBC3AFE6AC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FBA3-945A-4BBD-9423-116D467A1F9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C7C-4ADC-4D46-BCFB-92D873C8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7B-9DDA-4DBB-9D21-D74DAE00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2DC-BAA2-4BA3-BFAE-BDE98F6E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0E31-0321-4A9B-871B-C91E1001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937A-70DB-42CF-9C6F-F8D4F9F7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69C0-8255-46CB-B966-1C76941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498F-7BBB-44E3-8BFD-B38A33BB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6BF8-14DB-45AD-AA80-C189575C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AF2D-1464-4F22-B87B-0E9E1512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669-F654-4A5F-9CFB-E2C4A0DC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B793-5489-4D76-A2DA-579EEC1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321-97BD-4AD3-958A-EA5FBEBE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22AA-20B2-496B-820D-AAA35464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9AA7-496E-4E11-B0AD-E183A0B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2F9F-91E7-4ABD-8AAF-C076154A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8672-243A-435E-AC1A-1148277C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627-3540-4A3A-A988-C18D1AF2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015D-1D24-4F12-AB98-26E08608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D8BF1-B593-4576-AF47-C6AB02A3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A5E3-A8FA-4091-BF5A-741A7D34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E8B3-770B-4DE5-B040-7D6582F3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E928-969B-4B1F-806A-B427F01E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EC2-5FD0-484E-A535-4D41C169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8E21B-80BB-49C8-ADC1-DC2B57D9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62FAE-121F-4448-944E-A6DC1FF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A79C-0398-451E-A056-CF18CEC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B150-0028-4DF7-953E-D022A63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72B4F-8A02-4AAD-ADB3-10145C02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8DEB-3F32-452C-B38B-B2DF9477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326A3-7E77-4495-B313-B1FF7026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1DAC-A765-4EED-9348-57A98CD1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A50A-71FC-485B-A6E8-6754FE43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8104-9AFF-4849-BD79-23E01E53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042-E6AE-4B0A-A853-1D927D8D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3987-943D-4C50-A008-B4F43644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C8D8A-44B4-410C-8280-BF0A784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FF2D3-F138-4964-9253-D45CD14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404D-39BE-488C-94D9-33ABB43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20FA-CFE6-4B23-893F-6994865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FEB10-20A4-4DDA-A30E-B547466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9FB2D-8067-4212-ACA2-190623E2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26CFB-2502-47E5-A200-6AAB2811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F2176-0093-47A4-A474-3ACFD667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5D7-0DFC-4BD9-AB24-BB590B7C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794-83AF-4800-9A8C-60AAD63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C7C-E3F2-4510-82CD-52F38B8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265-085C-4D8B-BED5-9CD3A82C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704-E379-4210-9096-DAAA7F9F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EA2A-6351-4423-B195-9F1FFE68098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2A60-FD6A-4AB7-9F61-F0BFA3F251AD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E83-2A6D-484E-A11A-3473DCA9D3D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B265-F59D-49C3-9996-9BA01E65D6FC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Sensory Recepto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eive stimuli from inside the body (pressure,osmo and chemorecepto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ter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tect stimuli from outside(smell,hearing,Equilibri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em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d to chemical substance in the immediate vicinit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t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spond to light energy (rods and con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chanorecep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timulated by mechanical force (detect changes 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lui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rmorecep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 hypothallamus (cold and warm receptor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in receptor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 nociceptors (naked dendrites that respond to chemicals released from damaged tissu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tructure and Function of Sensory Receptor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1638360" y="2138400"/>
            <a:ext cx="1676520" cy="4000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3780000" y="2060640"/>
            <a:ext cx="1914480" cy="4000320"/>
          </a:xfrm>
          <a:prstGeom prst="rect">
            <a:avLst/>
          </a:prstGeom>
          <a:ln w="0">
            <a:noFill/>
          </a:ln>
        </p:spPr>
      </p:pic>
      <p:sp>
        <p:nvSpPr>
          <p:cNvPr id="209" name="مستطيل 8"/>
          <p:cNvSpPr/>
          <p:nvPr/>
        </p:nvSpPr>
        <p:spPr>
          <a:xfrm>
            <a:off x="324000" y="1779480"/>
            <a:ext cx="809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ns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 th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s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pecialize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nding of a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ur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timulu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ts on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ensor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ing 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osing 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re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roducing 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ept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tenti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مستطيل 9"/>
          <p:cNvSpPr/>
          <p:nvPr/>
        </p:nvSpPr>
        <p:spPr>
          <a:xfrm>
            <a:off x="2754360" y="1503360"/>
            <a:ext cx="6389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nsory receptor 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eparate cell from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 neur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stimulus chang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membrane potenti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the receptor cel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opens (or closes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calcium channe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→ ↑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r ↓ cytosolic [Ca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hanges in [Ca]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igger (or inhibit)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lease of a chemic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ransmitter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xocytosi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transmitt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es to th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fferent neuron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nding to receptros 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afferent ending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8:58:13Z</dcterms:created>
  <dc:creator>user</dc:creator>
  <dc:description/>
  <dc:language>en-US</dc:language>
  <cp:lastModifiedBy>User</cp:lastModifiedBy>
  <dcterms:modified xsi:type="dcterms:W3CDTF">2012-02-20T06:41:20Z</dcterms:modified>
  <cp:revision>10</cp:revision>
  <dc:subject/>
  <dc:title>الشريحة 1</dc:title>
</cp:coreProperties>
</file>