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BE989-FC99-4472-9EBF-43D97D36A4D0}" type="slidenum">
              <a:rPr b="0" lang="ar-SA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67365-F8F2-4260-98E3-5C785D7E14A7}" type="slidenum">
              <a:rPr b="0" lang="ar-SA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31398-F595-4ACD-9B7F-61EDA575A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D9F22-3C30-48DA-8714-E572028B0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C9C15-4E46-4888-B8CF-359CA93DD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CF3D9-6288-40F6-BACC-87DD49C22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1FB6A-3BDA-43FF-8653-8F154558A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0975F-2703-4DF4-909C-32D721F5A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37C52-9930-4584-B15C-9B3C2062A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15AAF-E9A4-465A-A0C9-CEFA93BB8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55CBD-5912-4722-B09D-BAD1BAEBD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8407A-E9BE-4F6F-AE00-85F07725E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8B142-4110-4729-AD30-BA987E4D7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4171B-15E7-442F-9502-405F2144E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5B8B5-516B-4349-917C-9CF256190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EE2C2-06DB-4AB5-93E3-3BC60860C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9A4DD-E851-48F2-A76D-7BC7502D7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8D9BB-40AB-4BA1-86CD-205086598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D03EC-904A-4A97-9EFC-1CBFB2266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85997A-1954-4B2C-8A46-A46A8F4EA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836502-6CFC-4E87-A834-BA5CEDC1C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069234-1B38-4953-B52E-589630C30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C584E0-D3A6-4576-A104-AE45FD851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5AB1F3-F11F-432F-A704-D359BD618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331AD-0E55-4DDB-BD66-50C004DE6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308D58-40F3-4C46-9FDF-7615DE7ED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84F5CC-9072-41BC-9919-6C5EA43BF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74030F-5D2E-4E86-87A3-347EBE536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4DD9DC-8354-4BAD-AB73-304D745A9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608D3B-501B-437D-8A32-42BB0D380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FCAAAB-BD02-422F-A63A-39B4760F8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7E914C-0DCD-4DAD-A3C2-74E21359A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A9404C-9E71-4047-8BFE-550CAF152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0091B8-61AA-4B39-8365-72E97CF04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C7C520-0304-4D8B-A6EF-836CC2BCD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0533F-E48C-4C12-9D0B-357D99452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C36EAB-D208-4EDE-B347-B08E85266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D0045C-758B-4AEA-98A2-F9548DDF7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300A96-EA7B-4FC6-97C1-C170C7B3A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BABA7A-CC89-4D00-916C-6DA8E3FFF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916E83-C498-4555-9159-A0BBDAB17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527367-8F51-4070-8AE3-512F2B2FF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351AFE-B230-4AE7-9E0F-68C4EEB93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9C9067-AA35-45CF-AD7B-619360BDD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CB979E-9A20-4868-A78A-E31419E6F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7FD31-4E75-4524-8292-71B54EE87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95139-B2AE-4710-B0D2-B3BF3B8E7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6D35F-3E2B-42BD-B401-438CC3144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D3BA2-3BC6-4135-B6FB-590B5823F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2AE9F-D27C-4B3D-ADCD-C8DAEAC1B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شكل حر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شكل حر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r" rtl="1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 algn="r" rtl="1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 algn="r" rtl="1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 algn="r" rtl="1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 algn="r" rtl="1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 algn="r" rtl="1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B7E4F-2C43-40F9-B897-CB83D02F436A}" type="slidenum">
              <a:rPr b="0" lang="ar-SA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7" name="مجموعة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شكل حر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شكل حر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شكل حر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شكل حر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شكل حر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شكل حر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مجموعة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شكل حر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شكل حر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شكل حر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شكل حر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 algn="r" rtl="1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 algn="r" rtl="1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 algn="r" rtl="1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 algn="r" rtl="1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 algn="r" rtl="1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 algn="r" rtl="1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29DEF-DA11-4205-B699-E1D2BDB68EB1}" type="slidenum">
              <a:rPr b="0" lang="ar-SA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شكل حر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شكل حر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مجموعة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شكل حر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شكل حر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شكل حر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شكل حر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 algn="r" rtl="1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 algn="r" rtl="1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 algn="r" rtl="1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 algn="r" rtl="1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 algn="r" rtl="1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 algn="r" rtl="1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1A30A-DB88-4303-ADD5-AAB36A604321}" type="slidenum">
              <a:rPr b="0" lang="ar-SA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مستطيل ذو زاوية واحدة مخدوشة ودائرية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مثلث قائم الزاوية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شكل حر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شكل حر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r" rtl="1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 algn="r" rtl="1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 algn="r" rtl="1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 algn="r" rtl="1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 algn="r" rtl="1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 algn="r" rtl="1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0CCED-A549-4F0B-BBB5-4631B8B413C8}" type="slidenum">
              <a:rPr b="0" lang="ar-SA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Types of Sensory Receptor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•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nteroreceptor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receive stimuli from inside the body (pressure,osmo and chemoreceptors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•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xteroreceptor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detect stimuli from outside(smell,hearing,Equilibrium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53964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rtl="1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•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hemoreceptor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–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Respond to chemical substance in the immediate vicinity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rtl="1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•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hotoreceptor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–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Respond to light energy (rods and cones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rtl="1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•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echanorecepto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–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Stimulated by mechanical force (detect changes in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fluid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rtl="1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•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ermoreceptor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–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In hypothallamus (cold and warm receptors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•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ain receptors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: nociceptors (naked dendrites that respond to chemicals released from damaged tissue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Structure and Function of Sensory Receptors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7" name="Picture 3" descr=""/>
          <p:cNvPicPr/>
          <p:nvPr/>
        </p:nvPicPr>
        <p:blipFill>
          <a:blip r:embed="rId1"/>
          <a:stretch/>
        </p:blipFill>
        <p:spPr>
          <a:xfrm>
            <a:off x="1638360" y="2138400"/>
            <a:ext cx="1676520" cy="400032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2" descr=""/>
          <p:cNvPicPr/>
          <p:nvPr/>
        </p:nvPicPr>
        <p:blipFill>
          <a:blip r:embed="rId2"/>
          <a:stretch/>
        </p:blipFill>
        <p:spPr>
          <a:xfrm>
            <a:off x="3780000" y="2060640"/>
            <a:ext cx="1914480" cy="4000320"/>
          </a:xfrm>
          <a:prstGeom prst="rect">
            <a:avLst/>
          </a:prstGeom>
          <a:ln w="0">
            <a:noFill/>
          </a:ln>
        </p:spPr>
      </p:pic>
      <p:sp>
        <p:nvSpPr>
          <p:cNvPr id="209" name="مستطيل 8"/>
          <p:cNvSpPr/>
          <p:nvPr/>
        </p:nvSpPr>
        <p:spPr>
          <a:xfrm>
            <a:off x="324000" y="1779480"/>
            <a:ext cx="80992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A sensory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receptor that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is a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specialized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ending of an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afferent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neuron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The stimulu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acts on the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sensory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receptor by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opening or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closing ion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channel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thereby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producing a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receptor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potential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0" name="مستطيل 9"/>
          <p:cNvSpPr/>
          <p:nvPr/>
        </p:nvSpPr>
        <p:spPr>
          <a:xfrm>
            <a:off x="2754360" y="1503360"/>
            <a:ext cx="63896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A sensory receptor i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a separate cell from the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afferent neuron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The stimulus change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the membrane potential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of the receptor cell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which opens (or closes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a calcium channel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→ ↑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or ↓ cytosolic [Ca]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Changes in [Ca]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trigger (or inhibit) the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release of a chemical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transmitter by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exocytosi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The transmitter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communicates to the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afferent neuron by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binding to receptros on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the afferent ending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4T18:58:13Z</dcterms:created>
  <dc:creator>user</dc:creator>
  <dc:description/>
  <dc:language>en-US</dc:language>
  <cp:lastModifiedBy>User</cp:lastModifiedBy>
  <dcterms:modified xsi:type="dcterms:W3CDTF">2012-02-20T06:41:20Z</dcterms:modified>
  <cp:revision>10</cp:revision>
  <dc:subject/>
  <dc:title>الشريحة 1</dc:title>
</cp:coreProperties>
</file>