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6E540-9691-45CC-9FE2-03069F12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729D3-B558-44F9-BED4-85E80E0DC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B62A6-73D1-4C11-BEEE-529E166A2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B25EB-62A1-4331-8E0C-924863C08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85D370-3D91-4CFD-937A-C6D102C31D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461E78-BBA8-4084-BF04-8AF6A3AA7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BF3BF2-325F-4048-A604-14F1C21D7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B0C895-59DB-4F8B-A267-1FABAB8C2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59565F-4743-4DE1-998E-775E350A2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5A65CC-F8F2-4940-830B-E2EFBEDE1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50AB64-807B-4A3C-85F9-490669F5E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1F98-F959-48CC-85F3-6958D8A9E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11EAF3-9083-422C-A541-4E5B13A25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E0BACE-CA7F-485D-9EE0-D98A05342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CC8666-38F6-4852-A029-2E57A97F8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DB6756-F98A-455C-87D5-AA26EE950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72DF473-650C-4DEB-869A-5271D3705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632F-D1F4-4909-8343-3DCBE6B7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871D-8A52-4FB0-8211-9AC18A31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9898-DBF4-4F73-A5C0-B301B8FA5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B2F02-C9DF-4FF7-9950-9F981476B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FF30-C4E5-4B0C-9106-0C1ACEED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7FA1-8454-4D92-9C40-4BE24524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C2CF-8525-4B61-B51E-4B7162E6F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29A7-D19E-424C-B922-FA9110246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8FB3-176F-4021-AD28-727C152BB4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4:44Z</dcterms:modified>
  <cp:revision>29</cp:revision>
  <dc:subject/>
  <dc:title>Earthquakes and Volcanoes</dc:title>
</cp:coreProperties>
</file>