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9A0-5290-48DA-9C98-9CDC8C60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2A8-D1B7-401A-B2DB-461ED39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908-84FE-41BF-973C-37F48538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27C-EF3E-4306-A9B1-B90FFEFA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91EC-D7D9-46F3-8AE1-56A75196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E2CA-C8B2-45D6-8A6A-7EBFD0A4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4C35-FB30-4965-A165-523E7C37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4BE0-7C4F-4887-BFE7-93E04D94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1BE5-0095-47BC-9E70-D109B532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FC4E-D72D-4B7D-841F-B3CC7E14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D830-0981-452E-92BF-1B89D80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6B0-F859-40EE-AE4B-D05B43B0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11E1-37AE-4542-8235-210A88E4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127E-92C0-406B-AB27-2F72C194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28DF-19DB-46AD-B459-ACCF9BE2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EE83-BD24-427C-A41F-6BE388FD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DE0F-DD08-4207-B2A8-C44A8363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F2B1-ECE5-43DC-8E2E-CF4D6AB6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92199-2167-45AD-9A31-85CEFF07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984A-6E63-41E6-8168-EF8BF1BE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350A-45BE-4561-8B1E-F4C7BC0C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A34ED-683F-46FE-A8CD-644ED155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80E-E180-411F-AD48-DAE59C7E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E10F-EA0C-4DBF-9A11-5C5F099F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DC90-8C7E-48ED-98D2-8AED260E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42DBA-51EF-49F6-BF61-95152BC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0385-FEC6-4C53-9A64-88DEECFB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E66F-CFD3-4489-AF5F-6090F26A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6629-1F20-43FF-9DC3-91FD820D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8F3C-4A21-43A7-AD25-EF3EC94C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F1E8-D6F9-44B5-80CE-35C3D404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7321-4383-4548-A9C3-664B967D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6D70-7611-4311-B51E-395ECDE9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C4D-9358-4120-91B4-FCDD070E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C3D44-5CA3-4D37-84DF-5F8AC034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1846-8C55-4C92-8438-B42C50BB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02361-9D1D-431A-BBAA-7B3F230C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44E4-DCC6-4D65-95B2-7EFF8813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A8BE-62DB-4357-916B-CED7F927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6AC1-7E54-4819-960D-6EAC2ACC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8823-5B90-4406-BB12-81908E86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5547-82DC-4F50-A1FE-75A60805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A7BF5-51FE-4F9C-825F-15FE0ADC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3C3F0-3104-459C-928B-427A82AF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546-15A9-4BD2-8FB8-5559BE6C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67FAC-F0C3-4271-A8E3-D85C170F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D2C86-00E9-4704-B20D-235E8D71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8B2A-5248-4030-A52A-E23693A3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6D0AB-8208-4AAF-B635-0036BBFD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037C4-8E14-43C7-A6AF-C498C06C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1FBF8-CAF4-4DD4-8CF8-FEBEF7E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1415B-BC46-4394-AF72-5002EC9C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D4885-24A3-40F9-9412-895B0CAC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19438-C376-41F5-BF57-CA64B01F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F1DB-F2A5-4840-B66F-E021AD38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CEE-C8F4-4C4B-8CCE-9E4F55DA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2924E-828A-4032-95B1-181475DA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4389D-96CF-4408-ADEB-DD728DEF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E19FA-1EFE-47D5-A9D2-258E8A2B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BAB9-78AA-4DA8-8131-BE1A72A0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3B7C4-241C-403C-A327-D77D6F23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551D-46EF-457A-A285-6680E480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68DB5-AB8A-409C-B8A8-87E61611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F1044-0F03-4337-B297-022E93B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76DA9-8F3E-4285-9F03-753AFF6B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DC3C9-E0B3-4753-9803-C3EE2E8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69C-A285-4F5A-A6DD-0F096A0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0636-71E0-4D7D-9B79-FD26098A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61FDA-0AB3-406E-B502-C2B43DDA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0C3A-07EA-489F-A461-C4E891B9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F0B5C-0F4F-4193-B32C-314455A0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05B6A-C9EE-412A-9C4C-506F925D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ADD12-D3FA-4CBD-9B28-0BE03AF4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6F326-F140-417C-BE28-0B0C88F8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7F109-A854-467E-A984-325248E3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FE11E-CE2E-46E6-B82A-2320E8EC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305C2-EBBC-44C2-92B4-5318A247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7BC-9565-4FBD-A7F6-F993EE0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E2682-0BC5-4668-AA7C-5C134E1A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129DC-A43B-48FB-9D4C-2D9D38D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69AB8-163A-4B00-BE54-B7CE8B08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A26C-BA87-418B-80D1-E83F2772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927A2-0620-4F4E-A04F-05462FC3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573-39C1-4E84-B17E-9B341D9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A012-50E3-4511-86C4-A1331AAF577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F69-76FE-4002-8562-5A40DB13D0F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41EC-4D7A-4378-91F3-4797D75E2DE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223D-B540-4625-89D8-9BFCE8E8C57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D3E8-4EB9-473D-B6E1-ADA2F7D148C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DB9D-C314-4254-B64F-A86D8F09411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FE8D-FE29-4954-98A8-7238295CA56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b + Object + Infinitiv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initives commonly follow certain verbs, such as : want, have, try, decide and lear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examples are: want to get well, have to stop smoking, learn to rela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other common sentence pattern 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b + object + infinitiv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y certain verbs can appear befor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n object + infinitiv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dvice – allow – ask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ant – teach – tel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 advis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the patient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lo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ight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order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not to smok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didn’t tell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exercis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* Not can come before the main verb or before the infinitive depending on the meaning.      ( P 197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lexive Pronou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the subjective and the (direct or indirect ) object of a sentence are the same, the object should be a reflexive pronou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like to exhaus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yself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new cloth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ngular reflexive pronou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end in –self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Myself, yourself, himself, herself, it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want to exhaus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y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lp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hmed doesn’t like to exercise b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im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a weigh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very wee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oblem will take care of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t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ural reflexive pronouns:  end in –selv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, yourselves, themsel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bu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ilkshak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’t hur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4 cups of coffe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reflexive pronoun is often the indirect object of the main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 you get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ome lunc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tell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the trut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+ reflexive pronoun means “alone” or “without any help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1:35:33Z</dcterms:created>
  <dc:creator>sony</dc:creator>
  <dc:description/>
  <dc:language>en-US</dc:language>
  <cp:lastModifiedBy>Sara aldawood</cp:lastModifiedBy>
  <dcterms:modified xsi:type="dcterms:W3CDTF">2012-05-22T08:29:00Z</dcterms:modified>
  <cp:revision>11</cp:revision>
  <dc:subject/>
  <dc:title>Slide 1</dc:title>
</cp:coreProperties>
</file>