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B5F-9313-4F3B-BAB1-6798441A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0FC-D94B-400D-AD23-85721341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E9E-7793-42E4-9E48-6B6A3991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E84-3B2E-450D-BDE3-A5D03674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852F-50FD-4752-9ED8-B6894FB2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E899-F985-49B0-BDFE-E19687F6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333-616B-4DF4-A1DF-FF0D2BD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21D9-F914-4DBD-9198-69DFDA30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57D-026E-4230-BFFD-CEBA8A3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F61A-D8B7-4288-A9F9-333D628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9E94-FCAD-4F23-91A2-DB63C74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663-709E-4A1B-B546-DB61DA7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3D78-CF96-455D-AE56-889568E9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044-7604-4071-84BD-576EF7F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7CA6-6DB2-4E5C-B309-88B3233E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7F0-E433-463D-89AD-B59A9B4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C96D-5AE1-46CE-A1CB-03BE1577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4975-A1E3-42B6-8EA1-A0B38E3D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E94B-C2CF-4057-93BF-62E8B93A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44F4-1A4C-4AA7-896F-39344F5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FF4E-363B-4F75-9CBD-DC138638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5126-CFAF-4617-8B66-9638024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C29-488A-4EAC-9F21-AB3861C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24FB-D2CB-4B27-A6E6-9B58751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9FB1-90B6-42CB-9F62-F22C0A0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F487-BBF3-4AA1-80C6-E564599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0079-FBA9-4CCA-97AD-2A32B416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3D32-F0D5-4480-BB25-BE3A9B1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3816-5269-43EC-9873-E5F941EE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8F0A-ABC0-4424-9BDF-B0A6B368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964F-559C-449E-8427-368C2028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B4D77-7E27-433C-92AF-271B2E2B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B8EE-7FC4-43CC-9394-77AC0F5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A4C-DA52-4772-9761-236C1280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F8AA-CA44-4728-92B7-E0994676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43E6-158C-4D4B-AD4E-19D0A117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B501-0B19-42EA-A5EA-FC873FF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8D31-14BA-4E2C-BB73-147AA9A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FE94-8186-48FB-9CD1-6228E6A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8A1C-1BB0-495C-B844-A4D97E7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6E4B-43AD-4E60-B505-E087AD2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F27F-FDF1-4047-A09F-020F49D2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8BA0-E462-499B-AAF0-3F551456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43CB-1431-430C-8A34-6FC6EB36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85D-B4A4-4DA8-A09D-4691CDF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D86A-362F-4216-B07B-A1DA974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5DF3-BA3E-438A-A97D-2C59256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9D949-AD03-4415-8EC8-73873782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F82D3-9FAA-4ED7-9ECA-CDA35E5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D88BD-6F47-4BB5-8523-51B3B75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691C-9858-425A-BA62-C0621DFA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88AD-3DDD-4E7D-B2E8-068C6C1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04B4-918C-47B6-97C8-46D0C3B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E9D8-0519-402B-AFC5-F3C88AC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8133B-5B95-420D-9FCA-1BC33D7C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8A0-E8A1-461D-8424-9006FFA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E3F2-E87C-4511-80D4-EB82C027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B9D6-C56A-43D0-A51E-6A8ECBC1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8A00-A1FF-4545-9A41-A1EBAB0B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A236-5E19-466A-B160-01A8AEF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F1E1-8603-4E22-93A5-A5F0721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8C0A-26A1-4B9B-9977-E37FC58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3178-4F01-4480-BEDA-7A1961BA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A164-89F2-4405-B8C2-B3F29DD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1D28-F263-419A-9D29-5FF503C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CDBE5-A74E-4CE5-BED6-0538A57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478-C20A-4FF4-96CC-1BD14F9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3E92-DA4A-4E37-9706-7491B6E5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9DBE-FE6E-49EE-9CF3-0784BF6D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84E6-433E-4438-97AE-497C6415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8FE12-035D-44BD-AA06-AD092902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856EA-AF82-4F2F-8D9E-0771FE8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31F8-81A7-4AF3-B53D-3C124EC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97DEE-C083-4032-BFDD-774C4BC0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DD00B-CB37-460E-82F2-C40DC057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2A7E-A588-4B3A-A099-6488028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01562-FB49-4F37-85F1-4A31F0F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162-AE77-47B0-8947-E59CABD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34ED9-BCD9-44E1-800E-8B771A0E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CA2D-A396-45EF-8B63-B010211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91C6-FD76-4952-9CE1-7BA0D45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68C7-3DD1-482F-BABB-8575DFD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58C8-DB13-4451-B6EA-5C51F648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7B3-74D2-4ACD-BB41-52A5B26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2AB1-951B-48FA-8F4D-44853A31256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609-20D1-45E6-AC73-2124F2CC0E7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F68-5364-4838-A76C-C56F1B84EE5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768E-1EC8-4CFB-B685-5B03F2C88CB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9F76-3284-469A-AEEE-EF5A581FC01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0DFF-DAA9-4ACC-AB95-760E1C2A9E7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A8C-03FF-4BEE-B216-BA7CDD9A634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+ Object + Infinitiv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initives commonly follow certain verbs, such as : want, have, try, decide and lear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examples are: want to get well, have to stop smoking, learn to rela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other common sentence pattern 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 + object + infiniti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y certain verbs can appear befor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 object + infinitiv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dvice – allow – ask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nt – teach – tel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 advis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the patient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lo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igh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order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not to smok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didn’t tell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exercis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 Not can come before the main verb or before the infinitive depending on the meaning.      ( P 197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xive Pronou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subjective and the (direct or indirect ) object of a sentence are the same, the object should be a reflexive pronou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like to exhaus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yself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new clot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gular reflexive pronou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end in –self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Myself, yourself, himself, herself, it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want to exhaus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y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hmed doesn’t like to exercise b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im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a weigh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wee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blem will take care of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t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ral reflexive pronouns:  end in –sel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, yourselves, themsel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bu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ilkshak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’t hur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 cups of coffe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eflexive pronoun is often the indirect object of the main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you get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ome 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ell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the trut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+ reflexive pronoun means “alone” or “without any help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1:35:33Z</dcterms:created>
  <dc:creator>sony</dc:creator>
  <dc:description/>
  <dc:language>en-US</dc:language>
  <cp:lastModifiedBy>Sara aldawood</cp:lastModifiedBy>
  <dcterms:modified xsi:type="dcterms:W3CDTF">2012-05-22T08:29:00Z</dcterms:modified>
  <cp:revision>11</cp:revision>
  <dc:subject/>
  <dc:title>Slide 1</dc:title>
</cp:coreProperties>
</file>