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3708-B7AC-49EB-B20B-153315EFB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C8DF-8359-49AC-9AEA-0943D8A6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AE48-E77D-43DD-BA85-225F93520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3428-E5E1-4BD0-A256-BD4503842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8996-AB18-4BC6-8204-DA02112AF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8E42-82ED-4D85-AD76-4DEBB757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90AF-5CC6-4D2E-AD78-AB778BA1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5037-AA02-42F9-9090-9AF504A9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795A-3531-416D-91A4-1FFD9E56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731D-C377-4128-A458-440C4286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EB29-D666-4F7E-83E8-E9A6DE91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9160-ED54-4F43-89BE-D7A7B19E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C274-7AE6-4F1E-ACB8-51BA56A1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16A0-F9DB-4067-9118-B9D83636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E2BA-3286-4FD2-B920-1F9B6934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9E994-B9FE-447B-B6F8-35939A608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AFD9-3F8B-4E7D-83F4-9E91FD484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78FF7-247C-46B9-AE1A-509A0185A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FA64E-18BA-4355-B719-F9B1A988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F95D5-925B-4565-8108-52E52939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7982D-3B82-4619-A4B7-510C2013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E6034-D8C6-4A54-918F-3CCB555A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E8DB-4ACD-4896-A5C6-1B987916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0521D-0561-4D2F-8A43-262E70CF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CB262-2D8C-4E35-8FB5-6BD1059F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60CD8-9E52-46AC-90C3-01B401C0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2215C-52F6-4C38-AC1D-32BB872F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73EA9-5C1E-43EA-A303-D531D44B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8AD2E-CF00-4769-9174-46195BB5F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4B1AD-135F-4F91-8C0C-59B4A991B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D6D53-0A1A-477C-AAC0-B5933ADD9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62D61-E43B-4CA3-B72E-BF14364D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E5253-74FE-4091-A011-EE4BAD99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D54E-410C-4E18-BDE9-6AF8858B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F2A2B-2708-4D44-B2F5-6E83D770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C2C99-4F21-495A-851D-54C6C699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95174-CEF8-4FB7-8876-0D9C20E9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547EC-EAC1-440F-ADBA-A46C7D80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D0113-4F07-4D06-9B4E-C520CDAA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6FF86-33DA-413D-B3F0-49FAC679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9E1B3-DF8F-4F79-AC8E-D819A955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F071B-4CB0-4B52-BD8D-A71D0E249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D75EF-9F92-48E3-9C34-D69BB9BDC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51007-32AA-4346-A95D-9D87F64C9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0035-E86F-499C-AEA3-4B66B534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8D5D9-DB88-4591-8249-ECEF9364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CEFFB-A2C7-4130-A775-BE7C3239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B8103-5D8E-4A13-B05B-99B73314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970A3-A355-42D5-A0AC-3270C70D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49EC5-E26D-4496-A699-ACCA49EB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655E7-00A8-4585-B533-68F25168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75DB8-1A06-4C24-BBF3-EDDB239B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6EB4D-ABBB-4132-B2B0-238753E8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6937D-D62B-4BE0-90F3-D48A90A4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187F7-A08F-40BF-B62A-752174C87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478A-30D3-4286-B79F-22300C19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7FF55-E0BD-46CE-9B01-2FB7FFF58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51741-29FF-465C-BE86-C9742A2DE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B0571-96C2-4CAC-80DB-44027E0D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0318F-96F7-48D8-B968-E09C336F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1FA14-185F-4382-B26B-1A043C77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B157E-6D82-4383-A358-30329162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16E3D-29ED-487B-9564-E7C64BDB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26928-F779-4EB1-B3D3-AE1B24F7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C7F4F-2293-42ED-B69D-C2CE7606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A307C-4A28-4DEB-8845-FD2DA87D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2EA4-B356-4CED-BB11-CF675BA8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55A09-E835-433C-8A4D-E30316F6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285B7-07B1-48E0-A2E4-A44326F5A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111CE-D12F-4839-863A-4B3ACBAB0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18B16-D728-4CDA-9A18-BED8A1C9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C1AD6-23FE-4B08-BAB9-465659EF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08BEE-6FC7-4ABD-8F86-077EEA0C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8CC0F-0A40-4046-A519-569A1BA0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3D7A8-77C1-456F-9C03-D01E8DBE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3DBEE-A01F-486C-A53E-5C31B34A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C334F-80BB-41AE-AD1E-43BDA6FF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02C8-8947-4923-9C6D-C8B0750F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F6E56-187D-4247-BBF2-46A41E2A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C84DC-7EAA-4CF0-83C4-CDC8C910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F5965-78BB-48C7-808B-F8EEA88A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640C5-2A43-4046-9742-C32691004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101ED-F789-4A65-929A-709EC0141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47B0-D7A2-4673-A094-22E49741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6F25-9612-4021-B300-0F20AAF32DE6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81BC-BA1A-4F7B-9ADE-76D2B74DA261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E318-F6E5-47B1-B4F4-891C09379C00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DD77-78F8-4BF3-8FD9-285E1919786B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3086-B22B-4279-812C-C9DA64ED08F6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2DD0-24E0-4A6D-BDD5-03C077EC55DF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4DD3-ABB2-453E-BC8E-87142306AF2B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erb + Object + Infinitive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320e0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finitives commonly follow certain verbs, such as : want, have, try, decide and lear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e examples are: want to get well, have to stop smoking, learn to relax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other common sentence pattern i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erb + object + infinitiv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Only certain verbs can appear before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n object + infinitive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dvice – allow – ask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ant – teach – tel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he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 advised </a:t>
            </a:r>
            <a:r>
              <a:rPr b="0" lang="en-US" sz="3000" spc="-1" strike="noStrike">
                <a:solidFill>
                  <a:srgbClr val="7ec3d4"/>
                </a:solidFill>
                <a:latin typeface="Gill Sans MT"/>
              </a:rPr>
              <a:t>the patient </a:t>
            </a:r>
            <a:r>
              <a:rPr b="0" lang="en-US" sz="3000" spc="-1" strike="noStrike">
                <a:solidFill>
                  <a:srgbClr val="00b050"/>
                </a:solidFill>
                <a:latin typeface="Gill Sans MT"/>
              </a:rPr>
              <a:t>to lose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eight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he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ordered </a:t>
            </a:r>
            <a:r>
              <a:rPr b="0" lang="en-US" sz="3000" spc="-1" strike="noStrike">
                <a:solidFill>
                  <a:srgbClr val="7ec3d4"/>
                </a:solidFill>
                <a:latin typeface="Gill Sans MT"/>
              </a:rPr>
              <a:t>him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00b050"/>
                </a:solidFill>
                <a:latin typeface="Gill Sans MT"/>
              </a:rPr>
              <a:t>not to smoke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he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didn’t tell </a:t>
            </a:r>
            <a:r>
              <a:rPr b="0" lang="en-US" sz="3000" spc="-1" strike="noStrike">
                <a:solidFill>
                  <a:srgbClr val="7ec3d4"/>
                </a:solidFill>
                <a:latin typeface="Gill Sans MT"/>
              </a:rPr>
              <a:t>him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00b050"/>
                </a:solidFill>
                <a:latin typeface="Gill Sans MT"/>
              </a:rPr>
              <a:t>to exercis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* Not can come before the main verb or before the infinitive depending on the meaning.      ( P 197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flexive Pronoun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f the subjective and the (direct or indirect ) object of a sentence are the same, the object should be a reflexive pronou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don’t like to exhaust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myself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y bought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themselv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new cloth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ngular reflexive pronoun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y end in –self 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6d7d"/>
                </a:solidFill>
                <a:latin typeface="Gill Sans MT"/>
              </a:rPr>
              <a:t>Myself, yourself, himself, herself, itself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don’t want to exhaust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myself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lp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yourself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hmed doesn’t like to exercise b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imself.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na weighs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erself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every week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problem will take care of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itself.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lural reflexive pronouns:  end in –selve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ec3d4"/>
                </a:solidFill>
                <a:latin typeface="Gill Sans MT"/>
              </a:rPr>
              <a:t>Ourselves, yourselves, themselve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et’s bu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ourselv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milkshak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on’t hurt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yourselv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y bought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themselv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4 cups of coffe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reflexive pronoun is often the indirect object of the main verb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ill you get </a:t>
            </a:r>
            <a:r>
              <a:rPr b="0" lang="en-US" sz="3200" spc="-1" strike="noStrike">
                <a:solidFill>
                  <a:srgbClr val="7ec3d4"/>
                </a:solidFill>
                <a:latin typeface="Gill Sans MT"/>
              </a:rPr>
              <a:t>yourself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</a:rPr>
              <a:t>some lunch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et’s tell </a:t>
            </a:r>
            <a:r>
              <a:rPr b="0" lang="en-US" sz="3200" spc="-1" strike="noStrike">
                <a:solidFill>
                  <a:srgbClr val="7ec3d4"/>
                </a:solidFill>
                <a:latin typeface="Gill Sans MT"/>
              </a:rPr>
              <a:t>ourselv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</a:rPr>
              <a:t>the truth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y+ reflexive pronoun means “alone” or “without any help”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11:35:33Z</dcterms:created>
  <dc:creator>sony</dc:creator>
  <dc:description/>
  <dc:language>en-US</dc:language>
  <cp:lastModifiedBy>Sara aldawood</cp:lastModifiedBy>
  <dcterms:modified xsi:type="dcterms:W3CDTF">2012-05-22T08:29:00Z</dcterms:modified>
  <cp:revision>11</cp:revision>
  <dc:subject/>
  <dc:title>Slide 1</dc:title>
</cp:coreProperties>
</file>