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AE7A-5DA7-489D-A980-B57E9EE4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69E7-D888-480C-9C93-76794613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B1FB-B1C8-4E55-BBA6-95140436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824-256D-4391-A175-4569C8BE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933D-0113-475F-8C03-90C563E2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6D3C-8C3F-4BDE-8311-CB4C4AC2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EE97-A370-4B7E-9873-64263517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9D5E-68E4-4422-9DFC-EF2AA5CD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8BC7-701F-4750-94EC-EB1A7F12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C9DF-8206-4AB9-ACAC-2238EC87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FAF6-DCF0-4135-B5C9-5BA2B4EE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9CC3-20E4-44E5-96D8-34736280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64C1-80B9-482C-8DA1-A5E4BE35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7368-0E54-45FD-9A15-19A4D94D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6530-EC5D-447C-949C-E1FEAB8D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892F-681A-4579-84E7-D027EA99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CC70-91B4-4550-84A1-9FCEAE84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6CF2B-817D-4D40-9F79-DD7241CD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B4EEB-1A96-4B78-9662-9B67232E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5F6CE-4B03-4E86-90D4-DB85EE71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6DEB2-A2BF-4B98-96F9-869BB6BD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9EBB0-2368-4BB1-B01C-44E1614D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AF9-57C2-4830-A8DA-9916626A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4B7AF-CF18-4896-A704-7DE84827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58BEC-2801-4B51-86D5-D80B35EC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CC50D-48FA-453E-B712-6F0A6484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A0148-68E7-4E18-8EA2-6AFCE5C7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0EDE3-0DBD-4436-A67D-7F4830AD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B9FC4-F6CF-4FCC-A8ED-812E1650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84C70-3079-40E9-AAF8-799A49EB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9578E-793F-4847-9F23-2C91382B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EE4EB-6264-4A7B-8B83-963C4DD8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14537-749E-4680-8BDD-5DC6955F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72B7-FA3A-4C2F-BB9B-DF3DAC9F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F42E2-758A-489E-954D-6C106C9F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F75B6-3D49-46F9-8B64-5E469106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92DA5-F3D7-4AAC-83CF-2BD84221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C0701-2557-4B07-90D6-21A8FA69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3186B-3FD0-4C52-885C-C56CC282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EDDFF-5D8E-415D-AD27-089D351B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93FC1-B597-42CE-A304-AEAC570A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681D6-6E55-4AF7-8BDD-FA081945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20C22-D6B6-49F8-8907-811DA9C8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D5E9C-D9F0-42AB-9E92-3DB5C8BC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A28E-4E85-4A0F-847C-133EBFA1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EE4E0-8B54-4B67-9DE3-FA80EEA0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78528-E470-46EC-A708-310C1751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66AB8-2E13-462B-80FD-E81D3D54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0581F-B059-40D2-8087-A70EA2EB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6E7EE-14E8-4439-B3CB-81F9E6A9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9FE5E-BA04-417C-9A3D-F4E430FB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BD2CD-1B1A-4B9B-8812-56E82AB6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15CC7-D0FF-41FE-8C4C-74F666CA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7C350-324D-40BA-A279-4190306E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0D6DE-FFAE-4DE8-9F1B-A2CDD4C0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7A6-5B86-4342-A2A6-48997520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56A1D-62B9-4A34-9A8E-A888B440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2C741-FB4D-4DC4-B64B-607798FC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09FDF-C000-47DD-A77E-3B808A79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A964D-80A3-4E20-B5F9-36EF4E17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9EB31-67FC-4A7D-A3D2-3D799170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A1FDF-80D4-4DCC-BCB9-5CCAC511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34DC1-CDB7-4727-8DFF-DE6CF5D5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19B1E-44D4-4611-B393-4D9B20F8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18736-206D-4583-AC89-B6CFE925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01E1A-8718-411E-AC15-5638205B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D0E-4B6F-40BE-A47E-8B8A17CC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3C90E-4ED9-41A6-B134-FE323894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ABF86-A074-4D0C-A970-EB482932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16E53-18B3-4032-9B41-015046FB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325D9-393E-4094-9B2D-9850841E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8BB20-8F97-41CC-A122-67B34136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B5CFF-2DDF-4E73-8D6D-A5D5EB12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6E9ED-EC05-489D-9E27-C3C35762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3FF51-BE00-4DF0-A4C5-5096C7FB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67909-7DFD-44B2-8931-A8E90F2A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E09E9-E9DE-4EB8-927A-A168715A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B59-02B7-4E6F-A650-2FCC5177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091A7-B0E0-4AFA-8C76-BF460A47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6C187-911C-45AE-8855-92EBD434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1140C-5ED2-4824-9635-18D0702C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028BC-CD8B-4F82-A417-6D6246CF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78E53-6630-48BA-ADCF-2184271C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36C3-A9FB-4EF4-99EA-5F0B86CC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0F7B-1268-4435-A14F-74250A335699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6BFE-C452-4A1A-A656-BB2D16F59D1D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1660-C1B2-4D20-BB9B-9E46E96A218E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A87A-503F-4F75-BC0B-2944549E3617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E99D-6697-4A60-8F82-16DA2F106D8F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AC30-D6AF-4F40-B53C-E87F7E4FA419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53C2-EBEC-4AFC-A7E6-F86601FA1D7E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erb + Object + Infinitiv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finitives commonly follow certain verbs, such as : want, have, try, decide and lear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examples are: want to get well, have to stop smoking, learn to relax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other common sentence pattern i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erb + object + infinitiv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Only certain verbs can appear befor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n object + infinitiv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dvice – allow – ask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ant – teach – tel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 advised </a:t>
            </a:r>
            <a:r>
              <a:rPr b="0" lang="en-US" sz="3000" spc="-1" strike="noStrike">
                <a:solidFill>
                  <a:srgbClr val="7ec3d4"/>
                </a:solidFill>
                <a:latin typeface="Gill Sans MT"/>
              </a:rPr>
              <a:t>the patient </a:t>
            </a:r>
            <a:r>
              <a:rPr b="0" lang="en-US" sz="3000" spc="-1" strike="noStrike">
                <a:solidFill>
                  <a:srgbClr val="00b050"/>
                </a:solidFill>
                <a:latin typeface="Gill Sans MT"/>
              </a:rPr>
              <a:t>to lose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ight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ordered </a:t>
            </a:r>
            <a:r>
              <a:rPr b="0" lang="en-US" sz="3000" spc="-1" strike="noStrike">
                <a:solidFill>
                  <a:srgbClr val="7ec3d4"/>
                </a:solidFill>
                <a:latin typeface="Gill Sans MT"/>
              </a:rPr>
              <a:t>him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b050"/>
                </a:solidFill>
                <a:latin typeface="Gill Sans MT"/>
              </a:rPr>
              <a:t>not to smok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didn’t tell </a:t>
            </a:r>
            <a:r>
              <a:rPr b="0" lang="en-US" sz="3000" spc="-1" strike="noStrike">
                <a:solidFill>
                  <a:srgbClr val="7ec3d4"/>
                </a:solidFill>
                <a:latin typeface="Gill Sans MT"/>
              </a:rPr>
              <a:t>him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b050"/>
                </a:solidFill>
                <a:latin typeface="Gill Sans MT"/>
              </a:rPr>
              <a:t>to exercis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* Not can come before the main verb or before the infinitive depending on the meaning.      ( P 197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flexive Pronou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the subjective and the (direct or indirect ) object of a sentence are the same, the object should be a reflexive pronou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don’t like to exhaust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myself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bought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them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new cloth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ngular reflexive pronoun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end in –self 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6d7d"/>
                </a:solidFill>
                <a:latin typeface="Gill Sans MT"/>
              </a:rPr>
              <a:t>Myself, yourself, himself, herself, itself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don’t want to exhaust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mysel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lp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yoursel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hmed doesn’t like to exercise b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imself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a weigh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ersel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every week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problem will take care of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tself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lural reflexive pronouns:  end in –selve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Ourselves, yourselves, themselv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t’s bu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our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milkshak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n’t hurt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your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bought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them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4 cups of coffe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reflexive pronoun is often the indirect object of the main verb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ll you get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yoursel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some lunch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t’s tell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our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the truth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y+ reflexive pronoun means “alone” or “without any help”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1:35:33Z</dcterms:created>
  <dc:creator>sony</dc:creator>
  <dc:description/>
  <dc:language>en-US</dc:language>
  <cp:lastModifiedBy>Sara aldawood</cp:lastModifiedBy>
  <dcterms:modified xsi:type="dcterms:W3CDTF">2012-05-22T08:29:00Z</dcterms:modified>
  <cp:revision>11</cp:revision>
  <dc:subject/>
  <dc:title>Slide 1</dc:title>
</cp:coreProperties>
</file>