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4ED-ECA5-4D23-81F2-D12085BA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D9C-93EC-413A-8A76-1161A3AD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1FE-240F-4565-856C-B23694D2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355-D6BA-4039-8A07-31302C94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0E1C-6CD5-44DF-8524-3E77BCCB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E908-6291-4F11-8CED-C56AD0F5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1E9A-087B-46C4-AB0F-0484F398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07B-AB89-4DB6-897A-09F9E868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5C57-D6C3-4CDE-8439-13F7F93D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E433-6288-460B-9B36-118CE4A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400B-D502-4FD3-9CD3-766AF04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E9D-9182-4565-8BF1-24FC65C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13C-BD7C-411C-BD49-E73CC83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90A7-7DF4-4E5D-95F8-E3F9C13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6525-EAF7-41D3-8A92-6EFE610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F14-04B0-4AE4-81A4-56D389CA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C1F3-0B3F-4FE4-9C33-FA15186E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8DAF-DE62-43CB-BAA1-7E83A404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8827-312A-4BC2-80BE-09D64495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AE0D-AE47-487A-AFD8-33E0B5B5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A6F1-D9B0-4071-A1EB-256EF62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16B0-9936-4EA8-B6BE-DBD583C2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C21-FE99-4D6E-92FC-CBCCFD68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6C90-77B0-4BD2-B8B9-5F4BDA2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81C3-1481-478A-969B-C7A3739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4A4B-6890-44AF-A47A-1B4F48E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25B5-1AD6-4179-B034-0815D925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F0EE-9D5D-45B5-9F99-043970B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F53E-290D-4BBF-A76D-C6084AED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A74F-31BF-44E3-8562-45A8014F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F930-BE91-4715-8974-2F609F17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45B9-9C1D-4F3F-932A-1C6FA772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B595-A622-4A2D-8537-2ABA30E6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75A-4923-4E1A-BB18-AE12DB96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3FF6-BDF7-491E-BA3A-15723B51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6A70-E502-4066-A4B5-EDC9D00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4E60-6067-445D-ABE9-EFB2C45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52F8-E300-4C61-BC81-8707B6AF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FE77-3F36-49D2-8685-034D14E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4F41-44FD-4BDB-8233-B14D510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D583-726C-4F92-9132-5FED492B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6DAC-AA5B-43A5-844B-23EC1EC4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5789-A15F-437A-9052-6B9846F9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CF8E-4F51-4FCF-A583-3CDDF67D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51A-BFAA-4AC5-AAE8-01F58C0B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F96D-A1CC-4FF6-8801-67606BE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407C-9D0D-4C1E-A644-F508FFE5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05DA-9793-4801-98C5-A1A2032E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3A754-8BA3-4CB0-AE9F-C21E3E72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B677-763D-41B2-8B74-25D4CC2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41F6-F640-45D0-A578-F4DAA87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13E36-6546-439C-8EB0-B773B438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71B90-2BD5-45F3-A658-29304BD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BE64-74CB-41C9-B081-25F9B35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7B00-E0F3-4715-9D39-E49CF622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E96-C48A-49AC-A41B-F481161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CAF8-6E55-4460-A6A1-1C0D6CDE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B800C-BA09-46D0-A523-C3B6D0CE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8C3E-47C0-41A2-B483-E412FF4D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1D0C0-B137-452E-BA90-F53DBD6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D8A0-21B2-4B19-8CBF-9B756EC7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41E4C-5A27-4B42-9E71-7ADAE77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33F0-6636-4552-AF4D-2B4E72BA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1CE1-C73C-4E47-900D-BB999246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CB51-6CF9-49F1-B884-B0A25F5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E0972-B2D5-4AFE-99C6-03CF1A3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0C5-16D6-4743-9817-6380ABA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82EAD-4462-43DF-9E0B-6B22A4D2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A7596-8F97-497B-AB55-10F59E73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0C945-4798-4DD0-9FDB-519976C0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BE05-5F42-4D58-AF63-43BD7BA9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FF80-28A3-4487-B270-A81DB86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B84A-488D-431E-857A-FABA02A8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3532-409D-4A70-8A84-B0F1D91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EBB9-6487-4D8D-B7D2-4B85B106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87C4-F7BC-4F4E-8E1E-FA9A01EB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4084-3944-4741-AFB0-F1736B8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3BF-A376-4140-BF91-1632302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D1E0-2045-430A-82D5-B2C827A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2CF00-672F-413F-BD45-07B8189A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F43E-50BD-4F80-8BE5-2FE9E391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9508A-4F88-471B-9E76-94B1E723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E040B-7A84-4CAB-BD91-F2A4FE68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350-D758-4AFE-9115-50E1180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22E-3567-4481-A266-530C85891F6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D14-A7CC-40B0-809A-ECC64FF1D46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5B6C-6FEA-4F8D-A888-E1D2867BECE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CD60-B29D-4FE0-94BE-E48F5B4DCA7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AE0E-F81E-4E59-B507-5D287C650CD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E38-B754-4EFD-B798-198422CE5AF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D18-18EC-4F02-846C-127C632CC41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+ Object + Infinitiv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initives commonly follow certain verbs, such as : want, have, try, decide and lear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examples are: want to get well, have to stop smoking, learn to rela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other common sentence pattern 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 + object + infiniti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y certain verbs can appear befor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 object + infinitiv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dvice – allow – ask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nt – teach – tel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 advis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the patient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lo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igh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order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not to smok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didn’t tell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exercis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 Not can come before the main verb or before the infinitive depending on the meaning.      ( P 197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xive Pronou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subjective and the (direct or indirect ) object of a sentence are the same, the object should be a reflexive pronou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like to exhaus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yself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new clot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gular reflexive pronou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end in –self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Myself, yourself, himself, herself, it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want to exhaus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y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hmed doesn’t like to exercise b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im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a weigh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wee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blem will take care of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t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ral reflexive pronouns:  end in –sel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, yourselves, themsel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bu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ilkshak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’t hur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 cups of coffe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eflexive pronoun is often the indirect object of the main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you get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ome 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ell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the trut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+ reflexive pronoun means “alone” or “without any help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1:35:33Z</dcterms:created>
  <dc:creator>sony</dc:creator>
  <dc:description/>
  <dc:language>en-US</dc:language>
  <cp:lastModifiedBy>Sara aldawood</cp:lastModifiedBy>
  <dcterms:modified xsi:type="dcterms:W3CDTF">2012-05-22T08:29:00Z</dcterms:modified>
  <cp:revision>11</cp:revision>
  <dc:subject/>
  <dc:title>Slide 1</dc:title>
</cp:coreProperties>
</file>