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3FDDE-5685-466B-B301-A0ED31DAA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2D53A-CA65-4603-888B-69EDFD0FD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9D963-5B69-4916-96AE-F564E07F5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B6880-758A-4E18-9B6D-A4525E8C7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5A14D-A211-4998-8626-BF9C9B7D2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1C706-60C6-4558-9EB1-51CD148C8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0E579-FEE2-4CCF-A74A-E7E2E14C7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3E32A-59B4-4453-A0FE-693E9840E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5A76E-F10D-409D-8701-94033C146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27BE4-3D25-4F80-A717-B6C4E1D2E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F1EE8-FB63-4E38-A278-D8BA303ED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00C8F-94AB-4DCD-A779-C3A14AE97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76B07-CF0D-4B9B-A143-78D460E31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5F02A-1DF8-4565-924C-A9EECCDD3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D6A63-4F16-43D7-B48A-9F6D6F8A1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B6756-AE8F-40DF-A2B2-C2AE56426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77CD3-44EE-4844-B918-20A44C9A1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9F1E17-E514-496E-A5C2-1265F1C0D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EC200D-0C86-471D-BA39-1CC7207E5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85420E-9AE5-48C0-8460-B9C26D32D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4AE4FB-52DB-41BF-8374-75B11DA7D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23DD49-2BB3-4796-9038-841B3986E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BA2AF-D44A-4AEC-A5E1-161761414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EBF250-9DF0-4094-B299-A2725EE74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8CEDE0-1D8D-4B7A-9CB5-7EF8BDBA3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7CC5E3-5564-43A9-B94E-C034E0CF6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68E65A-DF47-4C6F-8D81-141FB2658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5F0A75-848B-4199-854D-ECBE57238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E0BD49-1505-46A7-A081-AC8B61A3B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FF0754-429C-406C-A3D7-AD322A511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E7F54B-269D-4F97-8564-AC946569D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C9D323-ACCE-492A-A9BD-2CF950287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E3A659-56BA-4CD2-9B3E-E2105A87A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653B6-7BC0-40AF-A179-51C1DAC27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303F59-9DAC-4341-98FB-9D93DB522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62138E-D5B0-4220-BB4F-D848A4569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F5B92E-5612-45E1-B291-8720A6AD3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C843F3-16DE-4495-8620-D5A2C637E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10AFEF-CAA0-4515-BA4D-88EC5B893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8203FA-1507-4A63-81E7-30A4170A4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8E951A-6325-49F8-BCE5-12CB7ABD5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78AA9A-40E6-40A0-BAFF-CB0C27AAE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39F873-181A-4A28-989C-B3E0574FF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8AFD23-3803-4BAA-A433-FF30A07C8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641CC-A450-4B6D-9890-CB52A36CC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C2B001-626B-4C86-8924-3D65E0ED8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0DDF74-715B-429F-A4C9-C19C25CB9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6E1028-1EF1-41EA-989A-BD33E2017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15132D-97E9-456E-955A-5D36D684D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2DAF3C-212B-43F9-A3C8-EFA3A0183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3C1F43-9927-477E-BE0C-5479DB76D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57BFDF-B62B-493D-9C78-F93EC1657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FDA9E7-BEA0-4E10-8A8E-B82F7AAA7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BC5A3E-6319-4E8F-B08E-517BED138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11DB64-1502-49E1-AC55-5CF62B107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44E0D-34AC-4FB7-9F4D-012451EDE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D6231B-F46C-41E9-A600-59DE5BBAF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4ECB88-7F64-4E8B-8651-E2B1CC4E9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92A021-5E37-418B-94D5-0FFC8C191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A77B62-0F57-4609-92D5-207E43681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6F4F93-09B7-46DC-A954-A569D075C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4C9008-BD67-4B72-9781-0C21E3F61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2108D6-BE2A-4B57-9F28-C56748051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6E9229-333D-45FA-9BBF-BB15CD49A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21A507-493C-437C-920E-D7674FF8C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F2C7EB-A179-41E3-B840-D711F98A6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63E4B-EF2C-41BB-938D-C81A7A366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40D626-1D3C-4505-86ED-91EF18C9B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03D9A7-2FEA-44C1-8126-BB166EA4F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038977-2E1C-4253-BDDC-D0C27E8AB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E51F1E-D333-4809-A17C-B9E36A325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86E1CC-57B2-4C21-AD3D-BB3B964F6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BB9D9A-C65D-4847-8F0E-DE3DE3B5B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A9D56E-336D-4144-8EEE-A9E69E31F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48FE1D-ADD3-4A1A-8215-E1414B330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4A6B56-FF67-48C6-A51C-0E61C0A74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F902D9-778D-44ED-AB2D-A96B14BC6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A06FB-3A22-429D-862C-EE9485030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86686B-8E0A-4743-925C-E59FD84DA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652DE6-9DD1-4BE5-BAE7-8CDFC3BE2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421B86-092C-4BC6-83F9-838692047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082218-8D0F-42B3-A5DD-D92AA0CF1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45EBCE-7F9E-4363-92FD-B1E710BAF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5BBDB-EAA9-4470-9FDB-6EC43C2A2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26A47-00AC-4A03-8DA6-4F3AA06686B7}" type="slidenum"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0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5" name="Oval 7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Oval 7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8" name="Oval 8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3F513-8496-4F13-9847-CB468815FE0A}" type="slidenum"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6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Rectangle 9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02" name="Oval 7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Oval 7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105" name="Oval 8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37305-E886-445E-A828-3692C15E16B7}" type="slidenum"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49ACE-D731-4FB1-8B10-FC9ED05B59AC}" type="slidenum"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4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9" name="Rectangle 5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90A8A-457E-4278-B7E1-32BB8DB1B9C8}" type="slidenum"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9AE11-188B-4A89-9AE2-95DB312E8E4A}" type="slidenum"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Rectangle 7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Rectangle 7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275" name="Flowchart: Process 8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6" name="Flowchart: Process 9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C23F2-D078-4330-8321-B0898A85F740}" type="slidenum"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Verb + Object + Infinitive</a:t>
            </a: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 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431720" y="1848960"/>
            <a:ext cx="74070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2600" spc="-1" strike="noStrike">
              <a:solidFill>
                <a:srgbClr val="320e0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46680" indent="-268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nfinitives commonly follow certain verbs, such as : want, have, try, decide and learn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ome examples are: want to get well, have to stop smoking, learn to relax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Another common sentence pattern is: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verb + object + infinitive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Only certain verbs can appear before 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an object + infinitive 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Advice – allow – ask 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Want – teach – tell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She</a:t>
            </a:r>
            <a:r>
              <a:rPr b="0" lang="en-US" sz="3000" spc="-1" strike="noStrike">
                <a:solidFill>
                  <a:srgbClr val="ff0000"/>
                </a:solidFill>
                <a:latin typeface="Gill Sans MT"/>
              </a:rPr>
              <a:t> advised </a:t>
            </a:r>
            <a:r>
              <a:rPr b="0" lang="en-US" sz="3000" spc="-1" strike="noStrike">
                <a:solidFill>
                  <a:srgbClr val="7ec3d4"/>
                </a:solidFill>
                <a:latin typeface="Gill Sans MT"/>
              </a:rPr>
              <a:t>the patient </a:t>
            </a:r>
            <a:r>
              <a:rPr b="0" lang="en-US" sz="3000" spc="-1" strike="noStrike">
                <a:solidFill>
                  <a:srgbClr val="00b050"/>
                </a:solidFill>
                <a:latin typeface="Gill Sans MT"/>
              </a:rPr>
              <a:t>to lose 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weight 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She </a:t>
            </a:r>
            <a:r>
              <a:rPr b="0" lang="en-US" sz="3000" spc="-1" strike="noStrike">
                <a:solidFill>
                  <a:srgbClr val="ff0000"/>
                </a:solidFill>
                <a:latin typeface="Gill Sans MT"/>
              </a:rPr>
              <a:t>ordered </a:t>
            </a:r>
            <a:r>
              <a:rPr b="0" lang="en-US" sz="3000" spc="-1" strike="noStrike">
                <a:solidFill>
                  <a:srgbClr val="7ec3d4"/>
                </a:solidFill>
                <a:latin typeface="Gill Sans MT"/>
              </a:rPr>
              <a:t>him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3000" spc="-1" strike="noStrike">
                <a:solidFill>
                  <a:srgbClr val="00b050"/>
                </a:solidFill>
                <a:latin typeface="Gill Sans MT"/>
              </a:rPr>
              <a:t>not to smoke 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She </a:t>
            </a:r>
            <a:r>
              <a:rPr b="0" lang="en-US" sz="3000" spc="-1" strike="noStrike">
                <a:solidFill>
                  <a:srgbClr val="ff0000"/>
                </a:solidFill>
                <a:latin typeface="Gill Sans MT"/>
              </a:rPr>
              <a:t>didn’t tell </a:t>
            </a:r>
            <a:r>
              <a:rPr b="0" lang="en-US" sz="3000" spc="-1" strike="noStrike">
                <a:solidFill>
                  <a:srgbClr val="7ec3d4"/>
                </a:solidFill>
                <a:latin typeface="Gill Sans MT"/>
              </a:rPr>
              <a:t>him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3000" spc="-1" strike="noStrike">
                <a:solidFill>
                  <a:srgbClr val="00b050"/>
                </a:solidFill>
                <a:latin typeface="Gill Sans MT"/>
              </a:rPr>
              <a:t>to exercise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* Not can come before the main verb or before the infinitive depending on the meaning.      ( P 197)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3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3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3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Reflexive Pronouns</a:t>
            </a: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 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f the subjective and the (direct or indirect ) object of a sentence are the same, the object should be a reflexive pronoun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 don’t like to exhaust </a:t>
            </a:r>
            <a:r>
              <a:rPr b="0" lang="en-US" sz="3200" spc="-1" strike="noStrike">
                <a:solidFill>
                  <a:srgbClr val="00b050"/>
                </a:solidFill>
                <a:latin typeface="Gill Sans MT"/>
              </a:rPr>
              <a:t>myself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ey bought </a:t>
            </a:r>
            <a:r>
              <a:rPr b="0" lang="en-US" sz="3200" spc="-1" strike="noStrike">
                <a:solidFill>
                  <a:srgbClr val="00b050"/>
                </a:solidFill>
                <a:latin typeface="Gill Sans MT"/>
              </a:rPr>
              <a:t>themselves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new clothes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43080" indent="-265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ngular reflexive pronouns: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ey end in –self :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6d7d"/>
                </a:solidFill>
                <a:latin typeface="Gill Sans MT"/>
              </a:rPr>
              <a:t>Myself, yourself, himself, herself, itself: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 don’t want to exhaust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myself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Help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yourself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Ahmed doesn’t like to exercise by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himself.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Anna weighs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herself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every week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e problem will take care of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itself.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3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3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3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3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3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Plural reflexive pronouns:  end in –selves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ec3d4"/>
                </a:solidFill>
                <a:latin typeface="Gill Sans MT"/>
              </a:rPr>
              <a:t>Ourselves, yourselves, themselves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let’s buy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ourselves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milkshakes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Don’t hurt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yourselves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ey bought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themselves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4 cups of coffee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A reflexive pronoun is often the indirect object of the main verb: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Will you get </a:t>
            </a:r>
            <a:r>
              <a:rPr b="0" lang="en-US" sz="3200" spc="-1" strike="noStrike">
                <a:solidFill>
                  <a:srgbClr val="7ec3d4"/>
                </a:solidFill>
                <a:latin typeface="Gill Sans MT"/>
              </a:rPr>
              <a:t>yourself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3200" spc="-1" strike="noStrike">
                <a:solidFill>
                  <a:srgbClr val="f88631"/>
                </a:solidFill>
                <a:latin typeface="Gill Sans MT"/>
              </a:rPr>
              <a:t>some lunch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?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Let’s tell </a:t>
            </a:r>
            <a:r>
              <a:rPr b="0" lang="en-US" sz="3200" spc="-1" strike="noStrike">
                <a:solidFill>
                  <a:srgbClr val="7ec3d4"/>
                </a:solidFill>
                <a:latin typeface="Gill Sans MT"/>
              </a:rPr>
              <a:t>ourselves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3200" spc="-1" strike="noStrike">
                <a:solidFill>
                  <a:srgbClr val="f88631"/>
                </a:solidFill>
                <a:latin typeface="Gill Sans MT"/>
              </a:rPr>
              <a:t>the truth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By+ reflexive pronoun means “alone” or “without any help”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23T11:35:33Z</dcterms:created>
  <dc:creator>sony</dc:creator>
  <dc:description/>
  <dc:language>en-US</dc:language>
  <cp:lastModifiedBy>Sara aldawood</cp:lastModifiedBy>
  <dcterms:modified xsi:type="dcterms:W3CDTF">2012-05-22T08:29:00Z</dcterms:modified>
  <cp:revision>11</cp:revision>
  <dc:subject/>
  <dc:title>Slide 1</dc:title>
</cp:coreProperties>
</file>