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click.wav" ContentType="audio/x-wav"/>
  <Override PartName="/ppt/media/whoo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6DCF-DB34-43CB-9EEA-D37A8432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3A83-5ACE-4C1B-8600-741BE509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7EC6-B32D-4D6B-B1DD-2F2627E58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15D3-4B11-470A-90C8-FA2BBB96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EDD5-8698-425E-9766-FD932AA8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110A-5C94-4040-ACBE-DC4A1A37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BBB9-F1A6-43C0-8204-18E39135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88AB-3C50-488F-B623-E2222538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7602-E75F-46E7-B3A6-7EED1D62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5087-82F0-43E2-A5D2-8599AC36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20F4-C168-4297-817A-B95A42BE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738E-3FB8-41DD-80E5-8254828F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B990-C581-41A3-A77D-F3DC8BB9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CC95-895B-4ED2-857B-40CCBF01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2B20-C863-42A5-A3CB-8BE94AFD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6120-4818-422B-B0A9-B07D3A6A0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A4DB-FD61-4666-B934-DDA69A06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6260A6-F5BF-40FB-B2B0-9F8B31AFC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067AAB-D4F7-4892-858F-FD433EF2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11F950-748F-4C52-BA50-496A66B1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453BE2-F74C-46E6-9163-544E228F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6A7616-BD2B-4FEF-ADDF-144C8601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094F-8072-4BB4-8764-874A13B6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2E8370-B9DF-4CFD-A634-317A3A45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A1EF4C-2E5E-48BC-8E1F-B1DD0ABC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99E3A3-BF97-4C20-92D5-A543DDE2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60677D-CED5-4268-B21C-1FD155FF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D1610C-3450-40EA-8E46-4D6F03E9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2888B2-AF1E-44F0-BD2A-6124019ED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64E655-58AA-420A-930D-4639336CB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7D9A9-001E-4484-9CA7-8029A1032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ACFC8-7523-4896-AC54-BC00C8A3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64F7E-8703-48E4-8F28-78C62428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251A-32BA-4E7C-900D-C56E4A1B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AB366-1BAE-4ED9-BE13-66126927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5A96D-17A6-4E7E-A8F4-990B7745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FD2D7-A399-481A-BAD3-7E43E707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3FA96-8F48-4E85-8754-0FEAB949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4CAB2-38C7-4696-AE0A-DC18EFA5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9DA1F-DDD6-427D-B5ED-1741C434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2C7F2-EE13-4516-8F98-388FB60E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34B9A-5DFC-436E-9048-A55C8A195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01AC9-35C1-4EA5-A5CE-3EB5EF03C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86240F-771C-4A6C-ADFE-D6116803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32C2-813F-4119-A78B-1883C3D6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CA8809-6541-4796-908E-ED032E27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74D705-5A8B-4AD3-A2B6-85B3F1ED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70FBF7-D777-46B3-A26C-A54C85AB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9389E1-46E3-4BC6-8C34-39955BBE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CD59F9-50A5-43B8-8D69-DB43C784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971F0D-EF0E-49C4-BD21-24A941B0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B49BAA-C616-4C10-B34E-E30FEDFC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4282C0-762F-464E-A4DA-A86E153B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AFA154-50BE-4B4E-8427-CD8FBBC8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B3444C-215D-41E7-80B7-4BE7B6E4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7A0F-387B-4AE0-AC5D-37E32301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47E79C-D5EB-496A-A8D8-C26740E09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ECC51C-A753-4B74-8FA3-D04ABAF6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F6768A-CF31-4863-A167-E6851020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7F923C-CBEC-4E94-8072-48A54EE8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1D3492-F330-4BD8-93D6-9D35B440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3714CA-8B98-4CFB-BCA6-61BE2C77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02762D-7126-443C-9F5F-B2F5BA90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0EB780-685F-4D48-8332-B8811798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177108-D633-4817-9C15-C26706B4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18FCC8-E60E-460B-A48A-F493EF68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F072-DDB3-43E4-A277-44B44C8E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43C468-34E1-4E2D-8B59-5CB90828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26E6A0-B919-4E83-941C-32CEC2CC2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5C944A-6FD7-4962-BEFB-5759D96F9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134D4D-EC6B-4119-A0D4-FA321945F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62D418-5651-4A06-9A00-164DB0BA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6F62F0-E74D-4CE2-A003-77DC92FB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75DF2C-531E-4B49-9149-C2E3CC5A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79E5A9-C58A-44AA-B966-46E9E0E4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CF436A-6869-4D87-8CE4-2D8928F0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B1006E-B9D5-41A4-BBCC-496C44A3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B8B3-AD42-4AA3-BA61-702BA1A0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A21CFE-73C6-4C23-B31A-DD10BADA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D7098D-4E62-46D3-835C-3E330FB2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FEC338-EF15-46F2-A21D-F67A19C8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5900F5-5FBA-4C1C-80DD-874EEC131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672982-FCB1-4E86-BC51-FFA31942B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1297-3B73-40A9-B36B-6366DE50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A8CD-C926-40AE-831F-0B9B32931784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B4B9-0AF2-48BA-8FB5-7D909D86ACAE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C172-A498-4876-80F5-0AA42EDA8330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36E9-28E9-458C-8A02-4471AE2C3897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5B95-D01F-4FB3-A761-D8564D39B39E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B34D-01F0-4539-87E4-E88EE0FF300D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E79D-9206-44D0-92D1-DDDAA5EE1FF4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VERB TO B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eab"/>
                </a:solidFill>
                <a:latin typeface="Century Schoolbook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&gt;&gt;&gt;&gt;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eab"/>
                </a:solidFill>
                <a:latin typeface="Century Schoolbook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&gt;&gt;&gt;&gt;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Plural nouns, we, you, they, these or those.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eab"/>
                </a:solidFill>
                <a:latin typeface="Century Schoolbook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&gt;&gt;&gt;&gt;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Singular nouns, he, she, it, this or that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NEGATIVE STATEMENT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95280" y="128088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She is late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She is </a:t>
            </a:r>
            <a:r>
              <a:rPr b="0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 late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We are sisters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We are </a:t>
            </a:r>
            <a:r>
              <a:rPr b="0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 sisters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NTRACTION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I am Saudi.  &gt;&gt;&gt;&gt;&gt;&gt;&gt;&gt;  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I’m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Saudi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He is a new student. &gt;&gt;&gt;&gt;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He’s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a new student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You are very smart. &gt;&gt;&gt;&gt;&gt;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you’re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very smart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Negative contractions: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I’am not Saudi.  &gt;&gt;&gt;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no contraction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He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isn’t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a new student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You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aren’t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very smart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H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 student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he a student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’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m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from Saudi Arabia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you from Saudi Arabia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- W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teachers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you teachers?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I early?          &gt;&gt;&gt;&gt; I’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early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Yes, you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No, you’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this our house?     &gt;&gt;&gt; this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our house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Yes it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No it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’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not. No it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isn’t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US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1- Describe a person or a thing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Noura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tall.  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hese boys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fat.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he hous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big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Janni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the girl I met in Paris.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hese cars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expensive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2- Talk about a current situation: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’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m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in the house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Jacob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’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in the gym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ue and David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on holiday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3- Talk about something which happens from time to time (often with adverb like: always, sometimes, often)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W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sometimes late for our class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’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lways happy to see you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4- we use BE+ a/an when we are talking about what job someone does: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My sister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’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 teacher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’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m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 student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David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 doctor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4:21:47Z</dcterms:created>
  <dc:creator>sony</dc:creator>
  <dc:description/>
  <dc:language>en-US</dc:language>
  <cp:lastModifiedBy>sony</cp:lastModifiedBy>
  <dcterms:modified xsi:type="dcterms:W3CDTF">2012-02-06T16:01:25Z</dcterms:modified>
  <cp:revision>11</cp:revision>
  <dc:subject/>
  <dc:title>Slide 1</dc:title>
</cp:coreProperties>
</file>