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lick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8F6-25F7-4BEE-A626-74F2D282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3B6-3CD5-4790-8562-D6C658E1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8B0-EFEF-48F4-BDC2-8DE82151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532-F40A-4500-B019-D61B610C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FFA5-4934-4B08-9C0A-54A16FFF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A699-0AB1-4762-901F-83F1C9B1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4913-0ADD-4263-9F4B-134C42AD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D4E6-523E-48DD-9C48-5002166F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AF81-4853-4A3F-8D51-AB01C0EC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8924-9F59-4077-ACAC-B9BE2DB7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8E2C-AA27-4251-A82B-D772F71F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6B2-BE88-4C86-A315-76FBA6CE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CA50-4496-409B-969E-1C878F25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A3C3-B837-4975-BFFE-6A4DC7A2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B83A-19EA-4E7B-9543-3CDF5C6F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5D84-519F-442E-BE87-A8076CC3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85BD-21DF-4DC3-88A8-4E0AAA04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66C2C-5105-4606-8205-1D546C27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F0764-B181-4AAA-9CCB-3DFFAB40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D3AF9-BF10-4D43-85DC-C4696A5F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AF559-0269-466A-B6AA-A1ED797A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C9A56-505C-41CF-98E0-9E1970DB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3BD-E07C-400E-8FE5-1B3DCEA8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82FC3-29E8-45FA-B1F1-5C6BC25B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C48DC-BA63-47EF-A5B2-9A0E6DF9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035DB-823A-4053-9520-9E5B72D4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95791-B703-4A8A-BE38-B401D56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72FDF-5A2C-4EC4-8B60-3985CF2B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96DB7-BE9F-4E58-BB33-EF95C08A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A8776-3D30-4A8C-870C-D2447311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62F8B-9781-4105-BF1D-A3A9B21C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08EE1-8069-4460-933C-CABB3254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274F0-84A2-4791-9834-72AD49A8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137-5D4C-42AE-8E49-000E59DD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935DF-887A-40CC-99E7-76BC9981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32797-0C81-48D8-AA28-DD470B25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5289-3E2A-48F1-9A92-A2AD2AC2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50EA5-2818-47EB-981B-F539A500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8D071-7889-4F6C-AAB6-B47399B6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9B922-9BF4-4066-BDD4-41BB6047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91F4-E33F-4ADA-BB6E-FC00EE59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D12C-8B82-4329-908A-6F50696C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2CE2A-0856-4168-8D7C-F3363C31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71ECE-74A7-4607-B9EF-125398F6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5C1-710C-4525-A2E2-BC1B53C9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ABB9F-8C3F-4F82-B37F-D34CF2A2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F46C0-3CE5-4136-BDF6-8DEEF04D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12D050-4132-4346-93AB-5EF31C1C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5A447-783D-4921-B4D0-9E9A29A4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C6AE3-B71B-420B-B6C9-BC0B674D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86923-A3FB-4E94-9618-7167A308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D46E6-9B95-45C2-8536-A7517C83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7A506-B56F-4D01-A43B-46DD29DA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4ACE0-A426-4577-B66C-8AA66425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20FC1-E71E-49E0-8B99-9B8BCFC2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BB2-0EE6-4486-A626-B55CF389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61E1D-81CE-46E3-B5AC-31C569AB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98713-673A-46E5-B670-52309986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D95C8-F405-4CE7-928B-E7492C8A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23695-A37E-4294-825E-313F2289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C0459-6BDD-423B-8AA8-0D942C37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D00CF-6F8B-45DB-81BE-8DCB3A89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5C8FA-5253-4E9B-BAC5-F5263ADB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7E3E6-F04C-4360-B02F-FBD8802B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793C0-3F5A-4202-B08F-304DED3B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C4D3D-3328-449D-9FBE-FF6EE5FD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B8A-28EB-4FDA-BC11-EC1144CD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82791-64F4-4078-AE03-CD086CE3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413C0D-A483-4623-8ED2-82C044D6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AE3F4-EC05-448B-9A41-F832D20F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AB98E-EF64-4AC5-A0FA-3F982406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9A454-2B0F-4CD2-8C23-14E0025A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14AD1-9165-4312-8C74-8A0A11D2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841C9-C54E-4E3F-B0BD-AECDE2B9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07398-6E8E-4FB9-8B64-6FEC51A0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C694B-36E8-4B46-8CCF-60DEAF4E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EBA0C-2205-4309-8C30-BEE7E3E6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3C1-0F37-47DC-9285-68BA8E25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6682B8-1786-4D0C-B19E-DAB517DB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D07A1-9CD0-4632-AF9F-5278A58D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5D355-59D2-48A2-9B0C-03DF6CEE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B26C06-2CB7-421E-B9A1-33938ECF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97377-185A-4542-935E-FA3F90D0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333-6A06-4179-A347-5BE1FE76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252B-6D2E-4117-AE2D-6E545797F9C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A26B-8250-49D6-AD50-B0E2CC73DE0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395E-2A80-4800-9BA8-9A5E5EAA7A1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5885-2A0A-4A1A-931E-6A90EC80BB0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7B80-CF55-4017-A4DD-9E74841D8B4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04CC-8BA4-4E1F-B516-F2408A1F97E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C7F5-2EC7-42E4-BE0C-A2950471D30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RB TO B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lural nouns, we, you, they, these or those.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Singular nouns, he, she, it, this or that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GATIVE STATEMEN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12808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late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late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RACTION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 am Saudi.  &gt;&gt;&gt;&gt;&gt;&gt;&gt;&gt;  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’m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aud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is a new student. 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He’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are very smart. &gt;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Negative contractions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’am not Saudi.  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 contra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he a student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rom Saudi Arabia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from Saudi Arabia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- 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eacher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teachers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I early?          &gt;&gt;&gt;&gt; I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early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, you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, you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this our house?     &gt;&gt;&gt; th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our hous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 it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not. No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- Describe a person or a thing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ura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all.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boy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at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hous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bi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nni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he girl I met in Paris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car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expensiv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2- Talk about a current situation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hous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cob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gym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e and 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n holiday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3- Talk about something which happens from time to time (often with adverb like: always, sometimes, often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sometimes late for our cla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lways happy to see you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4- we use BE+ a/an when we are talking about what job someone does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y sister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teache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docto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21:47Z</dcterms:created>
  <dc:creator>sony</dc:creator>
  <dc:description/>
  <dc:language>en-US</dc:language>
  <cp:lastModifiedBy>sony</cp:lastModifiedBy>
  <dcterms:modified xsi:type="dcterms:W3CDTF">2012-02-06T16:01:25Z</dcterms:modified>
  <cp:revision>11</cp:revision>
  <dc:subject/>
  <dc:title>Slide 1</dc:title>
</cp:coreProperties>
</file>