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click.wav" ContentType="audio/x-wav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40C3-04AC-41CC-BC9E-E400F8B0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67E3-ACDA-4AC4-9CB8-91C6A436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424D-36F2-498B-8A66-2F695419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236A-CD60-4D14-BDB0-49977915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52A0-EF02-44BE-904F-3383BBFD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9B9C-B282-4E76-AB57-65B0399E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8056-3CE1-429A-9E59-B9DA7220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4840-CAB0-48AB-8B7F-B07D9CF0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B643-8403-4F8A-93AF-E0A431C7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F423-A870-4E33-BEE9-64DD729E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CF18-3C16-43C4-8D5D-3872B721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CAA5-DE6D-4B78-BFC4-8BE0F9D4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E749-9F45-4505-B27B-7DF09D17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E17C-4515-4CB0-9AC5-06A4864B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738D-6C78-41EC-8BA2-3AAAB863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1E5C-6E16-4A70-BA57-CB1E1D22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76F5-A43B-4C01-B0F6-1FFFC4D7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98B84B-9513-4B1F-8649-0AB4FF38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F1899-5EAA-46B0-AF16-D5279016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8FA2AF-F9E3-4DB0-AD58-DEE234C7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2B4CD1-DE13-4747-9A6D-E63AFDA1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E9A69B-5E4E-457B-9D6F-30A1FB06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29BE-424C-4C5B-B228-A32C29EC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F8EEBE-AC2D-45E4-855A-46474DD8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06083-C70A-4464-9DB8-BEE501AC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DC54BA-FA40-4B74-A400-701D500B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D800B-205C-4059-AE54-046B9668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33CD2-35FC-495A-8CBA-4F2BA9BB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FD4EDB-3E46-4CBF-A045-DFF14CED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F6685-37F5-4C58-9479-09B10AE88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CEEA9-EEBD-4A1E-93EB-80152FE9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05328-E928-4478-BBD2-48246D27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3C4E8-39BD-4E0F-826A-7266D037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9B2E-2543-4D99-B939-163D7825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C0159-C1B5-46C1-A804-074D80F9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89418-3601-46D3-B3CE-FD198B9E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089AB-ADA4-479F-8B06-A54A9EF5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DD05E-8C07-471E-AB12-1D0B23C8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39053-AC87-4EEE-8AFC-D703DF85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44DE3-B6C2-423F-BB63-B54FA806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A45EF-F0E9-4EA6-B0DF-0A9D6784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E63EA-F423-4495-AFC2-F24FED95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058C8-8F6C-475E-AC8C-1BBD3EEF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008262-1615-4C3D-A2DB-66FB2E2D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129A-21EA-4340-8A5F-4619885C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A0393E-D507-4407-842E-75B96DFE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827682-0D1B-41F3-B6AB-E0381720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ECDBA4-C4EB-41CC-853D-24BD59AE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575EAA-0FB3-4021-983E-2100CC03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35C73B-ED23-45B3-AED7-852B5AD1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AF90F6-7216-4CB3-88F4-82B49C41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5DE5B6-6789-4B47-AD8F-07FE5462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EB7232-A8D5-4B9F-B3D6-6B25C8DA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CC8728-D90F-4FC4-BCF7-C6094441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48CCE3-2421-4FA3-875B-92ED59DD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AF87-5BF2-416D-B478-79ABF2DF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50DCAE-B9A2-4B3C-91F3-F020791B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81DB5C-9136-4BE4-9411-1B9AE1E7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7300D6-3A59-419E-B792-A4C40C56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D19A98-1355-4A9F-A18F-AF3BF530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EDD1E1-8783-46E9-B0D8-20F71C3D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E9FE11-0708-4F29-BE06-55E75ACE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253387-D14F-4D7F-B179-E73DD6BF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06113C-39C5-4640-BC08-CEEDC19D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9AED4C-CB68-4BA0-8909-4BBF2E74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FB7C65-F38E-47AA-BB51-868E7586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4D01-85EC-4765-85F4-8B12EBCD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E24E50-0F02-4B08-B1A2-741C04D8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68A66F-7C0D-460C-AE24-FBD1DCF9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C9056B-E7CD-458D-AE9D-D2102873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432534-1B3A-46B0-8160-B6E57E31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91F365-C794-4AB0-8ED7-CD6138F5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2CD42A-BD28-4CDC-A69A-CA4A1F0B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5E487A-B696-4DA8-837F-CA7E24E4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975B49-1AAE-4B8E-964B-B1CB6C95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5697AC-62C9-4477-9E02-9371FE2A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0491BD-FD23-4289-9158-8D777511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E85B-8C96-4606-A88F-2C51DEE0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A22206-BE32-488E-A3B3-561E9630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65DE62-564B-4ED4-AB46-171669AB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D6273C-F952-400C-BD77-468885F5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4651B5-B00C-486D-ADF5-75313E05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F6273F-25B0-4C4C-AD16-F2641465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AF6F-8634-4A1D-B923-D7F17748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8AB0-A82E-4A19-A635-B52D5906979D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E1CB-B472-4C22-8E92-F38DFB217D0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4BA7-8549-4A8D-A70F-9BB499D4873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B767-3D5D-4664-AA3E-0B9043090DFC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8E31-C64D-4574-BB44-070E161E4DF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1793-8366-4FE4-8C10-DD656008F39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07E4-679C-4C6F-A352-82CC7BBF55E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ERB TO B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eab"/>
                </a:solidFill>
                <a:latin typeface="Century Schoolbook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&gt;&gt;&gt;&gt;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eab"/>
                </a:solidFill>
                <a:latin typeface="Century Schoolbook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&gt;&gt;&gt;&gt;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Plural nouns, we, you, they, these or those.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eab"/>
                </a:solidFill>
                <a:latin typeface="Century Schoolbook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&gt;&gt;&gt;&gt;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Singular nouns, he, she, it, this or that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NEGATIVE STATEMENT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95280" y="12808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She is late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She is </a:t>
            </a:r>
            <a:r>
              <a:rPr b="0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 late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We are sisters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We are </a:t>
            </a:r>
            <a:r>
              <a:rPr b="0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 sisters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TRACTION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I am Saudi.  &gt;&gt;&gt;&gt;&gt;&gt;&gt;&gt;  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I’m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Saudi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He is a new student. &gt;&gt;&gt;&gt;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He’s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a new student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You are very smart. &gt;&gt;&gt;&gt;&gt;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you’re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very smart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Negative contractions: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I’am not Saudi.  &gt;&gt;&gt;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no contractio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He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isn’t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a new student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You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aren’t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very smart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H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student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he a student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from Saudi Arabia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you from Saudi Arabia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- W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teachers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you teachers?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I early?          &gt;&gt;&gt;&gt; I’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early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Yes, you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No, you’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this our house?     &gt;&gt;&gt; this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our house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Yes it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No it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’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not. No it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n’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US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1- Describe a person or a thing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oura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tall.  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se boys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fat.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 hous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big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Janni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the girl I met in Paris.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se cars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expensive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2- Talk about a current situation: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in the house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Jacob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’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in the gym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ue and David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on holiday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3- Talk about something which happens from time to time (often with adverb like: always, sometimes, often)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W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sometimes late for our class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lways happy to see you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4- we use BE+ a/an when we are talking about what job someone does: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My sister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’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teacher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student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avid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doctor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4:21:47Z</dcterms:created>
  <dc:creator>sony</dc:creator>
  <dc:description/>
  <dc:language>en-US</dc:language>
  <cp:lastModifiedBy>sony</cp:lastModifiedBy>
  <dcterms:modified xsi:type="dcterms:W3CDTF">2012-02-06T16:01:25Z</dcterms:modified>
  <cp:revision>11</cp:revision>
  <dc:subject/>
  <dc:title>Slide 1</dc:title>
</cp:coreProperties>
</file>