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click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C76-DDA0-4DF5-B52E-C8D7AA9F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AA6-22B2-44C6-ABC8-AF46A8B5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011-73C2-4F94-BA18-45AA8455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755-7A6C-41E6-9EBE-A0FB50E0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10F6-FD8A-4640-B4C0-19EE95C1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DF55-32F3-4784-8643-4E478DCC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8B1B-2EA3-48AE-83FF-69FF49A1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5D9D-A76D-456F-9BBE-947A658D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A7D7-10A4-4E32-A3B5-58650515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F82F-2298-4452-8F87-A9771F0E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7961-E730-4A3C-847C-BA1CE8E6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6E5-959B-446E-BC95-C5E1C7ED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8D00-138A-4C59-BEFA-30348B7C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E29F-5AFF-4522-8992-9CECDA62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A622-529A-4862-9A99-A736B8CC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3EF8-D2B2-493F-A31E-E11233D9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02AA-DAD7-4F3A-A818-B89167B7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2681E-A6F4-4BAF-9F08-3ADA144D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E67BB-AFAC-4E6B-9A6A-33ECD068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FF41E-5972-4A85-82CB-13A968B0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A2917-23B8-4A76-8E91-4CDECE4F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55D6C-5D23-431F-92EC-413A646F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DC1-46ED-4969-8599-86AF05DC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BE1AF-72B1-4734-9BF7-368027FA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1A66D-C275-4F61-AFC5-4E26F3B5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A2C9E-135E-4A35-BE68-1DAB8BC4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9D027-DC2C-4F92-89A8-E283EF3B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C2684-9A00-48D7-91F0-8A9553C2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3C4AF-37BE-4CF6-84F5-DE3682FE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BBD5C-77AA-47A5-B4EE-E644CBC2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6E18A-4918-43E6-9854-B9742796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AC371-5D8B-46BB-98B7-C63BBDE2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8CCF1-35CB-41E9-8347-7FBCD647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C29-5281-4A88-BFF8-EE4D8287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4C10C-CDF0-48D7-B177-6C0903ED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B3C85-238E-47C9-85E1-2C3003B2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925E0-1417-4483-8F24-3E6FFBC8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1D45E-CDB1-4EED-969B-B1DD52FC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4254-4151-461F-9294-71EDEB20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86D02-F072-4FBC-A2A2-08B311F5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7F9C4-CA5E-44B6-B06E-2DCFDFF4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07F12-44F6-40A7-986A-CA0F205D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CDF0A-07A5-4E7E-9C51-720AA697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3C8AA-4D75-4D30-AB76-19FD8041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558C-3346-40CD-970A-3EE64843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E4B73-B860-46F4-8298-0CBC7B16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33590-17D6-4CE4-ABF9-B620ACBD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C0281-E0D6-457D-A345-290D785B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507D5-4582-43EB-B1D7-A4E04769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B130E-5C7A-4032-9A74-E7D6850A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7C14D-C971-4D5A-8E9A-4A385B33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DB1AB8-83CB-49FE-86A9-62C5CEF5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FE7B9-1EE6-4F30-A055-DD6CA7FB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0DE6A-FB32-4436-8449-2670F56C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181C6-92EB-4056-BDF0-08F35A63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4B3-FB05-41D4-9C16-B0035FAF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A3C4E-B9E6-4577-BD72-9495B4A5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6FD07-9220-421B-A0F6-12B4EF0E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BFC2E-DD26-4B44-83EC-73E1585D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9C8A90-77E7-43A2-B766-489A2273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EDEF0-2198-4AB9-8DF4-A1961822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09E4D-040C-46CB-847E-4F708701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C17A9F-16DA-4C77-BAD6-4613D6C5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4B14A-E921-46A1-87AF-CF5299F8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344B8-055A-4DE0-90B1-40192636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99D5C-3AAA-4D86-9BC9-AF865527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058-8BF4-4628-869F-A195A6D9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B09094-40C8-400E-B482-8046D571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D606C9-7FC9-4722-87A9-C756AA48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A746C-A140-4F9C-88F8-7BA5F973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3396A-33E3-4F5C-9C74-71C6353E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894AD-BB20-4524-B744-6F38E133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D3FCD8-BF36-423E-A14F-DE1FD731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7AAD1D-3923-4204-B370-A79B3F0F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A0D6DD-6CBF-43FC-BE51-AE1A27CB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9A28FD-DCC3-4948-A636-835F0CE9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C50C2C-6FB7-4535-A9B0-91B7512D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A6F-243E-4EBE-A6C0-CEFD98E6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28A051-BD2B-48E6-BDBA-67A93E94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F2AEB-0E92-444B-ADF1-45F433BA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B80B8-4C10-4F93-AE11-FC92D9A3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FCAB35-F544-434B-9072-E2F1754D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124932-BA69-4CE1-B723-F8646674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97E-EE4E-41AD-8C09-D87014E4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6CF6-BB16-4ACC-BD73-64E98223B86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DC2E-AAAB-4349-99B1-8C4F3D99FCC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14EE-97D1-4B6A-99DB-828849BCE83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E53B-9AE6-415E-96C0-13F494EC820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DBDC-709E-4B2F-9D24-D82A8A51032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F183-FD0E-45E1-8394-D3D15A21B0E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9AAD-7743-47FF-8CE7-711421DE207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ERB TO B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Plural nouns, we, you, they, these or those.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Singular nouns, he, she, it, this or that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GATIVE STATEMENT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5280" y="12808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late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late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TRACTION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 am Saudi.  &gt;&gt;&gt;&gt;&gt;&gt;&gt;&gt;  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’m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aud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is a new student. 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He’s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are very smart. &gt;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you’re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Negative contractions: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’am not Saudi.  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 contrac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he a student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rom Saudi Arabia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from Saudi Arabia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- 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eacher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teachers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I early?          &gt;&gt;&gt;&gt; I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early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, you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, you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this our house?     &gt;&gt;&gt; th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our hous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 it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not. No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1- Describe a person or a thing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ura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all.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boy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at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hous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big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nni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he girl I met in Paris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car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expensiv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2- Talk about a current situation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hous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cob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gym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e and 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on holiday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3- Talk about something which happens from time to time (often with adverb like: always, sometimes, often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sometimes late for our clas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lways happy to see you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4- we use BE+ a/an when we are talking about what job someone does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y sister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teache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docto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4:21:47Z</dcterms:created>
  <dc:creator>sony</dc:creator>
  <dc:description/>
  <dc:language>en-US</dc:language>
  <cp:lastModifiedBy>sony</cp:lastModifiedBy>
  <dcterms:modified xsi:type="dcterms:W3CDTF">2012-02-06T16:01:25Z</dcterms:modified>
  <cp:revision>11</cp:revision>
  <dc:subject/>
  <dc:title>Slide 1</dc:title>
</cp:coreProperties>
</file>