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lick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D89-4985-4CC7-BB0B-72DE99DB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3D4-689C-413D-A9AF-A833C79C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257-4A9A-4D05-AFEC-D390EB20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D5E-91BB-46B0-8E28-3810EDCE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261D-DDA8-4077-8930-D3C38F7A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ED30-47DE-4624-941B-DB32E268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5EC-C223-4EEF-8FDA-33BDBE5E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BB76-D995-4FD8-8178-BBD3CDDB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8AF4-3F67-40BD-A4D8-2366AA42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ABE1-DE32-4A78-8016-972AAA9E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76ED-48C1-477C-B75E-738F6316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957-8693-4515-986C-8A48BF7C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1A5C-A524-4306-A462-C56EBA0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0B69-1F76-4F00-88AE-31E49E19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F739-E030-4512-87AA-36473CF3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4FDF-D8EC-4DD2-8DDD-34B6A15D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81ED-D18F-49FD-B08B-8F27AED0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9F958-CDE7-4DEB-8CCB-FB59AA7F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920F6-651E-4BAB-BDA5-BC24F6F3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130C0-BD84-4943-BABD-E8071160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A98F1-E3F0-48D0-9E5C-E597860F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92E68-BFD1-4197-A55F-066C568D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117-806A-4A42-B080-8FFACBAD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3299D-5562-4EFA-96A7-8815DE14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3698B-AD4D-42C1-BE67-B214483D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72105-74B6-44B3-8DD1-EA58F96A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CF825-0055-45EA-B3BE-A3EA9219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3FE2D-192F-42C4-9E5D-0A076CE3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EB6C8-74E9-4A62-A0B4-04D6CB68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85664-C587-4960-9EF2-07CFB82F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A7EB0-2C1B-405F-992B-FD6E9F94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70F3B-9FD1-4E10-AD4E-9C233611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CE434-678E-4645-8DF2-51F2E358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A32-405D-4CF2-A3C1-FACE7EAA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9BAE2-8179-4A5C-A9E1-7C2E9AA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AA922-55C4-4345-AC28-8589E8F8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7A345-95B7-4245-BDAA-503A4867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C5C39-AAED-43D4-BEFD-C5A6C282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47C03-4B81-4589-8074-6D99F4A1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C9AF6-157B-495E-85ED-70A7FF11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C29F-DC51-41A1-BD14-7A366FBF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B1437-B263-41E5-9DA3-E42BE943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A09C-335C-4CB3-BDCD-912F24F6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A0695-307E-4D1E-B488-99B63195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8A9-4DFC-4DA1-B4E8-F1A54AC3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CD310-A188-42C5-A516-EEEF8289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EEC0C-7C94-49FD-AF84-58FBF548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06FA7-362F-44EA-86F1-5170DF2C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EE2FE-A605-4221-B6EC-981D06C6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9EA84-C896-4444-8BAD-DB19A677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CAB93-15BA-42A2-ACBC-1CE9537F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B9E64-7A92-436F-96B8-9712D919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53CF2-EE75-40BA-AC71-600399A7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D2A46-66E8-4B80-9463-D23E315B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D9AC9-45A3-4B85-B2C6-F34CE5FA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305-B2B5-43BE-9EE9-52B37688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25A59-CE12-48CA-BE77-06BEEC4E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BF2CC3-6E7B-4C0F-BFDB-680CC9E0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BC5BA-208E-434F-9ED0-51DD8DB6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E0991-4117-4183-B371-73531C87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3848E-40C3-49CC-A8D2-F0EF1523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0F858-E46C-40DF-B5FC-DA8BAA0F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2C70E-A8EE-4EAE-A7A7-754BF010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B4E7B-C480-45A8-AA29-AB147803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E8727-B4F0-4EDD-8FE3-9EB0C148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2FD723-81C7-4C66-B978-8EC772C3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D2A-428A-486D-A88C-C75BBD1C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9E69B-4EBC-4773-8ABD-10C358F9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D7385-ED87-4491-A03B-9F1C1095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EEAB0-4CA7-4EC8-A79A-AF00BE5D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11E00-2CB7-4A4B-B6BE-91C4E41B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8EE9F-C63A-4494-924A-A19F6B02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8023E-99E3-4695-B4DF-7F31F82B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2426D-6F43-45E4-96FD-8E48B3AE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6007A-CEA9-4D9C-8D99-6F7569B1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AC7CDB-64B4-4378-8004-01F678F0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1CBD4-F361-4C77-8434-6AD254C3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51A-AA6A-4164-986D-55D8A8CE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B8C67-4E3D-45D7-B273-13A1B45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DC3EE-B5E3-4859-A76D-EF1227FA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F34DD-9420-47EC-836A-C33CC3F1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3D110-1499-4276-8891-B00B8C2B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2D4DF-444F-4D1E-A166-CD187632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B20-67A9-4BF8-ACF7-CAD3136F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D016-5EC6-4218-BD12-CEF68E0486D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F829-FD30-4C8B-8DBE-9AD262642E9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65B2-959F-408E-838E-726A3A925C1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5CCD-9A9A-4770-8E7B-E5917765001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583F-3BE0-4369-B393-C50302E394E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9CFB-DDDD-4DDA-8780-0AB765A2BCB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05EF-9C7D-47BD-83CA-2B959D4C5BC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ERB TO B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lural nouns, we, you, they, these or those.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eab"/>
                </a:solidFill>
                <a:latin typeface="Century Schoolbook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&gt;&gt;&gt;&gt;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Singular nouns, he, she, it, this or that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GATIVE STATEMENT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5280" y="12808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lat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She is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late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We are </a:t>
            </a:r>
            <a:r>
              <a:rPr b="0" lang="en-US" sz="4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isters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RACTION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 am Saudi.  &gt;&gt;&gt;&gt;&gt;&gt;&gt;&gt;  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’m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Saud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is a new student. 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He’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are very smart. &gt;&gt;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Negative contractions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I’am not Saudi.  &gt;&gt;&gt;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no contr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He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a new studen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You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n’t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Arial"/>
              </a:rPr>
              <a:t> very smart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he a student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rom Saudi Arabia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from Saudi Arabia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- 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eacher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you teachers?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I early?          &gt;&gt;&gt;&gt; I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early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, you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, you’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this our house?     &gt;&gt;&gt; this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our hous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Yes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No it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not. No it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Arial"/>
              </a:rPr>
              <a:t>isn’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S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- Describe a person or a thing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oura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all.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boy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fat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 hous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big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nni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the girl I met in Paris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hese cars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expensiv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2- Talk about a current situation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house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Jacob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n the gym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ue and 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on holiday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3- Talk about something which happens from time to time (often with adverb like: always, sometimes, often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We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sometimes late for our class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lways happy to see you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- we use BE+ a/an when we are talking about what job someone does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y sister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’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teache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’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student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avid </a:t>
            </a: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a doctor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4:21:47Z</dcterms:created>
  <dc:creator>sony</dc:creator>
  <dc:description/>
  <dc:language>en-US</dc:language>
  <cp:lastModifiedBy>sony</cp:lastModifiedBy>
  <dcterms:modified xsi:type="dcterms:W3CDTF">2012-02-06T16:01:25Z</dcterms:modified>
  <cp:revision>11</cp:revision>
  <dc:subject/>
  <dc:title>Slide 1</dc:title>
</cp:coreProperties>
</file>