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click.wav" ContentType="audio/x-wav"/>
  <Override PartName="/ppt/media/whoosh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02A2-618A-4667-B98D-F050979E2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83A4-FEE4-4AA3-9ABA-C4CAB8D38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7D19-85C6-4758-BD33-4BD445E01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F2BE-703A-4B1F-B53B-BCE491E51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6408D-E450-4FA3-9EAD-81F1F9351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C32E8-5BC1-4341-83D2-C55AE9917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C8A9B-B82F-4903-ACC8-A1A7EAD06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91E87-4393-4518-9405-EC28D65B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4844F-EF11-4BCA-BF87-0B1A3B045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11E2B-47BD-4412-B935-A978C07E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35BC1-DA6B-47F5-A9D1-943C2F81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C170-EDAB-44AC-AE22-1F78DBBE2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8B025-ECD6-4643-AA7A-26CB6D8C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35D34-BCA0-4301-A7E7-4DFEDDC9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2DF52-983F-484F-BB18-094C0C1AC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A0FD1-4955-4273-B681-1918BD240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54C17-EAC0-4A1E-95F3-1612973CC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ED3D1E-E7F9-4F79-B237-5444DFF88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616FE9-F9B9-4E69-B0EE-B56A598E4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FBE143-79CB-4EB2-BCF0-22B5F4FD6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9B3356-2BD2-4757-AF5C-971F93878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31CAEB-FFA9-408F-AEBB-394AFAE25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C452-2CCB-4365-B0A0-A8F846BCA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76F12A-6698-4615-8F53-3E80D07C1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14AD77-292B-4252-A896-6CDA1008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365BFE-AB7C-4A77-9324-89024454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E941C0-4E3B-44F4-A6D1-3E42E916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28A2E3-CAAE-4E1D-902D-1DEF7F734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9125C4-4F11-4914-B493-0FAA15721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D4A33A-5CE3-40BA-AE54-3AC95BCEF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C423A-0155-4073-BFB6-0FFB5784F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4A92D-5905-4315-B0E8-DDC9F8304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8F49A-1289-4087-98A9-F784D203C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023A-DC9B-4D21-8006-A63F830AB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18520-1836-4E8B-9D4A-C98CDD0BA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2FE3A-82B1-4AF3-AEDF-41F3AE538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89353-414E-41DE-A9AA-924218004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8C7F5-2B74-49F8-ABA8-C6D1DB82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0270B-789C-4339-8A03-2506639E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03F08-B531-4A64-899C-A3AE5D09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D68E6-C9CA-46BF-A250-8A5202032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BD210-632F-4444-A4EE-E689CAE1C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258C2-8B1F-4D01-94D7-C5BABB304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674EA8-72EF-4EE7-9B9C-1059373BA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4B90-15AF-444F-A4EF-417FDA214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390FEB-F983-48B6-A87F-D7218CB5A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81E50A-FEFB-4B8B-839F-20CE29117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F3909D-E8B8-41A7-992A-4865003ED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6C0FB3-9E5B-4CB5-8940-25659BBEF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853381-7E54-4EDB-B7C0-6C086DCC3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15731A-D499-47EB-A663-550AEC26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6AE520-9FD9-4F15-8D51-44EF172C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5D6FD6-2F16-474E-87A8-7B2287E1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FB2991-6C56-4807-9432-B2A940071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889E6C-175A-4AFA-AC9D-BFBDD5B59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0BC2-E5AA-4312-80CA-7A0C59F71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B455FA-BAE9-4C45-84BB-77DD0BD30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5AD82B-250C-40A5-8F82-106D33160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A3F1B5-2135-47F7-A304-8BB673DF4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D9F3FA-EB34-4E54-BF85-37050EFEA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14F475-8FB2-4A2F-AACC-6CA738247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3F5EF5-2180-4B0D-A527-6C3DBA4E8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8939BA-BBEF-42DC-A668-5E52EBA6D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2194A0-50D0-4F07-BFE7-A4B00E92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B9B472-8C05-4B63-AF2A-80A8BAD7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4FA763-CAEB-4E7C-BA4C-598E34D8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AC1C-D283-4FC9-B761-E097C2D3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C36F18-4B0A-4F9F-9C3D-A795AEBD5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D774E9-D799-40F9-8CBC-3CCC7ADE6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0DA413-BF0C-4C04-A923-CE22ADC0B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E40E01-1DC3-4F14-B840-4DD3F7364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AE46E1-1C41-4CED-B359-CE31AF8F6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05567D-4878-4259-A41C-C8FD95108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E4BD7A-DDE3-44B4-9625-4064D2694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960D63-0FB1-4115-80B1-170762B0C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A69749-D51A-429A-AEBE-48BA98A89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DFEC02-F695-4072-A6BA-F494E0C5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DBC1-7281-4D22-A143-6218D644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BCBE5A-45C3-4BD8-A7CE-DB634E21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FD110E-B207-4085-9B82-A5DFBB9C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DD4717-8C9A-4660-9AE9-F6C538D1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BF7236-FED9-4694-83FE-2818EAC9C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377A8E-F1F4-4273-97C9-D69B91A44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D9DE-8AF0-4032-9C26-DFD8C0A2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C320E-9B85-4C4A-9046-2DD52054D693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A24EC-05B9-4345-A454-C9D19C2EDFBC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24BF5-E9E7-46E0-BBE7-42A3AB9745B1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7B664-3344-4B20-9897-8A64AAE35A9F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DE8BD-07A4-45BB-B8F2-5A3A6B08223D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93239-9386-4735-9FE7-3C95F6EE9697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84E70-F437-4131-8CAA-384ECD162518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VERB TO B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eab"/>
                </a:solidFill>
                <a:latin typeface="Century Schoolbook"/>
              </a:rPr>
              <a:t>Am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</a:rPr>
              <a:t>&gt;&gt;&gt;&gt;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   I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eab"/>
                </a:solidFill>
                <a:latin typeface="Century Schoolbook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</a:rPr>
              <a:t>&gt;&gt;&gt;&gt;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Plural nouns, we, you, they, these or those. 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eab"/>
                </a:solidFill>
                <a:latin typeface="Century Schoolbook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</a:rPr>
              <a:t>&gt;&gt;&gt;&gt;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Singular nouns, he, she, it, this or that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NEGATIVE STATEMENTS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95280" y="128088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  <a:ea typeface="Arial"/>
              </a:rPr>
              <a:t>She is late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  <a:ea typeface="Arial"/>
              </a:rPr>
              <a:t>She is </a:t>
            </a:r>
            <a:r>
              <a:rPr b="0" lang="en-US" sz="4000" spc="-1" strike="noStrike">
                <a:solidFill>
                  <a:srgbClr val="ff0000"/>
                </a:solidFill>
                <a:latin typeface="Century Schoolbook"/>
                <a:ea typeface="Arial"/>
              </a:rPr>
              <a:t>not</a:t>
            </a:r>
            <a:r>
              <a:rPr b="0" lang="en-US" sz="4000" spc="-1" strike="noStrike">
                <a:solidFill>
                  <a:srgbClr val="000000"/>
                </a:solidFill>
                <a:latin typeface="Century Schoolbook"/>
                <a:ea typeface="Arial"/>
              </a:rPr>
              <a:t> late.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  <a:ea typeface="Arial"/>
              </a:rPr>
              <a:t>We are sisters.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  <a:ea typeface="Arial"/>
              </a:rPr>
              <a:t>We are </a:t>
            </a:r>
            <a:r>
              <a:rPr b="0" lang="en-US" sz="4000" spc="-1" strike="noStrike">
                <a:solidFill>
                  <a:srgbClr val="ff0000"/>
                </a:solidFill>
                <a:latin typeface="Century Schoolbook"/>
                <a:ea typeface="Arial"/>
              </a:rPr>
              <a:t>not</a:t>
            </a:r>
            <a:r>
              <a:rPr b="0" lang="en-US" sz="4000" spc="-1" strike="noStrike">
                <a:solidFill>
                  <a:srgbClr val="000000"/>
                </a:solidFill>
                <a:latin typeface="Century Schoolbook"/>
                <a:ea typeface="Arial"/>
              </a:rPr>
              <a:t> sisters.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ONTRACTIONS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I am Saudi.  &gt;&gt;&gt;&gt;&gt;&gt;&gt;&gt;   </a:t>
            </a:r>
            <a:r>
              <a:rPr b="0" lang="en-US" sz="3000" spc="-1" strike="noStrike">
                <a:solidFill>
                  <a:srgbClr val="ff0000"/>
                </a:solidFill>
                <a:latin typeface="Century Schoolbook"/>
                <a:ea typeface="Arial"/>
              </a:rPr>
              <a:t>I’m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 Saudi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He is a new student. &gt;&gt;&gt;&gt; </a:t>
            </a:r>
            <a:r>
              <a:rPr b="0" lang="en-US" sz="3000" spc="-1" strike="noStrike">
                <a:solidFill>
                  <a:srgbClr val="ff0000"/>
                </a:solidFill>
                <a:latin typeface="Century Schoolbook"/>
                <a:ea typeface="Arial"/>
              </a:rPr>
              <a:t>He’s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 a new student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You are very smart. &gt;&gt;&gt;&gt;&gt; </a:t>
            </a:r>
            <a:r>
              <a:rPr b="0" lang="en-US" sz="3000" spc="-1" strike="noStrike">
                <a:solidFill>
                  <a:srgbClr val="ff0000"/>
                </a:solidFill>
                <a:latin typeface="Century Schoolbook"/>
                <a:ea typeface="Arial"/>
              </a:rPr>
              <a:t>you’re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 very smart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Negative contractions: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I’am not Saudi.  &gt;&gt;&gt; </a:t>
            </a:r>
            <a:r>
              <a:rPr b="0" lang="en-US" sz="3000" spc="-1" strike="noStrike">
                <a:solidFill>
                  <a:srgbClr val="ff0000"/>
                </a:solidFill>
                <a:latin typeface="Century Schoolbook"/>
                <a:ea typeface="Arial"/>
              </a:rPr>
              <a:t>no contraction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He </a:t>
            </a:r>
            <a:r>
              <a:rPr b="0" lang="en-US" sz="3000" spc="-1" strike="noStrike">
                <a:solidFill>
                  <a:srgbClr val="ff0000"/>
                </a:solidFill>
                <a:latin typeface="Century Schoolbook"/>
                <a:ea typeface="Arial"/>
              </a:rPr>
              <a:t>isn’t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 a new student.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You </a:t>
            </a:r>
            <a:r>
              <a:rPr b="0" lang="en-US" sz="3000" spc="-1" strike="noStrike">
                <a:solidFill>
                  <a:srgbClr val="ff0000"/>
                </a:solidFill>
                <a:latin typeface="Century Schoolbook"/>
                <a:ea typeface="Arial"/>
              </a:rPr>
              <a:t>aren’t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 very smart.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He 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a student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he a student?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I’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am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from Saudi Arabia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Are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you from Saudi Arabia?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- We 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are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teachers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Are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you teachers?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Arial"/>
              </a:rPr>
              <a:t>Am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 I early?          &gt;&gt;&gt;&gt; I’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Arial"/>
              </a:rPr>
              <a:t>am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 early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Yes, you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Arial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No, you’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Arial"/>
              </a:rPr>
              <a:t>re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Arial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 this our house?     &gt;&gt;&gt; this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Arial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 our house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Yes it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Arial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No it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Arial"/>
              </a:rPr>
              <a:t>’s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 not. No it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Arial"/>
              </a:rPr>
              <a:t>isn’t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US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1- Describe a person or a thing: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Noura 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tall.   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These boys 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are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fat. 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The house 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big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Jannie 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the girl I met in Paris. 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These cars 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are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expensive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2- Talk about a current situation: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I’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am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in the house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Jacob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’s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in the gym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Sue and David 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are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on holiday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3- Talk about something which happens from time to time (often with adverb like: always, sometimes, often)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We 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are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sometimes late for our class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I’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always happy to see you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4- we use BE+ a/an when we are talking about what job someone does: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My sister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’s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a teacher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I’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am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a student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David 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a doctor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6T14:21:47Z</dcterms:created>
  <dc:creator>sony</dc:creator>
  <dc:description/>
  <dc:language>en-US</dc:language>
  <cp:lastModifiedBy>sony</cp:lastModifiedBy>
  <dcterms:modified xsi:type="dcterms:W3CDTF">2012-02-06T16:01:25Z</dcterms:modified>
  <cp:revision>11</cp:revision>
  <dc:subject/>
  <dc:title>Slide 1</dc:title>
</cp:coreProperties>
</file>