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click.wav" ContentType="audio/x-wav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F8DF-690A-4A51-AF0E-E8D24166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3667-FFB1-4BD0-95AC-FA083613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DF29-A8C1-428D-96B9-5C39A00F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3869-B93A-42E8-974E-DB31E36F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79DE-6E2C-4A1C-A783-64395C7A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EBD0-7659-49A7-8192-4472D3B3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436B-46B9-4BE1-9024-C7A4A796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5ED4-83FB-4E18-A3C3-2C5DBE5A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19EE-DECB-41B2-9855-FD1B2A92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634A-6CD3-432B-B73E-D572411E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6C66-4623-4990-BF0C-D2C83604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8798-D223-4FAD-ABF0-8E062257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C029-7F3F-4FE6-A8AE-B12D5210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26E6-34AF-470A-A68F-495E74EF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5546-8E27-41AC-B54C-11613BAC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78E7-CD7D-477A-B152-F10259C6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3DF1-E511-4A13-A5D0-B76F8D90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4F388-90C7-47D2-ABEC-01453A85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220E0-29BC-48B7-A0A9-398DA6C5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33A3C-4D05-4128-A2B5-8E55FA3D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B90179-F3CF-487A-984C-48D18F51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3118E0-C7C9-44FA-BBE8-39CF7788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5745-410C-4AA4-9861-98F86C8C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6038D-1A23-4DD7-BB77-6603A553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1848D1-B500-4CE1-9F7A-4A37E756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3D997E-554F-44B5-B9A4-D33F61B8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DBB92-AA4E-43F4-93BE-E54A9749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A75817-6DF1-4B6B-830D-5BBD2CBC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4F6DF-7F70-4AFF-9FC8-3BAF17C7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7E2F02-CE1F-473A-A5D3-1512AC9A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FFBAD-04D5-4348-9AA9-3C63AAD7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11DF5-F519-42E7-AC75-A1F0632E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A4DFE-07F6-4020-8439-5DCD2EFF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236F-B5B2-4494-A83F-53994C67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FB064-423A-466D-9C2B-F51E3C14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0177F-169F-472D-8714-D9978AA2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42691-4E19-470F-904B-7584149E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CD66F-C5D5-4D36-BAB2-187C6AF3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10C92-3CE8-4C14-AEA8-7342694F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4573C-39F1-42D0-BA7C-FDB6DF29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8DADC-39E0-4429-B482-D61CEBAA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C4D6D-1D84-42E8-9519-E635A2D3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46C86-D558-4664-9799-169FBFCA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D103C6-261D-4B26-834B-5AEDAA92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DB6B-0914-453F-9504-F0A9BD8A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0F14A6-1942-4500-B689-EDF851DD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C596F8-A957-4631-A73E-86299938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8D32A5-8859-4B58-8AC7-F1924267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3CD9D7-EB05-4796-B2E1-E4333364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2E4275-573B-481F-8892-D3A024F9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F3B46F-E15C-470E-8FD7-CCABF746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37C78D-AB0F-4488-8244-D97D62B9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C3B255-5A78-40AB-A6EC-F7C6DC7F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11BC43-8EB8-4292-91B4-70414EA3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0DE33D-020A-4BFA-B7A5-6F57DD75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C72E-43BA-483B-A3CC-E04F1BAD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023EF7-1E71-4953-A6FD-0B247B5A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B52BC9-3866-4354-A092-34650FAA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D982B0-C91C-479F-89B5-8D19147B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E795B5-7200-471F-852E-FB664F3A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04B1C3-78B2-4572-82AD-CF96DA90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7D9194-6F41-4FDB-B9E9-71709027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BC72AA-CE5C-4EA2-9E3A-26C0F200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4CF32B-C7A6-4DD1-AECD-D70BB7CE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03A792-CE54-465D-9777-152F78F2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A8660A-36EA-4DB1-AFCF-5FEA9FB6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29DD-D086-4259-84A5-A60F11EA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FFF25B-428A-4DA4-ACA4-BE50B456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CD224C-7487-4387-AFA8-509031F9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97A314-0576-4E08-ADA0-8B6A8022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04AD78-BBE9-4B05-8988-15005AD7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E9AF23-CBDC-453B-86DF-6A4414AA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F253E5-5633-4D66-AF97-692E6D7C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496EBE-27DD-41C6-8A40-EFEBA53F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E122D8-9282-4D5F-8231-678C9B4F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1686B3-91DD-4C85-B0A0-AF9DC516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4496E6-E13B-405B-A310-578AD66D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C743-236D-4E8F-A81C-BECFA6D1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448473-54DF-4C7E-993E-87E656BA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47D046-4137-47C4-9910-D4921767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2F02AD-7684-4BE8-9B63-97EA38A5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8F9405-4907-40FB-8B08-52542677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242FE1-8E79-42D8-9914-D0973677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6B5A-E6DD-4A39-B601-2C652E28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3215-A2BA-45E8-84FD-038E9457DCAE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8B79-9B52-4B9C-BEAF-FA9363D6B55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AD66-A4A7-402E-BAE0-3588A7CF10AE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A53D-A9A7-4A8B-99ED-D8524DC27C2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FCE9-CD07-4EFC-AA6C-300FBE27282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A261-0BEB-4956-891F-128284B8E0F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6E45-49D3-45F6-8833-238941B1A17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ERB TO B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eab"/>
                </a:solidFill>
                <a:latin typeface="Century Schoolbook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&gt;&gt;&gt;&gt;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eab"/>
                </a:solidFill>
                <a:latin typeface="Century Schoolbook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&gt;&gt;&gt;&gt;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Plural nouns, we, you, they, these or those.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eab"/>
                </a:solidFill>
                <a:latin typeface="Century Schoolbook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&gt;&gt;&gt;&gt;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Singular nouns, he, she, it, this or that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NEGATIVE STATEMENT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95280" y="12808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She is late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She is </a:t>
            </a:r>
            <a:r>
              <a:rPr b="0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 late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We are sisters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We are </a:t>
            </a:r>
            <a:r>
              <a:rPr b="0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 sisters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TRACTION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I am Saudi.  &gt;&gt;&gt;&gt;&gt;&gt;&gt;&gt;  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I’m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Saudi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He is a new student. &gt;&gt;&gt;&gt;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He’s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a new student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You are very smart. &gt;&gt;&gt;&gt;&gt;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you’re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very smart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Negative contractions: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I’am not Saudi.  &gt;&gt;&gt;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no contractio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He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isn’t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a new student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You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aren’t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very smart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H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student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he a student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from Saudi Arabia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you from Saudi Arabia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- W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teachers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you teachers?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I early?          &gt;&gt;&gt;&gt; I’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early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Yes, you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No, you’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this our house?     &gt;&gt;&gt; this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our house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Yes it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No it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’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not. No it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n’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US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1- Describe a person or a thing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oura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tall.  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se boys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fat.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 hous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big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Janni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the girl I met in Paris.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se cars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expensive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2- Talk about a current situation: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in the house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Jacob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’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in the gym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ue and David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on holiday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3- Talk about something which happens from time to time (often with adverb like: always, sometimes, often)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W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sometimes late for our class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lways happy to see you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4- we use BE+ a/an when we are talking about what job someone does: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My sister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’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teacher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student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avid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doctor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4:21:47Z</dcterms:created>
  <dc:creator>sony</dc:creator>
  <dc:description/>
  <dc:language>en-US</dc:language>
  <cp:lastModifiedBy>sony</cp:lastModifiedBy>
  <dcterms:modified xsi:type="dcterms:W3CDTF">2012-02-06T16:01:25Z</dcterms:modified>
  <cp:revision>11</cp:revision>
  <dc:subject/>
  <dc:title>Slide 1</dc:title>
</cp:coreProperties>
</file>