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0C1-745E-4EC6-BE1A-5F9C1A03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5F4-8667-4F78-A76B-D7BF4F41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7F1-6392-444B-A73E-E51BC13B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C3B-C42E-423F-B45A-7A4282FE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095-B31E-413B-8502-6FF7B324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CCF-2817-465A-A692-B9C2266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EFD-D4D0-4CD0-B6DE-BE262512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513-88CC-4D44-B95E-11F006FB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167-E1AA-43A7-9303-17D4DAB0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54D-431A-442E-8796-9905253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ECD-A5BA-4867-9A73-737BFE9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630-5C37-458E-895C-666FD5FA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E477-DEAC-49E2-AC4A-81032424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lauea eru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357200" y="1981080"/>
            <a:ext cx="642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ield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up primarily from basalt fl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low-angle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 of an inverted shiel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47920" y="640080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C:\WINDOWS\Desktop\Mauna Loa Volcano, Hawai`i_files\4303062_M.jpg"/>
          <p:cNvPicPr/>
          <p:nvPr/>
        </p:nvPicPr>
        <p:blipFill>
          <a:blip r:embed="rId1"/>
          <a:stretch/>
        </p:blipFill>
        <p:spPr>
          <a:xfrm>
            <a:off x="1752480" y="3809880"/>
            <a:ext cx="6248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ntirely 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rt, steep sl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s at steepest angl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fo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ze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ually depression at top of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C:\WINDOWS\Desktop\Paricutin, Mexico_files\Wilcox_48.jpg"/>
          <p:cNvPicPr/>
          <p:nvPr/>
        </p:nvPicPr>
        <p:blipFill>
          <a:blip r:embed="rId1"/>
          <a:stretch/>
        </p:blipFill>
        <p:spPr>
          <a:xfrm>
            <a:off x="609480" y="4724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WINDOWS\Desktop\Paricutin, Mexico_files\Seger_46_night.jpg"/>
          <p:cNvPicPr/>
          <p:nvPr/>
        </p:nvPicPr>
        <p:blipFill>
          <a:blip r:embed="rId2"/>
          <a:stretch/>
        </p:blipFill>
        <p:spPr>
          <a:xfrm>
            <a:off x="4572000" y="46483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4098600" y="6518160"/>
            <a:ext cx="118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inder C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3019320" y="1981080"/>
            <a:ext cx="31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rato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Composite Con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 buil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va flows extend latera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ernating lava a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yrocla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:\WINDOWS\Desktop\Cotopaxi, Ecuador_files\cotopaxi_GPS.gif"/>
          <p:cNvPicPr/>
          <p:nvPr/>
        </p:nvPicPr>
        <p:blipFill>
          <a:blip r:embed="rId1"/>
          <a:stretch/>
        </p:blipFill>
        <p:spPr>
          <a:xfrm>
            <a:off x="838080" y="4572000"/>
            <a:ext cx="3276720" cy="1752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1829160" y="6400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topa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8" descr="C:\WINDOWS\Desktop\Mount Hood, Oregon_files\Figure_17.jpg"/>
          <p:cNvPicPr/>
          <p:nvPr/>
        </p:nvPicPr>
        <p:blipFill>
          <a:blip r:embed="rId2"/>
          <a:stretch/>
        </p:blipFill>
        <p:spPr>
          <a:xfrm>
            <a:off x="4724280" y="4572000"/>
            <a:ext cx="373392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5622840" y="632448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pectacular Volcan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C:\WINDOWS\Desktop\Crater Lake, Oregon_files\aerial.jpg"/>
          <p:cNvPicPr/>
          <p:nvPr/>
        </p:nvPicPr>
        <p:blipFill>
          <a:blip r:embed="rId1"/>
          <a:stretch/>
        </p:blipFill>
        <p:spPr>
          <a:xfrm>
            <a:off x="1828800" y="2133720"/>
            <a:ext cx="5486400" cy="3809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031560" y="59850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ter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WINDOWS\Desktop\Distant image of Mount St_ Helens, WA, USA_files\helens1.gif"/>
          <p:cNvPicPr/>
          <p:nvPr/>
        </p:nvPicPr>
        <p:blipFill>
          <a:blip r:embed="rId1"/>
          <a:stretch/>
        </p:blipFill>
        <p:spPr>
          <a:xfrm>
            <a:off x="1295280" y="533520"/>
            <a:ext cx="655344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251600" y="53751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WINDOWS\Desktop\Sangay, Ecuador_files\Sangay2.jpg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381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5776920" y="8794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26" descr="C:\WINDOWS\Desktop\More images of Kilauea_files\Pu2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tribution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52388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vergent plate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ircum-Pacific Ring of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pine-Himalayan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vergent plate boundaries: oceanic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id-Atlantic 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oints to Be Covered on Volc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s of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a properties vs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volcan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ms used in the study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nder c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gent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sur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ocl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eld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o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osite c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udent Responsibilities on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products of volcanic erup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interrelate magma/lava viscosity, stored gases, violence of an eruption, and distance of transport of the volcanic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fisssure eruptions, shield volcanoes, cinder cones, and strato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explain the global distribution of volcano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50" descr="C:\WINDOWS\Desktop\Volcanoes!_files\lightning.jpg"/>
          <p:cNvPicPr/>
          <p:nvPr/>
        </p:nvPicPr>
        <p:blipFill>
          <a:blip r:embed="rId1"/>
          <a:stretch/>
        </p:blipFill>
        <p:spPr>
          <a:xfrm>
            <a:off x="685800" y="6858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Fam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C:\WINDOWS\Desktop\Kilimanjaro, Tanzania_files\kilimanjaro.gif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C:\WINDOWS\Desktop\Fuji, Honshu, Japan_files\Fuji1.jpg"/>
          <p:cNvPicPr/>
          <p:nvPr/>
        </p:nvPicPr>
        <p:blipFill>
          <a:blip r:embed="rId2"/>
          <a:stretch/>
        </p:blipFill>
        <p:spPr>
          <a:xfrm>
            <a:off x="4724280" y="1828800"/>
            <a:ext cx="335304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WINDOWS\Desktop\Update on Current Volcanic Activity_files\st_helens_bw.gif"/>
          <p:cNvPicPr/>
          <p:nvPr/>
        </p:nvPicPr>
        <p:blipFill>
          <a:blip r:embed="rId3"/>
          <a:stretch/>
        </p:blipFill>
        <p:spPr>
          <a:xfrm>
            <a:off x="762120" y="4191120"/>
            <a:ext cx="342900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WINDOWS\Desktop\Mauna Loa Volcano, Hawai`i_files\4303062_M.jpg"/>
          <p:cNvPicPr/>
          <p:nvPr/>
        </p:nvPicPr>
        <p:blipFill>
          <a:blip r:embed="rId4"/>
          <a:stretch/>
        </p:blipFill>
        <p:spPr>
          <a:xfrm>
            <a:off x="4724280" y="4191120"/>
            <a:ext cx="3353040" cy="198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5866920" y="3657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jiy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 flipV="1">
            <a:off x="1752480" y="5635800"/>
            <a:ext cx="17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24240" y="64008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 St He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5791320" y="624852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una L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440" y="342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imanja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do we expect in a volcanic eru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va flows from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ge from mafic (e.g. basalt) to felsic, like all ign r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ids lofted into atm from others (called pyroclastics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Better than fire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be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cks may form from fusing of pyroclastics can range from dense (tuff) to light (pum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ulcan’s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ma/lava viscosity related to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viscous lavas flow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leases dissolved gases more eas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ss likely to produce a violent eru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likely to be distributed fart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assy Volcanoes –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iving us atmospher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8" descr="C:\WINDOWS\Desktop\Sangay, Ecuador_files\ElSangay.jpg"/>
          <p:cNvPicPr/>
          <p:nvPr/>
        </p:nvPicPr>
        <p:blipFill>
          <a:blip r:embed="rId1"/>
          <a:stretch/>
        </p:blipFill>
        <p:spPr>
          <a:xfrm>
            <a:off x="609480" y="14479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9" descr="C:\WINDOWS\Desktop\Paricutin, Mexico_files\paricutin.gif"/>
          <p:cNvPicPr/>
          <p:nvPr/>
        </p:nvPicPr>
        <p:blipFill>
          <a:blip r:embed="rId2"/>
          <a:stretch/>
        </p:blipFill>
        <p:spPr>
          <a:xfrm>
            <a:off x="457200" y="4114800"/>
            <a:ext cx="32734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0" descr="C:\WINDOWS\Desktop\More images of Kilauea_files\PuuOo.jpg"/>
          <p:cNvPicPr/>
          <p:nvPr/>
        </p:nvPicPr>
        <p:blipFill>
          <a:blip r:embed="rId3"/>
          <a:stretch/>
        </p:blipFill>
        <p:spPr>
          <a:xfrm>
            <a:off x="4343400" y="1523880"/>
            <a:ext cx="4267080" cy="205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1357200" y="34704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2"/>
          <p:cNvSpPr/>
          <p:nvPr/>
        </p:nvSpPr>
        <p:spPr>
          <a:xfrm>
            <a:off x="6004080" y="3546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au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3"/>
          <p:cNvSpPr/>
          <p:nvPr/>
        </p:nvSpPr>
        <p:spPr>
          <a:xfrm>
            <a:off x="198108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4"/>
          <p:cNvSpPr/>
          <p:nvPr/>
        </p:nvSpPr>
        <p:spPr>
          <a:xfrm>
            <a:off x="1735920" y="606096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ic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5" descr="C:\WINDOWS\Desktop\Stromboli Photos_files\a12s.gif"/>
          <p:cNvPicPr/>
          <p:nvPr/>
        </p:nvPicPr>
        <p:blipFill>
          <a:blip r:embed="rId4"/>
          <a:stretch/>
        </p:blipFill>
        <p:spPr>
          <a:xfrm>
            <a:off x="4419720" y="40384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37"/>
          <p:cNvSpPr/>
          <p:nvPr/>
        </p:nvSpPr>
        <p:spPr>
          <a:xfrm>
            <a:off x="5546160" y="5908680"/>
            <a:ext cx="140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mb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lcano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re on Water and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gas is overwhelmingly th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bundant volcanic g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ater vapor. Over (9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n’t that how we got our oceans,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stream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ur hydrosph, yes. And our at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xygen, nitrogen, carbon dioxide, carbon monoxide, hydrogen sulfide (stinky), hydrogen chloride (??), sulfur dioxide (bad guy?), ammo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ssure Eru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upt basaltic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viscosity, moves fast and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here are these fiss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cean floor in spreading cen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nywhere on 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, wherever rifting has occur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eck out the Colombia Plateau.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eat thicknesses of basalt l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issure eruptions at Kilau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C:\WINDOWS\Desktop\Hawaii Photos_files\eveflow.jpg"/>
          <p:cNvPicPr/>
          <p:nvPr/>
        </p:nvPicPr>
        <p:blipFill>
          <a:blip r:embed="rId1"/>
          <a:stretch/>
        </p:blipFill>
        <p:spPr>
          <a:xfrm>
            <a:off x="4952880" y="1143000"/>
            <a:ext cx="3657600" cy="19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WINDOWS\Desktop\Hawaii Photos_files\jblava-c.jpg"/>
          <p:cNvPicPr/>
          <p:nvPr/>
        </p:nvPicPr>
        <p:blipFill>
          <a:blip r:embed="rId2"/>
          <a:stretch/>
        </p:blipFill>
        <p:spPr>
          <a:xfrm>
            <a:off x="4952880" y="3352680"/>
            <a:ext cx="3581640" cy="205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WINDOWS\Desktop\Hawaii Photos_files\jblava-g.jpg"/>
          <p:cNvPicPr/>
          <p:nvPr/>
        </p:nvPicPr>
        <p:blipFill>
          <a:blip r:embed="rId3"/>
          <a:stretch/>
        </p:blipFill>
        <p:spPr>
          <a:xfrm>
            <a:off x="533520" y="121932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WINDOWS\Desktop\Hawaii Photos_files\jblava-d.jpg"/>
          <p:cNvPicPr/>
          <p:nvPr/>
        </p:nvPicPr>
        <p:blipFill>
          <a:blip r:embed="rId4"/>
          <a:stretch/>
        </p:blipFill>
        <p:spPr>
          <a:xfrm>
            <a:off x="609480" y="3429000"/>
            <a:ext cx="3962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2:15:58Z</dcterms:created>
  <dc:creator>rOBERT dEAN hALL</dc:creator>
  <dc:description/>
  <dc:language>en-US</dc:language>
  <cp:lastModifiedBy>ksu</cp:lastModifiedBy>
  <cp:lastPrinted>1999-09-12T03:19:55Z</cp:lastPrinted>
  <dcterms:modified xsi:type="dcterms:W3CDTF">2011-11-01T12:15:41Z</dcterms:modified>
  <cp:revision>14</cp:revision>
  <dc:subject/>
  <dc:title>What do we expect in a volcanic eruption?</dc:title>
</cp:coreProperties>
</file>