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0C9-D20A-4025-8D12-F5B1CF28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335-A3DE-466F-B2F7-7CF5765E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BBD-73D5-4F74-8B71-A6D671AE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867-0F49-4A1A-954F-5FB47453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7EC-CB59-4578-B39B-D197F47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B25-2C8F-454B-8110-3F7C074F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970-DD47-4744-B55E-0E67ED34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3BA-70BB-4986-9C05-EE816375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3DC-BCA6-4B49-BE50-9DB48936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356-7034-4DD9-8D21-C296733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55A-53CE-4054-A9F0-1066F30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F4A-32DD-46B2-85D9-BCF89C7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4B39-5EF7-4632-B38D-B5EF74134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lauea eru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357200" y="1981080"/>
            <a:ext cx="642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ield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up primarily from basalt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low-angle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of an inverted shiel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47920" y="640080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:\WINDOWS\Desktop\Mauna Loa Volcano, Hawai`i_files\4303062_M.jpg"/>
          <p:cNvPicPr/>
          <p:nvPr/>
        </p:nvPicPr>
        <p:blipFill>
          <a:blip r:embed="rId1"/>
          <a:stretch/>
        </p:blipFill>
        <p:spPr>
          <a:xfrm>
            <a:off x="1752480" y="3809880"/>
            <a:ext cx="6248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ntirely 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, steep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s at steepest ang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f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ze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depression at top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:\WINDOWS\Desktop\Paricutin, Mexico_files\Wilcox_48.jpg"/>
          <p:cNvPicPr/>
          <p:nvPr/>
        </p:nvPicPr>
        <p:blipFill>
          <a:blip r:embed="rId1"/>
          <a:stretch/>
        </p:blipFill>
        <p:spPr>
          <a:xfrm>
            <a:off x="609480" y="4724280"/>
            <a:ext cx="335304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WINDOWS\Desktop\Paricutin, Mexico_files\Seger_46_night.jpg"/>
          <p:cNvPicPr/>
          <p:nvPr/>
        </p:nvPicPr>
        <p:blipFill>
          <a:blip r:embed="rId2"/>
          <a:stretch/>
        </p:blipFill>
        <p:spPr>
          <a:xfrm>
            <a:off x="4572000" y="464832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098600" y="6518160"/>
            <a:ext cx="118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019320" y="1981080"/>
            <a:ext cx="31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rato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Composite Con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 buil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a flows extend later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ernating lava a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:\WINDOWS\Desktop\Cotopaxi, Ecuador_files\cotopaxi_GPS.gif"/>
          <p:cNvPicPr/>
          <p:nvPr/>
        </p:nvPicPr>
        <p:blipFill>
          <a:blip r:embed="rId1"/>
          <a:stretch/>
        </p:blipFill>
        <p:spPr>
          <a:xfrm>
            <a:off x="838080" y="4572000"/>
            <a:ext cx="3276720" cy="1752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829160" y="6400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top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C:\WINDOWS\Desktop\Mount Hood, Oregon_files\Figure_17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33920" cy="1676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5622840" y="632448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ectacular Volcan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WINDOWS\Desktop\Crater Lake, Oregon_files\aerial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86400" cy="3809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031560" y="5985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ter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WINDOWS\Desktop\Distant image of Mount St_ Helens, WA, USA_files\helens1.gif"/>
          <p:cNvPicPr/>
          <p:nvPr/>
        </p:nvPicPr>
        <p:blipFill>
          <a:blip r:embed="rId1"/>
          <a:stretch/>
        </p:blipFill>
        <p:spPr>
          <a:xfrm>
            <a:off x="1295280" y="533520"/>
            <a:ext cx="655344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251600" y="5375160"/>
            <a:ext cx="17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WINDOWS\Desktop\Sangay, Ecuador_files\Sangay2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381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5776920" y="8794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6" descr="C:\WINDOWS\Desktop\More images of Kilauea_files\Pu2.jpg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tribution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238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gent plate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ircum-Pacific Ring of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ine-Himalayan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rgent plate boundaries: oceanic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id-Atlantic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ints to Be Covered on Volc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of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 properties vs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ms used in the study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nder c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sur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ocla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eld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o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osite c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-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 Responsibilities on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products of volcanic erup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interrelate magma/lava viscosity, stored gases, violence of an eruption, and distance of transport of the volcanic produ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fisssure eruptions, shield volcanoes, cinder cones, and strato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explain the global distribution of 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050" descr="C:\WINDOWS\Desktop\Volcanoes!_files\lightning.jpg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Fam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WINDOWS\Desktop\Kilimanjaro, Tanzania_files\kilimanjaro.gif"/>
          <p:cNvPicPr/>
          <p:nvPr/>
        </p:nvPicPr>
        <p:blipFill>
          <a:blip r:embed="rId1"/>
          <a:stretch/>
        </p:blipFill>
        <p:spPr>
          <a:xfrm>
            <a:off x="685800" y="1676520"/>
            <a:ext cx="350532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WINDOWS\Desktop\Fuji, Honshu, Japan_files\Fuji1.jpg"/>
          <p:cNvPicPr/>
          <p:nvPr/>
        </p:nvPicPr>
        <p:blipFill>
          <a:blip r:embed="rId2"/>
          <a:stretch/>
        </p:blipFill>
        <p:spPr>
          <a:xfrm>
            <a:off x="4724280" y="1828800"/>
            <a:ext cx="33530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WINDOWS\Desktop\Update on Current Volcanic Activity_files\st_helens_bw.gif"/>
          <p:cNvPicPr/>
          <p:nvPr/>
        </p:nvPicPr>
        <p:blipFill>
          <a:blip r:embed="rId3"/>
          <a:stretch/>
        </p:blipFill>
        <p:spPr>
          <a:xfrm>
            <a:off x="762120" y="41911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WINDOWS\Desktop\Mauna Loa Volcano, Hawai`i_files\4303062_M.jpg"/>
          <p:cNvPicPr/>
          <p:nvPr/>
        </p:nvPicPr>
        <p:blipFill>
          <a:blip r:embed="rId4"/>
          <a:stretch/>
        </p:blipFill>
        <p:spPr>
          <a:xfrm>
            <a:off x="4724280" y="4191120"/>
            <a:ext cx="335304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5866920" y="3657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ji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 flipV="1">
            <a:off x="1752480" y="5635800"/>
            <a:ext cx="17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24240" y="64008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5791320" y="624852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440" y="342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imanj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we expect in a volcanic erup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va flows from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ge from mafic (e.g. basalt) to felsic, like all ign 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ids lofted into atm from others (called pyroclastics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Better than fire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be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ks may form from fusing of pyroclastics can range from dense (tuff) to light (pum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ulcan’s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ma/lava viscosity related to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viscous lavas flow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releases dissolved gases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likely to produce a violent eru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likely to be distributed far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assy Volcanoes –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iving us atmosphe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8" descr="C:\WINDOWS\Desktop\Sangay, Ecuador_files\ElSangay.jpg"/>
          <p:cNvPicPr/>
          <p:nvPr/>
        </p:nvPicPr>
        <p:blipFill>
          <a:blip r:embed="rId1"/>
          <a:stretch/>
        </p:blipFill>
        <p:spPr>
          <a:xfrm>
            <a:off x="609480" y="14479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9" descr="C:\WINDOWS\Desktop\Paricutin, Mexico_files\paricutin.gif"/>
          <p:cNvPicPr/>
          <p:nvPr/>
        </p:nvPicPr>
        <p:blipFill>
          <a:blip r:embed="rId2"/>
          <a:stretch/>
        </p:blipFill>
        <p:spPr>
          <a:xfrm>
            <a:off x="457200" y="4114800"/>
            <a:ext cx="32734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0" descr="C:\WINDOWS\Desktop\More images of Kilauea_files\PuuOo.jpg"/>
          <p:cNvPicPr/>
          <p:nvPr/>
        </p:nvPicPr>
        <p:blipFill>
          <a:blip r:embed="rId3"/>
          <a:stretch/>
        </p:blipFill>
        <p:spPr>
          <a:xfrm>
            <a:off x="4343400" y="15238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31"/>
          <p:cNvSpPr/>
          <p:nvPr/>
        </p:nvSpPr>
        <p:spPr>
          <a:xfrm>
            <a:off x="1357200" y="3470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2"/>
          <p:cNvSpPr/>
          <p:nvPr/>
        </p:nvSpPr>
        <p:spPr>
          <a:xfrm>
            <a:off x="6004080" y="3546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au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3"/>
          <p:cNvSpPr/>
          <p:nvPr/>
        </p:nvSpPr>
        <p:spPr>
          <a:xfrm>
            <a:off x="19810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4"/>
          <p:cNvSpPr/>
          <p:nvPr/>
        </p:nvSpPr>
        <p:spPr>
          <a:xfrm>
            <a:off x="1735920" y="606096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5" descr="C:\WINDOWS\Desktop\Stromboli Photos_files\a12s.gif"/>
          <p:cNvPicPr/>
          <p:nvPr/>
        </p:nvPicPr>
        <p:blipFill>
          <a:blip r:embed="rId4"/>
          <a:stretch/>
        </p:blipFill>
        <p:spPr>
          <a:xfrm>
            <a:off x="4419720" y="40384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37"/>
          <p:cNvSpPr/>
          <p:nvPr/>
        </p:nvSpPr>
        <p:spPr>
          <a:xfrm>
            <a:off x="5546160" y="5908680"/>
            <a:ext cx="140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mb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on Water and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gas is overwhelmingly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bundant volcanic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ater vapor. Over (9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n’t that how we got our oceans,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ream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ur hydrosph, yes. And our a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xygen, nitrogen, carbon dioxide, carbon monoxide, hydrogen sulfide (stinky), hydrogen chloride (??), sulfur dioxide (bad guy?), am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upt basaltic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scosity, moves fast and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here are these fiss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cean floor in spreading ce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nywhere on 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wherever rifting has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 out the Colombia Plateau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eat thicknesses of basalt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sure eruptions at Kila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:\WINDOWS\Desktop\Hawaii Photos_files\eveflow.jpg"/>
          <p:cNvPicPr/>
          <p:nvPr/>
        </p:nvPicPr>
        <p:blipFill>
          <a:blip r:embed="rId1"/>
          <a:stretch/>
        </p:blipFill>
        <p:spPr>
          <a:xfrm>
            <a:off x="4952880" y="1143000"/>
            <a:ext cx="365760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WINDOWS\Desktop\Hawaii Photos_files\jblava-c.jpg"/>
          <p:cNvPicPr/>
          <p:nvPr/>
        </p:nvPicPr>
        <p:blipFill>
          <a:blip r:embed="rId2"/>
          <a:stretch/>
        </p:blipFill>
        <p:spPr>
          <a:xfrm>
            <a:off x="4952880" y="3352680"/>
            <a:ext cx="358164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WINDOWS\Desktop\Hawaii Photos_files\jblava-g.jpg"/>
          <p:cNvPicPr/>
          <p:nvPr/>
        </p:nvPicPr>
        <p:blipFill>
          <a:blip r:embed="rId3"/>
          <a:stretch/>
        </p:blipFill>
        <p:spPr>
          <a:xfrm>
            <a:off x="533520" y="121932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WINDOWS\Desktop\Hawaii Photos_files\jblava-d.jpg"/>
          <p:cNvPicPr/>
          <p:nvPr/>
        </p:nvPicPr>
        <p:blipFill>
          <a:blip r:embed="rId4"/>
          <a:stretch/>
        </p:blipFill>
        <p:spPr>
          <a:xfrm>
            <a:off x="609480" y="3429000"/>
            <a:ext cx="3962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2:15:58Z</dcterms:created>
  <dc:creator>rOBERT dEAN hALL</dc:creator>
  <dc:description/>
  <dc:language>en-US</dc:language>
  <cp:lastModifiedBy>ksu</cp:lastModifiedBy>
  <cp:lastPrinted>1999-09-12T03:19:55Z</cp:lastPrinted>
  <dcterms:modified xsi:type="dcterms:W3CDTF">2011-11-01T12:15:41Z</dcterms:modified>
  <cp:revision>14</cp:revision>
  <dc:subject/>
  <dc:title>What do we expect in a volcanic eruption?</dc:title>
</cp:coreProperties>
</file>