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B907-D97F-4276-8478-5F6A31D5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3050-7A87-4360-82D9-563FB9C5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C899-7696-42C7-8F95-385A9072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7EEA-5BAD-40CA-91D9-B6902B85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9A72-68B4-4A18-A60B-283203D8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034C-B1DE-443D-8CE4-2FD1B5F0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C4C0-88F7-4072-96B2-C27A37CD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4A35-D620-4A38-B055-74126484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F247-123A-46C2-8A8F-846382FC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9888-741E-45EA-9744-8AD80AF1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1267-36FD-4ECC-B196-5C1B009E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653A-7E9A-43E3-BDC0-DFFEB50C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02C3-0261-4436-B2F0-A8514732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70FB-9762-4773-A9C3-138C7192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B8FC-FE1C-4BE9-88CF-8A801E64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C930-1D73-42E8-AF5E-D8F16EAE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8DD1-AAEE-4186-9F6F-BF1363B1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E888-6D02-4E1A-8CF2-7078BBD6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70D5-D203-4B1B-BB51-C91C02AC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C480-3649-4DC0-949C-648308AE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F0EE-C71E-427A-B89E-7E6F1738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E725-E72E-4C6A-B78D-0739156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6052-D785-43D0-B304-F0AE6712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1567-A916-456F-91EB-D49B8402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6E8E-FB47-4F5D-B5D7-03725CF7C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EE1D-BC1B-4CF2-8D63-F76342BF6E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Volcano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52388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can- Roman God of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7" descr="heph2.jpg (22112 bytes)"/>
          <p:cNvPicPr/>
          <p:nvPr/>
        </p:nvPicPr>
        <p:blipFill>
          <a:blip r:embed="rId1"/>
          <a:stretch/>
        </p:blipFill>
        <p:spPr>
          <a:xfrm>
            <a:off x="3351240" y="2209680"/>
            <a:ext cx="2771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a volcano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o- Areas of earth’s surface through which magma and volcanic gases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o comes from the Roman word Vulcan, which means “fi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’s inside a volcano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ma Chamber- molten rock that feeds a volc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s- cracks in the c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ifference between magma and lav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volcano-diagram"/>
          <p:cNvPicPr/>
          <p:nvPr/>
        </p:nvPicPr>
        <p:blipFill>
          <a:blip r:embed="rId5"/>
          <a:stretch/>
        </p:blipFill>
        <p:spPr>
          <a:xfrm>
            <a:off x="3505320" y="1295280"/>
            <a:ext cx="5295960" cy="5295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hield Volc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layers of l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xplosive eru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very steep, but can be b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Mauna%20Kea%20Morning%20Reflections"/>
          <p:cNvPicPr/>
          <p:nvPr/>
        </p:nvPicPr>
        <p:blipFill>
          <a:blip r:embed="rId2"/>
          <a:stretch/>
        </p:blipFill>
        <p:spPr>
          <a:xfrm>
            <a:off x="4343400" y="1905120"/>
            <a:ext cx="44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inder Cone Volc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pyroclastic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ly explosive, short eru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in size, steep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dds24-436_large"/>
          <p:cNvPicPr/>
          <p:nvPr/>
        </p:nvPicPr>
        <p:blipFill>
          <a:blip r:embed="rId2"/>
          <a:stretch/>
        </p:blipFill>
        <p:spPr>
          <a:xfrm>
            <a:off x="4343400" y="2363760"/>
            <a:ext cx="43434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omposite Volcan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 eruptions and lava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pyroclastic material AND l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5" descr="mount%20st%20helens%20blow"/>
          <p:cNvPicPr/>
          <p:nvPr/>
        </p:nvPicPr>
        <p:blipFill>
          <a:blip r:embed="rId3"/>
          <a:stretch/>
        </p:blipFill>
        <p:spPr>
          <a:xfrm>
            <a:off x="4419720" y="25146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23:33:39Z</dcterms:created>
  <dc:creator>Dell</dc:creator>
  <dc:description/>
  <dc:language>en-US</dc:language>
  <cp:lastModifiedBy>ksu</cp:lastModifiedBy>
  <dcterms:modified xsi:type="dcterms:W3CDTF">2011-11-01T12:01:47Z</dcterms:modified>
  <cp:revision>3</cp:revision>
  <dc:subject/>
  <dc:title>Volcanoes</dc:title>
</cp:coreProperties>
</file>