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5264D-AA03-4144-80DB-B175589A7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0F1EE-0C6E-4C9B-9D42-12696A92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CB692-4E08-4DC3-ACDE-9D46AE3D6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7ACC9-D922-4F1A-B66E-B4D93CA36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6383-6BA4-448A-8BD5-D17F5EEE4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BDFD-7B20-40C8-835A-0D1B3EC4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C22A-1C05-4FAF-A0E2-761EB0DF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A586-AEB0-4899-88B0-EC9A1A46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C40A-338F-4974-991D-3F879C90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FC299-B7C9-4531-B6FD-FAB47B52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FA7C-0821-4038-9CDB-5DE8B2F6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E430B-E467-4241-8FAE-52328C59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20A6-31C8-425B-BC10-BE23B157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5F68-AD57-4B4A-B2D7-CD9DE85B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A160E-3223-4790-A9A1-CDBD2BCE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80E2-AD90-4E81-AA05-9A4BCAB00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DA7E-FEBC-4071-A977-D2F2D6E0E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78A8D-05A9-4B1A-8654-4644BE52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46BD9-D4E4-4A87-997D-15CE66BC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D7C5F-B41B-427E-AE90-9CFDEBA3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5FE7B-E51D-4364-93E7-A4AE9947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6A4F4-4AEF-4A50-91E3-AD02DC6D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09EDD-D687-4146-8F53-36097E76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F234F-667C-46DF-A0CF-37277B7E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513C-B409-42BD-A539-9D6C386C7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70C0-BB4B-457F-AB62-05116FBADE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Volcanoe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523880" y="5334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ulcan- Roman God of F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Picture 7" descr="heph2.jpg (22112 bytes)"/>
          <p:cNvPicPr/>
          <p:nvPr/>
        </p:nvPicPr>
        <p:blipFill>
          <a:blip r:embed="rId1"/>
          <a:stretch/>
        </p:blipFill>
        <p:spPr>
          <a:xfrm>
            <a:off x="3351240" y="2209680"/>
            <a:ext cx="27716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hat is a volcano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cano- Areas of earth’s surface through which magma and volcanic gases p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cano comes from the Roman word Vulcan, which means “fir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hat’s inside a volcano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195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ma Chamber- molten rock that feeds a volca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s- cracks in the cru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difference between magma and lav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Picture 5" descr="volcano-diagram"/>
          <p:cNvPicPr/>
          <p:nvPr/>
        </p:nvPicPr>
        <p:blipFill>
          <a:blip r:embed="rId5"/>
          <a:stretch/>
        </p:blipFill>
        <p:spPr>
          <a:xfrm>
            <a:off x="3505320" y="1295280"/>
            <a:ext cx="5295960" cy="5295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ypes of Volcano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Shield Volca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99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t from layers of l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99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explosive eru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99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very steep, but can be bi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Picture 5" descr="Mauna%20Kea%20Morning%20Reflections"/>
          <p:cNvPicPr/>
          <p:nvPr/>
        </p:nvPicPr>
        <p:blipFill>
          <a:blip r:embed="rId2"/>
          <a:stretch/>
        </p:blipFill>
        <p:spPr>
          <a:xfrm>
            <a:off x="4343400" y="1905120"/>
            <a:ext cx="449568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ypes of Volcano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Cinder Cone Volca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99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t from pyroclastic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99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ately explosive, short eru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99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 in size, steep slo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Picture 5" descr="dds24-436_large"/>
          <p:cNvPicPr/>
          <p:nvPr/>
        </p:nvPicPr>
        <p:blipFill>
          <a:blip r:embed="rId2"/>
          <a:stretch/>
        </p:blipFill>
        <p:spPr>
          <a:xfrm>
            <a:off x="4343400" y="2363760"/>
            <a:ext cx="434340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ypes of Volcano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Composite Volcano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99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ommon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99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osive eruptions and lava f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99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t from pyroclastic material AND l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Picture 5" descr="mount%20st%20helens%20blow"/>
          <p:cNvPicPr/>
          <p:nvPr/>
        </p:nvPicPr>
        <p:blipFill>
          <a:blip r:embed="rId3"/>
          <a:stretch/>
        </p:blipFill>
        <p:spPr>
          <a:xfrm>
            <a:off x="4419720" y="251460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5T23:33:39Z</dcterms:created>
  <dc:creator>Dell</dc:creator>
  <dc:description/>
  <dc:language>en-US</dc:language>
  <cp:lastModifiedBy>ksu</cp:lastModifiedBy>
  <dcterms:modified xsi:type="dcterms:W3CDTF">2011-11-01T12:01:47Z</dcterms:modified>
  <cp:revision>3</cp:revision>
  <dc:subject/>
  <dc:title>Volcanoes</dc:title>
</cp:coreProperties>
</file>