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5A23-82CA-44A4-89B6-9116293D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35C5-BACC-4688-B6E9-ED3CE80D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62D8-4B48-4265-8FD3-21D3AFE7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AD40-7B9D-4FF4-9E1B-3E3E19F7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2B19-C1DD-469D-A9D1-6E51512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8604-994F-40ED-8911-9BB1C8B0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652B-D456-4138-8DB2-70B93E13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22B7-1BAC-4876-B961-BE6BDDBF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DF53-DA5C-435D-B0A0-20460E9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E57-0CCD-41E0-936C-52916B2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51D-28C0-46BD-9D9B-2D05AB1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2F46-B657-4C97-B8ED-FC12691E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189-BE16-4506-8F03-848AB22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344-37BD-479F-B5F2-DB59780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F24-64FF-4F82-80DD-C1C2BF3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DBCC-D375-482B-84BC-329C319A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D3CA-D7D9-4345-A0FB-5C6C11F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CB97-3024-4B38-936E-E821BFE3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4C15-79A1-4900-9E9C-D0FA3F14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CD3E-6D46-483C-905F-3CB33A9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BC4-181C-40A7-B535-013F104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802B-08B7-4FD7-B9CA-C9C60044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C24F-C8E6-427E-9122-BDA462F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2268-BFE5-48C1-8299-284B97C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A86D-FC93-4D18-8E22-C3CF38DF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D8E-7E94-48F7-ADC6-94FCBF79B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lcano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can- Roman God of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heph2.jpg (22112 bytes)"/>
          <p:cNvPicPr/>
          <p:nvPr/>
        </p:nvPicPr>
        <p:blipFill>
          <a:blip r:embed="rId1"/>
          <a:stretch/>
        </p:blipFill>
        <p:spPr>
          <a:xfrm>
            <a:off x="3351240" y="2209680"/>
            <a:ext cx="2771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- Areas of earth’s surface through which magma and volcanic gases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 comes from the Roman word Vulcan, which means “f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inside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ma Chamber- molten rock that feeds a vol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s- cracks in the 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magma and lav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volcano-diagram"/>
          <p:cNvPicPr/>
          <p:nvPr/>
        </p:nvPicPr>
        <p:blipFill>
          <a:blip r:embed="rId5"/>
          <a:stretch/>
        </p:blipFill>
        <p:spPr>
          <a:xfrm>
            <a:off x="3505320" y="129528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hield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layers of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xplosive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very steep, but can be b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Mauna%20Kea%20Morning%20Reflections"/>
          <p:cNvPicPr/>
          <p:nvPr/>
        </p:nvPicPr>
        <p:blipFill>
          <a:blip r:embed="rId2"/>
          <a:stretch/>
        </p:blipFill>
        <p:spPr>
          <a:xfrm>
            <a:off x="4343400" y="190512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inder Cone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ly explosive, short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in size, steep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dds24-436_large"/>
          <p:cNvPicPr/>
          <p:nvPr/>
        </p:nvPicPr>
        <p:blipFill>
          <a:blip r:embed="rId2"/>
          <a:stretch/>
        </p:blipFill>
        <p:spPr>
          <a:xfrm>
            <a:off x="4343400" y="236376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omposite Volcan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eruptions and 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 AND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ount%20st%20helens%20blow"/>
          <p:cNvPicPr/>
          <p:nvPr/>
        </p:nvPicPr>
        <p:blipFill>
          <a:blip r:embed="rId3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3:33:39Z</dcterms:created>
  <dc:creator>Dell</dc:creator>
  <dc:description/>
  <dc:language>en-US</dc:language>
  <cp:lastModifiedBy>ksu</cp:lastModifiedBy>
  <dcterms:modified xsi:type="dcterms:W3CDTF">2011-11-01T12:01:47Z</dcterms:modified>
  <cp:revision>3</cp:revision>
  <dc:subject/>
  <dc:title>Volcanoes</dc:title>
</cp:coreProperties>
</file>