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E572-EFBF-4F39-9944-58641DBA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7FA9-1B2B-4E2E-8CCB-9056609D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8E43-CDC0-44CD-B917-D305841C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E0CA-3BE3-47FF-BABE-B7577ECC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A8BF-549D-4968-8D7E-3310301F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E670-AAA4-4B50-9604-43C49E8C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31DF-91E9-434C-8D59-77D0E9B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F68D-2B44-4A5A-B97A-C370A708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E268-B50B-4B98-925E-A734C7B8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4B4B-E5B4-41CB-9818-A43E554D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8DC1-BF6A-49A3-927D-5EC85711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8993-306B-4949-8DD9-EF1E1306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3992-F500-4A98-A5B0-0CB73788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5897-CA32-4F11-912F-97BE885B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43C6-5149-4699-A99D-190AC63D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158B-5517-405D-B5FE-517E3A60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983B-6B5E-4F47-8D68-2A24EB4A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9627-81A9-4BEC-9CA4-64F993CA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D192-2B9E-4BD5-95DD-2EBAD38D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9E5B-D614-432C-8923-DBB8710C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563C-15F7-4605-ABDB-02769FA8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90D9-6E23-4C2C-A6AA-9692E891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F309-F34F-4CA8-B987-171ECE7B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3944-2591-4B41-890A-D54148E1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13D2-0FAA-43D3-80FF-FC77DB62C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611F-3126-435E-8A5E-A96BDE7387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Volcano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523880" y="5334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can- Roman God of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7" descr="heph2.jpg (22112 bytes)"/>
          <p:cNvPicPr/>
          <p:nvPr/>
        </p:nvPicPr>
        <p:blipFill>
          <a:blip r:embed="rId1"/>
          <a:stretch/>
        </p:blipFill>
        <p:spPr>
          <a:xfrm>
            <a:off x="3351240" y="2209680"/>
            <a:ext cx="2771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is a volcano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o- Areas of earth’s surface through which magma and volcanic gases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o comes from the Roman word Vulcan, which means “fi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’s inside a volcano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ma Chamber- molten rock that feeds a volc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s- cracks in the cr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ifference between magma and lav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volcano-diagram"/>
          <p:cNvPicPr/>
          <p:nvPr/>
        </p:nvPicPr>
        <p:blipFill>
          <a:blip r:embed="rId5"/>
          <a:stretch/>
        </p:blipFill>
        <p:spPr>
          <a:xfrm>
            <a:off x="3505320" y="1295280"/>
            <a:ext cx="5295960" cy="5295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hield Volc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layers of l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xplosive eru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very steep, but can be b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Mauna%20Kea%20Morning%20Reflections"/>
          <p:cNvPicPr/>
          <p:nvPr/>
        </p:nvPicPr>
        <p:blipFill>
          <a:blip r:embed="rId2"/>
          <a:stretch/>
        </p:blipFill>
        <p:spPr>
          <a:xfrm>
            <a:off x="4343400" y="1905120"/>
            <a:ext cx="44956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inder Cone Volc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pyroclastic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ly explosive, short eru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in size, steep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dds24-436_large"/>
          <p:cNvPicPr/>
          <p:nvPr/>
        </p:nvPicPr>
        <p:blipFill>
          <a:blip r:embed="rId2"/>
          <a:stretch/>
        </p:blipFill>
        <p:spPr>
          <a:xfrm>
            <a:off x="4343400" y="2363760"/>
            <a:ext cx="43434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Volcano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omposite Volcan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 eruptions and lava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from pyroclastic material AND l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5" descr="mount%20st%20helens%20blow"/>
          <p:cNvPicPr/>
          <p:nvPr/>
        </p:nvPicPr>
        <p:blipFill>
          <a:blip r:embed="rId3"/>
          <a:stretch/>
        </p:blipFill>
        <p:spPr>
          <a:xfrm>
            <a:off x="4419720" y="25146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23:33:39Z</dcterms:created>
  <dc:creator>Dell</dc:creator>
  <dc:description/>
  <dc:language>en-US</dc:language>
  <cp:lastModifiedBy>ksu</cp:lastModifiedBy>
  <dcterms:modified xsi:type="dcterms:W3CDTF">2011-11-01T12:01:47Z</dcterms:modified>
  <cp:revision>3</cp:revision>
  <dc:subject/>
  <dc:title>Volcanoes</dc:title>
</cp:coreProperties>
</file>