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6AC-38F2-4E81-8E55-4A7682DF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38B-FAA9-4A9D-9536-0611152A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5D4-B823-41EC-B22D-0CEC1AC3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6E2-FF42-4AF8-92D1-80216793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EF2-1870-4B46-8DD9-3FE8477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A52-1888-4510-8B47-FABEE61B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9DE-C037-4EFB-94E3-0FFD890B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812-3B52-4FCB-85FA-975B3EC7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2D8-D7B7-4B65-839C-3D6BCF8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698-6E3E-45E4-B40E-708403BF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E3F-F028-4CDE-801B-9505C31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AE2-CFED-45C0-8C17-7E4BB04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2E9A-3062-4B06-9E66-E16D696BDD61}" type="slidenum">
              <a:rPr b="0" lang="en-US" sz="1400" spc="-1" strike="noStrike">
                <a:solidFill>
                  <a:srgbClr val="00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4" descr="mds3F"/>
          <p:cNvPicPr/>
          <p:nvPr/>
        </p:nvPicPr>
        <p:blipFill>
          <a:blip r:embed="rId1"/>
          <a:stretch/>
        </p:blipFill>
        <p:spPr>
          <a:xfrm>
            <a:off x="22860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438280" y="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THE ROCK CYCL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o Distribu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63" name="Object 7" descr="mds46"/>
          <p:cNvPicPr/>
          <p:nvPr/>
        </p:nvPicPr>
        <p:blipFill>
          <a:blip r:embed="rId1"/>
          <a:stretch/>
        </p:blipFill>
        <p:spPr>
          <a:xfrm>
            <a:off x="533520" y="1828800"/>
            <a:ext cx="80787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ree types of material expelled from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 (“the liquid”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68" name="Object 4" descr="mds47"/>
          <p:cNvPicPr/>
          <p:nvPr/>
        </p:nvPicPr>
        <p:blipFill>
          <a:blip r:embed="rId1"/>
          <a:stretch/>
        </p:blipFill>
        <p:spPr>
          <a:xfrm>
            <a:off x="3962520" y="1676520"/>
            <a:ext cx="51814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Si affects viscosit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1" name="Object 4" descr="mds48"/>
          <p:cNvPicPr/>
          <p:nvPr/>
        </p:nvPicPr>
        <p:blipFill>
          <a:blip r:embed="rId1"/>
          <a:stretch/>
        </p:blipFill>
        <p:spPr>
          <a:xfrm>
            <a:off x="4648320" y="2598840"/>
            <a:ext cx="3809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) Pahoehoe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4" name="Object 5" descr="mds49"/>
          <p:cNvPicPr/>
          <p:nvPr/>
        </p:nvPicPr>
        <p:blipFill>
          <a:blip r:embed="rId1"/>
          <a:stretch/>
        </p:blipFill>
        <p:spPr>
          <a:xfrm>
            <a:off x="4114800" y="1447920"/>
            <a:ext cx="4616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) Pahoehoe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ols moderately slowly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Ropelike appearanc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7" name="Object 4" descr="mds4A"/>
          <p:cNvPicPr/>
          <p:nvPr/>
        </p:nvPicPr>
        <p:blipFill>
          <a:blip r:embed="rId1"/>
          <a:stretch/>
        </p:blipFill>
        <p:spPr>
          <a:xfrm>
            <a:off x="4114800" y="1447920"/>
            <a:ext cx="4616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Aa lava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(pronounced aa-aa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igher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olidifies while flowing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Angular piec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0" name="Object 5" descr="mds4B"/>
          <p:cNvPicPr/>
          <p:nvPr/>
        </p:nvPicPr>
        <p:blipFill>
          <a:blip r:embed="rId1"/>
          <a:stretch/>
        </p:blipFill>
        <p:spPr>
          <a:xfrm>
            <a:off x="3886200" y="1523880"/>
            <a:ext cx="52578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 Pillow lav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extruded underwate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ols and contract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pherical mass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Ocean floo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3" name="Object 4" descr="mds4C"/>
          <p:cNvPicPr/>
          <p:nvPr/>
        </p:nvPicPr>
        <p:blipFill>
          <a:blip r:embed="rId1"/>
          <a:stretch/>
        </p:blipFill>
        <p:spPr>
          <a:xfrm>
            <a:off x="4038480" y="2895480"/>
            <a:ext cx="51055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. Lava (“the liquid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. Ash and pyroclastic material (“the solid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irborne material ejected by a volcano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lassified based on size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* Volcanic as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Fine ash - &lt;0.06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arse ash – 0.06mm to 2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mposition = rock, mineral, and volcanic glas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8" name="Object 4" descr="mds4D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SM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44" name="Picture 4" descr="mds42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200"/>
            </a:b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* Cinde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 mm and 64 mm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mposition - same as ash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azardous when falling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200"/>
            </a:b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) Bomb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rger than 64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 solidifies in the ai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apes var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93" name="Object 4" descr="mds4E"/>
          <p:cNvPicPr/>
          <p:nvPr/>
        </p:nvPicPr>
        <p:blipFill>
          <a:blip r:embed="rId1"/>
          <a:stretch/>
        </p:blipFill>
        <p:spPr>
          <a:xfrm>
            <a:off x="4191120" y="3429000"/>
            <a:ext cx="4952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. Volcanic gases (“the gases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atil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 – Hydrogen sulfid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O – Water vapo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– Sulfid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– Carbon dioxid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– Nitroge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Cl –  Hydrochloric Aci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ignificance?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) Determines violence of an eruptio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igh gas = violen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iolent eruptions = felsic magma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igh viscosity magma traps ga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pansion is prevented, pressure build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) Effects on global climat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– Greenhouse g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– Blocks sunligh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azards to huma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louds of C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get release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s across the ground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02" name="Object 4" descr="mds4F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n erupting volcano will produce a number of distinct landforms including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Volcanic con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B.  Flood basalt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.  Calder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br>
              <a:rPr sz="4400"/>
            </a:b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ree types of volcanic cones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hield volcano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ultiple layers of 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allow sides due to magma’s 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Gentle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0" name="Object 4" descr="mds50"/>
          <p:cNvPicPr/>
          <p:nvPr/>
        </p:nvPicPr>
        <p:blipFill>
          <a:blip r:embed="rId1"/>
          <a:stretch/>
        </p:blipFill>
        <p:spPr>
          <a:xfrm>
            <a:off x="4191120" y="4038480"/>
            <a:ext cx="4572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rom: Roman god of fire, 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Vulca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1) Shield volcano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all volcanoes –3 or 4 miles tall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Wide base – Diameter of ten of mil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3" name="Object 5" descr="mds51"/>
          <p:cNvPicPr/>
          <p:nvPr/>
        </p:nvPicPr>
        <p:blipFill>
          <a:blip r:embed="rId1"/>
          <a:stretch/>
        </p:blipFill>
        <p:spPr>
          <a:xfrm>
            <a:off x="3581280" y="990720"/>
            <a:ext cx="55627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auna Loa volcano, Hawaii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6" name="Object 4" descr="mds52"/>
          <p:cNvPicPr/>
          <p:nvPr/>
        </p:nvPicPr>
        <p:blipFill>
          <a:blip r:embed="rId1"/>
          <a:stretch/>
        </p:blipFill>
        <p:spPr>
          <a:xfrm>
            <a:off x="4114800" y="1752480"/>
            <a:ext cx="50292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inder cones –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mallest volcanic co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yered ash and cind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: El Paricut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) Cinder con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ort, narrow cone,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eep sid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1" name="Object 4" descr="mds53"/>
          <p:cNvPicPr/>
          <p:nvPr/>
        </p:nvPicPr>
        <p:blipFill>
          <a:blip r:embed="rId1"/>
          <a:stretch/>
        </p:blipFill>
        <p:spPr>
          <a:xfrm>
            <a:off x="3352680" y="914400"/>
            <a:ext cx="57913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ssen National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onument, C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4" name="Object 6" descr="mds54"/>
          <p:cNvPicPr/>
          <p:nvPr/>
        </p:nvPicPr>
        <p:blipFill>
          <a:blip r:embed="rId1"/>
          <a:stretch/>
        </p:blipFill>
        <p:spPr>
          <a:xfrm>
            <a:off x="228600" y="3048120"/>
            <a:ext cx="4646520" cy="348588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7" descr="mds55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mposite or stratovolcanoes –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yered ash, lava, and mu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Intermediate to fels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eep sides, due to lava’s high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8" name="Object 4" descr="mds56"/>
          <p:cNvPicPr/>
          <p:nvPr/>
        </p:nvPicPr>
        <p:blipFill>
          <a:blip r:embed="rId1"/>
          <a:stretch/>
        </p:blipFill>
        <p:spPr>
          <a:xfrm>
            <a:off x="4648320" y="2967120"/>
            <a:ext cx="3809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 Composite or stratovolcanoes –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all volcanoes – 1 to 2 miles high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1" name="Object 6" descr="mds57"/>
          <p:cNvPicPr/>
          <p:nvPr/>
        </p:nvPicPr>
        <p:blipFill>
          <a:blip r:embed="rId1"/>
          <a:stretch/>
        </p:blipFill>
        <p:spPr>
          <a:xfrm>
            <a:off x="3657600" y="990720"/>
            <a:ext cx="548640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t. St. Helens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W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4" name="Object 7" descr="mds58"/>
          <p:cNvPicPr/>
          <p:nvPr/>
        </p:nvPicPr>
        <p:blipFill>
          <a:blip r:embed="rId1"/>
          <a:stretch/>
        </p:blipFill>
        <p:spPr>
          <a:xfrm>
            <a:off x="609480" y="3124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9" descr="mds59"/>
          <p:cNvPicPr/>
          <p:nvPr/>
        </p:nvPicPr>
        <p:blipFill>
          <a:blip r:embed="rId2"/>
          <a:stretch/>
        </p:blipFill>
        <p:spPr>
          <a:xfrm>
            <a:off x="4572000" y="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 </a:t>
            </a:r>
            <a:br>
              <a:rPr sz="4400"/>
            </a:b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B) Flood basalts</a:t>
            </a:r>
            <a:br>
              <a:rPr sz="3200"/>
            </a:b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rge outpourings of basaltic lava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ultiple, quie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va plateau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8" name="Object 5" descr="mds5A"/>
          <p:cNvPicPr/>
          <p:nvPr/>
        </p:nvPicPr>
        <p:blipFill>
          <a:blip r:embed="rId1"/>
          <a:stretch/>
        </p:blipFill>
        <p:spPr>
          <a:xfrm>
            <a:off x="411480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) Flood basalts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 portion of the Columbia Flood Basalts in W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1" name="Object 4" descr="mds5B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rom: Roman god of fire, 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Vulca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What is a volcano?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A conical mountain formed around a vent where lava, pyroclastic materials, and gases are erupted.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C) Caldera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rge depressions (&gt; 1km) from 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Ugashik Caldera, A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4" name="Object 5" descr="mds5C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1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rapidly empties its magma chamber, and support is los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7" name="Object 4" descr="mds5D"/>
          <p:cNvPicPr/>
          <p:nvPr/>
        </p:nvPicPr>
        <p:blipFill>
          <a:blip r:embed="rId1"/>
          <a:stretch/>
        </p:blipFill>
        <p:spPr>
          <a:xfrm>
            <a:off x="5038560" y="1981080"/>
            <a:ext cx="302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1 (cont.)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Overlying material collapses into magma chamber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aldera form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0" name="Object 4" descr="mds5E"/>
          <p:cNvPicPr/>
          <p:nvPr/>
        </p:nvPicPr>
        <p:blipFill>
          <a:blip r:embed="rId1"/>
          <a:stretch/>
        </p:blipFill>
        <p:spPr>
          <a:xfrm>
            <a:off x="4957920" y="1981080"/>
            <a:ext cx="319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: Crater Lake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3" name="Object 4" descr="mds5F"/>
          <p:cNvPicPr/>
          <p:nvPr/>
        </p:nvPicPr>
        <p:blipFill>
          <a:blip r:embed="rId1"/>
          <a:stretch/>
        </p:blipFill>
        <p:spPr>
          <a:xfrm>
            <a:off x="4957920" y="1981080"/>
            <a:ext cx="319068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5" descr="mds60"/>
          <p:cNvPicPr/>
          <p:nvPr/>
        </p:nvPicPr>
        <p:blipFill>
          <a:blip r:embed="rId2"/>
          <a:stretch/>
        </p:blipFill>
        <p:spPr>
          <a:xfrm>
            <a:off x="380880" y="29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2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blows its top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eaving behind a v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Inside the cone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7" name="Object 4" descr="mds61"/>
          <p:cNvPicPr/>
          <p:nvPr/>
        </p:nvPicPr>
        <p:blipFill>
          <a:blip r:embed="rId1"/>
          <a:stretch/>
        </p:blipFill>
        <p:spPr>
          <a:xfrm>
            <a:off x="5038560" y="1981080"/>
            <a:ext cx="302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2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blows its top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eaving behind a v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Inside the cone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0" name="Object 6" descr="mds62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hars (hot mud flows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4" name="Object 5" descr="mds63"/>
          <p:cNvPicPr/>
          <p:nvPr/>
        </p:nvPicPr>
        <p:blipFill>
          <a:blip r:embed="rId1"/>
          <a:stretch/>
        </p:blipFill>
        <p:spPr>
          <a:xfrm>
            <a:off x="4648320" y="2765520"/>
            <a:ext cx="38098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ha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urces of water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elting ice cap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cess rainfall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7" name="Object 5" descr="mds64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 Nuee Ardentes (Glowing Ash flows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louds of dense gas and debri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French for “glowing cloud”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igh speeds and high temperatur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B. Volcanic activity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ctiv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orman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tinc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ow does a Nuee Ardente form?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olcano erupt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ot debris ris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Gravity takes over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2" name="Object 4" descr="mds65"/>
          <p:cNvPicPr/>
          <p:nvPr/>
        </p:nvPicPr>
        <p:blipFill>
          <a:blip r:embed="rId1"/>
          <a:stretch/>
        </p:blipFill>
        <p:spPr>
          <a:xfrm>
            <a:off x="5168880" y="1981080"/>
            <a:ext cx="276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ow does a Nuee Ardente form?(cont’d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Debris descends rapidly (200 mph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Flows down mountain slop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 up to 80 mil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5" name="Object 4" descr="mds66"/>
          <p:cNvPicPr/>
          <p:nvPr/>
        </p:nvPicPr>
        <p:blipFill>
          <a:blip r:embed="rId1"/>
          <a:stretch/>
        </p:blipFill>
        <p:spPr>
          <a:xfrm>
            <a:off x="4648320" y="2448000"/>
            <a:ext cx="380988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sunami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Wave generated by volcanic explosio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Japanese for harbor wav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8" name="Object 4" descr="mds67"/>
          <p:cNvPicPr/>
          <p:nvPr/>
        </p:nvPicPr>
        <p:blipFill>
          <a:blip r:embed="rId1"/>
          <a:stretch/>
        </p:blipFill>
        <p:spPr>
          <a:xfrm>
            <a:off x="4648320" y="2522520"/>
            <a:ext cx="38098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sunamis are extremely hazardou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 vast distanc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rike with short notice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Krakatoa (1883) - 36,000 people die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1" name="Object 4" descr="mds68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va flow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east dangerou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flows slowly (&lt;10 mph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Dangerous to proper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4" name="Object 4" descr="mds69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Why try to predict eruptions?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inimize damag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inimize loss of lif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our ways to predict an eruption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Harmonic tremo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mall earthquake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From moving magm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st for hour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Increased gas emiss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rge tracts of healthy forests die off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hanges in mountain shap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Pressure from the magma deforms the mounta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etected by tiltmet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iltmete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iltmeter measures ground tilt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able ground = zero tilt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hange from zero indicates shape change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5" name="Object 5" descr="mds6A"/>
          <p:cNvPicPr/>
          <p:nvPr/>
        </p:nvPicPr>
        <p:blipFill>
          <a:blip r:embed="rId1"/>
          <a:stretch/>
        </p:blipFill>
        <p:spPr>
          <a:xfrm>
            <a:off x="4648320" y="2360520"/>
            <a:ext cx="38098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. Active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ctivity in the last few centuri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: Vesuvius, 79 A.D.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(50 times in 2000 yr)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: Mt. St. Helens (1980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3" name="Object 5" descr="mds43"/>
          <p:cNvPicPr/>
          <p:nvPr/>
        </p:nvPicPr>
        <p:blipFill>
          <a:blip r:embed="rId1"/>
          <a:stretch/>
        </p:blipFill>
        <p:spPr>
          <a:xfrm>
            <a:off x="4648320" y="2793960"/>
            <a:ext cx="38098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t. St. Helens and the orange li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8" name="Object 4" descr="mds6B"/>
          <p:cNvPicPr/>
          <p:nvPr/>
        </p:nvPicPr>
        <p:blipFill>
          <a:blip r:embed="rId1"/>
          <a:stretch/>
        </p:blipFill>
        <p:spPr>
          <a:xfrm>
            <a:off x="1676520" y="2819520"/>
            <a:ext cx="5790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Observe material from past erupt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Geologists map out past: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har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flow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unt number of pas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ate each eruptio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alculate periodicit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I. Benefits of Volcano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enefits of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il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nergy from hea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Rock (Pumice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Gases for industr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2. Dormant volcanoe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quiet” for the last hundred to thousands of years, but still have potential to erupt.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t. Rainie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6" name="Object 4" descr="mds44"/>
          <p:cNvPicPr/>
          <p:nvPr/>
        </p:nvPicPr>
        <p:blipFill>
          <a:blip r:embed="rId1"/>
          <a:stretch/>
        </p:blipFill>
        <p:spPr>
          <a:xfrm>
            <a:off x="4648320" y="2565360"/>
            <a:ext cx="38098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. Extinct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No eruption in historical times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No signs of erupting aga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9" name="Object 5" descr="mds45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buClr>
                <a:srgbClr val="3366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ntroduction </a:t>
            </a:r>
            <a:br>
              <a:rPr sz="4400"/>
            </a:b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C.  Volcano Distribution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Most volcanoes occur in one of three areas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ircum-Pacific (i.e. The Ring of Fire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diterranea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preading cent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10 – 15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5:53:29Z</dcterms:created>
  <dc:creator>Mark Reinhold</dc:creator>
  <dc:description/>
  <dc:language>en-US</dc:language>
  <cp:lastModifiedBy>ksu</cp:lastModifiedBy>
  <dcterms:modified xsi:type="dcterms:W3CDTF">2011-11-01T11:59:59Z</dcterms:modified>
  <cp:revision>33</cp:revision>
  <dc:subject/>
  <dc:title>Volcanoes and Volcanic Landforms</dc:title>
</cp:coreProperties>
</file>