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782-B700-47EE-AEAE-974B2513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888-F110-4B44-BEB9-AF18D34C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20C-7B71-4BB7-B097-8BC03CD8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49B-6614-4B1B-AB52-5ACE0C45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800-54C8-46F3-92F8-E147BDDE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4A2-BB2B-4DF2-943C-58547A9A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7D2-7BC1-4D27-B341-C0A1900F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2C1-CDF5-48DF-8C63-30A1772B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5A2-8F1F-4FE2-97E9-046CBD36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F87-6A9B-4FF2-B789-D27575CB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6FC-600C-410A-9E72-35151068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F964-812D-4FA5-825F-9DA7B1ED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75CD-18D9-4EC6-B3C7-B97469C2E067}" type="slidenum">
              <a:rPr b="0" lang="en-US" sz="1400" spc="-1" strike="noStrike">
                <a:solidFill>
                  <a:srgbClr val="00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4" descr="mds3F"/>
          <p:cNvPicPr/>
          <p:nvPr/>
        </p:nvPicPr>
        <p:blipFill>
          <a:blip r:embed="rId1"/>
          <a:stretch/>
        </p:blipFill>
        <p:spPr>
          <a:xfrm>
            <a:off x="228600" y="85716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438280" y="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THE ROCK CYCL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olcano Distribution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pic>
        <p:nvPicPr>
          <p:cNvPr id="63" name="Object 7" descr="mds46"/>
          <p:cNvPicPr/>
          <p:nvPr/>
        </p:nvPicPr>
        <p:blipFill>
          <a:blip r:embed="rId1"/>
          <a:stretch/>
        </p:blipFill>
        <p:spPr>
          <a:xfrm>
            <a:off x="533520" y="1828800"/>
            <a:ext cx="80787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Three types of material expelled from volcan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 (“the liquid”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olten rock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68" name="Object 4" descr="mds47"/>
          <p:cNvPicPr/>
          <p:nvPr/>
        </p:nvPicPr>
        <p:blipFill>
          <a:blip r:embed="rId1"/>
          <a:stretch/>
        </p:blipFill>
        <p:spPr>
          <a:xfrm>
            <a:off x="3962520" y="1676520"/>
            <a:ext cx="51814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olten rock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Si affects viscosity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71" name="Object 4" descr="mds48"/>
          <p:cNvPicPr/>
          <p:nvPr/>
        </p:nvPicPr>
        <p:blipFill>
          <a:blip r:embed="rId1"/>
          <a:stretch/>
        </p:blipFill>
        <p:spPr>
          <a:xfrm>
            <a:off x="4648320" y="2598840"/>
            <a:ext cx="3809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1) Pahoehoe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Basalt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ow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74" name="Object 5" descr="mds49"/>
          <p:cNvPicPr/>
          <p:nvPr/>
        </p:nvPicPr>
        <p:blipFill>
          <a:blip r:embed="rId1"/>
          <a:stretch/>
        </p:blipFill>
        <p:spPr>
          <a:xfrm>
            <a:off x="4114800" y="1447920"/>
            <a:ext cx="4616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1) Pahoehoe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Basalt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ow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ols moderately slowly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Ropelike appearanc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77" name="Object 4" descr="mds4A"/>
          <p:cNvPicPr/>
          <p:nvPr/>
        </p:nvPicPr>
        <p:blipFill>
          <a:blip r:embed="rId1"/>
          <a:stretch/>
        </p:blipFill>
        <p:spPr>
          <a:xfrm>
            <a:off x="4114800" y="1447920"/>
            <a:ext cx="4616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2) </a:t>
            </a: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Aa lava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 (pronounced aa-aa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Basalt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igher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olidifies while flowing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Angular piece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80" name="Object 5" descr="mds4B"/>
          <p:cNvPicPr/>
          <p:nvPr/>
        </p:nvPicPr>
        <p:blipFill>
          <a:blip r:embed="rId1"/>
          <a:stretch/>
        </p:blipFill>
        <p:spPr>
          <a:xfrm>
            <a:off x="3886200" y="1523880"/>
            <a:ext cx="52578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Lav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3) Pillow lava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va extruded underwate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ols and contract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pherical masse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Ocean floo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83" name="Object 4" descr="mds4C"/>
          <p:cNvPicPr/>
          <p:nvPr/>
        </p:nvPicPr>
        <p:blipFill>
          <a:blip r:embed="rId1"/>
          <a:stretch/>
        </p:blipFill>
        <p:spPr>
          <a:xfrm>
            <a:off x="4038480" y="2895480"/>
            <a:ext cx="510552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A. Lava (“the liquid”)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B. Ash and pyroclastic material (“the solid”)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irborne material ejected by a volcano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lassified based on size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B. Ash and pyroclastic material (“the solid”)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* Volcanic ash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Fine ash - &lt;0.06mm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arse ash – 0.06mm to 2mm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mposition = rock, mineral, and volcanic glas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88" name="Object 4" descr="mds4D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OLCANISM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pic>
        <p:nvPicPr>
          <p:cNvPr id="44" name="Picture 4" descr="mds42"/>
          <p:cNvPicPr/>
          <p:nvPr/>
        </p:nvPicPr>
        <p:blipFill>
          <a:blip r:embed="rId1"/>
          <a:stretch/>
        </p:blipFill>
        <p:spPr>
          <a:xfrm>
            <a:off x="1600200" y="1752480"/>
            <a:ext cx="609588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 Ash and pyroclastic material (“the solid”)</a:t>
            </a:r>
            <a:br>
              <a:rPr sz="3200"/>
            </a:b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* Cinder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2 mm and 64 mm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mposition - same as ash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azardous when falling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 Ash and pyroclastic material (“the solid”)</a:t>
            </a:r>
            <a:br>
              <a:rPr sz="3200"/>
            </a:b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) Bomb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rger than 64mm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olten rock solidifies in the ai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hapes var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93" name="Object 4" descr="mds4E"/>
          <p:cNvPicPr/>
          <p:nvPr/>
        </p:nvPicPr>
        <p:blipFill>
          <a:blip r:embed="rId1"/>
          <a:stretch/>
        </p:blipFill>
        <p:spPr>
          <a:xfrm>
            <a:off x="4191120" y="3429000"/>
            <a:ext cx="4952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C. Volcanic gases (“the gases”)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olatil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 – Hydrogen sulfid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O – Water vapo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– Sulfid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– Carbon dioxid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– Nitrogen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Cl –  Hydrochloric Acid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ignificance?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A) Determines violence of an eruptio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igh gas = violent eruption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iolent eruptions = felsic magma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igh viscosity magma traps ga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Expansion is prevented, pressure build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B) Effects on global climat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O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 – Greenhouse ga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 – Blocks sunligh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. Volcanic material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azards to human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louds of CO</a:t>
            </a:r>
            <a:r>
              <a:rPr b="0" lang="en-US" sz="24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get released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ravels across the ground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02" name="Object 4" descr="mds4F"/>
          <p:cNvPicPr/>
          <p:nvPr/>
        </p:nvPicPr>
        <p:blipFill>
          <a:blip r:embed="rId1"/>
          <a:stretch/>
        </p:blipFill>
        <p:spPr>
          <a:xfrm>
            <a:off x="4114800" y="1600200"/>
            <a:ext cx="50292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I. Volcanic Landform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I. Volcanic Landform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An erupting volcano will produce a number of distinct landforms including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. Volcanic con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B.  Flood basalt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.  Caldera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br>
              <a:rPr sz="4400"/>
            </a:b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Three types of volcanic cones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1)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hield volcano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ultiple layers of basalt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hallow sides due to magma’s low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Gentle eruption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10" name="Object 4" descr="mds50"/>
          <p:cNvPicPr/>
          <p:nvPr/>
        </p:nvPicPr>
        <p:blipFill>
          <a:blip r:embed="rId1"/>
          <a:stretch/>
        </p:blipFill>
        <p:spPr>
          <a:xfrm>
            <a:off x="4191120" y="4038480"/>
            <a:ext cx="45720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.  Introduction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rom: Roman god of fire, </a:t>
            </a:r>
            <a:r>
              <a:rPr b="0" i="1" lang="en-US" sz="3200" spc="-1" strike="noStrike">
                <a:solidFill>
                  <a:srgbClr val="0099ff"/>
                </a:solidFill>
                <a:latin typeface="Times New Roman"/>
              </a:rPr>
              <a:t>Vulca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1) Shield volcano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all volcanoes –3 or 4 miles tall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Wide base – Diameter of ten of mil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13" name="Object 5" descr="mds51"/>
          <p:cNvPicPr/>
          <p:nvPr/>
        </p:nvPicPr>
        <p:blipFill>
          <a:blip r:embed="rId1"/>
          <a:stretch/>
        </p:blipFill>
        <p:spPr>
          <a:xfrm>
            <a:off x="3581280" y="990720"/>
            <a:ext cx="55627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auna Loa volcano, Hawaii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16" name="Object 4" descr="mds52"/>
          <p:cNvPicPr/>
          <p:nvPr/>
        </p:nvPicPr>
        <p:blipFill>
          <a:blip r:embed="rId1"/>
          <a:stretch/>
        </p:blipFill>
        <p:spPr>
          <a:xfrm>
            <a:off x="4114800" y="1752480"/>
            <a:ext cx="50292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Cinder cones –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mallest volcanic con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yered ash and cinder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Ex: El Paricuti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2) Cinder con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hort, narrow cone,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eep sid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Violent eruption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21" name="Object 4" descr="mds53"/>
          <p:cNvPicPr/>
          <p:nvPr/>
        </p:nvPicPr>
        <p:blipFill>
          <a:blip r:embed="rId1"/>
          <a:stretch/>
        </p:blipFill>
        <p:spPr>
          <a:xfrm>
            <a:off x="3352680" y="914400"/>
            <a:ext cx="57913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ssen National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onument, C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24" name="Object 6" descr="mds54"/>
          <p:cNvPicPr/>
          <p:nvPr/>
        </p:nvPicPr>
        <p:blipFill>
          <a:blip r:embed="rId1"/>
          <a:stretch/>
        </p:blipFill>
        <p:spPr>
          <a:xfrm>
            <a:off x="228600" y="3048120"/>
            <a:ext cx="4646520" cy="3485880"/>
          </a:xfrm>
          <a:prstGeom prst="rect">
            <a:avLst/>
          </a:prstGeom>
          <a:ln w="0">
            <a:noFill/>
          </a:ln>
        </p:spPr>
      </p:pic>
      <p:pic>
        <p:nvPicPr>
          <p:cNvPr id="125" name="Object 7" descr="mds55"/>
          <p:cNvPicPr/>
          <p:nvPr/>
        </p:nvPicPr>
        <p:blipFill>
          <a:blip r:embed="rId2"/>
          <a:stretch/>
        </p:blipFill>
        <p:spPr>
          <a:xfrm>
            <a:off x="4572000" y="17524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3)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omposite or stratovolcanoes –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yered ash, lava, and mud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Intermediate to felsic lava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eep sides, due to lava’s high viscosi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28" name="Object 4" descr="mds56"/>
          <p:cNvPicPr/>
          <p:nvPr/>
        </p:nvPicPr>
        <p:blipFill>
          <a:blip r:embed="rId1"/>
          <a:stretch/>
        </p:blipFill>
        <p:spPr>
          <a:xfrm>
            <a:off x="4648320" y="2967120"/>
            <a:ext cx="3809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3) Composite or stratovolcanoes –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all volcanoes – 1 to 2 miles high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Violent eruption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31" name="Object 6" descr="mds57"/>
          <p:cNvPicPr/>
          <p:nvPr/>
        </p:nvPicPr>
        <p:blipFill>
          <a:blip r:embed="rId1"/>
          <a:stretch/>
        </p:blipFill>
        <p:spPr>
          <a:xfrm>
            <a:off x="3657600" y="990720"/>
            <a:ext cx="548640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A. Volcanic con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t. St. Helens,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W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34" name="Object 7" descr="mds58"/>
          <p:cNvPicPr/>
          <p:nvPr/>
        </p:nvPicPr>
        <p:blipFill>
          <a:blip r:embed="rId1"/>
          <a:stretch/>
        </p:blipFill>
        <p:spPr>
          <a:xfrm>
            <a:off x="609480" y="31240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9" descr="mds59"/>
          <p:cNvPicPr/>
          <p:nvPr/>
        </p:nvPicPr>
        <p:blipFill>
          <a:blip r:embed="rId2"/>
          <a:stretch/>
        </p:blipFill>
        <p:spPr>
          <a:xfrm>
            <a:off x="4572000" y="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I. Volcanic Landforms </a:t>
            </a:r>
            <a:br>
              <a:rPr sz="4400"/>
            </a:b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B) Flood basalts</a:t>
            </a:r>
            <a:br>
              <a:rPr sz="3200"/>
            </a:b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rge outpourings of basaltic lava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ultiple, quiet eruption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va plateau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38" name="Object 5" descr="mds5A"/>
          <p:cNvPicPr/>
          <p:nvPr/>
        </p:nvPicPr>
        <p:blipFill>
          <a:blip r:embed="rId1"/>
          <a:stretch/>
        </p:blipFill>
        <p:spPr>
          <a:xfrm>
            <a:off x="4114800" y="3048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) Flood basalts</a:t>
            </a:r>
            <a:endParaRPr b="0" lang="en-US" sz="32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 portion of the Columbia Flood Basalts in W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41" name="Object 4" descr="mds5B"/>
          <p:cNvPicPr/>
          <p:nvPr/>
        </p:nvPicPr>
        <p:blipFill>
          <a:blip r:embed="rId1"/>
          <a:stretch/>
        </p:blipFill>
        <p:spPr>
          <a:xfrm>
            <a:off x="4648320" y="27432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.  Introduction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rom: Roman god of fire, </a:t>
            </a:r>
            <a:r>
              <a:rPr b="0" i="1" lang="en-US" sz="3200" spc="-1" strike="noStrike">
                <a:solidFill>
                  <a:srgbClr val="0099ff"/>
                </a:solidFill>
                <a:latin typeface="Times New Roman"/>
              </a:rPr>
              <a:t>Vulcan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99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What is a volcano?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99ff"/>
                </a:solidFill>
                <a:latin typeface="Times New Roman"/>
              </a:rPr>
              <a:t>A conical mountain formed around a vent where lava, pyroclastic materials, and gases are erupted.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II. Volcanic Landform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C) Caldera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rge depressions (&gt; 1km) from violent eruption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Ugashik Caldera, AK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44" name="Object 5" descr="mds5C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Two methods of formation: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thod 1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olcano rapidly empties its magma chamber, and support is los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47" name="Object 4" descr="mds5D"/>
          <p:cNvPicPr/>
          <p:nvPr/>
        </p:nvPicPr>
        <p:blipFill>
          <a:blip r:embed="rId1"/>
          <a:stretch/>
        </p:blipFill>
        <p:spPr>
          <a:xfrm>
            <a:off x="5038560" y="1981080"/>
            <a:ext cx="302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thod 1 (cont.)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Overlying material collapses into magma chamber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aldera form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50" name="Object 4" descr="mds5E"/>
          <p:cNvPicPr/>
          <p:nvPr/>
        </p:nvPicPr>
        <p:blipFill>
          <a:blip r:embed="rId1"/>
          <a:stretch/>
        </p:blipFill>
        <p:spPr>
          <a:xfrm>
            <a:off x="4957920" y="1981080"/>
            <a:ext cx="3190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endParaRPr b="0" lang="en-US" sz="40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Ex: Crater Lake,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53" name="Object 4" descr="mds5F"/>
          <p:cNvPicPr/>
          <p:nvPr/>
        </p:nvPicPr>
        <p:blipFill>
          <a:blip r:embed="rId1"/>
          <a:stretch/>
        </p:blipFill>
        <p:spPr>
          <a:xfrm>
            <a:off x="4957920" y="1981080"/>
            <a:ext cx="319068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5" descr="mds60"/>
          <p:cNvPicPr/>
          <p:nvPr/>
        </p:nvPicPr>
        <p:blipFill>
          <a:blip r:embed="rId2"/>
          <a:stretch/>
        </p:blipFill>
        <p:spPr>
          <a:xfrm>
            <a:off x="380880" y="2971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Two methods of formation: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thod 2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olcano blows its top,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eaving behind a void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Inside the cone.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57" name="Object 4" descr="mds61"/>
          <p:cNvPicPr/>
          <p:nvPr/>
        </p:nvPicPr>
        <p:blipFill>
          <a:blip r:embed="rId1"/>
          <a:stretch/>
        </p:blipFill>
        <p:spPr>
          <a:xfrm>
            <a:off x="5038560" y="1981080"/>
            <a:ext cx="302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C) Calderas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Two methods of formation: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thod 2: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Volcano blows its top,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eaving behind a void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Inside the cone.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60" name="Object 6" descr="mds62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ff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hars (hot mud flows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64" name="Object 5" descr="mds63"/>
          <p:cNvPicPr/>
          <p:nvPr/>
        </p:nvPicPr>
        <p:blipFill>
          <a:blip r:embed="rId1"/>
          <a:stretch/>
        </p:blipFill>
        <p:spPr>
          <a:xfrm>
            <a:off x="4648320" y="2765520"/>
            <a:ext cx="38098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har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ources of water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elting ice cap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Excess rainfall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67" name="Object 5" descr="mds64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 Nuee Ardentes (Glowing Ash flows)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louds of dense gas and debri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French for “glowing cloud”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igh speeds and high temperatur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.  Introduction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B. Volcanic activity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ctiv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orman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Extinc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ow does a Nuee Ardente form?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Volcano erupt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Hot debris ris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Gravity takes over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72" name="Object 4" descr="mds65"/>
          <p:cNvPicPr/>
          <p:nvPr/>
        </p:nvPicPr>
        <p:blipFill>
          <a:blip r:embed="rId1"/>
          <a:stretch/>
        </p:blipFill>
        <p:spPr>
          <a:xfrm>
            <a:off x="5168880" y="1981080"/>
            <a:ext cx="2768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ow does a Nuee Ardente form?(cont’d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Debris descends rapidly (200 mph)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Flows down mountain slop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ravel up to 80 mile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75" name="Object 4" descr="mds66"/>
          <p:cNvPicPr/>
          <p:nvPr/>
        </p:nvPicPr>
        <p:blipFill>
          <a:blip r:embed="rId1"/>
          <a:stretch/>
        </p:blipFill>
        <p:spPr>
          <a:xfrm>
            <a:off x="4648320" y="2448000"/>
            <a:ext cx="380988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)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Tsunami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Wave generated by volcanic explosion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Japanese for harbor wave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78" name="Object 4" descr="mds67"/>
          <p:cNvPicPr/>
          <p:nvPr/>
        </p:nvPicPr>
        <p:blipFill>
          <a:blip r:embed="rId1"/>
          <a:stretch/>
        </p:blipFill>
        <p:spPr>
          <a:xfrm>
            <a:off x="4648320" y="2522520"/>
            <a:ext cx="38098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Tsunamis are extremely hazardou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ravel vast distance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rike with short notice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Krakatoa (1883) - 36,000 people died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81" name="Object 4" descr="mds68"/>
          <p:cNvPicPr/>
          <p:nvPr/>
        </p:nvPicPr>
        <p:blipFill>
          <a:blip r:embed="rId1"/>
          <a:stretch/>
        </p:blipFill>
        <p:spPr>
          <a:xfrm>
            <a:off x="4648320" y="2181240"/>
            <a:ext cx="38098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V. Volcanic hazard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)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va flow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east dangerous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va flows slowly (&lt;10 mph)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Dangerous to property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84" name="Object 4" descr="mds69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Why try to predict eruptions? 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inimize damag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inimize loss of lif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Four ways to predict an eruption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Harmonic tremor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mall earthquake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From moving magma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st for hour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Increased gas emission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O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Large tracts of healthy forests die off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Changes in mountain shape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Pressure from the magma deforms the mountai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etected by tiltmeter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Tiltmeter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Tiltmeter measures ground tilt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Stable ground = zero tilt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Change from zero indicates shape change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95" name="Object 5" descr="mds6A"/>
          <p:cNvPicPr/>
          <p:nvPr/>
        </p:nvPicPr>
        <p:blipFill>
          <a:blip r:embed="rId1"/>
          <a:stretch/>
        </p:blipFill>
        <p:spPr>
          <a:xfrm>
            <a:off x="4648320" y="2360520"/>
            <a:ext cx="38098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B. Volcanic Activity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1. Active volcan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activity in the last few centurie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Ex: Vesuvius, 79 A.D.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(50 times in 2000 yr) 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Ex: Mt. St. Helens (1980)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53" name="Object 5" descr="mds43"/>
          <p:cNvPicPr/>
          <p:nvPr/>
        </p:nvPicPr>
        <p:blipFill>
          <a:blip r:embed="rId1"/>
          <a:stretch/>
        </p:blipFill>
        <p:spPr>
          <a:xfrm>
            <a:off x="4648320" y="2793960"/>
            <a:ext cx="380988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t. St. Helens and the orange line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198" name="Object 4" descr="mds6B"/>
          <p:cNvPicPr/>
          <p:nvPr/>
        </p:nvPicPr>
        <p:blipFill>
          <a:blip r:embed="rId1"/>
          <a:stretch/>
        </p:blipFill>
        <p:spPr>
          <a:xfrm>
            <a:off x="1676520" y="2819520"/>
            <a:ext cx="57909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. Predicting Eruption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Observe material from past eruption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Geologists map out past: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har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Lava flows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ount number of past eruption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ate each eruptio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alculate periodicity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VI. Benefits of Volcanoes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Benefits of volcan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oil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Energy from heat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Rock (Pumice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Gases for industry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B. Volcanic Activity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2. Dormant volcanoes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quiet” for the last hundred to thousands of years, but still have potential to erupt.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Mt. Rainier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56" name="Object 4" descr="mds44"/>
          <p:cNvPicPr/>
          <p:nvPr/>
        </p:nvPicPr>
        <p:blipFill>
          <a:blip r:embed="rId1"/>
          <a:stretch/>
        </p:blipFill>
        <p:spPr>
          <a:xfrm>
            <a:off x="4648320" y="2565360"/>
            <a:ext cx="380988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B. Volcanic Activity</a:t>
            </a:r>
            <a:endParaRPr b="0" lang="en-US" sz="44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3. Extinct volcanoes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No eruption in historical times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No signs of erupting agai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</p:txBody>
      </p:sp>
      <p:pic>
        <p:nvPicPr>
          <p:cNvPr id="59" name="Object 5" descr="mds45"/>
          <p:cNvPicPr/>
          <p:nvPr/>
        </p:nvPicPr>
        <p:blipFill>
          <a:blip r:embed="rId1"/>
          <a:stretch/>
        </p:blipFill>
        <p:spPr>
          <a:xfrm>
            <a:off x="4876920" y="358128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-1117440">
              <a:buClr>
                <a:srgbClr val="3366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Introduction </a:t>
            </a:r>
            <a:br>
              <a:rPr sz="4400"/>
            </a:b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C.  Volcano Distribution</a:t>
            </a:r>
            <a:endParaRPr b="0" lang="en-US" sz="3600" spc="-1" strike="noStrike">
              <a:solidFill>
                <a:srgbClr val="33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imes New Roman"/>
              </a:rPr>
              <a:t>Most volcanoes occur in one of three areas:</a:t>
            </a:r>
            <a:endParaRPr b="0" lang="en-US" sz="32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ircum-Pacific (i.e. The Ring of Fire)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Mediterranean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preading centers</a:t>
            </a:r>
            <a:endParaRPr b="0" lang="en-US" sz="2800" spc="-1" strike="noStrike">
              <a:solidFill>
                <a:srgbClr val="0099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Times New Roman"/>
              </a:rPr>
              <a:t>10 – 15%</a:t>
            </a:r>
            <a:endParaRPr b="0" lang="en-US" sz="2400" spc="-1" strike="noStrike">
              <a:solidFill>
                <a:srgbClr val="00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5:53:29Z</dcterms:created>
  <dc:creator>Mark Reinhold</dc:creator>
  <dc:description/>
  <dc:language>en-US</dc:language>
  <cp:lastModifiedBy>ksu</cp:lastModifiedBy>
  <dcterms:modified xsi:type="dcterms:W3CDTF">2011-11-01T11:59:59Z</dcterms:modified>
  <cp:revision>33</cp:revision>
  <dc:subject/>
  <dc:title>Volcanoes and Volcanic Landforms</dc:title>
</cp:coreProperties>
</file>