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50B-4C72-4FC7-9D53-E4A69F27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84B-8E04-4463-A895-0D02CD4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ADA-6970-428F-99B9-BA5EF2D7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711-952D-4C25-92EE-B6FF5715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11E9E-BC54-46D6-9407-E2372A45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195B4-9F91-4D8D-B953-6CAD7B3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409A2-0EE2-48EE-8EA2-B75C37C2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1FBDA-2CAD-4208-878F-82AA00AE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1783D-8944-49B2-B563-11754334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9BBB4-6968-4D94-8847-EC1DFC12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85BF3-2D27-4432-B497-846ED9E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905-8846-48F2-9017-A6D7BF1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360B2-A4ED-4750-9DDC-EC5E12FE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9C70D-37A6-4B4F-ABC2-EAE2786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F0D8E-1805-4FE4-9584-BA4D29CD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2FFC3-877F-4D19-A5A0-A45B60E0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6EB23-A033-4213-BC15-717480AE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0E4-1E55-4628-99D5-93E3767E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025-EBDF-4F89-9647-EB37499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BA8-068B-4B6F-8A26-3B87BBFD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C6F-E991-4F72-95A0-1840210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886-EE3C-40E3-B781-BE70531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4F8-25C1-49F6-977D-A7DDE0A4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437-A519-45E9-B1CF-97823A8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2E1-04AC-4680-B9B0-1C4C388B6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D80-8E74-4BE0-9E85-FDB9D0A266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are often cone-shaped, but they can take other shapes to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1557360"/>
            <a:ext cx="79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y are formed whe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molte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sticky rock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magm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forces its way through a crack in the Earth’s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cru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84360" y="5084640"/>
            <a:ext cx="79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melted rock that spills out of the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5" action="ppaction://hlinksldjump"/>
              </a:rPr>
              <a:t>crater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the top of the volcano is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6" action="ppaction://hlinksldjump"/>
              </a:rPr>
              <a:t>lav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The lava destroys everything in its path because it is very, very hot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hi_VolcanoesNP"/>
          <p:cNvPicPr/>
          <p:nvPr/>
        </p:nvPicPr>
        <p:blipFill>
          <a:blip r:embed="rId1"/>
          <a:stretch/>
        </p:blipFill>
        <p:spPr>
          <a:xfrm>
            <a:off x="3419640" y="476280"/>
            <a:ext cx="5333760" cy="3201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ere do volcanoes happen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6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st volcanoes are formed on land, but there are some volcanoes that are on the ocean floor. Some of these volcanoes emerge from the water because they are very hig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348000" y="3860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y does a volcano erup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08360" y="4437000"/>
            <a:ext cx="5040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erupt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when magma and gases find a way to escape, so they burst to the surface through a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ven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A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erup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can be quite gentle or very viol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Types of volcano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can be active, dormant or extinc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11280" y="213372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active, or alive, when it erupts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27082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When a volcano is dormant, or sleeping, it has no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erupted for a long time – but it might in the fu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3645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extinct, or dead, when it hasn’t erup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or at least 100,000 yea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4371840"/>
            <a:ext cx="9144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155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Eruption patterns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540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re are three different levels of erup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68360" y="177336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If it easy for the gases to escape, then the eruption is very gentle. However, the lava is very runny and can move very fa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95280" y="4365720"/>
            <a:ext cx="8209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2.  Gas builds up and lumps of rock (‘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’) and ash burst out of the volcano. This makes the lava thick and stick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volcanoes1a"/>
          <p:cNvPicPr/>
          <p:nvPr/>
        </p:nvPicPr>
        <p:blipFill>
          <a:blip r:embed="rId2"/>
          <a:stretch/>
        </p:blipFill>
        <p:spPr>
          <a:xfrm>
            <a:off x="5651640" y="90792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46195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is is the fiercest eruption of all because the gases and magma become trapped inside the volcano. This causes a huge explosion, which can be big enough to remove the top of the whole mountain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volcanoes1_3_sm"/>
          <p:cNvPicPr/>
          <p:nvPr/>
        </p:nvPicPr>
        <p:blipFill>
          <a:blip r:embed="rId1"/>
          <a:stretch/>
        </p:blipFill>
        <p:spPr>
          <a:xfrm>
            <a:off x="5003640" y="260280"/>
            <a:ext cx="3951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Did you know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357336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Pumice stone, which comes from volcanoes, is very light because it contains lot of tiny bubbles. If there are enough bubbles, then pumice stone can float on wat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5280" y="1413000"/>
            <a:ext cx="45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unt Kilauea, in Hawaii, is the most active volcano on Earth because it has been erupting since 1983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49417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word, ‘volcano’ comes from the name Vulcan, who was the Roman god of fi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pdv031102"/>
          <p:cNvPicPr/>
          <p:nvPr/>
        </p:nvPicPr>
        <p:blipFill>
          <a:blip r:embed="rId1"/>
          <a:stretch/>
        </p:blipFill>
        <p:spPr>
          <a:xfrm>
            <a:off x="4932360" y="1125360"/>
            <a:ext cx="39243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8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ccaa00"/>
                </a:solidFill>
                <a:uFillTx/>
                <a:latin typeface="Arial"/>
              </a:rPr>
              <a:t>GLOSSARY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a lump of rock thrown out in an eru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ater – a deep hollow at the top of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ust – The top layer of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ruption – the release of gases, magma and rock from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ava – melted rock that flows down the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gma – melted rock inside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lten – melted,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Vent – a crack on the side of a volcano where magma can esc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50403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volcanic_ash_soufiere"/>
          <p:cNvPicPr/>
          <p:nvPr/>
        </p:nvPicPr>
        <p:blipFill>
          <a:blip r:embed="rId3"/>
          <a:stretch/>
        </p:blipFill>
        <p:spPr>
          <a:xfrm>
            <a:off x="5364000" y="407664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7:07:34Z</dcterms:created>
  <dc:creator>Firdaws Khalfey</dc:creator>
  <dc:description/>
  <dc:language>en-US</dc:language>
  <cp:lastModifiedBy>ksu</cp:lastModifiedBy>
  <dcterms:modified xsi:type="dcterms:W3CDTF">2011-10-14T20:15:45Z</dcterms:modified>
  <cp:revision>5</cp:revision>
  <dc:subject/>
  <dc:title>PowerPoint Presentation</dc:title>
</cp:coreProperties>
</file>