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801-0E15-46F8-8106-AF38EF30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0B0-892F-4E51-B2E9-D8E7AA88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51C-08F5-4220-92D3-A42201A4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A72-8E9C-4EC2-BC1E-F71DF949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23338-F88A-4E1A-BE94-2721AE18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21EF7-BFB6-44D2-BE90-1900C86F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531BB-242B-4812-A109-1615B55D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5B26D-C1C1-4E8F-89C5-DA3E51EC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8E083-0090-4F1B-9612-D0BEA190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C6F62-E0D9-4D44-B322-DDFA6350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64DEC-4CCA-4F73-9614-FBF6C82B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A69-15AD-4F12-96D4-A18D1950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118C6-8D66-4016-87B9-5A626A5D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3EA79-6E3E-4AB7-8B97-E93146B6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53B5D-9289-4F50-96D5-A5C041E3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BEE3D-C087-496B-8D3F-93BA15D1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9399B-B611-4F2D-A660-744D7BC5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176-CB05-40A7-9C52-725B54BC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DBE-6E62-4482-B9F7-2C514226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EC11-DBD9-4229-BAE6-B03F2826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044-4C25-43E4-8898-401C237D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A4A7-2ED3-4664-9CC9-2AECFBE7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296-8AF5-4982-901B-A8055F66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C95-0088-44A1-8D96-A582FC7B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87c68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86a53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05EA-1301-42AF-AF0E-FD4538BC42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100000">
                <a:srgbClr val="00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87c68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86a53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8A49-6D6B-4196-AED8-896B8CD0F5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Volcanoes are often cone-shaped, but they can take other shapes to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84360" y="1557360"/>
            <a:ext cx="79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y are formed when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2" action="ppaction://hlinksldjump"/>
              </a:rPr>
              <a:t>molten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sticky rock called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3" action="ppaction://hlinksldjump"/>
              </a:rPr>
              <a:t>magma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forces its way through a crack in the Earth’s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4" action="ppaction://hlinksldjump"/>
              </a:rPr>
              <a:t>crust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84360" y="5084640"/>
            <a:ext cx="792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melted rock that spills out of the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5" action="ppaction://hlinksldjump"/>
              </a:rPr>
              <a:t>crater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on the top of the volcano is called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6" action="ppaction://hlinksldjump"/>
              </a:rPr>
              <a:t>lava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. The lava destroys everything in its path because it is very, very hot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hi_VolcanoesNP"/>
          <p:cNvPicPr/>
          <p:nvPr/>
        </p:nvPicPr>
        <p:blipFill>
          <a:blip r:embed="rId1"/>
          <a:stretch/>
        </p:blipFill>
        <p:spPr>
          <a:xfrm>
            <a:off x="3419640" y="476280"/>
            <a:ext cx="5333760" cy="32018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287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Where do volcanoes happen?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266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ost volcanoes are formed on land, but there are some volcanoes that are on the ocean floor. Some of these volcanoes emerge from the water because they are very hig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348000" y="386064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Why does a volcano erup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708360" y="4437000"/>
            <a:ext cx="504036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 volcano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2" action="ppaction://hlinksldjump"/>
              </a:rPr>
              <a:t>erupts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when magma and gases find a way to escape, so they burst to the surface through a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3" action="ppaction://hlinksldjump"/>
              </a:rPr>
              <a:t>vent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. An 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4" action="ppaction://hlinksldjump"/>
              </a:rPr>
              <a:t>eruption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can be quite gentle or very viol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Types of volcano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Volcanoes can be active, dormant or extinc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11280" y="213372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 volcano is active, or alive, when it erupts ofte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11280" y="270828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When a volcano is dormant, or sleeping, it has no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erupted for a long time – but it might in the futu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11280" y="3645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 volcano is extinct, or dead, when it hasn’t erup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for at least 100,000 yea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0" y="4371840"/>
            <a:ext cx="91440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15508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Eruption patterns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540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re are three different levels of erup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68360" y="1773360"/>
            <a:ext cx="49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If it easy for the gases to escape, then the eruption is very gentle. However, the lava is very runny and can move very fas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95280" y="4365720"/>
            <a:ext cx="82090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2.  Gas builds up and lumps of rock (‘</a:t>
            </a:r>
            <a:r>
              <a:rPr b="0" lang="en-GB" sz="2200" spc="-1" strike="noStrike" u="sng">
                <a:solidFill>
                  <a:srgbClr val="00cc00"/>
                </a:solidFill>
                <a:uFillTx/>
                <a:latin typeface="Comic Sans MS"/>
                <a:hlinkClick r:id="rId1" action="ppaction://hlinksldjump"/>
              </a:rPr>
              <a:t>bombs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’) and ash burst out of the volcano. This makes the lava thick and stick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volcanoes1a"/>
          <p:cNvPicPr/>
          <p:nvPr/>
        </p:nvPicPr>
        <p:blipFill>
          <a:blip r:embed="rId2"/>
          <a:stretch/>
        </p:blipFill>
        <p:spPr>
          <a:xfrm>
            <a:off x="5651640" y="907920"/>
            <a:ext cx="324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461952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is is the fiercest eruption of all because the gases and magma become trapped inside the volcano. This causes a huge explosion, which can be big enough to remove the top of the whole mountain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volcanoes1_3_sm"/>
          <p:cNvPicPr/>
          <p:nvPr/>
        </p:nvPicPr>
        <p:blipFill>
          <a:blip r:embed="rId1"/>
          <a:stretch/>
        </p:blipFill>
        <p:spPr>
          <a:xfrm>
            <a:off x="5003640" y="260280"/>
            <a:ext cx="3951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3104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ccaa00"/>
                </a:solidFill>
                <a:uFillTx/>
                <a:latin typeface="Comic Sans MS"/>
              </a:rPr>
              <a:t>Did you know?</a:t>
            </a:r>
            <a:endParaRPr b="0" lang="en-US" sz="2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3573360"/>
            <a:ext cx="79930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Pumice stone, which comes from volcanoes, is very light because it contains lot of tiny bubbles. If there are enough bubbles, then pumice stone can float on water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5280" y="1413000"/>
            <a:ext cx="45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ount Kilauea, in Hawaii, is the most active volcano on Earth because it has been erupting since 1983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494172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word, ‘volcano’ comes from the name Vulcan, who was the Roman god of fi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pdv031102"/>
          <p:cNvPicPr/>
          <p:nvPr/>
        </p:nvPicPr>
        <p:blipFill>
          <a:blip r:embed="rId1"/>
          <a:stretch/>
        </p:blipFill>
        <p:spPr>
          <a:xfrm>
            <a:off x="4932360" y="1125360"/>
            <a:ext cx="39243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8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 u="sng">
                <a:solidFill>
                  <a:srgbClr val="ccaa00"/>
                </a:solidFill>
                <a:uFillTx/>
                <a:latin typeface="Arial"/>
              </a:rPr>
              <a:t>GLOSSARY</a:t>
            </a:r>
            <a:endParaRPr b="0" lang="en-US" sz="40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cc00"/>
                </a:solidFill>
                <a:uFillTx/>
                <a:latin typeface="Comic Sans MS"/>
                <a:hlinkClick r:id="rId1" action="ppaction://hlinksldjump"/>
              </a:rPr>
              <a:t>Bomb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– a lump of rock thrown out in an eru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rater – a deep hollow at the top of a volc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rust – The top layer of the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ruption – the release of gases, magma and rock from a volc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ava – melted rock that flows down the volc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agma – melted rock inside the Ear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olten – melted,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Vent – a crack on the side of a volcano where magma can esc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5040360" cy="2509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volcanic_ash_soufiere"/>
          <p:cNvPicPr/>
          <p:nvPr/>
        </p:nvPicPr>
        <p:blipFill>
          <a:blip r:embed="rId3"/>
          <a:stretch/>
        </p:blipFill>
        <p:spPr>
          <a:xfrm>
            <a:off x="5364000" y="4076640"/>
            <a:ext cx="3600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7:07:34Z</dcterms:created>
  <dc:creator>Firdaws Khalfey</dc:creator>
  <dc:description/>
  <dc:language>en-US</dc:language>
  <cp:lastModifiedBy>ksu</cp:lastModifiedBy>
  <dcterms:modified xsi:type="dcterms:W3CDTF">2011-10-14T20:15:45Z</dcterms:modified>
  <cp:revision>5</cp:revision>
  <dc:subject/>
  <dc:title>PowerPoint Presentation</dc:title>
</cp:coreProperties>
</file>