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AF6-366C-4A5A-94B0-9399C563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C7B-06E4-4398-A462-E233928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2DF-5A26-416E-A394-BC6C46D9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3A8-5CFE-411F-99B4-8FC81D53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D74A0-46A0-4C53-87E4-A676F292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7148-B145-4DC7-B2A5-1AE8430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F878-9CE6-40DB-A8AA-81B9333C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E1E0-14AD-406C-8F7E-A50269E1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8CEE-F654-446B-8560-B9F9D65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64661-1271-4925-819E-04DE9FFE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BCED0-63E5-4681-9E8E-5B54EBB2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F9B-0E34-44BB-A1CE-0007C58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3FF55-AC7D-4A0A-8F99-6078369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2D25F-70F2-42BC-AA9D-3897164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F018-6E3F-4E9B-B187-22B8409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06DA1-1835-4B06-9D58-C6E52C73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1C743-99F7-4BBC-A458-E202A609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3BD-7C8C-4D75-BE5F-2A6D0A8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4FF-7856-4D53-9F57-6F67889C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FE8-F92D-4E11-911E-CF14C86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9A4-2E36-4335-BF1B-24A27F8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769-CE4B-4F79-9F9D-CE2582F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960-A910-4417-89D3-D5F8B572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255-A854-4587-892C-BF48CCF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14F9-ABE4-4902-B416-9E4F3B83F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2D2-8289-47EC-92EA-5D2143E5B3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are often cone-shaped, but they can take other shapes to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155736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y are formed whe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molte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sticky rock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magm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forces its way through a crack in the Earth’s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cru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84360" y="5084640"/>
            <a:ext cx="79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melted rock that spills out of the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5" action="ppaction://hlinksldjump"/>
              </a:rPr>
              <a:t>crater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the top of the volcano is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6" action="ppaction://hlinksldjump"/>
              </a:rPr>
              <a:t>lav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The lava destroys everything in its path because it is very, very ho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hi_VolcanoesNP"/>
          <p:cNvPicPr/>
          <p:nvPr/>
        </p:nvPicPr>
        <p:blipFill>
          <a:blip r:embed="rId1"/>
          <a:stretch/>
        </p:blipFill>
        <p:spPr>
          <a:xfrm>
            <a:off x="3419640" y="476280"/>
            <a:ext cx="5333760" cy="3201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ere do volcanoes happen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6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st volcanoes are formed on land, but there are some volcanoes that are on the ocean floor. Some of these volcanoes emerge from the water because they are very hig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348000" y="3860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y does a volcano erup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08360" y="4437000"/>
            <a:ext cx="5040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erupt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when magma and gases find a way to escape, so they burst to the surface through a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ven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A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erup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can be quite gentle or very viol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Types of volcano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can be active, dormant or extinc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1280" y="213372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active, or alive, when it erupts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27082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When a volcano is dormant, or sleeping, it has no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erupted for a long time – but it might in the fu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645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extinct, or dead, when it hasn’t erup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or at least 100,000 yea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4371840"/>
            <a:ext cx="9144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55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Eruption patterns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54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re are three different levels of erup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68360" y="1773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If it easy for the gases to escape, then the eruption is very gentle. However, the lava is very runny and can move very fa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95280" y="4365720"/>
            <a:ext cx="8209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2.  Gas builds up and lumps of rock (‘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’) and ash burst out of the volcano. This makes the lava thick and stick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volcanoes1a"/>
          <p:cNvPicPr/>
          <p:nvPr/>
        </p:nvPicPr>
        <p:blipFill>
          <a:blip r:embed="rId2"/>
          <a:stretch/>
        </p:blipFill>
        <p:spPr>
          <a:xfrm>
            <a:off x="5651640" y="90792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46195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is is the fiercest eruption of all because the gases and magma become trapped inside the volcano. This causes a huge explosion, which can be big enough to remove the top of the whole mountai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volcanoes1_3_sm"/>
          <p:cNvPicPr/>
          <p:nvPr/>
        </p:nvPicPr>
        <p:blipFill>
          <a:blip r:embed="rId1"/>
          <a:stretch/>
        </p:blipFill>
        <p:spPr>
          <a:xfrm>
            <a:off x="5003640" y="260280"/>
            <a:ext cx="3951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Did you know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357336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Pumice stone, which comes from volcanoes, is very light because it contains lot of tiny bubbles. If there are enough bubbles, then pumice stone can float on wat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5280" y="1413000"/>
            <a:ext cx="45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unt Kilauea, in Hawaii, is the most active volcano on Earth because it has been erupting since 1983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49417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word, ‘volcano’ comes from the name Vulcan, who was the Roman god of fi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pdv031102"/>
          <p:cNvPicPr/>
          <p:nvPr/>
        </p:nvPicPr>
        <p:blipFill>
          <a:blip r:embed="rId1"/>
          <a:stretch/>
        </p:blipFill>
        <p:spPr>
          <a:xfrm>
            <a:off x="4932360" y="1125360"/>
            <a:ext cx="39243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8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ccaa00"/>
                </a:solidFill>
                <a:uFillTx/>
                <a:latin typeface="Arial"/>
              </a:rPr>
              <a:t>GLOSSARY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a lump of rock thrown out in an eru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ater – a deep hollow at the top of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ust – The top layer of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ruption – the release of gases, magma and rock from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ava – melted rock that flows down the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gma – melted rock inside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lten – melted,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Vent – a crack on the side of a volcano where magma can esc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50403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volcanic_ash_soufiere"/>
          <p:cNvPicPr/>
          <p:nvPr/>
        </p:nvPicPr>
        <p:blipFill>
          <a:blip r:embed="rId3"/>
          <a:stretch/>
        </p:blipFill>
        <p:spPr>
          <a:xfrm>
            <a:off x="5364000" y="407664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7:07:34Z</dcterms:created>
  <dc:creator>Firdaws Khalfey</dc:creator>
  <dc:description/>
  <dc:language>en-US</dc:language>
  <cp:lastModifiedBy>ksu</cp:lastModifiedBy>
  <dcterms:modified xsi:type="dcterms:W3CDTF">2011-10-14T20:15:45Z</dcterms:modified>
  <cp:revision>5</cp:revision>
  <dc:subject/>
  <dc:title>PowerPoint Presentation</dc:title>
</cp:coreProperties>
</file>