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DC2E-2D61-4527-8D1C-B72FD96C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DF8-1995-4AEA-841E-60E7C5DA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0E8-91ED-4C6C-8761-F1EB8092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A5EF-D2BE-4028-B7F3-9EFC4E85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2097D-8282-4DE9-946B-3E3A59F9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30073-8229-41C6-9703-FA4CD7C4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0E219-E322-443C-9749-E62C4D9A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51B60-7D0B-45D0-A181-23E27810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2DB3F-323C-4C78-8AB2-74C3F65C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C5D3B-3A78-42C2-82F3-07F315E8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10E49-6DB5-40D8-8B1E-43557DA1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A1B9-1177-4042-A1B7-AC20C133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FB978-7F0E-47B8-8AD1-13998608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A0A80-2D45-486B-97C8-CEC7B665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D9F8F-869A-4867-9EA9-D70F1896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43DA6-5B35-41BF-AA80-514B78C2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83554-9E18-44D7-924F-5975A5B3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C0C-FC2C-4684-8922-F13C51C8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2D08-C606-4132-A243-CC8BA24A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E20B-9512-42A6-9A8C-644BC02D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CAD-A0E1-439D-8BA7-A0241D39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8218-2488-4D92-86FA-E35B66D7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DAA1-9524-4FF7-8A4B-0AA85068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4B82-4B1A-4D61-AD3D-797457F9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00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87c68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86a53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88DE-4516-478F-AEE1-B55A09D2A9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00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87c68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86a53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2BF3-DC67-4E43-954F-F7C6CD5ADB6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Volcanoes are often cone-shaped, but they can take other shapes to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684360" y="1557360"/>
            <a:ext cx="799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y are formed when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2" action="ppaction://hlinksldjump"/>
              </a:rPr>
              <a:t>molten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, sticky rock called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3" action="ppaction://hlinksldjump"/>
              </a:rPr>
              <a:t>magma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, forces its way through a crack in the Earth’s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4" action="ppaction://hlinksldjump"/>
              </a:rPr>
              <a:t>crust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684360" y="5084640"/>
            <a:ext cx="792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 melted rock that spills out of the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5" action="ppaction://hlinksldjump"/>
              </a:rPr>
              <a:t>crater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on the top of the volcano is called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6" action="ppaction://hlinksldjump"/>
              </a:rPr>
              <a:t>lava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. The lava destroys everything in its path because it is very, very hot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hi_VolcanoesNP"/>
          <p:cNvPicPr/>
          <p:nvPr/>
        </p:nvPicPr>
        <p:blipFill>
          <a:blip r:embed="rId1"/>
          <a:stretch/>
        </p:blipFill>
        <p:spPr>
          <a:xfrm>
            <a:off x="3419640" y="476280"/>
            <a:ext cx="5333760" cy="32018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287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ccaa00"/>
                </a:solidFill>
                <a:uFillTx/>
                <a:latin typeface="Comic Sans MS"/>
              </a:rPr>
              <a:t>Where do volcanoes happen?</a:t>
            </a:r>
            <a:endParaRPr b="0" lang="en-US" sz="2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266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Most volcanoes are formed on land, but there are some volcanoes that are on the ocean floor. Some of these volcanoes emerge from the water because they are very high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348000" y="3860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ccaa00"/>
                </a:solidFill>
                <a:uFillTx/>
                <a:latin typeface="Comic Sans MS"/>
              </a:rPr>
              <a:t>Why does a volcano erup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708360" y="4437000"/>
            <a:ext cx="504036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A volcano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2" action="ppaction://hlinksldjump"/>
              </a:rPr>
              <a:t>erupts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when magma and gases find a way to escape, so they burst to the surface through a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3" action="ppaction://hlinksldjump"/>
              </a:rPr>
              <a:t>vent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. An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4" action="ppaction://hlinksldjump"/>
              </a:rPr>
              <a:t>eruption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can be quite gentle or very viol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ccaa00"/>
                </a:solidFill>
                <a:uFillTx/>
                <a:latin typeface="Comic Sans MS"/>
              </a:rPr>
              <a:t>Types of volcano</a:t>
            </a:r>
            <a:endParaRPr b="0" lang="en-US" sz="2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Volcanoes can be active, dormant or extinc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11280" y="213372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A volcano is active, or alive, when it erupts ofte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11280" y="270828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When a volcano is dormant, or sleeping, it has no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erupted for a long time – but it might in the futu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11280" y="364500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A volcano is extinct, or dead, when it hasn’t erup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for at least 100,000 yea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1"/>
          <a:stretch/>
        </p:blipFill>
        <p:spPr>
          <a:xfrm>
            <a:off x="0" y="4371840"/>
            <a:ext cx="91440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15508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ccaa00"/>
                </a:solidFill>
                <a:uFillTx/>
                <a:latin typeface="Comic Sans MS"/>
              </a:rPr>
              <a:t>Eruption patterns</a:t>
            </a:r>
            <a:endParaRPr b="0" lang="en-US" sz="2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5400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re are three different levels of erup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68360" y="1773360"/>
            <a:ext cx="49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If it easy for the gases to escape, then the eruption is very gentle. However, the lava is very runny and can move very fas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95280" y="4365720"/>
            <a:ext cx="82090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2.  Gas builds up and lumps of rock (‘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1" action="ppaction://hlinksldjump"/>
              </a:rPr>
              <a:t>bombs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’) and ash burst out of the volcano. This makes the lava thick and stick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volcanoes1a"/>
          <p:cNvPicPr/>
          <p:nvPr/>
        </p:nvPicPr>
        <p:blipFill>
          <a:blip r:embed="rId2"/>
          <a:stretch/>
        </p:blipFill>
        <p:spPr>
          <a:xfrm>
            <a:off x="5651640" y="907920"/>
            <a:ext cx="324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461952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is is the fiercest eruption of all because the gases and magma become trapped inside the volcano. This causes a huge explosion, which can be big enough to remove the top of the whole mountain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5" descr="volcanoes1_3_sm"/>
          <p:cNvPicPr/>
          <p:nvPr/>
        </p:nvPicPr>
        <p:blipFill>
          <a:blip r:embed="rId1"/>
          <a:stretch/>
        </p:blipFill>
        <p:spPr>
          <a:xfrm>
            <a:off x="5003640" y="260280"/>
            <a:ext cx="39513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ccaa00"/>
                </a:solidFill>
                <a:uFillTx/>
                <a:latin typeface="Comic Sans MS"/>
              </a:rPr>
              <a:t>Did you know?</a:t>
            </a:r>
            <a:endParaRPr b="0" lang="en-US" sz="2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3573360"/>
            <a:ext cx="79930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Pumice stone, which comes from volcanoes, is very light because it contains lot of tiny bubbles. If there are enough bubbles, then pumice stone can float on water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95280" y="1413000"/>
            <a:ext cx="45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Mount Kilauea, in Hawaii, is the most active volcano on Earth because it has been erupting since 1983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24000" y="494172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 word, ‘volcano’ comes from the name Vulcan, who was the Roman god of fi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6" descr="pdv031102"/>
          <p:cNvPicPr/>
          <p:nvPr/>
        </p:nvPicPr>
        <p:blipFill>
          <a:blip r:embed="rId1"/>
          <a:stretch/>
        </p:blipFill>
        <p:spPr>
          <a:xfrm>
            <a:off x="4932360" y="1125360"/>
            <a:ext cx="392436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8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 u="sng">
                <a:solidFill>
                  <a:srgbClr val="ccaa00"/>
                </a:solidFill>
                <a:uFillTx/>
                <a:latin typeface="Arial"/>
              </a:rPr>
              <a:t>GLOSSARY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cc00"/>
                </a:solidFill>
                <a:uFillTx/>
                <a:latin typeface="Comic Sans MS"/>
                <a:hlinkClick r:id="rId1" action="ppaction://hlinksldjump"/>
              </a:rPr>
              <a:t>Bomb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– a lump of rock thrown out in an eru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rater – a deep hollow at the top of a volc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rust – The top layer of the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ruption – the release of gases, magma and rock from a volc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ava – melted rock that flows down the volc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agma – melted rock inside the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olten – melted,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Vent – a crack on the side of a volcano where magma can esca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5040360" cy="2509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volcanic_ash_soufiere"/>
          <p:cNvPicPr/>
          <p:nvPr/>
        </p:nvPicPr>
        <p:blipFill>
          <a:blip r:embed="rId3"/>
          <a:stretch/>
        </p:blipFill>
        <p:spPr>
          <a:xfrm>
            <a:off x="5364000" y="4076640"/>
            <a:ext cx="36007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7:07:34Z</dcterms:created>
  <dc:creator>Firdaws Khalfey</dc:creator>
  <dc:description/>
  <dc:language>en-US</dc:language>
  <cp:lastModifiedBy>ksu</cp:lastModifiedBy>
  <dcterms:modified xsi:type="dcterms:W3CDTF">2011-10-14T20:15:45Z</dcterms:modified>
  <cp:revision>5</cp:revision>
  <dc:subject/>
  <dc:title>PowerPoint Presentation</dc:title>
</cp:coreProperties>
</file>