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1.xml" ContentType="application/vnd.openxmlformats-officedocument.presentationml.notesSlide+xml"/>
  <Override PartName="/ppt/notesSlides/_rels/notesSlide5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29.jpeg" ContentType="image/jpeg"/>
  <Override PartName="/ppt/media/image3.png" ContentType="image/png"/>
  <Override PartName="/ppt/media/image2.png" ContentType="image/png"/>
  <Override PartName="/ppt/media/image22.gif" ContentType="image/gif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3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DBEB-A57C-4E26-BCA6-830D64D30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B8C-D455-4AAD-8EA4-F122D2EB059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EDB9-C355-4AAA-B539-B3D73519272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BCD0-9F9A-459C-8780-19CD0B8BC91A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2534-405E-4492-8E0B-30BF345C0E5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90D1-516A-44FB-96AB-559F11399FD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804E-322F-42C8-963D-D7DD8370F0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9347-DEF8-469F-8CDF-B74D419F496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021E-7077-40DC-84FB-AB888697EA2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642F-4AD3-45DA-9D2F-0BF72006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25E-3ED8-46AD-82F2-F433182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A99-150E-47A7-BB42-2DE2D220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C68-0BC9-4BD4-B741-854781EA3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B8D7-1339-47C9-99DD-22A71E8E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5E9E-7029-4D40-87C6-5B1166EF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2BC6-0A00-4EFC-AF20-4256F7F7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3CD9-F948-4EA0-8F21-CC6E5157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01F9-D24F-42B0-AD64-C6FF7B8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CB77-AA6D-4002-8A85-957F17CF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F37D-AAD8-4171-9359-AB8918E9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CA17-92FD-456C-B912-C331F055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22F2-BE57-433E-A27D-83BE3F3A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0887-A26E-4AAE-9EC8-837EFC4C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2863-00F2-4C0F-A0A5-8D89C5CF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58C5-65AF-4C4D-963B-89AD94F2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3B4-5666-41E6-9590-97E3B652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9314C-C655-4228-81DB-27055B58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B962F-521C-4506-9D9D-1757C462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61003-EC27-44ED-B753-4EAD5570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FD89D-7663-4355-8109-BC8D231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DB2C0-2201-4C80-A526-64817DB2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D92E-B3B9-4100-8DA3-F81D3A28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2CABF1-3676-4BBF-AF97-784FE1A6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25836-8693-4A0E-8E62-6686BCF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5A228-9243-456E-B51C-19268215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21573-01BF-49A5-AD1E-4021EAFA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CA812-80C3-4FC4-BEAD-6F1BE7FD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92D7D-3901-4893-BE61-E322B052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43EB7-992E-4777-AF18-036F6F09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93EB-8CCE-46EF-B249-DC89AA26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E61FA-F780-47EF-87B4-50C9D253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01048-C7E9-4C96-80D5-9A96BFBF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ADE-3E85-46BB-8A40-79C6E61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FDDF-4197-4E36-9B9B-45FFC251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CA6E-016C-4AE6-80A0-9C11752D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3095C-E73E-428D-9598-5E464511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74075-C603-4E58-BCC9-7E9BD84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8EDBD-FCD5-4E89-9CC0-E4BF7AD2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A2C0-B8C9-43C4-A736-13DB041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6D547-1E46-480A-94D2-36FE4066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73BD-3251-436F-963B-ACB1B96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9066A-CBC4-4203-B91F-FB4865CA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50E9C-0597-4997-BBC0-395E2D84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5049-8146-4704-B0E7-46CDBEE2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7FFD2-7460-4F65-8544-1762AECA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6EB32-BAD6-4744-A49A-67DDE8C3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1136AD-A906-401F-B808-E9138982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843A24-E324-4002-94C5-3A0A3679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F0EBB-BD2D-48DA-B791-871E7002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5901AC-6EF8-4F6A-B390-0A910A7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3B912-CF4D-45A8-9FF0-E5FBFFF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7ED5D-E73B-4ACF-8F4E-058B60B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6C5F7-2544-4796-B116-D020295F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CC91B-BBA9-4491-A4DF-D10CA30B6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F3A-9606-42DE-8E82-0AB9EA8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AAA653-CC52-45B4-B1D5-F7D676FE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B6562-5178-4FB6-9083-0B7D9D37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36FD1-1051-42A4-B384-BB4D008A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D53274-8EDE-4B0A-ACC9-EE679793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CCE91-0518-4CCE-BA33-F83DCAA3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1A379-9794-436D-B3F8-A76F4589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353477-12A8-403A-AA1D-47AC767B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8FFFF-66FC-4943-B8BD-206183D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69EC6B-D5A2-4A57-B62F-F43D2B8D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B6C06-29D7-4BED-8CD6-4AFA027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671-6BDF-43C4-9345-7894E64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3F1683-A56E-41D1-8CAE-DCEAAFB4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49228-B184-4887-B6B3-83B3849F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54A199-3002-43D3-B9E0-9BC7DAEA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C68D09-90C6-4B61-B4F6-155607CC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EE420A-C385-4D39-8BEC-5B8D8B3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BAA6A-68A8-4CFF-8A29-E713B232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CED622-2B3D-4AFE-BE59-80ABFAB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CECB0-198E-45C8-B6E9-8104E50F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6AE535-CA1C-4726-B313-FB3608E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0FB66-3EA6-402E-8CF4-7B5AFFDA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EB5-F925-493F-BD20-B378B1A0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80198-2BDB-43F3-B3DB-72D1A62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8F8426-3470-4B2A-8780-CFF99230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EADCE-1FE7-4679-803D-631B3ED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E99CD-9BC7-48D8-9CEA-0343FD2E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C9E36-DA5E-4C15-902B-2A8150EF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60E-5649-47FE-9F28-01727862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4DD2-6AE1-4872-BBB4-7F5BA8A02C4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923E-F0E7-481E-9B0C-0BF0D8E945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1889-6530-42E9-851A-835D990B38C8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610B-B9A7-48EB-AAD2-F919103E9F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EA4D-B52E-4626-8269-AF6A1510CCC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CBFE-F1EF-43A2-AE61-36E6EE9B9D2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5E74-0BF5-4EA6-9F7E-88D6E296A696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2758-7283-4B32-9075-D242BF348A4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E2FE-5A73-48AF-B87F-14FF34F6C1AD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296-F9CC-44A9-B52D-833F7A2A8B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5DF-773A-4C7D-BB24-0DE1D25632A3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7495-5A7C-48BA-9D7F-044D12FDA7F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00C1-1282-4583-BE8A-16BCAA1F6882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A2F-18CD-4008-AA96-90FE2B30C5B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2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Copyright © 2007 Pearson Education, Inc.  Publishing as Pearson Addison-Wes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5640" y="129492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entury Schoolbook"/>
              </a:rPr>
              <a:t>CHS 221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VISUALIZING DATA</a:t>
            </a: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Week 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Schoolbook"/>
              </a:rPr>
              <a:t>Dr. Wajed Hatamle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entury Schoolbook"/>
              </a:rPr>
              <a:t>http://staff.ksu.edu.sa/whatamleh/en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63DE-FAB7-4E1E-B8D2-A447D44104D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FREQUENCY POLYGONS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962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frequency polyg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e that the line is brought down to zero for the score below lowest data point (54) and above highest data point (75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83040" y="1891800"/>
            <a:ext cx="380376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3" name="Picture 5" descr=""/>
          <p:cNvPicPr/>
          <p:nvPr/>
        </p:nvPicPr>
        <p:blipFill>
          <a:blip r:embed="rId1"/>
          <a:srcRect l="4081" t="0" r="0" b="0"/>
          <a:stretch/>
        </p:blipFill>
        <p:spPr>
          <a:xfrm>
            <a:off x="4876920" y="1905120"/>
            <a:ext cx="3801960" cy="380988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g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7240" y="1104840"/>
            <a:ext cx="77724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g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a graph of a cumulative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687240" y="1581120"/>
            <a:ext cx="7772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data values are shown on the horizont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87240" y="2057400"/>
            <a:ext cx="777240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own on the vertical axis are t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frequencie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relative frequencies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125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cumulative perc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687240" y="3867120"/>
            <a:ext cx="777240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requency (one of the above) of each class is plotted as a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687240" y="4762440"/>
            <a:ext cx="77724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lotted points are connected by straight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8"/>
          <p:cNvSpPr/>
          <p:nvPr/>
        </p:nvSpPr>
        <p:spPr>
          <a:xfrm rot="5400000">
            <a:off x="485640" y="126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"/>
          <p:cNvSpPr/>
          <p:nvPr/>
        </p:nvSpPr>
        <p:spPr>
          <a:xfrm rot="5400000">
            <a:off x="485640" y="1746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0"/>
          <p:cNvSpPr/>
          <p:nvPr/>
        </p:nvSpPr>
        <p:spPr>
          <a:xfrm rot="5400000">
            <a:off x="485640" y="222228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1"/>
          <p:cNvSpPr/>
          <p:nvPr/>
        </p:nvSpPr>
        <p:spPr>
          <a:xfrm rot="5400000">
            <a:off x="485640" y="4032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2"/>
          <p:cNvSpPr/>
          <p:nvPr/>
        </p:nvSpPr>
        <p:spPr>
          <a:xfrm rot="5400000">
            <a:off x="485640" y="49273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1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63D3-D4A3-419D-88D2-93ADD7D6E6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977760" y="87480"/>
            <a:ext cx="716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Og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762120" y="137160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 graph that depicts cumulativ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Group 9"/>
          <p:cNvGrpSpPr/>
          <p:nvPr/>
        </p:nvGrpSpPr>
        <p:grpSpPr>
          <a:xfrm>
            <a:off x="2550960" y="2508120"/>
            <a:ext cx="4086360" cy="3773160"/>
            <a:chOff x="2550960" y="2508120"/>
            <a:chExt cx="4086360" cy="3773160"/>
          </a:xfrm>
        </p:grpSpPr>
        <p:sp>
          <p:nvSpPr>
            <p:cNvPr id="519" name="Rectangle 2"/>
            <p:cNvSpPr/>
            <p:nvPr/>
          </p:nvSpPr>
          <p:spPr>
            <a:xfrm>
              <a:off x="3943440" y="591804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0" name="Picture 7" descr="2_04"/>
            <p:cNvPicPr/>
            <p:nvPr/>
          </p:nvPicPr>
          <p:blipFill>
            <a:blip r:embed="rId1"/>
            <a:stretch/>
          </p:blipFill>
          <p:spPr>
            <a:xfrm>
              <a:off x="2550960" y="2508120"/>
              <a:ext cx="4086360" cy="331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9879-1F84-4F60-ADE4-D5CB259D33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575f6d"/>
                </a:solidFill>
                <a:latin typeface="Arial"/>
                <a:ea typeface="Times New Roman"/>
              </a:rPr>
              <a:t>BAR GRAPHS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ar grap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Used for quanitive and qualitativ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 graphs have a horizontal dimension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X ax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that specifies categories (i.e., data valu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ertical dimension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Y axi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specifies either frequencies or percentag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s for each category drawn to the height that indicates the frequency or 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3CF-1547-4E08-9889-8C2FFAF45E1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BAR GRAPH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286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bar 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e the bars do not touch each o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649760" y="2403360"/>
            <a:ext cx="403704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1"/>
          <a:srcRect l="1376" t="7049" r="150" b="6667"/>
          <a:stretch/>
        </p:blipFill>
        <p:spPr>
          <a:xfrm>
            <a:off x="2602080" y="1533600"/>
            <a:ext cx="638964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PIE CH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ie Chart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lso used for quantitative and qualitativ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ircle is divided into pie-shaped wedges corresponding to percentages for a given category or data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pieces add up to 100%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lace wedges in order, with biggest wedge starting at “12 o’clock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3264-244D-4393-BA12-ACDAAEF82D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880" y="0"/>
            <a:ext cx="9140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PIE CHAR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256212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pie chart, for same marital status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838760" cy="456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050"/>
          <p:cNvSpPr/>
          <p:nvPr/>
        </p:nvSpPr>
        <p:spPr>
          <a:xfrm>
            <a:off x="3213000" y="101520"/>
            <a:ext cx="2718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2051"/>
          <p:cNvSpPr/>
          <p:nvPr/>
        </p:nvSpPr>
        <p:spPr>
          <a:xfrm>
            <a:off x="380880" y="1905120"/>
            <a:ext cx="79250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 graphs that are pictures of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in mind that the object of this section is not just to construct graphs, but to learn something about the data sets – that is, to understand the nature of their distrib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41AD-6C85-4372-903B-9C74DA1A9F8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Arial"/>
              </a:rPr>
              <a:t>CHARACTERISTICS OF A DATA DISTRIBU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oth central tendency and variability can be expressed by indexes that are descriptive statistic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EE4-2FB9-44F1-BA31-2F358FE21E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ENTRAL TENDENC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dexes of central tendency provide a single number to characterize a distrib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easur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entral tend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ome from the center of the distribution of data values, indicating what is “typical,” and where data values tend to clus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ly called an “averag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2310-3CB8-4BC5-AF99-C3BE94B92A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34680" y="88920"/>
            <a:ext cx="786132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79f"/>
                </a:solidFill>
                <a:latin typeface="Century Schoolbook"/>
              </a:rPr>
              <a:t>VISUALIZING DATA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270000" y="439560"/>
            <a:ext cx="94608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762120" y="1752480"/>
            <a:ext cx="7391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Hebrew"/>
                <a:ea typeface="Adobe Hebrew"/>
              </a:rPr>
              <a:t>Depict the nature of shape or shape of the data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dobe Hebrew"/>
                <a:ea typeface="Adobe Hebrew"/>
              </a:rPr>
              <a:t>In a graph: Different graphs used for different types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99C-2D3C-4F6B-8C6E-FF866DBB3A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ENTRAL TENDENCY INDEX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ee alternative index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od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edi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mea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3C9-B41C-4378-A00A-F3D5EFD5FF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score value with the highest frequency; the most “popular” sco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ode = 27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56" name="Object 2"/>
          <p:cNvGraphicFramePr/>
          <p:nvPr/>
        </p:nvGraphicFramePr>
        <p:xfrm>
          <a:off x="5334120" y="1905120"/>
          <a:ext cx="350496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905120"/>
                    <a:ext cx="350496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6E99-F608-4F2C-A941-949445382BB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an be used with data measured on any measurement level (including nominal level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sy to “compu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flects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ctual valu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the distribution, so it is easy to underst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seful when there are 2+ “popular” scores (i.e., in multimodal distribution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E389-5156-4607-A59D-4405078F57F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23240" y="74520"/>
            <a:ext cx="2170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Mo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30320" y="990720"/>
            <a:ext cx="9013680" cy="323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A data set may be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Bimod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2611c"/>
                </a:solidFill>
                <a:latin typeface="Century Schoolbook"/>
              </a:rPr>
              <a:t>No Mod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130320" y="4572000"/>
            <a:ext cx="7619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denoted by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the only measure of central tendency that can be used with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alitative</a:t>
            </a:r>
            <a:r>
              <a:rPr b="1" lang="en-US" sz="2800" spc="-1" strike="noStrike">
                <a:solidFill>
                  <a:srgbClr val="575f6d"/>
                </a:solidFill>
                <a:latin typeface="Arial"/>
              </a:rPr>
              <a:t>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C6D-9A1D-4C7D-875A-8009D52503A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710640" y="1905120"/>
            <a:ext cx="4255200" cy="24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 5.40  1.10  0.42  0.73  0.48  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27  27  27  55  55  55  88  88  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575f6d"/>
                </a:solidFill>
                <a:latin typeface="Arial"/>
              </a:rPr>
              <a:t>  1   2   3   6   7   8   9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04920" y="1955880"/>
            <a:ext cx="5207040" cy="2241360"/>
          </a:xfrm>
          <a:prstGeom prst="rect">
            <a:avLst/>
          </a:prstGeom>
          <a:noFill/>
          <a:ln w="25560">
            <a:solidFill>
              <a:srgbClr val="575f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2701800" y="74520"/>
            <a:ext cx="373860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2776680" y="4237200"/>
            <a:ext cx="3920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5562360" y="1980720"/>
            <a:ext cx="3282840" cy="238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Mode is 1.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Bimodal -  27 &amp; 5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70000"/>
              </a:lnSpc>
              <a:spcAft>
                <a:spcPts val="901"/>
              </a:spcAft>
              <a:buClr>
                <a:srgbClr val="d2611c"/>
              </a:buClr>
              <a:buSzPct val="150000"/>
              <a:buFont typeface="Wingding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No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1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0E35-77C6-44AC-BB1D-A5AE9289442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ODE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gnores most information in the distribu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ends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unstab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i.e., value varies a lot from one sample to the next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distributions may not have a mode (e.g., 10, 10, 11, 11, 12, 1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9777-0113-4D3E-88F0-0091530502E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score that divides the distribution into two equal halv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50% are below the median, 50% abov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dian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(Mdn) =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2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2920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edi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78" name="Object 2"/>
          <p:cNvGraphicFramePr/>
          <p:nvPr/>
        </p:nvGraphicFramePr>
        <p:xfrm>
          <a:off x="5181480" y="2057400"/>
          <a:ext cx="3429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7400"/>
                    <a:ext cx="3429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0C95-1506-45BF-9D00-E8B3757EA10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776520" y="3627360"/>
            <a:ext cx="4374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"/>
          <p:cNvSpPr/>
          <p:nvPr/>
        </p:nvSpPr>
        <p:spPr>
          <a:xfrm>
            <a:off x="3262320" y="5119560"/>
            <a:ext cx="7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3476520" y="5500800"/>
            <a:ext cx="32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3967200" y="5232240"/>
            <a:ext cx="8697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6"/>
          <p:cNvGrpSpPr/>
          <p:nvPr/>
        </p:nvGrpSpPr>
        <p:grpSpPr>
          <a:xfrm>
            <a:off x="304920" y="4114800"/>
            <a:ext cx="7619760" cy="2413080"/>
            <a:chOff x="304920" y="4114800"/>
            <a:chExt cx="7619760" cy="2413080"/>
          </a:xfrm>
        </p:grpSpPr>
        <p:grpSp>
          <p:nvGrpSpPr>
            <p:cNvPr id="586" name="Group 7"/>
            <p:cNvGrpSpPr/>
            <p:nvPr/>
          </p:nvGrpSpPr>
          <p:grpSpPr>
            <a:xfrm>
              <a:off x="304920" y="4114800"/>
              <a:ext cx="7619760" cy="2413080"/>
              <a:chOff x="304920" y="4114800"/>
              <a:chExt cx="7619760" cy="2413080"/>
            </a:xfrm>
          </p:grpSpPr>
          <p:sp>
            <p:nvSpPr>
              <p:cNvPr id="587" name="Rectangle 8"/>
              <p:cNvSpPr/>
              <p:nvPr/>
            </p:nvSpPr>
            <p:spPr>
              <a:xfrm>
                <a:off x="304920" y="4114800"/>
                <a:ext cx="7619760" cy="2413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575f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Rectangle 9"/>
              <p:cNvSpPr/>
              <p:nvPr/>
            </p:nvSpPr>
            <p:spPr>
              <a:xfrm>
                <a:off x="1107000" y="4243680"/>
                <a:ext cx="6079320" cy="19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5.40       1.10      0.42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73      0.48    1.10    0.66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3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  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42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     0.48      0.66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575f6d"/>
                    </a:solidFill>
                    <a:latin typeface="Arial"/>
                  </a:rPr>
                  <a:t>0.73      1.10    1.10    5.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0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in order -                odd number of valu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800" spc="-1" strike="noStrike">
                    <a:solidFill>
                      <a:srgbClr val="575f6d"/>
                    </a:solidFill>
                    <a:latin typeface="Arial"/>
                  </a:rPr>
                  <a:t>exact middle    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MEDIAN</a:t>
                </a:r>
                <a:r>
                  <a:rPr b="1" lang="en-US" sz="3200" spc="-1" strike="noStrike">
                    <a:solidFill>
                      <a:srgbClr val="575f6d"/>
                    </a:solidFill>
                    <a:latin typeface="Arial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is 0.73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Line 10"/>
            <p:cNvSpPr/>
            <p:nvPr/>
          </p:nvSpPr>
          <p:spPr>
            <a:xfrm>
              <a:off x="3505320" y="5029200"/>
              <a:ext cx="0" cy="927360"/>
            </a:xfrm>
            <a:prstGeom prst="line">
              <a:avLst/>
            </a:prstGeom>
            <a:ln w="25560">
              <a:solidFill>
                <a:srgbClr val="d2611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Group 11"/>
          <p:cNvGrpSpPr/>
          <p:nvPr/>
        </p:nvGrpSpPr>
        <p:grpSpPr>
          <a:xfrm>
            <a:off x="609480" y="0"/>
            <a:ext cx="7041960" cy="3625560"/>
            <a:chOff x="609480" y="0"/>
            <a:chExt cx="7041960" cy="3625560"/>
          </a:xfrm>
        </p:grpSpPr>
        <p:sp>
          <p:nvSpPr>
            <p:cNvPr id="591" name="Rectangle 12"/>
            <p:cNvSpPr/>
            <p:nvPr/>
          </p:nvSpPr>
          <p:spPr>
            <a:xfrm>
              <a:off x="609480" y="75960"/>
              <a:ext cx="7041960" cy="3549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1524600" y="0"/>
              <a:ext cx="4767120" cy="21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5.40       1.10      0.42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0.73    0.48    1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0.42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   0.48      0.73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1.10    1.10    5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1149480" y="2797200"/>
              <a:ext cx="1461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75f6d"/>
                  </a:solidFill>
                  <a:latin typeface="Arial"/>
                </a:rPr>
                <a:t>0.73 + 1.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5"/>
            <p:cNvSpPr/>
            <p:nvPr/>
          </p:nvSpPr>
          <p:spPr>
            <a:xfrm>
              <a:off x="1152360" y="3159000"/>
              <a:ext cx="144468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1713960" y="321444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75f6d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2124000" y="2922480"/>
              <a:ext cx="105552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18"/>
            <p:cNvSpPr/>
            <p:nvPr/>
          </p:nvSpPr>
          <p:spPr>
            <a:xfrm>
              <a:off x="1744200" y="1904760"/>
              <a:ext cx="4716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even number of values – no exact 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 by two number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4221360" y="2894040"/>
              <a:ext cx="3364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EDIAN is 0.9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3352680" y="1066680"/>
              <a:ext cx="855720" cy="838080"/>
              <a:chOff x="3352680" y="1066680"/>
              <a:chExt cx="855720" cy="838080"/>
            </a:xfrm>
          </p:grpSpPr>
          <p:sp>
            <p:nvSpPr>
              <p:cNvPr id="600" name="Line 21"/>
              <p:cNvSpPr/>
              <p:nvPr/>
            </p:nvSpPr>
            <p:spPr>
              <a:xfrm>
                <a:off x="3886200" y="1066680"/>
                <a:ext cx="304560" cy="83808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2"/>
              <p:cNvSpPr/>
              <p:nvPr/>
            </p:nvSpPr>
            <p:spPr>
              <a:xfrm flipV="1">
                <a:off x="3898800" y="1294920"/>
                <a:ext cx="0" cy="32688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24"/>
              <p:cNvSpPr/>
              <p:nvPr/>
            </p:nvSpPr>
            <p:spPr>
              <a:xfrm>
                <a:off x="3352680" y="1142640"/>
                <a:ext cx="855720" cy="756720"/>
              </a:xfrm>
              <a:prstGeom prst="line">
                <a:avLst/>
              </a:prstGeom>
              <a:ln w="25560">
                <a:solidFill>
                  <a:srgbClr val="d261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Slide Number Placeholder 2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4D4-E772-4EA9-B45B-5D845DBFF67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t influenced by outli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rticularly good index of what is “typical” when distribution is ske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sy to “compute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8471-D411-4A09-B973-BB2A8E68A6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DIAN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take actual data values into account—only an index of posi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 of median not necessarily an actual data value, so it is more difficult to understand than mo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CB4-BC57-44FA-8A52-7BFB4E73190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458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HISTOGR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666720" y="1066680"/>
            <a:ext cx="7067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ther common graphical present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quantitative data i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66720" y="1924200"/>
            <a:ext cx="741060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variable of interest is placed on the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666720" y="2705040"/>
            <a:ext cx="763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66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rectangle is drawn above each class interval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ts height corresponding to the interval’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ercent frequenc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 rot="5400000">
            <a:off x="504720" y="126972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 rot="5400000">
            <a:off x="504720" y="21272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 rot="5400000">
            <a:off x="504720" y="2927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 rot="5400000">
            <a:off x="504720" y="4184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10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30DC-71E8-461D-A207-F688E56F26C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the arithmetic averag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ata values are summed and divided by </a:t>
            </a:r>
            <a:r>
              <a:rPr b="0" i="1" lang="en-US" sz="3200" spc="-1" strike="noStrike">
                <a:solidFill>
                  <a:srgbClr val="000000"/>
                </a:solidFill>
                <a:latin typeface="Century Schoolbook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Age: 26  27  27  28  29  30  3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Mean = 28.3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76920" y="1447920"/>
            <a:ext cx="3657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⁭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ea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5029200" y="2057400"/>
          <a:ext cx="342900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2057400"/>
                    <a:ext cx="3429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FE7-C560-44B6-A654-C16275C43E5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st frequently used measure of 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M =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Σ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X ÷ 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re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= sample me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the sum o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ctual data valu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umber of peop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6EF-BC17-40F6-B6ED-BAD8A63A556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alance poi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the distribu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m of deviations above the mean always exactly balances those below i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es not ignore any inform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most stable index of central tendenc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ny inferential statistics are based on the mea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5594-1EDB-4CC3-936A-83312F0752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DISADVANTAG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nsitive to outlier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s a distorted view of what is  “typical” when data are skew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alue of mean is often not an actual data val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27DE-2CF4-458C-AF30-3EF2FABB1DD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THE MEAN: SYMBO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mple mea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reports, usually symbolized as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M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 statistical formulas, usually symbolized 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(pronounced X bar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tion mea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he Greek letter </a:t>
            </a:r>
            <a:r>
              <a:rPr b="0" i="1" lang="el-GR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μ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  <a:ea typeface="Arial"/>
              </a:rPr>
              <a:t> (mu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627" name="Picture 5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533520" cy="52092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508A-7C23-4CBF-9A6E-97F33FBFA6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3350520" y="93600"/>
            <a:ext cx="24476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266760" y="3424320"/>
            <a:ext cx="8781840" cy="86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lnSpc>
                <a:spcPct val="95000"/>
              </a:lnSpc>
              <a:spcBef>
                <a:spcPts val="1349"/>
              </a:spcBef>
              <a:spcAft>
                <a:spcPts val="1349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i="1" lang="en-US" sz="2400" spc="-1" strike="noStrike">
                <a:solidFill>
                  <a:srgbClr val="575f6d"/>
                </a:solidFill>
                <a:latin typeface="Times New Roman"/>
              </a:rPr>
              <a:t>µ</a:t>
            </a:r>
            <a:r>
              <a:rPr b="0" lang="en-US" sz="2400" spc="-1" strike="noStrike">
                <a:solidFill>
                  <a:srgbClr val="575f6d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is pronounced ‘mu’ and denotes the</a:t>
            </a:r>
            <a:r>
              <a:rPr b="0" lang="en-US" sz="2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mean of all values     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 in a</a:t>
            </a:r>
            <a:r>
              <a:rPr b="0" lang="en-US" sz="2400" spc="-1" strike="noStrike">
                <a:solidFill>
                  <a:srgbClr val="d2611c"/>
                </a:solidFill>
                <a:latin typeface="Century Schoolbook"/>
              </a:rPr>
              <a:t> popul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31" name="Group 6"/>
          <p:cNvGrpSpPr/>
          <p:nvPr/>
        </p:nvGrpSpPr>
        <p:grpSpPr>
          <a:xfrm>
            <a:off x="3701160" y="1655640"/>
            <a:ext cx="2687040" cy="1494360"/>
            <a:chOff x="3701160" y="1655640"/>
            <a:chExt cx="2687040" cy="1494360"/>
          </a:xfrm>
        </p:grpSpPr>
        <p:sp>
          <p:nvSpPr>
            <p:cNvPr id="632" name="Rectangle 7"/>
            <p:cNvSpPr/>
            <p:nvPr/>
          </p:nvSpPr>
          <p:spPr>
            <a:xfrm>
              <a:off x="3701160" y="2023920"/>
              <a:ext cx="106092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>
              <a:off x="3822840" y="2190600"/>
              <a:ext cx="29844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>
              <a:off x="4844880" y="2397240"/>
              <a:ext cx="154332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0"/>
            <p:cNvSpPr/>
            <p:nvPr/>
          </p:nvSpPr>
          <p:spPr>
            <a:xfrm>
              <a:off x="5356080" y="2390760"/>
              <a:ext cx="4924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1"/>
            <p:cNvSpPr/>
            <p:nvPr/>
          </p:nvSpPr>
          <p:spPr>
            <a:xfrm>
              <a:off x="5144400" y="1655640"/>
              <a:ext cx="1002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75f6d"/>
                  </a:solidFill>
                  <a:latin typeface="Century Schoolbook"/>
                </a:rPr>
                <a:t>∑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354600" y="1033560"/>
            <a:ext cx="8470440" cy="933120"/>
            <a:chOff x="354600" y="1033560"/>
            <a:chExt cx="8470440" cy="933120"/>
          </a:xfrm>
        </p:grpSpPr>
        <p:sp>
          <p:nvSpPr>
            <p:cNvPr id="638" name="Rectangle 5"/>
            <p:cNvSpPr/>
            <p:nvPr/>
          </p:nvSpPr>
          <p:spPr>
            <a:xfrm>
              <a:off x="795240" y="1228680"/>
              <a:ext cx="802980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5000"/>
                </a:lnSpc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is pronounced ‘x-bar’ and denotes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an of a set of sample 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spcAft>
                  <a:spcPts val="10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" name="Group 12"/>
            <p:cNvGrpSpPr/>
            <p:nvPr/>
          </p:nvGrpSpPr>
          <p:grpSpPr>
            <a:xfrm>
              <a:off x="354600" y="1033560"/>
              <a:ext cx="742320" cy="759240"/>
              <a:chOff x="354600" y="1033560"/>
              <a:chExt cx="742320" cy="759240"/>
            </a:xfrm>
          </p:grpSpPr>
          <p:sp>
            <p:nvSpPr>
              <p:cNvPr id="640" name="Rectangle 13"/>
              <p:cNvSpPr/>
              <p:nvPr/>
            </p:nvSpPr>
            <p:spPr>
              <a:xfrm>
                <a:off x="354600" y="1033560"/>
                <a:ext cx="74232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400" spc="-1" strike="noStrike">
                    <a:solidFill>
                      <a:srgbClr val="575f6d"/>
                    </a:solidFill>
                    <a:latin typeface="Times New Roman"/>
                  </a:rPr>
                  <a:t>x</a:t>
                </a:r>
                <a:r>
                  <a:rPr b="1" lang="en-US" sz="4400" spc="-1" strike="noStrike">
                    <a:solidFill>
                      <a:srgbClr val="575f6d"/>
                    </a:solidFill>
                    <a:latin typeface="Times New Roman"/>
                  </a:rPr>
                  <a:t>  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4"/>
              <p:cNvSpPr/>
              <p:nvPr/>
            </p:nvSpPr>
            <p:spPr>
              <a:xfrm>
                <a:off x="469800" y="1200240"/>
                <a:ext cx="298440" cy="0"/>
              </a:xfrm>
              <a:prstGeom prst="line">
                <a:avLst/>
              </a:prstGeom>
              <a:ln w="25560">
                <a:solidFill>
                  <a:srgbClr val="575f6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2" name="Group 20"/>
          <p:cNvGrpSpPr/>
          <p:nvPr/>
        </p:nvGrpSpPr>
        <p:grpSpPr>
          <a:xfrm>
            <a:off x="3697200" y="4290840"/>
            <a:ext cx="2519280" cy="1614960"/>
            <a:chOff x="3697200" y="4290840"/>
            <a:chExt cx="2519280" cy="1614960"/>
          </a:xfrm>
        </p:grpSpPr>
        <p:sp>
          <p:nvSpPr>
            <p:cNvPr id="643" name="Line 16"/>
            <p:cNvSpPr/>
            <p:nvPr/>
          </p:nvSpPr>
          <p:spPr>
            <a:xfrm>
              <a:off x="4870440" y="5076720"/>
              <a:ext cx="1346040" cy="0"/>
            </a:xfrm>
            <a:prstGeom prst="line">
              <a:avLst/>
            </a:prstGeom>
            <a:ln w="25560">
              <a:solidFill>
                <a:srgbClr val="575f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7"/>
            <p:cNvSpPr/>
            <p:nvPr/>
          </p:nvSpPr>
          <p:spPr>
            <a:xfrm>
              <a:off x="5249520" y="5146560"/>
              <a:ext cx="5853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8"/>
            <p:cNvSpPr/>
            <p:nvPr/>
          </p:nvSpPr>
          <p:spPr>
            <a:xfrm>
              <a:off x="3697200" y="4719240"/>
              <a:ext cx="110196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µ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 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9"/>
            <p:cNvSpPr/>
            <p:nvPr/>
          </p:nvSpPr>
          <p:spPr>
            <a:xfrm>
              <a:off x="5003280" y="4290840"/>
              <a:ext cx="100260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575f6d"/>
                  </a:solidFill>
                  <a:latin typeface="Century Schoolbook"/>
                </a:rPr>
                <a:t>∑</a:t>
              </a:r>
              <a:r>
                <a:rPr b="1" lang="en-US" sz="4400" spc="-1" strike="noStrike">
                  <a:solidFill>
                    <a:srgbClr val="575f6d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575f6d"/>
                  </a:solidFill>
                  <a:latin typeface="Times New Roman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Slide Number Placeholder 2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619F-B5C0-47D3-B5D0-2EECC375E85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330120" y="127080"/>
            <a:ext cx="8487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Best Measure of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T2_10"/>
          <p:cNvPicPr/>
          <p:nvPr/>
        </p:nvPicPr>
        <p:blipFill>
          <a:blip r:embed="rId1"/>
          <a:stretch/>
        </p:blipFill>
        <p:spPr>
          <a:xfrm>
            <a:off x="615960" y="914400"/>
            <a:ext cx="7910640" cy="5622840"/>
          </a:xfrm>
          <a:prstGeom prst="rect">
            <a:avLst/>
          </a:prstGeom>
          <a:ln w="0">
            <a:noFill/>
          </a:ln>
        </p:spPr>
      </p:pic>
      <p:sp>
        <p:nvSpPr>
          <p:cNvPr id="650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887-B00B-4F83-8426-2B634C5DD7E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4280" y="1562040"/>
            <a:ext cx="8794800" cy="528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Symmetric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ata is symmetric if the left half of its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histogram is roughly a mirror image of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its right half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7598d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Skewed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4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Data is skewed if it is not symmetric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and if it extends more to one side than 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the other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2" name="Rectangle 3"/>
          <p:cNvSpPr/>
          <p:nvPr/>
        </p:nvSpPr>
        <p:spPr>
          <a:xfrm>
            <a:off x="2513880" y="74520"/>
            <a:ext cx="41180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79f"/>
                </a:solidFill>
                <a:latin typeface="Arial"/>
              </a:rPr>
              <a:t>Defini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4"/>
          <p:cNvSpPr/>
          <p:nvPr/>
        </p:nvSpPr>
        <p:spPr>
          <a:xfrm>
            <a:off x="2852640" y="499896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2854440" y="4255920"/>
            <a:ext cx="392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0" y="4794120"/>
            <a:ext cx="35337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49840" y="4637160"/>
            <a:ext cx="5056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24CF-11B7-4AC6-8DB4-43C06638022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2464560" y="69840"/>
            <a:ext cx="423684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79f"/>
                </a:solidFill>
                <a:latin typeface="Arial"/>
              </a:rPr>
              <a:t>Skewnes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4" descr="2_11a_1"/>
          <p:cNvPicPr/>
          <p:nvPr/>
        </p:nvPicPr>
        <p:blipFill>
          <a:blip r:embed="rId1"/>
          <a:stretch/>
        </p:blipFill>
        <p:spPr>
          <a:xfrm>
            <a:off x="919080" y="3832200"/>
            <a:ext cx="3125880" cy="26114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55" descr="2_11c_1"/>
          <p:cNvPicPr/>
          <p:nvPr/>
        </p:nvPicPr>
        <p:blipFill>
          <a:blip r:embed="rId2"/>
          <a:stretch/>
        </p:blipFill>
        <p:spPr>
          <a:xfrm>
            <a:off x="5219640" y="3854520"/>
            <a:ext cx="3081240" cy="2600280"/>
          </a:xfrm>
          <a:prstGeom prst="rect">
            <a:avLst/>
          </a:prstGeom>
          <a:ln w="0">
            <a:noFill/>
          </a:ln>
        </p:spPr>
      </p:pic>
      <p:grpSp>
        <p:nvGrpSpPr>
          <p:cNvPr id="661" name="Group 60"/>
          <p:cNvGrpSpPr/>
          <p:nvPr/>
        </p:nvGrpSpPr>
        <p:grpSpPr>
          <a:xfrm>
            <a:off x="332280" y="1530360"/>
            <a:ext cx="5746320" cy="1954080"/>
            <a:chOff x="332280" y="1530360"/>
            <a:chExt cx="5746320" cy="1954080"/>
          </a:xfrm>
        </p:grpSpPr>
        <p:sp>
          <p:nvSpPr>
            <p:cNvPr id="662" name="Rectangle 57"/>
            <p:cNvSpPr/>
            <p:nvPr/>
          </p:nvSpPr>
          <p:spPr>
            <a:xfrm>
              <a:off x="332280" y="1603440"/>
              <a:ext cx="1521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1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3" name="Picture 59" descr="2_11b_1"/>
            <p:cNvPicPr/>
            <p:nvPr/>
          </p:nvPicPr>
          <p:blipFill>
            <a:blip r:embed="rId3"/>
            <a:stretch/>
          </p:blipFill>
          <p:spPr>
            <a:xfrm>
              <a:off x="3071880" y="1530360"/>
              <a:ext cx="3006720" cy="195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4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D7D-CCF3-45E5-8483-396635C81EC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463920" y="82440"/>
            <a:ext cx="2238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3"/>
          <p:cNvSpPr/>
          <p:nvPr/>
        </p:nvSpPr>
        <p:spPr>
          <a:xfrm>
            <a:off x="533520" y="1143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Arial"/>
              </a:rPr>
              <a:t>In this section we have discu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9"/>
          <p:cNvGrpSpPr/>
          <p:nvPr/>
        </p:nvGrpSpPr>
        <p:grpSpPr>
          <a:xfrm>
            <a:off x="457200" y="2057400"/>
            <a:ext cx="7400880" cy="4025880"/>
            <a:chOff x="457200" y="2057400"/>
            <a:chExt cx="7400880" cy="4025880"/>
          </a:xfrm>
        </p:grpSpPr>
        <p:sp>
          <p:nvSpPr>
            <p:cNvPr id="668" name="Text Box 4"/>
            <p:cNvSpPr/>
            <p:nvPr/>
          </p:nvSpPr>
          <p:spPr>
            <a:xfrm>
              <a:off x="457200" y="2057400"/>
              <a:ext cx="7400880" cy="14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Types of Measures of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d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 Box 5"/>
            <p:cNvSpPr/>
            <p:nvPr/>
          </p:nvSpPr>
          <p:spPr>
            <a:xfrm>
              <a:off x="457200" y="378144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Mean from a frequency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 Box 7"/>
            <p:cNvSpPr/>
            <p:nvPr/>
          </p:nvSpPr>
          <p:spPr>
            <a:xfrm>
              <a:off x="457200" y="50706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Best Measures of C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Text Box 8"/>
            <p:cNvSpPr/>
            <p:nvPr/>
          </p:nvSpPr>
          <p:spPr>
            <a:xfrm>
              <a:off x="457200" y="5715000"/>
              <a:ext cx="723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7598d9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575f6d"/>
                  </a:solidFill>
                  <a:latin typeface="Arial"/>
                </a:rPr>
                <a:t>Skew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Slide Number Placeholder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1B4-5AD4-42B4-A820-63E51DB140E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HISTOGRAM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Histogra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Used for quantitative dat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ilar to a bar graph, with an X and Y axis—but adjacent values are on a continuum so bars touch one anoth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 values on X axis are arranged from lowest to highe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ars are drawn to height to show frequency or percentage (Y axi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956-8A34-481E-9399-B8F7BA134F7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7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MEASURES OF VARIA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150840" y="2475000"/>
            <a:ext cx="71658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457200" y="28195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use this section introduces the concept of variation, this is one of the most important sections in the entir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EBD-8187-412A-9880-3993A51FB46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720" y="101520"/>
            <a:ext cx="716256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DEFINI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2384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611c"/>
                </a:solidFill>
                <a:latin typeface="Century Schoolbook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4000" spc="-1" strike="noStrike">
                <a:solidFill>
                  <a:srgbClr val="d2611c"/>
                </a:solidFill>
                <a:latin typeface="Century Schoolbook"/>
              </a:rPr>
              <a:t>range</a:t>
            </a: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 of a set of data is the difference between the highest value and the lowest valu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1676520" y="4343400"/>
            <a:ext cx="6172200" cy="1646280"/>
            <a:chOff x="1676520" y="4343400"/>
            <a:chExt cx="6172200" cy="1646280"/>
          </a:xfrm>
        </p:grpSpPr>
        <p:grpSp>
          <p:nvGrpSpPr>
            <p:cNvPr id="680" name="Group 5"/>
            <p:cNvGrpSpPr/>
            <p:nvPr/>
          </p:nvGrpSpPr>
          <p:grpSpPr>
            <a:xfrm>
              <a:off x="1676520" y="4343400"/>
              <a:ext cx="6172200" cy="1646280"/>
              <a:chOff x="1676520" y="4343400"/>
              <a:chExt cx="6172200" cy="1646280"/>
            </a:xfrm>
          </p:grpSpPr>
          <p:grpSp>
            <p:nvGrpSpPr>
              <p:cNvPr id="681" name="Group 6"/>
              <p:cNvGrpSpPr/>
              <p:nvPr/>
            </p:nvGrpSpPr>
            <p:grpSpPr>
              <a:xfrm>
                <a:off x="1676520" y="4344840"/>
                <a:ext cx="3200400" cy="1644840"/>
                <a:chOff x="1676520" y="4344840"/>
                <a:chExt cx="3200400" cy="1644840"/>
              </a:xfrm>
            </p:grpSpPr>
            <p:sp>
              <p:nvSpPr>
                <p:cNvPr id="682" name="Rectangle 7"/>
                <p:cNvSpPr/>
                <p:nvPr/>
              </p:nvSpPr>
              <p:spPr>
                <a:xfrm>
                  <a:off x="1676520" y="4870440"/>
                  <a:ext cx="3200400" cy="111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8"/>
                <p:cNvSpPr/>
                <p:nvPr/>
              </p:nvSpPr>
              <p:spPr>
                <a:xfrm>
                  <a:off x="1750320" y="4344840"/>
                  <a:ext cx="198432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highest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Group 9"/>
              <p:cNvGrpSpPr/>
              <p:nvPr/>
            </p:nvGrpSpPr>
            <p:grpSpPr>
              <a:xfrm>
                <a:off x="5677560" y="4343400"/>
                <a:ext cx="2171160" cy="1417680"/>
                <a:chOff x="5677560" y="4343400"/>
                <a:chExt cx="2171160" cy="1417680"/>
              </a:xfrm>
            </p:grpSpPr>
            <p:sp>
              <p:nvSpPr>
                <p:cNvPr id="685" name="Rectangle 10"/>
                <p:cNvSpPr/>
                <p:nvPr/>
              </p:nvSpPr>
              <p:spPr>
                <a:xfrm>
                  <a:off x="5677560" y="4343400"/>
                  <a:ext cx="1901880" cy="69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lowest 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11"/>
                <p:cNvSpPr/>
                <p:nvPr/>
              </p:nvSpPr>
              <p:spPr>
                <a:xfrm>
                  <a:off x="5715000" y="4770360"/>
                  <a:ext cx="2133720" cy="99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noAutofit/>
                </a:bodyPr>
                <a:p>
                  <a:pPr marL="285840" indent="-285840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value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7" name="Line 12"/>
            <p:cNvSpPr/>
            <p:nvPr/>
          </p:nvSpPr>
          <p:spPr>
            <a:xfrm>
              <a:off x="4533840" y="484668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Slide Number Placeholder 1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DB88-1305-4A3D-8F37-A6D7F967A6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0720" y="88560"/>
            <a:ext cx="7162560" cy="74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5f6d"/>
                </a:solidFill>
                <a:latin typeface="Century Schoolbook"/>
              </a:rPr>
              <a:t>DEFINITION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914400" y="228600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andard deviation of a set of sample values is a measure of variation of values about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516E-7192-4F32-B924-BF14D06F11A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8600" y="114480"/>
            <a:ext cx="8686800" cy="11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AMPLE STANDARD </a:t>
            </a:r>
            <a:br>
              <a:rPr sz="3600"/>
            </a:b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DEVIATION FORMUL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693" name="Group 3"/>
          <p:cNvGrpSpPr/>
          <p:nvPr/>
        </p:nvGrpSpPr>
        <p:grpSpPr>
          <a:xfrm>
            <a:off x="914400" y="2590920"/>
            <a:ext cx="6580080" cy="2736720"/>
            <a:chOff x="914400" y="2590920"/>
            <a:chExt cx="6580080" cy="2736720"/>
          </a:xfrm>
        </p:grpSpPr>
        <p:sp>
          <p:nvSpPr>
            <p:cNvPr id="694" name="Rectangle 4"/>
            <p:cNvSpPr/>
            <p:nvPr/>
          </p:nvSpPr>
          <p:spPr>
            <a:xfrm>
              <a:off x="1716120" y="3200400"/>
              <a:ext cx="12189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5"/>
            <p:cNvSpPr/>
            <p:nvPr/>
          </p:nvSpPr>
          <p:spPr>
            <a:xfrm>
              <a:off x="914400" y="4960800"/>
              <a:ext cx="182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6"/>
            <p:cNvSpPr/>
            <p:nvPr/>
          </p:nvSpPr>
          <p:spPr>
            <a:xfrm>
              <a:off x="4378680" y="2898720"/>
              <a:ext cx="271008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 - 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3600" spc="-1" strike="noStrike" baseline="56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7"/>
            <p:cNvSpPr/>
            <p:nvPr/>
          </p:nvSpPr>
          <p:spPr>
            <a:xfrm>
              <a:off x="4996440" y="3813120"/>
              <a:ext cx="1516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"/>
            <p:cNvSpPr/>
            <p:nvPr/>
          </p:nvSpPr>
          <p:spPr>
            <a:xfrm>
              <a:off x="3362400" y="3459240"/>
              <a:ext cx="198360" cy="274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9"/>
            <p:cNvSpPr/>
            <p:nvPr/>
          </p:nvSpPr>
          <p:spPr>
            <a:xfrm>
              <a:off x="3560760" y="3444840"/>
              <a:ext cx="220680" cy="13017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0"/>
            <p:cNvSpPr/>
            <p:nvPr/>
          </p:nvSpPr>
          <p:spPr>
            <a:xfrm>
              <a:off x="3786120" y="2590920"/>
              <a:ext cx="376200" cy="21463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1"/>
            <p:cNvSpPr/>
            <p:nvPr/>
          </p:nvSpPr>
          <p:spPr>
            <a:xfrm>
              <a:off x="4167000" y="259092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"/>
            <p:cNvSpPr/>
            <p:nvPr/>
          </p:nvSpPr>
          <p:spPr>
            <a:xfrm>
              <a:off x="1868400" y="3200400"/>
              <a:ext cx="1219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>
              <a:off x="4243320" y="3809880"/>
              <a:ext cx="3098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6237360" y="3124080"/>
              <a:ext cx="253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5" name="Slide Number Placeholder 1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9690-C20C-4B12-AE71-86F17FB7EBD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600" y="13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Century Schoolbook"/>
              </a:rPr>
              <a:t>SAMPLE STANDARD DEVIATION (SHORTCUT FORMULA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707" name="Group 3"/>
          <p:cNvGrpSpPr/>
          <p:nvPr/>
        </p:nvGrpSpPr>
        <p:grpSpPr>
          <a:xfrm>
            <a:off x="762120" y="2133720"/>
            <a:ext cx="7130880" cy="2747520"/>
            <a:chOff x="762120" y="2133720"/>
            <a:chExt cx="7130880" cy="2747520"/>
          </a:xfrm>
        </p:grpSpPr>
        <p:sp>
          <p:nvSpPr>
            <p:cNvPr id="708" name="Rectangle 4"/>
            <p:cNvSpPr/>
            <p:nvPr/>
          </p:nvSpPr>
          <p:spPr>
            <a:xfrm>
              <a:off x="1219320" y="2685960"/>
              <a:ext cx="121896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"/>
            <p:cNvSpPr/>
            <p:nvPr/>
          </p:nvSpPr>
          <p:spPr>
            <a:xfrm>
              <a:off x="762120" y="4514760"/>
              <a:ext cx="182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6"/>
            <p:cNvSpPr/>
            <p:nvPr/>
          </p:nvSpPr>
          <p:spPr>
            <a:xfrm>
              <a:off x="4356360" y="3375000"/>
              <a:ext cx="25268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7"/>
            <p:cNvSpPr/>
            <p:nvPr/>
          </p:nvSpPr>
          <p:spPr>
            <a:xfrm>
              <a:off x="3498840" y="3352680"/>
              <a:ext cx="420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8"/>
            <p:cNvSpPr/>
            <p:nvPr/>
          </p:nvSpPr>
          <p:spPr>
            <a:xfrm>
              <a:off x="2422440" y="2998800"/>
              <a:ext cx="190440" cy="3042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9"/>
            <p:cNvSpPr/>
            <p:nvPr/>
          </p:nvSpPr>
          <p:spPr>
            <a:xfrm>
              <a:off x="2622600" y="2984400"/>
              <a:ext cx="311040" cy="1301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0"/>
            <p:cNvSpPr/>
            <p:nvPr/>
          </p:nvSpPr>
          <p:spPr>
            <a:xfrm>
              <a:off x="2928960" y="2136600"/>
              <a:ext cx="507960" cy="21427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1"/>
            <p:cNvSpPr/>
            <p:nvPr/>
          </p:nvSpPr>
          <p:spPr>
            <a:xfrm>
              <a:off x="3438360" y="2133720"/>
              <a:ext cx="4454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"/>
            <p:cNvSpPr/>
            <p:nvPr/>
          </p:nvSpPr>
          <p:spPr>
            <a:xfrm>
              <a:off x="1123920" y="2743200"/>
              <a:ext cx="1219320" cy="11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3200" spc="-1" strike="noStrike" baseline="74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3"/>
            <p:cNvSpPr/>
            <p:nvPr/>
          </p:nvSpPr>
          <p:spPr>
            <a:xfrm>
              <a:off x="3544920" y="2479680"/>
              <a:ext cx="4206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3600" spc="-1" strike="noStrike" baseline="5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5400" spc="-1" strike="noStrike">
                  <a:solidFill>
                    <a:srgbClr val="000000"/>
                  </a:solidFill>
                  <a:latin typeface="Century Schoolbook"/>
                </a:rPr>
                <a:t>∑</a:t>
              </a:r>
              <a:r>
                <a:rPr b="1" i="1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3600" spc="-1" strike="noStrike" baseline="5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Slide Number Placeholder 1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3455-597E-4D87-8A17-02921ECCC5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228600" y="81000"/>
            <a:ext cx="8686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Arial"/>
              </a:rPr>
              <a:t>Standard Deviation 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3"/>
          <p:cNvSpPr/>
          <p:nvPr/>
        </p:nvSpPr>
        <p:spPr>
          <a:xfrm>
            <a:off x="304920" y="19051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ndard deviation is a measure of variation of all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304920" y="293832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standard deviation s is usually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304920" y="397188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 of the standard deviation s can increase dramatically with the inclusion of one or mo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ers (data values far away from all oth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304920" y="58672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standard deviation s are the same as the units of the original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8D8C-F8FB-4EF5-B4B4-FE7F5EC2CB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310560" y="114480"/>
            <a:ext cx="2520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324000" y="114300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irical (68-95-99.7) Rule For data sets having a distribution that is approximately bell shaped, the following properties ap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419040" y="251460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68% of all values fall within 1 standard deviation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419040" y="350532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95% of all values fall within 2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419040" y="4419720"/>
            <a:ext cx="809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7598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ut 99.7% of all values fall within 3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7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131C-3B11-4A17-8895-00F3532E3CF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17"/>
          <p:cNvSpPr/>
          <p:nvPr/>
        </p:nvSpPr>
        <p:spPr>
          <a:xfrm>
            <a:off x="2196720" y="88920"/>
            <a:ext cx="4750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25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29" descr="2_13_1"/>
          <p:cNvPicPr/>
          <p:nvPr/>
        </p:nvPicPr>
        <p:blipFill>
          <a:blip r:embed="rId1"/>
          <a:stretch/>
        </p:blipFill>
        <p:spPr>
          <a:xfrm>
            <a:off x="851040" y="2738520"/>
            <a:ext cx="7440480" cy="3459240"/>
          </a:xfrm>
          <a:prstGeom prst="rect">
            <a:avLst/>
          </a:prstGeom>
          <a:ln w="0">
            <a:noFill/>
          </a:ln>
        </p:spPr>
      </p:pic>
      <p:sp>
        <p:nvSpPr>
          <p:cNvPr id="73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39D6-E52C-4514-B380-E7FBF0EB0A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3"/>
          <p:cNvSpPr/>
          <p:nvPr/>
        </p:nvSpPr>
        <p:spPr>
          <a:xfrm>
            <a:off x="2196720" y="88920"/>
            <a:ext cx="47505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36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39" descr="2_13_2"/>
          <p:cNvPicPr/>
          <p:nvPr/>
        </p:nvPicPr>
        <p:blipFill>
          <a:blip r:embed="rId1"/>
          <a:stretch/>
        </p:blipFill>
        <p:spPr>
          <a:xfrm>
            <a:off x="851040" y="2044800"/>
            <a:ext cx="7440480" cy="4152960"/>
          </a:xfrm>
          <a:prstGeom prst="rect">
            <a:avLst/>
          </a:prstGeom>
          <a:ln w="0">
            <a:noFill/>
          </a:ln>
        </p:spPr>
      </p:pic>
      <p:sp>
        <p:nvSpPr>
          <p:cNvPr id="73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5D22-DAB2-48EE-9BCE-C8114D2A31E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9"/>
          <p:cNvSpPr/>
          <p:nvPr/>
        </p:nvSpPr>
        <p:spPr>
          <a:xfrm>
            <a:off x="2196720" y="88920"/>
            <a:ext cx="475056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Arial"/>
              </a:rPr>
              <a:t>The Empirical R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4"/>
          <p:cNvSpPr/>
          <p:nvPr/>
        </p:nvSpPr>
        <p:spPr>
          <a:xfrm>
            <a:off x="3720600" y="6208560"/>
            <a:ext cx="1723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56" descr="2_13_3"/>
          <p:cNvPicPr/>
          <p:nvPr/>
        </p:nvPicPr>
        <p:blipFill>
          <a:blip r:embed="rId1"/>
          <a:stretch/>
        </p:blipFill>
        <p:spPr>
          <a:xfrm>
            <a:off x="851040" y="974880"/>
            <a:ext cx="7459560" cy="5222880"/>
          </a:xfrm>
          <a:prstGeom prst="rect">
            <a:avLst/>
          </a:prstGeom>
          <a:ln w="0">
            <a:noFill/>
          </a:ln>
        </p:spPr>
      </p:pic>
      <p:sp>
        <p:nvSpPr>
          <p:cNvPr id="74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D46-B657-4009-B742-A4F14334BEA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HISTOGRAMS </a:t>
            </a:r>
            <a:r>
              <a:rPr b="0" lang="en-US" sz="3200" spc="-1" strike="noStrike">
                <a:solidFill>
                  <a:srgbClr val="575f6d"/>
                </a:solidFill>
                <a:latin typeface="Arial"/>
                <a:ea typeface="Times New Roman"/>
              </a:rPr>
              <a:t>(CONT’D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ample of a histogram: Heart rate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Heart rate in bp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2"/>
          <p:cNvGraphicFramePr/>
          <p:nvPr/>
        </p:nvGraphicFramePr>
        <p:xfrm>
          <a:off x="1698480" y="2209680"/>
          <a:ext cx="5769000" cy="33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2209680"/>
                    <a:ext cx="5769000" cy="3360960"/>
                  </a:xfrm>
                  <a:prstGeom prst="rect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C238-732F-4E3B-AA58-2739997A0A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E YOU READ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Post test Time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45" name="Picture 2" descr="C:\Users\mutazz\AppData\Local\Microsoft\Windows\Temporary Internet Files\Content.IE5\FEV5E97X\MC900441902[1].wmf"/>
          <p:cNvPicPr/>
          <p:nvPr/>
        </p:nvPicPr>
        <p:blipFill>
          <a:blip r:embed="rId1"/>
          <a:stretch/>
        </p:blipFill>
        <p:spPr>
          <a:xfrm>
            <a:off x="2590920" y="2530440"/>
            <a:ext cx="2741400" cy="3240000"/>
          </a:xfrm>
          <a:prstGeom prst="rect">
            <a:avLst/>
          </a:prstGeom>
          <a:ln w="0">
            <a:noFill/>
          </a:ln>
        </p:spPr>
      </p:pic>
      <p:sp>
        <p:nvSpPr>
          <p:cNvPr id="746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ABCC-E39A-4C90-956C-F069A93B36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5FEDB41F-6DE7-4446-B689-96BFB5CA0975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838080" y="324324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7"/>
          <p:cNvSpPr/>
          <p:nvPr/>
        </p:nvSpPr>
        <p:spPr>
          <a:xfrm>
            <a:off x="838080" y="45720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measure of center is the only one that can be used with data at the catogrical level of measur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Picture 2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62240" cy="19051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C:\Users\mutazz\AppData\Local\Microsoft\Windows\Temporary Internet Files\Content.IE5\BQ3LRZJ5\MM900283551[1].gif"/>
          <p:cNvPicPr/>
          <p:nvPr/>
        </p:nvPicPr>
        <p:blipFill>
          <a:blip r:embed="rId2"/>
          <a:stretch/>
        </p:blipFill>
        <p:spPr>
          <a:xfrm>
            <a:off x="838080" y="4648320"/>
            <a:ext cx="1981440" cy="18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9DF441E4-D164-459A-A710-A6B213BFCC94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85E7CB1E-E611-4725-942E-E9B0125BE895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3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4"/>
          <p:cNvSpPr/>
          <p:nvPr/>
        </p:nvSpPr>
        <p:spPr>
          <a:xfrm>
            <a:off x="598320" y="3508200"/>
            <a:ext cx="2055960" cy="640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" descr="C:\Users\mutazz\AppData\Local\Microsoft\Windows\Temporary Internet Files\Content.IE5\XO6894V9\MC900441906[1].wmf"/>
          <p:cNvPicPr/>
          <p:nvPr/>
        </p:nvPicPr>
        <p:blipFill>
          <a:blip r:embed="rId1"/>
          <a:stretch/>
        </p:blipFill>
        <p:spPr>
          <a:xfrm>
            <a:off x="6629400" y="3733920"/>
            <a:ext cx="1781280" cy="157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EA63C305-EA75-45C3-A173-02E2A84C148B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(s)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40E7C7DD-4F5F-4484-BC5E-58D036BEBBCB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792000" y="671400"/>
            <a:ext cx="7848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the mode (s) for the given sampl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, 25, 79, 13, 25, 29, 56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8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4"/>
          <p:cNvSpPr/>
          <p:nvPr/>
        </p:nvSpPr>
        <p:spPr>
          <a:xfrm>
            <a:off x="630360" y="2556000"/>
            <a:ext cx="1400040" cy="639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C:\Users\mutazz\AppData\Local\Microsoft\Windows\Temporary Internet Files\Content.IE5\I7GZ9TTS\MC900154392[1].wmf"/>
          <p:cNvPicPr/>
          <p:nvPr/>
        </p:nvPicPr>
        <p:blipFill>
          <a:blip r:embed="rId1"/>
          <a:stretch/>
        </p:blipFill>
        <p:spPr>
          <a:xfrm>
            <a:off x="4724280" y="3505320"/>
            <a:ext cx="1820880" cy="18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E29FCA1A-C327-4B00-B8A1-33BA71191551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lide Number Placeholder 1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03C9632E-1219-4038-90DA-E5843E0BDEC4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914400" y="579600"/>
            <a:ext cx="78487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true about the vari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the square of th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It is a measure of the spread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The units of the variance are different from the units of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not affected b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519120" y="4143240"/>
            <a:ext cx="6140520" cy="746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C:\Users\mutazz\AppData\Local\Microsoft\Windows\Temporary Internet Files\Content.IE5\I7GZ9TTS\MC900154070[1].wmf"/>
          <p:cNvPicPr/>
          <p:nvPr/>
        </p:nvPicPr>
        <p:blipFill>
          <a:blip r:embed="rId1"/>
          <a:stretch/>
        </p:blipFill>
        <p:spPr>
          <a:xfrm>
            <a:off x="6019920" y="5029200"/>
            <a:ext cx="1803240" cy="94608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C:\Users\mutazz\AppData\Local\Microsoft\Windows\Temporary Internet Files\Content.IE5\XO6894V9\MC900154210[1].wmf"/>
          <p:cNvPicPr/>
          <p:nvPr/>
        </p:nvPicPr>
        <p:blipFill>
          <a:blip r:embed="rId2"/>
          <a:stretch/>
        </p:blipFill>
        <p:spPr>
          <a:xfrm>
            <a:off x="380880" y="4800600"/>
            <a:ext cx="148428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3"/>
          <p:cNvSpPr/>
          <p:nvPr/>
        </p:nvSpPr>
        <p:spPr>
          <a:xfrm rot="5400000">
            <a:off x="7588800" y="1081800"/>
            <a:ext cx="2011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Slide 3- </a:t>
            </a:r>
            <a:fld id="{7E74BBCA-14EA-4313-8689-C6850847B3CA}" type="slidenum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8"/>
          <p:cNvSpPr/>
          <p:nvPr/>
        </p:nvSpPr>
        <p:spPr>
          <a:xfrm>
            <a:off x="76212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9"/>
          <p:cNvSpPr/>
          <p:nvPr/>
        </p:nvSpPr>
        <p:spPr>
          <a:xfrm>
            <a:off x="717480" y="1189080"/>
            <a:ext cx="8077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 following measures of center is not affected by outli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EXERCISE TIME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777" name="Picture 2" descr="C:\Users\mutazz\AppData\Local\Microsoft\Windows\Temporary Internet Files\Content.IE5\BQ3LRZJ5\MC900291968[1].wmf"/>
          <p:cNvPicPr/>
          <p:nvPr/>
        </p:nvPicPr>
        <p:blipFill>
          <a:blip r:embed="rId1"/>
          <a:stretch/>
        </p:blipFill>
        <p:spPr>
          <a:xfrm>
            <a:off x="3276720" y="22082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3" descr="C:\Users\mutazz\AppData\Local\Microsoft\Windows\Temporary Internet Files\Content.IE5\XO6894V9\MC900154068[1].wmf"/>
          <p:cNvPicPr/>
          <p:nvPr/>
        </p:nvPicPr>
        <p:blipFill>
          <a:blip r:embed="rId2"/>
          <a:stretch/>
        </p:blipFill>
        <p:spPr>
          <a:xfrm>
            <a:off x="685800" y="1828800"/>
            <a:ext cx="1832040" cy="1515960"/>
          </a:xfrm>
          <a:prstGeom prst="rect">
            <a:avLst/>
          </a:prstGeom>
          <a:ln w="0">
            <a:noFill/>
          </a:ln>
        </p:spPr>
      </p:pic>
      <p:sp>
        <p:nvSpPr>
          <p:cNvPr id="77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79C-C181-4944-AFD8-6B55AC535A1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3"/>
          <p:cNvSpPr/>
          <p:nvPr/>
        </p:nvSpPr>
        <p:spPr>
          <a:xfrm>
            <a:off x="306360" y="128520"/>
            <a:ext cx="850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3"/>
          <p:cNvSpPr/>
          <p:nvPr/>
        </p:nvSpPr>
        <p:spPr>
          <a:xfrm>
            <a:off x="685800" y="8380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ar graph in which the horizontal scale represents the classes of data values and the vertical scale represents th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955800" y="2455920"/>
            <a:ext cx="7277040" cy="3774600"/>
            <a:chOff x="955800" y="2455920"/>
            <a:chExt cx="7277040" cy="3774600"/>
          </a:xfrm>
        </p:grpSpPr>
        <p:sp>
          <p:nvSpPr>
            <p:cNvPr id="476" name="Rectangle 2"/>
            <p:cNvSpPr/>
            <p:nvPr/>
          </p:nvSpPr>
          <p:spPr>
            <a:xfrm>
              <a:off x="6099480" y="586728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Group 18"/>
            <p:cNvGrpSpPr/>
            <p:nvPr/>
          </p:nvGrpSpPr>
          <p:grpSpPr>
            <a:xfrm>
              <a:off x="955800" y="2455920"/>
              <a:ext cx="7277040" cy="3184560"/>
              <a:chOff x="955800" y="2455920"/>
              <a:chExt cx="7277040" cy="3184560"/>
            </a:xfrm>
          </p:grpSpPr>
          <p:pic>
            <p:nvPicPr>
              <p:cNvPr id="478" name="Picture 14" descr="T2_02_2"/>
              <p:cNvPicPr/>
              <p:nvPr/>
            </p:nvPicPr>
            <p:blipFill>
              <a:blip r:embed="rId1"/>
              <a:stretch/>
            </p:blipFill>
            <p:spPr>
              <a:xfrm>
                <a:off x="955800" y="2670120"/>
                <a:ext cx="2879640" cy="272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Picture 15" descr="2_01"/>
              <p:cNvPicPr/>
              <p:nvPr/>
            </p:nvPicPr>
            <p:blipFill>
              <a:blip r:embed="rId2"/>
              <a:stretch/>
            </p:blipFill>
            <p:spPr>
              <a:xfrm>
                <a:off x="5326200" y="2455920"/>
                <a:ext cx="2906640" cy="318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80" name="Slide Number Placeholder 9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D788-6278-4248-9CD9-8C0098F8DC0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ERCISE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he following 10 data values are diastolic blood pressure reading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. Compute the mean, the range and  SD,  for these d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30    110    160    120    17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20    150    140    160    14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69E-738F-4B7A-B51C-81DFFF29916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ERCISE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following are the fasting blood glucose level of 10 child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56         6. 56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2         7. 65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3          8. 6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5           9. 7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65           10. 7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Compute the: a. r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. standard dev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0383-B7CF-49D5-948E-F4EDA6A6D3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XERCISE 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The fifteen patients making initial visits to a rural health department travelled these distances: Find: 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. Range, b. Standard Devi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762120" y="3048120"/>
          <a:ext cx="6095880" cy="364464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tance (Mi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at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stance (Mil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78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EBB6-E13A-42A2-B1AC-36C923A857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NSW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Range = 60 ; SD = 20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Range = 16 ; SD = 4.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Range = 12 ; SD = 4.2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792" name="Picture 6" descr="C:\Users\mutazz\AppData\Local\Microsoft\Windows\Temporary Internet Files\Content.IE5\I7GZ9TTS\MP900308972[1].jpg"/>
          <p:cNvPicPr/>
          <p:nvPr/>
        </p:nvPicPr>
        <p:blipFill>
          <a:blip r:embed="rId1"/>
          <a:stretch/>
        </p:blipFill>
        <p:spPr>
          <a:xfrm>
            <a:off x="5105520" y="2819520"/>
            <a:ext cx="1668240" cy="2514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B583-3347-4567-B171-C045BBD5DF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30120" y="114480"/>
            <a:ext cx="85060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Relative Frequency Hist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4648320" y="3352680"/>
            <a:ext cx="327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5181480" y="2819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>
            <a:off x="685800" y="9144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the same shape and horizontal scale as a histogram, but the vertical scale is marked with relative frequ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0"/>
          <p:cNvGrpSpPr/>
          <p:nvPr/>
        </p:nvGrpSpPr>
        <p:grpSpPr>
          <a:xfrm>
            <a:off x="927000" y="2614680"/>
            <a:ext cx="7323120" cy="3781080"/>
            <a:chOff x="927000" y="2614680"/>
            <a:chExt cx="7323120" cy="3781080"/>
          </a:xfrm>
        </p:grpSpPr>
        <p:sp>
          <p:nvSpPr>
            <p:cNvPr id="486" name="Rectangle 3"/>
            <p:cNvSpPr/>
            <p:nvPr/>
          </p:nvSpPr>
          <p:spPr>
            <a:xfrm>
              <a:off x="6035760" y="6032520"/>
              <a:ext cx="1274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gure 2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19"/>
            <p:cNvGrpSpPr/>
            <p:nvPr/>
          </p:nvGrpSpPr>
          <p:grpSpPr>
            <a:xfrm>
              <a:off x="927000" y="2614680"/>
              <a:ext cx="7323120" cy="3298680"/>
              <a:chOff x="927000" y="2614680"/>
              <a:chExt cx="7323120" cy="3298680"/>
            </a:xfrm>
          </p:grpSpPr>
          <p:pic>
            <p:nvPicPr>
              <p:cNvPr id="488" name="Picture 16" descr="T2_03_2"/>
              <p:cNvPicPr/>
              <p:nvPr/>
            </p:nvPicPr>
            <p:blipFill>
              <a:blip r:embed="rId1"/>
              <a:stretch/>
            </p:blipFill>
            <p:spPr>
              <a:xfrm>
                <a:off x="927000" y="2770200"/>
                <a:ext cx="2852640" cy="3022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Picture 17" descr="2_02"/>
              <p:cNvPicPr/>
              <p:nvPr/>
            </p:nvPicPr>
            <p:blipFill>
              <a:blip r:embed="rId2"/>
              <a:stretch/>
            </p:blipFill>
            <p:spPr>
              <a:xfrm>
                <a:off x="5206680" y="2614680"/>
                <a:ext cx="3043440" cy="329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90" name="Slide Number Placeholder 1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478-657D-455A-B43A-86E1EE53FDE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685800" y="144360"/>
            <a:ext cx="7772400" cy="15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Histogra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and </a:t>
            </a:r>
            <a:br>
              <a:rPr sz="3400"/>
            </a:br>
            <a:r>
              <a:rPr b="1" lang="en-US" sz="3400" spc="-1" strike="noStrike">
                <a:solidFill>
                  <a:srgbClr val="00279f"/>
                </a:solidFill>
                <a:latin typeface="Arial"/>
              </a:rPr>
              <a:t>Relative Frequency Histogra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1692000" y="600696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5952960" y="6039000"/>
            <a:ext cx="139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9" descr="2_01"/>
          <p:cNvPicPr/>
          <p:nvPr/>
        </p:nvPicPr>
        <p:blipFill>
          <a:blip r:embed="rId1"/>
          <a:stretch/>
        </p:blipFill>
        <p:spPr>
          <a:xfrm>
            <a:off x="915840" y="2505240"/>
            <a:ext cx="2916360" cy="3193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0" descr="2_02"/>
          <p:cNvPicPr/>
          <p:nvPr/>
        </p:nvPicPr>
        <p:blipFill>
          <a:blip r:embed="rId2"/>
          <a:stretch/>
        </p:blipFill>
        <p:spPr>
          <a:xfrm>
            <a:off x="5113440" y="2449440"/>
            <a:ext cx="3035160" cy="328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  <a:ea typeface="Times New Roman"/>
              </a:rPr>
              <a:t>FREQUENCY POLYGO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Frequency polygon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Also used for quantitative d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milar to histograms, but instead of bars, a dot is used above score values to designate frequency/percent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etter than histograms for show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f distribution of scores, and is usually preferred if variable is  continuou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1C0A-449C-4304-BE3E-0A5678F5352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6:51:43Z</dcterms:created>
  <dc:creator>mutazz</dc:creator>
  <dc:description/>
  <dc:language>en-US</dc:language>
  <cp:lastModifiedBy>user</cp:lastModifiedBy>
  <dcterms:modified xsi:type="dcterms:W3CDTF">2011-03-26T05:56:47Z</dcterms:modified>
  <cp:revision>12</cp:revision>
  <dc:subject/>
  <dc:title>Slide 1</dc:title>
</cp:coreProperties>
</file>