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1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9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E42-1828-476E-8E61-DD75E3922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DCC4-A27C-4D0C-82D8-9A41B3F67D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5F7F-7F22-4331-BE47-E62DAA218C4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B5D6-3521-42C4-930B-60B33F07DF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B03-9C13-4497-A94D-11E87397B4D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A02-C24C-48CC-AEBF-2376ADCE7BB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141B-AC06-4A8C-8C6D-149E6D53927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514-9D08-4629-960B-C26FD58D905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C20-E82E-4E51-AAC0-127509DC74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C32-A538-4027-AC16-1B602185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B65-D4F0-48A7-9911-55B6F34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6D6-6B12-4F31-ACD2-985F7535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A5E-E1EB-4454-943D-EBED7584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ADF1-0003-4F71-BD17-B7C1675F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04BE-F8B4-4CC2-ACD1-B4C41DA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4DD-CC08-42A1-B740-EE7CE80A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96D-E9BE-46ED-AED0-BC6B1C37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63F-F425-40A6-BBFF-9E5E914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48E0-0082-4A23-B59D-AF447EA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B2FE-0027-4A9A-9381-8DB7F1F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42F-FD36-4906-A541-088FC4CA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0800-88C7-4B70-8CF0-F726A67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C7B-3FD4-4638-BFC6-37BE989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447-BFE7-4392-8880-8126D64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C06-7288-4B20-9C38-54AA640E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1A53-98FF-4940-88BA-7B27438D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48549-B7F9-4059-8BCC-34692E65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B1D6B-8267-4951-AA04-BC30EA3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DAE91-9292-4B40-AA79-5A9F526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F1432-6DF9-4C9A-99A8-38E115E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45EED-E663-4051-ABDE-0EFD04BE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513-D7DF-4CFA-BAFB-FC1253B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49992-3EDA-4EFD-904E-1E78B7CD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6C066-D8DE-48D3-A744-AF813CF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2AB34-3994-4AD1-9527-FBC84E8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29D6C-6762-4889-BE1F-E2A213D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F23FD-ADC5-4D55-972E-9915270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DB063-A201-40E0-B55B-B53B8C13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5DC55-2396-4DA3-9111-31E98A16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6C14-89FE-460D-92AA-2AD21DFE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4CC2-4539-4DE8-95DD-0C5D0EDE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9297-8F93-4124-B1EA-4135313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1EA-22C2-4FB2-9B37-907915C5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1994-AB25-41BA-8E39-F6AA068A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85EA-5571-4D8F-8CDB-38CFAE5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2647-5EFB-43AE-B19E-64296C2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E3EF-7341-4CC8-A21C-BF551CB0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6991-6A84-408F-9971-18C41FC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80D9-7924-47DC-9333-948FB4E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4F56-A499-4543-867A-F7221EC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0983-F52A-4B2A-B335-B9F57575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78F4-2A79-406C-849F-A78456A4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C7D59-C326-4D0D-B821-FED795D5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0FF-5379-4846-9D75-947A092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F66C8-D7DD-4182-9676-BC77FA9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B4B33-627A-4FD9-815D-9A7713D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2F82B-2270-4EE8-9DA5-75E50C9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DF864-03E7-4822-89AB-CA9EF21D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69F0C-8627-4443-BF71-8518AC2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C7C7A-F890-4C91-AAED-9FB1F7C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B57C7-5CDD-4420-B78C-C10ACFC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2E5E1-D772-4A54-9D46-911863C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EC72B-F296-461A-9381-A2E906AE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53A70-97F0-4FFB-B0CE-DFD52327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50E-8716-46A8-986D-F1F0AE72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00BC7-EB16-4194-8D23-40F0ECB1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8CCE5-99A5-4B76-9CE9-DE80FC67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EBF5F-AE65-4794-B191-4BE64875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0049E-D1B4-48A1-9743-7C8148E4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4EDCF-DF7A-46BC-BBC4-E9E6A5A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53639-41A2-4C0D-BAE5-4AE3E012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6E8A1-9B57-4B39-A504-302285F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5ECA7-4334-4939-B018-AE2E4C1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37D80-83B2-41BA-BF59-1AA9A12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598C8-C5F0-4500-8AC8-410886E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8EC-E724-4925-8E7E-49F644C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682D9-5466-416E-B694-67513842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64F8F-DEB7-4EF1-A8D8-7DE4017A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85B5E-3146-4827-911E-3D1FF941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CC8EE-260E-44B2-B2EE-E0EDB79A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C5D35-B747-49E6-B932-711F298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2E698-661D-4E08-BF24-C839002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5BFFF-D209-43BB-B517-1CD737B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DFF9B-ED27-427E-B4B7-FC162C4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40976-7585-4FCB-AD02-142BAB9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9CF6A-1D53-4D69-9968-4EA9C16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BCF-D12E-4950-9BF0-4D72BD8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B940B-1CEE-4DA0-AA0D-4DB8539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15862-3F47-484E-86C9-30963CDB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AF325-1B5E-4378-A77B-93524CE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E2AA1-1784-45D6-95E3-DADE149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AAD35-94D4-44F1-BBA9-45C2BB32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2B4-C779-4C5C-9C4D-7681EC61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2DD9-6475-4B25-8415-4495ACA8EF8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970-A7DA-42D1-B933-016780F201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003-38D2-4F4D-9785-51C588E1A5B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DBF-7350-447E-A2F3-68CE317D8A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66F-662E-4233-A2DF-4F6A9C7E135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C00-6407-48B6-835C-A365BE294A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8F86-F8F6-48B1-A278-F5A260A5B3F7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561-81C4-4472-9A48-E329E14E59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4DC6-FBBF-4FBE-B641-EFC59120EC3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451C-8810-4B46-BB66-B95C1ADAE28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BD6-84B7-4F0E-AD7A-90902496D87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0B18-B7A5-440B-BD96-BB100806CA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A5B4-91E4-46E3-B353-2CE987E4B3E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1B2-7CEB-4FFD-9FA2-6BA552DCE5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CHS 221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SUALIZING DATA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eek 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Schoolbook"/>
              </a:rPr>
              <a:t>Dr. Wajed Hatamle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Schoolbook"/>
              </a:rPr>
              <a:t>http://staff.ksu.edu.sa/whatamleh/e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86B-0FB4-478A-90A4-4911CDBB2F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FREQUENCY POLYGONS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frequency polyg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e that the line is brought down to zero for the score below lowest data point (54) and above highest data point (7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83040" y="1891800"/>
            <a:ext cx="3803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Picture 5" descr=""/>
          <p:cNvPicPr/>
          <p:nvPr/>
        </p:nvPicPr>
        <p:blipFill>
          <a:blip r:embed="rId1"/>
          <a:srcRect l="4081" t="0" r="0" b="0"/>
          <a:stretch/>
        </p:blipFill>
        <p:spPr>
          <a:xfrm>
            <a:off x="4876920" y="1905120"/>
            <a:ext cx="3801960" cy="38098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7240" y="1104840"/>
            <a:ext cx="7772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g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a graph of a cumulative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687240" y="158112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data values are shown on the horizont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87240" y="2057400"/>
            <a:ext cx="77724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n on the vertical axis are t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frequencie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relative frequencie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perc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87240" y="3867120"/>
            <a:ext cx="77724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requency (one of the above) of each class is plotted a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687240" y="47624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lotted points are connected by straigh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 rot="5400000">
            <a:off x="485640" y="126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"/>
          <p:cNvSpPr/>
          <p:nvPr/>
        </p:nvSpPr>
        <p:spPr>
          <a:xfrm rot="5400000">
            <a:off x="485640" y="1746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0"/>
          <p:cNvSpPr/>
          <p:nvPr/>
        </p:nvSpPr>
        <p:spPr>
          <a:xfrm rot="5400000">
            <a:off x="485640" y="22222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1"/>
          <p:cNvSpPr/>
          <p:nvPr/>
        </p:nvSpPr>
        <p:spPr>
          <a:xfrm rot="5400000">
            <a:off x="485640" y="4032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"/>
          <p:cNvSpPr/>
          <p:nvPr/>
        </p:nvSpPr>
        <p:spPr>
          <a:xfrm rot="5400000">
            <a:off x="485640" y="49273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A780-812C-466E-91A5-3AE0903BB4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977760" y="87480"/>
            <a:ext cx="716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Og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762120" y="13716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 graph that depicts cumulativ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9"/>
          <p:cNvGrpSpPr/>
          <p:nvPr/>
        </p:nvGrpSpPr>
        <p:grpSpPr>
          <a:xfrm>
            <a:off x="2550960" y="2508120"/>
            <a:ext cx="4086360" cy="3773160"/>
            <a:chOff x="2550960" y="2508120"/>
            <a:chExt cx="4086360" cy="3773160"/>
          </a:xfrm>
        </p:grpSpPr>
        <p:sp>
          <p:nvSpPr>
            <p:cNvPr id="519" name="Rectangle 2"/>
            <p:cNvSpPr/>
            <p:nvPr/>
          </p:nvSpPr>
          <p:spPr>
            <a:xfrm>
              <a:off x="3943440" y="59180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Picture 7" descr="2_04"/>
            <p:cNvPicPr/>
            <p:nvPr/>
          </p:nvPicPr>
          <p:blipFill>
            <a:blip r:embed="rId1"/>
            <a:stretch/>
          </p:blipFill>
          <p:spPr>
            <a:xfrm>
              <a:off x="2550960" y="2508120"/>
              <a:ext cx="4086360" cy="33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673-2252-426C-86EF-1F4CCAA2B0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575f6d"/>
                </a:solidFill>
                <a:latin typeface="Arial"/>
                <a:ea typeface="Times New Roman"/>
              </a:rPr>
              <a:t>BAR GRAPHS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ar grap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Used for quanitive and qualitativ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 graphs have a horizontal dimension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 ax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that specifies categories (i.e., data valu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ertical dimension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 ax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specifies either frequencies or percent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s for each category drawn to the height that indicates the frequency or 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40B-CC08-4C0C-9E21-1B18A36803F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BAR GRAPH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286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bar 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e the bars do not touch each o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649760" y="2403360"/>
            <a:ext cx="40370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1"/>
          <a:srcRect l="1376" t="7049" r="150" b="6667"/>
          <a:stretch/>
        </p:blipFill>
        <p:spPr>
          <a:xfrm>
            <a:off x="2602080" y="1533600"/>
            <a:ext cx="638964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PIE CH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ie Char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lso used for quantitative and qualitativ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ircle is divided into pie-shaped wedges corresponding to percentages for a given category or data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pieces add up to 100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ce wedges in order, with biggest wedge starting at “12 o’clock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FFE-9893-409E-B705-61810A5893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PIE CH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256212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pie chart, for same marital stat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83876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050"/>
          <p:cNvSpPr/>
          <p:nvPr/>
        </p:nvSpPr>
        <p:spPr>
          <a:xfrm>
            <a:off x="3213000" y="101520"/>
            <a:ext cx="2718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051"/>
          <p:cNvSpPr/>
          <p:nvPr/>
        </p:nvSpPr>
        <p:spPr>
          <a:xfrm>
            <a:off x="380880" y="1905120"/>
            <a:ext cx="79250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 graphs that are pictures of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in mind that the object of this section is not just to construct graphs, but to learn something about the data sets – that is, to understand the nature of their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6F0A-87BA-40D7-974C-B215E58872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CHARACTERISTICS OF A DATA DISTRIBU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oth central tendency and variability can be expressed by indexes that are descriptive stat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391-1A4E-47E6-AA0B-E567A502E2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ENTRAL TENDENC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xes of central tendency provide a single number to characterize a distrib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entral tend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me from the center of the distribution of data values, indicating what is “typical,” and where data values tend to clu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ly called an “averag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8C9-6BD1-4B88-A3B4-888BB0FECA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34680" y="88920"/>
            <a:ext cx="78613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Century Schoolbook"/>
              </a:rPr>
              <a:t>VISUALIZING DAT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270000" y="439560"/>
            <a:ext cx="946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62120" y="1752480"/>
            <a:ext cx="7391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Hebrew"/>
                <a:ea typeface="Adobe Hebrew"/>
              </a:rPr>
              <a:t>Depict the nature of shape or shape of the data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Hebrew"/>
                <a:ea typeface="Adobe Hebrew"/>
              </a:rPr>
              <a:t>In a graph: Different graphs used for different types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BFB6-AA5A-459B-8791-0E2882C111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ENTRAL TENDENCY INDEX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ee alternative index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edi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e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6962-FBCF-4BDF-8981-A39531D00E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score value with the highest frequency; the most “popular” sco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de = 27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6" name="Object 2"/>
          <p:cNvGraphicFramePr/>
          <p:nvPr/>
        </p:nvGraphicFramePr>
        <p:xfrm>
          <a:off x="5334120" y="1905120"/>
          <a:ext cx="35049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905120"/>
                    <a:ext cx="35049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99F6-A752-4D5E-A48D-6C2E6CEE5C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be used with data measured on any measurement level (including nominal leve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sy to “compu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lect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ctual valu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the distribution, so it is easy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ful when there are 2+ “popular” scores (i.e., in multimodal distribution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D737-FFA9-4E86-8F4E-95D58A9BA2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23240" y="74520"/>
            <a:ext cx="2170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Mo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30320" y="990720"/>
            <a:ext cx="90136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A data set may b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Bimod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No Mo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30320" y="4572000"/>
            <a:ext cx="7619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denoted by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the only measure of central tendency that can be used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litative</a:t>
            </a: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A75-467F-4040-971B-0FEF645AE8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710640" y="1905120"/>
            <a:ext cx="4255200" cy="2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 5.40  1.10  0.42  0.73  0.48  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27  27  27  55  55  55  88  88 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1   2   3   6   7   8   9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04920" y="1955880"/>
            <a:ext cx="5207040" cy="2241360"/>
          </a:xfrm>
          <a:prstGeom prst="rect">
            <a:avLst/>
          </a:prstGeom>
          <a:noFill/>
          <a:ln w="255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01800" y="74520"/>
            <a:ext cx="3738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776680" y="4237200"/>
            <a:ext cx="3920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562360" y="1980720"/>
            <a:ext cx="3282840" cy="23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Mode is 1.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imodal -  27 &amp; 5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No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16E-DBCC-4F24-AABB-760C43737D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gnores most information in the distrib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nds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i.e., value varies a lot from one sample to the nex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distributions may not have a mode (e.g., 10, 10, 11, 11, 12, 1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1D58-29D7-4626-BBA9-14CBF46939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score that divides the distribution into two equal halv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0% are below the median, 50% abov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an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(Mdn) =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2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2920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edi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8" name="Object 2"/>
          <p:cNvGraphicFramePr/>
          <p:nvPr/>
        </p:nvGraphicFramePr>
        <p:xfrm>
          <a:off x="5181480" y="2057400"/>
          <a:ext cx="3429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7400"/>
                    <a:ext cx="3429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B890-3B62-44BC-AC54-DE0C2ED4E9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776520" y="3627360"/>
            <a:ext cx="43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304920" y="4114800"/>
            <a:ext cx="7619760" cy="2413080"/>
            <a:chOff x="304920" y="4114800"/>
            <a:chExt cx="7619760" cy="2413080"/>
          </a:xfrm>
        </p:grpSpPr>
        <p:grpSp>
          <p:nvGrpSpPr>
            <p:cNvPr id="586" name="Group 7"/>
            <p:cNvGrpSpPr/>
            <p:nvPr/>
          </p:nvGrpSpPr>
          <p:grpSpPr>
            <a:xfrm>
              <a:off x="304920" y="4114800"/>
              <a:ext cx="7619760" cy="2413080"/>
              <a:chOff x="304920" y="4114800"/>
              <a:chExt cx="7619760" cy="2413080"/>
            </a:xfrm>
          </p:grpSpPr>
          <p:sp>
            <p:nvSpPr>
              <p:cNvPr id="587" name="Rectangle 8"/>
              <p:cNvSpPr/>
              <p:nvPr/>
            </p:nvSpPr>
            <p:spPr>
              <a:xfrm>
                <a:off x="304920" y="4114800"/>
                <a:ext cx="7619760" cy="2413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575f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9"/>
              <p:cNvSpPr/>
              <p:nvPr/>
            </p:nvSpPr>
            <p:spPr>
              <a:xfrm>
                <a:off x="1107000" y="4243680"/>
                <a:ext cx="6079320" cy="19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5.40       1.10      0.42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73      0.48    1.10    0.66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3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42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     0.48      0.66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73      1.10    1.10    5.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in order -                odd number of valu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575f6d"/>
                    </a:solidFill>
                    <a:latin typeface="Arial"/>
                  </a:rPr>
                  <a:t>exact middle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MEDIAN</a:t>
                </a:r>
                <a:r>
                  <a:rPr b="1" lang="en-US" sz="3200" spc="-1" strike="noStrike">
                    <a:solidFill>
                      <a:srgbClr val="575f6d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is 0.73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Line 10"/>
            <p:cNvSpPr/>
            <p:nvPr/>
          </p:nvSpPr>
          <p:spPr>
            <a:xfrm>
              <a:off x="3505320" y="5029200"/>
              <a:ext cx="0" cy="927360"/>
            </a:xfrm>
            <a:prstGeom prst="line">
              <a:avLst/>
            </a:prstGeom>
            <a:ln w="25560">
              <a:solidFill>
                <a:srgbClr val="d2611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1"/>
          <p:cNvGrpSpPr/>
          <p:nvPr/>
        </p:nvGrpSpPr>
        <p:grpSpPr>
          <a:xfrm>
            <a:off x="609480" y="0"/>
            <a:ext cx="7041960" cy="3625560"/>
            <a:chOff x="609480" y="0"/>
            <a:chExt cx="7041960" cy="3625560"/>
          </a:xfrm>
        </p:grpSpPr>
        <p:sp>
          <p:nvSpPr>
            <p:cNvPr id="591" name="Rectangle 12"/>
            <p:cNvSpPr/>
            <p:nvPr/>
          </p:nvSpPr>
          <p:spPr>
            <a:xfrm>
              <a:off x="609480" y="75960"/>
              <a:ext cx="7041960" cy="354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1524600" y="0"/>
              <a:ext cx="4767120" cy="21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5.40       1.10      0.42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0.73    0.48    1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0.42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   0.48      0.73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1.10    1.10    5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1149480" y="2797200"/>
              <a:ext cx="1461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75f6d"/>
                  </a:solidFill>
                  <a:latin typeface="Arial"/>
                </a:rPr>
                <a:t>0.73 + 1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>
              <a:off x="1152360" y="3159000"/>
              <a:ext cx="144468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1713960" y="32144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75f6d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2124000" y="2922480"/>
              <a:ext cx="1055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8"/>
            <p:cNvSpPr/>
            <p:nvPr/>
          </p:nvSpPr>
          <p:spPr>
            <a:xfrm>
              <a:off x="1744200" y="1904760"/>
              <a:ext cx="4716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even number of values – no exact 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 by two numbe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4221360" y="2894040"/>
              <a:ext cx="3364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EDIAN is 0.9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3352680" y="1066680"/>
              <a:ext cx="855720" cy="838080"/>
              <a:chOff x="3352680" y="1066680"/>
              <a:chExt cx="855720" cy="838080"/>
            </a:xfrm>
          </p:grpSpPr>
          <p:sp>
            <p:nvSpPr>
              <p:cNvPr id="600" name="Line 21"/>
              <p:cNvSpPr/>
              <p:nvPr/>
            </p:nvSpPr>
            <p:spPr>
              <a:xfrm>
                <a:off x="3886200" y="1066680"/>
                <a:ext cx="304560" cy="83808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2"/>
              <p:cNvSpPr/>
              <p:nvPr/>
            </p:nvSpPr>
            <p:spPr>
              <a:xfrm flipV="1">
                <a:off x="3898800" y="1294920"/>
                <a:ext cx="0" cy="32688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24"/>
              <p:cNvSpPr/>
              <p:nvPr/>
            </p:nvSpPr>
            <p:spPr>
              <a:xfrm>
                <a:off x="3352680" y="1142640"/>
                <a:ext cx="855720" cy="75672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Slide Number Placeholder 2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F93-04A0-470A-96D4-3BB7CEB1D2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influenced by outli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icularly good index of what is “typical” when distribution is ske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sy to “compu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1D3-0262-4134-8A0D-F72D2B9D10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take actual data values into account—only an index of pos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 of median not necessarily an actual data value, so it is more difficult to understand than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FCE4-33F2-4D6D-B7D7-7196142867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458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ISTOGR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66720" y="1066680"/>
            <a:ext cx="7067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ther common graphical present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ntitative data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66720" y="1924200"/>
            <a:ext cx="74106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ariable of interest is placed on the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666720" y="2705040"/>
            <a:ext cx="763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ectangle is drawn above each class interv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s height corresponding to the interval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ercent 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 rot="5400000">
            <a:off x="504720" y="126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 rot="5400000">
            <a:off x="504720" y="21272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 rot="5400000">
            <a:off x="504720" y="2927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 rot="5400000">
            <a:off x="504720" y="4184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AB60-5294-421C-B176-1485FE6F2A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arithmetic a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ata values are summed and divided by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an = 28.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7692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ea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5029200" y="2057400"/>
          <a:ext cx="3429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057400"/>
                    <a:ext cx="3429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45E1-883D-4655-865C-068EB8257E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frequently used measure of 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 =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X ÷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sample me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the sum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ual data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8E7F-98C5-4303-869D-B3254ED4AB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alance poi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the distribu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m of deviations above the mean always exactly balances those below 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ignore any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st stable index of 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inferential statistics are based on the me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0F55-E3BE-4EC2-9824-6449ADC92D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itive to outli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s a distorted view of what is  “typical” when data are ske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 of mean is often not an actual data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339-8D5A-4353-A442-8C04F35715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SYMB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mea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reports, usually symbolized a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statistical formulas, usually symbolized 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pronounced X ba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tion mea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Greek letter </a:t>
            </a:r>
            <a:r>
              <a:rPr b="0" i="1" lang="el-GR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μ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 (m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DBB3-7661-4138-93DB-27EF7A0643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350520" y="93600"/>
            <a:ext cx="2447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266760" y="3424320"/>
            <a:ext cx="878184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lnSpc>
                <a:spcPct val="95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en-US" sz="2400" spc="-1" strike="noStrike">
                <a:solidFill>
                  <a:srgbClr val="575f6d"/>
                </a:solidFill>
                <a:latin typeface="Times New Roman"/>
              </a:rPr>
              <a:t>µ</a:t>
            </a:r>
            <a:r>
              <a:rPr b="0" lang="en-US" sz="2400" spc="-1" strike="noStrike">
                <a:solidFill>
                  <a:srgbClr val="575f6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s pronounced ‘mu’ and denotes the</a:t>
            </a:r>
            <a:r>
              <a:rPr b="0" lang="en-US" sz="2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mean of all values    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 in a</a:t>
            </a:r>
            <a:r>
              <a:rPr b="0" lang="en-US" sz="2400" spc="-1" strike="noStrike">
                <a:solidFill>
                  <a:srgbClr val="d2611c"/>
                </a:solidFill>
                <a:latin typeface="Century Schoolbook"/>
              </a:rPr>
              <a:t> pop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31" name="Group 6"/>
          <p:cNvGrpSpPr/>
          <p:nvPr/>
        </p:nvGrpSpPr>
        <p:grpSpPr>
          <a:xfrm>
            <a:off x="3701160" y="1655640"/>
            <a:ext cx="2687040" cy="1494360"/>
            <a:chOff x="3701160" y="1655640"/>
            <a:chExt cx="2687040" cy="1494360"/>
          </a:xfrm>
        </p:grpSpPr>
        <p:sp>
          <p:nvSpPr>
            <p:cNvPr id="632" name="Rectangle 7"/>
            <p:cNvSpPr/>
            <p:nvPr/>
          </p:nvSpPr>
          <p:spPr>
            <a:xfrm>
              <a:off x="3701160" y="2023920"/>
              <a:ext cx="10609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>
              <a:off x="3822840" y="2190600"/>
              <a:ext cx="29844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>
              <a:off x="4844880" y="2397240"/>
              <a:ext cx="154332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0"/>
            <p:cNvSpPr/>
            <p:nvPr/>
          </p:nvSpPr>
          <p:spPr>
            <a:xfrm>
              <a:off x="5356080" y="2390760"/>
              <a:ext cx="4924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1"/>
            <p:cNvSpPr/>
            <p:nvPr/>
          </p:nvSpPr>
          <p:spPr>
            <a:xfrm>
              <a:off x="5144400" y="1655640"/>
              <a:ext cx="1002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75f6d"/>
                  </a:solidFill>
                  <a:latin typeface="Century Schoolbook"/>
                </a:rPr>
                <a:t>∑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354600" y="1033560"/>
            <a:ext cx="8470440" cy="933120"/>
            <a:chOff x="354600" y="1033560"/>
            <a:chExt cx="8470440" cy="933120"/>
          </a:xfrm>
        </p:grpSpPr>
        <p:sp>
          <p:nvSpPr>
            <p:cNvPr id="638" name="Rectangle 5"/>
            <p:cNvSpPr/>
            <p:nvPr/>
          </p:nvSpPr>
          <p:spPr>
            <a:xfrm>
              <a:off x="795240" y="1228680"/>
              <a:ext cx="80298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is pronounced ‘x-bar’ and denote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 of a set of sample 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2"/>
            <p:cNvGrpSpPr/>
            <p:nvPr/>
          </p:nvGrpSpPr>
          <p:grpSpPr>
            <a:xfrm>
              <a:off x="354600" y="1033560"/>
              <a:ext cx="742320" cy="759240"/>
              <a:chOff x="354600" y="1033560"/>
              <a:chExt cx="742320" cy="759240"/>
            </a:xfrm>
          </p:grpSpPr>
          <p:sp>
            <p:nvSpPr>
              <p:cNvPr id="640" name="Rectangle 13"/>
              <p:cNvSpPr/>
              <p:nvPr/>
            </p:nvSpPr>
            <p:spPr>
              <a:xfrm>
                <a:off x="354600" y="1033560"/>
                <a:ext cx="74232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575f6d"/>
                    </a:solidFill>
                    <a:latin typeface="Times New Roman"/>
                  </a:rPr>
                  <a:t>x</a:t>
                </a:r>
                <a:r>
                  <a:rPr b="1" lang="en-US" sz="4400" spc="-1" strike="noStrike">
                    <a:solidFill>
                      <a:srgbClr val="575f6d"/>
                    </a:solidFill>
                    <a:latin typeface="Times New Roman"/>
                  </a:rPr>
                  <a:t> 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4"/>
              <p:cNvSpPr/>
              <p:nvPr/>
            </p:nvSpPr>
            <p:spPr>
              <a:xfrm>
                <a:off x="469800" y="1200240"/>
                <a:ext cx="298440" cy="0"/>
              </a:xfrm>
              <a:prstGeom prst="line">
                <a:avLst/>
              </a:prstGeom>
              <a:ln w="25560">
                <a:solidFill>
                  <a:srgbClr val="575f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20"/>
          <p:cNvGrpSpPr/>
          <p:nvPr/>
        </p:nvGrpSpPr>
        <p:grpSpPr>
          <a:xfrm>
            <a:off x="3697200" y="4290840"/>
            <a:ext cx="2519280" cy="1614960"/>
            <a:chOff x="3697200" y="4290840"/>
            <a:chExt cx="2519280" cy="1614960"/>
          </a:xfrm>
        </p:grpSpPr>
        <p:sp>
          <p:nvSpPr>
            <p:cNvPr id="643" name="Line 16"/>
            <p:cNvSpPr/>
            <p:nvPr/>
          </p:nvSpPr>
          <p:spPr>
            <a:xfrm>
              <a:off x="4870440" y="5076720"/>
              <a:ext cx="134604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7"/>
            <p:cNvSpPr/>
            <p:nvPr/>
          </p:nvSpPr>
          <p:spPr>
            <a:xfrm>
              <a:off x="5249520" y="5146560"/>
              <a:ext cx="5853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8"/>
            <p:cNvSpPr/>
            <p:nvPr/>
          </p:nvSpPr>
          <p:spPr>
            <a:xfrm>
              <a:off x="3697200" y="4719240"/>
              <a:ext cx="11019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µ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9"/>
            <p:cNvSpPr/>
            <p:nvPr/>
          </p:nvSpPr>
          <p:spPr>
            <a:xfrm>
              <a:off x="5003280" y="4290840"/>
              <a:ext cx="1002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75f6d"/>
                  </a:solidFill>
                  <a:latin typeface="Century Schoolbook"/>
                </a:rPr>
                <a:t>∑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Slide Number Placeholder 2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995-9CFB-465A-9D4D-56418934AD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330120" y="127080"/>
            <a:ext cx="8487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est Measure of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T2_10"/>
          <p:cNvPicPr/>
          <p:nvPr/>
        </p:nvPicPr>
        <p:blipFill>
          <a:blip r:embed="rId1"/>
          <a:stretch/>
        </p:blipFill>
        <p:spPr>
          <a:xfrm>
            <a:off x="615960" y="914400"/>
            <a:ext cx="7910640" cy="5622840"/>
          </a:xfrm>
          <a:prstGeom prst="rect">
            <a:avLst/>
          </a:prstGeom>
          <a:ln w="0">
            <a:noFill/>
          </a:ln>
        </p:spPr>
      </p:pic>
      <p:sp>
        <p:nvSpPr>
          <p:cNvPr id="650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52CA-F22A-4F92-9A83-7E3CC95798C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4280" y="1562040"/>
            <a:ext cx="87948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Symmetric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ata is symmetric if the left half of its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histogram is roughly a mirror image of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its right half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Skewed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ata is skewed if it is not symmetric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and if it extends more to one side than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he oth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2513880" y="74520"/>
            <a:ext cx="4118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Defini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7D56-6466-4CAC-8FF4-49865DB17F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2464560" y="69840"/>
            <a:ext cx="42368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Skewn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4" descr="2_11a_1"/>
          <p:cNvPicPr/>
          <p:nvPr/>
        </p:nvPicPr>
        <p:blipFill>
          <a:blip r:embed="rId1"/>
          <a:stretch/>
        </p:blipFill>
        <p:spPr>
          <a:xfrm>
            <a:off x="919080" y="3832200"/>
            <a:ext cx="3125880" cy="2611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5" descr="2_11c_1"/>
          <p:cNvPicPr/>
          <p:nvPr/>
        </p:nvPicPr>
        <p:blipFill>
          <a:blip r:embed="rId2"/>
          <a:stretch/>
        </p:blipFill>
        <p:spPr>
          <a:xfrm>
            <a:off x="5219640" y="3854520"/>
            <a:ext cx="3081240" cy="2600280"/>
          </a:xfrm>
          <a:prstGeom prst="rect">
            <a:avLst/>
          </a:prstGeom>
          <a:ln w="0">
            <a:noFill/>
          </a:ln>
        </p:spPr>
      </p:pic>
      <p:grpSp>
        <p:nvGrpSpPr>
          <p:cNvPr id="661" name="Group 60"/>
          <p:cNvGrpSpPr/>
          <p:nvPr/>
        </p:nvGrpSpPr>
        <p:grpSpPr>
          <a:xfrm>
            <a:off x="332280" y="1530360"/>
            <a:ext cx="5746320" cy="1954080"/>
            <a:chOff x="332280" y="1530360"/>
            <a:chExt cx="5746320" cy="1954080"/>
          </a:xfrm>
        </p:grpSpPr>
        <p:sp>
          <p:nvSpPr>
            <p:cNvPr id="662" name="Rectangle 57"/>
            <p:cNvSpPr/>
            <p:nvPr/>
          </p:nvSpPr>
          <p:spPr>
            <a:xfrm>
              <a:off x="332280" y="1603440"/>
              <a:ext cx="1521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1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59" descr="2_11b_1"/>
            <p:cNvPicPr/>
            <p:nvPr/>
          </p:nvPicPr>
          <p:blipFill>
            <a:blip r:embed="rId3"/>
            <a:stretch/>
          </p:blipFill>
          <p:spPr>
            <a:xfrm>
              <a:off x="3071880" y="1530360"/>
              <a:ext cx="3006720" cy="195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9DFF-A92A-4952-96CA-66335A392B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463920" y="82440"/>
            <a:ext cx="223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533520" y="1143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In this section we hav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9"/>
          <p:cNvGrpSpPr/>
          <p:nvPr/>
        </p:nvGrpSpPr>
        <p:grpSpPr>
          <a:xfrm>
            <a:off x="457200" y="2057400"/>
            <a:ext cx="7400880" cy="4025880"/>
            <a:chOff x="457200" y="2057400"/>
            <a:chExt cx="7400880" cy="4025880"/>
          </a:xfrm>
        </p:grpSpPr>
        <p:sp>
          <p:nvSpPr>
            <p:cNvPr id="668" name="Text Box 4"/>
            <p:cNvSpPr/>
            <p:nvPr/>
          </p:nvSpPr>
          <p:spPr>
            <a:xfrm>
              <a:off x="457200" y="2057400"/>
              <a:ext cx="7400880" cy="14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Types of Measures of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457200" y="378144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an from a frequency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7"/>
            <p:cNvSpPr/>
            <p:nvPr/>
          </p:nvSpPr>
          <p:spPr>
            <a:xfrm>
              <a:off x="457200" y="50706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Best Measures of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8"/>
            <p:cNvSpPr/>
            <p:nvPr/>
          </p:nvSpPr>
          <p:spPr>
            <a:xfrm>
              <a:off x="457200" y="57150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Skew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Slide Number Placeholder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1259-81EC-4AFA-98DA-5FC5D4F275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HISTOGRA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istogra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Used for quantitative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ilar to a bar graph, with an X and Y axis—but adjacent values are on a continuum so bars touch one ano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values on X axis are arranged from lowest to high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s are drawn to height to show frequency or percentage (Y ax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68B5-A1F1-4B3E-8284-F2F2AC9859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MEASURES OF VARIA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150840" y="2475000"/>
            <a:ext cx="7165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57200" y="28195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this section introduces the concept of variation, this is one of the most important sections in the entir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F4F6-6061-4480-BB8A-CA3F7B2784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720" y="101520"/>
            <a:ext cx="716256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DEFINI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2384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611c"/>
                </a:solidFill>
                <a:latin typeface="Century Schoolbook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4000" spc="-1" strike="noStrike">
                <a:solidFill>
                  <a:srgbClr val="d2611c"/>
                </a:solidFill>
                <a:latin typeface="Century Schoolbook"/>
              </a:rPr>
              <a:t>range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of a set of data is the difference between the highest value and the lowest valu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1676520" y="4343400"/>
            <a:ext cx="6172200" cy="1646280"/>
            <a:chOff x="1676520" y="4343400"/>
            <a:chExt cx="6172200" cy="1646280"/>
          </a:xfrm>
        </p:grpSpPr>
        <p:grpSp>
          <p:nvGrpSpPr>
            <p:cNvPr id="680" name="Group 5"/>
            <p:cNvGrpSpPr/>
            <p:nvPr/>
          </p:nvGrpSpPr>
          <p:grpSpPr>
            <a:xfrm>
              <a:off x="1676520" y="4343400"/>
              <a:ext cx="6172200" cy="1646280"/>
              <a:chOff x="1676520" y="4343400"/>
              <a:chExt cx="6172200" cy="1646280"/>
            </a:xfrm>
          </p:grpSpPr>
          <p:grpSp>
            <p:nvGrpSpPr>
              <p:cNvPr id="681" name="Group 6"/>
              <p:cNvGrpSpPr/>
              <p:nvPr/>
            </p:nvGrpSpPr>
            <p:grpSpPr>
              <a:xfrm>
                <a:off x="1676520" y="4344840"/>
                <a:ext cx="3200400" cy="1644840"/>
                <a:chOff x="1676520" y="4344840"/>
                <a:chExt cx="3200400" cy="1644840"/>
              </a:xfrm>
            </p:grpSpPr>
            <p:sp>
              <p:nvSpPr>
                <p:cNvPr id="682" name="Rectangle 7"/>
                <p:cNvSpPr/>
                <p:nvPr/>
              </p:nvSpPr>
              <p:spPr>
                <a:xfrm>
                  <a:off x="1676520" y="4870440"/>
                  <a:ext cx="320040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8"/>
                <p:cNvSpPr/>
                <p:nvPr/>
              </p:nvSpPr>
              <p:spPr>
                <a:xfrm>
                  <a:off x="1750320" y="4344840"/>
                  <a:ext cx="19843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highest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9"/>
              <p:cNvGrpSpPr/>
              <p:nvPr/>
            </p:nvGrpSpPr>
            <p:grpSpPr>
              <a:xfrm>
                <a:off x="5677560" y="4343400"/>
                <a:ext cx="2171160" cy="1417680"/>
                <a:chOff x="5677560" y="4343400"/>
                <a:chExt cx="2171160" cy="1417680"/>
              </a:xfrm>
            </p:grpSpPr>
            <p:sp>
              <p:nvSpPr>
                <p:cNvPr id="685" name="Rectangle 10"/>
                <p:cNvSpPr/>
                <p:nvPr/>
              </p:nvSpPr>
              <p:spPr>
                <a:xfrm>
                  <a:off x="5677560" y="4343400"/>
                  <a:ext cx="190188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lowest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11"/>
                <p:cNvSpPr/>
                <p:nvPr/>
              </p:nvSpPr>
              <p:spPr>
                <a:xfrm>
                  <a:off x="5715000" y="4770360"/>
                  <a:ext cx="213372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7" name="Line 12"/>
            <p:cNvSpPr/>
            <p:nvPr/>
          </p:nvSpPr>
          <p:spPr>
            <a:xfrm>
              <a:off x="4533840" y="4846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Slide Number Placeholder 1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86D-D413-46F4-8732-40468639C91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720" y="88560"/>
            <a:ext cx="71625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DEFINI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914400" y="22860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andard deviation of a set of sample values is a measure of variation of values about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CCA-34D2-49C2-BEA7-492088FDBC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600" y="114480"/>
            <a:ext cx="8686800" cy="11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AMPLE STANDARD 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EVIATION FORMUL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914400" y="2590920"/>
            <a:ext cx="6580080" cy="2736720"/>
            <a:chOff x="914400" y="2590920"/>
            <a:chExt cx="6580080" cy="2736720"/>
          </a:xfrm>
        </p:grpSpPr>
        <p:sp>
          <p:nvSpPr>
            <p:cNvPr id="694" name="Rectangle 4"/>
            <p:cNvSpPr/>
            <p:nvPr/>
          </p:nvSpPr>
          <p:spPr>
            <a:xfrm>
              <a:off x="1716120" y="3200400"/>
              <a:ext cx="1218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"/>
            <p:cNvSpPr/>
            <p:nvPr/>
          </p:nvSpPr>
          <p:spPr>
            <a:xfrm>
              <a:off x="914400" y="496080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"/>
            <p:cNvSpPr/>
            <p:nvPr/>
          </p:nvSpPr>
          <p:spPr>
            <a:xfrm>
              <a:off x="4378680" y="2898720"/>
              <a:ext cx="27100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3600" spc="-1" strike="noStrike" baseline="56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7"/>
            <p:cNvSpPr/>
            <p:nvPr/>
          </p:nvSpPr>
          <p:spPr>
            <a:xfrm>
              <a:off x="4996440" y="3813120"/>
              <a:ext cx="1516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3362400" y="3459240"/>
              <a:ext cx="198360" cy="274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3560760" y="3444840"/>
              <a:ext cx="220680" cy="130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3786120" y="2590920"/>
              <a:ext cx="376200" cy="21463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1"/>
            <p:cNvSpPr/>
            <p:nvPr/>
          </p:nvSpPr>
          <p:spPr>
            <a:xfrm>
              <a:off x="4167000" y="259092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"/>
            <p:cNvSpPr/>
            <p:nvPr/>
          </p:nvSpPr>
          <p:spPr>
            <a:xfrm>
              <a:off x="186840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>
              <a:off x="4243320" y="3809880"/>
              <a:ext cx="309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6237360" y="3124080"/>
              <a:ext cx="25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Slide Number Placeholder 1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3FAB-A3E1-4EE8-8C00-015741E4A8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600" y="13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AMPLE STANDARD DEVIATION (SHORTCUT FORMULA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707" name="Group 3"/>
          <p:cNvGrpSpPr/>
          <p:nvPr/>
        </p:nvGrpSpPr>
        <p:grpSpPr>
          <a:xfrm>
            <a:off x="762120" y="2133720"/>
            <a:ext cx="7130880" cy="2747520"/>
            <a:chOff x="762120" y="2133720"/>
            <a:chExt cx="7130880" cy="2747520"/>
          </a:xfrm>
        </p:grpSpPr>
        <p:sp>
          <p:nvSpPr>
            <p:cNvPr id="708" name="Rectangle 4"/>
            <p:cNvSpPr/>
            <p:nvPr/>
          </p:nvSpPr>
          <p:spPr>
            <a:xfrm>
              <a:off x="1219320" y="2685960"/>
              <a:ext cx="121896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"/>
            <p:cNvSpPr/>
            <p:nvPr/>
          </p:nvSpPr>
          <p:spPr>
            <a:xfrm>
              <a:off x="762120" y="4514760"/>
              <a:ext cx="182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"/>
            <p:cNvSpPr/>
            <p:nvPr/>
          </p:nvSpPr>
          <p:spPr>
            <a:xfrm>
              <a:off x="4356360" y="3375000"/>
              <a:ext cx="25268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"/>
            <p:cNvSpPr/>
            <p:nvPr/>
          </p:nvSpPr>
          <p:spPr>
            <a:xfrm>
              <a:off x="3498840" y="3352680"/>
              <a:ext cx="420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"/>
            <p:cNvSpPr/>
            <p:nvPr/>
          </p:nvSpPr>
          <p:spPr>
            <a:xfrm>
              <a:off x="2422440" y="2998800"/>
              <a:ext cx="190440" cy="304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9"/>
            <p:cNvSpPr/>
            <p:nvPr/>
          </p:nvSpPr>
          <p:spPr>
            <a:xfrm>
              <a:off x="2622600" y="2984400"/>
              <a:ext cx="311040" cy="1301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0"/>
            <p:cNvSpPr/>
            <p:nvPr/>
          </p:nvSpPr>
          <p:spPr>
            <a:xfrm>
              <a:off x="2928960" y="2136600"/>
              <a:ext cx="507960" cy="21427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"/>
            <p:cNvSpPr/>
            <p:nvPr/>
          </p:nvSpPr>
          <p:spPr>
            <a:xfrm>
              <a:off x="3438360" y="2133720"/>
              <a:ext cx="445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1123920" y="2743200"/>
              <a:ext cx="121932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3200" spc="-1" strike="noStrike" baseline="74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3"/>
            <p:cNvSpPr/>
            <p:nvPr/>
          </p:nvSpPr>
          <p:spPr>
            <a:xfrm>
              <a:off x="3544920" y="2479680"/>
              <a:ext cx="4206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600" spc="-1" strike="noStrike" baseline="5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3600" spc="-1" strike="noStrike" baseline="5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Slide Number Placeholder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104A-ABD4-4B1A-9833-BBC3CBE81C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228600" y="8100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Arial"/>
              </a:rPr>
              <a:t>Standard Deviation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304920" y="1905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ndard deviation is a measure of variation of all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04920" y="293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standard deviation s is usually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304920" y="397188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standard deviation s can increase dramatically with the inclusion of one or m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ers (data values far away from all oth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304920" y="5867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standard deviation s are the same as the units of the original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0DCC-1DEB-42F3-8068-63B184AC20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310560" y="114480"/>
            <a:ext cx="2520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324000" y="11430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(68-95-99.7) Rule For data sets having a distribution that is approximately bell shaped, the following properties ap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19040" y="251460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68% of all values fall within 1 standard deviation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419040" y="350532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95% of all values fall within 2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419040" y="441972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99.7% of all values fall within 3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3EF-9463-4B02-BAAE-4D1786B74E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7"/>
          <p:cNvSpPr/>
          <p:nvPr/>
        </p:nvSpPr>
        <p:spPr>
          <a:xfrm>
            <a:off x="2196720" y="88920"/>
            <a:ext cx="4750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5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9" descr="2_13_1"/>
          <p:cNvPicPr/>
          <p:nvPr/>
        </p:nvPicPr>
        <p:blipFill>
          <a:blip r:embed="rId1"/>
          <a:stretch/>
        </p:blipFill>
        <p:spPr>
          <a:xfrm>
            <a:off x="851040" y="2738520"/>
            <a:ext cx="7440480" cy="3459240"/>
          </a:xfrm>
          <a:prstGeom prst="rect">
            <a:avLst/>
          </a:prstGeom>
          <a:ln w="0">
            <a:noFill/>
          </a:ln>
        </p:spPr>
      </p:pic>
      <p:sp>
        <p:nvSpPr>
          <p:cNvPr id="73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C9C1-D4D0-476C-BFFF-0C42218DC5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3"/>
          <p:cNvSpPr/>
          <p:nvPr/>
        </p:nvSpPr>
        <p:spPr>
          <a:xfrm>
            <a:off x="2196720" y="88920"/>
            <a:ext cx="47505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6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9" descr="2_13_2"/>
          <p:cNvPicPr/>
          <p:nvPr/>
        </p:nvPicPr>
        <p:blipFill>
          <a:blip r:embed="rId1"/>
          <a:stretch/>
        </p:blipFill>
        <p:spPr>
          <a:xfrm>
            <a:off x="851040" y="2044800"/>
            <a:ext cx="7440480" cy="4152960"/>
          </a:xfrm>
          <a:prstGeom prst="rect">
            <a:avLst/>
          </a:prstGeom>
          <a:ln w="0">
            <a:noFill/>
          </a:ln>
        </p:spPr>
      </p:pic>
      <p:sp>
        <p:nvSpPr>
          <p:cNvPr id="73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5645-678F-48B9-B23B-3082DF6B5E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9"/>
          <p:cNvSpPr/>
          <p:nvPr/>
        </p:nvSpPr>
        <p:spPr>
          <a:xfrm>
            <a:off x="2196720" y="88920"/>
            <a:ext cx="47505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4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6" descr="2_13_3"/>
          <p:cNvPicPr/>
          <p:nvPr/>
        </p:nvPicPr>
        <p:blipFill>
          <a:blip r:embed="rId1"/>
          <a:stretch/>
        </p:blipFill>
        <p:spPr>
          <a:xfrm>
            <a:off x="851040" y="974880"/>
            <a:ext cx="7459560" cy="5222880"/>
          </a:xfrm>
          <a:prstGeom prst="rect">
            <a:avLst/>
          </a:prstGeom>
          <a:ln w="0">
            <a:noFill/>
          </a:ln>
        </p:spPr>
      </p:pic>
      <p:sp>
        <p:nvSpPr>
          <p:cNvPr id="74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384-76F9-49EE-83E9-4E41DC37ED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HISTOGRAMS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histogram: Heart rate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art rate in bp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2"/>
          <p:cNvGraphicFramePr/>
          <p:nvPr/>
        </p:nvGraphicFramePr>
        <p:xfrm>
          <a:off x="1698480" y="2209680"/>
          <a:ext cx="576900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2209680"/>
                    <a:ext cx="5769000" cy="3360960"/>
                  </a:xfrm>
                  <a:prstGeom prst="rect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5D6-F001-4685-87B8-D79D46415E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E YOU READ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Post test Tim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45" name="Picture 2" descr="C:\Users\mutazz\AppData\Local\Microsoft\Windows\Temporary Internet Files\Content.IE5\FEV5E97X\MC900441902[1].wmf"/>
          <p:cNvPicPr/>
          <p:nvPr/>
        </p:nvPicPr>
        <p:blipFill>
          <a:blip r:embed="rId1"/>
          <a:stretch/>
        </p:blipFill>
        <p:spPr>
          <a:xfrm>
            <a:off x="2590920" y="2530440"/>
            <a:ext cx="2741400" cy="3240000"/>
          </a:xfrm>
          <a:prstGeom prst="rect">
            <a:avLst/>
          </a:prstGeom>
          <a:ln w="0">
            <a:noFill/>
          </a:ln>
        </p:spPr>
      </p:pic>
      <p:sp>
        <p:nvSpPr>
          <p:cNvPr id="74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FBE-6331-470E-8361-4C9BE95C25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987EBB36-B85F-4741-88A7-8764C4E4A837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catogric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62240" cy="1905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C:\Users\mutazz\AppData\Local\Microsoft\Windows\Temporary Internet Files\Content.IE5\BQ3LRZJ5\MM900283551[1].gif"/>
          <p:cNvPicPr/>
          <p:nvPr/>
        </p:nvPicPr>
        <p:blipFill>
          <a:blip r:embed="rId2"/>
          <a:stretch/>
        </p:blipFill>
        <p:spPr>
          <a:xfrm>
            <a:off x="838080" y="4648320"/>
            <a:ext cx="19814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024074FB-A51B-4634-A74C-260967FDF5A7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48FD397E-FB9C-4A3F-A914-6F6A5DFFF7B0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4"/>
          <p:cNvSpPr/>
          <p:nvPr/>
        </p:nvSpPr>
        <p:spPr>
          <a:xfrm>
            <a:off x="598320" y="3508200"/>
            <a:ext cx="2055960" cy="640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" descr="C:\Users\mutazz\AppData\Local\Microsoft\Windows\Temporary Internet Files\Content.IE5\XO6894V9\MC900441906[1].wmf"/>
          <p:cNvPicPr/>
          <p:nvPr/>
        </p:nvPicPr>
        <p:blipFill>
          <a:blip r:embed="rId1"/>
          <a:stretch/>
        </p:blipFill>
        <p:spPr>
          <a:xfrm>
            <a:off x="6629400" y="3733920"/>
            <a:ext cx="178128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09C02B91-636F-4CF8-B2A6-44BCF4F6E8F9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(s)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2AABD924-EFA4-47EE-BCEE-28EB9DC6FB0E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(s)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"/>
          <p:cNvSpPr/>
          <p:nvPr/>
        </p:nvSpPr>
        <p:spPr>
          <a:xfrm>
            <a:off x="630360" y="2556000"/>
            <a:ext cx="1400040" cy="639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C:\Users\mutazz\AppData\Local\Microsoft\Windows\Temporary Internet Files\Content.IE5\I7GZ9TTS\MC900154392[1].wmf"/>
          <p:cNvPicPr/>
          <p:nvPr/>
        </p:nvPicPr>
        <p:blipFill>
          <a:blip r:embed="rId1"/>
          <a:stretch/>
        </p:blipFill>
        <p:spPr>
          <a:xfrm>
            <a:off x="4724280" y="3505320"/>
            <a:ext cx="1820880" cy="18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4105E5E4-EF62-41DA-A284-C33C69DAC739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6D42FF56-B517-4E68-941B-7842FC110E1D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519120" y="4143240"/>
            <a:ext cx="6140520" cy="746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C:\Users\mutazz\AppData\Local\Microsoft\Windows\Temporary Internet Files\Content.IE5\I7GZ9TTS\MC900154070[1].wmf"/>
          <p:cNvPicPr/>
          <p:nvPr/>
        </p:nvPicPr>
        <p:blipFill>
          <a:blip r:embed="rId1"/>
          <a:stretch/>
        </p:blipFill>
        <p:spPr>
          <a:xfrm>
            <a:off x="6019920" y="5029200"/>
            <a:ext cx="1803240" cy="9460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C:\Users\mutazz\AppData\Local\Microsoft\Windows\Temporary Internet Files\Content.IE5\XO6894V9\MC900154210[1].wmf"/>
          <p:cNvPicPr/>
          <p:nvPr/>
        </p:nvPicPr>
        <p:blipFill>
          <a:blip r:embed="rId2"/>
          <a:stretch/>
        </p:blipFill>
        <p:spPr>
          <a:xfrm>
            <a:off x="380880" y="4800600"/>
            <a:ext cx="148428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36F34F8D-2322-46C1-8DCA-43DF803C9B58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EXERCISE TIME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77" name="Picture 2" descr="C:\Users\mutazz\AppData\Local\Microsoft\Windows\Temporary Internet Files\Content.IE5\BQ3LRZJ5\MC900291968[1].wmf"/>
          <p:cNvPicPr/>
          <p:nvPr/>
        </p:nvPicPr>
        <p:blipFill>
          <a:blip r:embed="rId1"/>
          <a:stretch/>
        </p:blipFill>
        <p:spPr>
          <a:xfrm>
            <a:off x="3276720" y="22082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C:\Users\mutazz\AppData\Local\Microsoft\Windows\Temporary Internet Files\Content.IE5\XO6894V9\MC900154068[1].wmf"/>
          <p:cNvPicPr/>
          <p:nvPr/>
        </p:nvPicPr>
        <p:blipFill>
          <a:blip r:embed="rId2"/>
          <a:stretch/>
        </p:blipFill>
        <p:spPr>
          <a:xfrm>
            <a:off x="685800" y="1828800"/>
            <a:ext cx="1832040" cy="1515960"/>
          </a:xfrm>
          <a:prstGeom prst="rect">
            <a:avLst/>
          </a:prstGeom>
          <a:ln w="0">
            <a:noFill/>
          </a:ln>
        </p:spPr>
      </p:pic>
      <p:sp>
        <p:nvSpPr>
          <p:cNvPr id="77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EB4-992F-4618-BDB5-6C7C850705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306360" y="128520"/>
            <a:ext cx="850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68580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ar graph in which the horizontal scale represents the classes of data values and the vertical scale represents th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955800" y="2455920"/>
            <a:ext cx="7277040" cy="3774600"/>
            <a:chOff x="955800" y="2455920"/>
            <a:chExt cx="7277040" cy="3774600"/>
          </a:xfrm>
        </p:grpSpPr>
        <p:sp>
          <p:nvSpPr>
            <p:cNvPr id="476" name="Rectangle 2"/>
            <p:cNvSpPr/>
            <p:nvPr/>
          </p:nvSpPr>
          <p:spPr>
            <a:xfrm>
              <a:off x="6099480" y="586728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8"/>
            <p:cNvGrpSpPr/>
            <p:nvPr/>
          </p:nvGrpSpPr>
          <p:grpSpPr>
            <a:xfrm>
              <a:off x="955800" y="2455920"/>
              <a:ext cx="7277040" cy="3184560"/>
              <a:chOff x="955800" y="2455920"/>
              <a:chExt cx="7277040" cy="3184560"/>
            </a:xfrm>
          </p:grpSpPr>
          <p:pic>
            <p:nvPicPr>
              <p:cNvPr id="478" name="Picture 14" descr="T2_02_2"/>
              <p:cNvPicPr/>
              <p:nvPr/>
            </p:nvPicPr>
            <p:blipFill>
              <a:blip r:embed="rId1"/>
              <a:stretch/>
            </p:blipFill>
            <p:spPr>
              <a:xfrm>
                <a:off x="955800" y="2670120"/>
                <a:ext cx="287964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15" descr="2_01"/>
              <p:cNvPicPr/>
              <p:nvPr/>
            </p:nvPicPr>
            <p:blipFill>
              <a:blip r:embed="rId2"/>
              <a:stretch/>
            </p:blipFill>
            <p:spPr>
              <a:xfrm>
                <a:off x="5326200" y="2455920"/>
                <a:ext cx="2906640" cy="318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0" name="Slide Number Placeholder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2195-4495-4831-B9E3-D15AAA75A0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ERCIS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following 10 data values are diastolic blood pressure reading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. Compute the mean, the range and  SD,  for thes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0    110    160    120    17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20    150    140    160    14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5D4-1178-43A1-9CA3-6797884888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ERCIS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ollowing are the fasting blood glucose level of 10 child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6         6. 56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2         7. 6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3          8. 6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5           9. 7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5           10. 7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ompute the: a. r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. standard dev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A415-DFF1-4890-A0D6-21EED3CDE6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The fifteen patients making initial visits to a rural health department travelled these distances: Find: 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. Range, b. Standard Dev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62120" y="3048120"/>
          <a:ext cx="6095880" cy="36446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tance (Mi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tance (Mi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78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E52-3E80-4714-999B-2D81B7A9CB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NS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Range = 60 ; SD = 2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Range = 16 ; SD = 4.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Range = 12 ; SD = 4.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2" name="Picture 6" descr="C:\Users\mutazz\AppData\Local\Microsoft\Windows\Temporary Internet Files\Content.IE5\I7GZ9TTS\MP900308972[1].jpg"/>
          <p:cNvPicPr/>
          <p:nvPr/>
        </p:nvPicPr>
        <p:blipFill>
          <a:blip r:embed="rId1"/>
          <a:stretch/>
        </p:blipFill>
        <p:spPr>
          <a:xfrm>
            <a:off x="5105520" y="2819520"/>
            <a:ext cx="1668240" cy="2514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C19-0261-43C2-8C0E-989E0C9F1A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30120" y="114480"/>
            <a:ext cx="8506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elative Frequency Hist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648320" y="33526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5181480" y="2819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>
            <a:off x="68580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e same shape and horizontal scale as a histogram, but the vertical scale is marked with relativ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0"/>
          <p:cNvGrpSpPr/>
          <p:nvPr/>
        </p:nvGrpSpPr>
        <p:grpSpPr>
          <a:xfrm>
            <a:off x="927000" y="2614680"/>
            <a:ext cx="7323120" cy="3781080"/>
            <a:chOff x="927000" y="2614680"/>
            <a:chExt cx="7323120" cy="3781080"/>
          </a:xfrm>
        </p:grpSpPr>
        <p:sp>
          <p:nvSpPr>
            <p:cNvPr id="486" name="Rectangle 3"/>
            <p:cNvSpPr/>
            <p:nvPr/>
          </p:nvSpPr>
          <p:spPr>
            <a:xfrm>
              <a:off x="6035760" y="603252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19"/>
            <p:cNvGrpSpPr/>
            <p:nvPr/>
          </p:nvGrpSpPr>
          <p:grpSpPr>
            <a:xfrm>
              <a:off x="927000" y="2614680"/>
              <a:ext cx="7323120" cy="3298680"/>
              <a:chOff x="927000" y="2614680"/>
              <a:chExt cx="7323120" cy="3298680"/>
            </a:xfrm>
          </p:grpSpPr>
          <p:pic>
            <p:nvPicPr>
              <p:cNvPr id="488" name="Picture 16" descr="T2_03_2"/>
              <p:cNvPicPr/>
              <p:nvPr/>
            </p:nvPicPr>
            <p:blipFill>
              <a:blip r:embed="rId1"/>
              <a:stretch/>
            </p:blipFill>
            <p:spPr>
              <a:xfrm>
                <a:off x="927000" y="2770200"/>
                <a:ext cx="2852640" cy="302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17" descr="2_02"/>
              <p:cNvPicPr/>
              <p:nvPr/>
            </p:nvPicPr>
            <p:blipFill>
              <a:blip r:embed="rId2"/>
              <a:stretch/>
            </p:blipFill>
            <p:spPr>
              <a:xfrm>
                <a:off x="5206680" y="2614680"/>
                <a:ext cx="3043440" cy="329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0" name="Slide Number Placeholder 1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F860-7581-40C7-824A-574F0E10B23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685800" y="144360"/>
            <a:ext cx="7772400" cy="15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Histogra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and </a:t>
            </a:r>
            <a:br>
              <a:rPr sz="3400"/>
            </a:b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Relative Frequency Hist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1692000" y="600696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5952960" y="603900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2_01"/>
          <p:cNvPicPr/>
          <p:nvPr/>
        </p:nvPicPr>
        <p:blipFill>
          <a:blip r:embed="rId1"/>
          <a:stretch/>
        </p:blipFill>
        <p:spPr>
          <a:xfrm>
            <a:off x="915840" y="2505240"/>
            <a:ext cx="2916360" cy="3193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2_02"/>
          <p:cNvPicPr/>
          <p:nvPr/>
        </p:nvPicPr>
        <p:blipFill>
          <a:blip r:embed="rId2"/>
          <a:stretch/>
        </p:blipFill>
        <p:spPr>
          <a:xfrm>
            <a:off x="5113440" y="2449440"/>
            <a:ext cx="3035160" cy="328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FREQUENCY POLYG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equency polyg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lso used for quantitative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ilar to histograms, but instead of bars, a dot is used above score values to designate frequency/percent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tter than histograms for show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distribution of scores, and is usually preferred if variable is  continu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464-44AD-47FC-908A-428B7606AE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6:51:43Z</dcterms:created>
  <dc:creator>mutazz</dc:creator>
  <dc:description/>
  <dc:language>en-US</dc:language>
  <cp:lastModifiedBy>user</cp:lastModifiedBy>
  <dcterms:modified xsi:type="dcterms:W3CDTF">2011-03-26T05:56:47Z</dcterms:modified>
  <cp:revision>12</cp:revision>
  <dc:subject/>
  <dc:title>Slide 1</dc:title>
</cp:coreProperties>
</file>