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5AA0-DAB7-4C5D-AAB7-01F0E0EE0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19E1-9C13-4308-8295-0C2377BEF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34A3-ACA2-4F00-99AC-3E2982C36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6B65-5F64-4CFC-937A-C4122EABE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BAEE-8BDA-41C8-A44E-BA69537E4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A1D8-8D59-4AB5-AB4C-4C4927EF7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8D80-E2D6-4F1A-9A01-462736AAD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4983-A436-43A6-A0E2-1E0B94D93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444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2976-DDAB-4FBE-8D26-C8079E384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448D-9B7E-4763-8148-678CA5A65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A469-706C-428B-8D7E-F55E79990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3F41-015F-41BF-AAAD-82E43A76B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201B-80BB-4D1E-9963-BDCF1E5B0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6EE1-EBBC-493B-B15B-B86F9E1E3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E604-7BEF-4A9E-8DFF-FC16E9E3E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A9E8-1B1B-468F-9974-A9972A1E5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0646D-FE83-45C4-BEC2-7F62EC4F9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FCB9A-2FFA-4B0D-AAFE-68C527FB7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3C80E-80D3-4EEB-8393-37DF1C2F4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08259-70F2-4D0B-BAF6-9427240C7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24A53-5F23-497F-8406-D5F64A8A9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23D38-08A7-40F2-89ED-E7EFAE77D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318BF-EADD-4D0F-9F7D-D3602BE4D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7419F-AB34-4247-9FE3-C79A50F57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16EFE-780B-4261-BA23-E72E6DE7B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433AC-9493-440D-BAC7-E60DACA7A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F118-DD5F-43FE-B554-B58372DDD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3CE6-100D-4780-A30D-67BE0E663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3075-E4D4-4A92-9975-75EB428970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ksu</cp:lastModifiedBy>
  <dcterms:modified xsi:type="dcterms:W3CDTF">2011-10-27T23:56:39Z</dcterms:modified>
  <cp:revision>31</cp:revision>
  <dc:subject/>
  <dc:title>WELL LOG  (The Bore Hole Image)</dc:title>
</cp:coreProperties>
</file>