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8997-92D7-4631-ACCD-686C24150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0081-B54E-4A5C-B839-C5DAC3754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72D6-4A5F-46ED-AC68-DF960B2CD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F38E-7E86-42C7-B6F4-F957A4437E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DA22-D7CF-4232-845F-8CD105733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0BCA-5BE0-44C0-B15A-D56F5536D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16DD-1A95-49A8-922D-27429209B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B1F4-DD83-4657-B745-031339AEF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444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7CB2-5968-4B14-8283-CFCA1E0EE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AC49-3874-4C77-8373-DE6093332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DC0A-7BDE-4730-BEC1-3752D265A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F2FA-8667-4C29-B517-3BACF43AF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1824-92B5-4236-BCA1-807F743E8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E6CF-07CE-4183-9003-109D2160E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3BF1-4684-4D14-B728-DC54C37AC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B099-19F8-4E2A-A198-428FECAE5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7453B-B282-4FEE-8F34-427C10227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7109-CE0E-4AA2-AB1D-06EC09F4B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0E11A-FEE5-4D07-A662-B5DEC470D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83B9-C065-4BED-B4A2-249E3F03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24C4A-A2EF-47C1-A11F-ECF13AD9F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B65B8-E2A7-4282-9638-ED70D555C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834E-00C5-42B6-9895-4E923DDE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375D-2A52-4EBE-83C5-F3C0B309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96615-A840-4735-9BEA-3A0C41861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77BA-17E4-4F2F-9F71-AE2A00EF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E4FDB-BC2C-44E0-B879-4205776D2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229B-A7BE-47B8-8BC8-486EDB5FB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4EB0-1F77-40FD-987C-831912880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ksu</cp:lastModifiedBy>
  <dcterms:modified xsi:type="dcterms:W3CDTF">2011-10-27T23:56:39Z</dcterms:modified>
  <cp:revision>31</cp:revision>
  <dc:subject/>
  <dc:title>WELL LOG  (The Bore Hole Image)</dc:title>
</cp:coreProperties>
</file>