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or information that is relevant or appropriate to a decision m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ity of objects under consi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rtion of the population that is selected for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mmary measure (e.g., mean) that is computed to describe a characteristic of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s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mmary measure (e.g., mean) that is computed to describe a characteristic of the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A692-A8A8-4D03-B95E-2A08913995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FBB4-0E8A-4989-A1B2-AA2FFB8BD913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C47E-716D-4450-94FB-3EE1505E3834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7529-39C6-4C41-BEE2-21D6894C17A0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2DAB-32C8-4ABE-88C0-EC738130ED46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07A7-0C73-4E30-9BF3-8F4B9C8DB637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851F-7CB6-41FE-8F1F-90F5DC8B8721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BAD-477C-4AB8-AA25-4EA0C77D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6A1-5978-4E91-8016-3CFD015D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230-CD58-40DD-8CD0-1FEF6418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2A6-1AE8-4356-B64B-9A67F3EE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3B45-8B15-4DDD-B266-D3BE859A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3D3-EB64-411D-9F6F-4C11D0DD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7AA-909A-4D56-9702-6453B633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6D1-E637-43BA-A451-6EC6E436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130D-7DDC-451F-A62D-405A7B00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FEA-848F-4D9F-8AF6-FA0ECAB3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8DD-6B68-4F5D-A1DB-498DADA0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13F-9D49-4CC1-841A-34077F9A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7892-D5AE-4A45-9329-C5D32B26860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19112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2"/>
          <p:cNvSpPr/>
          <p:nvPr/>
        </p:nvSpPr>
        <p:spPr>
          <a:xfrm>
            <a:off x="0" y="0"/>
            <a:ext cx="299880" cy="68738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3" descr="Untitled-3"/>
          <p:cNvPicPr/>
          <p:nvPr/>
        </p:nvPicPr>
        <p:blipFill>
          <a:blip r:embed="rId2"/>
          <a:stretch/>
        </p:blipFill>
        <p:spPr>
          <a:xfrm>
            <a:off x="8089920" y="6280200"/>
            <a:ext cx="577800" cy="577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24"/>
          <p:cNvSpPr/>
          <p:nvPr/>
        </p:nvSpPr>
        <p:spPr>
          <a:xfrm>
            <a:off x="8053560" y="6307200"/>
            <a:ext cx="1547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A138E53-1EB6-498D-90AC-6C2970679C5B}" type="slidenum">
              <a:rPr b="1" lang="en-US" sz="2400" spc="-1" strike="noStrike">
                <a:solidFill>
                  <a:srgbClr val="db0125"/>
                </a:solidFill>
                <a:latin typeface="Times New Roman"/>
              </a:rPr>
              <a:t>&lt;number&gt;</a:t>
            </a:fld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3f8w3yx9w99q2.cloudfront.net/1683/convaquip-5539-54svb-1000-five-function-bariatric-electric-hospital-bed/convaquip-5539-54svb-1000-five-function-bariatric-electric-hospital-bed_0_0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394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ek on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roduction to Statistic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s 22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. wajed Hatamle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14400" y="2133720"/>
            <a:ext cx="7238880" cy="74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hapter 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pu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ariable and paramet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ariab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ost t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040" y="2819160"/>
            <a:ext cx="71629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bset of the population data that are actually collected in the course of a study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employment - Status of the 1000 employable people interview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ge entry Scores - scores of 20 people that took the exam du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of 538 currently enrolled underage college students as to whether they have consumed Arabic coffee in the last 24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vs. S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val 3"/>
          <p:cNvSpPr/>
          <p:nvPr/>
        </p:nvSpPr>
        <p:spPr>
          <a:xfrm>
            <a:off x="2133720" y="2666880"/>
            <a:ext cx="4572000" cy="2971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34120" y="3581280"/>
            <a:ext cx="106668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A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90560" y="2438280"/>
            <a:ext cx="51051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ost studies, it is difficult to obtain information from the entire population.  We rely on samples to make estimates or inferences related to the population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Object 2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16574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1592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154296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46280" indent="-746280">
              <a:spcBef>
                <a:spcPts val="79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Parame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6280" indent="-746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numerical measurement describing some characteristic of a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popula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262680" y="4184640"/>
            <a:ext cx="277236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302640" y="5632560"/>
            <a:ext cx="2635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4387680" y="4882680"/>
            <a:ext cx="368640" cy="748080"/>
            <a:chOff x="4387680" y="4882680"/>
            <a:chExt cx="368640" cy="748080"/>
          </a:xfrm>
        </p:grpSpPr>
        <p:sp>
          <p:nvSpPr>
            <p:cNvPr id="93" name="AutoShape 8"/>
            <p:cNvSpPr/>
            <p:nvPr/>
          </p:nvSpPr>
          <p:spPr>
            <a:xfrm rot="16200000">
              <a:off x="4349520" y="4920480"/>
              <a:ext cx="444600" cy="368640"/>
            </a:xfrm>
            <a:prstGeom prst="rightArrow">
              <a:avLst>
                <a:gd name="adj1" fmla="val 50000"/>
                <a:gd name="adj2" fmla="val 60308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9"/>
            <p:cNvSpPr/>
            <p:nvPr/>
          </p:nvSpPr>
          <p:spPr>
            <a:xfrm flipH="1" rot="16200000">
              <a:off x="4351320" y="5225760"/>
              <a:ext cx="441360" cy="368640"/>
            </a:xfrm>
            <a:prstGeom prst="rightArrow">
              <a:avLst>
                <a:gd name="adj1" fmla="val 50000"/>
                <a:gd name="adj2" fmla="val 59869"/>
              </a:avLst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12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0440" y="154296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ooter Placeholder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260880" y="4189320"/>
            <a:ext cx="277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990720" y="165240"/>
            <a:ext cx="7162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457200" y="1576440"/>
            <a:ext cx="82296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808200" indent="-808200">
              <a:lnSpc>
                <a:spcPct val="90000"/>
              </a:lnSpc>
              <a:spcBef>
                <a:spcPts val="1199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atist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numerical measurement describing some characteristic of a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amp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5"/>
          <p:cNvGrpSpPr/>
          <p:nvPr/>
        </p:nvGrpSpPr>
        <p:grpSpPr>
          <a:xfrm>
            <a:off x="3625920" y="3765600"/>
            <a:ext cx="2100240" cy="2237400"/>
            <a:chOff x="3625920" y="3765600"/>
            <a:chExt cx="2100240" cy="2237400"/>
          </a:xfrm>
        </p:grpSpPr>
        <p:sp>
          <p:nvSpPr>
            <p:cNvPr id="105" name="Rectangle 10"/>
            <p:cNvSpPr/>
            <p:nvPr/>
          </p:nvSpPr>
          <p:spPr>
            <a:xfrm>
              <a:off x="3644640" y="3765600"/>
              <a:ext cx="192960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ample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1"/>
            <p:cNvSpPr/>
            <p:nvPr/>
          </p:nvSpPr>
          <p:spPr>
            <a:xfrm>
              <a:off x="3625920" y="5365800"/>
              <a:ext cx="210024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tatistic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14"/>
            <p:cNvGrpSpPr/>
            <p:nvPr/>
          </p:nvGrpSpPr>
          <p:grpSpPr>
            <a:xfrm>
              <a:off x="4349880" y="4425840"/>
              <a:ext cx="520560" cy="863640"/>
              <a:chOff x="4349880" y="4425840"/>
              <a:chExt cx="520560" cy="863640"/>
            </a:xfrm>
          </p:grpSpPr>
          <p:sp>
            <p:nvSpPr>
              <p:cNvPr id="108" name="AutoShape 12"/>
              <p:cNvSpPr/>
              <p:nvPr/>
            </p:nvSpPr>
            <p:spPr>
              <a:xfrm rot="16200000">
                <a:off x="4354560" y="4421160"/>
                <a:ext cx="511200" cy="52056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AutoShape 13"/>
              <p:cNvSpPr/>
              <p:nvPr/>
            </p:nvSpPr>
            <p:spPr>
              <a:xfrm flipH="1" rot="16200000">
                <a:off x="4354560" y="4773600"/>
                <a:ext cx="511200" cy="520560"/>
              </a:xfrm>
              <a:prstGeom prst="rightArrow">
                <a:avLst>
                  <a:gd name="adj1" fmla="val 50000"/>
                  <a:gd name="adj2" fmla="val 50005"/>
                </a:avLst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 flipH="1">
            <a:off x="5565600" y="1996920"/>
            <a:ext cx="2502000" cy="1703520"/>
          </a:xfrm>
          <a:prstGeom prst="wedgeRoundRectCallout">
            <a:avLst>
              <a:gd name="adj1" fmla="val -30560"/>
              <a:gd name="adj2" fmla="val 66666"/>
              <a:gd name="adj3" fmla="val 16667"/>
            </a:avLst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Population (Un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285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All Items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285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Portion of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Parame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285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ummary Measure about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Stati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2854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Summary Measure about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626080" y="2076480"/>
            <a:ext cx="260028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ulation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m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p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tist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2"/>
          <p:cNvGrpSpPr/>
          <p:nvPr/>
        </p:nvGrpSpPr>
        <p:grpSpPr>
          <a:xfrm>
            <a:off x="7429680" y="5424480"/>
            <a:ext cx="1279440" cy="1052640"/>
            <a:chOff x="7429680" y="5424480"/>
            <a:chExt cx="1279440" cy="1052640"/>
          </a:xfrm>
        </p:grpSpPr>
        <p:grpSp>
          <p:nvGrpSpPr>
            <p:cNvPr id="115" name="Group 24"/>
            <p:cNvGrpSpPr/>
            <p:nvPr/>
          </p:nvGrpSpPr>
          <p:grpSpPr>
            <a:xfrm>
              <a:off x="7429680" y="5424480"/>
              <a:ext cx="1279440" cy="1052640"/>
              <a:chOff x="7429680" y="5424480"/>
              <a:chExt cx="1279440" cy="1052640"/>
            </a:xfrm>
          </p:grpSpPr>
          <p:grpSp>
            <p:nvGrpSpPr>
              <p:cNvPr id="116" name="Group 16"/>
              <p:cNvGrpSpPr/>
              <p:nvPr/>
            </p:nvGrpSpPr>
            <p:grpSpPr>
              <a:xfrm>
                <a:off x="7429680" y="5424480"/>
                <a:ext cx="1279440" cy="1052640"/>
                <a:chOff x="7429680" y="5424480"/>
                <a:chExt cx="1279440" cy="1052640"/>
              </a:xfrm>
            </p:grpSpPr>
            <p:sp>
              <p:nvSpPr>
                <p:cNvPr id="117" name="Freeform 6"/>
                <p:cNvSpPr/>
                <p:nvPr/>
              </p:nvSpPr>
              <p:spPr>
                <a:xfrm>
                  <a:off x="7429680" y="5424480"/>
                  <a:ext cx="1279440" cy="1052640"/>
                </a:xfrm>
                <a:prstGeom prst="pie">
                  <a:avLst/>
                </a:prstGeom>
                <a:solidFill>
                  <a:srgbClr val="c06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" name="Group 15"/>
                <p:cNvGrpSpPr/>
                <p:nvPr/>
              </p:nvGrpSpPr>
              <p:grpSpPr>
                <a:xfrm>
                  <a:off x="7586640" y="5514840"/>
                  <a:ext cx="895320" cy="776520"/>
                  <a:chOff x="7586640" y="5514840"/>
                  <a:chExt cx="895320" cy="776520"/>
                </a:xfrm>
              </p:grpSpPr>
              <p:sp>
                <p:nvSpPr>
                  <p:cNvPr id="119" name="Freeform 7"/>
                  <p:cNvSpPr/>
                  <p:nvPr/>
                </p:nvSpPr>
                <p:spPr>
                  <a:xfrm>
                    <a:off x="8415360" y="5907240"/>
                    <a:ext cx="47520" cy="10764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8"/>
                  <p:cNvSpPr/>
                  <p:nvPr/>
                </p:nvSpPr>
                <p:spPr>
                  <a:xfrm>
                    <a:off x="8450280" y="6045120"/>
                    <a:ext cx="31680" cy="24624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Freeform 9"/>
                  <p:cNvSpPr/>
                  <p:nvPr/>
                </p:nvSpPr>
                <p:spPr>
                  <a:xfrm>
                    <a:off x="7756560" y="5514840"/>
                    <a:ext cx="304920" cy="41436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Freeform 10"/>
                  <p:cNvSpPr/>
                  <p:nvPr/>
                </p:nvSpPr>
                <p:spPr>
                  <a:xfrm>
                    <a:off x="8177040" y="5526000"/>
                    <a:ext cx="297000" cy="39852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1"/>
                  <p:cNvSpPr/>
                  <p:nvPr/>
                </p:nvSpPr>
                <p:spPr>
                  <a:xfrm>
                    <a:off x="7586640" y="6234120"/>
                    <a:ext cx="147600" cy="3348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2"/>
                  <p:cNvSpPr/>
                  <p:nvPr/>
                </p:nvSpPr>
                <p:spPr>
                  <a:xfrm>
                    <a:off x="7650000" y="5900760"/>
                    <a:ext cx="95400" cy="7632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880" bIns="2988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"/>
                  <p:cNvSpPr/>
                  <p:nvPr/>
                </p:nvSpPr>
                <p:spPr>
                  <a:xfrm>
                    <a:off x="7718400" y="5977080"/>
                    <a:ext cx="28440" cy="22068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14"/>
                  <p:cNvSpPr/>
                  <p:nvPr/>
                </p:nvSpPr>
                <p:spPr>
                  <a:xfrm>
                    <a:off x="7716960" y="5896080"/>
                    <a:ext cx="27000" cy="77760"/>
                  </a:xfrm>
                  <a:prstGeom prst="pie">
                    <a:avLst/>
                  </a:pr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" name="Group 23"/>
              <p:cNvGrpSpPr/>
              <p:nvPr/>
            </p:nvGrpSpPr>
            <p:grpSpPr>
              <a:xfrm>
                <a:off x="7831080" y="5468760"/>
                <a:ext cx="571680" cy="505080"/>
                <a:chOff x="7831080" y="5468760"/>
                <a:chExt cx="571680" cy="505080"/>
              </a:xfrm>
            </p:grpSpPr>
            <p:grpSp>
              <p:nvGrpSpPr>
                <p:cNvPr id="128" name="Group 21"/>
                <p:cNvGrpSpPr/>
                <p:nvPr/>
              </p:nvGrpSpPr>
              <p:grpSpPr>
                <a:xfrm>
                  <a:off x="7831080" y="5468760"/>
                  <a:ext cx="571680" cy="505080"/>
                  <a:chOff x="7831080" y="5468760"/>
                  <a:chExt cx="571680" cy="505080"/>
                </a:xfrm>
              </p:grpSpPr>
              <p:sp>
                <p:nvSpPr>
                  <p:cNvPr id="129" name="Freeform 17"/>
                  <p:cNvSpPr/>
                  <p:nvPr/>
                </p:nvSpPr>
                <p:spPr>
                  <a:xfrm>
                    <a:off x="7831080" y="5468760"/>
                    <a:ext cx="571680" cy="505080"/>
                  </a:xfrm>
                  <a:prstGeom prst="pie">
                    <a:avLst/>
                  </a:pr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0" name="Group 20"/>
                  <p:cNvGrpSpPr/>
                  <p:nvPr/>
                </p:nvGrpSpPr>
                <p:grpSpPr>
                  <a:xfrm>
                    <a:off x="7896240" y="5591160"/>
                    <a:ext cx="417600" cy="58680"/>
                    <a:chOff x="7896240" y="5591160"/>
                    <a:chExt cx="417600" cy="58680"/>
                  </a:xfrm>
                </p:grpSpPr>
                <p:sp>
                  <p:nvSpPr>
                    <p:cNvPr id="131" name="Freeform 18"/>
                    <p:cNvSpPr/>
                    <p:nvPr/>
                  </p:nvSpPr>
                  <p:spPr>
                    <a:xfrm>
                      <a:off x="8201160" y="5591160"/>
                      <a:ext cx="112680" cy="4932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Freeform 19"/>
                    <p:cNvSpPr/>
                    <p:nvPr/>
                  </p:nvSpPr>
                  <p:spPr>
                    <a:xfrm>
                      <a:off x="7896240" y="5592600"/>
                      <a:ext cx="131760" cy="57240"/>
                    </a:xfrm>
                    <a:prstGeom prst="pie">
                      <a:avLst/>
                    </a:pr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3" name="Freeform 22"/>
                <p:cNvSpPr/>
                <p:nvPr/>
              </p:nvSpPr>
              <p:spPr>
                <a:xfrm>
                  <a:off x="8015400" y="5533920"/>
                  <a:ext cx="193680" cy="439920"/>
                </a:xfrm>
                <a:prstGeom prst="pie">
                  <a:avLst/>
                </a:pr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31"/>
            <p:cNvGrpSpPr/>
            <p:nvPr/>
          </p:nvGrpSpPr>
          <p:grpSpPr>
            <a:xfrm>
              <a:off x="7732800" y="5929200"/>
              <a:ext cx="531720" cy="311400"/>
              <a:chOff x="7732800" y="5929200"/>
              <a:chExt cx="531720" cy="311400"/>
            </a:xfrm>
          </p:grpSpPr>
          <p:sp>
            <p:nvSpPr>
              <p:cNvPr id="135" name="Freeform 25"/>
              <p:cNvSpPr/>
              <p:nvPr/>
            </p:nvSpPr>
            <p:spPr>
              <a:xfrm>
                <a:off x="7875720" y="5929200"/>
                <a:ext cx="388800" cy="298440"/>
              </a:xfrm>
              <a:prstGeom prst="pie">
                <a:avLst/>
              </a:pr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6"/>
              <p:cNvSpPr/>
              <p:nvPr/>
            </p:nvSpPr>
            <p:spPr>
              <a:xfrm>
                <a:off x="7732800" y="5979960"/>
                <a:ext cx="196920" cy="260640"/>
              </a:xfrm>
              <a:prstGeom prst="pie">
                <a:avLst/>
              </a:pr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27"/>
              <p:cNvSpPr/>
              <p:nvPr/>
            </p:nvSpPr>
            <p:spPr>
              <a:xfrm>
                <a:off x="8085240" y="5994360"/>
                <a:ext cx="133200" cy="2232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8"/>
              <p:cNvSpPr/>
              <p:nvPr/>
            </p:nvSpPr>
            <p:spPr>
              <a:xfrm>
                <a:off x="8066160" y="6062760"/>
                <a:ext cx="127080" cy="219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9"/>
              <p:cNvSpPr/>
              <p:nvPr/>
            </p:nvSpPr>
            <p:spPr>
              <a:xfrm>
                <a:off x="8035920" y="6130800"/>
                <a:ext cx="115920" cy="2880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0"/>
              <p:cNvSpPr/>
              <p:nvPr/>
            </p:nvSpPr>
            <p:spPr>
              <a:xfrm>
                <a:off x="7794720" y="6004080"/>
                <a:ext cx="69840" cy="28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9"/>
          <p:cNvGrpSpPr/>
          <p:nvPr/>
        </p:nvGrpSpPr>
        <p:grpSpPr>
          <a:xfrm>
            <a:off x="7566120" y="3745080"/>
            <a:ext cx="1228680" cy="1846080"/>
            <a:chOff x="7566120" y="3745080"/>
            <a:chExt cx="1228680" cy="1846080"/>
          </a:xfrm>
        </p:grpSpPr>
        <p:grpSp>
          <p:nvGrpSpPr>
            <p:cNvPr id="142" name="Group 42"/>
            <p:cNvGrpSpPr/>
            <p:nvPr/>
          </p:nvGrpSpPr>
          <p:grpSpPr>
            <a:xfrm>
              <a:off x="7566120" y="3745080"/>
              <a:ext cx="1228680" cy="1846080"/>
              <a:chOff x="7566120" y="3745080"/>
              <a:chExt cx="1228680" cy="1846080"/>
            </a:xfrm>
          </p:grpSpPr>
          <p:sp>
            <p:nvSpPr>
              <p:cNvPr id="143" name="Freeform 33"/>
              <p:cNvSpPr/>
              <p:nvPr/>
            </p:nvSpPr>
            <p:spPr>
              <a:xfrm>
                <a:off x="7566120" y="3884760"/>
                <a:ext cx="1157040" cy="1706400"/>
              </a:xfrm>
              <a:prstGeom prst="pie">
                <a:avLst/>
              </a:prstGeom>
              <a:solidFill>
                <a:srgbClr val="e0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Group 41"/>
              <p:cNvGrpSpPr/>
              <p:nvPr/>
            </p:nvGrpSpPr>
            <p:grpSpPr>
              <a:xfrm>
                <a:off x="7567560" y="3745080"/>
                <a:ext cx="1227240" cy="707760"/>
                <a:chOff x="7567560" y="3745080"/>
                <a:chExt cx="1227240" cy="707760"/>
              </a:xfrm>
            </p:grpSpPr>
            <p:sp>
              <p:nvSpPr>
                <p:cNvPr id="145" name="Freeform 34"/>
                <p:cNvSpPr/>
                <p:nvPr/>
              </p:nvSpPr>
              <p:spPr>
                <a:xfrm>
                  <a:off x="7567560" y="3745080"/>
                  <a:ext cx="1227240" cy="707760"/>
                </a:xfrm>
                <a:prstGeom prst="pie">
                  <a:avLst/>
                </a:prstGeom>
                <a:solidFill>
                  <a:srgbClr val="a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Group 40"/>
                <p:cNvGrpSpPr/>
                <p:nvPr/>
              </p:nvGrpSpPr>
              <p:grpSpPr>
                <a:xfrm>
                  <a:off x="7729560" y="3878280"/>
                  <a:ext cx="901800" cy="361800"/>
                  <a:chOff x="7729560" y="3878280"/>
                  <a:chExt cx="901800" cy="361800"/>
                </a:xfrm>
              </p:grpSpPr>
              <p:sp>
                <p:nvSpPr>
                  <p:cNvPr id="147" name="Freeform 35"/>
                  <p:cNvSpPr/>
                  <p:nvPr/>
                </p:nvSpPr>
                <p:spPr>
                  <a:xfrm>
                    <a:off x="7923240" y="3906720"/>
                    <a:ext cx="147600" cy="11124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36"/>
                  <p:cNvSpPr/>
                  <p:nvPr/>
                </p:nvSpPr>
                <p:spPr>
                  <a:xfrm>
                    <a:off x="8302680" y="3878280"/>
                    <a:ext cx="85680" cy="6984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37"/>
                  <p:cNvSpPr/>
                  <p:nvPr/>
                </p:nvSpPr>
                <p:spPr>
                  <a:xfrm>
                    <a:off x="7729560" y="4060800"/>
                    <a:ext cx="73080" cy="6840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38"/>
                  <p:cNvSpPr/>
                  <p:nvPr/>
                </p:nvSpPr>
                <p:spPr>
                  <a:xfrm>
                    <a:off x="7738920" y="4124160"/>
                    <a:ext cx="63720" cy="7308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39"/>
                  <p:cNvSpPr/>
                  <p:nvPr/>
                </p:nvSpPr>
                <p:spPr>
                  <a:xfrm>
                    <a:off x="8512200" y="4184640"/>
                    <a:ext cx="119160" cy="55440"/>
                  </a:xfrm>
                  <a:prstGeom prst="pie">
                    <a:avLst/>
                  </a:prstGeom>
                  <a:solidFill>
                    <a:srgbClr val="604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2" name="Group 58"/>
            <p:cNvGrpSpPr/>
            <p:nvPr/>
          </p:nvGrpSpPr>
          <p:grpSpPr>
            <a:xfrm>
              <a:off x="7900920" y="4113360"/>
              <a:ext cx="593640" cy="958680"/>
              <a:chOff x="7900920" y="4113360"/>
              <a:chExt cx="593640" cy="958680"/>
            </a:xfrm>
          </p:grpSpPr>
          <p:grpSp>
            <p:nvGrpSpPr>
              <p:cNvPr id="153" name="Group 49"/>
              <p:cNvGrpSpPr/>
              <p:nvPr/>
            </p:nvGrpSpPr>
            <p:grpSpPr>
              <a:xfrm>
                <a:off x="8024760" y="4765680"/>
                <a:ext cx="225360" cy="306360"/>
                <a:chOff x="8024760" y="4765680"/>
                <a:chExt cx="225360" cy="306360"/>
              </a:xfrm>
            </p:grpSpPr>
            <p:sp>
              <p:nvSpPr>
                <p:cNvPr id="154" name="Freeform 43"/>
                <p:cNvSpPr/>
                <p:nvPr/>
              </p:nvSpPr>
              <p:spPr>
                <a:xfrm>
                  <a:off x="8024760" y="4765680"/>
                  <a:ext cx="225360" cy="187200"/>
                </a:xfrm>
                <a:prstGeom prst="pie">
                  <a:avLst/>
                </a:pr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Group 47"/>
                <p:cNvGrpSpPr/>
                <p:nvPr/>
              </p:nvGrpSpPr>
              <p:grpSpPr>
                <a:xfrm>
                  <a:off x="8024760" y="4765680"/>
                  <a:ext cx="225360" cy="306360"/>
                  <a:chOff x="8024760" y="4765680"/>
                  <a:chExt cx="225360" cy="306360"/>
                </a:xfrm>
              </p:grpSpPr>
              <p:sp>
                <p:nvSpPr>
                  <p:cNvPr id="156" name="Oval 44"/>
                  <p:cNvSpPr/>
                  <p:nvPr/>
                </p:nvSpPr>
                <p:spPr>
                  <a:xfrm>
                    <a:off x="8037360" y="4822920"/>
                    <a:ext cx="195480" cy="249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45"/>
                  <p:cNvSpPr/>
                  <p:nvPr/>
                </p:nvSpPr>
                <p:spPr>
                  <a:xfrm>
                    <a:off x="8024760" y="4765680"/>
                    <a:ext cx="225360" cy="87480"/>
                  </a:xfrm>
                  <a:prstGeom prst="pie">
                    <a:avLst/>
                  </a:pr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040" bIns="4104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Oval 46"/>
                  <p:cNvSpPr/>
                  <p:nvPr/>
                </p:nvSpPr>
                <p:spPr>
                  <a:xfrm>
                    <a:off x="8077320" y="4956120"/>
                    <a:ext cx="114120" cy="115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Rectangle 48"/>
                <p:cNvSpPr/>
                <p:nvPr/>
              </p:nvSpPr>
              <p:spPr>
                <a:xfrm>
                  <a:off x="8058240" y="4935600"/>
                  <a:ext cx="155520" cy="39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Freeform 50"/>
              <p:cNvSpPr/>
              <p:nvPr/>
            </p:nvSpPr>
            <p:spPr>
              <a:xfrm>
                <a:off x="7900920" y="4429080"/>
                <a:ext cx="593640" cy="293760"/>
              </a:xfrm>
              <a:prstGeom prst="pie">
                <a:avLst/>
              </a:pr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Group 57"/>
              <p:cNvGrpSpPr/>
              <p:nvPr/>
            </p:nvGrpSpPr>
            <p:grpSpPr>
              <a:xfrm>
                <a:off x="7932600" y="4113360"/>
                <a:ext cx="500040" cy="266400"/>
                <a:chOff x="7932600" y="4113360"/>
                <a:chExt cx="500040" cy="266400"/>
              </a:xfrm>
            </p:grpSpPr>
            <p:grpSp>
              <p:nvGrpSpPr>
                <p:cNvPr id="162" name="Group 53"/>
                <p:cNvGrpSpPr/>
                <p:nvPr/>
              </p:nvGrpSpPr>
              <p:grpSpPr>
                <a:xfrm>
                  <a:off x="8005680" y="4160880"/>
                  <a:ext cx="338400" cy="218880"/>
                  <a:chOff x="8005680" y="4160880"/>
                  <a:chExt cx="338400" cy="218880"/>
                </a:xfrm>
              </p:grpSpPr>
              <p:sp>
                <p:nvSpPr>
                  <p:cNvPr id="163" name="Oval 51"/>
                  <p:cNvSpPr/>
                  <p:nvPr/>
                </p:nvSpPr>
                <p:spPr>
                  <a:xfrm>
                    <a:off x="8278920" y="4160880"/>
                    <a:ext cx="65160" cy="218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Oval 52"/>
                  <p:cNvSpPr/>
                  <p:nvPr/>
                </p:nvSpPr>
                <p:spPr>
                  <a:xfrm>
                    <a:off x="8005680" y="4160880"/>
                    <a:ext cx="66600" cy="218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56"/>
                <p:cNvGrpSpPr/>
                <p:nvPr/>
              </p:nvGrpSpPr>
              <p:grpSpPr>
                <a:xfrm>
                  <a:off x="7932600" y="4113360"/>
                  <a:ext cx="500040" cy="42840"/>
                  <a:chOff x="7932600" y="4113360"/>
                  <a:chExt cx="500040" cy="42840"/>
                </a:xfrm>
              </p:grpSpPr>
              <p:sp>
                <p:nvSpPr>
                  <p:cNvPr id="166" name="Freeform 54"/>
                  <p:cNvSpPr/>
                  <p:nvPr/>
                </p:nvSpPr>
                <p:spPr>
                  <a:xfrm>
                    <a:off x="7932600" y="4114800"/>
                    <a:ext cx="198720" cy="41400"/>
                  </a:xfrm>
                  <a:prstGeom prst="pie">
                    <a:avLst/>
                  </a:prstGeom>
                  <a:noFill/>
                  <a:ln cap="rnd" w="50760">
                    <a:solidFill>
                      <a:srgbClr val="a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55"/>
                  <p:cNvSpPr/>
                  <p:nvPr/>
                </p:nvSpPr>
                <p:spPr>
                  <a:xfrm>
                    <a:off x="8237520" y="4113360"/>
                    <a:ext cx="195120" cy="39600"/>
                  </a:xfrm>
                  <a:prstGeom prst="pie">
                    <a:avLst/>
                  </a:prstGeom>
                  <a:noFill/>
                  <a:ln cap="rnd" w="50760">
                    <a:solidFill>
                      <a:srgbClr val="a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pPr>
                      <a:lnSpc>
                        <a:spcPct val="9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b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 characteristics of an individual or objec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qualitative or quantit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(IQ level, Heart rate, age, gender, height, weight,    blood pressure, income, eye color, cholesterol level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104840" y="1219320"/>
            <a:ext cx="7505640" cy="11048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can be further classified as being qualit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quantitat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3"/>
          <p:cNvSpPr/>
          <p:nvPr/>
        </p:nvSpPr>
        <p:spPr>
          <a:xfrm rot="5400000">
            <a:off x="828000" y="1688760"/>
            <a:ext cx="24480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 rot="5400000">
            <a:off x="828360" y="288900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04840" y="2514600"/>
            <a:ext cx="7505640" cy="13716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tatistical analysis that is appropriate dep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whether the data for the variable are qualit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quantitati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04840" y="4000680"/>
            <a:ext cx="7581960" cy="11048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general, there are more alternatives for statisti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is when the data are quantit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 rot="5400000">
            <a:off x="828360" y="4470120"/>
            <a:ext cx="244440" cy="1558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685800" y="168120"/>
            <a:ext cx="77724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bb59"/>
                </a:solidFill>
                <a:latin typeface="Arial"/>
              </a:rPr>
              <a:t>Qualitative and Quantitative Data( variabl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ative Variables ( Dat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762120" y="1219320"/>
            <a:ext cx="7848360" cy="9712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s or names used to identify an attribute of 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762120" y="2305080"/>
            <a:ext cx="7848360" cy="13525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ten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tegorical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62120" y="3886200"/>
            <a:ext cx="7848360" cy="9144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either numeric or nonnumer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762120" y="4915080"/>
            <a:ext cx="7924680" cy="6858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statistical analyses are rather limi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: Gender, eye col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 rot="5400000">
            <a:off x="466560" y="16128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 rot="5400000">
            <a:off x="466560" y="25272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 rot="5400000">
            <a:off x="466560" y="43941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4"/>
          <p:cNvSpPr/>
          <p:nvPr/>
        </p:nvSpPr>
        <p:spPr>
          <a:xfrm rot="5400000">
            <a:off x="466560" y="517500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is Statistic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Statistic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s the term for a collection of mathematical methods of organizing, summarizing, analyzing, and interpreting information gathered in a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5256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tative variables (DATA</a:t>
            </a: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762120" y="1219320"/>
            <a:ext cx="7638840" cy="22860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itative data indicat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ow many or how mu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333440" y="1828800"/>
            <a:ext cx="6553440" cy="60948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cre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if measuring how 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1333440" y="2552760"/>
            <a:ext cx="6553440" cy="685800"/>
          </a:xfrm>
          <a:prstGeom prst="rect">
            <a:avLst/>
          </a:prstGeom>
          <a:gradFill rotWithShape="0">
            <a:gsLst>
              <a:gs pos="0">
                <a:srgbClr val="002f47"/>
              </a:gs>
              <a:gs pos="50000">
                <a:srgbClr val="006699"/>
              </a:gs>
              <a:gs pos="100000">
                <a:srgbClr val="002f47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inuo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if measuring how m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762120" y="3619440"/>
            <a:ext cx="7638840" cy="6476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ntitative data ar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ways numer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62120" y="4381560"/>
            <a:ext cx="7638840" cy="102852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648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: Height of nursing student, patient we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age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 rot="5400000">
            <a:off x="466560" y="142236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 rot="5400000">
            <a:off x="466560" y="38606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2"/>
          <p:cNvSpPr/>
          <p:nvPr/>
        </p:nvSpPr>
        <p:spPr>
          <a:xfrm rot="5400000">
            <a:off x="466560" y="4641840"/>
            <a:ext cx="244440" cy="15552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20560" y="88920"/>
            <a:ext cx="8077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orking with Quantitative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09480" y="2209680"/>
            <a:ext cx="8305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ntitative data can further be described by distinguishing betwe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iscret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ntinuou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yp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914400" indent="-914400">
              <a:lnSpc>
                <a:spcPct val="105000"/>
              </a:lnSpc>
              <a:spcBef>
                <a:spcPts val="774"/>
              </a:spcBef>
              <a:buClr>
                <a:srgbClr val="c0504d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Calibri"/>
              </a:rPr>
              <a:t>Discrete</a:t>
            </a:r>
            <a:r>
              <a:rPr b="0" lang="en-US" sz="31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3100" spc="-1" strike="noStrike">
                <a:solidFill>
                  <a:srgbClr val="0000ff"/>
                </a:solidFill>
                <a:latin typeface="Calibri"/>
              </a:rPr>
              <a:t>dat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 when the number of possible values is either a finite number or a ‘countable’ numb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.e. the number of possible values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0, 1, 2, 3, 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Number of siblings: 0, 1, 2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tc.  (1.2 is not possi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of hospital be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(129.03 4 beds is not po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60880" y="4189320"/>
            <a:ext cx="277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990720" y="169920"/>
            <a:ext cx="7162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2" descr="ConvaQuip 5539-54SVB/1000 Five Function Bariatric Electric Hospital Bed">
            <a:hlinkClick r:id="rId1"/>
          </p:cNvPr>
          <p:cNvPicPr/>
          <p:nvPr/>
        </p:nvPicPr>
        <p:blipFill>
          <a:blip r:embed="rId2"/>
          <a:srcRect l="9632" t="0" r="7461" b="2449"/>
          <a:stretch/>
        </p:blipFill>
        <p:spPr>
          <a:xfrm>
            <a:off x="6632640" y="4191120"/>
            <a:ext cx="1977840" cy="183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5320" indent="-625320">
              <a:lnSpc>
                <a:spcPct val="125000"/>
              </a:lnSpc>
              <a:spcBef>
                <a:spcPts val="901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Continuous (numerical) 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 from infinitely many possible values that correspond to some continuous scale that covers a range of values without gaps, interruptions, or ju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oter Placeholder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260880" y="4189320"/>
            <a:ext cx="277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990720" y="157320"/>
            <a:ext cx="7162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2803680" y="431640"/>
            <a:ext cx="36716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990720" y="4267080"/>
            <a:ext cx="7924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 The amount of milk that a cow produces; e.g. 2.343115 gallons per day, weight, heigh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1219320"/>
            <a:ext cx="9115560" cy="29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9840">
              <a:spcBef>
                <a:spcPts val="1500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andom Sample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ers of the population are select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h a way that each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dividual memb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qual chance of being sel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533520" y="327672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139560" y="276120"/>
            <a:ext cx="28026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4760" y="3716280"/>
            <a:ext cx="350208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416480" y="3735360"/>
            <a:ext cx="35701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100"/>
          <p:cNvSpPr/>
          <p:nvPr/>
        </p:nvSpPr>
        <p:spPr>
          <a:xfrm>
            <a:off x="457200" y="1371600"/>
            <a:ext cx="800100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>
              <a:lnSpc>
                <a:spcPct val="90000"/>
              </a:lnSpc>
              <a:spcBef>
                <a:spcPts val="2001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data must be collected in an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ropriate way, such as through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of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ando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lec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>
              <a:lnSpc>
                <a:spcPct val="90000"/>
              </a:lnSpc>
              <a:spcBef>
                <a:spcPts val="2001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sample data are not collect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appropriate way, the data m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so completely useless that n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ount of statistical tortur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salvage them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050"/>
          <p:cNvSpPr/>
          <p:nvPr/>
        </p:nvSpPr>
        <p:spPr>
          <a:xfrm>
            <a:off x="425520" y="76320"/>
            <a:ext cx="83376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ndom Sampling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ion so that each has a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qu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h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being selec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052" descr="C:\WINDOWS\Desktop\Triola PPt\giffs\ch01\1_Rand.gif"/>
          <p:cNvPicPr/>
          <p:nvPr/>
        </p:nvPicPr>
        <p:blipFill>
          <a:blip r:embed="rId1"/>
          <a:stretch/>
        </p:blipFill>
        <p:spPr>
          <a:xfrm>
            <a:off x="1666800" y="2428920"/>
            <a:ext cx="5810400" cy="3209760"/>
          </a:xfrm>
          <a:prstGeom prst="rect">
            <a:avLst/>
          </a:prstGeom>
          <a:ln w="0">
            <a:noFill/>
          </a:ln>
        </p:spPr>
      </p:pic>
      <p:sp>
        <p:nvSpPr>
          <p:cNvPr id="2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6"/>
          <p:cNvSpPr/>
          <p:nvPr/>
        </p:nvSpPr>
        <p:spPr>
          <a:xfrm>
            <a:off x="71280" y="76320"/>
            <a:ext cx="90014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ystematic Samp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some starting point and the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every  K th element in the pop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7" descr="C:\WINDOWS\Desktop\Triola PPt\giffs\ch01\1_Sys.gif"/>
          <p:cNvPicPr/>
          <p:nvPr/>
        </p:nvPicPr>
        <p:blipFill>
          <a:blip r:embed="rId1"/>
          <a:stretch/>
        </p:blipFill>
        <p:spPr>
          <a:xfrm>
            <a:off x="609480" y="2725560"/>
            <a:ext cx="7848720" cy="217836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6178680" y="2749680"/>
            <a:ext cx="67284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2040" y="76320"/>
            <a:ext cx="833760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onvenience Sampl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results that are easy to g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C:\WINDOWS\Desktop\Triola PPt\giffs\ch01\1_Conv.gif"/>
          <p:cNvPicPr/>
          <p:nvPr/>
        </p:nvPicPr>
        <p:blipFill>
          <a:blip r:embed="rId1"/>
          <a:stretch/>
        </p:blipFill>
        <p:spPr>
          <a:xfrm>
            <a:off x="1095480" y="2162160"/>
            <a:ext cx="6953040" cy="3400560"/>
          </a:xfrm>
          <a:prstGeom prst="rect">
            <a:avLst/>
          </a:prstGeom>
          <a:ln w="0">
            <a:noFill/>
          </a:ln>
        </p:spPr>
      </p:pic>
      <p:sp>
        <p:nvSpPr>
          <p:cNvPr id="23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Post test time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Are you read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Summariz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Interpreting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Drawing Conclusions from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6"/>
          <p:cNvSpPr/>
          <p:nvPr/>
        </p:nvSpPr>
        <p:spPr>
          <a:xfrm>
            <a:off x="838080" y="1344960"/>
            <a:ext cx="76201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pulatio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llection of observ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collection of methods for planning studies and experi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lete collection of all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A sub-collection of members drawn from a larger grou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838080" y="1344960"/>
            <a:ext cx="762012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opulation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b2b2b2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collection of observ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b2b2b2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 collection of methods for planning studies and experi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mplete collection of all ele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A sub-collection of members drawn from a larger grou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471600" y="3919680"/>
            <a:ext cx="8229600" cy="9903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609480" y="1122120"/>
            <a:ext cx="81536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an example of quantitative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Weights of high school stud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Genders of actors and actre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lors of the rainb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nsumer ratings of a particular automobile (below average, average, and above average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609480" y="1122120"/>
            <a:ext cx="81536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an example of quantitative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Weights of high school stud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B.  Genders of actors and actress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Colors of the rainbow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Consumer ratings of a particular automobile (below average, average, and above average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469800" y="1828800"/>
            <a:ext cx="7226280" cy="121932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685800" y="999000"/>
            <a:ext cx="81532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an example of continuous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emperature on a thermome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students in an algebra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ean weight of 100 flour sack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Amount of water pumped from a pond per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685800" y="999000"/>
            <a:ext cx="81532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s not an example of continuous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A.  Temperature on a thermome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students in an algebra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C.  Mean weight of 100 flour sack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D.  Amount of water pumped from a pond per da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469800" y="2590920"/>
            <a:ext cx="8369280" cy="121896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of Chapter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7"/>
          <p:cNvSpPr/>
          <p:nvPr/>
        </p:nvSpPr>
        <p:spPr>
          <a:xfrm>
            <a:off x="3797280" y="2895480"/>
            <a:ext cx="1557360" cy="1611360"/>
          </a:xfrm>
          <a:custGeom>
            <a:avLst/>
            <a:gdLst>
              <a:gd name="textAreaLeft" fmla="*/ 54720 w 1557360"/>
              <a:gd name="textAreaRight" fmla="*/ 1502640 w 1557360"/>
              <a:gd name="textAreaTop" fmla="*/ 54720 h 1611360"/>
              <a:gd name="textAreaBottom" fmla="*/ 1556640 h 1611360"/>
            </a:gdLst>
            <a:ahLst/>
            <a:rect l="textAreaLeft" t="textAreaTop" r="textAreaRight" b="textAreaBottom"/>
            <a:pathLst>
              <a:path w="21600" h="22349">
                <a:moveTo>
                  <a:pt x="2606" y="0"/>
                </a:moveTo>
                <a:arcTo wR="2606" hR="2606" stAng="16200000" swAng="-5400000"/>
                <a:lnTo>
                  <a:pt x="0" y="19743"/>
                </a:lnTo>
                <a:arcTo wR="2606" hR="2606" stAng="10800000" swAng="-5400000"/>
                <a:lnTo>
                  <a:pt x="18994" y="22349"/>
                </a:lnTo>
                <a:arcTo wR="2606" hR="2606" stAng="5400000" swAng="-5400000"/>
                <a:lnTo>
                  <a:pt x="21600" y="2606"/>
                </a:lnTo>
                <a:arcTo wR="2606" hR="2606" stAng="0" swAng="-5400000"/>
                <a:close/>
              </a:path>
            </a:pathLst>
          </a:custGeom>
          <a:noFill/>
          <a:ln w="50760">
            <a:solidFill>
              <a:srgbClr val="00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8"/>
          <p:cNvSpPr/>
          <p:nvPr/>
        </p:nvSpPr>
        <p:spPr>
          <a:xfrm>
            <a:off x="3927600" y="1952640"/>
            <a:ext cx="1681200" cy="2670120"/>
          </a:xfrm>
          <a:prstGeom prst="pie">
            <a:avLst/>
          </a:prstGeom>
          <a:gradFill rotWithShape="0">
            <a:gsLst>
              <a:gs pos="0">
                <a:srgbClr val="993366"/>
              </a:gs>
              <a:gs pos="50000">
                <a:srgbClr val="47182f"/>
              </a:gs>
              <a:gs pos="100000">
                <a:srgbClr val="99336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Designing exper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Does aspirin help reduce the risk of heart attack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Observational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Patient attitude toward saudi nur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7086600" y="609480"/>
            <a:ext cx="71604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Object 3" descr=""/>
          <p:cNvPicPr/>
          <p:nvPr/>
        </p:nvPicPr>
        <p:blipFill>
          <a:blip r:embed="rId2"/>
          <a:stretch/>
        </p:blipFill>
        <p:spPr>
          <a:xfrm>
            <a:off x="6705720" y="4419720"/>
            <a:ext cx="66816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mmarizing and Interpreting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de distribution for a college course ( Growth and development course NUR 35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2927520" y="3276720"/>
            <a:ext cx="1603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ing Conclu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and impro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designed experi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observational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Object 2" descr=""/>
          <p:cNvPicPr/>
          <p:nvPr/>
        </p:nvPicPr>
        <p:blipFill>
          <a:blip r:embed="rId1"/>
          <a:stretch/>
        </p:blipFill>
        <p:spPr>
          <a:xfrm>
            <a:off x="6629400" y="2438280"/>
            <a:ext cx="20829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520" y="1904760"/>
            <a:ext cx="85726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27120" indent="-627120">
              <a:lnSpc>
                <a:spcPct val="120000"/>
              </a:lnSpc>
              <a:spcBef>
                <a:spcPts val="901"/>
              </a:spcBef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27120" indent="-62712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s (such as measurements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ders, survey responses) that ha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en collected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33520" y="3276720"/>
            <a:ext cx="838188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07960" indent="1800">
              <a:lnSpc>
                <a:spcPct val="110000"/>
              </a:lnSpc>
              <a:spcBef>
                <a:spcPts val="1001"/>
              </a:spcBef>
              <a:spcAft>
                <a:spcPts val="249"/>
              </a:spcAft>
              <a:buClr>
                <a:srgbClr val="c0504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Popul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07960" indent="1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mplete collection of all elements (scores, people, measurements, and so on) to be studied; the collection is complet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sense that it includes all subjects to be studi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7960" indent="1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7960" indent="1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98989"/>
                </a:solidFill>
                <a:latin typeface="Arial"/>
              </a:rPr>
              <a:t>Dr. Wajed Hatamle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employment - Status of ALL employable people (employed, unemployed) in the K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y college Scores - scores of EVERY person that took the Entry college in KSA during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of ALL currently enrolled underage college students as to whether they have consumed Arabic Coffee in the last 24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5T09:08:44Z</dcterms:created>
  <dc:creator>Addison-Wesley</dc:creator>
  <dc:description/>
  <dc:language>en-US</dc:language>
  <cp:lastModifiedBy>mutazz</cp:lastModifiedBy>
  <cp:lastPrinted>1997-05-28T14:02:53Z</cp:lastPrinted>
  <dcterms:modified xsi:type="dcterms:W3CDTF">2011-03-11T10:33:19Z</dcterms:modified>
  <cp:revision>232</cp:revision>
  <dc:subject/>
  <dc:title>No Slide Title</dc:title>
</cp:coreProperties>
</file>