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7B192-0DC4-48FF-A753-5FE1AD622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94C2A-0686-4D02-BCA5-BEF2143C8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0E11-2533-44DE-8516-CA00BC8D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30C52-F203-43E6-8705-198AE6DFF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B9B47-7C18-4792-AF37-3ED89676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2872-7C28-4732-92A2-22DF0E3BD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88C4-B14E-4187-8947-AD0AECFA7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4821-21B0-4D79-96F9-50B384EF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75B66-AC00-441A-B706-2D480ED52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A8AB-4619-4D4E-A2A9-8EEA3E1B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80124-3F54-4D19-86BF-0D18C40E5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3BBF-DC8A-45E3-8F68-5351A06F6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A8A9-BF20-4682-B37E-39A81A693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331</a:t>
            </a:r>
            <a:r>
              <a:rPr b="1" lang="ar-SA" sz="3200" spc="-1" strike="noStrike">
                <a:solidFill>
                  <a:srgbClr val="000000"/>
                </a:solidFill>
                <a:latin typeface="Arial"/>
              </a:rPr>
              <a:t> قصر </a:t>
            </a:r>
            <a:br>
              <a:rPr sz="3200"/>
            </a:br>
            <a:r>
              <a:rPr b="1" lang="ar-SA" sz="3200" spc="-1" strike="noStrike">
                <a:solidFill>
                  <a:srgbClr val="000000"/>
                </a:solidFill>
                <a:latin typeface="Arial"/>
              </a:rPr>
              <a:t>الحاسب الآلي في الاقتصاد التطبيق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D327D9-D79E-4300-9B43-208528D82B0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B68E3A5-1D03-4480-86FD-132ED1E73D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2B531C-CA5F-4057-AFB3-E0472D02A9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E416E4D-5FA5-44EA-A1C3-35B33C38D0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0B49246-EE68-4199-AF1D-CCC8CCE236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66B0780-518D-4CB9-AB0F-585C465A1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FF8DFEF-BCEA-4D21-AB21-9D29F13D1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FAA50FB-0D2A-457E-BC6B-BC034DF0DA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EEB538-F5BE-4501-834A-BAE33DACBF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6:33:37Z</dcterms:modified>
  <cp:revision>122</cp:revision>
  <dc:subject/>
  <dc:title>Slide 1</dc:title>
</cp:coreProperties>
</file>