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ACD18-061E-4B82-A813-5D3BCAC2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B0FA-5C49-43F1-B0DE-8C51BBEE0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F6AB5-649D-41B8-B6A8-14E8BA6AB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F0EA9-09F8-4163-AE03-75D43285D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4D842-B867-4A68-A3BE-17742731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4A13A-7260-427E-A79B-C8A202A6F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5D5B1-AD55-4BE6-B0C3-5E95C609C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20C41-FD55-48D8-AEEA-46308309F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17FE-5263-45C3-A2F5-3981DDB11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CD35C-8693-4532-84F6-0FDD3D1D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0AB55-B878-4D38-8B90-92153B6E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74F40-1DA6-439A-970A-E0BA0F3C8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8766-082F-4DDF-83EC-BAEC0C666F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331</a:t>
            </a:r>
            <a:r>
              <a:rPr b="1" lang="ar-SA" sz="3200" spc="-1" strike="noStrike">
                <a:solidFill>
                  <a:srgbClr val="000000"/>
                </a:solidFill>
                <a:latin typeface="Arial"/>
              </a:rPr>
              <a:t> قصر </a:t>
            </a:r>
            <a:br>
              <a:rPr sz="3200"/>
            </a:br>
            <a:r>
              <a:rPr b="1" lang="ar-SA" sz="3200" spc="-1" strike="noStrike">
                <a:solidFill>
                  <a:srgbClr val="000000"/>
                </a:solidFill>
                <a:latin typeface="Arial"/>
              </a:rPr>
              <a:t>الحاسب الآلي في الاقتصاد التطبيق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49FBF1F-E285-48AB-8928-60C0C6A2B8DC}"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7AD81A-60A2-4427-9A8E-8B85DA68F1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B2405C-8AA4-4A36-9A62-4E01E0126D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D06E50-5734-4E7E-8972-B1D818D452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6C7ABD8-DB01-42D6-8E37-64CE0AF6AE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49CFCC3-A9DD-4536-874B-C26347DB38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7C9BAB-A190-45AC-BB63-2177AC9792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7C17040-04DA-43B6-A55E-E85AB013C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F9FD02-E6E3-4545-9CC1-FD5EB76AE1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6:33:37Z</dcterms:modified>
  <cp:revision>122</cp:revision>
  <dc:subject/>
  <dc:title>Slide 1</dc:title>
</cp:coreProperties>
</file>