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2A5-9270-4E12-B323-BDFCFAC3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2108-A3BE-41EC-8E69-A222352E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B0E-84A8-43F2-8712-0D4BB1E5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728-0627-4A6F-872D-EC52E3C7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72E-9C05-468F-8C13-7B1C4DEB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AC1-2BEB-4C9E-B40B-2009D084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B6D-CCC6-4D59-BA87-0BC672ED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DCC-5B42-4EE6-AB15-971B35F7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622B-8D95-47FC-A1D1-FBF0F856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FD1-CA3B-48EB-B827-C2434052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A04-4E64-4B0D-B3AC-93E00786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110B-BB77-4BEC-9EAC-1F976AF5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5471-0A35-40DF-BFC1-A165E343B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مادة: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3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قصر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حاسب الآلي في الاقتصاد التطبيقي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سبوع السادس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.د سفر حسين القحط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. سليمان عبدالعزيز المعج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3162240" cy="218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87640" y="2349360"/>
            <a:ext cx="3162240" cy="2181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987640" y="2349360"/>
            <a:ext cx="47433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116000" y="907920"/>
          <a:ext cx="6984720" cy="5113080"/>
        </p:xfrm>
        <a:graphic>
          <a:graphicData uri="http://schemas.openxmlformats.org/drawingml/2006/table">
            <a:tbl>
              <a:tblPr/>
              <a:tblGrid>
                <a:gridCol w="6984720"/>
              </a:tblGrid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_Cod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مز المنطقة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لسل عا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ساحة بال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لفة للبنية الأساسية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لفة للآلات والمعدات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مياه والأبار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LaborCost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عمالة ريال/ 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Oprt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تشغيل العامة الأخرى ريال/ 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Oprt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إنتاج (المستلزمات)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_Pro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جمالي كمية الإنتاج بالطن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By_Valu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جمالي قيمة الناتج الثانوي بالريال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VO1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نقل محصول الحبوب إلى مؤسسة الصوامع والغلال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شاء ملف عمل لعدد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6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زر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راءة بيانات المتغيرات السابقة (عدا رمز المنطقة و المسلسل العا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جري الخطوة السابقة باستخدام النسخ والص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ثم باستخدام التعامل مع ملف البرنام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شاء متغيرات ذات معنى اقتصادي لتقدير دوال التكالي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اليف ك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لفة ثابت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لفة متغي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404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طلوب إعداد البيانات وفقاً للتال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130320"/>
            <a:ext cx="7991280" cy="65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 new workfi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optional_name frequency start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provide an optional name for your workfile. If you do not, EViews will create an untitled workfi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ust specify the frequency, and the starting and ending dates of your data. For undated data, you should specify the starting and ending observation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ust choose one of the following options to specify the frequency of your workfi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i-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e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ek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(5 day we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(7 day we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ated or irreg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 1880 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n annual workfile from 1880 to 199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m 1990:1 2010: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 monthly workfile from January 1990 to December 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w 2/10/1951 3/17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 weekly workfile from the week starting February 10, 1951 to the week starting March 17, 199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u 1 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n undated workfile with 5000 observation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1:08:03Z</dcterms:created>
  <dc:creator>Staf</dc:creator>
  <dc:description/>
  <dc:language>en-US</dc:language>
  <cp:lastModifiedBy>Dell</cp:lastModifiedBy>
  <dcterms:modified xsi:type="dcterms:W3CDTF">2011-03-13T06:38:02Z</dcterms:modified>
  <cp:revision>40</cp:revision>
  <dc:subject/>
  <dc:title>Slide 1</dc:title>
</cp:coreProperties>
</file>