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FF29-84EA-4E68-8CFF-B6C03FEA0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0007-0FDA-45B7-B7F2-E63E28A2D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22B6-B8C4-4FD3-9201-16090F24E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94F5-4415-49AE-917B-A99040729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342C-1047-4A35-8EE4-220556E74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7BBC-93C0-42A0-81C3-C66DEB469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8E6B-EE83-422B-9FA9-CD261A217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E07D-2FEB-4A33-BA1C-09CCFDFF5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C830-769F-4735-9497-DF2FEBBE8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0869-A6DD-4C6C-A3A9-76CC2A79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EF26-3A58-430C-AC95-0E728743B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327F-A967-4EC9-9885-77A8694D4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73E5D-7A06-4A30-9F60-E04AACF76B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21337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مادة: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331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قصر </a:t>
            </a:r>
            <a:br>
              <a:rPr sz="3200"/>
            </a:b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حاسب الآلي في الاقتصاد التطبيقي</a:t>
            </a:r>
            <a:br>
              <a:rPr sz="3200"/>
            </a:b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أسبوع السادس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أ.د سفر حسين القحطان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أ. سليمان عبدالعزيز المعج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990880" y="2338560"/>
            <a:ext cx="474336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990880" y="2338560"/>
            <a:ext cx="474336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990880" y="2338560"/>
            <a:ext cx="3162240" cy="2180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987640" y="2349360"/>
            <a:ext cx="3162240" cy="21812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2987640" y="2349360"/>
            <a:ext cx="4743360" cy="32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990880" y="2338560"/>
            <a:ext cx="474336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630400" cy="1054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630400" cy="1054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1116000" y="907920"/>
          <a:ext cx="6984720" cy="5113080"/>
        </p:xfrm>
        <a:graphic>
          <a:graphicData uri="http://schemas.openxmlformats.org/drawingml/2006/table">
            <a:tbl>
              <a:tblPr/>
              <a:tblGrid>
                <a:gridCol w="6984720"/>
              </a:tblGrid>
              <a:tr h="40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_Code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رمز المنطقة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سلسل عام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a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ساحة بالدونم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DAst1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تكلفة للبنية الأساسية ريال/دونم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DAst2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تكلفة للآلات والمعدات ريال/دونم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DAst3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كلفة المياه والأبار ريال/دونم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DLaborCost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كلفة العمالة ريال/ دونم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DOprt1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كلفة التشغيل العامة الأخرى ريال/ دونم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DOprt2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كلفة الإنتاج (المستلزمات) ريال/دونم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at_Prod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إجمالي كمية الإنتاج بالطن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atBy_Value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إجمالي قيمة الناتج الثانوي بالريال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DVO14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كلفة نقل محصول الحبوب إلى مؤسسة الصوامع والغلال ريال/دونم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نشاء ملف عمل لعدد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161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مزرع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قراءة بيانات المتغيرات السابقة (عدا رمز المنطقة و المسلسل العا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أجري الخطوة السابقة باستخدام النسخ والص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ثم باستخدام التعامل مع ملف البرنامج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نشاء متغيرات ذات معنى اقتصادي لتقدير دوال التكالي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تكاليف كل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تكلفة ثابت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تكلفة متغير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16000" y="40464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مطلوب إعداد البيانات وفقاً للتالي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630400" cy="1054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630400" cy="1054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630400" cy="1054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630400" cy="1054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630400" cy="1054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630400" cy="1054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4360" y="130320"/>
            <a:ext cx="7991280" cy="65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 a new workfil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nta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 optional_name frequency start 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 may provide an optional name for your workfile. If you do not, EViews will create an untitled workfil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 must specify the frequency, and the starting and ending dates of your data. For undated data, you should specify the starting and ending observation numb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 must choose one of the following options to specify the frequency of your workfil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nu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mi-annu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uarter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th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ek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ily (5 day wee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ily (7 day wee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dated or irregul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 a 1880 9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s an annual workfile from 1880 to 199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 m 1990:1 2010: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s a monthly workfile from January 1990 to December 201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 w 2/10/1951 3/17/199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s a weekly workfile from the week starting February 10, 1951 to the week starting March 17, 1994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 u 1 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s an undated workfile with 5000 observation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21:08:03Z</dcterms:created>
  <dc:creator>Staf</dc:creator>
  <dc:description/>
  <dc:language>en-US</dc:language>
  <cp:lastModifiedBy>Dell</cp:lastModifiedBy>
  <dcterms:modified xsi:type="dcterms:W3CDTF">2011-03-13T06:38:02Z</dcterms:modified>
  <cp:revision>40</cp:revision>
  <dc:subject/>
  <dc:title>Slide 1</dc:title>
</cp:coreProperties>
</file>