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599-1A5B-4EB3-B405-58AECBF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5D5-85B1-4758-A2A4-269EF770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662-7F36-47D3-A280-9A0FBB61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19D-F152-4154-AECE-10986755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F56-898A-4C58-9AD8-BE92753B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FA8-CCE6-4689-8664-5F88254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352-6779-47A2-B9AE-261E894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4CC-A6AB-47C2-937B-B70D5AF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AAE-05CB-4142-BC56-3620033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9A5-C9A9-481F-95C9-0698004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BF8-2771-40FA-94D4-A2752DF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D4F-706F-44A8-9C01-E4C7E01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1E6-753B-4EB5-8933-315764B9D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اسب الآلي في الاقتصاد التطبيق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6:38:02Z</dcterms:modified>
  <cp:revision>40</cp:revision>
  <dc:subject/>
  <dc:title>Slide 1</dc:title>
</cp:coreProperties>
</file>