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075-2C0F-409F-8624-F96C3FA4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1D9-C868-4181-9864-4F00FDD5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0B2-85DA-47A3-AF70-A484C08D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803-7828-49CB-AF46-7FD42472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BF2-84B4-487F-9F9D-D678EDA3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ECC9-90E8-4437-8F51-D1C8E43C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705-9EE5-409F-A607-31C1E190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3DF-117D-4DDA-BE01-E340C51D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997-BCAF-4976-9179-E128568C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70E-8263-4682-80AD-1BF94D20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6154-1736-4DBE-BFCA-28F5F5E5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958-F5D7-4D66-BD2A-68A2948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9BCF-CECD-4FB6-A8D3-31CD38A1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3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حاسب الآلي في الاقتصاد التطبيق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6:38:02Z</dcterms:modified>
  <cp:revision>40</cp:revision>
  <dc:subject/>
  <dc:title>Slide 1</dc:title>
</cp:coreProperties>
</file>