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BF651-ED26-4A44-8485-28A22C341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6C18F-B74F-4A59-A256-DE1F39AC7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850F1-8288-4006-B8CC-6A5F2D5A5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574E2-6AA1-472B-A630-B5914EE8B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D7FCAC-2DB7-42E7-A2FA-BDBBAC0EF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A6EA5-A61D-4CB4-9F57-159F2CA6D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199D94-62DE-4287-9EBB-74DD34A39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79C71-ED8F-4BCD-B5AC-5F37266ED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A3FB9-1982-4C44-AB2D-83CF4B07E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8DC4E-41D0-452F-A09E-C423BDD0B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7FE320-E781-458C-87E5-4086B16A1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7DC8FF-9F4D-4604-BFE2-C30CCDAFF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B6892-3885-4170-BE08-9C96DE247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8D6FDA-2DEE-4465-A9B6-F6606FC5C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7124A-D4E0-4A72-AFAE-839BFFD2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5B35B-A058-40F4-867A-4933E2276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57895-8DB9-4CB0-8A8C-E51D655E3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D015A-EB4C-466E-80E8-D66CCD259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0DB7D-6990-4B7F-93E2-9937DD02B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65BF52-9BBA-474D-828E-CC7CA3065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AF7073-B115-42A5-9A97-0B4E67E3C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45096-FCE5-4E3C-86B7-9A25C86C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78DD6-48B4-4C9A-8D54-8E1D0C70F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6EF41-3524-447B-8F1C-F35A83E26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A7059-486B-4A98-8A6B-7CDE4F90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DC41D-6D5B-4B6E-A762-8FA951B5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1D802-71D5-44CE-B14B-FAEFB8995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1B329-F239-49C9-B281-67D538237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8A616-4E6A-40C9-BF4D-219ECD6E4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08F9D-87A1-40EF-AAE9-A6FF821D0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87F2A8-1CFA-4552-B6C0-5716BB19C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D8ACE3-7092-4D17-A151-2E75B44D8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9EAF5-7D1D-4F4D-B3FB-D6386EFE7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8E5EE-EB55-450E-9956-3129FD531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4C197-DBAA-4A7A-9C10-56F916B00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2E72C-3C3A-483B-B38D-4FB5323F3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FE3B-9201-47CD-B30E-6C38108C3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E739-987A-4CD9-B89B-FEBE0EF75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A4C0-C59C-4B9E-A47C-D650AB725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DC04-E510-4A3D-8652-2BE7A5B654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C384-D7BF-4A5A-8075-ADE04AA3F5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76CE-024E-4A54-94EF-8C8E62A74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AF33-5CD4-44CD-98CC-CE7328207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6A94-01D9-439D-8874-5F9DEF6B9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2B61-7E6B-4AC1-9D92-89C036068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2626-042E-475A-8695-7C83F3B29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B727-E00B-4B43-894F-07F9ED277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FC8A-37BD-45BE-B3E4-CD7A73D7D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7FE6-6ADF-4568-8395-7D3B0C595B1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C624-7354-44A0-984E-2DB24B7E780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for Successful Requirement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mpar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nything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ttention to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76DE-9463-4E18-97D5-4AF03FE45BA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is the process of systematically selecting representative elements of a population. We use sampling to make assumptions of the population as a wh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mp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ed up data gath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effect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 b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F385-5CEB-4F09-8E5D-20D9D5D547B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ign a good sample, analysts ne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data to b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opulation to be samp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type of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the sample size (not cove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DB70-E4B5-4913-A6AF-22465B2D64D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-Find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existing reports, forms, and procedur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 and discuss processes with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and document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prot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and collect 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joint application design (JAD)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vend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7ABA-0A22-44E6-8886-62D36305261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xisting Reports, Form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ocedur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External industry-wide professional organizations and trade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Existing business documents and procedure descriptions within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business rules, discrepancies, and redundanc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autious of outdated 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 preliminary understanding of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s guidelines/visual cues to guide inter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288D-25C7-4BE2-95FC-1282C7A6077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Interviews and Discussions with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way to understand business functions an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nsuming and resource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quire multiple session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all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all processing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eet with individuals or group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detailed questions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5C93-8D87-4E80-9088-3AC35246166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Checklist to Prepare for User Intervi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57D1-1F50-4E44-811A-C0824B0468E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ng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he Interview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Application Design (J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76B7-B431-403F-838E-D9FC078EB3B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ypes – Open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e at 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erviewe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new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resting for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ponta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ing is easier for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 them when not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4720" y="1066680"/>
            <a:ext cx="4228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sult in too much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lose control of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may take too mu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 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 that objectives are l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7303-54C6-4752-A6B1-5070906E606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ypes – Closed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116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ompare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ver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lots of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only releva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22840" y="1371600"/>
            <a:ext cx="4116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 to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main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 to build rapport with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34FC-AB2A-4181-BCD8-AA7DB91DDF8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activities of the systems analysis life cycl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effect of business process reengineering on activities of the analysis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difference between functional and nonfunctional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kind of information that is required to develop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ystem requirements through review of documentation, interviews, observation, prototypes, questionnaires, vendor research, and joint application desig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need for validation of system requirements to ensure accuracy and completeness and the use of a structured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D37C-66BC-464B-B4F2-4D680A15F64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ypes –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get more meaning out of an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either open or closed-en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that you are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F380-F839-41AA-8F2F-AC16AF03386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lead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double-barrel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mbiguity, especially in closed-en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st questions befor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2AB9-63A9-4DE9-B57A-91E9EC54F06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mi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with a specific question and close with a general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warm up the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reluctant interview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ne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with a general question and close with a specific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, non-threatening way to start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hen interviewee feels emotional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-shap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combination of the two approache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strengths of two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interviewee’s interest by using a variety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09CC-8AC4-4B13-9845-1CD6AAB0A65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a Record of the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an Audio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ccurate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listen and respond more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better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ake interviewee nerv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locate messages on long 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(need to transcribe ta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0160" y="1066680"/>
            <a:ext cx="4533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interviewer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nterest in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s prep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e vital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e stops when notes are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attention to facts and little attention to feelings and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9359-9EF6-469C-B746-4D29E89C9FB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ing the Interview (my sugg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ke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 interviewee how you will work (note taking, recor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open-ended questions to warm-up interview and get a feeling of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all questions in 45 min to 1 hour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back to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if something was no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and g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FC91-C769-4836-8DF3-4FED0B9DF75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he Interview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report as soon as possibly after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main points of the interview and your own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report with the respondent at a follow-up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C687-458E-48AA-9F41-1C2E73BCD21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ystem capabilities and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ies system must perform (use cas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procedures and business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ed in analysis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Non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environment or performance objec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bility, reliability, and security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31CB-4E2C-4471-ABB3-9FAD8D91E37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and Collect Questi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nd specific information from a large number of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insight int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well suited for gathering detail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losed-ended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 person answering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Open-ended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ourage discussion and e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BB1F-1889-4653-90F4-D82C9C3C18D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Joint Application Design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dites investigation of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s to compress fact-finding, modeling, policy formation, and verification activities into shorter tim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actor is to have all important stakeholder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1F57-DF5C-40D8-9050-DED5D43A395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Application Desig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leader trained in group dynamics and JAD group fac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able business and system users and policy ma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taff representatives to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and network config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ng enviro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BC7F-6046-462C-82AE-10F2C424D9E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alysis Phase in More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d non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for feasibility and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evalu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recommendations with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990720" y="3606840"/>
            <a:ext cx="70102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7B7A-0167-499A-A381-98CE90D06F6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Application Design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in special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 interrup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off-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head projector, white board, flip charts, work 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support (lapto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support systems (G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0D85-61B9-46AD-AF46-A33AD34A563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AD Fac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4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1"/>
          <a:stretch/>
        </p:blipFill>
        <p:spPr>
          <a:xfrm>
            <a:off x="457200" y="1155600"/>
            <a:ext cx="83059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3853-5E77-4156-A0D5-9E25018FCB8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rototy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etitive process in which analysts and users build a rudimentary version of an information system based on 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ing is good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s are unclear about their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ystem affects a relatively small number of us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s are compl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between users and analysts needs to be strength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id application development tools are avail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9C01-4BAA-4DD7-859A-5A8D6DC4C64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Prot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working model of a larger, more complex system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y, design, evolving proto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sh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model to provide “look and fee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d to accomplish single obj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and modified rapidly with CAS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AAD8-C148-444B-9136-35508D43BA5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ng th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gathered information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walk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means of implementing quality control early in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y and validate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findings from investigation and of models based on 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 responsible for system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s analyst, project manager are part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2C3A-10B3-4DBD-BC35-6E5D81628A2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phas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syste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type for feasibility and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and evaluate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recommendations with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ing syste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nd non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various stakeholders (users, clients, technical sta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kind of information do I n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business processes and oper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 business processes perform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information requir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information-gathering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existing reports, forms, and procedure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interviews and discussions with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and document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prototype working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and collect q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JAD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vendor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9BDD-70C2-42C4-BE3C-FC6B000B7A7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the Analysis Ph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ir Key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152280" y="1601640"/>
            <a:ext cx="88394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01DB-32FF-4CC9-A2BE-88DB26ABFCC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ith interest in successful syste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primary groups of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Us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use syst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Clien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y for and own syst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Technical staf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nsure system oper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ype of stakeholder is identified by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9E55-1032-4E98-B790-2EA19C0C403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Users as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 user r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flow across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user r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needs of clerical staff, middle management, and senior execu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users perform day-to-day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users need current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ment users need summary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ve users need strategic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users may have access to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157C-5BA0-4AFB-95CE-0C24FE2DEA9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Information 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phase done to understand business functions and develop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structured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model of existing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rive requirements from existing system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logical requirements for new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lance the review of current business functions with new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C8C2-EDC2-4A39-8B8F-4E7E87B6806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Information Gathering and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1" descr=""/>
          <p:cNvPicPr/>
          <p:nvPr/>
        </p:nvPicPr>
        <p:blipFill>
          <a:blip r:embed="rId1"/>
          <a:stretch/>
        </p:blipFill>
        <p:spPr>
          <a:xfrm>
            <a:off x="914400" y="110484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18BF-F7DA-4D42-AAE4-E75ACE51768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s for Information-Gath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Jeff Hedrington</dc:creator>
  <dc:description/>
  <dc:language>en-US</dc:language>
  <cp:lastModifiedBy>A</cp:lastModifiedBy>
  <cp:lastPrinted>2002-03-03T02:56:24Z</cp:lastPrinted>
  <dcterms:modified xsi:type="dcterms:W3CDTF">2012-11-11T19:32:24Z</dcterms:modified>
  <cp:revision>333</cp:revision>
  <dc:subject>Systems Analysis and Design</dc:subject>
  <dc:title>Chapter 4</dc:title>
</cp:coreProperties>
</file>