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981240" y="0"/>
            <a:ext cx="30445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884700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98124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767F24-428D-4CE6-8196-725E85A4E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CA7FF5-8E04-4C5B-A528-7A4065B32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E4BFC1-4580-4CF0-BF32-5FBBC175A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3CEE9D-4139-41B1-8A12-D38CA2A0E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E38903-3610-43F4-ADB9-40546A314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4A35EE-3248-44EC-BDF5-A47D2FF23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3F9D9A-5469-47D2-81C1-6C8ED4957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54C344-538E-48BF-9CB5-080C2638B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2FCB63-7A48-4227-9EB9-8F73BC675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F11672-7257-47C2-993D-92AACA6E4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DE84DE-4F6B-40FD-ADC4-C77AA7D48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03DD0C-11FB-432D-AA54-22DFCE09E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51C7CA-01DD-4ECF-8BD6-8EEB21D1C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B4431F-94D9-4498-A266-FFA3B53CC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D10516-4F1B-489D-99E1-5864691ED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E183B7-2880-4A49-9FAB-2852B3590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45E4E5-1BC1-4C47-9450-1674AD75B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80E0D8-EA4F-4EB1-940E-087F55920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EF81E3-6383-40F2-B4C8-B364085EA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34B0A9-92C2-411D-A902-70515FBE6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3B542D-0A15-4A2F-8BFC-2A9CB8E4F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09F9F4-8B83-4EA1-84D5-9DFEFFFA7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3147C9-375A-4532-8323-3F01675F0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628395-4A8D-4D42-ABEA-AAD7FF378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0A8C8B-793E-4D6A-A43F-C1884898A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670A80-71FD-4C34-8D1C-A9B8421FB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BF2FB2-4F8B-4476-8F6D-1B4A57B68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378D89-6B14-4EC7-9776-33C108AB9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BDDE3C-E5B4-41F7-B71B-2CF9C4658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DFB493-96F6-4A69-9F27-430DAE356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8378D8-8463-4B95-80C6-9F382E992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09403E-0779-425E-A2E5-E5F7D2831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FA2780-78FF-44CA-9816-90FD27998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48B7A1-1F84-48A0-AC46-F48C5350B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44DE49-89A1-4F44-8A19-C143C0CB8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9D6314-9CB4-4758-9AE3-B9CB61F04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0FB56-BAAA-496F-A9E1-8A0611C7A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85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5062-2AC7-40DE-BE20-AA6FC1476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89F13-59A7-4C63-8431-3C6A7B4975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852EE-2434-4151-A5CF-7AD0332537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47625-6CCA-49E7-B2D6-112C648F44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C2B98-E8B0-4972-B350-06AA3A92F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CFB24-7E43-4A11-84D6-3AC9361F6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EBF4B-9D6B-45BF-B757-1CF14C4A3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10E52-E22F-4E4D-B3E3-E920C50C2F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A54C6-5027-4125-A21A-CC175A967B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5103C-4C98-4C7F-B040-0E349997F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0311-A4DA-4E3E-9E19-BE75EFCEB5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7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7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Object 5"/>
          <p:cNvGraphicFramePr/>
          <p:nvPr/>
        </p:nvGraphicFramePr>
        <p:xfrm>
          <a:off x="8458200" y="0"/>
          <a:ext cx="6858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0"/>
                    <a:ext cx="685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Text Box 6"/>
          <p:cNvSpPr/>
          <p:nvPr/>
        </p:nvSpPr>
        <p:spPr>
          <a:xfrm>
            <a:off x="8610480" y="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00992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5EF0-4CC5-4141-8EAB-A360F18924A4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stems Analysis and Design in a Changing World, Fourth E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83944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4532-A9E7-424C-80FE-44DAD180CD7F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for Successful Requirements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ever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impar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anything i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attention to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1065-6E9C-4E23-B908-66C8CFE3099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ing is the process of systematically selecting representative elements of a population. We use sampling to make assumptions of the population as a wh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ampl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ain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ed up data gathe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 effective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 b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42E6-69BD-432B-A2A5-B46CC146052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ing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sign a good sample, analysts ne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data to be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population to be samp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the type of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the sample size (not cove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E7DA-97BF-4331-8D76-E0B4ECDC0622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-Find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existing reports, forms, and procedure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view and discuss processes with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 and document business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proto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 and collect question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 joint application design (JAD)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vendor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FE74-8828-4586-8032-7472F75D7C06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Existing Reports, Form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Procedure Descri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: External industry-wide professional organizations and trade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: Existing business documents and procedure descriptions within org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 business rules, discrepancies, and redundanc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cautious of outdated mate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tain preliminary understanding of proc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as guidelines/visual cues to guide intervie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C40D-7F11-46B3-9CF3-F7082FFF0D21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 Interviews and Discussions with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way to understand business functions and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consuming and resource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require multiple session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et all u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all processing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eet with individuals or groups of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f detailed questions prep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1024-4E3D-47AA-BD78-A11EB57AEC82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ple Checklist to Prepare for User Intervie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7708-4DE2-483F-8017-4E50B8BE8F88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the 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ing the 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the Interview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 Application Design (J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3EB8-A43F-4BFE-BBDF-94EB24D41F35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Types – Open-Ende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64832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ee at 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nterviewee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new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interesting for interview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pontane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rasing is easier for interview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use them when not 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14720" y="1066680"/>
            <a:ext cx="4228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result in too much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lose control of int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may take too muc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r un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r that objectives are l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4697-6B29-4DAE-80B5-797CC08FBE29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Types – Closed-Ended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116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compare inter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to th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over int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lots of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only releva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22840" y="1371600"/>
            <a:ext cx="4116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ing to interview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 main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 to build rapport with interview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57A8-27EF-4328-9279-4F5BE30FBD6D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activities of the systems analysis life cycle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effect of business process reengineering on activities of the analysis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difference between functional and nonfunctional system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kind of information that is required to develop system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system requirements through review of documentation, interviews, observation, prototypes, questionnaires, vendor research, and joint application design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need for validation of system requirements to ensure accuracy and completeness and the use of a structured walk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6CC7-6812-414C-B410-DA48CDABA1B2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Types – 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-up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get more meaning out of an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either open or closed-end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s that you are 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7CA5-2CD0-4845-A677-1C273C6F6A71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Pit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leading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double-barrel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ambiguity, especially in closed-ende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test questions before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26B2-7EE8-48EF-AABD-CB75F04723AB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g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ramid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with a specific question and close with a general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warm up the interview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reluctant interview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ne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with a general question and close with a specific 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, non-threatening way to start int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when interviewee feels emotional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mond-shaped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a combination of the two approaches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s strengths of two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l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s interviewee’s interest by using a variety of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D5B2-5312-4B22-AB58-BFD1D186F91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a Record of the 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an Audio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ccurate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listen and respond more rap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better eye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re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make interviewee nerv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locate messages on long 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(need to transcribe tap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0160" y="1066680"/>
            <a:ext cx="453384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the interviewer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interest in int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s prep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e vital eye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ee stops when notes are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 attention to facts and little attention to feelings and opi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2632-21CD-4900-A7F9-7D60F456D370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ing the Interview (my sugges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ive e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ke h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 interviewee how you will work (note taking, recor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open-ended questions to warm-up interview and get a feeling of 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 all questions in 45 min to 1 hour 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back to the 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if something was not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e and g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4394-1534-476E-A6B3-AC359704D973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the Interview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 report as soon as possibly after the int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e main points of the interview and your own opi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report with the respondent at a follow-up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06D4-EA19-4BE3-A0FC-3CCECAB731FF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ystem capabilities and constrai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Function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ities system must perform (use cas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ed on procedures and business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cumented in analysis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Nonfunction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chnical environment or performance objec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ability, reliability, and security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A904-1B89-4D7D-ADE4-D95C454854C0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 and Collect Questionn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and specific information from a large number of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insight into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well suited for gathering detaile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Closed-ended ques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rect person answering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Open-ended ques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courage discussion and e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737F-9336-4B49-AB1E-E68152613C7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 Joint Application Design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99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dites investigation of system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99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ks to compress fact-finding, modeling, policy formation, and verification activities into shorter time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99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factor is to have all important stakeholder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2154-77FE-4A96-B426-B8B65EDC0386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Application Desig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 leader trained in group dynamics and JAD group facil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able business and system users and policy mak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staff representatives to han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 and network configu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ing environ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ity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tea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3CCB-F161-49F9-A2AC-0B58AE498C88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alysis Phase in More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ystem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and nonfun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z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 for feasibility and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and evaluate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recommendations with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990720" y="3606840"/>
            <a:ext cx="701028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F94D-3770-4ED9-A4D5-0D470E5342D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Application Design Fac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ed in special ro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 interrupt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be off-s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head projector, white board, flip charts, work mate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ctronic support (lapto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SE too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3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 support systems (GS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C5F7-B7AF-4723-BDDE-B34DF4E17FF4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JAD Facil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gure 4-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1"/>
          <a:stretch/>
        </p:blipFill>
        <p:spPr>
          <a:xfrm>
            <a:off x="457200" y="1155600"/>
            <a:ext cx="830592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727F-3B27-4172-8074-2EA0862D6FF1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rototyp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petitive process in which analysts and users build a rudimentary version of an information system based on user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typing is good w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s are unclear about their require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ystem affects a relatively small number of us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s are comple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ion between users and analysts needs to be strengthe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pid application development tools are availab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6C9D-E094-48FD-9FCE-8B633D2835DA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Proto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working model of a larger, more complex system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overy, design, evolving prototy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type should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iv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model to provide “look and fee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ed to accomplish single obje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i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and modified rapidly with CAS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0505-A066-45F3-93C5-9090CD6054A5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ing th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gathered information is cor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walk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fective means of implementing quality control early in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ify and validate system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of findings from investigation and of models based on find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manager responsible for system qu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s analyst, project manager are partn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9EC2-F7F2-47E4-9873-EE240532372F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phas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he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system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ze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type for feasibility and dis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and evaluate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recommendations with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hering system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and nonfunc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with various stakeholders (users, clients, technical staf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kind of information do I ne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business processes and oper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the business processes perform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information require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information-gathering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existing reports, forms, and procedure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 interviews and discussions with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and document busines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prototype working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and collect questionn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uct JAD s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vendor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A29F-0C60-43D4-AD0C-D9DF0353A63B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of the Analysis Ph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ir Key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"/>
          <p:cNvPicPr/>
          <p:nvPr/>
        </p:nvPicPr>
        <p:blipFill>
          <a:blip r:embed="rId1"/>
          <a:stretch/>
        </p:blipFill>
        <p:spPr>
          <a:xfrm>
            <a:off x="152280" y="1601640"/>
            <a:ext cx="883944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E2B4-061E-4B6C-9368-E78157258337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kehold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rce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with interest in successful syste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primary groups of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Use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use syste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Client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pay for and own syste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Technical staf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ensure system oper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type of stakeholder is identified by analy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AC74-2945-40FF-9500-B3D259D9A06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n Users as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al user ro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formation flow across de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user ro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formation needs of clerical staff, middle management, and senior execu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users perform day-to-day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tion users need current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agement users need summary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ve users need strategic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rnal users may have access to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32F6-3B0D-4212-9850-A3829A1C606F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for Information Gath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phase done to understand business functions and develop system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structured appro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model of existing syst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rive requirements from existing system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appro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 logical requirements for new syste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lance the review of current business functions with new system 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5807-A174-4FD9-A369-CB0E417317E1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Between Information Gathering and Model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1" descr=""/>
          <p:cNvPicPr/>
          <p:nvPr/>
        </p:nvPicPr>
        <p:blipFill>
          <a:blip r:embed="rId1"/>
          <a:stretch/>
        </p:blipFill>
        <p:spPr>
          <a:xfrm>
            <a:off x="914400" y="1104840"/>
            <a:ext cx="716292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6FB9-4DFB-4AFE-8184-ACCDEAEFE7C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mes for Information-Gathering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4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9T15:36:56Z</dcterms:created>
  <dc:creator>Jeff Hedrington</dc:creator>
  <dc:description/>
  <dc:language>en-US</dc:language>
  <cp:lastModifiedBy>A</cp:lastModifiedBy>
  <cp:lastPrinted>2002-03-03T02:56:24Z</cp:lastPrinted>
  <dcterms:modified xsi:type="dcterms:W3CDTF">2012-11-11T19:32:24Z</dcterms:modified>
  <cp:revision>333</cp:revision>
  <dc:subject>Systems Analysis and Design</dc:subject>
  <dc:title>Chapter 4</dc:title>
</cp:coreProperties>
</file>