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E6AD1-03F4-471C-87A8-36329336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095EA-09FE-489E-A703-73A23423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5F9BA-99CE-4064-B8E1-35FD903F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804DC-0702-4C7C-B746-89364B21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BF2D1-3384-4D58-BB20-5CBBFEE2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17FED-F155-46C5-B571-E8E7EFC0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D4D4E-80DB-412F-8C70-AFF73073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222DB-A5B4-4F9D-8E11-733E237E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FB7FC-ED4B-468C-A663-9F5870D7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0BFE8-1EB0-48A5-9CA4-D5C86F16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1310E-B532-4290-A0D4-FED19577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78790-D636-4FD3-837F-25E2F8E7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7F764-6977-446A-8922-63F5B38F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DBA96-0D5A-4FD3-899E-2AF67DC0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87B54-0E7A-41B2-BEDE-527ACC60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E9EA0-9782-45DD-BB58-3D406DBF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792E2-122D-4C61-9880-A006077A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EFD10-10AD-4599-AD98-CE2FDEBE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2E164-FE62-402C-BE4A-99D7732D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9B867-3FE6-463A-B9BF-5FA47D76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B8953-2FD2-44F4-A6AE-EF52F4097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FFDE7-B3C7-476D-94C8-E88EB5BE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1FDB8-FADB-461F-AB58-ED577F58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47655-4E7F-4258-86EB-42E64FD5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5F764-224A-4D15-8071-992444A7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7DA84-24E3-49F1-A414-8471642E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3DD9A-39E5-4251-9DB8-67C3FDF8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311C9-9CD6-4FFA-806A-1C98185F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E4474-3AD4-4070-9798-2A8FB5F6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CFE39-E29D-41D9-865B-38233EC4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A5798-3486-428E-AF8B-BCE3B0CC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E98D3-0717-4E22-BB13-42AB2447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4B022-2924-4046-8248-14F5DB58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E02A3-1047-4039-A30B-1ED34B2F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5238B-ADE7-4978-95C4-094FD64A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EB8E2-58D4-43FA-A864-5D08AE58D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58AE9-C2A4-433A-8B1E-9B0485EE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479A3-8F9D-4509-AEB2-F31E049D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9D250-F36C-4805-A6AC-DB87925C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3E620-CB0A-4948-8CE1-705E205C3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BED2B-A15B-47C4-9AFA-2DDA8D57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42A91-AD1D-470C-ABB2-0318F2BD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B293E-8CA8-4135-9728-378D8F94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9BD55-06A5-4371-A821-77E9A578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525E0-2B60-42DC-85D3-56A6990C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8F1D3-B20E-4F8E-A6EA-53FAE3C4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14FA7-537F-4129-99CC-B93C8B02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5EF9-F8ED-4F34-BDAB-1102B8A35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3BD4-C6F2-4D95-9D3F-879EAF56A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0956-2E5F-4CD7-AB7D-2AE229CF3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1A03-2A78-4245-A810-BA753E22E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3D0D-11C5-420B-9E9A-C963EE11E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8DD1-343D-46F8-8DD7-92A196511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0A7D-AA18-4175-9021-F047D84A4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E09F-030E-4956-9809-4E52F40FC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B9F8-3CBD-44FC-9D54-5DBB01B22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BD50-7792-4271-8280-8754585D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7EF8-CE49-4A92-ADAB-EBB7C36EC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D481-8734-43FB-888D-60BDFA1FB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6DCD-CE5C-4895-9042-B49D523933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557360"/>
            <a:ext cx="883944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5334-654D-461F-8E55-068F1FDB771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Ps are at correct level of analysis for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usiness events to decompose system into activities/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is, therefore, us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approach to identify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 approach to identify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1C07-B5D1-48E7-86D3-80682CAA143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ted by external agent or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emp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 as result of reaching a point in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system dead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inside system triggers processing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F2E-AB03-4263-9BDB-0BF04F7FD1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ffecting a Charge Account Processing System that Lead to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A391-150F-4FDE-B9E4-47781E3E980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v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CFA-BC8C-4476-9745-D632E8F6B36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Ev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152280" y="1492200"/>
            <a:ext cx="8763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10D-C652-4839-9038-0BA3F9B8E47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ifficult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onfused with conditions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ful to trace a transaction’s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vents left to desig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System contro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rotect system integ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Perfect technology assum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fer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965-3E06-4849-AFEB-70CA0A5CD86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Actions that Lead Up to Only One Event Affecting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5EB-C29E-4CB2-9DEC-6BF763E343A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“Transactions”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ne Specific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ing in Many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18B-839E-4453-A078-F61EA76C8AE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Deferred Until the Desig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440-058B-455E-A8D8-7788F6DBD06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in the RMO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external events involv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checks item availability, customer places order, customer changes or cancels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ternal events involv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pping fulfills order, marketing sends promotion to customer, merchandising updates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events include periodic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produce order summary reports, Time to produce fulfillment summary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A9A1-6FF2-4483-BF9E-B663AE5B887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many reasons for creating information system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ree types of models and list some specific models used for analysis and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events can be used to define activities and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analyze events to which a system resp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the concept of “things” in the problem domain also defines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similarities and the differences between data entities and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analyze data entities and domain classes needed in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, interpret, and create a class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0F1A-5FCC-41F1-B43B-A0D7BE56ABA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Each Ev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Event Table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of Information about Each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C0A-B672-4C99-8BA2-7A78DFD4D2C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Event T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6 par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44C-6814-4A87-B5DF-AEB6B804905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” in the Problem Do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ystem requirements by understanding system information that needs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information about things in the problem domain that people deal with when they do thei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s identify these types of things by considering each use case in the even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ings does the system need to know about and store information abo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39A-CECC-46AF-BFC7-802EB54308C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152280" y="1239840"/>
            <a:ext cx="8839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A1F5-8307-456C-B581-FC1A7D3598F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for Develop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List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Using the event table and information about each use case, identify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Using other information from existing systems, current procedures, and current reports or forms, add items or categories of informat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Refine list and record assumptions or issues to exp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20E-BB02-44D4-B3D8-CA383F7E7A8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ly occurring association among specific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 in two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associations is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ardina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ultipl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specific piece of information about a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004-AC22-4AEA-B22E-C00D3B323D0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Naturally Occur Betwee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228600" y="1409760"/>
            <a:ext cx="86104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D1B-378F-4366-A479-6412BDA4777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ity/Multiplicity of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1170-D5D3-4081-A1F2-2D4900099E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98BF-D4BA-4BEB-A765-B93A2AF4410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system needs to store data about in traditional I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d with entity-relationship diagram (E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odel used to create the database design model for relation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E1F-4066-4482-BD36-160C077F479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 describes information system requirements using a collection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s require more than one type of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represent some aspect of the system being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reating models helps analyst clarify and refin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ssist communication with system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BCD-3E1A-42F4-83E1-733AFBB220D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do the work in a system and store information in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behaviors an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ype of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Obj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ach specific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etho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haviors of objects of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ontain values for attributes and methods for operating on thos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encapsu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lf-contained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A85-4DE2-4BB2-8308-C15FE03C38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ities Compared with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3BBE-7900-4F92-BA51-91765EDE2AA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ass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things in the users’ work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define requirements for OO (very similar to entities in E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software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s methods as behavi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the design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AD8-CB83-4785-8309-8F01596A001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Class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371600" y="1211400"/>
            <a:ext cx="6477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0A22-DF57-4F1A-AFB0-4CE35AB58D7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omain Mode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2459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457200" y="44197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ethods shown in doma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classes are not software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similar to ERD in Figure 5-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L and domain model can be used in place of ERD in traditional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BB25-EB1B-4A8C-BF34-72C51B0B9D0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ity of Associ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F44C-84B3-48C2-8D6E-BAE4BCC72C5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Course Enrollment Domain Model Class Dia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028960" y="1457280"/>
            <a:ext cx="5238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195-6237-4522-8862-89BB179A5C2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Model with Association Class and Grade 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28" descr=""/>
          <p:cNvPicPr/>
          <p:nvPr/>
        </p:nvPicPr>
        <p:blipFill>
          <a:blip r:embed="rId1"/>
          <a:stretch/>
        </p:blipFill>
        <p:spPr>
          <a:xfrm>
            <a:off x="1284120" y="1376280"/>
            <a:ext cx="6726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4DD-777C-459A-892B-D6D71248E38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x Class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/specialization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superclasses to specialized sub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eritance allows subclasses to share characteristics of their super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part hierarchies (object and its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reg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s can exist separ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s can’t exist separ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 has fingers and th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4B7-820C-4A25-AEFF-396CE1AE968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ization/Specializ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y for Motor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2A1-93CE-4D42-ADCC-87EFF0FD962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models are used in information system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athemat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s that describe technical aspects of the system (i.e., reorder quant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Descrip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rrative memos, reports, or lists that describe aspects of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Graph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agrams and schematic representations of some aspect of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68D6-5B4F-49CA-80B1-5F1816AE12B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ization/Specializ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y for RMO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0FF-7029-4039-9815-5C77D81BFA0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-Part Aggregatio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34" descr=""/>
          <p:cNvPicPr/>
          <p:nvPr/>
        </p:nvPicPr>
        <p:blipFill>
          <a:blip r:embed="rId1"/>
          <a:stretch/>
        </p:blipFill>
        <p:spPr>
          <a:xfrm>
            <a:off x="990720" y="1258920"/>
            <a:ext cx="70866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16C-C55E-437A-AC75-CBCBCB247E3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Domain Mode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184" t="9877" r="0" b="0"/>
          <a:stretch/>
        </p:blipFill>
        <p:spPr>
          <a:xfrm>
            <a:off x="3139920" y="0"/>
            <a:ext cx="529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D8D-D94C-477C-BB02-FEBC214AB7F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lass Diagram Notation: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lasses wi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32" descr=""/>
          <p:cNvPicPr/>
          <p:nvPr/>
        </p:nvPicPr>
        <p:blipFill>
          <a:blip r:embed="rId1"/>
          <a:stretch/>
        </p:blipFill>
        <p:spPr>
          <a:xfrm>
            <a:off x="228600" y="1512720"/>
            <a:ext cx="87631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92D-EA79-4A15-82C1-3714963B38B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133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Course Enrollment Design Class Dia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31" descr=""/>
          <p:cNvPicPr/>
          <p:nvPr/>
        </p:nvPicPr>
        <p:blipFill>
          <a:blip r:embed="rId1"/>
          <a:stretch/>
        </p:blipFill>
        <p:spPr>
          <a:xfrm>
            <a:off x="2827440" y="152280"/>
            <a:ext cx="562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EBE-EA01-4F82-8571-F548A4F667A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 Are He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685800" y="817560"/>
            <a:ext cx="7620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319-7A3E-4ECB-816F-4AD54EBECBD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ph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ines system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created to further learning process, reduce complexity, communicate with team members, and documen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al, descriptive, graphical models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early step in modeling is to identify an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that require a use case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users deal with in wor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s (activities) are identified from user goals and business events that trigger elementary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events (external events, temporal events, and state events) are memorable, can be described, and occur at a specific time and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able records event, trigger, source, use case, response, and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” are what user deals with and system remembers, such as customer placing a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approach uses entity-relationship diagrams (ERD) for data entities, attributes of data entities, and relationship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approach uses UML class diagrams for classes, attributes, methods of class, and associations among cla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class diagram (requirements ac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lass diagram (design ac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F5B0-2372-4D02-BB15-4B6351808A0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Models U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alysis and 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activity named “define system requirem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detail without regard to specific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ph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mode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echnical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 log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4D2-7BBD-4877-86BD-FDAB286E673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3619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Created by Analysi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3089160" y="228600"/>
            <a:ext cx="5276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363-BAC7-457C-8C5D-1BAAF180A50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Used i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CA9-A20A-476E-A006-DBE2BF8EB30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, Activities, and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tivity the system performs in response to a user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case” where the system is used by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for identifying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ask performed by one user, in one place in response to a business event, that adds measurable business value, and leaves system and data in con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ecomposi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D analysis technique (create, read, update,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B37-C544-42BB-BDDB-80F5863D8F1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Use Cases Based on Use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18:54Z</dcterms:modified>
  <cp:revision>350</cp:revision>
  <dc:subject>Systems Analysis and Design</dc:subject>
  <dc:title>Chapter 5</dc:title>
</cp:coreProperties>
</file>