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0E609-EA4A-40BB-BE4E-B865F6AC2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862B6-3FB1-4D7B-88F7-DD29F5BE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CDA22-2E23-4D64-9FF1-EDB7A364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D1EA4E-5DC0-4583-82CF-78E15BB60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28D4A8-651E-453F-B868-69E849E1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147B5-057E-4E45-BBA5-2F7D17173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5A1CB-6FF7-41FA-A0EE-FFDDDC7E6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8C3AD7-832F-4499-8D2F-8A633AC10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57E5D0-5FC5-46C3-B10B-724072393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29E3B0-A88E-4814-BBCE-DBBDF7102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F8E3B1-CFEB-4BA2-8872-BA10DE9C4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52091-609F-4A8D-8EC7-00C859FE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41BC1-43F9-4181-B812-51A4EF5AE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DD7489-04E5-4CB1-B2F1-0DE1F6F48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6A54C1-F010-4E36-94F8-F68FDFA9A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0E56EA-C5E3-4304-9DE3-19EC74DA7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3ED233-AD62-42AF-B88A-1DD09EEE8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5F3D48-A378-487B-B730-872707BB8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32976-2523-4D8A-BDEA-286CA056D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98A5C-7968-46D4-8F02-03642FED3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041EFB-C96C-4A7C-9A77-4B19A3614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9262A-116A-4BB9-8561-8AB8C3D9A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6AC95B-F25A-4ED4-8C75-8012A600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A03239-EFA7-4494-99A4-B8B70C63A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329ECC-335A-4E49-8156-15EE78185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6D9185-B2A8-4988-98DB-7C14236D3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983046-C983-4ED4-808B-400068C21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040B9A-0649-4075-B825-9363C9B9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B37E1-FF73-44B0-B322-8D0C88BCB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987D9A-9960-47A5-A0D4-A6858E877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2EE0C7-04EE-4D9A-A6BA-34DA69C33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4B5F8-EC5E-41B8-BA7D-D988A8766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1F9489-DD78-4C08-BACB-E0D722E7F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DFC25-FEC1-4E4F-B1A2-D043A3E47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6E303-30C3-4D7A-8F2E-A0091ACFC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9D15EA-DBD3-40F7-9067-F48C93A11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C33FAE-B7B6-4999-8000-97FD6E2D2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88F4A2-AFE0-4B34-8BA4-F95BEA16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99722-67C9-45A8-B570-46BDE1003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1FD1C-35A3-481D-A191-11D3E3994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87CBE6-88F3-432E-99B0-2F68E9D6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B9047-F262-4808-8486-5E21D3D9E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E90DCE-B3CE-4AA0-90AE-02379369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0CD367-2FAF-49D7-BD84-09AFB0C8A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7A2AD-1CE3-4752-8F50-F18B9BF5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4A8E2F-506B-409D-B32E-7927ACB63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D9FB6-3F9B-473C-A557-648BC7D0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F299-F762-448E-A386-D3698FED6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E9E7-D9FA-400A-AF73-FED633AE9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5DAF-3B0E-45C2-8BEF-F82FE2260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358D-D99D-4DED-BB77-86DC60277E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C699-CDC2-4B7E-BD94-FA23AD346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3305-741F-4E61-A57A-806CB9F79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E121-906E-48FE-874E-59BF55701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E114-D1F1-44F0-9B53-F55F51564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F767-A56C-4E70-A7AA-D0C27ED92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F5E4-32F2-4548-8D89-E932E9043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6807-5D74-4570-83C8-D95661205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BAD3-CECC-43DB-95BB-1E15650F7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0E94-8360-4367-B1CB-4BB656DC00F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52280" y="1557360"/>
            <a:ext cx="8839440" cy="49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7FBC-1981-46A6-A34B-2B406C3B8F1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events trigger elementary business processes (EB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Ps are at correct level of analysis for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business events to decompose system into activities/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ecomposition is, therefore, us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ditional approach to identify activ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O approach to identify us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0459-911A-48DD-B90B-DEEB6FBF342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sid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ted by external agent or 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Tempo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 as result of reaching a point in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system dead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hing inside system triggers processing n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93A8-4C29-4FBA-B0DF-547534C24C2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Affecting a Charge Account Processing System that Lead to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4133-9626-4357-91AF-ADCCDC103DE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Event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5C4E-31BE-4419-883B-C4244034C75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l Event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1"/>
          <a:stretch/>
        </p:blipFill>
        <p:spPr>
          <a:xfrm>
            <a:off x="152280" y="1492200"/>
            <a:ext cx="8763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6815-982A-40FC-9F4F-296637FFA91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ifficult to de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onfused with conditions and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seful to trace a transaction’s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events left to design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System contro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protect system integ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Perfect technology assum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fers ev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7605-37F9-4DE3-B1F1-572BBACF40E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of Actions that Lead Up to Only One Event Affecting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92468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A9ED-75A7-43A8-A45A-03E6412D721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 of “Transactions”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One Specific Custo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ing in Many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839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D405-B86D-40FC-B5B0-EBA9DCED93C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Deferred Until the Desig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16AC-6471-4991-8F16-76A4EA32E66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in the RMO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external events involve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 checks item availability, customer places order, customer changes or cancels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ternal events involve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pping fulfills order, marketing sends promotion to customer, merchandising updates cata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l events include periodic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produce order summary reports, Time to produce fulfillment summary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AD9F-CCED-4478-8379-1251FC1A9BC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the many reasons for creating information system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ree types of models and list some specific models used for analysis and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how events can be used to define activities and use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analyze events to which a system respo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how the concept of “things” in the problem domain also defines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the similarities and the differences between data entities and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analyze data entities and domain classes needed in the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, interpret, and create a class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4E7F-06FD-4E06-A05E-CE630DC403D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Each Ev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Event Table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 of Information about Each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0E34-8682-4BC8-B800-8F85DF84A15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O Event T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5-6 part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6E0D-BB7E-4300-930D-4ED10234ABC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” in the Problem Do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system requirements by understanding system information that needs to be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information about things in the problem domain that people deal with when they do thei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ts identify these types of things by considering each use case in the event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hings does the system need to know about and store information abou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D5E4-0D8F-4A06-B276-7AD768C44433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1"/>
          <a:stretch/>
        </p:blipFill>
        <p:spPr>
          <a:xfrm>
            <a:off x="152280" y="1239840"/>
            <a:ext cx="88394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53C6-6EEB-4D45-9BA1-7DB5A47935F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 for Developing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List of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2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Using the event table and information about each use case, identify 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u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Using other information from existing systems, current procedures, and current reports or forms, add items or categories of information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Refine list and record assumptions or issues to exp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132D-C2FA-493E-990C-4D71ECCA1C5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ly occurring association among specific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 in two dir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associations is </a:t>
            </a: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cardinal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multipl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specific piece of information about a 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4442-2A66-4B4D-A97E-18951043A92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Naturally Occur Betwee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1"/>
          <a:stretch/>
        </p:blipFill>
        <p:spPr>
          <a:xfrm>
            <a:off x="228600" y="1409760"/>
            <a:ext cx="86104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8AE0-1E63-4E9A-A017-E1600FF0767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nality/Multiplicity of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839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16BF-7B7D-4C02-AE33-721151F49DC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ributes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1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839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F766-FCA3-4DF3-88CE-3D2A181F73C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system needs to store data about in traditional I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d with entity-relationship diagram (E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model used to create the database design model for relational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1AEA-62F1-4CEF-A4A0-994D7CC0F00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and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t describes information system requirements using a collection of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stems require more than one type of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represent some aspect of the system being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of creating models helps analyst clarify and refine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assist communication with system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D146-2210-4E94-960C-EA208979DFE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do the work in a system and store information in the 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have behaviors and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Clas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ype of 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Obj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ach specific 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Metho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haviors of objects of the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contain values for attributes and methods for operating on those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bject is 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encapsul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self-contained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DFB5-FE2C-4D9F-926B-4CB1787A77C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Entities Compared with Ob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A78D-DD34-461F-8D42-8E8C62F4CCC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lass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Modeling Language (UML)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mode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s things in the users’ work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define requirements for OO (very similar to entities in ER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s software clas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s methods as behavio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in the design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6342-CC47-488B-BD75-9EADD5627DC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L Class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371600" y="1211400"/>
            <a:ext cx="6477120" cy="52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7EB1-8643-4F93-B889-FC4D1F539C1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Domain Model Cla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63120" cy="24591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9"/>
          <p:cNvSpPr/>
          <p:nvPr/>
        </p:nvSpPr>
        <p:spPr>
          <a:xfrm>
            <a:off x="457200" y="441972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10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methods shown in domai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classes are not software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similar to ERD in Figure 5-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ML and domain model can be used in place of ERD in traditional approa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65C6-067E-40C7-8672-5B9B81A4AC8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ity of Associ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5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28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0284-9544-402D-A479-F42F8A27C43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Course Enrollment Domain Model Class Diagr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gure 5-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028960" y="1457280"/>
            <a:ext cx="5238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8973-7C4B-43E3-AFBC-19D895F2EBE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d Model with Association Class and Grade Attrib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28" descr=""/>
          <p:cNvPicPr/>
          <p:nvPr/>
        </p:nvPicPr>
        <p:blipFill>
          <a:blip r:embed="rId1"/>
          <a:stretch/>
        </p:blipFill>
        <p:spPr>
          <a:xfrm>
            <a:off x="1284120" y="1376280"/>
            <a:ext cx="67262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B1A5-113E-4ABB-9635-546EC2BD201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lex Class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ation/specialization hierarc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superclasses to specialized sub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heritance allows subclasses to share characteristics of their super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-part hierarchies (object and its pa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greg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ts can exist separa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ts can’t exist separa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 has fingers and thu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C4B0-3D6C-4455-936A-9061B701549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ization/Specializ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Hierarchy for Motor Veh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03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F3C4-2C95-437F-AD96-6ADC00AD638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2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ypes of models are used in information system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9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Mathematic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mulas that describe technical aspects of the system (i.e., reorder quant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9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Descrip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arrative memos, reports, or lists that describe aspects of th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9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cc"/>
                </a:solidFill>
                <a:latin typeface="Arial"/>
              </a:rPr>
              <a:t>Graph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agrams and schematic representations of some aspect of th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77A2-94C4-4258-A1AA-E0CF6511BE6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ralization/Specializ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Hierarchy for RMO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0F2F-0B9D-4E6D-AB7F-979FFAC3634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-Part Aggregation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34" descr=""/>
          <p:cNvPicPr/>
          <p:nvPr/>
        </p:nvPicPr>
        <p:blipFill>
          <a:blip r:embed="rId1"/>
          <a:stretch/>
        </p:blipFill>
        <p:spPr>
          <a:xfrm>
            <a:off x="990720" y="1258920"/>
            <a:ext cx="70866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5A42-68C8-4A8B-894B-B5B20CF7F31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243828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O Domain Model Class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3184" t="9877" r="0" b="0"/>
          <a:stretch/>
        </p:blipFill>
        <p:spPr>
          <a:xfrm>
            <a:off x="3139920" y="0"/>
            <a:ext cx="52977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195A-C29C-4BB9-8A0C-00157FC0F8D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Class Diagram Notation: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Classes with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32" descr=""/>
          <p:cNvPicPr/>
          <p:nvPr/>
        </p:nvPicPr>
        <p:blipFill>
          <a:blip r:embed="rId1"/>
          <a:stretch/>
        </p:blipFill>
        <p:spPr>
          <a:xfrm>
            <a:off x="228600" y="1512720"/>
            <a:ext cx="87631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08E7-E568-4D71-A989-27714869BBF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21337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ed Course Enrollment Design Class Dia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31" descr=""/>
          <p:cNvPicPr/>
          <p:nvPr/>
        </p:nvPicPr>
        <p:blipFill>
          <a:blip r:embed="rId1"/>
          <a:stretch/>
        </p:blipFill>
        <p:spPr>
          <a:xfrm>
            <a:off x="2827440" y="152280"/>
            <a:ext cx="56228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878C-93C5-440E-95D1-301F4314378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You Are He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685800" y="817560"/>
            <a:ext cx="762012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BAD4-4C8B-4776-822C-CD2C4995213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ph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ines system requir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created to further learning process, reduce complexity, communicate with team members, and document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ematical, descriptive, graphical models u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early step in modeling is to identify an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that require a use case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 users deal with in wor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s (activities) are identified from user goals and business events that trigger elementary busines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events (external events, temporal events, and state events) are memorable, can be described, and occur at a specific time and 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table records event, trigger, source, use case, response, and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gs” are what user deals with and system remembers, such as customer placing an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approach uses entity-relationship diagrams (ERD) for data entities, attributes of data entities, and relationships between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-oriented approach uses UML class diagrams for classes, attributes, methods of class, and associations among cla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model class diagram (requirements ac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lass diagram (design activ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D8E8-8B74-4D22-9CCD-1DD94FC67F0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Models Us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alysis and Desig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phase activity named “define system requirem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detail without regard to specific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ph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al mode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technical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 logic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88C7-0908-48AE-9FF2-5DFF8BFE2B1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236196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Created by Analysis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3089160" y="228600"/>
            <a:ext cx="5276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CD8D-3AFB-42EC-A570-F41F842BF2E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Used i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6446-B58F-49EF-8709-7769E2383CE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, Activities, and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ctivity the system performs in response to a user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“case” where the system is used by a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for identifying use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user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goal at the elementary business process (EBP) level is a u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task performed by one user, in one place in response to a business event, that adds measurable business value, and leaves system and data in consisten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 decomposition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UD analysis technique (create, read, update, dele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F879-20D3-40B3-B3DE-EEF0FF9B5402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Use Cases Based on User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ohn Satzinger</dc:creator>
  <dc:description/>
  <dc:language>en-US</dc:language>
  <cp:lastModifiedBy>A</cp:lastModifiedBy>
  <cp:lastPrinted>2002-03-03T02:56:24Z</cp:lastPrinted>
  <dcterms:modified xsi:type="dcterms:W3CDTF">2012-09-23T23:18:54Z</dcterms:modified>
  <cp:revision>350</cp:revision>
  <dc:subject>Systems Analysis and Design</dc:subject>
  <dc:title>Chapter 5</dc:title>
</cp:coreProperties>
</file>