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1240" y="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884700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124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E10A24-A9EA-40DC-A11B-0903CA904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A79C0-420E-4C65-B971-31B60DB54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3DD849-47D4-4076-A137-B09C91A5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D64F2-55A5-4519-994E-A3EEBE08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72C887-DA5F-407D-9598-A444C1F61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2180C-8E65-438F-AD8D-BED97943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C9E48D-3AF0-4EAE-B35F-E6EA0CD3A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0FAE2-5706-4411-8B07-D7C8805A9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2CE60F-252E-4E00-B844-70B0AE03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39A4D8-E346-48B0-8643-75199552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130A8-B3B2-4459-B6A6-35FCED703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2E1023-0C92-483D-8386-C9D5E32C5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D8D5FE-0A35-4928-B65C-A6A2DD971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7D7772-F0BA-4097-BE00-EF43A6724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7BBF0-862C-4242-B91C-46765D3D5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3316B-2977-406C-AE12-406847F3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B325E2-D3B0-4AF7-AAF0-6213B335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74E13F-0826-4B92-9887-22B0EC9F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09CA6-5899-4C5E-9142-57ABC506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F90876-D190-462D-B914-AE32B127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84BFF3-B5E7-4F0D-8C4D-A2BD39EF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E0C350-448C-4278-A302-1587BFF01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800C24-CE7F-4D84-A446-53AEB42B5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48BF7C-BF2D-46FA-A3FC-94E15987F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B7856D-F82A-4298-BC29-E645B0C16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82DF0-DE0A-41E1-903A-9BE7DE9F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FD330C-5222-450B-BA36-C27926F9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97713E-590A-45D9-B07E-06D1427F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60B548-78CA-454C-9DC5-0B2FB593B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81600" y="8847000"/>
            <a:ext cx="3044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763BF2-71DB-465D-B9EE-8535D942B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6720" y="4422600"/>
            <a:ext cx="5153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BA3D-02D8-48A8-BCE6-8EB2D128A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FA1B-35A3-4332-821B-9F3D806DF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B8A4-F835-4681-85AE-1EFD234B0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37160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958560"/>
            <a:ext cx="26985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AE11-9704-495E-8C10-1242F7F7AB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3E32-297A-47F7-89AF-B59851AF23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78D8-A6C7-4DDD-9479-106F4FC96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3015-B253-44F9-9C09-25E97D1B0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49DA-E970-4B50-9812-120FF638B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9FB4-29F7-42EB-8CEA-5F6A0BAF4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458B-6415-49BD-AC42-023AD4F92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95856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2143-96EA-4C38-855E-50C1F6B8D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371600"/>
            <a:ext cx="40903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5856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A607-8575-4DAC-8FAF-A7FA0B38A9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66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Object 5"/>
          <p:cNvGraphicFramePr/>
          <p:nvPr/>
        </p:nvGraphicFramePr>
        <p:xfrm>
          <a:off x="8458200" y="0"/>
          <a:ext cx="68580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0"/>
                    <a:ext cx="6858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Text Box 6"/>
          <p:cNvSpPr/>
          <p:nvPr/>
        </p:nvSpPr>
        <p:spPr>
          <a:xfrm>
            <a:off x="8610480" y="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A86B-B068-4825-9BEF-ACE91E86CDD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ystems Analysis and Design in a Changing World, Fourth Ed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F824-95D9-4312-9192-B75996A3BF1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s of RMO Order Entry Sub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ith package symb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457200" y="1468440"/>
            <a:ext cx="83818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C35D-0AEC-42A0-8BE3-31D315C2AFB8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&lt;Includes&gt;&gt;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situation in which one use case requires the services of a common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use case is developed for this common subrou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 use case can be reused by multiple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1447920" y="2951280"/>
            <a:ext cx="609588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7CBA-94EC-41B6-AE95-3726FE80BD91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UD Analysis for Identifying/Confirming Use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CRU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reate, read/report, update, de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ngineering (IE) technique to identify event table or directly develop use case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identified use cases with domain model class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lass in class diagram must have use cases to support creating, reading, reporting, updating, and deleting objec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s system integratio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2260-C559-41B9-B5DB-EE11BF2A34D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Use cas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details of preconditions, postconditions, sequence of activities, and exception conditions in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acting with computer system step-by-step to carry out busines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have several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cenari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use case, each a specific </a:t>
            </a: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use case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levels of detail: brief, intermediate, and fully developed descri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nalysts prefer to write narrative descriptions of use cases instead of drawing activity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83D2-1F1E-4044-8A6D-77D5C696712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2280" y="1447920"/>
            <a:ext cx="8839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E9E9-09AD-4598-8E8A-18941E925AB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2280" y="1368360"/>
            <a:ext cx="8839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1151-490F-4541-96A8-56A5485D974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 Detail from Fully Developed Use Case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52280" y="1886040"/>
            <a:ext cx="88394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C165-8F95-46B6-A906-E2AB201DCF3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document workflow of business process activities for each use case o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UML 2.0 diagram as seen in Chapt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upport any level of use case description; a supplement to use cas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5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in developing system sequenc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3817-5DE3-499E-A79E-ACE3EE6C2079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lephone Order Sce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>
            <a:lum bright="-6000"/>
          </a:blip>
          <a:srcRect l="38163" t="0" r="0" b="0"/>
          <a:stretch/>
        </p:blipFill>
        <p:spPr>
          <a:xfrm>
            <a:off x="3657600" y="152280"/>
            <a:ext cx="4791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5F10-67A8-4FB0-9789-BE6A1A288B5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Inputs and Out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ystem sequence diagram (SSD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ype of UML 2.0 interac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model input and output messaging requirements for a use case o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actor interacting with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sequence of interactions as messages during flow of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s shown as one object: a “black bo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2E1-BC0D-4D06-BCE4-4665C7AB2D6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se cas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use case and scenario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ctivity dia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system sequenc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UML diagrams work together to define functional requirements for the object-orien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B569-04AF-4BE6-B202-799B077D65CA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09480" y="2286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Sequence Diagram (SSD)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609480" y="1322280"/>
            <a:ext cx="79250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61B1-DF72-441B-9E6E-C33F4121835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ed by a stick figure – a person (or role) that interacts with system by entering input data and receiving outp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Obj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rectangle with name of object underlined – shows individual object and not class of all similar objects (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S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Lifel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 object lif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ertical line under object or actor to show passage of time for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Mess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labeled on arrows to show messages sent to or received by actor 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797A-F0D7-4653-8964-E02CD44AAB3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Lif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line under object or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passage of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vertical line da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on and destruction of thing is not important for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narrow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ation lifelines emphasize that object is active only during part of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FF92-C8C1-43CD-80FF-0A2871EACBFB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D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events identified by the flow of objects in a scen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rom one actor or object to another to do som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99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e a particula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0D4E-B9B0-4617-B6A8-175728FECCCD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281952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ing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1">
            <a:lum bright="-6000"/>
          </a:blip>
          <a:srcRect l="31460" t="0" r="0" b="0"/>
          <a:stretch/>
        </p:blipFill>
        <p:spPr>
          <a:xfrm>
            <a:off x="3200400" y="152280"/>
            <a:ext cx="5638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4EDB-4D3B-4C8C-B9F4-F3C4DF86048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System Sequenc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with detailed description of use case from fully developed form or activity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input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message from external actor to system using message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add any special conditions on input message, including iteration and true/fals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nd add output return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D154-4CCC-4332-8DAB-122516CC60C0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Diagram and Resulting SSD for Telephone Order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8320" y="1219320"/>
            <a:ext cx="4144680" cy="525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920" y="1219320"/>
            <a:ext cx="4051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A7B-853D-4564-9180-91C724D96907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ng Object-Orien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use case diagram is needed to understand total scope of new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model class diagrams should also be as complete as possible for enti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erative approach, only construct use case descriptions, activity diagrams, and system sequence diagrams for use cases in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a new diagram often helps refine and correct previous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D749-0379-449B-ABCF-572163F5844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Between O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36" descr=""/>
          <p:cNvPicPr/>
          <p:nvPr/>
        </p:nvPicPr>
        <p:blipFill>
          <a:blip r:embed="rId1"/>
          <a:stretch/>
        </p:blipFill>
        <p:spPr>
          <a:xfrm>
            <a:off x="0" y="1523880"/>
            <a:ext cx="899172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F811-0905-4892-9EEE-F5E03D6F1E4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approach has complete set of diagrams that define 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specified using following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model class diagram (Chapter 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iagrams (Chapter 7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case detailed models, either descriptive formats or activity diagrams (Chapter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sequence diagrams (Chapter 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1E4C-EFF7-4FA9-B433-7ABF6AB9330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modeling notation is Unified Modeling Language (UML 2.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L was accepted by Object Management Group (OMG) as standard modeling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Object Manage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theory and practice of object-oriented technology for development of distribu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ommon architectural framework for 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system requirements are specified and documented through process of building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process starts with identification of use cases and problem domain classes (things in users’ work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vents trigger elementary business processes (EBP) that new system must address a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es define 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C072-F808-4502-877F-73748A384CE4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Requirement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tify actors and their use cases (goal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details of a use case and how actors use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ystems sequence diagrams (SSD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inputs and outputs and sequence of interactions between user and system for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ivity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user and system activities for a use c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State machine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ates of each object (we will not use these diagrams in MIS 1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86C6-E89B-4E0E-9CFF-CD4E634F77BF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se Case/Scenario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analysis used to identify and define all business processes that system mus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Use ca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an activity a system carried out, usually in response to a user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rial"/>
              </a:rPr>
              <a:t>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le played by u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251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side automation bounda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9505-47DB-450C-A2F3-D512D3710506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Identifying Use C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iew from Chapter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us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oal at the elementary business process (EBP) level is a u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800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sk performed by one user in one place and in response to business event that adds measurable business value, and leaves system and data in consist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ecomposition technique (event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100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 analysis technique (create, read/report, update, delete) to ensure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B4EE-B65C-4620-A140-79031D09FEEE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al UML diagram that summarizes information about actors and us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diagram shows overview of functional requi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01"/>
              </a:spcBef>
              <a:buClr>
                <a:srgbClr val="00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ave multiple use case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sub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599"/>
              </a:spcBef>
              <a:buClr>
                <a:srgbClr val="006699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B557-CC05-40A9-A388-1BF86222B63C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Use Case with an 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533520" y="1914480"/>
            <a:ext cx="81532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08B9-4166-41C2-9EB4-356719574435}" type="slidenum">
              <a:rPr b="0" lang="en-US" sz="2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se Diagram with Automation Bounda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ternate Actor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5:36:56Z</dcterms:created>
  <dc:creator>John Satzinger</dc:creator>
  <dc:description/>
  <dc:language>en-US</dc:language>
  <cp:lastModifiedBy>A</cp:lastModifiedBy>
  <cp:lastPrinted>2002-03-03T02:56:24Z</cp:lastPrinted>
  <dcterms:modified xsi:type="dcterms:W3CDTF">2012-09-23T23:22:16Z</dcterms:modified>
  <cp:revision>356</cp:revision>
  <dc:subject>Systems Analysis and Design</dc:subject>
  <dc:title>Chapter 7</dc:title>
</cp:coreProperties>
</file>