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46CC0-30CF-43F9-8F26-09FC7A02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02E69-82AA-49C2-A581-9EA4E48E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DBCED-C202-47DF-98B3-4FDD4F2D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92A11-7640-4E1E-BDC9-A3AAF8C4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0E634-45C1-4DB0-A4E2-AA98E051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17DA1-40F0-4ADD-A065-B00405B3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4D5A2-1F83-443B-84E7-4F5935B8D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0875D-948F-402E-AAA9-D86AE7F9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88E50-EBFC-4347-9E43-85F00940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B8B4F-D499-49CE-BA35-3A1209EC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CB307-E058-4378-A9B5-34EEE295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32A9E-990E-4D44-81F5-3346905A6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9609F-CD17-4B2F-A719-29ECE767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F74C7-F603-44E5-B661-EF847F44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1F3A3-A8AD-424B-BB5E-93D1A5AA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E355C-A5A5-487F-B55D-F4D89BAA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900FC-235E-4161-966A-C0390002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64049-7211-497D-95C0-62DE5E39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8406E-B2FA-47D5-9E08-BFF8ABA5E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AAEB1-6426-4850-9ADD-11563F9C1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5FE5E-C994-445A-BDD2-83C09F01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BE6EA-1155-4E75-8650-170BB3A6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2F5A6-4F15-42D4-90C3-714E7724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02B24-207B-4825-8270-AEF209FF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07FFA-B055-44EB-AB8C-5D700BC77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910F8-CDE2-4408-9C4A-619485BE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CF20C-20A0-4515-9FED-16B6FA93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08901-F366-42A9-BD79-6F8FBCB2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AAA25-97B9-48D8-8403-98EC2A88D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12CD7-FA1E-4F70-9B6E-FBE38A36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E9EC-F9FA-4177-92B1-23D1A6E2D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B90B-0944-4E1B-B73C-ED1C2D2B6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79AE-613A-4154-84B1-4E2010676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AF1E-D414-41AF-992B-A6FAFD750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C5D3-591A-45A4-AB3A-68CD9515B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4176-DBA2-472E-971B-F6AA840E1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BCB6-2163-4C94-81D5-92D1A40F2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8DF5-314F-4A73-AB0A-98C094794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5DD3-9A75-42F4-B45E-5E2EBD8C7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1E69-3194-4089-9365-2EF48139D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7563-DBE4-42D6-B1D7-154AB1FB8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FCE0-3D26-4280-8F29-CEB66A662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7478-1DA8-4009-AEF7-8775029922E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55CC-0EF4-4B41-8949-A3F6741A071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of RMO Order Entry Sub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package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457200" y="1468440"/>
            <a:ext cx="83818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0501-5477-4364-805D-ACDCFE30E6F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&lt;Includes&gt;&gt;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situation in which one use case requires the services of a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 case is developed for this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use case can be reused by multiple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1447920" y="2951280"/>
            <a:ext cx="60958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790-F894-4D8E-9D6B-8141891C8FF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D Analysis for Identifying/Confirming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RU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, read/report, update, 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ngineering (IE) technique to identify event table or directly develop 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identified use cases with 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in class diagram must have use cases to support creating, reading, reporting, updating, and deleting objec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system integr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893C-91BC-4889-A0D5-6EA98BC0CB7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details of preconditions, postconditions, sequence of activities, and exception conditions in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acting with computer system step-by-step to carry out 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several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cenar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use case, each a specific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detail: brief, intermediate, and fully developed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nalysts prefer to write narrative descriptions of use cases instead of drawing activity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D6D-52A0-4AD6-B130-0838E334E80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280" y="144792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2716-392D-4643-8F52-173AFDF65E0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368360"/>
            <a:ext cx="8839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CBE-11E7-4273-993B-E8835CD7F16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52280" y="1886040"/>
            <a:ext cx="8839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C65B-B923-4432-8FF3-A068E9E8666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ocument workflow of business process activities for each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ML 2.0 diagram as seen in 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upport any level of use case description; a supplement to use cas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in developing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BB53-0918-4B85-AC5A-4DFB056693E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ephone Order Sce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>
            <a:lum bright="-6000"/>
          </a:blip>
          <a:srcRect l="38163" t="0" r="0" b="0"/>
          <a:stretch/>
        </p:blipFill>
        <p:spPr>
          <a:xfrm>
            <a:off x="3657600" y="152280"/>
            <a:ext cx="4791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9406-26DD-4AC1-831D-2FE08C2EED9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Inputs and Out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 sequence diagram (SS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ype of UML 2.0 interac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del input and output messaging requirements for a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actor interacting wi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equence of interactions as messages during flow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shown as one object: a “black 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39C-C4C6-406C-9945-812BD6E1D1E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use case and scenario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ctivity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UML diagrams work together to define functional requirements for the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B145-4F0D-4C28-8A78-78B115E904B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equence Diagram (SSD)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609480" y="1322280"/>
            <a:ext cx="79250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7489-7A89-4448-AFA6-B5A363628F0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ed by a stick figure – a person (or role) that interacts with system by entering input data and receiving out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ctangle with name of object underlined – shows individual object and not class of all similar objects (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S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Life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object lif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ical line under object or actor to show passage of time f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abeled on arrows to show messages sent to or received by actor 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0F50-11CD-4DCD-826E-2B7D6EE6071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Lif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 under object o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passage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ertical line da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on and destruction of thing is not important for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narrow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on lifelines emphasize that object is active only during part of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48E-68B0-4071-B797-E6DA03524A7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events identified by the flow of objects in a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rom one actor or object to another to do som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a particula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70CE-D355-4ADA-B149-27FCA12AB8E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>
            <a:lum bright="-6000"/>
          </a:blip>
          <a:srcRect l="31460" t="0" r="0" b="0"/>
          <a:stretch/>
        </p:blipFill>
        <p:spPr>
          <a:xfrm>
            <a:off x="3200400" y="152280"/>
            <a:ext cx="5638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D7BE-A1E9-4F6E-A42E-CAE6C8A5C0F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detailed description of use case from fully developed form or activit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pu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message from external actor to system using messag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any special conditions on input message, including iteration and true/fals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output return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C99E-DD81-41A9-B791-BC61818435F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 and Resulting SSD for Telephone Orde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1219320"/>
            <a:ext cx="4144680" cy="525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920" y="1219320"/>
            <a:ext cx="405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DD8-7A27-4E0B-88F3-E1C3CB638BD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Object-Orien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use case diagram is needed to understand total scope of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model class diagrams should also be as complete as possible for enti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erative approach, only construct use case descriptions, activity diagrams, and system sequence diagrams for use cases in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new diagram often helps refine and correct previous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D099-B8ED-4CBB-8A49-71177E488FF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O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36" descr="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E3B-3F75-4093-928C-FF9A9CD5D2F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approach has complete set of diagrams that define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specified using follow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model class diagram (Chapter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s (Chapter 7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etailed models, either descriptive formats or activity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sequence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C3CD-EA5F-4B85-B71F-9D3F65E54DB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modeling notation is Unified Modeling Language (UML 2.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was accepted by Object Management Group (OMG) as standard model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Object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ory and practice of object-oriented technology for development of distribu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mmon architectural framework for 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system requirements are specified and documented through process of build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process starts with identification of use cases and problem domain classes (things in users’ work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vents trigger elementary business processes (EBP) that new system must address a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define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041-8439-4075-B1FC-E417D833F9B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ify actors and their use cases (go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details of a use case and how actors use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s sequence diagrams (SS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inputs and outputs and sequence of interactions between user and system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ivity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user and system activities for a u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te machin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ates of each object (we will not use these diagram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D28E-D65C-4F5F-9FBE-6411979E4C6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/Scenari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analysis used to identify and define all business processes that system mu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n activity a system carried out, usually in response to a us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played by 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side automation bound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9162-4A35-4352-BC32-7A3713134F9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dentifying Use C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 from Chapte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us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oal at the elementary business process (EBP) level is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sk performed by one user in one place and in response to business event that adds measurable business value, and leaves system and data in consist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ecomposition technique (even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 analysis technique (create, read/report, update, delete) to ensure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8C98-23FE-468B-AA6D-3C59BFF623E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UML diagram that summarizes information about actors and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iagram shows overview of functional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e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91C0-CD72-4BB8-908F-406D964AD63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Use Case with an 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533520" y="1914480"/>
            <a:ext cx="81532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9CF8-10B6-424A-85DE-CD4E77082F8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iagram with Automation Bounda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ternate Actor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ohn Satzinger</dc:creator>
  <dc:description/>
  <dc:language>en-US</dc:language>
  <cp:lastModifiedBy>A</cp:lastModifiedBy>
  <cp:lastPrinted>2002-03-03T02:56:24Z</cp:lastPrinted>
  <dcterms:modified xsi:type="dcterms:W3CDTF">2012-09-23T23:22:16Z</dcterms:modified>
  <cp:revision>356</cp:revision>
  <dc:subject>Systems Analysis and Design</dc:subject>
  <dc:title>Chapter 7</dc:title>
</cp:coreProperties>
</file>