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FF6-1B50-41E8-98A1-F712191FA67B}" type="slidenum"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ACB-2F64-486E-BFEC-5BC6DB222C3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CEB-B608-4CAD-91BF-200FDD628BE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435-93E2-4BE4-BC38-6B54490A6793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04E1-A782-4B35-BD28-C5A04D4173A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FE6-A783-4E9F-8105-1AF62029529B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5E84-FA39-43DC-B70E-DA9D378ECCA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737-3810-4309-9229-18976D84A8D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3E2-7F7B-4A75-BBB2-94E17DA4465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34DA-16CE-49B9-82B5-5C8CC3A4430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B27D-B08A-4AED-9595-F8B6FBC87952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1FF-C275-42B4-A7EC-CD5BBD313CA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CF2-1B3F-4421-B66B-8F09D2404B9A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05B-CC17-4553-90F6-B0F09769032E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4F76-815A-43B2-930C-57C046A61992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455-A8AE-4D56-89B4-9738F84FAB9B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BD48-75A5-461E-9B1C-C56BDE337213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A2CE-2D03-45AA-B98E-A0E7B2ED5893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F21-1796-4F09-9071-DEE331BE54B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85D8-53F4-4D88-9ED6-652304CC4615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BF9F-9249-4F9D-99DA-9D2EF6A074B3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6640" cy="346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3"/>
          <p:cNvSpPr/>
          <p:nvPr/>
        </p:nvSpPr>
        <p:spPr>
          <a:xfrm>
            <a:off x="144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B8F-450C-4D1A-B7DE-497C8E9EF5F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6F6-AE90-4A4D-AF15-907C204E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DBE-2E5F-4F9B-8C2C-0859B893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F601-CE63-423F-AA40-7E76183D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84C1-F188-4327-BFDD-3DE0E7B2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36B-5FB6-4BA8-A88C-88E86310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349F-9473-4818-A045-8522092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A3F-C064-40BD-A767-03A8327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B191-4932-4688-9469-77483E4D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E002-CCDB-4C96-B1DC-9969B67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C0E6-02D2-4127-B457-318B1631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84E7-4652-42C1-8A85-FCBB669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564-7272-4232-B7EC-C15ADECF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F38-6DC5-442A-A86E-257E9199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2DA-EF0F-4606-A293-F67239B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5785-DD99-4613-8163-F56CB8A5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B8E-DB59-4819-8357-B12877B3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6B4-93E9-4573-8881-1B88B950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B42-099D-4C1B-B6C2-2E17751E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15F6-5662-4C42-B217-836910D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4FC-24BE-4C1B-8C29-0720ACEC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1D9-EDA9-4DAB-9861-D81BC95C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9F0-A376-466A-96DF-B354BF3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A8E-2FDE-407C-AF2F-093B87AB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3BF-B53F-4D6B-AEC3-599BEC15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379D-ACD2-4293-897A-D707F2FA10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E50A-BDA5-4501-B81F-E2F9C1B6DB0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elcome to: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Course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473 Peds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r. Ali Abdu Nas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am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CQ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id-Cycle: usually in week 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Final: last week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ly: 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se scenario form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SCE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eek 1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 stations including history taking, physical examination and ora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tra sessions arranged for the whole group should only be on Thurs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fill the course evaluation sheet and submit it during the mid-cycle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: We are here for y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WISH YOU THE BEST OF LU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History Taking in Pediatric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ilar to adults, Plus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tient I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sent Complaint(s) ( C/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istory of Present Complaint(s) (HPI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t Medical History (PM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ona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ystemic Review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amily History (F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ccination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velopmen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erg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is Peds History Different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detai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to draw family pedigre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evel and gr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ship with parents and 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east feeding vs. bot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and frequ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ss Motor: e.g. sitting and wal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Motor:e.g. Pincer grasp and scrib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:e.g. s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wo words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: e.g. smiling, playing with oth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munization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the local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lled or live attenu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y giv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ers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 to d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oa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completing this course, each student is expect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ve general knowledge about pediatr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ter the basic principles and skills of pediatrics that will allow him to work as an efficient and safe inter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arents may exaggerate or mislead you so ask specific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leading questi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 appreciation and empathy with parents anxiety and wor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ware of the sensitivity of some issues in the family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note of the parents beh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eys to Success in this course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ts of clinical expo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 thin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good use of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ad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Practic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. Feedback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commended Readin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5400000">
            <a:off x="1922040" y="1429920"/>
            <a:ext cx="518184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Student s Guide Student</a:t>
            </a: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’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trib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 Major groups A,B,C, and D; each subdivided into 3 subgroups (e.g. A1, A2, A3) total of 12 subgroup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KU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FMC / 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wab in week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utorials: always come prepa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nical sessions: 9-12 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rd rotation: as a sub int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D: AM &amp;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R: 8-12, 12-4,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rsery: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ning report: important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D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r the ward &amp; clinical ses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erk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uld be gen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nd written, readable and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ick to the given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ictly adhere to time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fferent cases, from different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andom Samples will be checked: Cheating =&gt; forbidden from exams &amp; report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1:59:31Z</dcterms:created>
  <dc:creator>DR. Husam</dc:creator>
  <dc:description/>
  <dc:language>en-US</dc:language>
  <cp:lastModifiedBy>ksu</cp:lastModifiedBy>
  <dcterms:modified xsi:type="dcterms:W3CDTF">2010-01-09T07:02:41Z</dcterms:modified>
  <cp:revision>8</cp:revision>
  <dc:subject/>
  <dc:title>Welcome to: Course 473 Peds</dc:title>
</cp:coreProperties>
</file>