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108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388584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108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6BE3-7018-4397-B89A-9D6CC097AC88}" type="slidenum">
              <a:rPr b="0" lang="ar-L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7BE7-1A76-4095-BA4C-D5823281E028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B8D0-2275-4699-A800-9537E774F68D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AC0D-622C-4C7B-A258-4CA3B50E726C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03DB-F42C-49A5-BB0F-4CE5D08661B6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6F56-0368-4730-B836-1F509388BD76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B102-5D5B-44E8-B8F1-85CEE48D90DE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5ADB-E90E-4FAE-928A-120E21B7AB48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354B-C012-4E0C-9617-D2B8497291CC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B5D2-4935-4B36-A3E8-F5406D6E0367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9964-4982-49FA-8B08-2333621B1B12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F224-445E-465E-A881-85D54B996142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7C66-CECF-4B10-8609-44031C1E39B2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93AB-241A-4F16-8805-EF2F25B52FA8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78B4-51CD-4AF8-AAD7-FA6FCF5E9976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D240-EF0F-4952-97A1-B28C0B5A550D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212B-426B-419D-9EC7-2CEB8E4E7915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DEE5-9A32-479D-8F1B-B06B26FF4A27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3E9A-D7BA-41BD-A258-0DA714BE2364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6976-FFF2-4080-84C2-57C79E722A0F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342D-7448-4360-A84C-FD6621A788EB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7CBB-1808-420C-B221-294D3EEEC439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DB4-44A9-4CD0-8337-E4FEA0A2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9F2-E9FD-451F-AE98-C45272A2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947-5585-4291-BC8F-53128BC8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5E0-24F8-4C90-8EDA-B640FAD5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F12E-4870-4C92-8F7B-843162B6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C2C0-CF19-4215-9849-F172A85C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E6A5-8CD3-4A2F-AC82-B33C57AB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A3FA-590B-41D1-8559-CCF5EF0A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9945-0CF4-4EB2-B709-1F1D3170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FF8E-302F-4189-BD19-4F59C7AE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4621-0581-4410-A15D-3209B158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574-D8D0-4C58-A698-0C070AB5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14A1-539C-426B-866F-495235A1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C5C8-F9C7-4A74-AFE2-2D47C430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2A1D-5A48-4E20-AC1A-5AED9001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8A0F-86A5-4BD6-8A26-14103D2F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7549-7B26-4592-AB6D-7F5A4F45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58B-034B-4845-B3E4-2152A4FF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EC8-3900-4062-98FA-7E32BD62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CE2-D11A-40D4-9F38-0751D63D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CF1-C151-42E9-AB5F-0780AA38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9B0-D8E7-47AD-9259-BA165CF1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003-F1A7-4130-9CE2-DC82690A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71D-2786-41E3-83C0-A4A240EF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76A3-98F7-4257-908F-0410871747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2A97-9FF8-44EA-8D43-9CCAADDDAEC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Welcome to:</a:t>
            </a:r>
            <a:br>
              <a:rPr sz="4800"/>
            </a:br>
            <a:r>
              <a:rPr b="0" lang="en-US" sz="4800" spc="-1" strike="noStrike">
                <a:solidFill>
                  <a:srgbClr val="b9efee"/>
                </a:solidFill>
                <a:latin typeface="Garamond"/>
              </a:rPr>
              <a:t>Course</a:t>
            </a:r>
            <a:br>
              <a:rPr sz="4800"/>
            </a:br>
            <a:r>
              <a:rPr b="0" lang="en-US" sz="4800" spc="-1" strike="noStrike">
                <a:solidFill>
                  <a:srgbClr val="b9efee"/>
                </a:solidFill>
                <a:latin typeface="Garamond"/>
              </a:rPr>
              <a:t>473 Peds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r. Ali Abdu Nas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xam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CQ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id-Cycle: usually in week 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inal: last week 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stly: c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se scenario form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SCE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eek 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 stations including history taking, physical examination and ora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xtra Not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xtra sessions arranged for the whole group should only be on Thurs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fill the course evaluation sheet and submit it during the mid-cycle ex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: We are here for yo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 WISH YOU THE BEST OF LUC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9efee"/>
                </a:solidFill>
                <a:latin typeface="Garamond"/>
              </a:rPr>
              <a:t>History Taking in Pediatric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ilar to adults, Plus!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istor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atient I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resent Complaint(s) ( C/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istory of Present Complaint(s) (HPI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ast Medical History (PMHX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regnancy and delive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eonatal History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ystemic Review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amily History (FHX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ocial Histo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accination History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utritional Histo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evelopmental History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rug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lerg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ow is Peds History Different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i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mily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detail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rn to draw family pedigre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ol level and gra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onship with parents and sib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gnancy and deli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tritional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east feeding vs. bott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ount and frequ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lity of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al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ss Motor: e.g. sitting and wal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e Motor:e.g. Pincer grasp and scrib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nguage:e.g. sa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b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wo words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: e.g. smiling, playing with other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munization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ow the local sche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illed or live attenu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are they giv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verse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oi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 to d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Goa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y completing this course, each student is expected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ave general knowledge about pediatric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ster the basic principles and skills of pediatrics that will allow him to work as an efficient and safe inter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IP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parents may exaggerate or mislead you so ask specific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oid leading question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w appreciation and empathy with parents anxiety and wor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ware of the sensitivity of some issues in the family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ke note of the parents behavio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uestions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eys to Success in this course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nct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ts of clinical expos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ritical thin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ke good use of your 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ad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 Practic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. Feedback!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commended Reading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 rot="5400000">
            <a:off x="1922040" y="1429920"/>
            <a:ext cx="51818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Student s Guide Student</a:t>
            </a:r>
            <a:r>
              <a:rPr b="0" lang="en-US" sz="4400" spc="-1" strike="noStrike">
                <a:solidFill>
                  <a:srgbClr val="b9efee"/>
                </a:solidFill>
                <a:latin typeface="Arial"/>
              </a:rPr>
              <a:t>’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8580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istribu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 Major groups A,B,C, and D; each subdivided into 3 subgroups (e.g. A1, A2, A3) total of 12 subgroup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bgroups in KKU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bgroups in KFMC / RM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wab in week 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tivitie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utorials: always come prepa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nical sessions: 9-12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rd rotation: as a sub inter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D: AM &amp; P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R: 8-12, 12-4, 4-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ursery: P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rning report: important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or the ward &amp; clinical ses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tivit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erking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uld be gen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and written, readable and cl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ick to the given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rictly adhere to time limi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fferent cases, from different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andom Samples will be checked: Cheating =&gt; forbidden from exams &amp; reported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1:59:31Z</dcterms:created>
  <dc:creator>DR. Husam</dc:creator>
  <dc:description/>
  <dc:language>en-US</dc:language>
  <cp:lastModifiedBy>ksu</cp:lastModifiedBy>
  <dcterms:modified xsi:type="dcterms:W3CDTF">2010-01-09T07:02:41Z</dcterms:modified>
  <cp:revision>8</cp:revision>
  <dc:subject/>
  <dc:title>Welcome to: Course 473 Peds</dc:title>
</cp:coreProperties>
</file>