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80F0F-F868-4908-9FA2-AFE73B711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4F501-5ED3-4C11-9666-60E936810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78E9A-39EA-4345-BEC1-5764B3847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23E9B-7507-44AE-8A16-F5C764250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7647C-01A0-43A7-A969-0E44116F1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D99AA-AE64-4ECC-9B95-671114B1F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C485C-5C10-4FDC-B5DC-68B965881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BC94A-7709-4A01-AD87-C82844A92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1FC7C-DEB0-4354-ACDB-51636CED8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A80C9-31CC-486B-BEFF-1B5529F0E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BD2AB-EB3C-4C4B-9E43-F1F43423B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D1271-B9D1-42A0-B42C-129D06220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9903B-4F1B-41A8-9DAD-A0EB84EDF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F9DFB-8AE5-4161-8918-8B581E3C9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BBBC2-1DDB-4F3F-814C-0E4AE7869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E85A6-8D25-4945-9C8D-84CF31104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CD334-273E-467D-9BB1-3B1054405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C4B66-3871-43D8-ACDE-0A60A1C06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FD484-818F-47A8-BDBE-807E774F9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1A237-8DB2-4FD6-ADB6-5B61AEAB2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33B2A-3B60-49D7-904D-AAAAB7DDB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06093-9147-4351-8932-848AB62CE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D1D3D-88AC-4581-971B-E01B61664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4991E-6C06-4568-8060-645B2CB7A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C1E4-D393-419D-A747-D574D517BC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1FA0-7DB0-4510-8E46-C5E1FF572B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hat is Language?</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tudy human language, we are approaching what some might call the “human essence” the distinctive qualities of mind that are, so far as we know, unique to man.  (Noam Chomsky, Language and Min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inguistic Knowledge and Performance</a:t>
            </a:r>
            <a:endParaRPr b="0" lang="en-US" sz="38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s a big difference between having the knowledge necessary to produce sentences of a language, and applying this knowledg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is linguistic competenc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this knowledge in actual speech production and comprehension is linguistic perform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inguistic knowledge and performance</a:t>
            </a:r>
            <a:endParaRPr b="0" lang="en-US" sz="38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guistic knowledge is not conscious knowledge.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nguistic system-the sounds, structures, meanings, words, and rules for putting them all together– is learned subconsciously with no awareness that rules are being learned.</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is Grammar?</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ammar of a language consists of:</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ounds and sound pattern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asic units of meaning such as word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rules to combine all of these to form</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ntences with the desired meaning.</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nderstand the nature of language is to understand the internalized, unconscious set of rules that is part of every grammar of every language</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escriptive Grammars</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guists describe a language by describing the grammar that exists in the minds of its speakers.</a:t>
            </a:r>
            <a:endParaRPr b="0" lang="en-US" sz="3200" spc="-1" strike="noStrike">
              <a:solidFill>
                <a:srgbClr val="000000"/>
              </a:solidFill>
              <a:latin typeface="Arial"/>
            </a:endParaRPr>
          </a:p>
          <a:p>
            <a:pPr marL="335880" indent="-3358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knowledge—common parts of the grammar—makes it possible to communicate through language.</a:t>
            </a:r>
            <a:endParaRPr b="0" lang="en-US" sz="3200" spc="-1" strike="noStrike">
              <a:solidFill>
                <a:srgbClr val="000000"/>
              </a:solidFill>
              <a:latin typeface="Arial"/>
            </a:endParaRPr>
          </a:p>
          <a:p>
            <a:pPr marL="335880" indent="-3358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 not tell you how you should speak;</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describes your basic linguistic knowledge.</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scriptive Grammars</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335880" indent="-3358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guists in the past such as the Greek Alexandrians in the first century or the Arabic scholars at Basra in the 8</a:t>
            </a:r>
            <a:r>
              <a:rPr b="0" lang="en-US" sz="3200" spc="-1" strike="noStrike" baseline="30000">
                <a:solidFill>
                  <a:srgbClr val="000000"/>
                </a:solidFill>
                <a:latin typeface="Arial"/>
              </a:rPr>
              <a:t>th</a:t>
            </a:r>
            <a:r>
              <a:rPr b="0" lang="en-US" sz="3200" spc="-1" strike="noStrike">
                <a:solidFill>
                  <a:srgbClr val="000000"/>
                </a:solidFill>
                <a:latin typeface="Arial"/>
              </a:rPr>
              <a:t> century and English grammarians of the 18</a:t>
            </a:r>
            <a:r>
              <a:rPr b="0" lang="en-US" sz="3200" spc="-1" strike="noStrike" baseline="30000">
                <a:solidFill>
                  <a:srgbClr val="000000"/>
                </a:solidFill>
                <a:latin typeface="Arial"/>
              </a:rPr>
              <a:t>th</a:t>
            </a:r>
            <a:r>
              <a:rPr b="0" lang="en-US" sz="3200" spc="-1" strike="noStrike">
                <a:solidFill>
                  <a:srgbClr val="000000"/>
                </a:solidFill>
                <a:latin typeface="Arial"/>
              </a:rPr>
              <a:t> and 19</a:t>
            </a:r>
            <a:r>
              <a:rPr b="0" lang="en-US" sz="3200" spc="-1" strike="noStrike" baseline="30000">
                <a:solidFill>
                  <a:srgbClr val="000000"/>
                </a:solidFill>
                <a:latin typeface="Arial"/>
              </a:rPr>
              <a:t>th</a:t>
            </a:r>
            <a:r>
              <a:rPr b="0" lang="en-US" sz="3200" spc="-1" strike="noStrike">
                <a:solidFill>
                  <a:srgbClr val="000000"/>
                </a:solidFill>
                <a:latin typeface="Arial"/>
              </a:rPr>
              <a:t> centuries  held the view of language change is corruption and there are a certain “correct” forms that all educated people should use in writing and speaking.</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anguage Universals</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ology– the sound system</a:t>
            </a:r>
            <a:endParaRPr b="0" lang="en-US" sz="3200" spc="-1" strike="noStrike">
              <a:solidFill>
                <a:srgbClr val="000000"/>
              </a:solidFill>
              <a:latin typeface="Arial"/>
            </a:endParaRPr>
          </a:p>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phology– the word formation</a:t>
            </a:r>
            <a:endParaRPr b="0" lang="en-US" sz="3200" spc="-1" strike="noStrike">
              <a:solidFill>
                <a:srgbClr val="000000"/>
              </a:solidFill>
              <a:latin typeface="Arial"/>
            </a:endParaRPr>
          </a:p>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the rules of sentence formation</a:t>
            </a:r>
            <a:endParaRPr b="0" lang="en-US" sz="3200" spc="-1" strike="noStrike">
              <a:solidFill>
                <a:srgbClr val="000000"/>
              </a:solidFill>
              <a:latin typeface="Arial"/>
            </a:endParaRPr>
          </a:p>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s—the system of meanings</a:t>
            </a:r>
            <a:endParaRPr b="0" lang="en-US" sz="3200" spc="-1" strike="noStrike">
              <a:solidFill>
                <a:srgbClr val="000000"/>
              </a:solidFill>
              <a:latin typeface="Arial"/>
            </a:endParaRPr>
          </a:p>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gmatics– the rules of the appropriate use of the language.</a:t>
            </a:r>
            <a:endParaRPr b="0" lang="en-US" sz="3200" spc="-1" strike="noStrike">
              <a:solidFill>
                <a:srgbClr val="000000"/>
              </a:solidFill>
              <a:latin typeface="Arial"/>
            </a:endParaRPr>
          </a:p>
          <a:p>
            <a:pPr marL="332640" indent="-3326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se laws representing the universal properties of all languages constitute universal grammar.</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development of grammar</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guistic theory—describing adult speaker’s knowledge of language but also how normal children acquire the languag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m Chomsky proposes that human beings are born with an innate “blueprint” for language also referred as UG—biological endowment.</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ign Languages: Evidence for Language Universals</a:t>
            </a:r>
            <a:endParaRPr b="0" lang="en-US" sz="38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f communities—proof that humans are born with the ability to acquire languag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 language is human language without the sounds.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visual-gestural system that uses hand, body, and facial gestures as the forms to represent word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imal “Languages”</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matter how eloquently a dog may bark, he cannot tell you that his parents were poor but honest.” (Bertrand Russell)</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alking” parrot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rds and the Bees (Spider’s courtship contain invariant gesture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dcalls and bird songs (European robin, rival robins paid attention to high and low pitched note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s’ use of language to communicate is limited and invaria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imal languages</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honey bee dancing behavior  is set to show dist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ound (indicate locations near the h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ckle (20-60 feet from the h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il-wagging ( distance more than 60 fe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is language? (cont.)</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distinguishes human from animals.  E.g. to some people of Africa, a newborn child is a kintu, a “thing,” not yet a muntu, a “person”.</a:t>
            </a:r>
            <a:endParaRPr b="0" lang="en-US" sz="3200" spc="-1" strike="noStrike">
              <a:solidFill>
                <a:srgbClr val="000000"/>
              </a:solidFill>
              <a:latin typeface="Arial"/>
            </a:endParaRPr>
          </a:p>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mean to know a language?</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ak and be understood in the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nguage;</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ability requires profound knowledge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at speakers are not aware of.</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we know about language</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ken language date back at least 1600 B.C.E in Mesopotamia.</a:t>
            </a:r>
            <a:endParaRPr b="0" lang="en-US" sz="32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exists where there are humans.</a:t>
            </a:r>
            <a:endParaRPr b="0" lang="en-US" sz="32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o “primitive” languages. All languages are equally complex and capable to do their function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we know about language</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ll languages change through tim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he relationships between the sounds and meanings of spoken languages and between gestures and meanings of sign languages are for the most part arbitrary.</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uman languages use a finite set of discrete sounds or gestures that are combined to form meaningful elements or words, which themselves are combined to form infinite set of possible sentence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we know about language</a:t>
            </a:r>
            <a:endParaRPr b="0" lang="en-US" sz="42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ll grammars contain rules of a similar kind for the formation of words and sentences.</a:t>
            </a:r>
            <a:endParaRPr b="0" lang="en-US" sz="3200" spc="-1" strike="noStrike">
              <a:solidFill>
                <a:srgbClr val="000000"/>
              </a:solidFill>
              <a:latin typeface="Arial"/>
            </a:endParaRPr>
          </a:p>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ll languages contain discrete sound segments--vowels and consonants.</a:t>
            </a:r>
            <a:endParaRPr b="0" lang="en-US" sz="3200" spc="-1" strike="noStrike">
              <a:solidFill>
                <a:srgbClr val="000000"/>
              </a:solidFill>
              <a:latin typeface="Arial"/>
            </a:endParaRPr>
          </a:p>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All languages have similar grammatical categories.</a:t>
            </a:r>
            <a:endParaRPr b="0" lang="en-US" sz="3200" spc="-1" strike="noStrike">
              <a:solidFill>
                <a:srgbClr val="000000"/>
              </a:solidFill>
              <a:latin typeface="Arial"/>
            </a:endParaRPr>
          </a:p>
          <a:p>
            <a:pPr marL="325800" indent="-32580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Universal semantic properties such as “male” or “female” or “animate” or “human”</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we know about languages</a:t>
            </a:r>
            <a:endParaRPr b="0" lang="en-US" sz="4200" spc="-1" strike="noStrike">
              <a:solidFill>
                <a:srgbClr val="ffffff"/>
              </a:solidFill>
              <a:latin typeface="Arial"/>
            </a:endParaRPr>
          </a:p>
        </p:txBody>
      </p:sp>
      <p:sp>
        <p:nvSpPr>
          <p:cNvPr id="13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Infinite set of sentenc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Any normal child anywhere in the world can acquire language that is exposed to them.</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Language (cont.)</a:t>
            </a:r>
            <a:br>
              <a:rPr sz="3800"/>
            </a:br>
            <a:endParaRPr b="0" lang="en-US" sz="38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Five year olds can function quite proficientl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went to school yesterday (past te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My son Ahmad Shafiq who was born in England and who now lives in San Francisco is an active rock cli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relative clause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nowledge of the sound system</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sounds and (signs) in the language</a:t>
            </a:r>
            <a:endParaRPr b="0" lang="en-US" sz="3200" spc="-1" strike="noStrike">
              <a:solidFill>
                <a:srgbClr val="000000"/>
              </a:solidFill>
              <a:latin typeface="Arial"/>
            </a:endParaRPr>
          </a:p>
          <a:p>
            <a:pPr marL="329040" indent="-32904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ituting your own native sounds to the foreign language, e.g zis and zat (French)</a:t>
            </a:r>
            <a:endParaRPr b="0" lang="en-US" sz="3200" spc="-1" strike="noStrike">
              <a:solidFill>
                <a:srgbClr val="000000"/>
              </a:solidFill>
              <a:latin typeface="Arial"/>
            </a:endParaRPr>
          </a:p>
          <a:p>
            <a:pPr marL="329040" indent="-32904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only the inventory of sounds but the sequence of sounds in the words, e.g ngantuk,nyamuk (Malay); eschool, estop (Spanish), Nekrumah or Enkrumah (Ghanian)</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nowledge of word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sound units that are related to specific meaning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o not know the language, the relationship between the speech sounds and the meanings are arbitrar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house (E), jia (C), rumah (M), casa (S), bait (A), maison (F),dom (R).</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nowledge of words (cont.)</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bitrary relationship between form (sounds) and meaning (concept) is also true in sign language. E.g. CSL and AS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omatopoeic words such as buzz and murmur imitate the sounds associated with the objects or actions they refer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urkey sound in Turkey (glu-glu)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creativity of Linguistic Knowledge</a:t>
            </a:r>
            <a:endParaRPr b="0" lang="en-US" sz="38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of a language enables you to combine words to form phrases, and phrases to form sentenc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am Chomsky refers to it as creative aspect of language use.</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human languages permit their speakers to form indefinitely long sentences; creativity is a universal property of human language</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Knowledge of Sentences and Nonsentences</a:t>
            </a:r>
            <a:endParaRPr b="0" lang="en-US" sz="38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ventory of vocabulary is finite, the rules are finite, but the creation of sentences using these vocabulary and rules are infinit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examples from cl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the words and the rules for forming sentence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at is language?</a:t>
            </a: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en one knows a language, one knows all of the sounds, words and the rules  of the combin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0T20:02:15Z</dcterms:created>
  <dc:creator>Noorchya Yahya</dc:creator>
  <dc:description/>
  <dc:language>en-US</dc:language>
  <cp:lastModifiedBy>Noorchya Yahya</cp:lastModifiedBy>
  <dcterms:modified xsi:type="dcterms:W3CDTF">2012-09-11T08:01:22Z</dcterms:modified>
  <cp:revision>9</cp:revision>
  <dc:subject/>
  <dc:title>What is Language?</dc:title>
</cp:coreProperties>
</file>