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27F09-6303-4A34-81F4-57C729C46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43B4-AFA0-43D0-B7E3-A6742DA2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559B-B147-4279-BCF2-6AB1E8FD0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8B689-F832-4F21-8201-C99833D0E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33642-41F1-419A-95FF-72BD710F1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0F8B0-146A-4305-8670-A82AEAABF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78E7C-84C7-4E29-877E-28B3A49D1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54CD9-CCD5-460F-BE3B-F5B43EE6D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59F00-B3D7-4566-8DBD-D04ECD042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083E1-C895-4366-8D77-38C444EFB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6110F-CDE5-41D7-884C-C7040DB7F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F130-74EB-4370-B18E-51064E1D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96B3D-2FAA-4FC5-AD33-13CE4D874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0585E-7617-4975-A85D-B4644BDDE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49F3A-2E4F-470D-8E1F-EF91D09EF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E4716-85E6-4CFE-B8AA-EC4477FA6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E6FE4-8F79-40DB-8C7A-208C568E3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F2CF1-6636-4BC1-B2D6-12D797AE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FDBB8-B8A8-4C5D-9BDE-9FDF43D97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9F85-5E8F-4729-98C6-BC8C75593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DD5E-ECCA-41C2-90C1-BF8A405A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7661-BCF8-446B-8FB8-BA6B5C27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9BD1-8677-4161-BE74-7014D118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0994-EDB2-4F45-9106-D143B37C0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F862-3058-41E7-B4F9-3DA42DABB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16F8-33B6-4158-8779-7E631DA33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is Language?</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tudy human language, we are approaching what some might call the “human essence” the distinctive qualities of mind that are, so far as we know, unique to man.  (Noam Chomsky, Language and Min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inguistic Knowledge and Performance</a:t>
            </a:r>
            <a:endParaRPr b="0" lang="en-US" sz="38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big difference between having the knowledge necessary to produce sentences of a language, and applying this knowled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s linguistic compet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his knowledge in actual speech production and comprehension is linguistic perform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inguistic knowledge and performance</a:t>
            </a:r>
            <a:endParaRPr b="0" lang="en-US" sz="38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ic knowledge is not conscious knowledg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guistic system-the sounds, structures, meanings, words, and rules for putting them all together– is learned subconsciously with no awareness that rules are being learned.</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Grammar?</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mmar of a language consists of:</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ounds and sound pattern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sic units of meaning such as wor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ules to combine all of these to form</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ntences with the desired meaning.</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nature of language is to understand the internalized, unconscious set of rules that is part of every grammar of every language</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scriptive Grammar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s describe a language by describing the grammar that exists in the minds of its speakers.</a:t>
            </a:r>
            <a:endParaRPr b="0" lang="en-US" sz="3200" spc="-1" strike="noStrike">
              <a:solidFill>
                <a:srgbClr val="000000"/>
              </a:solidFill>
              <a:latin typeface="Arial"/>
            </a:endParaRPr>
          </a:p>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knowledge—common parts of the grammar—makes it possible to communicate through language.</a:t>
            </a:r>
            <a:endParaRPr b="0" lang="en-US" sz="3200" spc="-1" strike="noStrike">
              <a:solidFill>
                <a:srgbClr val="000000"/>
              </a:solidFill>
              <a:latin typeface="Arial"/>
            </a:endParaRPr>
          </a:p>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tell you how you should speak;</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describes your basic linguistic knowledg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criptive Grammar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s in the past such as the Greek Alexandrians in the first century or the Arabic scholars at Basra in the 8</a:t>
            </a:r>
            <a:r>
              <a:rPr b="0" lang="en-US" sz="3200" spc="-1" strike="noStrike" baseline="30000">
                <a:solidFill>
                  <a:srgbClr val="000000"/>
                </a:solidFill>
                <a:latin typeface="Arial"/>
              </a:rPr>
              <a:t>th</a:t>
            </a:r>
            <a:r>
              <a:rPr b="0" lang="en-US" sz="3200" spc="-1" strike="noStrike">
                <a:solidFill>
                  <a:srgbClr val="000000"/>
                </a:solidFill>
                <a:latin typeface="Arial"/>
              </a:rPr>
              <a:t> century and English grammarians of the 18</a:t>
            </a:r>
            <a:r>
              <a:rPr b="0" lang="en-US" sz="3200" spc="-1" strike="noStrike" baseline="30000">
                <a:solidFill>
                  <a:srgbClr val="000000"/>
                </a:solidFill>
                <a:latin typeface="Arial"/>
              </a:rPr>
              <a:t>th</a:t>
            </a:r>
            <a:r>
              <a:rPr b="0" lang="en-US" sz="3200" spc="-1" strike="noStrike">
                <a:solidFill>
                  <a:srgbClr val="000000"/>
                </a:solidFill>
                <a:latin typeface="Arial"/>
              </a:rPr>
              <a:t> and 19</a:t>
            </a:r>
            <a:r>
              <a:rPr b="0" lang="en-US" sz="3200" spc="-1" strike="noStrike" baseline="30000">
                <a:solidFill>
                  <a:srgbClr val="000000"/>
                </a:solidFill>
                <a:latin typeface="Arial"/>
              </a:rPr>
              <a:t>th</a:t>
            </a:r>
            <a:r>
              <a:rPr b="0" lang="en-US" sz="3200" spc="-1" strike="noStrike">
                <a:solidFill>
                  <a:srgbClr val="000000"/>
                </a:solidFill>
                <a:latin typeface="Arial"/>
              </a:rPr>
              <a:t> centuries  held the view of language change is corruption and there are a certain “correct” forms that all educated people should use in writing and speaking.</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nguage Universals</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ology– the sound system</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phology– the word formation</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the rules of sentence formation</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s—the system of meanings</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gmatics– the rules of the appropriate use of the language.</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laws representing the universal properties of all languages constitute universal grammar.</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development of grammar</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ic theory—describing adult speaker’s knowledge of language but also how normal children acquire the langua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m Chomsky proposes that human beings are born with an innate “blueprint” for language also referred as UG—biological endowmen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gn Languages: Evidence for Language Universals</a:t>
            </a:r>
            <a:endParaRPr b="0" lang="en-US" sz="38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f communities—proof that humans are born with the ability to acquire langua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 language is human language without the sound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visual-gestural system that uses hand, body, and facial gestures as the forms to represent word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imal “Languages”</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atter how eloquently a dog may bark, he cannot tell you that his parents were poor but honest.” (Bertrand Russell)</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alking” parro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rds and the Bees (Spider’s courtship contain invariant gestur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dcalls and bird songs (European robin, rival robins paid attention to high and low pitched not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use of language to communicate is limited and invaria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imal languag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honey bee dancing behavior  is set to show di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und (indicate locations near the h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ckle (20-60 feet from the h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il-wagging ( distance more than 60 fe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language? (cont.)</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distinguishes human from animals.  E.g. to some people of Africa, a newborn child is a kintu, a “thing,” not yet a muntu, a “person”.</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know a languag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ak and be understood in the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nguag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bility requires profound knowledge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at speakers are not aware of.</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ken language date back at least 1600 B.C.E in Mesopotamia.</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exists where there are humans.</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primitive” languages. All languages are equally complex and capable to do their function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 languages change through tim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 relationships between the sounds and meanings of spoken languages and between gestures and meanings of sign languages are for the most part arbitrar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uman languages use a finite set of discrete sounds or gestures that are combined to form meaningful elements or words, which themselves are combined to form infinite set of possible sentence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ll grammars contain rules of a similar kind for the formation of words and sentence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ll languages contain discrete sound segments--vowels and consonant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All languages have similar grammatical categorie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Universal semantic properties such as “male” or “female” or “animate” or “human”</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s</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Infinite set of sentenc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ny normal child anywhere in the world can acquire language that is exposed to the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anguage (cont.)</a:t>
            </a:r>
            <a:br>
              <a:rPr sz="3800"/>
            </a:b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ve year olds can function quite proficientl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went to school yesterday (past te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y son Ahmad Shafiq who was born in England and who now lives in San Francisco is an active rock cli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relative claus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the sound system</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sounds and (signs) in the language</a:t>
            </a:r>
            <a:endParaRPr b="0" lang="en-US" sz="3200" spc="-1" strike="noStrike">
              <a:solidFill>
                <a:srgbClr val="000000"/>
              </a:solidFill>
              <a:latin typeface="Arial"/>
            </a:endParaRPr>
          </a:p>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ing your own native sounds to the foreign language, e.g zis and zat (French)</a:t>
            </a:r>
            <a:endParaRPr b="0" lang="en-US" sz="3200" spc="-1" strike="noStrike">
              <a:solidFill>
                <a:srgbClr val="000000"/>
              </a:solidFill>
              <a:latin typeface="Arial"/>
            </a:endParaRPr>
          </a:p>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only the inventory of sounds but the sequence of sounds in the words, e.g ngantuk,nyamuk (Malay); eschool, estop (Spanish), Nekrumah or Enkrumah (Ghanian)</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word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sound units that are related to specific meaning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know the language, the relationship between the speech sounds and the meanings are arbitrar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ouse (E), jia (C), rumah (M), casa (S), bait (A), maison (F),dom (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words (con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ry relationship between form (sounds) and meaning (concept) is also true in sign language. E.g. CSL and AS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omatopoeic words such as buzz and murmur imitate the sounds associated with the objects or actions they refer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key sound in Turkey (glu-glu)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creativity of Linguistic Knowledge</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a language enables you to combine words to form phrases, and phrases to form sentenc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m Chomsky refers to it as creative aspect of language us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human languages permit their speakers to form indefinitely long sentences; creativity is a universal property of human languag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Knowledge of Sentences and Nonsentences</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ventory of vocabulary is finite, the rules are finite, but the creation of sentences using these vocabulary and rules are infinit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from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words and the rules for forming sentence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language?</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en one knows a language, one knows all of the sounds, words and the rules  of the combin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20:02:15Z</dcterms:created>
  <dc:creator>Noorchya Yahya</dc:creator>
  <dc:description/>
  <dc:language>en-US</dc:language>
  <cp:lastModifiedBy>Noorchya Yahya</cp:lastModifiedBy>
  <dcterms:modified xsi:type="dcterms:W3CDTF">2012-09-11T08:01:22Z</dcterms:modified>
  <cp:revision>9</cp:revision>
  <dc:subject/>
  <dc:title>What is Language?</dc:title>
</cp:coreProperties>
</file>