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7.wmf" ContentType="image/x-wmf"/>
  <Override PartName="/ppt/media/image15.jpeg" ContentType="image/jpeg"/>
  <Override PartName="/ppt/media/image16.wmf" ContentType="image/x-wmf"/>
  <Override PartName="/ppt/media/image24.png" ContentType="image/png"/>
  <Override PartName="/ppt/media/image1.png" ContentType="image/png"/>
  <Override PartName="/ppt/media/image9.jpeg" ContentType="image/jpeg"/>
  <Override PartName="/ppt/media/image4.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3" name="PlaceHolder 1"/>
          <p:cNvSpPr>
            <a:spLocks noGrp="1"/>
          </p:cNvSpPr>
          <p:nvPr>
            <p:ph type="hdr"/>
          </p:nvPr>
        </p:nvSpPr>
        <p:spPr>
          <a:xfrm>
            <a:off x="-360" y="0"/>
            <a:ext cx="3097080" cy="47304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type="dt" idx="1"/>
          </p:nvPr>
        </p:nvSpPr>
        <p:spPr>
          <a:xfrm>
            <a:off x="4052520" y="0"/>
            <a:ext cx="3097080" cy="47304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3"/>
          <p:cNvSpPr>
            <a:spLocks noGrp="1"/>
          </p:cNvSpPr>
          <p:nvPr>
            <p:ph type="sldImg"/>
          </p:nvPr>
        </p:nvSpPr>
        <p:spPr>
          <a:xfrm>
            <a:off x="1212840" y="707760"/>
            <a:ext cx="4726080" cy="35449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lick to move the slide</a:t>
            </a:r>
            <a:endParaRPr b="0" lang="en-US" sz="4400" spc="-1" strike="noStrike">
              <a:solidFill>
                <a:srgbClr val="000000"/>
              </a:solidFill>
              <a:latin typeface="Arial Unicode MS"/>
            </a:endParaRPr>
          </a:p>
        </p:txBody>
      </p:sp>
      <p:sp>
        <p:nvSpPr>
          <p:cNvPr id="46" name="PlaceHolder 4"/>
          <p:cNvSpPr>
            <a:spLocks noGrp="1"/>
          </p:cNvSpPr>
          <p:nvPr>
            <p:ph type="body"/>
          </p:nvPr>
        </p:nvSpPr>
        <p:spPr>
          <a:xfrm>
            <a:off x="952560" y="4487760"/>
            <a:ext cx="5245200" cy="42530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975880"/>
            <a:ext cx="3097080" cy="47304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6"/>
          <p:cNvSpPr>
            <a:spLocks noGrp="1"/>
          </p:cNvSpPr>
          <p:nvPr>
            <p:ph type="sldNum" idx="3"/>
          </p:nvPr>
        </p:nvSpPr>
        <p:spPr>
          <a:xfrm>
            <a:off x="4052520" y="8975880"/>
            <a:ext cx="3097080" cy="473040"/>
          </a:xfrm>
          <a:prstGeom prst="rect">
            <a:avLst/>
          </a:prstGeom>
          <a:noFill/>
          <a:ln w="0">
            <a:noFill/>
          </a:ln>
        </p:spPr>
        <p:txBody>
          <a:bodyPr lIns="94680" rIns="94680" tIns="47160" bIns="47160" anchor="b">
            <a:noAutofit/>
          </a:bodyPr>
          <a:lstStyle>
            <a:lvl1pPr indent="0" algn="r">
              <a:lnSpc>
                <a:spcPct val="10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Times New Roman"/>
              </a:defRPr>
            </a:lvl1pPr>
          </a:lstStyle>
          <a:p>
            <a:pPr indent="0" algn="r">
              <a:lnSpc>
                <a:spcPct val="100000"/>
              </a:lnSpc>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18A639CB-FAFF-4AB5-9108-F99F36BD35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052880" y="8975880"/>
            <a:ext cx="3097080" cy="473040"/>
          </a:xfrm>
          <a:prstGeom prst="rect">
            <a:avLst/>
          </a:prstGeom>
          <a:noFill/>
          <a:ln w="0">
            <a:noFill/>
          </a:ln>
        </p:spPr>
        <p:style>
          <a:lnRef idx="0"/>
          <a:fillRef idx="0"/>
          <a:effectRef idx="0"/>
          <a:fontRef idx="minor"/>
        </p:style>
        <p:txBody>
          <a:bodyPr lIns="94680" rIns="9468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3528644B-EBC7-4860-8825-AB27CA869D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212840" y="708120"/>
            <a:ext cx="4726080" cy="3544920"/>
          </a:xfrm>
          <a:prstGeom prst="rect">
            <a:avLst/>
          </a:prstGeom>
          <a:ln w="0">
            <a:noFill/>
          </a:ln>
        </p:spPr>
      </p:sp>
      <p:sp>
        <p:nvSpPr>
          <p:cNvPr id="254" name="PlaceHolder 2"/>
          <p:cNvSpPr>
            <a:spLocks noGrp="1"/>
          </p:cNvSpPr>
          <p:nvPr>
            <p:ph type="body"/>
          </p:nvPr>
        </p:nvSpPr>
        <p:spPr>
          <a:xfrm>
            <a:off x="952560" y="4487760"/>
            <a:ext cx="5245200" cy="4253040"/>
          </a:xfrm>
          <a:prstGeom prst="rect">
            <a:avLst/>
          </a:prstGeom>
          <a:noFill/>
          <a:ln w="0">
            <a:noFill/>
          </a:ln>
        </p:spPr>
        <p:txBody>
          <a:bodyPr lIns="94680" rIns="94680" tIns="47160" bIns="47160" anchor="t">
            <a:noAutofit/>
          </a:bodyPr>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rPr>
              <a:t>6,500 megawatts (MW) of new wind energy generating capacity were installed worldwide in 2001, amounting to annual sales of about $7 billion.  The world’s wind energy generating capacity at the close of 2001 stood at about 24,000 MW.</a:t>
            </a:r>
            <a:endParaRPr b="0" lang="en-US" sz="1200" spc="-1" strike="noStrike">
              <a:solidFill>
                <a:srgbClr val="000000"/>
              </a:solidFill>
              <a:latin typeface="Times New Roman"/>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rPr>
              <a:t>Germany alone set a world and national record of more than 2,600 MW of new generating capacity installed during the year. Germany, Denmark, and Spain are demonstrating that wind can reliably provide 10% to 25% and more of a region or country’s electricity supply.</a:t>
            </a:r>
            <a:endParaRPr b="0" lang="en-US" sz="1200" spc="-1" strike="noStrike">
              <a:solidFill>
                <a:srgbClr val="000000"/>
              </a:solidFill>
              <a:latin typeface="Times New Roman"/>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rPr>
              <a:t>Europe currently accounts for over 70% of the world’s wind power. European countries made up two-thirds of the 2001 additions.  The global wind energy market continues to be dominated by the “big five” countries with over 1,000 MW of generating capacity each: Germany, the U.S., Spain, Denmark, and India. The number of countries with several hundred megawatts is growing larger, however, and it may be that in the next several years -- if the current rafts of proposed projects are developed -- Brazil and the U.K. will see their wind generating capacity sail by the 1,000-MW mark.</a:t>
            </a:r>
            <a:endParaRPr b="0" lang="en-US" sz="1200" spc="-1" strike="noStrike">
              <a:solidFill>
                <a:srgbClr val="000000"/>
              </a:solidFill>
              <a:latin typeface="Times New Roman"/>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052880" y="8975880"/>
            <a:ext cx="3097080" cy="473040"/>
          </a:xfrm>
          <a:prstGeom prst="rect">
            <a:avLst/>
          </a:prstGeom>
          <a:noFill/>
          <a:ln w="0">
            <a:noFill/>
          </a:ln>
        </p:spPr>
        <p:style>
          <a:lnRef idx="0"/>
          <a:fillRef idx="0"/>
          <a:effectRef idx="0"/>
          <a:fontRef idx="minor"/>
        </p:style>
        <p:txBody>
          <a:bodyPr lIns="94680" rIns="9468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4B76EB2C-FCA2-4B65-B8D7-499502F342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212840" y="708120"/>
            <a:ext cx="4726080" cy="3544920"/>
          </a:xfrm>
          <a:prstGeom prst="rect">
            <a:avLst/>
          </a:prstGeom>
          <a:ln w="0">
            <a:noFill/>
          </a:ln>
        </p:spPr>
      </p:sp>
      <p:sp>
        <p:nvSpPr>
          <p:cNvPr id="257" name="PlaceHolder 2"/>
          <p:cNvSpPr>
            <a:spLocks noGrp="1"/>
          </p:cNvSpPr>
          <p:nvPr>
            <p:ph type="body"/>
          </p:nvPr>
        </p:nvSpPr>
        <p:spPr>
          <a:xfrm>
            <a:off x="952560" y="4487760"/>
            <a:ext cx="5245200" cy="42530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wind energy industry left previous records in the dust with a blowout year in 2001, installing nearly 1,700 megawatts (MW) or $1.7 billion worth of new generating equipment in 16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tally of 1,697 MW was more than double the previous record year of 1999, when 732 MW was installed, and boosted the industry's total generating capacity by 66% over the amount in place a year earlier.  As of October, 2002, installed capacity in the U.S. is 4,329 M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 farms completed in 2001 will generate approximately $5 million in payments to landowners annually and create some 200 skilled, long-term jobs in areas where such employment is scarc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052880" y="8975880"/>
            <a:ext cx="3097080" cy="473040"/>
          </a:xfrm>
          <a:prstGeom prst="rect">
            <a:avLst/>
          </a:prstGeom>
          <a:noFill/>
          <a:ln w="0">
            <a:noFill/>
          </a:ln>
        </p:spPr>
        <p:style>
          <a:lnRef idx="0"/>
          <a:fillRef idx="0"/>
          <a:effectRef idx="0"/>
          <a:fontRef idx="minor"/>
        </p:style>
        <p:txBody>
          <a:bodyPr lIns="94680" rIns="9468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D112ECA3-4D4B-422F-8113-7FFD2BAF57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212840" y="708120"/>
            <a:ext cx="4726080" cy="3544920"/>
          </a:xfrm>
          <a:prstGeom prst="rect">
            <a:avLst/>
          </a:prstGeom>
          <a:ln w="0">
            <a:noFill/>
          </a:ln>
        </p:spPr>
      </p:sp>
      <p:sp>
        <p:nvSpPr>
          <p:cNvPr id="260" name="PlaceHolder 2"/>
          <p:cNvSpPr>
            <a:spLocks noGrp="1"/>
          </p:cNvSpPr>
          <p:nvPr>
            <p:ph type="body"/>
          </p:nvPr>
        </p:nvSpPr>
        <p:spPr>
          <a:xfrm>
            <a:off x="952560" y="4487760"/>
            <a:ext cx="5245200" cy="4253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052880" y="8975880"/>
            <a:ext cx="3097080" cy="473040"/>
          </a:xfrm>
          <a:prstGeom prst="rect">
            <a:avLst/>
          </a:prstGeom>
          <a:noFill/>
          <a:ln w="0">
            <a:noFill/>
          </a:ln>
        </p:spPr>
        <p:style>
          <a:lnRef idx="0"/>
          <a:fillRef idx="0"/>
          <a:effectRef idx="0"/>
          <a:fontRef idx="minor"/>
        </p:style>
        <p:txBody>
          <a:bodyPr lIns="94680" rIns="9468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C017CF10-4BB8-4EE3-BE16-E551E9ED53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212840" y="708120"/>
            <a:ext cx="4724280" cy="3543120"/>
          </a:xfrm>
          <a:prstGeom prst="rect">
            <a:avLst/>
          </a:prstGeom>
          <a:ln w="0">
            <a:noFill/>
          </a:ln>
        </p:spPr>
      </p:sp>
      <p:sp>
        <p:nvSpPr>
          <p:cNvPr id="263" name="PlaceHolder 2"/>
          <p:cNvSpPr>
            <a:spLocks noGrp="1"/>
          </p:cNvSpPr>
          <p:nvPr>
            <p:ph type="body"/>
          </p:nvPr>
        </p:nvSpPr>
        <p:spPr>
          <a:xfrm>
            <a:off x="952560" y="4487760"/>
            <a:ext cx="5245200" cy="425304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ahoma"/>
              </a:rPr>
              <a:t>Green power programs vary, but one common approach, called "green pricing," is for a utility to offer its customers the option of buying electricity generated from wind at a premium price.  For example, a customer might be able to sign up to receive a certain number of 100-kilowatt-hour "blocks" of electricity from wind each month for an extra $2 each (that is, for 2 cents per kilowatt-hour).  A customer signing up for 2 blocks at $2 would pay $4 more for electricity each month and "receive" 200 kilowatt-hours of wind-generated electricity.  The utility would then add enough wind capacity to its generating mix to provide the additional electricity required.  (The utility cannot deliver specific electrons from any of its plants to a specific customer.  Instead, its generating mix should be thought of as a pool.  Power plants add electricity to the pool and customers take it out.  With green power, the utility adds more wind energy to the pool based on the amount customers have said they desire to purchase.)</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ahoma"/>
              </a:rPr>
              <a:t>A second form of green power is used in states that have opened their electricity markets to competition (in much the same way as long-distance telephone service is now open to competition).  In these states, electricity suppliers offer electricity "products" from renewable and other sources, and customers are free to sign up for the product and company they prefer.  One company, for example, might offer a product that is called "Earth Saver" that is 50% wind-generated electricity and 50% electricity from landfill gas, and charge 1.5 cents/kWh more than "system power" (regular commodity electricity from the regional generating mix).</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ahoma"/>
              </a:rPr>
              <a:t>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ahoma"/>
              </a:rPr>
              <a:t>A third form of green power is called "green tags" and can be used by consumers anywhere to "green" their electricity supply.  With this approach, when a certain amount of electricity (e.g., 1,000 kWh) is generated from a renewable source, a certificate called a "green tag" is created.  The generator sells the electricity into the commodity wholesale market, but keeps the certificate (which represents the beneficial environmental attributes of the electricity) and sells it to an interested buyer for an agreed-upon price (e.g., $20, or 2 cents/kWh).  By buying green tags that represent the amount of renewable generation equal to your electricity use, you can, in effect, "green" your power supply in much the same way that you would through "green pricing" or "green power"—you are paying extra, and extra renewable energy is being delivered to the utility system based upon your payment.</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052880" y="8975880"/>
            <a:ext cx="3097080" cy="473040"/>
          </a:xfrm>
          <a:prstGeom prst="rect">
            <a:avLst/>
          </a:prstGeom>
          <a:noFill/>
          <a:ln w="0">
            <a:noFill/>
          </a:ln>
        </p:spPr>
        <p:style>
          <a:lnRef idx="0"/>
          <a:fillRef idx="0"/>
          <a:effectRef idx="0"/>
          <a:fontRef idx="minor"/>
        </p:style>
        <p:txBody>
          <a:bodyPr lIns="94680" rIns="9468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31405D76-D050-4F04-BE47-7690E3BD9D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224000" y="716040"/>
            <a:ext cx="4705200" cy="3529080"/>
          </a:xfrm>
          <a:prstGeom prst="rect">
            <a:avLst/>
          </a:prstGeom>
          <a:ln w="0">
            <a:noFill/>
          </a:ln>
        </p:spPr>
      </p:sp>
      <p:sp>
        <p:nvSpPr>
          <p:cNvPr id="266" name="PlaceHolder 2"/>
          <p:cNvSpPr>
            <a:spLocks noGrp="1"/>
          </p:cNvSpPr>
          <p:nvPr>
            <p:ph type="body"/>
          </p:nvPr>
        </p:nvSpPr>
        <p:spPr>
          <a:xfrm>
            <a:off x="955440" y="4487400"/>
            <a:ext cx="5235480" cy="42483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ever wind, an emissions-free technology, is used to generate electricity, it reduces greenhouse gas emissions, air pollution, and water pollution that would otherwise be produced by fossil fue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wind capacity to 30,000 megawatts in the U.S. and offsetting coal-fired power would cut utility carbon dioxide emissions by 100 million metric tons per year.  That's about 18% of the amount by which our utilities are expected -- by 2010 -- to exceed 1990 emissions levels.  At the same time, we could reduce emissions of air pollutants like sulfur dioxide and nitrogen oxides, and of mercury, a hazardous water polluta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052880" y="8975880"/>
            <a:ext cx="3097080" cy="473040"/>
          </a:xfrm>
          <a:prstGeom prst="rect">
            <a:avLst/>
          </a:prstGeom>
          <a:noFill/>
          <a:ln w="0">
            <a:noFill/>
          </a:ln>
        </p:spPr>
        <p:style>
          <a:lnRef idx="0"/>
          <a:fillRef idx="0"/>
          <a:effectRef idx="0"/>
          <a:fontRef idx="minor"/>
        </p:style>
        <p:txBody>
          <a:bodyPr lIns="94680" rIns="9468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B3129B26-1F19-46A5-9AC7-6F59333F12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212840" y="708120"/>
            <a:ext cx="4726080" cy="3544920"/>
          </a:xfrm>
          <a:prstGeom prst="rect">
            <a:avLst/>
          </a:prstGeom>
          <a:ln w="0">
            <a:noFill/>
          </a:ln>
        </p:spPr>
      </p:sp>
      <p:sp>
        <p:nvSpPr>
          <p:cNvPr id="269" name="PlaceHolder 2"/>
          <p:cNvSpPr>
            <a:spLocks noGrp="1"/>
          </p:cNvSpPr>
          <p:nvPr>
            <p:ph type="body"/>
          </p:nvPr>
        </p:nvSpPr>
        <p:spPr>
          <a:xfrm>
            <a:off x="952560" y="4487760"/>
            <a:ext cx="5245200" cy="4253040"/>
          </a:xfrm>
          <a:prstGeom prst="rect">
            <a:avLst/>
          </a:prstGeom>
          <a:solidFill>
            <a:srgbClr val="ffffff"/>
          </a:solidFill>
          <a:ln w="9360">
            <a:solidFill>
              <a:srgbClr val="000000"/>
            </a:solidFill>
            <a:miter/>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isting transmission system was built to carry power from large, centrally-planned power plants to population centers.  Because the wind resource is best in remote areas, it is often a challenge for wind plant owners to obtain the capacity on the transmission network to get the power to the market.  Capacity is often inadequate, and the transmission system’s operating rules discriminate against variable resources like w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wind industry is a relatively new one, many of the rules of planning for expansion of generation capacity and operating the transmission system were written with convention generation’s characteristics in mind.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4052880" y="8975880"/>
            <a:ext cx="3097080" cy="473040"/>
          </a:xfrm>
          <a:prstGeom prst="rect">
            <a:avLst/>
          </a:prstGeom>
          <a:noFill/>
          <a:ln w="0">
            <a:noFill/>
          </a:ln>
        </p:spPr>
        <p:style>
          <a:lnRef idx="0"/>
          <a:fillRef idx="0"/>
          <a:effectRef idx="0"/>
          <a:fontRef idx="minor"/>
        </p:style>
        <p:txBody>
          <a:bodyPr lIns="94680" rIns="9468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52F79B5C-AE84-47A3-B767-ADBE32DD5DC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212840" y="708120"/>
            <a:ext cx="4724280" cy="3543120"/>
          </a:xfrm>
          <a:prstGeom prst="rect">
            <a:avLst/>
          </a:prstGeom>
          <a:ln w="0">
            <a:noFill/>
          </a:ln>
        </p:spPr>
      </p:sp>
      <p:sp>
        <p:nvSpPr>
          <p:cNvPr id="248" name="PlaceHolder 2"/>
          <p:cNvSpPr>
            <a:spLocks noGrp="1"/>
          </p:cNvSpPr>
          <p:nvPr>
            <p:ph type="body"/>
          </p:nvPr>
        </p:nvSpPr>
        <p:spPr>
          <a:xfrm>
            <a:off x="952560" y="4487760"/>
            <a:ext cx="5245200" cy="42530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electricity produced with wind power does not emit harmful pollutants, generate waste or ash, or burn resources is an obvious advantage of the technology.  In addition, it can provide cost stability to a utility’s resource portfolio and bring income and tax benefits to rural communit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052880" y="8975880"/>
            <a:ext cx="3097080" cy="473040"/>
          </a:xfrm>
          <a:prstGeom prst="rect">
            <a:avLst/>
          </a:prstGeom>
          <a:noFill/>
          <a:ln w="0">
            <a:noFill/>
          </a:ln>
        </p:spPr>
        <p:style>
          <a:lnRef idx="0"/>
          <a:fillRef idx="0"/>
          <a:effectRef idx="0"/>
          <a:fontRef idx="minor"/>
        </p:style>
        <p:txBody>
          <a:bodyPr lIns="94680" rIns="9468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D9C790C1-D45A-4FAB-B052-D4C26F9D77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224000" y="716040"/>
            <a:ext cx="4705200" cy="3529080"/>
          </a:xfrm>
          <a:prstGeom prst="rect">
            <a:avLst/>
          </a:prstGeom>
          <a:ln w="0">
            <a:noFill/>
          </a:ln>
        </p:spPr>
      </p:sp>
      <p:sp>
        <p:nvSpPr>
          <p:cNvPr id="251" name="PlaceHolder 2"/>
          <p:cNvSpPr>
            <a:spLocks noGrp="1"/>
          </p:cNvSpPr>
          <p:nvPr>
            <p:ph type="body"/>
          </p:nvPr>
        </p:nvSpPr>
        <p:spPr>
          <a:xfrm>
            <a:off x="955440" y="4487400"/>
            <a:ext cx="5235480" cy="42483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2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TRANSITION SLIDE THAT CAN BE USED ANYWHERE IN THE PRESENTATION.  THERE IS NO COPY TO READ FOR THIS SL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28" name="PlaceHolder 2"/>
          <p:cNvSpPr>
            <a:spLocks noGrp="1"/>
          </p:cNvSpPr>
          <p:nvPr>
            <p:ph/>
          </p:nvPr>
        </p:nvSpPr>
        <p:spPr>
          <a:xfrm>
            <a:off x="609480" y="2514600"/>
            <a:ext cx="777240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29" name="PlaceHolder 3"/>
          <p:cNvSpPr>
            <a:spLocks noGrp="1"/>
          </p:cNvSpPr>
          <p:nvPr>
            <p:ph/>
          </p:nvPr>
        </p:nvSpPr>
        <p:spPr>
          <a:xfrm>
            <a:off x="609480" y="3987360"/>
            <a:ext cx="777240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31" name="PlaceHolder 2"/>
          <p:cNvSpPr>
            <a:spLocks noGrp="1"/>
          </p:cNvSpPr>
          <p:nvPr>
            <p:ph/>
          </p:nvPr>
        </p:nvSpPr>
        <p:spPr>
          <a:xfrm>
            <a:off x="609480" y="2514600"/>
            <a:ext cx="379260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32" name="PlaceHolder 3"/>
          <p:cNvSpPr>
            <a:spLocks noGrp="1"/>
          </p:cNvSpPr>
          <p:nvPr>
            <p:ph/>
          </p:nvPr>
        </p:nvSpPr>
        <p:spPr>
          <a:xfrm>
            <a:off x="4592160" y="2514600"/>
            <a:ext cx="379260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33" name="PlaceHolder 4"/>
          <p:cNvSpPr>
            <a:spLocks noGrp="1"/>
          </p:cNvSpPr>
          <p:nvPr>
            <p:ph/>
          </p:nvPr>
        </p:nvSpPr>
        <p:spPr>
          <a:xfrm>
            <a:off x="609480" y="3987360"/>
            <a:ext cx="379260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34" name="PlaceHolder 5"/>
          <p:cNvSpPr>
            <a:spLocks noGrp="1"/>
          </p:cNvSpPr>
          <p:nvPr>
            <p:ph/>
          </p:nvPr>
        </p:nvSpPr>
        <p:spPr>
          <a:xfrm>
            <a:off x="4592160" y="3987360"/>
            <a:ext cx="379260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36" name="PlaceHolder 2"/>
          <p:cNvSpPr>
            <a:spLocks noGrp="1"/>
          </p:cNvSpPr>
          <p:nvPr>
            <p:ph/>
          </p:nvPr>
        </p:nvSpPr>
        <p:spPr>
          <a:xfrm>
            <a:off x="609480" y="2514600"/>
            <a:ext cx="250236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37" name="PlaceHolder 3"/>
          <p:cNvSpPr>
            <a:spLocks noGrp="1"/>
          </p:cNvSpPr>
          <p:nvPr>
            <p:ph/>
          </p:nvPr>
        </p:nvSpPr>
        <p:spPr>
          <a:xfrm>
            <a:off x="3237480" y="2514600"/>
            <a:ext cx="250236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38" name="PlaceHolder 4"/>
          <p:cNvSpPr>
            <a:spLocks noGrp="1"/>
          </p:cNvSpPr>
          <p:nvPr>
            <p:ph/>
          </p:nvPr>
        </p:nvSpPr>
        <p:spPr>
          <a:xfrm>
            <a:off x="5865120" y="2514600"/>
            <a:ext cx="250236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39" name="PlaceHolder 5"/>
          <p:cNvSpPr>
            <a:spLocks noGrp="1"/>
          </p:cNvSpPr>
          <p:nvPr>
            <p:ph/>
          </p:nvPr>
        </p:nvSpPr>
        <p:spPr>
          <a:xfrm>
            <a:off x="609480" y="3987360"/>
            <a:ext cx="250236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40" name="PlaceHolder 6"/>
          <p:cNvSpPr>
            <a:spLocks noGrp="1"/>
          </p:cNvSpPr>
          <p:nvPr>
            <p:ph/>
          </p:nvPr>
        </p:nvSpPr>
        <p:spPr>
          <a:xfrm>
            <a:off x="3237480" y="3987360"/>
            <a:ext cx="250236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41" name="PlaceHolder 7"/>
          <p:cNvSpPr>
            <a:spLocks noGrp="1"/>
          </p:cNvSpPr>
          <p:nvPr>
            <p:ph/>
          </p:nvPr>
        </p:nvSpPr>
        <p:spPr>
          <a:xfrm>
            <a:off x="5865120" y="3987360"/>
            <a:ext cx="250236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7" name="PlaceHolder 2"/>
          <p:cNvSpPr>
            <a:spLocks noGrp="1"/>
          </p:cNvSpPr>
          <p:nvPr>
            <p:ph type="subTitle"/>
          </p:nvPr>
        </p:nvSpPr>
        <p:spPr>
          <a:xfrm>
            <a:off x="609480" y="2514600"/>
            <a:ext cx="7772400" cy="2819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9" name="PlaceHolder 2"/>
          <p:cNvSpPr>
            <a:spLocks noGrp="1"/>
          </p:cNvSpPr>
          <p:nvPr>
            <p:ph/>
          </p:nvPr>
        </p:nvSpPr>
        <p:spPr>
          <a:xfrm>
            <a:off x="609480" y="2514600"/>
            <a:ext cx="7772400" cy="2819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11" name="PlaceHolder 2"/>
          <p:cNvSpPr>
            <a:spLocks noGrp="1"/>
          </p:cNvSpPr>
          <p:nvPr>
            <p:ph/>
          </p:nvPr>
        </p:nvSpPr>
        <p:spPr>
          <a:xfrm>
            <a:off x="609480" y="2514600"/>
            <a:ext cx="3792600" cy="2819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12" name="PlaceHolder 3"/>
          <p:cNvSpPr>
            <a:spLocks noGrp="1"/>
          </p:cNvSpPr>
          <p:nvPr>
            <p:ph/>
          </p:nvPr>
        </p:nvSpPr>
        <p:spPr>
          <a:xfrm>
            <a:off x="4592160" y="2514600"/>
            <a:ext cx="3792600" cy="2819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212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16" name="PlaceHolder 2"/>
          <p:cNvSpPr>
            <a:spLocks noGrp="1"/>
          </p:cNvSpPr>
          <p:nvPr>
            <p:ph/>
          </p:nvPr>
        </p:nvSpPr>
        <p:spPr>
          <a:xfrm>
            <a:off x="609480" y="2514600"/>
            <a:ext cx="379260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17" name="PlaceHolder 3"/>
          <p:cNvSpPr>
            <a:spLocks noGrp="1"/>
          </p:cNvSpPr>
          <p:nvPr>
            <p:ph/>
          </p:nvPr>
        </p:nvSpPr>
        <p:spPr>
          <a:xfrm>
            <a:off x="4592160" y="2514600"/>
            <a:ext cx="3792600" cy="2819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18" name="PlaceHolder 4"/>
          <p:cNvSpPr>
            <a:spLocks noGrp="1"/>
          </p:cNvSpPr>
          <p:nvPr>
            <p:ph/>
          </p:nvPr>
        </p:nvSpPr>
        <p:spPr>
          <a:xfrm>
            <a:off x="609480" y="3987360"/>
            <a:ext cx="379260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20" name="PlaceHolder 2"/>
          <p:cNvSpPr>
            <a:spLocks noGrp="1"/>
          </p:cNvSpPr>
          <p:nvPr>
            <p:ph/>
          </p:nvPr>
        </p:nvSpPr>
        <p:spPr>
          <a:xfrm>
            <a:off x="609480" y="2514600"/>
            <a:ext cx="3792600" cy="2819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21" name="PlaceHolder 3"/>
          <p:cNvSpPr>
            <a:spLocks noGrp="1"/>
          </p:cNvSpPr>
          <p:nvPr>
            <p:ph/>
          </p:nvPr>
        </p:nvSpPr>
        <p:spPr>
          <a:xfrm>
            <a:off x="4592160" y="2514600"/>
            <a:ext cx="379260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22" name="PlaceHolder 4"/>
          <p:cNvSpPr>
            <a:spLocks noGrp="1"/>
          </p:cNvSpPr>
          <p:nvPr>
            <p:ph/>
          </p:nvPr>
        </p:nvSpPr>
        <p:spPr>
          <a:xfrm>
            <a:off x="4592160" y="3987360"/>
            <a:ext cx="379260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Unicode MS"/>
            </a:endParaRPr>
          </a:p>
        </p:txBody>
      </p:sp>
      <p:sp>
        <p:nvSpPr>
          <p:cNvPr id="24" name="PlaceHolder 2"/>
          <p:cNvSpPr>
            <a:spLocks noGrp="1"/>
          </p:cNvSpPr>
          <p:nvPr>
            <p:ph/>
          </p:nvPr>
        </p:nvSpPr>
        <p:spPr>
          <a:xfrm>
            <a:off x="609480" y="2514600"/>
            <a:ext cx="379260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25" name="PlaceHolder 3"/>
          <p:cNvSpPr>
            <a:spLocks noGrp="1"/>
          </p:cNvSpPr>
          <p:nvPr>
            <p:ph/>
          </p:nvPr>
        </p:nvSpPr>
        <p:spPr>
          <a:xfrm>
            <a:off x="4592160" y="2514600"/>
            <a:ext cx="379260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26" name="PlaceHolder 4"/>
          <p:cNvSpPr>
            <a:spLocks noGrp="1"/>
          </p:cNvSpPr>
          <p:nvPr>
            <p:ph/>
          </p:nvPr>
        </p:nvSpPr>
        <p:spPr>
          <a:xfrm>
            <a:off x="609480" y="3987360"/>
            <a:ext cx="7772400" cy="1344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1" descr=""/>
          <p:cNvPicPr/>
          <p:nvPr/>
        </p:nvPicPr>
        <p:blipFill>
          <a:blip r:embed="rId2"/>
          <a:srcRect l="0" t="0" r="0" b="12103"/>
          <a:stretch/>
        </p:blipFill>
        <p:spPr>
          <a:xfrm>
            <a:off x="0" y="5715000"/>
            <a:ext cx="9144000" cy="1143000"/>
          </a:xfrm>
          <a:prstGeom prst="rect">
            <a:avLst/>
          </a:prstGeom>
          <a:ln w="0">
            <a:noFill/>
          </a:ln>
        </p:spPr>
      </p:pic>
      <p:sp>
        <p:nvSpPr>
          <p:cNvPr id="1"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lick to edit the title text format</a:t>
            </a:r>
            <a:endParaRPr b="0" lang="en-US" sz="4400" spc="-1" strike="noStrike">
              <a:solidFill>
                <a:srgbClr val="000000"/>
              </a:solidFill>
              <a:latin typeface="Arial Unicode MS"/>
            </a:endParaRPr>
          </a:p>
        </p:txBody>
      </p:sp>
      <p:sp>
        <p:nvSpPr>
          <p:cNvPr id="2" name="PlaceHolder 2"/>
          <p:cNvSpPr>
            <a:spLocks noGrp="1"/>
          </p:cNvSpPr>
          <p:nvPr>
            <p:ph type="body"/>
          </p:nvPr>
        </p:nvSpPr>
        <p:spPr>
          <a:xfrm>
            <a:off x="609480" y="2514600"/>
            <a:ext cx="7772400" cy="2819520"/>
          </a:xfrm>
          <a:prstGeom prst="rect">
            <a:avLst/>
          </a:prstGeom>
          <a:noFill/>
          <a:ln w="0">
            <a:noFill/>
          </a:ln>
        </p:spPr>
        <p:txBody>
          <a:bodyPr lIns="90000" rIns="90000" tIns="46800" bIns="46800" anchor="t">
            <a:normAutofit fontScale="67000"/>
          </a:bodyPr>
          <a:p>
            <a:pPr marL="229680" indent="-22968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Click to edit the outline text format</a:t>
            </a:r>
            <a:endParaRPr b="0" lang="en-US" sz="3200" spc="-1" strike="noStrike">
              <a:solidFill>
                <a:srgbClr val="993300"/>
              </a:solidFill>
              <a:latin typeface="Arial Unicode MS"/>
            </a:endParaRPr>
          </a:p>
          <a:p>
            <a:pPr lvl="1" marL="497520" indent="-19116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Second Outline Level</a:t>
            </a:r>
            <a:endParaRPr b="0" lang="en-US" sz="3200" spc="-1" strike="noStrike">
              <a:solidFill>
                <a:srgbClr val="993300"/>
              </a:solidFill>
              <a:latin typeface="Arial Unicode MS"/>
            </a:endParaRPr>
          </a:p>
          <a:p>
            <a:pPr lvl="2" marL="765720" indent="-15300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Third Outline Level</a:t>
            </a:r>
            <a:endParaRPr b="0" lang="en-US" sz="3200" spc="-1" strike="noStrike">
              <a:solidFill>
                <a:srgbClr val="993300"/>
              </a:solidFill>
              <a:latin typeface="Arial Unicode MS"/>
            </a:endParaRPr>
          </a:p>
          <a:p>
            <a:pPr lvl="3" marL="1072080" indent="-15300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Fourth Outline Level</a:t>
            </a:r>
            <a:endParaRPr b="0" lang="en-US" sz="3200" spc="-1" strike="noStrike">
              <a:solidFill>
                <a:srgbClr val="993300"/>
              </a:solidFill>
              <a:latin typeface="Arial Unicode MS"/>
            </a:endParaRPr>
          </a:p>
          <a:p>
            <a:pPr lvl="4" marL="1378440" indent="-15300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Fifth Outline Level</a:t>
            </a:r>
            <a:endParaRPr b="0" lang="en-US" sz="3200" spc="-1" strike="noStrike">
              <a:solidFill>
                <a:srgbClr val="993300"/>
              </a:solidFill>
              <a:latin typeface="Arial Unicode MS"/>
            </a:endParaRPr>
          </a:p>
          <a:p>
            <a:pPr lvl="5" marL="1378440" indent="-1530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Sixth Outline Level</a:t>
            </a:r>
            <a:endParaRPr b="0" lang="en-US" sz="3200" spc="-1" strike="noStrike">
              <a:solidFill>
                <a:srgbClr val="993300"/>
              </a:solidFill>
              <a:latin typeface="Arial Unicode MS"/>
            </a:endParaRPr>
          </a:p>
          <a:p>
            <a:pPr lvl="6" marL="1378440" indent="-15300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Seventh Outline Level</a:t>
            </a:r>
            <a:endParaRPr b="0" lang="en-US" sz="3200" spc="-1" strike="noStrike">
              <a:solidFill>
                <a:srgbClr val="993300"/>
              </a:solidFill>
              <a:latin typeface="Arial Unicode MS"/>
            </a:endParaRPr>
          </a:p>
        </p:txBody>
      </p:sp>
      <p:pic>
        <p:nvPicPr>
          <p:cNvPr id="3" name="Picture 8" descr="AWEA"/>
          <p:cNvPicPr/>
          <p:nvPr/>
        </p:nvPicPr>
        <p:blipFill>
          <a:blip r:embed="rId3"/>
          <a:stretch/>
        </p:blipFill>
        <p:spPr>
          <a:xfrm>
            <a:off x="609480" y="5962680"/>
            <a:ext cx="1600200" cy="650880"/>
          </a:xfrm>
          <a:prstGeom prst="rect">
            <a:avLst/>
          </a:prstGeom>
          <a:ln w="0">
            <a:noFill/>
          </a:ln>
        </p:spPr>
      </p:pic>
      <p:pic>
        <p:nvPicPr>
          <p:cNvPr id="4" name="Picture 19" descr=""/>
          <p:cNvPicPr/>
          <p:nvPr/>
        </p:nvPicPr>
        <p:blipFill>
          <a:blip r:embed="rId4"/>
          <a:stretch/>
        </p:blipFill>
        <p:spPr>
          <a:xfrm>
            <a:off x="0" y="304920"/>
            <a:ext cx="9144000" cy="380880"/>
          </a:xfrm>
          <a:prstGeom prst="rect">
            <a:avLst/>
          </a:prstGeom>
          <a:ln w="0">
            <a:noFill/>
          </a:ln>
        </p:spPr>
      </p:pic>
      <p:sp>
        <p:nvSpPr>
          <p:cNvPr id="5" name="Text Box 22"/>
          <p:cNvSpPr/>
          <p:nvPr/>
        </p:nvSpPr>
        <p:spPr>
          <a:xfrm>
            <a:off x="533520" y="380880"/>
            <a:ext cx="8229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American Wind Energy Associat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2280" y="3504960"/>
            <a:ext cx="8686800" cy="106668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Arial Unicode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3300"/>
              </a:solidFill>
              <a:latin typeface="Arial Unicode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Presentation by: </a:t>
            </a:r>
            <a:r>
              <a:rPr b="0" lang="en-US" sz="2800" spc="-1" strike="noStrike">
                <a:solidFill>
                  <a:srgbClr val="993300"/>
                </a:solidFill>
                <a:latin typeface="Arial Unicode MS"/>
              </a:rPr>
              <a:t>	</a:t>
            </a:r>
            <a:r>
              <a:rPr b="0" lang="en-US" sz="2800" spc="-1" strike="noStrike">
                <a:solidFill>
                  <a:srgbClr val="993300"/>
                </a:solidFill>
                <a:latin typeface="Arial Unicode MS"/>
              </a:rPr>
              <a:t>Randall Swisher, Executive Director </a:t>
            </a:r>
            <a:endParaRPr b="0" lang="en-US" sz="2800" spc="-1" strike="noStrike">
              <a:solidFill>
                <a:srgbClr val="993300"/>
              </a:solidFill>
              <a:latin typeface="Arial Unicode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	</a:t>
            </a:r>
            <a:r>
              <a:rPr b="0" lang="en-US" sz="2800" spc="-1" strike="noStrike">
                <a:solidFill>
                  <a:srgbClr val="993300"/>
                </a:solidFill>
                <a:latin typeface="Arial Unicode MS"/>
              </a:rPr>
              <a:t>	</a:t>
            </a:r>
            <a:r>
              <a:rPr b="0" lang="en-US" sz="2800" spc="-1" strike="noStrike">
                <a:solidFill>
                  <a:srgbClr val="993300"/>
                </a:solidFill>
                <a:latin typeface="Arial Unicode MS"/>
              </a:rPr>
              <a:t>	</a:t>
            </a:r>
            <a:r>
              <a:rPr b="0" lang="en-US" sz="2800" spc="-1" strike="noStrike">
                <a:solidFill>
                  <a:srgbClr val="993300"/>
                </a:solidFill>
                <a:latin typeface="Arial Unicode MS"/>
              </a:rPr>
              <a:t>American Wind Energy Association</a:t>
            </a:r>
            <a:endParaRPr b="0" lang="en-US" sz="2800" spc="-1" strike="noStrike">
              <a:solidFill>
                <a:srgbClr val="993300"/>
              </a:solidFill>
              <a:latin typeface="Arial Unicode MS"/>
            </a:endParaRPr>
          </a:p>
        </p:txBody>
      </p:sp>
      <p:sp>
        <p:nvSpPr>
          <p:cNvPr id="50" name="Text Box 4"/>
          <p:cNvSpPr/>
          <p:nvPr/>
        </p:nvSpPr>
        <p:spPr>
          <a:xfrm>
            <a:off x="0" y="76212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Wind Market Overview</a:t>
            </a:r>
            <a:endParaRPr b="0" lang="en-US" sz="4400" spc="-1" strike="noStrike">
              <a:solidFill>
                <a:srgbClr val="000000"/>
              </a:solidFill>
              <a:latin typeface="Arial"/>
            </a:endParaRPr>
          </a:p>
        </p:txBody>
      </p:sp>
      <p:sp>
        <p:nvSpPr>
          <p:cNvPr id="51" name="Text Box 5"/>
          <p:cNvSpPr/>
          <p:nvPr/>
        </p:nvSpPr>
        <p:spPr>
          <a:xfrm>
            <a:off x="228600" y="1143000"/>
            <a:ext cx="8229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G Renewable Energy Semina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ne 22, 2005</a:t>
            </a:r>
            <a:endParaRPr b="0" lang="en-US" sz="3600" spc="-1" strike="noStrike">
              <a:solidFill>
                <a:srgbClr val="000000"/>
              </a:solidFill>
              <a:latin typeface="Arial"/>
            </a:endParaRPr>
          </a:p>
        </p:txBody>
      </p:sp>
      <p:pic>
        <p:nvPicPr>
          <p:cNvPr id="52" name="Picture 1029" descr="bigpic_windfarm"/>
          <p:cNvPicPr/>
          <p:nvPr/>
        </p:nvPicPr>
        <p:blipFill>
          <a:blip r:embed="rId1"/>
          <a:stretch/>
        </p:blipFill>
        <p:spPr>
          <a:xfrm>
            <a:off x="1295280" y="3048120"/>
            <a:ext cx="6651720" cy="132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9903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ind Is Growing Worldwide</a:t>
            </a:r>
            <a:br>
              <a:rPr sz="4400"/>
            </a:br>
            <a:endParaRPr b="0" lang="en-US" sz="4400" spc="-1" strike="noStrike">
              <a:solidFill>
                <a:srgbClr val="000000"/>
              </a:solidFill>
              <a:latin typeface="Arial Unicode MS"/>
            </a:endParaRPr>
          </a:p>
        </p:txBody>
      </p:sp>
      <p:graphicFrame>
        <p:nvGraphicFramePr>
          <p:cNvPr id="93" name="Object 3"/>
          <p:cNvGraphicFramePr/>
          <p:nvPr/>
        </p:nvGraphicFramePr>
        <p:xfrm>
          <a:off x="3351240" y="2133720"/>
          <a:ext cx="5008680" cy="2627280"/>
        </p:xfrm>
        <a:graphic>
          <a:graphicData uri="http://schemas.openxmlformats.org/presentationml/2006/ole">
            <p:oleObj progId="Excel.Sheet.12" r:id="rId1" spid="">
              <p:embed/>
              <p:pic>
                <p:nvPicPr>
                  <p:cNvPr id="94" name="Object 3" descr=""/>
                  <p:cNvPicPr/>
                  <p:nvPr/>
                </p:nvPicPr>
                <p:blipFill>
                  <a:blip r:embed="rId2"/>
                  <a:stretch/>
                </p:blipFill>
                <p:spPr>
                  <a:xfrm>
                    <a:off x="3351240" y="2133720"/>
                    <a:ext cx="5008680" cy="2627280"/>
                  </a:xfrm>
                  <a:prstGeom prst="rect">
                    <a:avLst/>
                  </a:prstGeom>
                  <a:ln w="0">
                    <a:noFill/>
                  </a:ln>
                </p:spPr>
              </p:pic>
            </p:oleObj>
          </a:graphicData>
        </a:graphic>
      </p:graphicFrame>
      <p:sp>
        <p:nvSpPr>
          <p:cNvPr id="95" name="Text Box 4"/>
          <p:cNvSpPr/>
          <p:nvPr/>
        </p:nvSpPr>
        <p:spPr>
          <a:xfrm>
            <a:off x="5562720" y="5410080"/>
            <a:ext cx="327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AWEA’s Global Market Report</a:t>
            </a:r>
            <a:endParaRPr b="0" lang="en-US" sz="1400" spc="-1" strike="noStrike">
              <a:solidFill>
                <a:srgbClr val="000000"/>
              </a:solidFill>
              <a:latin typeface="Arial"/>
            </a:endParaRPr>
          </a:p>
        </p:txBody>
      </p:sp>
      <p:sp>
        <p:nvSpPr>
          <p:cNvPr id="96" name="Rectangle 5"/>
          <p:cNvSpPr/>
          <p:nvPr/>
        </p:nvSpPr>
        <p:spPr>
          <a:xfrm>
            <a:off x="0" y="2133720"/>
            <a:ext cx="3352680" cy="2037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rmany: 16,629 MW</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in:  8,263 MW</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ed States: 6,740 MW </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nmark: 3,117 MW</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a: 3,000 MW  </a:t>
            </a:r>
            <a:endParaRPr b="0" lang="en-US" sz="1800" spc="-1" strike="noStrike">
              <a:solidFill>
                <a:srgbClr val="000000"/>
              </a:solidFill>
              <a:latin typeface="Arial"/>
            </a:endParaRPr>
          </a:p>
        </p:txBody>
      </p:sp>
      <p:sp>
        <p:nvSpPr>
          <p:cNvPr id="97" name="Text Box 6"/>
          <p:cNvSpPr/>
          <p:nvPr/>
        </p:nvSpPr>
        <p:spPr>
          <a:xfrm>
            <a:off x="1523880" y="1413000"/>
            <a:ext cx="3048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Text Box 7"/>
          <p:cNvSpPr/>
          <p:nvPr/>
        </p:nvSpPr>
        <p:spPr>
          <a:xfrm>
            <a:off x="1523880" y="1336680"/>
            <a:ext cx="306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Text Box 8"/>
          <p:cNvSpPr/>
          <p:nvPr/>
        </p:nvSpPr>
        <p:spPr>
          <a:xfrm>
            <a:off x="0" y="13716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Global Wind Capacity More Than Tripled in Last Five Year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0" name="Text Box 10"/>
          <p:cNvSpPr/>
          <p:nvPr/>
        </p:nvSpPr>
        <p:spPr>
          <a:xfrm>
            <a:off x="384480" y="4876920"/>
            <a:ext cx="79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Cumulative Total Over 47,300 MW by end of 200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Wind Has Hit Sustained Takeoff in the U.S.</a:t>
            </a:r>
            <a:endParaRPr b="0" lang="en-US" sz="4000" spc="-1" strike="noStrike">
              <a:solidFill>
                <a:srgbClr val="000000"/>
              </a:solidFill>
              <a:latin typeface="Arial Unicode MS"/>
            </a:endParaRPr>
          </a:p>
        </p:txBody>
      </p:sp>
      <p:sp>
        <p:nvSpPr>
          <p:cNvPr id="102" name="PlaceHolder 2"/>
          <p:cNvSpPr>
            <a:spLocks noGrp="1"/>
          </p:cNvSpPr>
          <p:nvPr>
            <p:ph/>
          </p:nvPr>
        </p:nvSpPr>
        <p:spPr>
          <a:xfrm>
            <a:off x="609480" y="2209680"/>
            <a:ext cx="8305920" cy="3276720"/>
          </a:xfrm>
          <a:prstGeom prst="rect">
            <a:avLst/>
          </a:prstGeom>
          <a:noFill/>
          <a:ln w="0">
            <a:noFill/>
          </a:ln>
        </p:spPr>
        <p:txBody>
          <a:bodyPr anchor="t">
            <a:normAutofit/>
          </a:bodyPr>
          <a:p>
            <a:pPr marL="343080" indent="-343080">
              <a:lnSpc>
                <a:spcPct val="90000"/>
              </a:lnSpc>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2005 will be a record year – about 2,500 MW</a:t>
            </a:r>
            <a:endParaRPr b="0" lang="en-US" sz="2400" spc="-1" strike="noStrike">
              <a:solidFill>
                <a:srgbClr val="993300"/>
              </a:solidFill>
              <a:latin typeface="Arial Unicode MS"/>
            </a:endParaRPr>
          </a:p>
          <a:p>
            <a:pPr marL="343080" indent="-343080">
              <a:lnSpc>
                <a:spcPct val="90000"/>
              </a:lnSpc>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6,740 MW now installed</a:t>
            </a:r>
            <a:endParaRPr b="0" lang="en-US" sz="2400" spc="-1" strike="noStrike">
              <a:solidFill>
                <a:srgbClr val="993300"/>
              </a:solidFill>
              <a:latin typeface="Arial Unicode MS"/>
            </a:endParaRPr>
          </a:p>
          <a:p>
            <a:pPr marL="343080" indent="-343080">
              <a:lnSpc>
                <a:spcPct val="90000"/>
              </a:lnSpc>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Market fundamentals are strong</a:t>
            </a:r>
            <a:endParaRPr b="0" lang="en-US" sz="2400" spc="-1" strike="noStrike">
              <a:solidFill>
                <a:srgbClr val="993300"/>
              </a:solidFill>
              <a:latin typeface="Arial Unicode MS"/>
            </a:endParaRPr>
          </a:p>
          <a:p>
            <a:pPr lvl="1" marL="743040" indent="-285840">
              <a:lnSpc>
                <a:spcPct val="90000"/>
              </a:lnSpc>
              <a:spcBef>
                <a:spcPts val="4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Unicode MS"/>
              </a:rPr>
              <a:t>Wind’s Competitive Posture Strong and Improving</a:t>
            </a:r>
            <a:endParaRPr b="0" lang="en-US" sz="2000" spc="-1" strike="noStrike">
              <a:solidFill>
                <a:srgbClr val="993300"/>
              </a:solidFill>
              <a:latin typeface="Arial Unicode MS"/>
            </a:endParaRPr>
          </a:p>
          <a:p>
            <a:pPr lvl="2" marL="1143000" indent="-228600">
              <a:lnSpc>
                <a:spcPct val="90000"/>
              </a:lnSpc>
              <a:spcBef>
                <a:spcPts val="451"/>
              </a:spcBef>
              <a:buClr>
                <a:srgbClr val="9933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00"/>
                </a:solidFill>
                <a:latin typeface="Arial Unicode MS"/>
              </a:rPr>
              <a:t>No Longer “Alternative Energy”</a:t>
            </a:r>
            <a:endParaRPr b="0" lang="en-US" sz="1800" spc="-1" strike="noStrike">
              <a:solidFill>
                <a:srgbClr val="993300"/>
              </a:solidFill>
              <a:latin typeface="Arial Unicode MS"/>
            </a:endParaRPr>
          </a:p>
          <a:p>
            <a:pPr lvl="1" marL="743040" indent="-285840">
              <a:lnSpc>
                <a:spcPct val="90000"/>
              </a:lnSpc>
              <a:spcBef>
                <a:spcPts val="4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Unicode MS"/>
              </a:rPr>
              <a:t>Growing Interest Within Financial Community</a:t>
            </a:r>
            <a:endParaRPr b="0" lang="en-US" sz="2000" spc="-1" strike="noStrike">
              <a:solidFill>
                <a:srgbClr val="993300"/>
              </a:solidFill>
              <a:latin typeface="Arial Unicode MS"/>
            </a:endParaRPr>
          </a:p>
          <a:p>
            <a:pPr lvl="1" marL="743040" indent="-285840">
              <a:lnSpc>
                <a:spcPct val="90000"/>
              </a:lnSpc>
              <a:spcBef>
                <a:spcPts val="4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Unicode MS"/>
              </a:rPr>
              <a:t>U.S. Should be World’s Largest Wind Market Over Next Decade</a:t>
            </a:r>
            <a:endParaRPr b="0" lang="en-US" sz="2000" spc="-1" strike="noStrike">
              <a:solidFill>
                <a:srgbClr val="993300"/>
              </a:solidFill>
              <a:latin typeface="Arial Unicode MS"/>
            </a:endParaRPr>
          </a:p>
          <a:p>
            <a:pPr marL="343080" indent="-343080">
              <a:lnSpc>
                <a:spcPct val="90000"/>
              </a:lnSpc>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Consistent policy is key current constraint</a:t>
            </a:r>
            <a:endParaRPr b="0" lang="en-US" sz="2400" spc="-1" strike="noStrike">
              <a:solidFill>
                <a:srgbClr val="9933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Object 2"/>
          <p:cNvGraphicFramePr/>
          <p:nvPr/>
        </p:nvGraphicFramePr>
        <p:xfrm>
          <a:off x="762120" y="609480"/>
          <a:ext cx="6618240" cy="4716720"/>
        </p:xfrm>
        <a:graphic>
          <a:graphicData uri="http://schemas.openxmlformats.org/presentationml/2006/ole">
            <p:oleObj progId="Excel.Sheet.12" r:id="rId1" spid="">
              <p:embed/>
              <p:pic>
                <p:nvPicPr>
                  <p:cNvPr id="104" name="Object 2" descr=""/>
                  <p:cNvPicPr/>
                  <p:nvPr/>
                </p:nvPicPr>
                <p:blipFill>
                  <a:blip r:embed="rId2"/>
                  <a:stretch/>
                </p:blipFill>
                <p:spPr>
                  <a:xfrm>
                    <a:off x="762120" y="609480"/>
                    <a:ext cx="6618240" cy="4716720"/>
                  </a:xfrm>
                  <a:prstGeom prst="rect">
                    <a:avLst/>
                  </a:prstGeom>
                  <a:ln w="0">
                    <a:noFill/>
                  </a:ln>
                </p:spPr>
              </p:pic>
            </p:oleObj>
          </a:graphicData>
        </a:graphic>
      </p:graphicFrame>
      <p:sp>
        <p:nvSpPr>
          <p:cNvPr id="105" name="Text Box 3"/>
          <p:cNvSpPr/>
          <p:nvPr/>
        </p:nvSpPr>
        <p:spPr>
          <a:xfrm>
            <a:off x="307440" y="5105520"/>
            <a:ext cx="837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nsistent Policy Yields an “Up and Down” Mark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iving Forces Behind Wind’s                       </a:t>
            </a:r>
            <a:r>
              <a:rPr b="0" lang="en-US" sz="4400" spc="-1" strike="noStrike">
                <a:solidFill>
                  <a:srgbClr val="000000"/>
                </a:solidFill>
                <a:latin typeface="Arial"/>
              </a:rPr>
              <a:t>	</a:t>
            </a:r>
            <a:r>
              <a:rPr b="0" lang="en-US" sz="4400" spc="-1" strike="noStrike">
                <a:solidFill>
                  <a:srgbClr val="000000"/>
                </a:solidFill>
                <a:latin typeface="Arial"/>
              </a:rPr>
              <a:t>     Growth in U.S.</a:t>
            </a:r>
            <a:endParaRPr b="0" lang="en-US" sz="4400" spc="-1" strike="noStrike">
              <a:solidFill>
                <a:srgbClr val="000000"/>
              </a:solidFill>
              <a:latin typeface="Arial Unicode MS"/>
            </a:endParaRPr>
          </a:p>
        </p:txBody>
      </p:sp>
      <p:sp>
        <p:nvSpPr>
          <p:cNvPr id="107" name="PlaceHolder 2"/>
          <p:cNvSpPr>
            <a:spLocks noGrp="1"/>
          </p:cNvSpPr>
          <p:nvPr>
            <p:ph/>
          </p:nvPr>
        </p:nvSpPr>
        <p:spPr>
          <a:xfrm>
            <a:off x="3809880" y="2209680"/>
            <a:ext cx="5029200" cy="3657600"/>
          </a:xfrm>
          <a:prstGeom prst="rect">
            <a:avLst/>
          </a:prstGeom>
          <a:noFill/>
          <a:ln w="0">
            <a:noFill/>
          </a:ln>
        </p:spPr>
        <p:txBody>
          <a:bodyPr anchor="t">
            <a:normAutofit/>
          </a:bodyPr>
          <a:p>
            <a:pPr marL="343080" indent="-343080">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Wind’s Steadily Improving Economics</a:t>
            </a:r>
            <a:endParaRPr b="0" lang="en-US" sz="2800" spc="-1" strike="noStrike">
              <a:solidFill>
                <a:srgbClr val="993300"/>
              </a:solidFill>
              <a:latin typeface="Arial Unicode MS"/>
            </a:endParaRPr>
          </a:p>
          <a:p>
            <a:pPr marL="343080" indent="-343080">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State Policy</a:t>
            </a:r>
            <a:endParaRPr b="0" lang="en-US" sz="2800" spc="-1" strike="noStrike">
              <a:solidFill>
                <a:srgbClr val="993300"/>
              </a:solidFill>
              <a:latin typeface="Arial Unicode MS"/>
            </a:endParaRPr>
          </a:p>
          <a:p>
            <a:pPr marL="343080" indent="-343080">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Gas Price Volatility</a:t>
            </a:r>
            <a:endParaRPr b="0" lang="en-US" sz="2800" spc="-1" strike="noStrike">
              <a:solidFill>
                <a:srgbClr val="993300"/>
              </a:solidFill>
              <a:latin typeface="Arial Unicode MS"/>
            </a:endParaRPr>
          </a:p>
          <a:p>
            <a:pPr marL="343080" indent="-343080">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Utility Experience and Perspective</a:t>
            </a:r>
            <a:endParaRPr b="0" lang="en-US" sz="2800" spc="-1" strike="noStrike">
              <a:solidFill>
                <a:srgbClr val="993300"/>
              </a:solidFill>
              <a:latin typeface="Arial Unicode MS"/>
            </a:endParaRPr>
          </a:p>
          <a:p>
            <a:pPr marL="343080" indent="-343080">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Environmental Issues</a:t>
            </a:r>
            <a:endParaRPr b="0" lang="en-US" sz="2800" spc="-1" strike="noStrike">
              <a:solidFill>
                <a:srgbClr val="993300"/>
              </a:solidFill>
              <a:latin typeface="Arial Unicode MS"/>
            </a:endParaRPr>
          </a:p>
        </p:txBody>
      </p:sp>
      <p:pic>
        <p:nvPicPr>
          <p:cNvPr id="108" name="Picture 4" descr="KIDSTRBN"/>
          <p:cNvPicPr/>
          <p:nvPr/>
        </p:nvPicPr>
        <p:blipFill>
          <a:blip r:embed="rId1"/>
          <a:stretch/>
        </p:blipFill>
        <p:spPr>
          <a:xfrm>
            <a:off x="304920" y="1523880"/>
            <a:ext cx="2989080" cy="419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5867280" y="3885840"/>
            <a:ext cx="3276720" cy="1981080"/>
          </a:xfrm>
          <a:prstGeom prst="rect">
            <a:avLst/>
          </a:prstGeom>
          <a:noFill/>
          <a:ln w="0">
            <a:noFill/>
          </a:ln>
        </p:spPr>
        <p:txBody>
          <a:bodyPr anchor="t">
            <a:normAutofit/>
          </a:bodyPr>
          <a:p>
            <a:pPr marL="285840" indent="-285840">
              <a:spcBef>
                <a:spcPts val="4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Unicode MS"/>
              </a:rPr>
              <a:t>19 state standards</a:t>
            </a:r>
            <a:endParaRPr b="0" lang="en-US" sz="2000" spc="-1" strike="noStrike">
              <a:solidFill>
                <a:srgbClr val="993300"/>
              </a:solidFill>
              <a:latin typeface="Arial Unicode MS"/>
            </a:endParaRPr>
          </a:p>
          <a:p>
            <a:pPr marL="285840" indent="-285840">
              <a:spcBef>
                <a:spcPts val="4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Unicode MS"/>
              </a:rPr>
              <a:t>Technology, vintage, credit trading, sunset, location eligibility requirements differ</a:t>
            </a:r>
            <a:endParaRPr b="0" lang="en-US" sz="2000" spc="-1" strike="noStrike">
              <a:solidFill>
                <a:srgbClr val="993300"/>
              </a:solidFill>
              <a:latin typeface="Arial Unicode MS"/>
            </a:endParaRPr>
          </a:p>
        </p:txBody>
      </p:sp>
      <p:sp>
        <p:nvSpPr>
          <p:cNvPr id="110" name="Freeform 3"/>
          <p:cNvSpPr/>
          <p:nvPr/>
        </p:nvSpPr>
        <p:spPr>
          <a:xfrm>
            <a:off x="5230800" y="3268800"/>
            <a:ext cx="665280" cy="466560"/>
          </a:xfrm>
          <a:custGeom>
            <a:avLst/>
            <a:gdLst>
              <a:gd name="textAreaLeft" fmla="*/ 0 w 665280"/>
              <a:gd name="textAreaRight" fmla="*/ 665640 w 665280"/>
              <a:gd name="textAreaTop" fmla="*/ 0 h 466560"/>
              <a:gd name="textAreaBottom" fmla="*/ 466920 h 466560"/>
            </a:gdLst>
            <a:ahLst/>
            <a:rect l="textAreaLeft" t="textAreaTop" r="textAreaRight" b="textAreaBottom"/>
            <a:pathLst>
              <a:path w="1098" h="891">
                <a:moveTo>
                  <a:pt x="719" y="742"/>
                </a:moveTo>
                <a:lnTo>
                  <a:pt x="732" y="738"/>
                </a:lnTo>
                <a:lnTo>
                  <a:pt x="737" y="736"/>
                </a:lnTo>
                <a:lnTo>
                  <a:pt x="756" y="732"/>
                </a:lnTo>
                <a:lnTo>
                  <a:pt x="767" y="729"/>
                </a:lnTo>
                <a:lnTo>
                  <a:pt x="788" y="722"/>
                </a:lnTo>
                <a:lnTo>
                  <a:pt x="795" y="721"/>
                </a:lnTo>
                <a:lnTo>
                  <a:pt x="804" y="719"/>
                </a:lnTo>
                <a:lnTo>
                  <a:pt x="807" y="718"/>
                </a:lnTo>
                <a:lnTo>
                  <a:pt x="853" y="705"/>
                </a:lnTo>
                <a:lnTo>
                  <a:pt x="855" y="705"/>
                </a:lnTo>
                <a:lnTo>
                  <a:pt x="872" y="701"/>
                </a:lnTo>
                <a:lnTo>
                  <a:pt x="899" y="692"/>
                </a:lnTo>
                <a:lnTo>
                  <a:pt x="917" y="688"/>
                </a:lnTo>
                <a:lnTo>
                  <a:pt x="932" y="684"/>
                </a:lnTo>
                <a:lnTo>
                  <a:pt x="936" y="682"/>
                </a:lnTo>
                <a:lnTo>
                  <a:pt x="937" y="674"/>
                </a:lnTo>
                <a:lnTo>
                  <a:pt x="961" y="640"/>
                </a:lnTo>
                <a:lnTo>
                  <a:pt x="963" y="640"/>
                </a:lnTo>
                <a:lnTo>
                  <a:pt x="978" y="637"/>
                </a:lnTo>
                <a:lnTo>
                  <a:pt x="995" y="641"/>
                </a:lnTo>
                <a:lnTo>
                  <a:pt x="1001" y="633"/>
                </a:lnTo>
                <a:lnTo>
                  <a:pt x="1021" y="619"/>
                </a:lnTo>
                <a:lnTo>
                  <a:pt x="1027" y="613"/>
                </a:lnTo>
                <a:lnTo>
                  <a:pt x="1028" y="611"/>
                </a:lnTo>
                <a:lnTo>
                  <a:pt x="1029" y="610"/>
                </a:lnTo>
                <a:lnTo>
                  <a:pt x="1039" y="603"/>
                </a:lnTo>
                <a:lnTo>
                  <a:pt x="1040" y="599"/>
                </a:lnTo>
                <a:lnTo>
                  <a:pt x="1037" y="580"/>
                </a:lnTo>
                <a:lnTo>
                  <a:pt x="1047" y="569"/>
                </a:lnTo>
                <a:lnTo>
                  <a:pt x="1048" y="566"/>
                </a:lnTo>
                <a:lnTo>
                  <a:pt x="1056" y="555"/>
                </a:lnTo>
                <a:lnTo>
                  <a:pt x="1059" y="548"/>
                </a:lnTo>
                <a:lnTo>
                  <a:pt x="1075" y="533"/>
                </a:lnTo>
                <a:lnTo>
                  <a:pt x="1084" y="518"/>
                </a:lnTo>
                <a:lnTo>
                  <a:pt x="1098" y="507"/>
                </a:lnTo>
                <a:lnTo>
                  <a:pt x="1072" y="482"/>
                </a:lnTo>
                <a:lnTo>
                  <a:pt x="1063" y="470"/>
                </a:lnTo>
                <a:lnTo>
                  <a:pt x="1049" y="461"/>
                </a:lnTo>
                <a:lnTo>
                  <a:pt x="1045" y="453"/>
                </a:lnTo>
                <a:lnTo>
                  <a:pt x="1004" y="403"/>
                </a:lnTo>
                <a:lnTo>
                  <a:pt x="992" y="400"/>
                </a:lnTo>
                <a:lnTo>
                  <a:pt x="991" y="397"/>
                </a:lnTo>
                <a:lnTo>
                  <a:pt x="989" y="396"/>
                </a:lnTo>
                <a:lnTo>
                  <a:pt x="983" y="355"/>
                </a:lnTo>
                <a:lnTo>
                  <a:pt x="1001" y="312"/>
                </a:lnTo>
                <a:lnTo>
                  <a:pt x="984" y="288"/>
                </a:lnTo>
                <a:lnTo>
                  <a:pt x="980" y="282"/>
                </a:lnTo>
                <a:lnTo>
                  <a:pt x="1000" y="251"/>
                </a:lnTo>
                <a:lnTo>
                  <a:pt x="1004" y="244"/>
                </a:lnTo>
                <a:lnTo>
                  <a:pt x="1003" y="243"/>
                </a:lnTo>
                <a:lnTo>
                  <a:pt x="1000" y="246"/>
                </a:lnTo>
                <a:lnTo>
                  <a:pt x="1013" y="216"/>
                </a:lnTo>
                <a:lnTo>
                  <a:pt x="1015" y="193"/>
                </a:lnTo>
                <a:lnTo>
                  <a:pt x="1027" y="160"/>
                </a:lnTo>
                <a:lnTo>
                  <a:pt x="1036" y="153"/>
                </a:lnTo>
                <a:lnTo>
                  <a:pt x="1034" y="149"/>
                </a:lnTo>
                <a:lnTo>
                  <a:pt x="1024" y="136"/>
                </a:lnTo>
                <a:lnTo>
                  <a:pt x="1023" y="138"/>
                </a:lnTo>
                <a:lnTo>
                  <a:pt x="1001" y="138"/>
                </a:lnTo>
                <a:lnTo>
                  <a:pt x="976" y="125"/>
                </a:lnTo>
                <a:lnTo>
                  <a:pt x="959" y="101"/>
                </a:lnTo>
                <a:lnTo>
                  <a:pt x="962" y="94"/>
                </a:lnTo>
                <a:lnTo>
                  <a:pt x="954" y="57"/>
                </a:lnTo>
                <a:lnTo>
                  <a:pt x="932" y="33"/>
                </a:lnTo>
                <a:lnTo>
                  <a:pt x="928" y="29"/>
                </a:lnTo>
                <a:lnTo>
                  <a:pt x="914" y="34"/>
                </a:lnTo>
                <a:lnTo>
                  <a:pt x="888" y="0"/>
                </a:lnTo>
                <a:lnTo>
                  <a:pt x="885" y="0"/>
                </a:lnTo>
                <a:lnTo>
                  <a:pt x="866" y="6"/>
                </a:lnTo>
                <a:lnTo>
                  <a:pt x="812" y="21"/>
                </a:lnTo>
                <a:lnTo>
                  <a:pt x="778" y="31"/>
                </a:lnTo>
                <a:lnTo>
                  <a:pt x="760" y="36"/>
                </a:lnTo>
                <a:lnTo>
                  <a:pt x="756" y="37"/>
                </a:lnTo>
                <a:lnTo>
                  <a:pt x="753" y="37"/>
                </a:lnTo>
                <a:lnTo>
                  <a:pt x="735" y="43"/>
                </a:lnTo>
                <a:lnTo>
                  <a:pt x="713" y="48"/>
                </a:lnTo>
                <a:lnTo>
                  <a:pt x="682" y="57"/>
                </a:lnTo>
                <a:lnTo>
                  <a:pt x="642" y="67"/>
                </a:lnTo>
                <a:lnTo>
                  <a:pt x="627" y="70"/>
                </a:lnTo>
                <a:lnTo>
                  <a:pt x="618" y="73"/>
                </a:lnTo>
                <a:lnTo>
                  <a:pt x="611" y="74"/>
                </a:lnTo>
                <a:lnTo>
                  <a:pt x="592" y="80"/>
                </a:lnTo>
                <a:lnTo>
                  <a:pt x="519" y="99"/>
                </a:lnTo>
                <a:lnTo>
                  <a:pt x="500" y="104"/>
                </a:lnTo>
                <a:lnTo>
                  <a:pt x="498" y="104"/>
                </a:lnTo>
                <a:lnTo>
                  <a:pt x="484" y="108"/>
                </a:lnTo>
                <a:lnTo>
                  <a:pt x="476" y="109"/>
                </a:lnTo>
                <a:lnTo>
                  <a:pt x="450" y="116"/>
                </a:lnTo>
                <a:lnTo>
                  <a:pt x="412" y="125"/>
                </a:lnTo>
                <a:lnTo>
                  <a:pt x="397" y="129"/>
                </a:lnTo>
                <a:lnTo>
                  <a:pt x="390" y="131"/>
                </a:lnTo>
                <a:lnTo>
                  <a:pt x="380" y="133"/>
                </a:lnTo>
                <a:lnTo>
                  <a:pt x="325" y="146"/>
                </a:lnTo>
                <a:lnTo>
                  <a:pt x="285" y="156"/>
                </a:lnTo>
                <a:lnTo>
                  <a:pt x="275" y="159"/>
                </a:lnTo>
                <a:lnTo>
                  <a:pt x="262" y="162"/>
                </a:lnTo>
                <a:lnTo>
                  <a:pt x="261" y="162"/>
                </a:lnTo>
                <a:lnTo>
                  <a:pt x="250" y="165"/>
                </a:lnTo>
                <a:lnTo>
                  <a:pt x="230" y="169"/>
                </a:lnTo>
                <a:lnTo>
                  <a:pt x="179" y="182"/>
                </a:lnTo>
                <a:lnTo>
                  <a:pt x="155" y="187"/>
                </a:lnTo>
                <a:lnTo>
                  <a:pt x="148" y="189"/>
                </a:lnTo>
                <a:lnTo>
                  <a:pt x="130" y="193"/>
                </a:lnTo>
                <a:lnTo>
                  <a:pt x="117" y="114"/>
                </a:lnTo>
                <a:lnTo>
                  <a:pt x="57" y="172"/>
                </a:lnTo>
                <a:lnTo>
                  <a:pt x="10" y="219"/>
                </a:lnTo>
                <a:lnTo>
                  <a:pt x="0" y="227"/>
                </a:lnTo>
                <a:lnTo>
                  <a:pt x="3" y="258"/>
                </a:lnTo>
                <a:lnTo>
                  <a:pt x="4" y="265"/>
                </a:lnTo>
                <a:lnTo>
                  <a:pt x="10" y="305"/>
                </a:lnTo>
                <a:lnTo>
                  <a:pt x="13" y="331"/>
                </a:lnTo>
                <a:lnTo>
                  <a:pt x="19" y="368"/>
                </a:lnTo>
                <a:lnTo>
                  <a:pt x="19" y="372"/>
                </a:lnTo>
                <a:lnTo>
                  <a:pt x="24" y="404"/>
                </a:lnTo>
                <a:lnTo>
                  <a:pt x="27" y="430"/>
                </a:lnTo>
                <a:lnTo>
                  <a:pt x="34" y="475"/>
                </a:lnTo>
                <a:lnTo>
                  <a:pt x="34" y="478"/>
                </a:lnTo>
                <a:lnTo>
                  <a:pt x="40" y="515"/>
                </a:lnTo>
                <a:lnTo>
                  <a:pt x="41" y="522"/>
                </a:lnTo>
                <a:lnTo>
                  <a:pt x="43" y="543"/>
                </a:lnTo>
                <a:lnTo>
                  <a:pt x="44" y="552"/>
                </a:lnTo>
                <a:lnTo>
                  <a:pt x="45" y="558"/>
                </a:lnTo>
                <a:lnTo>
                  <a:pt x="48" y="576"/>
                </a:lnTo>
                <a:lnTo>
                  <a:pt x="51" y="594"/>
                </a:lnTo>
                <a:lnTo>
                  <a:pt x="54" y="621"/>
                </a:lnTo>
                <a:lnTo>
                  <a:pt x="54" y="624"/>
                </a:lnTo>
                <a:lnTo>
                  <a:pt x="57" y="634"/>
                </a:lnTo>
                <a:lnTo>
                  <a:pt x="61" y="668"/>
                </a:lnTo>
                <a:lnTo>
                  <a:pt x="61" y="674"/>
                </a:lnTo>
                <a:lnTo>
                  <a:pt x="62" y="682"/>
                </a:lnTo>
                <a:lnTo>
                  <a:pt x="64" y="691"/>
                </a:lnTo>
                <a:lnTo>
                  <a:pt x="70" y="735"/>
                </a:lnTo>
                <a:lnTo>
                  <a:pt x="70" y="741"/>
                </a:lnTo>
                <a:lnTo>
                  <a:pt x="74" y="762"/>
                </a:lnTo>
                <a:lnTo>
                  <a:pt x="75" y="766"/>
                </a:lnTo>
                <a:lnTo>
                  <a:pt x="78" y="790"/>
                </a:lnTo>
                <a:lnTo>
                  <a:pt x="80" y="803"/>
                </a:lnTo>
                <a:lnTo>
                  <a:pt x="81" y="809"/>
                </a:lnTo>
                <a:lnTo>
                  <a:pt x="82" y="820"/>
                </a:lnTo>
                <a:lnTo>
                  <a:pt x="91" y="882"/>
                </a:lnTo>
                <a:lnTo>
                  <a:pt x="91" y="885"/>
                </a:lnTo>
                <a:lnTo>
                  <a:pt x="92" y="891"/>
                </a:lnTo>
                <a:lnTo>
                  <a:pt x="96" y="889"/>
                </a:lnTo>
                <a:lnTo>
                  <a:pt x="109" y="887"/>
                </a:lnTo>
                <a:lnTo>
                  <a:pt x="115" y="885"/>
                </a:lnTo>
                <a:lnTo>
                  <a:pt x="117" y="885"/>
                </a:lnTo>
                <a:lnTo>
                  <a:pt x="200" y="867"/>
                </a:lnTo>
                <a:lnTo>
                  <a:pt x="208" y="865"/>
                </a:lnTo>
                <a:lnTo>
                  <a:pt x="218" y="862"/>
                </a:lnTo>
                <a:lnTo>
                  <a:pt x="227" y="861"/>
                </a:lnTo>
                <a:lnTo>
                  <a:pt x="259" y="854"/>
                </a:lnTo>
                <a:lnTo>
                  <a:pt x="265" y="853"/>
                </a:lnTo>
                <a:lnTo>
                  <a:pt x="278" y="850"/>
                </a:lnTo>
                <a:lnTo>
                  <a:pt x="284" y="848"/>
                </a:lnTo>
                <a:lnTo>
                  <a:pt x="289" y="847"/>
                </a:lnTo>
                <a:lnTo>
                  <a:pt x="293" y="845"/>
                </a:lnTo>
                <a:lnTo>
                  <a:pt x="348" y="833"/>
                </a:lnTo>
                <a:lnTo>
                  <a:pt x="355" y="831"/>
                </a:lnTo>
                <a:lnTo>
                  <a:pt x="378" y="826"/>
                </a:lnTo>
                <a:lnTo>
                  <a:pt x="385" y="824"/>
                </a:lnTo>
                <a:lnTo>
                  <a:pt x="390" y="823"/>
                </a:lnTo>
                <a:lnTo>
                  <a:pt x="397" y="821"/>
                </a:lnTo>
                <a:lnTo>
                  <a:pt x="445" y="810"/>
                </a:lnTo>
                <a:lnTo>
                  <a:pt x="452" y="807"/>
                </a:lnTo>
                <a:lnTo>
                  <a:pt x="473" y="803"/>
                </a:lnTo>
                <a:lnTo>
                  <a:pt x="474" y="803"/>
                </a:lnTo>
                <a:lnTo>
                  <a:pt x="480" y="802"/>
                </a:lnTo>
                <a:lnTo>
                  <a:pt x="497" y="797"/>
                </a:lnTo>
                <a:lnTo>
                  <a:pt x="523" y="790"/>
                </a:lnTo>
                <a:lnTo>
                  <a:pt x="540" y="786"/>
                </a:lnTo>
                <a:lnTo>
                  <a:pt x="629" y="765"/>
                </a:lnTo>
                <a:lnTo>
                  <a:pt x="635" y="763"/>
                </a:lnTo>
                <a:lnTo>
                  <a:pt x="637" y="763"/>
                </a:lnTo>
                <a:lnTo>
                  <a:pt x="642" y="762"/>
                </a:lnTo>
                <a:lnTo>
                  <a:pt x="661" y="756"/>
                </a:lnTo>
                <a:lnTo>
                  <a:pt x="680" y="752"/>
                </a:lnTo>
                <a:lnTo>
                  <a:pt x="709" y="743"/>
                </a:lnTo>
                <a:lnTo>
                  <a:pt x="719" y="74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1" name="Freeform 4"/>
          <p:cNvSpPr/>
          <p:nvPr/>
        </p:nvSpPr>
        <p:spPr>
          <a:xfrm>
            <a:off x="5959440" y="3168720"/>
            <a:ext cx="196920" cy="207720"/>
          </a:xfrm>
          <a:custGeom>
            <a:avLst/>
            <a:gdLst>
              <a:gd name="textAreaLeft" fmla="*/ 0 w 196920"/>
              <a:gd name="textAreaRight" fmla="*/ 197280 w 196920"/>
              <a:gd name="textAreaTop" fmla="*/ 0 h 207720"/>
              <a:gd name="textAreaBottom" fmla="*/ 208080 h 207720"/>
            </a:gdLst>
            <a:ahLst/>
            <a:rect l="textAreaLeft" t="textAreaTop" r="textAreaRight" b="textAreaBottom"/>
            <a:pathLst>
              <a:path w="326" h="400">
                <a:moveTo>
                  <a:pt x="118" y="317"/>
                </a:moveTo>
                <a:lnTo>
                  <a:pt x="137" y="286"/>
                </a:lnTo>
                <a:lnTo>
                  <a:pt x="173" y="275"/>
                </a:lnTo>
                <a:lnTo>
                  <a:pt x="194" y="261"/>
                </a:lnTo>
                <a:lnTo>
                  <a:pt x="211" y="262"/>
                </a:lnTo>
                <a:lnTo>
                  <a:pt x="214" y="259"/>
                </a:lnTo>
                <a:lnTo>
                  <a:pt x="243" y="245"/>
                </a:lnTo>
                <a:lnTo>
                  <a:pt x="299" y="215"/>
                </a:lnTo>
                <a:lnTo>
                  <a:pt x="310" y="207"/>
                </a:lnTo>
                <a:lnTo>
                  <a:pt x="315" y="204"/>
                </a:lnTo>
                <a:lnTo>
                  <a:pt x="319" y="205"/>
                </a:lnTo>
                <a:lnTo>
                  <a:pt x="326" y="174"/>
                </a:lnTo>
                <a:lnTo>
                  <a:pt x="317" y="122"/>
                </a:lnTo>
                <a:lnTo>
                  <a:pt x="315" y="113"/>
                </a:lnTo>
                <a:lnTo>
                  <a:pt x="315" y="109"/>
                </a:lnTo>
                <a:lnTo>
                  <a:pt x="314" y="105"/>
                </a:lnTo>
                <a:lnTo>
                  <a:pt x="313" y="100"/>
                </a:lnTo>
                <a:lnTo>
                  <a:pt x="309" y="85"/>
                </a:lnTo>
                <a:lnTo>
                  <a:pt x="307" y="78"/>
                </a:lnTo>
                <a:lnTo>
                  <a:pt x="295" y="25"/>
                </a:lnTo>
                <a:lnTo>
                  <a:pt x="290" y="4"/>
                </a:lnTo>
                <a:lnTo>
                  <a:pt x="289" y="0"/>
                </a:lnTo>
                <a:lnTo>
                  <a:pt x="243" y="12"/>
                </a:lnTo>
                <a:lnTo>
                  <a:pt x="237" y="14"/>
                </a:lnTo>
                <a:lnTo>
                  <a:pt x="236" y="15"/>
                </a:lnTo>
                <a:lnTo>
                  <a:pt x="234" y="15"/>
                </a:lnTo>
                <a:lnTo>
                  <a:pt x="231" y="15"/>
                </a:lnTo>
                <a:lnTo>
                  <a:pt x="199" y="25"/>
                </a:lnTo>
                <a:lnTo>
                  <a:pt x="191" y="28"/>
                </a:lnTo>
                <a:lnTo>
                  <a:pt x="167" y="35"/>
                </a:lnTo>
                <a:lnTo>
                  <a:pt x="117" y="62"/>
                </a:lnTo>
                <a:lnTo>
                  <a:pt x="116" y="51"/>
                </a:lnTo>
                <a:lnTo>
                  <a:pt x="83" y="61"/>
                </a:lnTo>
                <a:lnTo>
                  <a:pt x="75" y="62"/>
                </a:lnTo>
                <a:lnTo>
                  <a:pt x="19" y="76"/>
                </a:lnTo>
                <a:lnTo>
                  <a:pt x="8" y="79"/>
                </a:lnTo>
                <a:lnTo>
                  <a:pt x="0" y="82"/>
                </a:lnTo>
                <a:lnTo>
                  <a:pt x="3" y="98"/>
                </a:lnTo>
                <a:lnTo>
                  <a:pt x="13" y="170"/>
                </a:lnTo>
                <a:lnTo>
                  <a:pt x="16" y="195"/>
                </a:lnTo>
                <a:lnTo>
                  <a:pt x="19" y="207"/>
                </a:lnTo>
                <a:lnTo>
                  <a:pt x="20" y="214"/>
                </a:lnTo>
                <a:lnTo>
                  <a:pt x="22" y="237"/>
                </a:lnTo>
                <a:lnTo>
                  <a:pt x="27" y="264"/>
                </a:lnTo>
                <a:lnTo>
                  <a:pt x="28" y="271"/>
                </a:lnTo>
                <a:lnTo>
                  <a:pt x="30" y="283"/>
                </a:lnTo>
                <a:lnTo>
                  <a:pt x="48" y="324"/>
                </a:lnTo>
                <a:lnTo>
                  <a:pt x="13" y="370"/>
                </a:lnTo>
                <a:lnTo>
                  <a:pt x="32" y="400"/>
                </a:lnTo>
                <a:lnTo>
                  <a:pt x="75" y="363"/>
                </a:lnTo>
                <a:lnTo>
                  <a:pt x="94" y="337"/>
                </a:lnTo>
                <a:lnTo>
                  <a:pt x="118" y="317"/>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2" name="Freeform 5"/>
          <p:cNvSpPr/>
          <p:nvPr/>
        </p:nvSpPr>
        <p:spPr>
          <a:xfrm>
            <a:off x="5675400" y="3772080"/>
            <a:ext cx="23760" cy="26640"/>
          </a:xfrm>
          <a:custGeom>
            <a:avLst/>
            <a:gdLst>
              <a:gd name="textAreaLeft" fmla="*/ 0 w 23760"/>
              <a:gd name="textAreaRight" fmla="*/ 24120 w 23760"/>
              <a:gd name="textAreaTop" fmla="*/ 0 h 26640"/>
              <a:gd name="textAreaBottom" fmla="*/ 27000 h 26640"/>
            </a:gdLst>
            <a:ahLst/>
            <a:rect l="textAreaLeft" t="textAreaTop" r="textAreaRight" b="textAreaBottom"/>
            <a:pathLst>
              <a:path w="40" h="52">
                <a:moveTo>
                  <a:pt x="0" y="15"/>
                </a:moveTo>
                <a:lnTo>
                  <a:pt x="15" y="30"/>
                </a:lnTo>
                <a:lnTo>
                  <a:pt x="16" y="28"/>
                </a:lnTo>
                <a:lnTo>
                  <a:pt x="17" y="38"/>
                </a:lnTo>
                <a:lnTo>
                  <a:pt x="21" y="52"/>
                </a:lnTo>
                <a:lnTo>
                  <a:pt x="32" y="32"/>
                </a:lnTo>
                <a:lnTo>
                  <a:pt x="40" y="17"/>
                </a:lnTo>
                <a:lnTo>
                  <a:pt x="18" y="0"/>
                </a:lnTo>
                <a:lnTo>
                  <a:pt x="8" y="0"/>
                </a:lnTo>
                <a:lnTo>
                  <a:pt x="3" y="8"/>
                </a:lnTo>
                <a:lnTo>
                  <a:pt x="0" y="15"/>
                </a:lnTo>
                <a:close/>
              </a:path>
            </a:pathLst>
          </a:custGeom>
          <a:solidFill>
            <a:srgbClr val="ffffff"/>
          </a:solidFill>
          <a:ln w="0">
            <a:solidFill>
              <a:srgbClr val="000000"/>
            </a:solid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Arial"/>
            </a:endParaRPr>
          </a:p>
        </p:txBody>
      </p:sp>
      <p:sp>
        <p:nvSpPr>
          <p:cNvPr id="113" name="Freeform 6"/>
          <p:cNvSpPr/>
          <p:nvPr/>
        </p:nvSpPr>
        <p:spPr>
          <a:xfrm>
            <a:off x="5792760" y="3602160"/>
            <a:ext cx="122400" cy="214200"/>
          </a:xfrm>
          <a:custGeom>
            <a:avLst/>
            <a:gdLst>
              <a:gd name="textAreaLeft" fmla="*/ 0 w 122400"/>
              <a:gd name="textAreaRight" fmla="*/ 122760 w 122400"/>
              <a:gd name="textAreaTop" fmla="*/ 0 h 214200"/>
              <a:gd name="textAreaBottom" fmla="*/ 214560 h 214200"/>
            </a:gdLst>
            <a:ahLst/>
            <a:rect l="textAreaLeft" t="textAreaTop" r="textAreaRight" b="textAreaBottom"/>
            <a:pathLst>
              <a:path w="200" h="410">
                <a:moveTo>
                  <a:pt x="69" y="136"/>
                </a:moveTo>
                <a:lnTo>
                  <a:pt x="52" y="101"/>
                </a:lnTo>
                <a:lnTo>
                  <a:pt x="47" y="74"/>
                </a:lnTo>
                <a:lnTo>
                  <a:pt x="51" y="71"/>
                </a:lnTo>
                <a:lnTo>
                  <a:pt x="46" y="62"/>
                </a:lnTo>
                <a:lnTo>
                  <a:pt x="53" y="38"/>
                </a:lnTo>
                <a:lnTo>
                  <a:pt x="60" y="13"/>
                </a:lnTo>
                <a:lnTo>
                  <a:pt x="63" y="6"/>
                </a:lnTo>
                <a:lnTo>
                  <a:pt x="63" y="4"/>
                </a:lnTo>
                <a:lnTo>
                  <a:pt x="46" y="0"/>
                </a:lnTo>
                <a:lnTo>
                  <a:pt x="31" y="3"/>
                </a:lnTo>
                <a:lnTo>
                  <a:pt x="29" y="3"/>
                </a:lnTo>
                <a:lnTo>
                  <a:pt x="5" y="37"/>
                </a:lnTo>
                <a:lnTo>
                  <a:pt x="4" y="45"/>
                </a:lnTo>
                <a:lnTo>
                  <a:pt x="0" y="47"/>
                </a:lnTo>
                <a:lnTo>
                  <a:pt x="4" y="64"/>
                </a:lnTo>
                <a:lnTo>
                  <a:pt x="5" y="68"/>
                </a:lnTo>
                <a:lnTo>
                  <a:pt x="23" y="146"/>
                </a:lnTo>
                <a:lnTo>
                  <a:pt x="23" y="147"/>
                </a:lnTo>
                <a:lnTo>
                  <a:pt x="25" y="155"/>
                </a:lnTo>
                <a:lnTo>
                  <a:pt x="28" y="169"/>
                </a:lnTo>
                <a:lnTo>
                  <a:pt x="30" y="176"/>
                </a:lnTo>
                <a:lnTo>
                  <a:pt x="31" y="180"/>
                </a:lnTo>
                <a:lnTo>
                  <a:pt x="31" y="183"/>
                </a:lnTo>
                <a:lnTo>
                  <a:pt x="32" y="184"/>
                </a:lnTo>
                <a:lnTo>
                  <a:pt x="37" y="207"/>
                </a:lnTo>
                <a:lnTo>
                  <a:pt x="38" y="210"/>
                </a:lnTo>
                <a:lnTo>
                  <a:pt x="38" y="213"/>
                </a:lnTo>
                <a:lnTo>
                  <a:pt x="48" y="254"/>
                </a:lnTo>
                <a:lnTo>
                  <a:pt x="59" y="301"/>
                </a:lnTo>
                <a:lnTo>
                  <a:pt x="60" y="304"/>
                </a:lnTo>
                <a:lnTo>
                  <a:pt x="63" y="322"/>
                </a:lnTo>
                <a:lnTo>
                  <a:pt x="70" y="352"/>
                </a:lnTo>
                <a:lnTo>
                  <a:pt x="72" y="359"/>
                </a:lnTo>
                <a:lnTo>
                  <a:pt x="73" y="362"/>
                </a:lnTo>
                <a:lnTo>
                  <a:pt x="76" y="372"/>
                </a:lnTo>
                <a:lnTo>
                  <a:pt x="77" y="380"/>
                </a:lnTo>
                <a:lnTo>
                  <a:pt x="84" y="410"/>
                </a:lnTo>
                <a:lnTo>
                  <a:pt x="119" y="401"/>
                </a:lnTo>
                <a:lnTo>
                  <a:pt x="148" y="394"/>
                </a:lnTo>
                <a:lnTo>
                  <a:pt x="168" y="389"/>
                </a:lnTo>
                <a:lnTo>
                  <a:pt x="187" y="383"/>
                </a:lnTo>
                <a:lnTo>
                  <a:pt x="200" y="380"/>
                </a:lnTo>
                <a:lnTo>
                  <a:pt x="173" y="279"/>
                </a:lnTo>
                <a:lnTo>
                  <a:pt x="168" y="288"/>
                </a:lnTo>
                <a:lnTo>
                  <a:pt x="127" y="250"/>
                </a:lnTo>
                <a:lnTo>
                  <a:pt x="110" y="223"/>
                </a:lnTo>
                <a:lnTo>
                  <a:pt x="94" y="165"/>
                </a:lnTo>
                <a:lnTo>
                  <a:pt x="69" y="13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4" name="Freeform 7"/>
          <p:cNvSpPr/>
          <p:nvPr/>
        </p:nvSpPr>
        <p:spPr>
          <a:xfrm>
            <a:off x="5956200" y="3011400"/>
            <a:ext cx="384120" cy="222480"/>
          </a:xfrm>
          <a:custGeom>
            <a:avLst/>
            <a:gdLst>
              <a:gd name="textAreaLeft" fmla="*/ 0 w 384120"/>
              <a:gd name="textAreaRight" fmla="*/ 384480 w 384120"/>
              <a:gd name="textAreaTop" fmla="*/ 0 h 222480"/>
              <a:gd name="textAreaBottom" fmla="*/ 222840 h 222480"/>
            </a:gdLst>
            <a:ahLst/>
            <a:rect l="textAreaLeft" t="textAreaTop" r="textAreaRight" b="textAreaBottom"/>
            <a:pathLst>
              <a:path w="633" h="426">
                <a:moveTo>
                  <a:pt x="506" y="331"/>
                </a:moveTo>
                <a:lnTo>
                  <a:pt x="494" y="344"/>
                </a:lnTo>
                <a:lnTo>
                  <a:pt x="483" y="361"/>
                </a:lnTo>
                <a:lnTo>
                  <a:pt x="483" y="362"/>
                </a:lnTo>
                <a:lnTo>
                  <a:pt x="473" y="362"/>
                </a:lnTo>
                <a:lnTo>
                  <a:pt x="470" y="393"/>
                </a:lnTo>
                <a:lnTo>
                  <a:pt x="458" y="412"/>
                </a:lnTo>
                <a:lnTo>
                  <a:pt x="442" y="412"/>
                </a:lnTo>
                <a:lnTo>
                  <a:pt x="434" y="385"/>
                </a:lnTo>
                <a:lnTo>
                  <a:pt x="430" y="366"/>
                </a:lnTo>
                <a:lnTo>
                  <a:pt x="416" y="362"/>
                </a:lnTo>
                <a:lnTo>
                  <a:pt x="406" y="349"/>
                </a:lnTo>
                <a:lnTo>
                  <a:pt x="402" y="347"/>
                </a:lnTo>
                <a:lnTo>
                  <a:pt x="391" y="344"/>
                </a:lnTo>
                <a:lnTo>
                  <a:pt x="380" y="310"/>
                </a:lnTo>
                <a:lnTo>
                  <a:pt x="374" y="312"/>
                </a:lnTo>
                <a:lnTo>
                  <a:pt x="368" y="287"/>
                </a:lnTo>
                <a:lnTo>
                  <a:pt x="366" y="277"/>
                </a:lnTo>
                <a:lnTo>
                  <a:pt x="355" y="281"/>
                </a:lnTo>
                <a:lnTo>
                  <a:pt x="346" y="284"/>
                </a:lnTo>
                <a:lnTo>
                  <a:pt x="339" y="287"/>
                </a:lnTo>
                <a:lnTo>
                  <a:pt x="302" y="301"/>
                </a:lnTo>
                <a:lnTo>
                  <a:pt x="295" y="304"/>
                </a:lnTo>
                <a:lnTo>
                  <a:pt x="294" y="300"/>
                </a:lnTo>
                <a:lnTo>
                  <a:pt x="248" y="312"/>
                </a:lnTo>
                <a:lnTo>
                  <a:pt x="242" y="314"/>
                </a:lnTo>
                <a:lnTo>
                  <a:pt x="241" y="315"/>
                </a:lnTo>
                <a:lnTo>
                  <a:pt x="239" y="315"/>
                </a:lnTo>
                <a:lnTo>
                  <a:pt x="236" y="315"/>
                </a:lnTo>
                <a:lnTo>
                  <a:pt x="204" y="325"/>
                </a:lnTo>
                <a:lnTo>
                  <a:pt x="196" y="328"/>
                </a:lnTo>
                <a:lnTo>
                  <a:pt x="172" y="335"/>
                </a:lnTo>
                <a:lnTo>
                  <a:pt x="122" y="362"/>
                </a:lnTo>
                <a:lnTo>
                  <a:pt x="121" y="351"/>
                </a:lnTo>
                <a:lnTo>
                  <a:pt x="88" y="361"/>
                </a:lnTo>
                <a:lnTo>
                  <a:pt x="80" y="362"/>
                </a:lnTo>
                <a:lnTo>
                  <a:pt x="24" y="376"/>
                </a:lnTo>
                <a:lnTo>
                  <a:pt x="13" y="379"/>
                </a:lnTo>
                <a:lnTo>
                  <a:pt x="5" y="382"/>
                </a:lnTo>
                <a:lnTo>
                  <a:pt x="3" y="383"/>
                </a:lnTo>
                <a:lnTo>
                  <a:pt x="0" y="373"/>
                </a:lnTo>
                <a:lnTo>
                  <a:pt x="0" y="361"/>
                </a:lnTo>
                <a:lnTo>
                  <a:pt x="2" y="243"/>
                </a:lnTo>
                <a:lnTo>
                  <a:pt x="2" y="208"/>
                </a:lnTo>
                <a:lnTo>
                  <a:pt x="2" y="190"/>
                </a:lnTo>
                <a:lnTo>
                  <a:pt x="3" y="171"/>
                </a:lnTo>
                <a:lnTo>
                  <a:pt x="35" y="161"/>
                </a:lnTo>
                <a:lnTo>
                  <a:pt x="41" y="159"/>
                </a:lnTo>
                <a:lnTo>
                  <a:pt x="44" y="159"/>
                </a:lnTo>
                <a:lnTo>
                  <a:pt x="45" y="158"/>
                </a:lnTo>
                <a:lnTo>
                  <a:pt x="48" y="158"/>
                </a:lnTo>
                <a:lnTo>
                  <a:pt x="59" y="155"/>
                </a:lnTo>
                <a:lnTo>
                  <a:pt x="90" y="147"/>
                </a:lnTo>
                <a:lnTo>
                  <a:pt x="132" y="135"/>
                </a:lnTo>
                <a:lnTo>
                  <a:pt x="140" y="132"/>
                </a:lnTo>
                <a:lnTo>
                  <a:pt x="155" y="128"/>
                </a:lnTo>
                <a:lnTo>
                  <a:pt x="159" y="128"/>
                </a:lnTo>
                <a:lnTo>
                  <a:pt x="170" y="125"/>
                </a:lnTo>
                <a:lnTo>
                  <a:pt x="207" y="114"/>
                </a:lnTo>
                <a:lnTo>
                  <a:pt x="224" y="110"/>
                </a:lnTo>
                <a:lnTo>
                  <a:pt x="230" y="108"/>
                </a:lnTo>
                <a:lnTo>
                  <a:pt x="235" y="107"/>
                </a:lnTo>
                <a:lnTo>
                  <a:pt x="338" y="77"/>
                </a:lnTo>
                <a:lnTo>
                  <a:pt x="340" y="67"/>
                </a:lnTo>
                <a:lnTo>
                  <a:pt x="342" y="64"/>
                </a:lnTo>
                <a:lnTo>
                  <a:pt x="343" y="63"/>
                </a:lnTo>
                <a:lnTo>
                  <a:pt x="343" y="61"/>
                </a:lnTo>
                <a:lnTo>
                  <a:pt x="370" y="33"/>
                </a:lnTo>
                <a:lnTo>
                  <a:pt x="372" y="16"/>
                </a:lnTo>
                <a:lnTo>
                  <a:pt x="407" y="0"/>
                </a:lnTo>
                <a:lnTo>
                  <a:pt x="431" y="50"/>
                </a:lnTo>
                <a:lnTo>
                  <a:pt x="452" y="43"/>
                </a:lnTo>
                <a:lnTo>
                  <a:pt x="456" y="64"/>
                </a:lnTo>
                <a:lnTo>
                  <a:pt x="435" y="86"/>
                </a:lnTo>
                <a:lnTo>
                  <a:pt x="416" y="137"/>
                </a:lnTo>
                <a:lnTo>
                  <a:pt x="411" y="131"/>
                </a:lnTo>
                <a:lnTo>
                  <a:pt x="412" y="151"/>
                </a:lnTo>
                <a:lnTo>
                  <a:pt x="425" y="166"/>
                </a:lnTo>
                <a:lnTo>
                  <a:pt x="444" y="175"/>
                </a:lnTo>
                <a:lnTo>
                  <a:pt x="452" y="173"/>
                </a:lnTo>
                <a:lnTo>
                  <a:pt x="499" y="236"/>
                </a:lnTo>
                <a:lnTo>
                  <a:pt x="482" y="244"/>
                </a:lnTo>
                <a:lnTo>
                  <a:pt x="498" y="256"/>
                </a:lnTo>
                <a:lnTo>
                  <a:pt x="505" y="251"/>
                </a:lnTo>
                <a:lnTo>
                  <a:pt x="522" y="288"/>
                </a:lnTo>
                <a:lnTo>
                  <a:pt x="531" y="297"/>
                </a:lnTo>
                <a:lnTo>
                  <a:pt x="576" y="297"/>
                </a:lnTo>
                <a:lnTo>
                  <a:pt x="608" y="267"/>
                </a:lnTo>
                <a:lnTo>
                  <a:pt x="607" y="239"/>
                </a:lnTo>
                <a:lnTo>
                  <a:pt x="596" y="240"/>
                </a:lnTo>
                <a:lnTo>
                  <a:pt x="575" y="189"/>
                </a:lnTo>
                <a:lnTo>
                  <a:pt x="600" y="206"/>
                </a:lnTo>
                <a:lnTo>
                  <a:pt x="633" y="290"/>
                </a:lnTo>
                <a:lnTo>
                  <a:pt x="631" y="332"/>
                </a:lnTo>
                <a:lnTo>
                  <a:pt x="627" y="301"/>
                </a:lnTo>
                <a:lnTo>
                  <a:pt x="622" y="297"/>
                </a:lnTo>
                <a:lnTo>
                  <a:pt x="562" y="335"/>
                </a:lnTo>
                <a:lnTo>
                  <a:pt x="545" y="361"/>
                </a:lnTo>
                <a:lnTo>
                  <a:pt x="524" y="371"/>
                </a:lnTo>
                <a:lnTo>
                  <a:pt x="519" y="381"/>
                </a:lnTo>
                <a:lnTo>
                  <a:pt x="476" y="426"/>
                </a:lnTo>
                <a:lnTo>
                  <a:pt x="480" y="415"/>
                </a:lnTo>
                <a:lnTo>
                  <a:pt x="513" y="379"/>
                </a:lnTo>
                <a:lnTo>
                  <a:pt x="516" y="348"/>
                </a:lnTo>
                <a:lnTo>
                  <a:pt x="508" y="332"/>
                </a:lnTo>
                <a:lnTo>
                  <a:pt x="506" y="33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5" name="Freeform 8"/>
          <p:cNvSpPr/>
          <p:nvPr/>
        </p:nvSpPr>
        <p:spPr>
          <a:xfrm>
            <a:off x="6257880" y="3213000"/>
            <a:ext cx="39600" cy="33480"/>
          </a:xfrm>
          <a:custGeom>
            <a:avLst/>
            <a:gdLst>
              <a:gd name="textAreaLeft" fmla="*/ 0 w 39600"/>
              <a:gd name="textAreaRight" fmla="*/ 39960 w 39600"/>
              <a:gd name="textAreaTop" fmla="*/ 0 h 33480"/>
              <a:gd name="textAreaBottom" fmla="*/ 33840 h 33480"/>
            </a:gdLst>
            <a:ahLst/>
            <a:rect l="textAreaLeft" t="textAreaTop" r="textAreaRight" b="textAreaBottom"/>
            <a:pathLst>
              <a:path w="66" h="63">
                <a:moveTo>
                  <a:pt x="0" y="53"/>
                </a:moveTo>
                <a:lnTo>
                  <a:pt x="13" y="63"/>
                </a:lnTo>
                <a:lnTo>
                  <a:pt x="16" y="53"/>
                </a:lnTo>
                <a:lnTo>
                  <a:pt x="66" y="29"/>
                </a:lnTo>
                <a:lnTo>
                  <a:pt x="59" y="13"/>
                </a:lnTo>
                <a:lnTo>
                  <a:pt x="32" y="0"/>
                </a:lnTo>
                <a:lnTo>
                  <a:pt x="13" y="40"/>
                </a:lnTo>
                <a:lnTo>
                  <a:pt x="0" y="53"/>
                </a:lnTo>
                <a:close/>
              </a:path>
            </a:pathLst>
          </a:custGeom>
          <a:solidFill>
            <a:srgbClr val="ffffff"/>
          </a:solidFill>
          <a:ln w="0">
            <a:solidFill>
              <a:srgbClr val="000000"/>
            </a:solidFill>
          </a:ln>
        </p:spPr>
        <p:style>
          <a:lnRef idx="0"/>
          <a:fillRef idx="0"/>
          <a:effectRef idx="0"/>
          <a:fontRef idx="minor"/>
        </p:style>
        <p:txBody>
          <a:bodyPr lIns="90000" rIns="90000" tIns="-12960" bIns="-12960" anchor="t">
            <a:noAutofit/>
          </a:bodyPr>
          <a:p>
            <a:endParaRPr b="0" lang="en-US" sz="2800" spc="-1" strike="noStrike">
              <a:solidFill>
                <a:srgbClr val="000000"/>
              </a:solidFill>
              <a:latin typeface="Arial"/>
            </a:endParaRPr>
          </a:p>
        </p:txBody>
      </p:sp>
      <p:sp>
        <p:nvSpPr>
          <p:cNvPr id="116" name="Freeform 9"/>
          <p:cNvSpPr/>
          <p:nvPr/>
        </p:nvSpPr>
        <p:spPr>
          <a:xfrm>
            <a:off x="6318360" y="3208320"/>
            <a:ext cx="29880" cy="23760"/>
          </a:xfrm>
          <a:custGeom>
            <a:avLst/>
            <a:gdLst>
              <a:gd name="textAreaLeft" fmla="*/ 0 w 29880"/>
              <a:gd name="textAreaRight" fmla="*/ 30240 w 29880"/>
              <a:gd name="textAreaTop" fmla="*/ 0 h 23760"/>
              <a:gd name="textAreaBottom" fmla="*/ 24120 h 23760"/>
            </a:gdLst>
            <a:ahLst/>
            <a:rect l="textAreaLeft" t="textAreaTop" r="textAreaRight" b="textAreaBottom"/>
            <a:pathLst>
              <a:path w="49" h="44">
                <a:moveTo>
                  <a:pt x="0" y="37"/>
                </a:moveTo>
                <a:lnTo>
                  <a:pt x="2" y="41"/>
                </a:lnTo>
                <a:lnTo>
                  <a:pt x="36" y="44"/>
                </a:lnTo>
                <a:lnTo>
                  <a:pt x="49" y="19"/>
                </a:lnTo>
                <a:lnTo>
                  <a:pt x="45" y="14"/>
                </a:lnTo>
                <a:lnTo>
                  <a:pt x="33" y="0"/>
                </a:lnTo>
                <a:lnTo>
                  <a:pt x="40" y="16"/>
                </a:lnTo>
                <a:lnTo>
                  <a:pt x="33" y="28"/>
                </a:lnTo>
                <a:lnTo>
                  <a:pt x="12" y="38"/>
                </a:lnTo>
                <a:lnTo>
                  <a:pt x="0" y="37"/>
                </a:lnTo>
                <a:close/>
              </a:path>
            </a:pathLst>
          </a:custGeom>
          <a:solidFill>
            <a:srgbClr val="ffffff"/>
          </a:solidFill>
          <a:ln w="0">
            <a:solidFill>
              <a:srgbClr val="000000"/>
            </a:solidFill>
          </a:ln>
        </p:spPr>
        <p:style>
          <a:lnRef idx="0"/>
          <a:fillRef idx="0"/>
          <a:effectRef idx="0"/>
          <a:fontRef idx="minor"/>
        </p:style>
        <p:txBody>
          <a:bodyPr lIns="90000" rIns="90000" tIns="-22680" bIns="-22680" anchor="t">
            <a:noAutofit/>
          </a:bodyPr>
          <a:p>
            <a:endParaRPr b="0" lang="en-US" sz="2800" spc="-1" strike="noStrike">
              <a:solidFill>
                <a:srgbClr val="000000"/>
              </a:solidFill>
              <a:latin typeface="Arial"/>
            </a:endParaRPr>
          </a:p>
        </p:txBody>
      </p:sp>
      <p:sp>
        <p:nvSpPr>
          <p:cNvPr id="117" name="Freeform 10"/>
          <p:cNvSpPr/>
          <p:nvPr/>
        </p:nvSpPr>
        <p:spPr>
          <a:xfrm>
            <a:off x="5397480" y="3627360"/>
            <a:ext cx="517680" cy="277920"/>
          </a:xfrm>
          <a:custGeom>
            <a:avLst/>
            <a:gdLst>
              <a:gd name="textAreaLeft" fmla="*/ 0 w 517680"/>
              <a:gd name="textAreaRight" fmla="*/ 518040 w 517680"/>
              <a:gd name="textAreaTop" fmla="*/ 0 h 277920"/>
              <a:gd name="textAreaBottom" fmla="*/ 278280 h 277920"/>
            </a:gdLst>
            <a:ahLst/>
            <a:rect l="textAreaLeft" t="textAreaTop" r="textAreaRight" b="textAreaBottom"/>
            <a:pathLst>
              <a:path w="855" h="533">
                <a:moveTo>
                  <a:pt x="202" y="118"/>
                </a:moveTo>
                <a:lnTo>
                  <a:pt x="219" y="113"/>
                </a:lnTo>
                <a:lnTo>
                  <a:pt x="245" y="106"/>
                </a:lnTo>
                <a:lnTo>
                  <a:pt x="262" y="102"/>
                </a:lnTo>
                <a:lnTo>
                  <a:pt x="351" y="81"/>
                </a:lnTo>
                <a:lnTo>
                  <a:pt x="357" y="79"/>
                </a:lnTo>
                <a:lnTo>
                  <a:pt x="359" y="79"/>
                </a:lnTo>
                <a:lnTo>
                  <a:pt x="364" y="78"/>
                </a:lnTo>
                <a:lnTo>
                  <a:pt x="383" y="72"/>
                </a:lnTo>
                <a:lnTo>
                  <a:pt x="402" y="68"/>
                </a:lnTo>
                <a:lnTo>
                  <a:pt x="431" y="59"/>
                </a:lnTo>
                <a:lnTo>
                  <a:pt x="441" y="58"/>
                </a:lnTo>
                <a:lnTo>
                  <a:pt x="454" y="54"/>
                </a:lnTo>
                <a:lnTo>
                  <a:pt x="459" y="52"/>
                </a:lnTo>
                <a:lnTo>
                  <a:pt x="478" y="48"/>
                </a:lnTo>
                <a:lnTo>
                  <a:pt x="489" y="45"/>
                </a:lnTo>
                <a:lnTo>
                  <a:pt x="510" y="38"/>
                </a:lnTo>
                <a:lnTo>
                  <a:pt x="517" y="37"/>
                </a:lnTo>
                <a:lnTo>
                  <a:pt x="526" y="35"/>
                </a:lnTo>
                <a:lnTo>
                  <a:pt x="529" y="34"/>
                </a:lnTo>
                <a:lnTo>
                  <a:pt x="575" y="21"/>
                </a:lnTo>
                <a:lnTo>
                  <a:pt x="577" y="21"/>
                </a:lnTo>
                <a:lnTo>
                  <a:pt x="594" y="17"/>
                </a:lnTo>
                <a:lnTo>
                  <a:pt x="621" y="8"/>
                </a:lnTo>
                <a:lnTo>
                  <a:pt x="639" y="4"/>
                </a:lnTo>
                <a:lnTo>
                  <a:pt x="654" y="0"/>
                </a:lnTo>
                <a:lnTo>
                  <a:pt x="658" y="17"/>
                </a:lnTo>
                <a:lnTo>
                  <a:pt x="659" y="21"/>
                </a:lnTo>
                <a:lnTo>
                  <a:pt x="677" y="99"/>
                </a:lnTo>
                <a:lnTo>
                  <a:pt x="677" y="100"/>
                </a:lnTo>
                <a:lnTo>
                  <a:pt x="679" y="108"/>
                </a:lnTo>
                <a:lnTo>
                  <a:pt x="682" y="122"/>
                </a:lnTo>
                <a:lnTo>
                  <a:pt x="684" y="129"/>
                </a:lnTo>
                <a:lnTo>
                  <a:pt x="685" y="133"/>
                </a:lnTo>
                <a:lnTo>
                  <a:pt x="685" y="136"/>
                </a:lnTo>
                <a:lnTo>
                  <a:pt x="686" y="137"/>
                </a:lnTo>
                <a:lnTo>
                  <a:pt x="691" y="160"/>
                </a:lnTo>
                <a:lnTo>
                  <a:pt x="692" y="163"/>
                </a:lnTo>
                <a:lnTo>
                  <a:pt x="692" y="166"/>
                </a:lnTo>
                <a:lnTo>
                  <a:pt x="702" y="207"/>
                </a:lnTo>
                <a:lnTo>
                  <a:pt x="713" y="254"/>
                </a:lnTo>
                <a:lnTo>
                  <a:pt x="714" y="257"/>
                </a:lnTo>
                <a:lnTo>
                  <a:pt x="717" y="275"/>
                </a:lnTo>
                <a:lnTo>
                  <a:pt x="724" y="305"/>
                </a:lnTo>
                <a:lnTo>
                  <a:pt x="726" y="312"/>
                </a:lnTo>
                <a:lnTo>
                  <a:pt x="727" y="315"/>
                </a:lnTo>
                <a:lnTo>
                  <a:pt x="730" y="325"/>
                </a:lnTo>
                <a:lnTo>
                  <a:pt x="731" y="333"/>
                </a:lnTo>
                <a:lnTo>
                  <a:pt x="738" y="363"/>
                </a:lnTo>
                <a:lnTo>
                  <a:pt x="773" y="354"/>
                </a:lnTo>
                <a:lnTo>
                  <a:pt x="802" y="347"/>
                </a:lnTo>
                <a:lnTo>
                  <a:pt x="822" y="342"/>
                </a:lnTo>
                <a:lnTo>
                  <a:pt x="841" y="336"/>
                </a:lnTo>
                <a:lnTo>
                  <a:pt x="854" y="333"/>
                </a:lnTo>
                <a:lnTo>
                  <a:pt x="855" y="356"/>
                </a:lnTo>
                <a:lnTo>
                  <a:pt x="843" y="466"/>
                </a:lnTo>
                <a:lnTo>
                  <a:pt x="814" y="479"/>
                </a:lnTo>
                <a:lnTo>
                  <a:pt x="802" y="483"/>
                </a:lnTo>
                <a:lnTo>
                  <a:pt x="775" y="495"/>
                </a:lnTo>
                <a:lnTo>
                  <a:pt x="771" y="510"/>
                </a:lnTo>
                <a:lnTo>
                  <a:pt x="754" y="509"/>
                </a:lnTo>
                <a:lnTo>
                  <a:pt x="729" y="533"/>
                </a:lnTo>
                <a:lnTo>
                  <a:pt x="730" y="468"/>
                </a:lnTo>
                <a:lnTo>
                  <a:pt x="710" y="474"/>
                </a:lnTo>
                <a:lnTo>
                  <a:pt x="718" y="439"/>
                </a:lnTo>
                <a:lnTo>
                  <a:pt x="708" y="431"/>
                </a:lnTo>
                <a:lnTo>
                  <a:pt x="706" y="431"/>
                </a:lnTo>
                <a:lnTo>
                  <a:pt x="705" y="438"/>
                </a:lnTo>
                <a:lnTo>
                  <a:pt x="692" y="428"/>
                </a:lnTo>
                <a:lnTo>
                  <a:pt x="689" y="407"/>
                </a:lnTo>
                <a:lnTo>
                  <a:pt x="686" y="441"/>
                </a:lnTo>
                <a:lnTo>
                  <a:pt x="662" y="448"/>
                </a:lnTo>
                <a:lnTo>
                  <a:pt x="645" y="434"/>
                </a:lnTo>
                <a:lnTo>
                  <a:pt x="620" y="383"/>
                </a:lnTo>
                <a:lnTo>
                  <a:pt x="635" y="371"/>
                </a:lnTo>
                <a:lnTo>
                  <a:pt x="622" y="344"/>
                </a:lnTo>
                <a:lnTo>
                  <a:pt x="646" y="336"/>
                </a:lnTo>
                <a:lnTo>
                  <a:pt x="623" y="309"/>
                </a:lnTo>
                <a:lnTo>
                  <a:pt x="611" y="333"/>
                </a:lnTo>
                <a:lnTo>
                  <a:pt x="606" y="306"/>
                </a:lnTo>
                <a:lnTo>
                  <a:pt x="627" y="274"/>
                </a:lnTo>
                <a:lnTo>
                  <a:pt x="613" y="249"/>
                </a:lnTo>
                <a:lnTo>
                  <a:pt x="615" y="261"/>
                </a:lnTo>
                <a:lnTo>
                  <a:pt x="602" y="274"/>
                </a:lnTo>
                <a:lnTo>
                  <a:pt x="598" y="224"/>
                </a:lnTo>
                <a:lnTo>
                  <a:pt x="611" y="238"/>
                </a:lnTo>
                <a:lnTo>
                  <a:pt x="626" y="228"/>
                </a:lnTo>
                <a:lnTo>
                  <a:pt x="622" y="200"/>
                </a:lnTo>
                <a:lnTo>
                  <a:pt x="604" y="196"/>
                </a:lnTo>
                <a:lnTo>
                  <a:pt x="599" y="174"/>
                </a:lnTo>
                <a:lnTo>
                  <a:pt x="614" y="123"/>
                </a:lnTo>
                <a:lnTo>
                  <a:pt x="636" y="110"/>
                </a:lnTo>
                <a:lnTo>
                  <a:pt x="626" y="57"/>
                </a:lnTo>
                <a:lnTo>
                  <a:pt x="613" y="65"/>
                </a:lnTo>
                <a:lnTo>
                  <a:pt x="611" y="105"/>
                </a:lnTo>
                <a:lnTo>
                  <a:pt x="591" y="127"/>
                </a:lnTo>
                <a:lnTo>
                  <a:pt x="588" y="147"/>
                </a:lnTo>
                <a:lnTo>
                  <a:pt x="578" y="133"/>
                </a:lnTo>
                <a:lnTo>
                  <a:pt x="572" y="150"/>
                </a:lnTo>
                <a:lnTo>
                  <a:pt x="573" y="166"/>
                </a:lnTo>
                <a:lnTo>
                  <a:pt x="549" y="184"/>
                </a:lnTo>
                <a:lnTo>
                  <a:pt x="549" y="186"/>
                </a:lnTo>
                <a:lnTo>
                  <a:pt x="571" y="204"/>
                </a:lnTo>
                <a:lnTo>
                  <a:pt x="581" y="241"/>
                </a:lnTo>
                <a:lnTo>
                  <a:pt x="566" y="316"/>
                </a:lnTo>
                <a:lnTo>
                  <a:pt x="575" y="330"/>
                </a:lnTo>
                <a:lnTo>
                  <a:pt x="590" y="391"/>
                </a:lnTo>
                <a:lnTo>
                  <a:pt x="617" y="422"/>
                </a:lnTo>
                <a:lnTo>
                  <a:pt x="614" y="442"/>
                </a:lnTo>
                <a:lnTo>
                  <a:pt x="623" y="444"/>
                </a:lnTo>
                <a:lnTo>
                  <a:pt x="622" y="458"/>
                </a:lnTo>
                <a:lnTo>
                  <a:pt x="639" y="492"/>
                </a:lnTo>
                <a:lnTo>
                  <a:pt x="646" y="517"/>
                </a:lnTo>
                <a:lnTo>
                  <a:pt x="622" y="496"/>
                </a:lnTo>
                <a:lnTo>
                  <a:pt x="617" y="505"/>
                </a:lnTo>
                <a:lnTo>
                  <a:pt x="582" y="478"/>
                </a:lnTo>
                <a:lnTo>
                  <a:pt x="549" y="481"/>
                </a:lnTo>
                <a:lnTo>
                  <a:pt x="539" y="461"/>
                </a:lnTo>
                <a:lnTo>
                  <a:pt x="534" y="475"/>
                </a:lnTo>
                <a:lnTo>
                  <a:pt x="525" y="472"/>
                </a:lnTo>
                <a:lnTo>
                  <a:pt x="505" y="439"/>
                </a:lnTo>
                <a:lnTo>
                  <a:pt x="483" y="447"/>
                </a:lnTo>
                <a:lnTo>
                  <a:pt x="476" y="459"/>
                </a:lnTo>
                <a:lnTo>
                  <a:pt x="461" y="461"/>
                </a:lnTo>
                <a:lnTo>
                  <a:pt x="454" y="418"/>
                </a:lnTo>
                <a:lnTo>
                  <a:pt x="470" y="381"/>
                </a:lnTo>
                <a:lnTo>
                  <a:pt x="469" y="369"/>
                </a:lnTo>
                <a:lnTo>
                  <a:pt x="469" y="367"/>
                </a:lnTo>
                <a:lnTo>
                  <a:pt x="475" y="359"/>
                </a:lnTo>
                <a:lnTo>
                  <a:pt x="481" y="343"/>
                </a:lnTo>
                <a:lnTo>
                  <a:pt x="479" y="337"/>
                </a:lnTo>
                <a:lnTo>
                  <a:pt x="479" y="332"/>
                </a:lnTo>
                <a:lnTo>
                  <a:pt x="479" y="330"/>
                </a:lnTo>
                <a:lnTo>
                  <a:pt x="490" y="310"/>
                </a:lnTo>
                <a:lnTo>
                  <a:pt x="498" y="295"/>
                </a:lnTo>
                <a:lnTo>
                  <a:pt x="476" y="278"/>
                </a:lnTo>
                <a:lnTo>
                  <a:pt x="466" y="278"/>
                </a:lnTo>
                <a:lnTo>
                  <a:pt x="461" y="286"/>
                </a:lnTo>
                <a:lnTo>
                  <a:pt x="458" y="293"/>
                </a:lnTo>
                <a:lnTo>
                  <a:pt x="452" y="285"/>
                </a:lnTo>
                <a:lnTo>
                  <a:pt x="431" y="282"/>
                </a:lnTo>
                <a:lnTo>
                  <a:pt x="430" y="272"/>
                </a:lnTo>
                <a:lnTo>
                  <a:pt x="414" y="266"/>
                </a:lnTo>
                <a:lnTo>
                  <a:pt x="406" y="268"/>
                </a:lnTo>
                <a:lnTo>
                  <a:pt x="377" y="255"/>
                </a:lnTo>
                <a:lnTo>
                  <a:pt x="383" y="225"/>
                </a:lnTo>
                <a:lnTo>
                  <a:pt x="375" y="218"/>
                </a:lnTo>
                <a:lnTo>
                  <a:pt x="346" y="207"/>
                </a:lnTo>
                <a:lnTo>
                  <a:pt x="339" y="204"/>
                </a:lnTo>
                <a:lnTo>
                  <a:pt x="332" y="207"/>
                </a:lnTo>
                <a:lnTo>
                  <a:pt x="326" y="205"/>
                </a:lnTo>
                <a:lnTo>
                  <a:pt x="322" y="181"/>
                </a:lnTo>
                <a:lnTo>
                  <a:pt x="305" y="161"/>
                </a:lnTo>
                <a:lnTo>
                  <a:pt x="290" y="127"/>
                </a:lnTo>
                <a:lnTo>
                  <a:pt x="268" y="137"/>
                </a:lnTo>
                <a:lnTo>
                  <a:pt x="263" y="133"/>
                </a:lnTo>
                <a:lnTo>
                  <a:pt x="243" y="118"/>
                </a:lnTo>
                <a:lnTo>
                  <a:pt x="221" y="142"/>
                </a:lnTo>
                <a:lnTo>
                  <a:pt x="207" y="142"/>
                </a:lnTo>
                <a:lnTo>
                  <a:pt x="200" y="146"/>
                </a:lnTo>
                <a:lnTo>
                  <a:pt x="202" y="152"/>
                </a:lnTo>
                <a:lnTo>
                  <a:pt x="189" y="183"/>
                </a:lnTo>
                <a:lnTo>
                  <a:pt x="183" y="183"/>
                </a:lnTo>
                <a:lnTo>
                  <a:pt x="160" y="183"/>
                </a:lnTo>
                <a:lnTo>
                  <a:pt x="155" y="186"/>
                </a:lnTo>
                <a:lnTo>
                  <a:pt x="125" y="164"/>
                </a:lnTo>
                <a:lnTo>
                  <a:pt x="96" y="222"/>
                </a:lnTo>
                <a:lnTo>
                  <a:pt x="84" y="218"/>
                </a:lnTo>
                <a:lnTo>
                  <a:pt x="63" y="255"/>
                </a:lnTo>
                <a:lnTo>
                  <a:pt x="56" y="264"/>
                </a:lnTo>
                <a:lnTo>
                  <a:pt x="54" y="272"/>
                </a:lnTo>
                <a:lnTo>
                  <a:pt x="37" y="292"/>
                </a:lnTo>
                <a:lnTo>
                  <a:pt x="23" y="317"/>
                </a:lnTo>
                <a:lnTo>
                  <a:pt x="21" y="317"/>
                </a:lnTo>
                <a:lnTo>
                  <a:pt x="7" y="221"/>
                </a:lnTo>
                <a:lnTo>
                  <a:pt x="0" y="166"/>
                </a:lnTo>
                <a:lnTo>
                  <a:pt x="6" y="164"/>
                </a:lnTo>
                <a:lnTo>
                  <a:pt x="11" y="163"/>
                </a:lnTo>
                <a:lnTo>
                  <a:pt x="15" y="161"/>
                </a:lnTo>
                <a:lnTo>
                  <a:pt x="70" y="149"/>
                </a:lnTo>
                <a:lnTo>
                  <a:pt x="77" y="147"/>
                </a:lnTo>
                <a:lnTo>
                  <a:pt x="100" y="142"/>
                </a:lnTo>
                <a:lnTo>
                  <a:pt x="107" y="140"/>
                </a:lnTo>
                <a:lnTo>
                  <a:pt x="112" y="139"/>
                </a:lnTo>
                <a:lnTo>
                  <a:pt x="119" y="137"/>
                </a:lnTo>
                <a:lnTo>
                  <a:pt x="167" y="126"/>
                </a:lnTo>
                <a:lnTo>
                  <a:pt x="174" y="123"/>
                </a:lnTo>
                <a:lnTo>
                  <a:pt x="195" y="119"/>
                </a:lnTo>
                <a:lnTo>
                  <a:pt x="196" y="119"/>
                </a:lnTo>
                <a:lnTo>
                  <a:pt x="202" y="118"/>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8" name="Freeform 11"/>
          <p:cNvSpPr/>
          <p:nvPr/>
        </p:nvSpPr>
        <p:spPr>
          <a:xfrm>
            <a:off x="6086520" y="2268360"/>
            <a:ext cx="420480" cy="711360"/>
          </a:xfrm>
          <a:custGeom>
            <a:avLst/>
            <a:gdLst>
              <a:gd name="textAreaLeft" fmla="*/ 0 w 420480"/>
              <a:gd name="textAreaRight" fmla="*/ 420840 w 420480"/>
              <a:gd name="textAreaTop" fmla="*/ 0 h 711360"/>
              <a:gd name="textAreaBottom" fmla="*/ 711720 h 711360"/>
            </a:gdLst>
            <a:ahLst/>
            <a:rect l="textAreaLeft" t="textAreaTop" r="textAreaRight" b="textAreaBottom"/>
            <a:pathLst>
              <a:path w="696" h="1357">
                <a:moveTo>
                  <a:pt x="105" y="1165"/>
                </a:moveTo>
                <a:lnTo>
                  <a:pt x="91" y="1105"/>
                </a:lnTo>
                <a:lnTo>
                  <a:pt x="73" y="1035"/>
                </a:lnTo>
                <a:lnTo>
                  <a:pt x="71" y="1026"/>
                </a:lnTo>
                <a:lnTo>
                  <a:pt x="37" y="894"/>
                </a:lnTo>
                <a:lnTo>
                  <a:pt x="3" y="767"/>
                </a:lnTo>
                <a:lnTo>
                  <a:pt x="0" y="753"/>
                </a:lnTo>
                <a:lnTo>
                  <a:pt x="5" y="723"/>
                </a:lnTo>
                <a:lnTo>
                  <a:pt x="37" y="746"/>
                </a:lnTo>
                <a:lnTo>
                  <a:pt x="37" y="733"/>
                </a:lnTo>
                <a:lnTo>
                  <a:pt x="41" y="687"/>
                </a:lnTo>
                <a:lnTo>
                  <a:pt x="63" y="687"/>
                </a:lnTo>
                <a:lnTo>
                  <a:pt x="50" y="626"/>
                </a:lnTo>
                <a:lnTo>
                  <a:pt x="58" y="606"/>
                </a:lnTo>
                <a:lnTo>
                  <a:pt x="80" y="573"/>
                </a:lnTo>
                <a:lnTo>
                  <a:pt x="91" y="511"/>
                </a:lnTo>
                <a:lnTo>
                  <a:pt x="77" y="498"/>
                </a:lnTo>
                <a:lnTo>
                  <a:pt x="77" y="461"/>
                </a:lnTo>
                <a:lnTo>
                  <a:pt x="69" y="424"/>
                </a:lnTo>
                <a:lnTo>
                  <a:pt x="90" y="366"/>
                </a:lnTo>
                <a:lnTo>
                  <a:pt x="84" y="321"/>
                </a:lnTo>
                <a:lnTo>
                  <a:pt x="81" y="284"/>
                </a:lnTo>
                <a:lnTo>
                  <a:pt x="153" y="26"/>
                </a:lnTo>
                <a:lnTo>
                  <a:pt x="188" y="63"/>
                </a:lnTo>
                <a:lnTo>
                  <a:pt x="203" y="78"/>
                </a:lnTo>
                <a:lnTo>
                  <a:pt x="264" y="50"/>
                </a:lnTo>
                <a:lnTo>
                  <a:pt x="297" y="4"/>
                </a:lnTo>
                <a:lnTo>
                  <a:pt x="311" y="0"/>
                </a:lnTo>
                <a:lnTo>
                  <a:pt x="371" y="27"/>
                </a:lnTo>
                <a:lnTo>
                  <a:pt x="386" y="47"/>
                </a:lnTo>
                <a:lnTo>
                  <a:pt x="402" y="51"/>
                </a:lnTo>
                <a:lnTo>
                  <a:pt x="498" y="443"/>
                </a:lnTo>
                <a:lnTo>
                  <a:pt x="552" y="451"/>
                </a:lnTo>
                <a:lnTo>
                  <a:pt x="560" y="443"/>
                </a:lnTo>
                <a:lnTo>
                  <a:pt x="583" y="543"/>
                </a:lnTo>
                <a:lnTo>
                  <a:pt x="609" y="569"/>
                </a:lnTo>
                <a:lnTo>
                  <a:pt x="615" y="566"/>
                </a:lnTo>
                <a:lnTo>
                  <a:pt x="615" y="550"/>
                </a:lnTo>
                <a:lnTo>
                  <a:pt x="647" y="556"/>
                </a:lnTo>
                <a:lnTo>
                  <a:pt x="681" y="604"/>
                </a:lnTo>
                <a:lnTo>
                  <a:pt x="696" y="633"/>
                </a:lnTo>
                <a:lnTo>
                  <a:pt x="664" y="706"/>
                </a:lnTo>
                <a:lnTo>
                  <a:pt x="659" y="706"/>
                </a:lnTo>
                <a:lnTo>
                  <a:pt x="660" y="712"/>
                </a:lnTo>
                <a:lnTo>
                  <a:pt x="653" y="709"/>
                </a:lnTo>
                <a:lnTo>
                  <a:pt x="641" y="715"/>
                </a:lnTo>
                <a:lnTo>
                  <a:pt x="643" y="722"/>
                </a:lnTo>
                <a:lnTo>
                  <a:pt x="626" y="742"/>
                </a:lnTo>
                <a:lnTo>
                  <a:pt x="628" y="759"/>
                </a:lnTo>
                <a:lnTo>
                  <a:pt x="617" y="780"/>
                </a:lnTo>
                <a:lnTo>
                  <a:pt x="612" y="767"/>
                </a:lnTo>
                <a:lnTo>
                  <a:pt x="581" y="776"/>
                </a:lnTo>
                <a:lnTo>
                  <a:pt x="576" y="806"/>
                </a:lnTo>
                <a:lnTo>
                  <a:pt x="565" y="811"/>
                </a:lnTo>
                <a:lnTo>
                  <a:pt x="554" y="820"/>
                </a:lnTo>
                <a:lnTo>
                  <a:pt x="555" y="840"/>
                </a:lnTo>
                <a:lnTo>
                  <a:pt x="527" y="878"/>
                </a:lnTo>
                <a:lnTo>
                  <a:pt x="501" y="882"/>
                </a:lnTo>
                <a:lnTo>
                  <a:pt x="473" y="843"/>
                </a:lnTo>
                <a:lnTo>
                  <a:pt x="480" y="868"/>
                </a:lnTo>
                <a:lnTo>
                  <a:pt x="461" y="939"/>
                </a:lnTo>
                <a:lnTo>
                  <a:pt x="428" y="891"/>
                </a:lnTo>
                <a:lnTo>
                  <a:pt x="421" y="836"/>
                </a:lnTo>
                <a:lnTo>
                  <a:pt x="419" y="834"/>
                </a:lnTo>
                <a:lnTo>
                  <a:pt x="411" y="860"/>
                </a:lnTo>
                <a:lnTo>
                  <a:pt x="401" y="881"/>
                </a:lnTo>
                <a:lnTo>
                  <a:pt x="399" y="921"/>
                </a:lnTo>
                <a:lnTo>
                  <a:pt x="399" y="959"/>
                </a:lnTo>
                <a:lnTo>
                  <a:pt x="411" y="993"/>
                </a:lnTo>
                <a:lnTo>
                  <a:pt x="376" y="1044"/>
                </a:lnTo>
                <a:lnTo>
                  <a:pt x="362" y="1041"/>
                </a:lnTo>
                <a:lnTo>
                  <a:pt x="348" y="1054"/>
                </a:lnTo>
                <a:lnTo>
                  <a:pt x="346" y="1068"/>
                </a:lnTo>
                <a:lnTo>
                  <a:pt x="329" y="1082"/>
                </a:lnTo>
                <a:lnTo>
                  <a:pt x="317" y="1084"/>
                </a:lnTo>
                <a:lnTo>
                  <a:pt x="313" y="1106"/>
                </a:lnTo>
                <a:lnTo>
                  <a:pt x="303" y="1126"/>
                </a:lnTo>
                <a:lnTo>
                  <a:pt x="290" y="1115"/>
                </a:lnTo>
                <a:lnTo>
                  <a:pt x="283" y="1111"/>
                </a:lnTo>
                <a:lnTo>
                  <a:pt x="274" y="1131"/>
                </a:lnTo>
                <a:lnTo>
                  <a:pt x="252" y="1145"/>
                </a:lnTo>
                <a:lnTo>
                  <a:pt x="245" y="1167"/>
                </a:lnTo>
                <a:lnTo>
                  <a:pt x="251" y="1184"/>
                </a:lnTo>
                <a:lnTo>
                  <a:pt x="248" y="1194"/>
                </a:lnTo>
                <a:lnTo>
                  <a:pt x="241" y="1192"/>
                </a:lnTo>
                <a:lnTo>
                  <a:pt x="227" y="1201"/>
                </a:lnTo>
                <a:lnTo>
                  <a:pt x="224" y="1214"/>
                </a:lnTo>
                <a:lnTo>
                  <a:pt x="228" y="1224"/>
                </a:lnTo>
                <a:lnTo>
                  <a:pt x="236" y="1223"/>
                </a:lnTo>
                <a:lnTo>
                  <a:pt x="205" y="1296"/>
                </a:lnTo>
                <a:lnTo>
                  <a:pt x="211" y="1321"/>
                </a:lnTo>
                <a:lnTo>
                  <a:pt x="199" y="1357"/>
                </a:lnTo>
                <a:lnTo>
                  <a:pt x="191" y="1355"/>
                </a:lnTo>
                <a:lnTo>
                  <a:pt x="176" y="1346"/>
                </a:lnTo>
                <a:lnTo>
                  <a:pt x="164" y="1311"/>
                </a:lnTo>
                <a:lnTo>
                  <a:pt x="138" y="1292"/>
                </a:lnTo>
                <a:lnTo>
                  <a:pt x="125" y="1235"/>
                </a:lnTo>
                <a:lnTo>
                  <a:pt x="108" y="1176"/>
                </a:lnTo>
                <a:lnTo>
                  <a:pt x="105" y="1165"/>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9" name="Freeform 12"/>
          <p:cNvSpPr/>
          <p:nvPr/>
        </p:nvSpPr>
        <p:spPr>
          <a:xfrm>
            <a:off x="6383160" y="2741760"/>
            <a:ext cx="19080" cy="14040"/>
          </a:xfrm>
          <a:custGeom>
            <a:avLst/>
            <a:gdLst>
              <a:gd name="textAreaLeft" fmla="*/ 0 w 19080"/>
              <a:gd name="textAreaRight" fmla="*/ 19440 w 19080"/>
              <a:gd name="textAreaTop" fmla="*/ 0 h 14040"/>
              <a:gd name="textAreaBottom" fmla="*/ 14400 h 14040"/>
            </a:gdLst>
            <a:ahLst/>
            <a:rect l="textAreaLeft" t="textAreaTop" r="textAreaRight" b="textAreaBottom"/>
            <a:pathLst>
              <a:path w="31" h="25">
                <a:moveTo>
                  <a:pt x="4" y="25"/>
                </a:moveTo>
                <a:lnTo>
                  <a:pt x="31" y="15"/>
                </a:lnTo>
                <a:lnTo>
                  <a:pt x="17" y="0"/>
                </a:lnTo>
                <a:lnTo>
                  <a:pt x="0" y="8"/>
                </a:lnTo>
                <a:lnTo>
                  <a:pt x="4" y="25"/>
                </a:lnTo>
                <a:close/>
              </a:path>
            </a:pathLst>
          </a:custGeom>
          <a:solidFill>
            <a:srgbClr val="ffffff"/>
          </a:solidFill>
          <a:ln w="0">
            <a:solidFill>
              <a:srgbClr val="000000"/>
            </a:solidFill>
          </a:ln>
        </p:spPr>
        <p:style>
          <a:lnRef idx="0"/>
          <a:fillRef idx="0"/>
          <a:effectRef idx="0"/>
          <a:fontRef idx="minor"/>
        </p:style>
        <p:txBody>
          <a:bodyPr lIns="90000" rIns="90000" tIns="-32400" bIns="-32400" anchor="t">
            <a:noAutofit/>
          </a:bodyPr>
          <a:p>
            <a:endParaRPr b="0" lang="en-US" sz="2800" spc="-1" strike="noStrike">
              <a:solidFill>
                <a:srgbClr val="000000"/>
              </a:solidFill>
              <a:latin typeface="Arial"/>
            </a:endParaRPr>
          </a:p>
        </p:txBody>
      </p:sp>
      <p:sp>
        <p:nvSpPr>
          <p:cNvPr id="120" name="Freeform 13"/>
          <p:cNvSpPr/>
          <p:nvPr/>
        </p:nvSpPr>
        <p:spPr>
          <a:xfrm>
            <a:off x="6018120" y="2655720"/>
            <a:ext cx="189000" cy="424080"/>
          </a:xfrm>
          <a:custGeom>
            <a:avLst/>
            <a:gdLst>
              <a:gd name="textAreaLeft" fmla="*/ 0 w 189000"/>
              <a:gd name="textAreaRight" fmla="*/ 189360 w 189000"/>
              <a:gd name="textAreaTop" fmla="*/ 0 h 424080"/>
              <a:gd name="textAreaBottom" fmla="*/ 424440 h 424080"/>
            </a:gdLst>
            <a:ahLst/>
            <a:rect l="textAreaLeft" t="textAreaTop" r="textAreaRight" b="textAreaBottom"/>
            <a:pathLst>
              <a:path w="311" h="810">
                <a:moveTo>
                  <a:pt x="7" y="554"/>
                </a:moveTo>
                <a:lnTo>
                  <a:pt x="4" y="547"/>
                </a:lnTo>
                <a:lnTo>
                  <a:pt x="10" y="510"/>
                </a:lnTo>
                <a:lnTo>
                  <a:pt x="17" y="497"/>
                </a:lnTo>
                <a:lnTo>
                  <a:pt x="19" y="427"/>
                </a:lnTo>
                <a:lnTo>
                  <a:pt x="24" y="386"/>
                </a:lnTo>
                <a:lnTo>
                  <a:pt x="20" y="378"/>
                </a:lnTo>
                <a:lnTo>
                  <a:pt x="12" y="352"/>
                </a:lnTo>
                <a:lnTo>
                  <a:pt x="17" y="327"/>
                </a:lnTo>
                <a:lnTo>
                  <a:pt x="43" y="313"/>
                </a:lnTo>
                <a:lnTo>
                  <a:pt x="44" y="304"/>
                </a:lnTo>
                <a:lnTo>
                  <a:pt x="51" y="291"/>
                </a:lnTo>
                <a:lnTo>
                  <a:pt x="75" y="256"/>
                </a:lnTo>
                <a:lnTo>
                  <a:pt x="52" y="186"/>
                </a:lnTo>
                <a:lnTo>
                  <a:pt x="65" y="132"/>
                </a:lnTo>
                <a:lnTo>
                  <a:pt x="57" y="104"/>
                </a:lnTo>
                <a:lnTo>
                  <a:pt x="52" y="37"/>
                </a:lnTo>
                <a:lnTo>
                  <a:pt x="82" y="18"/>
                </a:lnTo>
                <a:lnTo>
                  <a:pt x="87" y="22"/>
                </a:lnTo>
                <a:lnTo>
                  <a:pt x="103" y="16"/>
                </a:lnTo>
                <a:lnTo>
                  <a:pt x="105" y="0"/>
                </a:lnTo>
                <a:lnTo>
                  <a:pt x="112" y="13"/>
                </a:lnTo>
                <a:lnTo>
                  <a:pt x="115" y="27"/>
                </a:lnTo>
                <a:lnTo>
                  <a:pt x="149" y="154"/>
                </a:lnTo>
                <a:lnTo>
                  <a:pt x="183" y="286"/>
                </a:lnTo>
                <a:lnTo>
                  <a:pt x="185" y="295"/>
                </a:lnTo>
                <a:lnTo>
                  <a:pt x="203" y="365"/>
                </a:lnTo>
                <a:lnTo>
                  <a:pt x="217" y="425"/>
                </a:lnTo>
                <a:lnTo>
                  <a:pt x="220" y="436"/>
                </a:lnTo>
                <a:lnTo>
                  <a:pt x="237" y="495"/>
                </a:lnTo>
                <a:lnTo>
                  <a:pt x="250" y="552"/>
                </a:lnTo>
                <a:lnTo>
                  <a:pt x="276" y="571"/>
                </a:lnTo>
                <a:lnTo>
                  <a:pt x="288" y="606"/>
                </a:lnTo>
                <a:lnTo>
                  <a:pt x="303" y="615"/>
                </a:lnTo>
                <a:lnTo>
                  <a:pt x="311" y="617"/>
                </a:lnTo>
                <a:lnTo>
                  <a:pt x="309" y="619"/>
                </a:lnTo>
                <a:lnTo>
                  <a:pt x="305" y="664"/>
                </a:lnTo>
                <a:lnTo>
                  <a:pt x="304" y="678"/>
                </a:lnTo>
                <a:lnTo>
                  <a:pt x="269" y="694"/>
                </a:lnTo>
                <a:lnTo>
                  <a:pt x="267" y="711"/>
                </a:lnTo>
                <a:lnTo>
                  <a:pt x="240" y="739"/>
                </a:lnTo>
                <a:lnTo>
                  <a:pt x="240" y="741"/>
                </a:lnTo>
                <a:lnTo>
                  <a:pt x="239" y="742"/>
                </a:lnTo>
                <a:lnTo>
                  <a:pt x="237" y="745"/>
                </a:lnTo>
                <a:lnTo>
                  <a:pt x="235" y="755"/>
                </a:lnTo>
                <a:lnTo>
                  <a:pt x="132" y="785"/>
                </a:lnTo>
                <a:lnTo>
                  <a:pt x="127" y="786"/>
                </a:lnTo>
                <a:lnTo>
                  <a:pt x="121" y="788"/>
                </a:lnTo>
                <a:lnTo>
                  <a:pt x="104" y="792"/>
                </a:lnTo>
                <a:lnTo>
                  <a:pt x="67" y="803"/>
                </a:lnTo>
                <a:lnTo>
                  <a:pt x="56" y="806"/>
                </a:lnTo>
                <a:lnTo>
                  <a:pt x="52" y="806"/>
                </a:lnTo>
                <a:lnTo>
                  <a:pt x="37" y="810"/>
                </a:lnTo>
                <a:lnTo>
                  <a:pt x="11" y="751"/>
                </a:lnTo>
                <a:lnTo>
                  <a:pt x="20" y="732"/>
                </a:lnTo>
                <a:lnTo>
                  <a:pt x="12" y="686"/>
                </a:lnTo>
                <a:lnTo>
                  <a:pt x="11" y="664"/>
                </a:lnTo>
                <a:lnTo>
                  <a:pt x="4" y="586"/>
                </a:lnTo>
                <a:lnTo>
                  <a:pt x="0" y="562"/>
                </a:lnTo>
                <a:lnTo>
                  <a:pt x="7" y="554"/>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1" name="Freeform 14"/>
          <p:cNvSpPr/>
          <p:nvPr/>
        </p:nvSpPr>
        <p:spPr>
          <a:xfrm>
            <a:off x="5823000" y="3348000"/>
            <a:ext cx="150840" cy="376200"/>
          </a:xfrm>
          <a:custGeom>
            <a:avLst/>
            <a:gdLst>
              <a:gd name="textAreaLeft" fmla="*/ 0 w 150840"/>
              <a:gd name="textAreaRight" fmla="*/ 151200 w 150840"/>
              <a:gd name="textAreaTop" fmla="*/ 0 h 376200"/>
              <a:gd name="textAreaBottom" fmla="*/ 376560 h 376200"/>
            </a:gdLst>
            <a:ahLst/>
            <a:rect l="textAreaLeft" t="textAreaTop" r="textAreaRight" b="textAreaBottom"/>
            <a:pathLst>
              <a:path w="251" h="719">
                <a:moveTo>
                  <a:pt x="225" y="521"/>
                </a:moveTo>
                <a:lnTo>
                  <a:pt x="231" y="517"/>
                </a:lnTo>
                <a:lnTo>
                  <a:pt x="251" y="432"/>
                </a:lnTo>
                <a:lnTo>
                  <a:pt x="243" y="331"/>
                </a:lnTo>
                <a:lnTo>
                  <a:pt x="239" y="249"/>
                </a:lnTo>
                <a:lnTo>
                  <a:pt x="230" y="222"/>
                </a:lnTo>
                <a:lnTo>
                  <a:pt x="232" y="233"/>
                </a:lnTo>
                <a:lnTo>
                  <a:pt x="198" y="234"/>
                </a:lnTo>
                <a:lnTo>
                  <a:pt x="194" y="241"/>
                </a:lnTo>
                <a:lnTo>
                  <a:pt x="185" y="239"/>
                </a:lnTo>
                <a:lnTo>
                  <a:pt x="182" y="227"/>
                </a:lnTo>
                <a:lnTo>
                  <a:pt x="182" y="222"/>
                </a:lnTo>
                <a:lnTo>
                  <a:pt x="181" y="215"/>
                </a:lnTo>
                <a:lnTo>
                  <a:pt x="186" y="197"/>
                </a:lnTo>
                <a:lnTo>
                  <a:pt x="185" y="190"/>
                </a:lnTo>
                <a:lnTo>
                  <a:pt x="184" y="186"/>
                </a:lnTo>
                <a:lnTo>
                  <a:pt x="191" y="180"/>
                </a:lnTo>
                <a:lnTo>
                  <a:pt x="194" y="180"/>
                </a:lnTo>
                <a:lnTo>
                  <a:pt x="203" y="175"/>
                </a:lnTo>
                <a:lnTo>
                  <a:pt x="208" y="173"/>
                </a:lnTo>
                <a:lnTo>
                  <a:pt x="210" y="162"/>
                </a:lnTo>
                <a:lnTo>
                  <a:pt x="210" y="152"/>
                </a:lnTo>
                <a:lnTo>
                  <a:pt x="210" y="139"/>
                </a:lnTo>
                <a:lnTo>
                  <a:pt x="213" y="127"/>
                </a:lnTo>
                <a:lnTo>
                  <a:pt x="216" y="102"/>
                </a:lnTo>
                <a:lnTo>
                  <a:pt x="217" y="100"/>
                </a:lnTo>
                <a:lnTo>
                  <a:pt x="217" y="98"/>
                </a:lnTo>
                <a:lnTo>
                  <a:pt x="217" y="97"/>
                </a:lnTo>
                <a:lnTo>
                  <a:pt x="217" y="88"/>
                </a:lnTo>
                <a:lnTo>
                  <a:pt x="217" y="71"/>
                </a:lnTo>
                <a:lnTo>
                  <a:pt x="217" y="68"/>
                </a:lnTo>
                <a:lnTo>
                  <a:pt x="217" y="64"/>
                </a:lnTo>
                <a:lnTo>
                  <a:pt x="216" y="64"/>
                </a:lnTo>
                <a:lnTo>
                  <a:pt x="169" y="47"/>
                </a:lnTo>
                <a:lnTo>
                  <a:pt x="154" y="41"/>
                </a:lnTo>
                <a:lnTo>
                  <a:pt x="152" y="40"/>
                </a:lnTo>
                <a:lnTo>
                  <a:pt x="150" y="40"/>
                </a:lnTo>
                <a:lnTo>
                  <a:pt x="144" y="37"/>
                </a:lnTo>
                <a:lnTo>
                  <a:pt x="131" y="32"/>
                </a:lnTo>
                <a:lnTo>
                  <a:pt x="123" y="29"/>
                </a:lnTo>
                <a:lnTo>
                  <a:pt x="105" y="20"/>
                </a:lnTo>
                <a:lnTo>
                  <a:pt x="87" y="13"/>
                </a:lnTo>
                <a:lnTo>
                  <a:pt x="58" y="0"/>
                </a:lnTo>
                <a:lnTo>
                  <a:pt x="49" y="7"/>
                </a:lnTo>
                <a:lnTo>
                  <a:pt x="37" y="40"/>
                </a:lnTo>
                <a:lnTo>
                  <a:pt x="35" y="63"/>
                </a:lnTo>
                <a:lnTo>
                  <a:pt x="22" y="93"/>
                </a:lnTo>
                <a:lnTo>
                  <a:pt x="25" y="90"/>
                </a:lnTo>
                <a:lnTo>
                  <a:pt x="26" y="91"/>
                </a:lnTo>
                <a:lnTo>
                  <a:pt x="22" y="98"/>
                </a:lnTo>
                <a:lnTo>
                  <a:pt x="2" y="129"/>
                </a:lnTo>
                <a:lnTo>
                  <a:pt x="6" y="135"/>
                </a:lnTo>
                <a:lnTo>
                  <a:pt x="23" y="159"/>
                </a:lnTo>
                <a:lnTo>
                  <a:pt x="5" y="202"/>
                </a:lnTo>
                <a:lnTo>
                  <a:pt x="11" y="243"/>
                </a:lnTo>
                <a:lnTo>
                  <a:pt x="13" y="244"/>
                </a:lnTo>
                <a:lnTo>
                  <a:pt x="14" y="247"/>
                </a:lnTo>
                <a:lnTo>
                  <a:pt x="26" y="250"/>
                </a:lnTo>
                <a:lnTo>
                  <a:pt x="67" y="300"/>
                </a:lnTo>
                <a:lnTo>
                  <a:pt x="71" y="308"/>
                </a:lnTo>
                <a:lnTo>
                  <a:pt x="85" y="317"/>
                </a:lnTo>
                <a:lnTo>
                  <a:pt x="94" y="329"/>
                </a:lnTo>
                <a:lnTo>
                  <a:pt x="120" y="354"/>
                </a:lnTo>
                <a:lnTo>
                  <a:pt x="106" y="365"/>
                </a:lnTo>
                <a:lnTo>
                  <a:pt x="97" y="380"/>
                </a:lnTo>
                <a:lnTo>
                  <a:pt x="81" y="395"/>
                </a:lnTo>
                <a:lnTo>
                  <a:pt x="78" y="402"/>
                </a:lnTo>
                <a:lnTo>
                  <a:pt x="70" y="413"/>
                </a:lnTo>
                <a:lnTo>
                  <a:pt x="69" y="416"/>
                </a:lnTo>
                <a:lnTo>
                  <a:pt x="59" y="427"/>
                </a:lnTo>
                <a:lnTo>
                  <a:pt x="62" y="446"/>
                </a:lnTo>
                <a:lnTo>
                  <a:pt x="61" y="450"/>
                </a:lnTo>
                <a:lnTo>
                  <a:pt x="51" y="457"/>
                </a:lnTo>
                <a:lnTo>
                  <a:pt x="50" y="458"/>
                </a:lnTo>
                <a:lnTo>
                  <a:pt x="49" y="460"/>
                </a:lnTo>
                <a:lnTo>
                  <a:pt x="43" y="466"/>
                </a:lnTo>
                <a:lnTo>
                  <a:pt x="23" y="480"/>
                </a:lnTo>
                <a:lnTo>
                  <a:pt x="17" y="488"/>
                </a:lnTo>
                <a:lnTo>
                  <a:pt x="17" y="490"/>
                </a:lnTo>
                <a:lnTo>
                  <a:pt x="14" y="497"/>
                </a:lnTo>
                <a:lnTo>
                  <a:pt x="7" y="522"/>
                </a:lnTo>
                <a:lnTo>
                  <a:pt x="0" y="546"/>
                </a:lnTo>
                <a:lnTo>
                  <a:pt x="5" y="555"/>
                </a:lnTo>
                <a:lnTo>
                  <a:pt x="10" y="585"/>
                </a:lnTo>
                <a:lnTo>
                  <a:pt x="40" y="612"/>
                </a:lnTo>
                <a:lnTo>
                  <a:pt x="65" y="631"/>
                </a:lnTo>
                <a:lnTo>
                  <a:pt x="73" y="629"/>
                </a:lnTo>
                <a:lnTo>
                  <a:pt x="101" y="651"/>
                </a:lnTo>
                <a:lnTo>
                  <a:pt x="102" y="647"/>
                </a:lnTo>
                <a:lnTo>
                  <a:pt x="138" y="646"/>
                </a:lnTo>
                <a:lnTo>
                  <a:pt x="143" y="719"/>
                </a:lnTo>
                <a:lnTo>
                  <a:pt x="159" y="712"/>
                </a:lnTo>
                <a:lnTo>
                  <a:pt x="171" y="690"/>
                </a:lnTo>
                <a:lnTo>
                  <a:pt x="199" y="590"/>
                </a:lnTo>
                <a:lnTo>
                  <a:pt x="199" y="589"/>
                </a:lnTo>
                <a:lnTo>
                  <a:pt x="230" y="527"/>
                </a:lnTo>
                <a:lnTo>
                  <a:pt x="225" y="52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2" name="Freeform 15"/>
          <p:cNvSpPr/>
          <p:nvPr/>
        </p:nvSpPr>
        <p:spPr>
          <a:xfrm>
            <a:off x="5302080" y="2760840"/>
            <a:ext cx="854280" cy="706320"/>
          </a:xfrm>
          <a:custGeom>
            <a:avLst/>
            <a:gdLst>
              <a:gd name="textAreaLeft" fmla="*/ 0 w 854280"/>
              <a:gd name="textAreaRight" fmla="*/ 854640 w 854280"/>
              <a:gd name="textAreaTop" fmla="*/ 0 h 706320"/>
              <a:gd name="textAreaBottom" fmla="*/ 706680 h 706320"/>
            </a:gdLst>
            <a:ahLst/>
            <a:rect l="textAreaLeft" t="textAreaTop" r="textAreaRight" b="textAreaBottom"/>
            <a:pathLst>
              <a:path w="1413" h="1347">
                <a:moveTo>
                  <a:pt x="1078" y="1184"/>
                </a:moveTo>
                <a:lnTo>
                  <a:pt x="1077" y="1184"/>
                </a:lnTo>
                <a:lnTo>
                  <a:pt x="1030" y="1167"/>
                </a:lnTo>
                <a:lnTo>
                  <a:pt x="1015" y="1161"/>
                </a:lnTo>
                <a:lnTo>
                  <a:pt x="1013" y="1160"/>
                </a:lnTo>
                <a:lnTo>
                  <a:pt x="1011" y="1160"/>
                </a:lnTo>
                <a:lnTo>
                  <a:pt x="1005" y="1157"/>
                </a:lnTo>
                <a:lnTo>
                  <a:pt x="992" y="1152"/>
                </a:lnTo>
                <a:lnTo>
                  <a:pt x="984" y="1149"/>
                </a:lnTo>
                <a:lnTo>
                  <a:pt x="966" y="1140"/>
                </a:lnTo>
                <a:lnTo>
                  <a:pt x="948" y="1133"/>
                </a:lnTo>
                <a:lnTo>
                  <a:pt x="919" y="1120"/>
                </a:lnTo>
                <a:lnTo>
                  <a:pt x="917" y="1116"/>
                </a:lnTo>
                <a:lnTo>
                  <a:pt x="907" y="1103"/>
                </a:lnTo>
                <a:lnTo>
                  <a:pt x="906" y="1105"/>
                </a:lnTo>
                <a:lnTo>
                  <a:pt x="884" y="1105"/>
                </a:lnTo>
                <a:lnTo>
                  <a:pt x="859" y="1092"/>
                </a:lnTo>
                <a:lnTo>
                  <a:pt x="842" y="1068"/>
                </a:lnTo>
                <a:lnTo>
                  <a:pt x="845" y="1061"/>
                </a:lnTo>
                <a:lnTo>
                  <a:pt x="837" y="1024"/>
                </a:lnTo>
                <a:lnTo>
                  <a:pt x="815" y="1000"/>
                </a:lnTo>
                <a:lnTo>
                  <a:pt x="811" y="996"/>
                </a:lnTo>
                <a:lnTo>
                  <a:pt x="797" y="1001"/>
                </a:lnTo>
                <a:lnTo>
                  <a:pt x="771" y="967"/>
                </a:lnTo>
                <a:lnTo>
                  <a:pt x="768" y="967"/>
                </a:lnTo>
                <a:lnTo>
                  <a:pt x="749" y="973"/>
                </a:lnTo>
                <a:lnTo>
                  <a:pt x="695" y="988"/>
                </a:lnTo>
                <a:lnTo>
                  <a:pt x="661" y="998"/>
                </a:lnTo>
                <a:lnTo>
                  <a:pt x="643" y="1003"/>
                </a:lnTo>
                <a:lnTo>
                  <a:pt x="639" y="1004"/>
                </a:lnTo>
                <a:lnTo>
                  <a:pt x="636" y="1004"/>
                </a:lnTo>
                <a:lnTo>
                  <a:pt x="618" y="1010"/>
                </a:lnTo>
                <a:lnTo>
                  <a:pt x="596" y="1015"/>
                </a:lnTo>
                <a:lnTo>
                  <a:pt x="565" y="1024"/>
                </a:lnTo>
                <a:lnTo>
                  <a:pt x="525" y="1034"/>
                </a:lnTo>
                <a:lnTo>
                  <a:pt x="510" y="1037"/>
                </a:lnTo>
                <a:lnTo>
                  <a:pt x="501" y="1040"/>
                </a:lnTo>
                <a:lnTo>
                  <a:pt x="494" y="1041"/>
                </a:lnTo>
                <a:lnTo>
                  <a:pt x="475" y="1047"/>
                </a:lnTo>
                <a:lnTo>
                  <a:pt x="402" y="1066"/>
                </a:lnTo>
                <a:lnTo>
                  <a:pt x="383" y="1071"/>
                </a:lnTo>
                <a:lnTo>
                  <a:pt x="381" y="1071"/>
                </a:lnTo>
                <a:lnTo>
                  <a:pt x="367" y="1075"/>
                </a:lnTo>
                <a:lnTo>
                  <a:pt x="359" y="1076"/>
                </a:lnTo>
                <a:lnTo>
                  <a:pt x="333" y="1083"/>
                </a:lnTo>
                <a:lnTo>
                  <a:pt x="295" y="1092"/>
                </a:lnTo>
                <a:lnTo>
                  <a:pt x="280" y="1096"/>
                </a:lnTo>
                <a:lnTo>
                  <a:pt x="273" y="1098"/>
                </a:lnTo>
                <a:lnTo>
                  <a:pt x="263" y="1100"/>
                </a:lnTo>
                <a:lnTo>
                  <a:pt x="208" y="1113"/>
                </a:lnTo>
                <a:lnTo>
                  <a:pt x="168" y="1123"/>
                </a:lnTo>
                <a:lnTo>
                  <a:pt x="158" y="1126"/>
                </a:lnTo>
                <a:lnTo>
                  <a:pt x="145" y="1129"/>
                </a:lnTo>
                <a:lnTo>
                  <a:pt x="144" y="1129"/>
                </a:lnTo>
                <a:lnTo>
                  <a:pt x="133" y="1132"/>
                </a:lnTo>
                <a:lnTo>
                  <a:pt x="113" y="1136"/>
                </a:lnTo>
                <a:lnTo>
                  <a:pt x="62" y="1149"/>
                </a:lnTo>
                <a:lnTo>
                  <a:pt x="38" y="1154"/>
                </a:lnTo>
                <a:lnTo>
                  <a:pt x="31" y="1156"/>
                </a:lnTo>
                <a:lnTo>
                  <a:pt x="13" y="1160"/>
                </a:lnTo>
                <a:lnTo>
                  <a:pt x="0" y="1081"/>
                </a:lnTo>
                <a:lnTo>
                  <a:pt x="22" y="1058"/>
                </a:lnTo>
                <a:lnTo>
                  <a:pt x="67" y="996"/>
                </a:lnTo>
                <a:lnTo>
                  <a:pt x="95" y="967"/>
                </a:lnTo>
                <a:lnTo>
                  <a:pt x="112" y="923"/>
                </a:lnTo>
                <a:lnTo>
                  <a:pt x="127" y="906"/>
                </a:lnTo>
                <a:lnTo>
                  <a:pt x="116" y="849"/>
                </a:lnTo>
                <a:lnTo>
                  <a:pt x="97" y="842"/>
                </a:lnTo>
                <a:lnTo>
                  <a:pt x="93" y="818"/>
                </a:lnTo>
                <a:lnTo>
                  <a:pt x="84" y="807"/>
                </a:lnTo>
                <a:lnTo>
                  <a:pt x="76" y="763"/>
                </a:lnTo>
                <a:lnTo>
                  <a:pt x="173" y="708"/>
                </a:lnTo>
                <a:lnTo>
                  <a:pt x="228" y="692"/>
                </a:lnTo>
                <a:lnTo>
                  <a:pt x="229" y="692"/>
                </a:lnTo>
                <a:lnTo>
                  <a:pt x="253" y="689"/>
                </a:lnTo>
                <a:lnTo>
                  <a:pt x="296" y="688"/>
                </a:lnTo>
                <a:lnTo>
                  <a:pt x="336" y="708"/>
                </a:lnTo>
                <a:lnTo>
                  <a:pt x="363" y="689"/>
                </a:lnTo>
                <a:lnTo>
                  <a:pt x="403" y="675"/>
                </a:lnTo>
                <a:lnTo>
                  <a:pt x="426" y="674"/>
                </a:lnTo>
                <a:lnTo>
                  <a:pt x="470" y="641"/>
                </a:lnTo>
                <a:lnTo>
                  <a:pt x="478" y="628"/>
                </a:lnTo>
                <a:lnTo>
                  <a:pt x="484" y="614"/>
                </a:lnTo>
                <a:lnTo>
                  <a:pt x="507" y="583"/>
                </a:lnTo>
                <a:lnTo>
                  <a:pt x="540" y="566"/>
                </a:lnTo>
                <a:lnTo>
                  <a:pt x="544" y="536"/>
                </a:lnTo>
                <a:lnTo>
                  <a:pt x="541" y="519"/>
                </a:lnTo>
                <a:lnTo>
                  <a:pt x="530" y="485"/>
                </a:lnTo>
                <a:lnTo>
                  <a:pt x="522" y="481"/>
                </a:lnTo>
                <a:lnTo>
                  <a:pt x="518" y="467"/>
                </a:lnTo>
                <a:lnTo>
                  <a:pt x="528" y="468"/>
                </a:lnTo>
                <a:lnTo>
                  <a:pt x="541" y="449"/>
                </a:lnTo>
                <a:lnTo>
                  <a:pt x="517" y="438"/>
                </a:lnTo>
                <a:lnTo>
                  <a:pt x="512" y="442"/>
                </a:lnTo>
                <a:lnTo>
                  <a:pt x="512" y="430"/>
                </a:lnTo>
                <a:lnTo>
                  <a:pt x="492" y="424"/>
                </a:lnTo>
                <a:lnTo>
                  <a:pt x="495" y="374"/>
                </a:lnTo>
                <a:lnTo>
                  <a:pt x="518" y="356"/>
                </a:lnTo>
                <a:lnTo>
                  <a:pt x="516" y="345"/>
                </a:lnTo>
                <a:lnTo>
                  <a:pt x="552" y="303"/>
                </a:lnTo>
                <a:lnTo>
                  <a:pt x="560" y="295"/>
                </a:lnTo>
                <a:lnTo>
                  <a:pt x="565" y="272"/>
                </a:lnTo>
                <a:lnTo>
                  <a:pt x="629" y="146"/>
                </a:lnTo>
                <a:lnTo>
                  <a:pt x="653" y="120"/>
                </a:lnTo>
                <a:lnTo>
                  <a:pt x="654" y="115"/>
                </a:lnTo>
                <a:lnTo>
                  <a:pt x="693" y="75"/>
                </a:lnTo>
                <a:lnTo>
                  <a:pt x="716" y="72"/>
                </a:lnTo>
                <a:lnTo>
                  <a:pt x="717" y="71"/>
                </a:lnTo>
                <a:lnTo>
                  <a:pt x="719" y="68"/>
                </a:lnTo>
                <a:lnTo>
                  <a:pt x="831" y="37"/>
                </a:lnTo>
                <a:lnTo>
                  <a:pt x="836" y="35"/>
                </a:lnTo>
                <a:lnTo>
                  <a:pt x="896" y="15"/>
                </a:lnTo>
                <a:lnTo>
                  <a:pt x="942" y="0"/>
                </a:lnTo>
                <a:lnTo>
                  <a:pt x="946" y="44"/>
                </a:lnTo>
                <a:lnTo>
                  <a:pt x="962" y="126"/>
                </a:lnTo>
                <a:lnTo>
                  <a:pt x="965" y="129"/>
                </a:lnTo>
                <a:lnTo>
                  <a:pt x="970" y="132"/>
                </a:lnTo>
                <a:lnTo>
                  <a:pt x="978" y="143"/>
                </a:lnTo>
                <a:lnTo>
                  <a:pt x="990" y="211"/>
                </a:lnTo>
                <a:lnTo>
                  <a:pt x="981" y="237"/>
                </a:lnTo>
                <a:lnTo>
                  <a:pt x="981" y="272"/>
                </a:lnTo>
                <a:lnTo>
                  <a:pt x="1005" y="346"/>
                </a:lnTo>
                <a:lnTo>
                  <a:pt x="1006" y="349"/>
                </a:lnTo>
                <a:lnTo>
                  <a:pt x="1007" y="349"/>
                </a:lnTo>
                <a:lnTo>
                  <a:pt x="1011" y="362"/>
                </a:lnTo>
                <a:lnTo>
                  <a:pt x="1008" y="401"/>
                </a:lnTo>
                <a:lnTo>
                  <a:pt x="1029" y="396"/>
                </a:lnTo>
                <a:lnTo>
                  <a:pt x="1054" y="482"/>
                </a:lnTo>
                <a:lnTo>
                  <a:pt x="1058" y="501"/>
                </a:lnTo>
                <a:lnTo>
                  <a:pt x="1064" y="537"/>
                </a:lnTo>
                <a:lnTo>
                  <a:pt x="1072" y="590"/>
                </a:lnTo>
                <a:lnTo>
                  <a:pt x="1078" y="621"/>
                </a:lnTo>
                <a:lnTo>
                  <a:pt x="1084" y="647"/>
                </a:lnTo>
                <a:lnTo>
                  <a:pt x="1086" y="647"/>
                </a:lnTo>
                <a:lnTo>
                  <a:pt x="1085" y="666"/>
                </a:lnTo>
                <a:lnTo>
                  <a:pt x="1085" y="684"/>
                </a:lnTo>
                <a:lnTo>
                  <a:pt x="1085" y="719"/>
                </a:lnTo>
                <a:lnTo>
                  <a:pt x="1083" y="837"/>
                </a:lnTo>
                <a:lnTo>
                  <a:pt x="1083" y="849"/>
                </a:lnTo>
                <a:lnTo>
                  <a:pt x="1086" y="859"/>
                </a:lnTo>
                <a:lnTo>
                  <a:pt x="1088" y="858"/>
                </a:lnTo>
                <a:lnTo>
                  <a:pt x="1091" y="874"/>
                </a:lnTo>
                <a:lnTo>
                  <a:pt x="1101" y="946"/>
                </a:lnTo>
                <a:lnTo>
                  <a:pt x="1104" y="971"/>
                </a:lnTo>
                <a:lnTo>
                  <a:pt x="1107" y="983"/>
                </a:lnTo>
                <a:lnTo>
                  <a:pt x="1108" y="990"/>
                </a:lnTo>
                <a:lnTo>
                  <a:pt x="1110" y="1013"/>
                </a:lnTo>
                <a:lnTo>
                  <a:pt x="1115" y="1040"/>
                </a:lnTo>
                <a:lnTo>
                  <a:pt x="1116" y="1047"/>
                </a:lnTo>
                <a:lnTo>
                  <a:pt x="1118" y="1059"/>
                </a:lnTo>
                <a:lnTo>
                  <a:pt x="1136" y="1100"/>
                </a:lnTo>
                <a:lnTo>
                  <a:pt x="1101" y="1146"/>
                </a:lnTo>
                <a:lnTo>
                  <a:pt x="1120" y="1176"/>
                </a:lnTo>
                <a:lnTo>
                  <a:pt x="1108" y="1200"/>
                </a:lnTo>
                <a:lnTo>
                  <a:pt x="1108" y="1213"/>
                </a:lnTo>
                <a:lnTo>
                  <a:pt x="1104" y="1215"/>
                </a:lnTo>
                <a:lnTo>
                  <a:pt x="1107" y="1218"/>
                </a:lnTo>
                <a:lnTo>
                  <a:pt x="1110" y="1222"/>
                </a:lnTo>
                <a:lnTo>
                  <a:pt x="1126" y="1207"/>
                </a:lnTo>
                <a:lnTo>
                  <a:pt x="1131" y="1198"/>
                </a:lnTo>
                <a:lnTo>
                  <a:pt x="1150" y="1186"/>
                </a:lnTo>
                <a:lnTo>
                  <a:pt x="1170" y="1173"/>
                </a:lnTo>
                <a:lnTo>
                  <a:pt x="1195" y="1176"/>
                </a:lnTo>
                <a:lnTo>
                  <a:pt x="1213" y="1150"/>
                </a:lnTo>
                <a:lnTo>
                  <a:pt x="1295" y="1122"/>
                </a:lnTo>
                <a:lnTo>
                  <a:pt x="1335" y="1065"/>
                </a:lnTo>
                <a:lnTo>
                  <a:pt x="1356" y="1048"/>
                </a:lnTo>
                <a:lnTo>
                  <a:pt x="1349" y="1061"/>
                </a:lnTo>
                <a:lnTo>
                  <a:pt x="1359" y="1082"/>
                </a:lnTo>
                <a:lnTo>
                  <a:pt x="1385" y="1088"/>
                </a:lnTo>
                <a:lnTo>
                  <a:pt x="1409" y="1059"/>
                </a:lnTo>
                <a:lnTo>
                  <a:pt x="1413" y="1069"/>
                </a:lnTo>
                <a:lnTo>
                  <a:pt x="1367" y="1118"/>
                </a:lnTo>
                <a:lnTo>
                  <a:pt x="1211" y="1258"/>
                </a:lnTo>
                <a:lnTo>
                  <a:pt x="1182" y="1272"/>
                </a:lnTo>
                <a:lnTo>
                  <a:pt x="1148" y="1289"/>
                </a:lnTo>
                <a:lnTo>
                  <a:pt x="1126" y="1296"/>
                </a:lnTo>
                <a:lnTo>
                  <a:pt x="1125" y="1296"/>
                </a:lnTo>
                <a:lnTo>
                  <a:pt x="1106" y="1309"/>
                </a:lnTo>
                <a:lnTo>
                  <a:pt x="1095" y="1317"/>
                </a:lnTo>
                <a:lnTo>
                  <a:pt x="1096" y="1310"/>
                </a:lnTo>
                <a:lnTo>
                  <a:pt x="1084" y="1313"/>
                </a:lnTo>
                <a:lnTo>
                  <a:pt x="1074" y="1305"/>
                </a:lnTo>
                <a:lnTo>
                  <a:pt x="1063" y="1329"/>
                </a:lnTo>
                <a:lnTo>
                  <a:pt x="1044" y="1347"/>
                </a:lnTo>
                <a:lnTo>
                  <a:pt x="1043" y="1347"/>
                </a:lnTo>
                <a:lnTo>
                  <a:pt x="1043" y="1342"/>
                </a:lnTo>
                <a:lnTo>
                  <a:pt x="1042" y="1335"/>
                </a:lnTo>
                <a:lnTo>
                  <a:pt x="1047" y="1317"/>
                </a:lnTo>
                <a:lnTo>
                  <a:pt x="1046" y="1310"/>
                </a:lnTo>
                <a:lnTo>
                  <a:pt x="1045" y="1306"/>
                </a:lnTo>
                <a:lnTo>
                  <a:pt x="1052" y="1300"/>
                </a:lnTo>
                <a:lnTo>
                  <a:pt x="1055" y="1300"/>
                </a:lnTo>
                <a:lnTo>
                  <a:pt x="1064" y="1295"/>
                </a:lnTo>
                <a:lnTo>
                  <a:pt x="1069" y="1293"/>
                </a:lnTo>
                <a:lnTo>
                  <a:pt x="1071" y="1282"/>
                </a:lnTo>
                <a:lnTo>
                  <a:pt x="1071" y="1272"/>
                </a:lnTo>
                <a:lnTo>
                  <a:pt x="1071" y="1259"/>
                </a:lnTo>
                <a:lnTo>
                  <a:pt x="1074" y="1247"/>
                </a:lnTo>
                <a:lnTo>
                  <a:pt x="1077" y="1222"/>
                </a:lnTo>
                <a:lnTo>
                  <a:pt x="1078" y="1220"/>
                </a:lnTo>
                <a:lnTo>
                  <a:pt x="1078" y="1218"/>
                </a:lnTo>
                <a:lnTo>
                  <a:pt x="1078" y="1217"/>
                </a:lnTo>
                <a:lnTo>
                  <a:pt x="1078" y="1208"/>
                </a:lnTo>
                <a:lnTo>
                  <a:pt x="1078" y="1191"/>
                </a:lnTo>
                <a:lnTo>
                  <a:pt x="1078" y="1188"/>
                </a:lnTo>
                <a:lnTo>
                  <a:pt x="1078" y="1184"/>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3" name="Freeform 16"/>
          <p:cNvSpPr/>
          <p:nvPr/>
        </p:nvSpPr>
        <p:spPr>
          <a:xfrm>
            <a:off x="6135840" y="3156120"/>
            <a:ext cx="88920" cy="122040"/>
          </a:xfrm>
          <a:custGeom>
            <a:avLst/>
            <a:gdLst>
              <a:gd name="textAreaLeft" fmla="*/ 0 w 88920"/>
              <a:gd name="textAreaRight" fmla="*/ 89280 w 88920"/>
              <a:gd name="textAreaTop" fmla="*/ 0 h 122040"/>
              <a:gd name="textAreaBottom" fmla="*/ 122400 h 122040"/>
            </a:gdLst>
            <a:ahLst/>
            <a:rect l="textAreaLeft" t="textAreaTop" r="textAreaRight" b="textAreaBottom"/>
            <a:pathLst>
              <a:path w="147" h="234">
                <a:moveTo>
                  <a:pt x="121" y="85"/>
                </a:moveTo>
                <a:lnTo>
                  <a:pt x="135" y="89"/>
                </a:lnTo>
                <a:lnTo>
                  <a:pt x="139" y="108"/>
                </a:lnTo>
                <a:lnTo>
                  <a:pt x="147" y="135"/>
                </a:lnTo>
                <a:lnTo>
                  <a:pt x="138" y="150"/>
                </a:lnTo>
                <a:lnTo>
                  <a:pt x="132" y="139"/>
                </a:lnTo>
                <a:lnTo>
                  <a:pt x="127" y="139"/>
                </a:lnTo>
                <a:lnTo>
                  <a:pt x="119" y="159"/>
                </a:lnTo>
                <a:lnTo>
                  <a:pt x="99" y="159"/>
                </a:lnTo>
                <a:lnTo>
                  <a:pt x="92" y="194"/>
                </a:lnTo>
                <a:lnTo>
                  <a:pt x="69" y="203"/>
                </a:lnTo>
                <a:lnTo>
                  <a:pt x="28" y="234"/>
                </a:lnTo>
                <a:lnTo>
                  <a:pt x="25" y="227"/>
                </a:lnTo>
                <a:lnTo>
                  <a:pt x="29" y="228"/>
                </a:lnTo>
                <a:lnTo>
                  <a:pt x="36" y="197"/>
                </a:lnTo>
                <a:lnTo>
                  <a:pt x="27" y="145"/>
                </a:lnTo>
                <a:lnTo>
                  <a:pt x="25" y="136"/>
                </a:lnTo>
                <a:lnTo>
                  <a:pt x="25" y="132"/>
                </a:lnTo>
                <a:lnTo>
                  <a:pt x="24" y="128"/>
                </a:lnTo>
                <a:lnTo>
                  <a:pt x="23" y="123"/>
                </a:lnTo>
                <a:lnTo>
                  <a:pt x="19" y="108"/>
                </a:lnTo>
                <a:lnTo>
                  <a:pt x="17" y="101"/>
                </a:lnTo>
                <a:lnTo>
                  <a:pt x="5" y="48"/>
                </a:lnTo>
                <a:lnTo>
                  <a:pt x="0" y="27"/>
                </a:lnTo>
                <a:lnTo>
                  <a:pt x="7" y="24"/>
                </a:lnTo>
                <a:lnTo>
                  <a:pt x="44" y="10"/>
                </a:lnTo>
                <a:lnTo>
                  <a:pt x="51" y="7"/>
                </a:lnTo>
                <a:lnTo>
                  <a:pt x="60" y="4"/>
                </a:lnTo>
                <a:lnTo>
                  <a:pt x="71" y="0"/>
                </a:lnTo>
                <a:lnTo>
                  <a:pt x="73" y="10"/>
                </a:lnTo>
                <a:lnTo>
                  <a:pt x="79" y="35"/>
                </a:lnTo>
                <a:lnTo>
                  <a:pt x="85" y="33"/>
                </a:lnTo>
                <a:lnTo>
                  <a:pt x="96" y="67"/>
                </a:lnTo>
                <a:lnTo>
                  <a:pt x="107" y="70"/>
                </a:lnTo>
                <a:lnTo>
                  <a:pt x="111" y="72"/>
                </a:lnTo>
                <a:lnTo>
                  <a:pt x="121" y="85"/>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4" name="Freeform 17"/>
          <p:cNvSpPr/>
          <p:nvPr/>
        </p:nvSpPr>
        <p:spPr>
          <a:xfrm>
            <a:off x="5872320" y="2711520"/>
            <a:ext cx="191880" cy="388800"/>
          </a:xfrm>
          <a:custGeom>
            <a:avLst/>
            <a:gdLst>
              <a:gd name="textAreaLeft" fmla="*/ 0 w 191880"/>
              <a:gd name="textAreaRight" fmla="*/ 192240 w 191880"/>
              <a:gd name="textAreaTop" fmla="*/ 0 h 388800"/>
              <a:gd name="textAreaBottom" fmla="*/ 389160 h 388800"/>
            </a:gdLst>
            <a:ahLst/>
            <a:rect l="textAreaLeft" t="textAreaTop" r="textAreaRight" b="textAreaBottom"/>
            <a:pathLst>
              <a:path w="319" h="745">
                <a:moveTo>
                  <a:pt x="69" y="460"/>
                </a:moveTo>
                <a:lnTo>
                  <a:pt x="66" y="499"/>
                </a:lnTo>
                <a:lnTo>
                  <a:pt x="87" y="494"/>
                </a:lnTo>
                <a:lnTo>
                  <a:pt x="112" y="580"/>
                </a:lnTo>
                <a:lnTo>
                  <a:pt x="116" y="599"/>
                </a:lnTo>
                <a:lnTo>
                  <a:pt x="122" y="635"/>
                </a:lnTo>
                <a:lnTo>
                  <a:pt x="130" y="688"/>
                </a:lnTo>
                <a:lnTo>
                  <a:pt x="136" y="719"/>
                </a:lnTo>
                <a:lnTo>
                  <a:pt x="142" y="745"/>
                </a:lnTo>
                <a:lnTo>
                  <a:pt x="144" y="745"/>
                </a:lnTo>
                <a:lnTo>
                  <a:pt x="176" y="735"/>
                </a:lnTo>
                <a:lnTo>
                  <a:pt x="182" y="733"/>
                </a:lnTo>
                <a:lnTo>
                  <a:pt x="185" y="733"/>
                </a:lnTo>
                <a:lnTo>
                  <a:pt x="186" y="732"/>
                </a:lnTo>
                <a:lnTo>
                  <a:pt x="189" y="732"/>
                </a:lnTo>
                <a:lnTo>
                  <a:pt x="200" y="729"/>
                </a:lnTo>
                <a:lnTo>
                  <a:pt x="231" y="721"/>
                </a:lnTo>
                <a:lnTo>
                  <a:pt x="273" y="709"/>
                </a:lnTo>
                <a:lnTo>
                  <a:pt x="281" y="706"/>
                </a:lnTo>
                <a:lnTo>
                  <a:pt x="255" y="647"/>
                </a:lnTo>
                <a:lnTo>
                  <a:pt x="264" y="628"/>
                </a:lnTo>
                <a:lnTo>
                  <a:pt x="256" y="582"/>
                </a:lnTo>
                <a:lnTo>
                  <a:pt x="255" y="560"/>
                </a:lnTo>
                <a:lnTo>
                  <a:pt x="248" y="482"/>
                </a:lnTo>
                <a:lnTo>
                  <a:pt x="244" y="458"/>
                </a:lnTo>
                <a:lnTo>
                  <a:pt x="251" y="450"/>
                </a:lnTo>
                <a:lnTo>
                  <a:pt x="248" y="443"/>
                </a:lnTo>
                <a:lnTo>
                  <a:pt x="254" y="406"/>
                </a:lnTo>
                <a:lnTo>
                  <a:pt x="261" y="393"/>
                </a:lnTo>
                <a:lnTo>
                  <a:pt x="263" y="323"/>
                </a:lnTo>
                <a:lnTo>
                  <a:pt x="268" y="282"/>
                </a:lnTo>
                <a:lnTo>
                  <a:pt x="264" y="274"/>
                </a:lnTo>
                <a:lnTo>
                  <a:pt x="256" y="248"/>
                </a:lnTo>
                <a:lnTo>
                  <a:pt x="261" y="223"/>
                </a:lnTo>
                <a:lnTo>
                  <a:pt x="287" y="209"/>
                </a:lnTo>
                <a:lnTo>
                  <a:pt x="288" y="200"/>
                </a:lnTo>
                <a:lnTo>
                  <a:pt x="295" y="187"/>
                </a:lnTo>
                <a:lnTo>
                  <a:pt x="319" y="152"/>
                </a:lnTo>
                <a:lnTo>
                  <a:pt x="296" y="82"/>
                </a:lnTo>
                <a:lnTo>
                  <a:pt x="309" y="28"/>
                </a:lnTo>
                <a:lnTo>
                  <a:pt x="301" y="0"/>
                </a:lnTo>
                <a:lnTo>
                  <a:pt x="237" y="23"/>
                </a:lnTo>
                <a:lnTo>
                  <a:pt x="129" y="58"/>
                </a:lnTo>
                <a:lnTo>
                  <a:pt x="25" y="89"/>
                </a:lnTo>
                <a:lnTo>
                  <a:pt x="15" y="92"/>
                </a:lnTo>
                <a:lnTo>
                  <a:pt x="0" y="98"/>
                </a:lnTo>
                <a:lnTo>
                  <a:pt x="4" y="142"/>
                </a:lnTo>
                <a:lnTo>
                  <a:pt x="20" y="224"/>
                </a:lnTo>
                <a:lnTo>
                  <a:pt x="23" y="227"/>
                </a:lnTo>
                <a:lnTo>
                  <a:pt x="28" y="230"/>
                </a:lnTo>
                <a:lnTo>
                  <a:pt x="36" y="241"/>
                </a:lnTo>
                <a:lnTo>
                  <a:pt x="48" y="309"/>
                </a:lnTo>
                <a:lnTo>
                  <a:pt x="39" y="335"/>
                </a:lnTo>
                <a:lnTo>
                  <a:pt x="39" y="370"/>
                </a:lnTo>
                <a:lnTo>
                  <a:pt x="63" y="444"/>
                </a:lnTo>
                <a:lnTo>
                  <a:pt x="64" y="447"/>
                </a:lnTo>
                <a:lnTo>
                  <a:pt x="65" y="447"/>
                </a:lnTo>
                <a:lnTo>
                  <a:pt x="69" y="46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5" name="Freeform 18"/>
          <p:cNvSpPr/>
          <p:nvPr/>
        </p:nvSpPr>
        <p:spPr>
          <a:xfrm>
            <a:off x="4357800" y="3898800"/>
            <a:ext cx="822240" cy="473040"/>
          </a:xfrm>
          <a:custGeom>
            <a:avLst/>
            <a:gdLst>
              <a:gd name="textAreaLeft" fmla="*/ 0 w 822240"/>
              <a:gd name="textAreaRight" fmla="*/ 822600 w 822240"/>
              <a:gd name="textAreaTop" fmla="*/ 0 h 473040"/>
              <a:gd name="textAreaBottom" fmla="*/ 473400 h 473040"/>
            </a:gdLst>
            <a:ahLst/>
            <a:rect l="textAreaLeft" t="textAreaTop" r="textAreaRight" b="textAreaBottom"/>
            <a:pathLst>
              <a:path w="1357" h="902">
                <a:moveTo>
                  <a:pt x="971" y="741"/>
                </a:moveTo>
                <a:lnTo>
                  <a:pt x="968" y="742"/>
                </a:lnTo>
                <a:lnTo>
                  <a:pt x="965" y="742"/>
                </a:lnTo>
                <a:lnTo>
                  <a:pt x="931" y="746"/>
                </a:lnTo>
                <a:lnTo>
                  <a:pt x="912" y="751"/>
                </a:lnTo>
                <a:lnTo>
                  <a:pt x="868" y="755"/>
                </a:lnTo>
                <a:lnTo>
                  <a:pt x="867" y="755"/>
                </a:lnTo>
                <a:lnTo>
                  <a:pt x="850" y="756"/>
                </a:lnTo>
                <a:lnTo>
                  <a:pt x="836" y="758"/>
                </a:lnTo>
                <a:lnTo>
                  <a:pt x="830" y="758"/>
                </a:lnTo>
                <a:lnTo>
                  <a:pt x="826" y="758"/>
                </a:lnTo>
                <a:lnTo>
                  <a:pt x="803" y="759"/>
                </a:lnTo>
                <a:lnTo>
                  <a:pt x="774" y="763"/>
                </a:lnTo>
                <a:lnTo>
                  <a:pt x="771" y="763"/>
                </a:lnTo>
                <a:lnTo>
                  <a:pt x="770" y="765"/>
                </a:lnTo>
                <a:lnTo>
                  <a:pt x="763" y="766"/>
                </a:lnTo>
                <a:lnTo>
                  <a:pt x="744" y="770"/>
                </a:lnTo>
                <a:lnTo>
                  <a:pt x="732" y="773"/>
                </a:lnTo>
                <a:lnTo>
                  <a:pt x="709" y="776"/>
                </a:lnTo>
                <a:lnTo>
                  <a:pt x="678" y="779"/>
                </a:lnTo>
                <a:lnTo>
                  <a:pt x="670" y="780"/>
                </a:lnTo>
                <a:lnTo>
                  <a:pt x="658" y="782"/>
                </a:lnTo>
                <a:lnTo>
                  <a:pt x="643" y="782"/>
                </a:lnTo>
                <a:lnTo>
                  <a:pt x="638" y="783"/>
                </a:lnTo>
                <a:lnTo>
                  <a:pt x="614" y="785"/>
                </a:lnTo>
                <a:lnTo>
                  <a:pt x="599" y="785"/>
                </a:lnTo>
                <a:lnTo>
                  <a:pt x="582" y="786"/>
                </a:lnTo>
                <a:lnTo>
                  <a:pt x="575" y="786"/>
                </a:lnTo>
                <a:lnTo>
                  <a:pt x="560" y="787"/>
                </a:lnTo>
                <a:lnTo>
                  <a:pt x="544" y="789"/>
                </a:lnTo>
                <a:lnTo>
                  <a:pt x="535" y="793"/>
                </a:lnTo>
                <a:lnTo>
                  <a:pt x="533" y="797"/>
                </a:lnTo>
                <a:lnTo>
                  <a:pt x="527" y="792"/>
                </a:lnTo>
                <a:lnTo>
                  <a:pt x="507" y="796"/>
                </a:lnTo>
                <a:lnTo>
                  <a:pt x="495" y="797"/>
                </a:lnTo>
                <a:lnTo>
                  <a:pt x="482" y="800"/>
                </a:lnTo>
                <a:lnTo>
                  <a:pt x="474" y="802"/>
                </a:lnTo>
                <a:lnTo>
                  <a:pt x="439" y="807"/>
                </a:lnTo>
                <a:lnTo>
                  <a:pt x="429" y="809"/>
                </a:lnTo>
                <a:lnTo>
                  <a:pt x="427" y="809"/>
                </a:lnTo>
                <a:lnTo>
                  <a:pt x="404" y="812"/>
                </a:lnTo>
                <a:lnTo>
                  <a:pt x="388" y="814"/>
                </a:lnTo>
                <a:lnTo>
                  <a:pt x="364" y="817"/>
                </a:lnTo>
                <a:lnTo>
                  <a:pt x="345" y="820"/>
                </a:lnTo>
                <a:lnTo>
                  <a:pt x="331" y="823"/>
                </a:lnTo>
                <a:lnTo>
                  <a:pt x="320" y="824"/>
                </a:lnTo>
                <a:lnTo>
                  <a:pt x="291" y="829"/>
                </a:lnTo>
                <a:lnTo>
                  <a:pt x="291" y="820"/>
                </a:lnTo>
                <a:lnTo>
                  <a:pt x="249" y="820"/>
                </a:lnTo>
                <a:lnTo>
                  <a:pt x="251" y="827"/>
                </a:lnTo>
                <a:lnTo>
                  <a:pt x="253" y="836"/>
                </a:lnTo>
                <a:lnTo>
                  <a:pt x="256" y="874"/>
                </a:lnTo>
                <a:lnTo>
                  <a:pt x="213" y="878"/>
                </a:lnTo>
                <a:lnTo>
                  <a:pt x="196" y="881"/>
                </a:lnTo>
                <a:lnTo>
                  <a:pt x="174" y="882"/>
                </a:lnTo>
                <a:lnTo>
                  <a:pt x="173" y="882"/>
                </a:lnTo>
                <a:lnTo>
                  <a:pt x="169" y="882"/>
                </a:lnTo>
                <a:lnTo>
                  <a:pt x="164" y="884"/>
                </a:lnTo>
                <a:lnTo>
                  <a:pt x="124" y="888"/>
                </a:lnTo>
                <a:lnTo>
                  <a:pt x="112" y="890"/>
                </a:lnTo>
                <a:lnTo>
                  <a:pt x="111" y="890"/>
                </a:lnTo>
                <a:lnTo>
                  <a:pt x="109" y="890"/>
                </a:lnTo>
                <a:lnTo>
                  <a:pt x="84" y="892"/>
                </a:lnTo>
                <a:lnTo>
                  <a:pt x="22" y="898"/>
                </a:lnTo>
                <a:lnTo>
                  <a:pt x="13" y="900"/>
                </a:lnTo>
                <a:lnTo>
                  <a:pt x="0" y="902"/>
                </a:lnTo>
                <a:lnTo>
                  <a:pt x="5" y="867"/>
                </a:lnTo>
                <a:lnTo>
                  <a:pt x="7" y="864"/>
                </a:lnTo>
                <a:lnTo>
                  <a:pt x="14" y="861"/>
                </a:lnTo>
                <a:lnTo>
                  <a:pt x="30" y="880"/>
                </a:lnTo>
                <a:lnTo>
                  <a:pt x="43" y="853"/>
                </a:lnTo>
                <a:lnTo>
                  <a:pt x="37" y="824"/>
                </a:lnTo>
                <a:lnTo>
                  <a:pt x="49" y="822"/>
                </a:lnTo>
                <a:lnTo>
                  <a:pt x="49" y="812"/>
                </a:lnTo>
                <a:lnTo>
                  <a:pt x="47" y="785"/>
                </a:lnTo>
                <a:lnTo>
                  <a:pt x="48" y="780"/>
                </a:lnTo>
                <a:lnTo>
                  <a:pt x="49" y="763"/>
                </a:lnTo>
                <a:lnTo>
                  <a:pt x="51" y="762"/>
                </a:lnTo>
                <a:lnTo>
                  <a:pt x="45" y="752"/>
                </a:lnTo>
                <a:lnTo>
                  <a:pt x="38" y="748"/>
                </a:lnTo>
                <a:lnTo>
                  <a:pt x="32" y="735"/>
                </a:lnTo>
                <a:lnTo>
                  <a:pt x="33" y="728"/>
                </a:lnTo>
                <a:lnTo>
                  <a:pt x="40" y="718"/>
                </a:lnTo>
                <a:lnTo>
                  <a:pt x="63" y="678"/>
                </a:lnTo>
                <a:lnTo>
                  <a:pt x="76" y="677"/>
                </a:lnTo>
                <a:lnTo>
                  <a:pt x="76" y="675"/>
                </a:lnTo>
                <a:lnTo>
                  <a:pt x="111" y="694"/>
                </a:lnTo>
                <a:lnTo>
                  <a:pt x="135" y="701"/>
                </a:lnTo>
                <a:lnTo>
                  <a:pt x="148" y="714"/>
                </a:lnTo>
                <a:lnTo>
                  <a:pt x="159" y="715"/>
                </a:lnTo>
                <a:lnTo>
                  <a:pt x="160" y="715"/>
                </a:lnTo>
                <a:lnTo>
                  <a:pt x="161" y="714"/>
                </a:lnTo>
                <a:lnTo>
                  <a:pt x="171" y="695"/>
                </a:lnTo>
                <a:lnTo>
                  <a:pt x="156" y="658"/>
                </a:lnTo>
                <a:lnTo>
                  <a:pt x="167" y="606"/>
                </a:lnTo>
                <a:lnTo>
                  <a:pt x="175" y="610"/>
                </a:lnTo>
                <a:lnTo>
                  <a:pt x="177" y="612"/>
                </a:lnTo>
                <a:lnTo>
                  <a:pt x="179" y="610"/>
                </a:lnTo>
                <a:lnTo>
                  <a:pt x="197" y="593"/>
                </a:lnTo>
                <a:lnTo>
                  <a:pt x="220" y="586"/>
                </a:lnTo>
                <a:lnTo>
                  <a:pt x="231" y="575"/>
                </a:lnTo>
                <a:lnTo>
                  <a:pt x="217" y="556"/>
                </a:lnTo>
                <a:lnTo>
                  <a:pt x="216" y="555"/>
                </a:lnTo>
                <a:lnTo>
                  <a:pt x="212" y="541"/>
                </a:lnTo>
                <a:lnTo>
                  <a:pt x="214" y="515"/>
                </a:lnTo>
                <a:lnTo>
                  <a:pt x="230" y="485"/>
                </a:lnTo>
                <a:lnTo>
                  <a:pt x="236" y="485"/>
                </a:lnTo>
                <a:lnTo>
                  <a:pt x="245" y="463"/>
                </a:lnTo>
                <a:lnTo>
                  <a:pt x="246" y="453"/>
                </a:lnTo>
                <a:lnTo>
                  <a:pt x="255" y="446"/>
                </a:lnTo>
                <a:lnTo>
                  <a:pt x="279" y="451"/>
                </a:lnTo>
                <a:lnTo>
                  <a:pt x="288" y="448"/>
                </a:lnTo>
                <a:lnTo>
                  <a:pt x="304" y="468"/>
                </a:lnTo>
                <a:lnTo>
                  <a:pt x="302" y="439"/>
                </a:lnTo>
                <a:lnTo>
                  <a:pt x="334" y="430"/>
                </a:lnTo>
                <a:lnTo>
                  <a:pt x="343" y="429"/>
                </a:lnTo>
                <a:lnTo>
                  <a:pt x="345" y="430"/>
                </a:lnTo>
                <a:lnTo>
                  <a:pt x="361" y="440"/>
                </a:lnTo>
                <a:lnTo>
                  <a:pt x="368" y="444"/>
                </a:lnTo>
                <a:lnTo>
                  <a:pt x="398" y="468"/>
                </a:lnTo>
                <a:lnTo>
                  <a:pt x="418" y="424"/>
                </a:lnTo>
                <a:lnTo>
                  <a:pt x="421" y="422"/>
                </a:lnTo>
                <a:lnTo>
                  <a:pt x="439" y="406"/>
                </a:lnTo>
                <a:lnTo>
                  <a:pt x="450" y="397"/>
                </a:lnTo>
                <a:lnTo>
                  <a:pt x="463" y="422"/>
                </a:lnTo>
                <a:lnTo>
                  <a:pt x="482" y="430"/>
                </a:lnTo>
                <a:lnTo>
                  <a:pt x="483" y="440"/>
                </a:lnTo>
                <a:lnTo>
                  <a:pt x="492" y="429"/>
                </a:lnTo>
                <a:lnTo>
                  <a:pt x="503" y="376"/>
                </a:lnTo>
                <a:lnTo>
                  <a:pt x="508" y="375"/>
                </a:lnTo>
                <a:lnTo>
                  <a:pt x="511" y="359"/>
                </a:lnTo>
                <a:lnTo>
                  <a:pt x="510" y="355"/>
                </a:lnTo>
                <a:lnTo>
                  <a:pt x="511" y="352"/>
                </a:lnTo>
                <a:lnTo>
                  <a:pt x="526" y="346"/>
                </a:lnTo>
                <a:lnTo>
                  <a:pt x="525" y="328"/>
                </a:lnTo>
                <a:lnTo>
                  <a:pt x="534" y="331"/>
                </a:lnTo>
                <a:lnTo>
                  <a:pt x="546" y="346"/>
                </a:lnTo>
                <a:lnTo>
                  <a:pt x="552" y="369"/>
                </a:lnTo>
                <a:lnTo>
                  <a:pt x="599" y="376"/>
                </a:lnTo>
                <a:lnTo>
                  <a:pt x="600" y="376"/>
                </a:lnTo>
                <a:lnTo>
                  <a:pt x="608" y="373"/>
                </a:lnTo>
                <a:lnTo>
                  <a:pt x="613" y="336"/>
                </a:lnTo>
                <a:lnTo>
                  <a:pt x="613" y="335"/>
                </a:lnTo>
                <a:lnTo>
                  <a:pt x="613" y="319"/>
                </a:lnTo>
                <a:lnTo>
                  <a:pt x="622" y="297"/>
                </a:lnTo>
                <a:lnTo>
                  <a:pt x="629" y="284"/>
                </a:lnTo>
                <a:lnTo>
                  <a:pt x="635" y="287"/>
                </a:lnTo>
                <a:lnTo>
                  <a:pt x="637" y="290"/>
                </a:lnTo>
                <a:lnTo>
                  <a:pt x="655" y="253"/>
                </a:lnTo>
                <a:lnTo>
                  <a:pt x="656" y="243"/>
                </a:lnTo>
                <a:lnTo>
                  <a:pt x="678" y="222"/>
                </a:lnTo>
                <a:lnTo>
                  <a:pt x="688" y="205"/>
                </a:lnTo>
                <a:lnTo>
                  <a:pt x="687" y="186"/>
                </a:lnTo>
                <a:lnTo>
                  <a:pt x="684" y="175"/>
                </a:lnTo>
                <a:lnTo>
                  <a:pt x="692" y="141"/>
                </a:lnTo>
                <a:lnTo>
                  <a:pt x="700" y="139"/>
                </a:lnTo>
                <a:lnTo>
                  <a:pt x="714" y="136"/>
                </a:lnTo>
                <a:lnTo>
                  <a:pt x="715" y="136"/>
                </a:lnTo>
                <a:lnTo>
                  <a:pt x="725" y="148"/>
                </a:lnTo>
                <a:lnTo>
                  <a:pt x="739" y="141"/>
                </a:lnTo>
                <a:lnTo>
                  <a:pt x="750" y="128"/>
                </a:lnTo>
                <a:lnTo>
                  <a:pt x="756" y="122"/>
                </a:lnTo>
                <a:lnTo>
                  <a:pt x="759" y="118"/>
                </a:lnTo>
                <a:lnTo>
                  <a:pt x="781" y="110"/>
                </a:lnTo>
                <a:lnTo>
                  <a:pt x="794" y="87"/>
                </a:lnTo>
                <a:lnTo>
                  <a:pt x="796" y="81"/>
                </a:lnTo>
                <a:lnTo>
                  <a:pt x="779" y="77"/>
                </a:lnTo>
                <a:lnTo>
                  <a:pt x="778" y="70"/>
                </a:lnTo>
                <a:lnTo>
                  <a:pt x="780" y="46"/>
                </a:lnTo>
                <a:lnTo>
                  <a:pt x="774" y="39"/>
                </a:lnTo>
                <a:lnTo>
                  <a:pt x="773" y="26"/>
                </a:lnTo>
                <a:lnTo>
                  <a:pt x="782" y="14"/>
                </a:lnTo>
                <a:lnTo>
                  <a:pt x="789" y="7"/>
                </a:lnTo>
                <a:lnTo>
                  <a:pt x="794" y="0"/>
                </a:lnTo>
                <a:lnTo>
                  <a:pt x="819" y="17"/>
                </a:lnTo>
                <a:lnTo>
                  <a:pt x="839" y="9"/>
                </a:lnTo>
                <a:lnTo>
                  <a:pt x="842" y="3"/>
                </a:lnTo>
                <a:lnTo>
                  <a:pt x="864" y="19"/>
                </a:lnTo>
                <a:lnTo>
                  <a:pt x="875" y="24"/>
                </a:lnTo>
                <a:lnTo>
                  <a:pt x="885" y="46"/>
                </a:lnTo>
                <a:lnTo>
                  <a:pt x="890" y="51"/>
                </a:lnTo>
                <a:lnTo>
                  <a:pt x="895" y="66"/>
                </a:lnTo>
                <a:lnTo>
                  <a:pt x="898" y="80"/>
                </a:lnTo>
                <a:lnTo>
                  <a:pt x="918" y="88"/>
                </a:lnTo>
                <a:lnTo>
                  <a:pt x="932" y="90"/>
                </a:lnTo>
                <a:lnTo>
                  <a:pt x="941" y="85"/>
                </a:lnTo>
                <a:lnTo>
                  <a:pt x="959" y="87"/>
                </a:lnTo>
                <a:lnTo>
                  <a:pt x="970" y="90"/>
                </a:lnTo>
                <a:lnTo>
                  <a:pt x="991" y="117"/>
                </a:lnTo>
                <a:lnTo>
                  <a:pt x="999" y="118"/>
                </a:lnTo>
                <a:lnTo>
                  <a:pt x="1000" y="119"/>
                </a:lnTo>
                <a:lnTo>
                  <a:pt x="1003" y="119"/>
                </a:lnTo>
                <a:lnTo>
                  <a:pt x="1011" y="117"/>
                </a:lnTo>
                <a:lnTo>
                  <a:pt x="1013" y="104"/>
                </a:lnTo>
                <a:lnTo>
                  <a:pt x="1029" y="94"/>
                </a:lnTo>
                <a:lnTo>
                  <a:pt x="1059" y="101"/>
                </a:lnTo>
                <a:lnTo>
                  <a:pt x="1076" y="117"/>
                </a:lnTo>
                <a:lnTo>
                  <a:pt x="1079" y="111"/>
                </a:lnTo>
                <a:lnTo>
                  <a:pt x="1085" y="107"/>
                </a:lnTo>
                <a:lnTo>
                  <a:pt x="1102" y="104"/>
                </a:lnTo>
                <a:lnTo>
                  <a:pt x="1119" y="71"/>
                </a:lnTo>
                <a:lnTo>
                  <a:pt x="1146" y="58"/>
                </a:lnTo>
                <a:lnTo>
                  <a:pt x="1155" y="94"/>
                </a:lnTo>
                <a:lnTo>
                  <a:pt x="1164" y="110"/>
                </a:lnTo>
                <a:lnTo>
                  <a:pt x="1177" y="110"/>
                </a:lnTo>
                <a:lnTo>
                  <a:pt x="1194" y="124"/>
                </a:lnTo>
                <a:lnTo>
                  <a:pt x="1202" y="129"/>
                </a:lnTo>
                <a:lnTo>
                  <a:pt x="1210" y="145"/>
                </a:lnTo>
                <a:lnTo>
                  <a:pt x="1211" y="159"/>
                </a:lnTo>
                <a:lnTo>
                  <a:pt x="1218" y="196"/>
                </a:lnTo>
                <a:lnTo>
                  <a:pt x="1214" y="197"/>
                </a:lnTo>
                <a:lnTo>
                  <a:pt x="1214" y="231"/>
                </a:lnTo>
                <a:lnTo>
                  <a:pt x="1244" y="267"/>
                </a:lnTo>
                <a:lnTo>
                  <a:pt x="1244" y="283"/>
                </a:lnTo>
                <a:lnTo>
                  <a:pt x="1244" y="288"/>
                </a:lnTo>
                <a:lnTo>
                  <a:pt x="1261" y="301"/>
                </a:lnTo>
                <a:lnTo>
                  <a:pt x="1262" y="307"/>
                </a:lnTo>
                <a:lnTo>
                  <a:pt x="1273" y="321"/>
                </a:lnTo>
                <a:lnTo>
                  <a:pt x="1283" y="335"/>
                </a:lnTo>
                <a:lnTo>
                  <a:pt x="1282" y="338"/>
                </a:lnTo>
                <a:lnTo>
                  <a:pt x="1326" y="378"/>
                </a:lnTo>
                <a:lnTo>
                  <a:pt x="1327" y="386"/>
                </a:lnTo>
                <a:lnTo>
                  <a:pt x="1357" y="385"/>
                </a:lnTo>
                <a:lnTo>
                  <a:pt x="1340" y="412"/>
                </a:lnTo>
                <a:lnTo>
                  <a:pt x="1319" y="441"/>
                </a:lnTo>
                <a:lnTo>
                  <a:pt x="1302" y="468"/>
                </a:lnTo>
                <a:lnTo>
                  <a:pt x="1292" y="481"/>
                </a:lnTo>
                <a:lnTo>
                  <a:pt x="1281" y="487"/>
                </a:lnTo>
                <a:lnTo>
                  <a:pt x="1261" y="504"/>
                </a:lnTo>
                <a:lnTo>
                  <a:pt x="1259" y="507"/>
                </a:lnTo>
                <a:lnTo>
                  <a:pt x="1235" y="534"/>
                </a:lnTo>
                <a:lnTo>
                  <a:pt x="1231" y="565"/>
                </a:lnTo>
                <a:lnTo>
                  <a:pt x="1211" y="583"/>
                </a:lnTo>
                <a:lnTo>
                  <a:pt x="1213" y="606"/>
                </a:lnTo>
                <a:lnTo>
                  <a:pt x="1212" y="607"/>
                </a:lnTo>
                <a:lnTo>
                  <a:pt x="1170" y="647"/>
                </a:lnTo>
                <a:lnTo>
                  <a:pt x="1171" y="658"/>
                </a:lnTo>
                <a:lnTo>
                  <a:pt x="1111" y="695"/>
                </a:lnTo>
                <a:lnTo>
                  <a:pt x="1104" y="694"/>
                </a:lnTo>
                <a:lnTo>
                  <a:pt x="1082" y="712"/>
                </a:lnTo>
                <a:lnTo>
                  <a:pt x="1074" y="721"/>
                </a:lnTo>
                <a:lnTo>
                  <a:pt x="1071" y="726"/>
                </a:lnTo>
                <a:lnTo>
                  <a:pt x="1053" y="729"/>
                </a:lnTo>
                <a:lnTo>
                  <a:pt x="1027" y="734"/>
                </a:lnTo>
                <a:lnTo>
                  <a:pt x="1014" y="735"/>
                </a:lnTo>
                <a:lnTo>
                  <a:pt x="1012" y="735"/>
                </a:lnTo>
                <a:lnTo>
                  <a:pt x="998" y="736"/>
                </a:lnTo>
                <a:lnTo>
                  <a:pt x="974" y="741"/>
                </a:lnTo>
                <a:lnTo>
                  <a:pt x="971" y="74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6" name="Freeform 19"/>
          <p:cNvSpPr/>
          <p:nvPr/>
        </p:nvSpPr>
        <p:spPr>
          <a:xfrm>
            <a:off x="4344840" y="4361040"/>
            <a:ext cx="5040" cy="12600"/>
          </a:xfrm>
          <a:custGeom>
            <a:avLst/>
            <a:gdLst>
              <a:gd name="textAreaLeft" fmla="*/ 0 w 5040"/>
              <a:gd name="textAreaRight" fmla="*/ 5400 w 5040"/>
              <a:gd name="textAreaTop" fmla="*/ 0 h 12600"/>
              <a:gd name="textAreaBottom" fmla="*/ 12960 h 12600"/>
            </a:gdLst>
            <a:ahLst/>
            <a:rect l="textAreaLeft" t="textAreaTop" r="textAreaRight" b="textAreaBottom"/>
            <a:pathLst>
              <a:path w="10" h="24">
                <a:moveTo>
                  <a:pt x="6" y="0"/>
                </a:moveTo>
                <a:lnTo>
                  <a:pt x="10" y="23"/>
                </a:lnTo>
                <a:lnTo>
                  <a:pt x="0" y="24"/>
                </a:lnTo>
                <a:lnTo>
                  <a:pt x="6" y="0"/>
                </a:lnTo>
                <a:close/>
              </a:path>
            </a:pathLst>
          </a:custGeom>
          <a:solidFill>
            <a:srgbClr val="ffffff"/>
          </a:solidFill>
          <a:ln w="0">
            <a:solidFill>
              <a:srgbClr val="000000"/>
            </a:solidFill>
          </a:ln>
        </p:spPr>
        <p:style>
          <a:lnRef idx="0"/>
          <a:fillRef idx="0"/>
          <a:effectRef idx="0"/>
          <a:fontRef idx="minor"/>
        </p:style>
        <p:txBody>
          <a:bodyPr lIns="90000" rIns="90000" tIns="-33840" bIns="-33840" anchor="t">
            <a:noAutofit/>
          </a:bodyPr>
          <a:p>
            <a:endParaRPr b="0" lang="en-US" sz="2800" spc="-1" strike="noStrike">
              <a:solidFill>
                <a:srgbClr val="000000"/>
              </a:solidFill>
              <a:latin typeface="Arial"/>
            </a:endParaRPr>
          </a:p>
        </p:txBody>
      </p:sp>
      <p:sp>
        <p:nvSpPr>
          <p:cNvPr id="127" name="Freeform 20"/>
          <p:cNvSpPr/>
          <p:nvPr/>
        </p:nvSpPr>
        <p:spPr>
          <a:xfrm>
            <a:off x="4965840" y="4111560"/>
            <a:ext cx="1000080" cy="482760"/>
          </a:xfrm>
          <a:custGeom>
            <a:avLst/>
            <a:gdLst>
              <a:gd name="textAreaLeft" fmla="*/ 0 w 1000080"/>
              <a:gd name="textAreaRight" fmla="*/ 1000440 w 1000080"/>
              <a:gd name="textAreaTop" fmla="*/ 0 h 482760"/>
              <a:gd name="textAreaBottom" fmla="*/ 483120 h 482760"/>
            </a:gdLst>
            <a:ahLst/>
            <a:rect l="textAreaLeft" t="textAreaTop" r="textAreaRight" b="textAreaBottom"/>
            <a:pathLst>
              <a:path w="1654" h="920">
                <a:moveTo>
                  <a:pt x="325" y="425"/>
                </a:moveTo>
                <a:lnTo>
                  <a:pt x="331" y="414"/>
                </a:lnTo>
                <a:lnTo>
                  <a:pt x="353" y="401"/>
                </a:lnTo>
                <a:lnTo>
                  <a:pt x="358" y="393"/>
                </a:lnTo>
                <a:lnTo>
                  <a:pt x="375" y="400"/>
                </a:lnTo>
                <a:lnTo>
                  <a:pt x="378" y="405"/>
                </a:lnTo>
                <a:lnTo>
                  <a:pt x="386" y="404"/>
                </a:lnTo>
                <a:lnTo>
                  <a:pt x="390" y="395"/>
                </a:lnTo>
                <a:lnTo>
                  <a:pt x="395" y="395"/>
                </a:lnTo>
                <a:lnTo>
                  <a:pt x="408" y="350"/>
                </a:lnTo>
                <a:lnTo>
                  <a:pt x="410" y="343"/>
                </a:lnTo>
                <a:lnTo>
                  <a:pt x="416" y="332"/>
                </a:lnTo>
                <a:lnTo>
                  <a:pt x="439" y="322"/>
                </a:lnTo>
                <a:lnTo>
                  <a:pt x="441" y="305"/>
                </a:lnTo>
                <a:lnTo>
                  <a:pt x="442" y="272"/>
                </a:lnTo>
                <a:lnTo>
                  <a:pt x="443" y="245"/>
                </a:lnTo>
                <a:lnTo>
                  <a:pt x="453" y="244"/>
                </a:lnTo>
                <a:lnTo>
                  <a:pt x="481" y="239"/>
                </a:lnTo>
                <a:lnTo>
                  <a:pt x="487" y="239"/>
                </a:lnTo>
                <a:lnTo>
                  <a:pt x="504" y="237"/>
                </a:lnTo>
                <a:lnTo>
                  <a:pt x="512" y="235"/>
                </a:lnTo>
                <a:lnTo>
                  <a:pt x="560" y="228"/>
                </a:lnTo>
                <a:lnTo>
                  <a:pt x="589" y="224"/>
                </a:lnTo>
                <a:lnTo>
                  <a:pt x="593" y="222"/>
                </a:lnTo>
                <a:lnTo>
                  <a:pt x="594" y="222"/>
                </a:lnTo>
                <a:lnTo>
                  <a:pt x="598" y="222"/>
                </a:lnTo>
                <a:lnTo>
                  <a:pt x="600" y="221"/>
                </a:lnTo>
                <a:lnTo>
                  <a:pt x="603" y="221"/>
                </a:lnTo>
                <a:lnTo>
                  <a:pt x="613" y="218"/>
                </a:lnTo>
                <a:lnTo>
                  <a:pt x="625" y="215"/>
                </a:lnTo>
                <a:lnTo>
                  <a:pt x="642" y="213"/>
                </a:lnTo>
                <a:lnTo>
                  <a:pt x="651" y="211"/>
                </a:lnTo>
                <a:lnTo>
                  <a:pt x="664" y="210"/>
                </a:lnTo>
                <a:lnTo>
                  <a:pt x="674" y="208"/>
                </a:lnTo>
                <a:lnTo>
                  <a:pt x="702" y="204"/>
                </a:lnTo>
                <a:lnTo>
                  <a:pt x="734" y="198"/>
                </a:lnTo>
                <a:lnTo>
                  <a:pt x="747" y="194"/>
                </a:lnTo>
                <a:lnTo>
                  <a:pt x="752" y="194"/>
                </a:lnTo>
                <a:lnTo>
                  <a:pt x="757" y="193"/>
                </a:lnTo>
                <a:lnTo>
                  <a:pt x="781" y="187"/>
                </a:lnTo>
                <a:lnTo>
                  <a:pt x="810" y="181"/>
                </a:lnTo>
                <a:lnTo>
                  <a:pt x="826" y="177"/>
                </a:lnTo>
                <a:lnTo>
                  <a:pt x="838" y="174"/>
                </a:lnTo>
                <a:lnTo>
                  <a:pt x="848" y="173"/>
                </a:lnTo>
                <a:lnTo>
                  <a:pt x="873" y="167"/>
                </a:lnTo>
                <a:lnTo>
                  <a:pt x="896" y="161"/>
                </a:lnTo>
                <a:lnTo>
                  <a:pt x="902" y="160"/>
                </a:lnTo>
                <a:lnTo>
                  <a:pt x="917" y="156"/>
                </a:lnTo>
                <a:lnTo>
                  <a:pt x="974" y="143"/>
                </a:lnTo>
                <a:lnTo>
                  <a:pt x="977" y="142"/>
                </a:lnTo>
                <a:lnTo>
                  <a:pt x="981" y="142"/>
                </a:lnTo>
                <a:lnTo>
                  <a:pt x="983" y="140"/>
                </a:lnTo>
                <a:lnTo>
                  <a:pt x="989" y="139"/>
                </a:lnTo>
                <a:lnTo>
                  <a:pt x="992" y="139"/>
                </a:lnTo>
                <a:lnTo>
                  <a:pt x="1013" y="135"/>
                </a:lnTo>
                <a:lnTo>
                  <a:pt x="1036" y="129"/>
                </a:lnTo>
                <a:lnTo>
                  <a:pt x="1044" y="126"/>
                </a:lnTo>
                <a:lnTo>
                  <a:pt x="1052" y="125"/>
                </a:lnTo>
                <a:lnTo>
                  <a:pt x="1058" y="122"/>
                </a:lnTo>
                <a:lnTo>
                  <a:pt x="1068" y="120"/>
                </a:lnTo>
                <a:lnTo>
                  <a:pt x="1081" y="116"/>
                </a:lnTo>
                <a:lnTo>
                  <a:pt x="1086" y="115"/>
                </a:lnTo>
                <a:lnTo>
                  <a:pt x="1119" y="108"/>
                </a:lnTo>
                <a:lnTo>
                  <a:pt x="1128" y="105"/>
                </a:lnTo>
                <a:lnTo>
                  <a:pt x="1136" y="103"/>
                </a:lnTo>
                <a:lnTo>
                  <a:pt x="1146" y="100"/>
                </a:lnTo>
                <a:lnTo>
                  <a:pt x="1157" y="98"/>
                </a:lnTo>
                <a:lnTo>
                  <a:pt x="1165" y="95"/>
                </a:lnTo>
                <a:lnTo>
                  <a:pt x="1170" y="93"/>
                </a:lnTo>
                <a:lnTo>
                  <a:pt x="1207" y="85"/>
                </a:lnTo>
                <a:lnTo>
                  <a:pt x="1212" y="83"/>
                </a:lnTo>
                <a:lnTo>
                  <a:pt x="1257" y="72"/>
                </a:lnTo>
                <a:lnTo>
                  <a:pt x="1266" y="69"/>
                </a:lnTo>
                <a:lnTo>
                  <a:pt x="1282" y="65"/>
                </a:lnTo>
                <a:lnTo>
                  <a:pt x="1289" y="64"/>
                </a:lnTo>
                <a:lnTo>
                  <a:pt x="1295" y="62"/>
                </a:lnTo>
                <a:lnTo>
                  <a:pt x="1328" y="54"/>
                </a:lnTo>
                <a:lnTo>
                  <a:pt x="1328" y="51"/>
                </a:lnTo>
                <a:lnTo>
                  <a:pt x="1335" y="49"/>
                </a:lnTo>
                <a:lnTo>
                  <a:pt x="1359" y="44"/>
                </a:lnTo>
                <a:lnTo>
                  <a:pt x="1397" y="34"/>
                </a:lnTo>
                <a:lnTo>
                  <a:pt x="1398" y="34"/>
                </a:lnTo>
                <a:lnTo>
                  <a:pt x="1405" y="31"/>
                </a:lnTo>
                <a:lnTo>
                  <a:pt x="1406" y="31"/>
                </a:lnTo>
                <a:lnTo>
                  <a:pt x="1428" y="25"/>
                </a:lnTo>
                <a:lnTo>
                  <a:pt x="1433" y="24"/>
                </a:lnTo>
                <a:lnTo>
                  <a:pt x="1439" y="22"/>
                </a:lnTo>
                <a:lnTo>
                  <a:pt x="1447" y="21"/>
                </a:lnTo>
                <a:lnTo>
                  <a:pt x="1450" y="20"/>
                </a:lnTo>
                <a:lnTo>
                  <a:pt x="1474" y="13"/>
                </a:lnTo>
                <a:lnTo>
                  <a:pt x="1497" y="7"/>
                </a:lnTo>
                <a:lnTo>
                  <a:pt x="1521" y="0"/>
                </a:lnTo>
                <a:lnTo>
                  <a:pt x="1526" y="14"/>
                </a:lnTo>
                <a:lnTo>
                  <a:pt x="1556" y="88"/>
                </a:lnTo>
                <a:lnTo>
                  <a:pt x="1645" y="249"/>
                </a:lnTo>
                <a:lnTo>
                  <a:pt x="1654" y="361"/>
                </a:lnTo>
                <a:lnTo>
                  <a:pt x="1614" y="390"/>
                </a:lnTo>
                <a:lnTo>
                  <a:pt x="1573" y="441"/>
                </a:lnTo>
                <a:lnTo>
                  <a:pt x="1572" y="442"/>
                </a:lnTo>
                <a:lnTo>
                  <a:pt x="1530" y="510"/>
                </a:lnTo>
                <a:lnTo>
                  <a:pt x="1495" y="597"/>
                </a:lnTo>
                <a:lnTo>
                  <a:pt x="1477" y="587"/>
                </a:lnTo>
                <a:lnTo>
                  <a:pt x="1452" y="586"/>
                </a:lnTo>
                <a:lnTo>
                  <a:pt x="1385" y="621"/>
                </a:lnTo>
                <a:lnTo>
                  <a:pt x="1364" y="642"/>
                </a:lnTo>
                <a:lnTo>
                  <a:pt x="1319" y="699"/>
                </a:lnTo>
                <a:lnTo>
                  <a:pt x="1288" y="751"/>
                </a:lnTo>
                <a:lnTo>
                  <a:pt x="1282" y="766"/>
                </a:lnTo>
                <a:lnTo>
                  <a:pt x="1263" y="869"/>
                </a:lnTo>
                <a:lnTo>
                  <a:pt x="1262" y="886"/>
                </a:lnTo>
                <a:lnTo>
                  <a:pt x="1229" y="883"/>
                </a:lnTo>
                <a:lnTo>
                  <a:pt x="1181" y="898"/>
                </a:lnTo>
                <a:lnTo>
                  <a:pt x="1151" y="920"/>
                </a:lnTo>
                <a:lnTo>
                  <a:pt x="1145" y="915"/>
                </a:lnTo>
                <a:lnTo>
                  <a:pt x="1128" y="900"/>
                </a:lnTo>
                <a:lnTo>
                  <a:pt x="1126" y="898"/>
                </a:lnTo>
                <a:lnTo>
                  <a:pt x="1074" y="852"/>
                </a:lnTo>
                <a:lnTo>
                  <a:pt x="1044" y="824"/>
                </a:lnTo>
                <a:lnTo>
                  <a:pt x="1030" y="812"/>
                </a:lnTo>
                <a:lnTo>
                  <a:pt x="985" y="773"/>
                </a:lnTo>
                <a:lnTo>
                  <a:pt x="969" y="757"/>
                </a:lnTo>
                <a:lnTo>
                  <a:pt x="943" y="734"/>
                </a:lnTo>
                <a:lnTo>
                  <a:pt x="942" y="734"/>
                </a:lnTo>
                <a:lnTo>
                  <a:pt x="942" y="733"/>
                </a:lnTo>
                <a:lnTo>
                  <a:pt x="941" y="733"/>
                </a:lnTo>
                <a:lnTo>
                  <a:pt x="907" y="703"/>
                </a:lnTo>
                <a:lnTo>
                  <a:pt x="893" y="690"/>
                </a:lnTo>
                <a:lnTo>
                  <a:pt x="890" y="690"/>
                </a:lnTo>
                <a:lnTo>
                  <a:pt x="878" y="693"/>
                </a:lnTo>
                <a:lnTo>
                  <a:pt x="855" y="699"/>
                </a:lnTo>
                <a:lnTo>
                  <a:pt x="845" y="700"/>
                </a:lnTo>
                <a:lnTo>
                  <a:pt x="831" y="703"/>
                </a:lnTo>
                <a:lnTo>
                  <a:pt x="781" y="713"/>
                </a:lnTo>
                <a:lnTo>
                  <a:pt x="769" y="715"/>
                </a:lnTo>
                <a:lnTo>
                  <a:pt x="768" y="715"/>
                </a:lnTo>
                <a:lnTo>
                  <a:pt x="743" y="720"/>
                </a:lnTo>
                <a:lnTo>
                  <a:pt x="723" y="725"/>
                </a:lnTo>
                <a:lnTo>
                  <a:pt x="679" y="733"/>
                </a:lnTo>
                <a:lnTo>
                  <a:pt x="677" y="698"/>
                </a:lnTo>
                <a:lnTo>
                  <a:pt x="663" y="681"/>
                </a:lnTo>
                <a:lnTo>
                  <a:pt x="661" y="676"/>
                </a:lnTo>
                <a:lnTo>
                  <a:pt x="655" y="671"/>
                </a:lnTo>
                <a:lnTo>
                  <a:pt x="648" y="661"/>
                </a:lnTo>
                <a:lnTo>
                  <a:pt x="630" y="668"/>
                </a:lnTo>
                <a:lnTo>
                  <a:pt x="618" y="649"/>
                </a:lnTo>
                <a:lnTo>
                  <a:pt x="621" y="645"/>
                </a:lnTo>
                <a:lnTo>
                  <a:pt x="600" y="648"/>
                </a:lnTo>
                <a:lnTo>
                  <a:pt x="579" y="651"/>
                </a:lnTo>
                <a:lnTo>
                  <a:pt x="565" y="652"/>
                </a:lnTo>
                <a:lnTo>
                  <a:pt x="557" y="654"/>
                </a:lnTo>
                <a:lnTo>
                  <a:pt x="531" y="658"/>
                </a:lnTo>
                <a:lnTo>
                  <a:pt x="483" y="664"/>
                </a:lnTo>
                <a:lnTo>
                  <a:pt x="480" y="665"/>
                </a:lnTo>
                <a:lnTo>
                  <a:pt x="461" y="668"/>
                </a:lnTo>
                <a:lnTo>
                  <a:pt x="442" y="671"/>
                </a:lnTo>
                <a:lnTo>
                  <a:pt x="424" y="673"/>
                </a:lnTo>
                <a:lnTo>
                  <a:pt x="410" y="675"/>
                </a:lnTo>
                <a:lnTo>
                  <a:pt x="394" y="676"/>
                </a:lnTo>
                <a:lnTo>
                  <a:pt x="391" y="676"/>
                </a:lnTo>
                <a:lnTo>
                  <a:pt x="389" y="678"/>
                </a:lnTo>
                <a:lnTo>
                  <a:pt x="369" y="683"/>
                </a:lnTo>
                <a:lnTo>
                  <a:pt x="342" y="696"/>
                </a:lnTo>
                <a:lnTo>
                  <a:pt x="328" y="705"/>
                </a:lnTo>
                <a:lnTo>
                  <a:pt x="314" y="713"/>
                </a:lnTo>
                <a:lnTo>
                  <a:pt x="307" y="715"/>
                </a:lnTo>
                <a:lnTo>
                  <a:pt x="295" y="734"/>
                </a:lnTo>
                <a:lnTo>
                  <a:pt x="274" y="740"/>
                </a:lnTo>
                <a:lnTo>
                  <a:pt x="271" y="743"/>
                </a:lnTo>
                <a:lnTo>
                  <a:pt x="251" y="754"/>
                </a:lnTo>
                <a:lnTo>
                  <a:pt x="250" y="754"/>
                </a:lnTo>
                <a:lnTo>
                  <a:pt x="232" y="767"/>
                </a:lnTo>
                <a:lnTo>
                  <a:pt x="219" y="769"/>
                </a:lnTo>
                <a:lnTo>
                  <a:pt x="192" y="776"/>
                </a:lnTo>
                <a:lnTo>
                  <a:pt x="161" y="781"/>
                </a:lnTo>
                <a:lnTo>
                  <a:pt x="158" y="783"/>
                </a:lnTo>
                <a:lnTo>
                  <a:pt x="148" y="784"/>
                </a:lnTo>
                <a:lnTo>
                  <a:pt x="135" y="787"/>
                </a:lnTo>
                <a:lnTo>
                  <a:pt x="135" y="788"/>
                </a:lnTo>
                <a:lnTo>
                  <a:pt x="75" y="798"/>
                </a:lnTo>
                <a:lnTo>
                  <a:pt x="72" y="798"/>
                </a:lnTo>
                <a:lnTo>
                  <a:pt x="62" y="801"/>
                </a:lnTo>
                <a:lnTo>
                  <a:pt x="39" y="804"/>
                </a:lnTo>
                <a:lnTo>
                  <a:pt x="38" y="805"/>
                </a:lnTo>
                <a:lnTo>
                  <a:pt x="15" y="808"/>
                </a:lnTo>
                <a:lnTo>
                  <a:pt x="1" y="811"/>
                </a:lnTo>
                <a:lnTo>
                  <a:pt x="1" y="807"/>
                </a:lnTo>
                <a:lnTo>
                  <a:pt x="0" y="770"/>
                </a:lnTo>
                <a:lnTo>
                  <a:pt x="0" y="746"/>
                </a:lnTo>
                <a:lnTo>
                  <a:pt x="7" y="730"/>
                </a:lnTo>
                <a:lnTo>
                  <a:pt x="36" y="726"/>
                </a:lnTo>
                <a:lnTo>
                  <a:pt x="47" y="712"/>
                </a:lnTo>
                <a:lnTo>
                  <a:pt x="48" y="686"/>
                </a:lnTo>
                <a:lnTo>
                  <a:pt x="48" y="671"/>
                </a:lnTo>
                <a:lnTo>
                  <a:pt x="55" y="658"/>
                </a:lnTo>
                <a:lnTo>
                  <a:pt x="56" y="659"/>
                </a:lnTo>
                <a:lnTo>
                  <a:pt x="68" y="639"/>
                </a:lnTo>
                <a:lnTo>
                  <a:pt x="91" y="622"/>
                </a:lnTo>
                <a:lnTo>
                  <a:pt x="107" y="617"/>
                </a:lnTo>
                <a:lnTo>
                  <a:pt x="113" y="617"/>
                </a:lnTo>
                <a:lnTo>
                  <a:pt x="138" y="614"/>
                </a:lnTo>
                <a:lnTo>
                  <a:pt x="181" y="566"/>
                </a:lnTo>
                <a:lnTo>
                  <a:pt x="179" y="560"/>
                </a:lnTo>
                <a:lnTo>
                  <a:pt x="202" y="540"/>
                </a:lnTo>
                <a:lnTo>
                  <a:pt x="225" y="534"/>
                </a:lnTo>
                <a:lnTo>
                  <a:pt x="232" y="527"/>
                </a:lnTo>
                <a:lnTo>
                  <a:pt x="240" y="499"/>
                </a:lnTo>
                <a:lnTo>
                  <a:pt x="240" y="496"/>
                </a:lnTo>
                <a:lnTo>
                  <a:pt x="239" y="479"/>
                </a:lnTo>
                <a:lnTo>
                  <a:pt x="259" y="459"/>
                </a:lnTo>
                <a:lnTo>
                  <a:pt x="286" y="437"/>
                </a:lnTo>
                <a:lnTo>
                  <a:pt x="290" y="441"/>
                </a:lnTo>
                <a:lnTo>
                  <a:pt x="290" y="454"/>
                </a:lnTo>
                <a:lnTo>
                  <a:pt x="311" y="456"/>
                </a:lnTo>
                <a:lnTo>
                  <a:pt x="312" y="455"/>
                </a:lnTo>
                <a:lnTo>
                  <a:pt x="319" y="445"/>
                </a:lnTo>
                <a:lnTo>
                  <a:pt x="325" y="425"/>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8" name="Freeform 21"/>
          <p:cNvSpPr/>
          <p:nvPr/>
        </p:nvSpPr>
        <p:spPr>
          <a:xfrm>
            <a:off x="5083200" y="4449600"/>
            <a:ext cx="579240" cy="476280"/>
          </a:xfrm>
          <a:custGeom>
            <a:avLst/>
            <a:gdLst>
              <a:gd name="textAreaLeft" fmla="*/ 0 w 579240"/>
              <a:gd name="textAreaRight" fmla="*/ 579600 w 579240"/>
              <a:gd name="textAreaTop" fmla="*/ 0 h 476280"/>
              <a:gd name="textAreaBottom" fmla="*/ 476640 h 476280"/>
            </a:gdLst>
            <a:ahLst/>
            <a:rect l="textAreaLeft" t="textAreaTop" r="textAreaRight" b="textAreaBottom"/>
            <a:pathLst>
              <a:path w="956" h="908">
                <a:moveTo>
                  <a:pt x="171" y="394"/>
                </a:moveTo>
                <a:lnTo>
                  <a:pt x="172" y="397"/>
                </a:lnTo>
                <a:lnTo>
                  <a:pt x="173" y="399"/>
                </a:lnTo>
                <a:lnTo>
                  <a:pt x="179" y="411"/>
                </a:lnTo>
                <a:lnTo>
                  <a:pt x="220" y="436"/>
                </a:lnTo>
                <a:lnTo>
                  <a:pt x="247" y="458"/>
                </a:lnTo>
                <a:lnTo>
                  <a:pt x="255" y="478"/>
                </a:lnTo>
                <a:lnTo>
                  <a:pt x="263" y="495"/>
                </a:lnTo>
                <a:lnTo>
                  <a:pt x="277" y="502"/>
                </a:lnTo>
                <a:lnTo>
                  <a:pt x="279" y="501"/>
                </a:lnTo>
                <a:lnTo>
                  <a:pt x="296" y="511"/>
                </a:lnTo>
                <a:lnTo>
                  <a:pt x="296" y="512"/>
                </a:lnTo>
                <a:lnTo>
                  <a:pt x="298" y="512"/>
                </a:lnTo>
                <a:lnTo>
                  <a:pt x="299" y="514"/>
                </a:lnTo>
                <a:lnTo>
                  <a:pt x="324" y="559"/>
                </a:lnTo>
                <a:lnTo>
                  <a:pt x="336" y="575"/>
                </a:lnTo>
                <a:lnTo>
                  <a:pt x="343" y="593"/>
                </a:lnTo>
                <a:lnTo>
                  <a:pt x="364" y="604"/>
                </a:lnTo>
                <a:lnTo>
                  <a:pt x="367" y="618"/>
                </a:lnTo>
                <a:lnTo>
                  <a:pt x="374" y="624"/>
                </a:lnTo>
                <a:lnTo>
                  <a:pt x="395" y="628"/>
                </a:lnTo>
                <a:lnTo>
                  <a:pt x="411" y="641"/>
                </a:lnTo>
                <a:lnTo>
                  <a:pt x="422" y="650"/>
                </a:lnTo>
                <a:lnTo>
                  <a:pt x="423" y="672"/>
                </a:lnTo>
                <a:lnTo>
                  <a:pt x="450" y="723"/>
                </a:lnTo>
                <a:lnTo>
                  <a:pt x="453" y="759"/>
                </a:lnTo>
                <a:lnTo>
                  <a:pt x="459" y="767"/>
                </a:lnTo>
                <a:lnTo>
                  <a:pt x="461" y="769"/>
                </a:lnTo>
                <a:lnTo>
                  <a:pt x="462" y="767"/>
                </a:lnTo>
                <a:lnTo>
                  <a:pt x="482" y="775"/>
                </a:lnTo>
                <a:lnTo>
                  <a:pt x="522" y="841"/>
                </a:lnTo>
                <a:lnTo>
                  <a:pt x="519" y="860"/>
                </a:lnTo>
                <a:lnTo>
                  <a:pt x="522" y="867"/>
                </a:lnTo>
                <a:lnTo>
                  <a:pt x="531" y="895"/>
                </a:lnTo>
                <a:lnTo>
                  <a:pt x="555" y="898"/>
                </a:lnTo>
                <a:lnTo>
                  <a:pt x="578" y="908"/>
                </a:lnTo>
                <a:lnTo>
                  <a:pt x="579" y="898"/>
                </a:lnTo>
                <a:lnTo>
                  <a:pt x="602" y="875"/>
                </a:lnTo>
                <a:lnTo>
                  <a:pt x="614" y="848"/>
                </a:lnTo>
                <a:lnTo>
                  <a:pt x="597" y="837"/>
                </a:lnTo>
                <a:lnTo>
                  <a:pt x="584" y="807"/>
                </a:lnTo>
                <a:lnTo>
                  <a:pt x="622" y="835"/>
                </a:lnTo>
                <a:lnTo>
                  <a:pt x="644" y="816"/>
                </a:lnTo>
                <a:lnTo>
                  <a:pt x="654" y="787"/>
                </a:lnTo>
                <a:lnTo>
                  <a:pt x="634" y="756"/>
                </a:lnTo>
                <a:lnTo>
                  <a:pt x="650" y="756"/>
                </a:lnTo>
                <a:lnTo>
                  <a:pt x="659" y="762"/>
                </a:lnTo>
                <a:lnTo>
                  <a:pt x="666" y="755"/>
                </a:lnTo>
                <a:lnTo>
                  <a:pt x="667" y="753"/>
                </a:lnTo>
                <a:lnTo>
                  <a:pt x="667" y="755"/>
                </a:lnTo>
                <a:lnTo>
                  <a:pt x="669" y="759"/>
                </a:lnTo>
                <a:lnTo>
                  <a:pt x="676" y="749"/>
                </a:lnTo>
                <a:lnTo>
                  <a:pt x="703" y="719"/>
                </a:lnTo>
                <a:lnTo>
                  <a:pt x="731" y="702"/>
                </a:lnTo>
                <a:lnTo>
                  <a:pt x="748" y="658"/>
                </a:lnTo>
                <a:lnTo>
                  <a:pt x="773" y="637"/>
                </a:lnTo>
                <a:lnTo>
                  <a:pt x="799" y="593"/>
                </a:lnTo>
                <a:lnTo>
                  <a:pt x="794" y="572"/>
                </a:lnTo>
                <a:lnTo>
                  <a:pt x="834" y="562"/>
                </a:lnTo>
                <a:lnTo>
                  <a:pt x="849" y="523"/>
                </a:lnTo>
                <a:lnTo>
                  <a:pt x="853" y="522"/>
                </a:lnTo>
                <a:lnTo>
                  <a:pt x="861" y="445"/>
                </a:lnTo>
                <a:lnTo>
                  <a:pt x="881" y="377"/>
                </a:lnTo>
                <a:lnTo>
                  <a:pt x="911" y="316"/>
                </a:lnTo>
                <a:lnTo>
                  <a:pt x="919" y="305"/>
                </a:lnTo>
                <a:lnTo>
                  <a:pt x="956" y="275"/>
                </a:lnTo>
                <a:lnTo>
                  <a:pt x="950" y="270"/>
                </a:lnTo>
                <a:lnTo>
                  <a:pt x="933" y="255"/>
                </a:lnTo>
                <a:lnTo>
                  <a:pt x="931" y="253"/>
                </a:lnTo>
                <a:lnTo>
                  <a:pt x="879" y="207"/>
                </a:lnTo>
                <a:lnTo>
                  <a:pt x="849" y="179"/>
                </a:lnTo>
                <a:lnTo>
                  <a:pt x="835" y="167"/>
                </a:lnTo>
                <a:lnTo>
                  <a:pt x="790" y="128"/>
                </a:lnTo>
                <a:lnTo>
                  <a:pt x="774" y="112"/>
                </a:lnTo>
                <a:lnTo>
                  <a:pt x="748" y="89"/>
                </a:lnTo>
                <a:lnTo>
                  <a:pt x="747" y="89"/>
                </a:lnTo>
                <a:lnTo>
                  <a:pt x="747" y="88"/>
                </a:lnTo>
                <a:lnTo>
                  <a:pt x="746" y="88"/>
                </a:lnTo>
                <a:lnTo>
                  <a:pt x="712" y="58"/>
                </a:lnTo>
                <a:lnTo>
                  <a:pt x="698" y="45"/>
                </a:lnTo>
                <a:lnTo>
                  <a:pt x="695" y="45"/>
                </a:lnTo>
                <a:lnTo>
                  <a:pt x="683" y="48"/>
                </a:lnTo>
                <a:lnTo>
                  <a:pt x="660" y="54"/>
                </a:lnTo>
                <a:lnTo>
                  <a:pt x="650" y="55"/>
                </a:lnTo>
                <a:lnTo>
                  <a:pt x="636" y="58"/>
                </a:lnTo>
                <a:lnTo>
                  <a:pt x="586" y="68"/>
                </a:lnTo>
                <a:lnTo>
                  <a:pt x="574" y="70"/>
                </a:lnTo>
                <a:lnTo>
                  <a:pt x="573" y="70"/>
                </a:lnTo>
                <a:lnTo>
                  <a:pt x="548" y="75"/>
                </a:lnTo>
                <a:lnTo>
                  <a:pt x="528" y="80"/>
                </a:lnTo>
                <a:lnTo>
                  <a:pt x="484" y="88"/>
                </a:lnTo>
                <a:lnTo>
                  <a:pt x="482" y="53"/>
                </a:lnTo>
                <a:lnTo>
                  <a:pt x="468" y="36"/>
                </a:lnTo>
                <a:lnTo>
                  <a:pt x="466" y="31"/>
                </a:lnTo>
                <a:lnTo>
                  <a:pt x="460" y="26"/>
                </a:lnTo>
                <a:lnTo>
                  <a:pt x="453" y="16"/>
                </a:lnTo>
                <a:lnTo>
                  <a:pt x="435" y="23"/>
                </a:lnTo>
                <a:lnTo>
                  <a:pt x="423" y="4"/>
                </a:lnTo>
                <a:lnTo>
                  <a:pt x="426" y="0"/>
                </a:lnTo>
                <a:lnTo>
                  <a:pt x="405" y="3"/>
                </a:lnTo>
                <a:lnTo>
                  <a:pt x="384" y="6"/>
                </a:lnTo>
                <a:lnTo>
                  <a:pt x="370" y="7"/>
                </a:lnTo>
                <a:lnTo>
                  <a:pt x="362" y="9"/>
                </a:lnTo>
                <a:lnTo>
                  <a:pt x="336" y="13"/>
                </a:lnTo>
                <a:lnTo>
                  <a:pt x="288" y="19"/>
                </a:lnTo>
                <a:lnTo>
                  <a:pt x="285" y="20"/>
                </a:lnTo>
                <a:lnTo>
                  <a:pt x="266" y="23"/>
                </a:lnTo>
                <a:lnTo>
                  <a:pt x="247" y="26"/>
                </a:lnTo>
                <a:lnTo>
                  <a:pt x="229" y="28"/>
                </a:lnTo>
                <a:lnTo>
                  <a:pt x="215" y="30"/>
                </a:lnTo>
                <a:lnTo>
                  <a:pt x="199" y="31"/>
                </a:lnTo>
                <a:lnTo>
                  <a:pt x="196" y="31"/>
                </a:lnTo>
                <a:lnTo>
                  <a:pt x="194" y="33"/>
                </a:lnTo>
                <a:lnTo>
                  <a:pt x="174" y="38"/>
                </a:lnTo>
                <a:lnTo>
                  <a:pt x="147" y="51"/>
                </a:lnTo>
                <a:lnTo>
                  <a:pt x="133" y="60"/>
                </a:lnTo>
                <a:lnTo>
                  <a:pt x="119" y="68"/>
                </a:lnTo>
                <a:lnTo>
                  <a:pt x="112" y="70"/>
                </a:lnTo>
                <a:lnTo>
                  <a:pt x="100" y="89"/>
                </a:lnTo>
                <a:lnTo>
                  <a:pt x="79" y="95"/>
                </a:lnTo>
                <a:lnTo>
                  <a:pt x="76" y="98"/>
                </a:lnTo>
                <a:lnTo>
                  <a:pt x="56" y="109"/>
                </a:lnTo>
                <a:lnTo>
                  <a:pt x="55" y="109"/>
                </a:lnTo>
                <a:lnTo>
                  <a:pt x="37" y="122"/>
                </a:lnTo>
                <a:lnTo>
                  <a:pt x="36" y="141"/>
                </a:lnTo>
                <a:lnTo>
                  <a:pt x="15" y="169"/>
                </a:lnTo>
                <a:lnTo>
                  <a:pt x="0" y="214"/>
                </a:lnTo>
                <a:lnTo>
                  <a:pt x="4" y="223"/>
                </a:lnTo>
                <a:lnTo>
                  <a:pt x="26" y="237"/>
                </a:lnTo>
                <a:lnTo>
                  <a:pt x="50" y="253"/>
                </a:lnTo>
                <a:lnTo>
                  <a:pt x="54" y="258"/>
                </a:lnTo>
                <a:lnTo>
                  <a:pt x="66" y="268"/>
                </a:lnTo>
                <a:lnTo>
                  <a:pt x="66" y="270"/>
                </a:lnTo>
                <a:lnTo>
                  <a:pt x="70" y="272"/>
                </a:lnTo>
                <a:lnTo>
                  <a:pt x="77" y="274"/>
                </a:lnTo>
                <a:lnTo>
                  <a:pt x="78" y="271"/>
                </a:lnTo>
                <a:lnTo>
                  <a:pt x="101" y="272"/>
                </a:lnTo>
                <a:lnTo>
                  <a:pt x="111" y="297"/>
                </a:lnTo>
                <a:lnTo>
                  <a:pt x="126" y="319"/>
                </a:lnTo>
                <a:lnTo>
                  <a:pt x="132" y="325"/>
                </a:lnTo>
                <a:lnTo>
                  <a:pt x="134" y="331"/>
                </a:lnTo>
                <a:lnTo>
                  <a:pt x="135" y="342"/>
                </a:lnTo>
                <a:lnTo>
                  <a:pt x="152" y="365"/>
                </a:lnTo>
                <a:lnTo>
                  <a:pt x="164" y="382"/>
                </a:lnTo>
                <a:lnTo>
                  <a:pt x="171" y="394"/>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9" name="Freeform 22"/>
          <p:cNvSpPr/>
          <p:nvPr/>
        </p:nvSpPr>
        <p:spPr>
          <a:xfrm>
            <a:off x="790560" y="2165400"/>
            <a:ext cx="762120" cy="579240"/>
          </a:xfrm>
          <a:custGeom>
            <a:avLst/>
            <a:gdLst>
              <a:gd name="textAreaLeft" fmla="*/ 0 w 762120"/>
              <a:gd name="textAreaRight" fmla="*/ 762480 w 762120"/>
              <a:gd name="textAreaTop" fmla="*/ 0 h 579240"/>
              <a:gd name="textAreaBottom" fmla="*/ 579600 h 579240"/>
            </a:gdLst>
            <a:ahLst/>
            <a:rect l="textAreaLeft" t="textAreaTop" r="textAreaRight" b="textAreaBottom"/>
            <a:pathLst>
              <a:path w="1260" h="1109">
                <a:moveTo>
                  <a:pt x="1146" y="980"/>
                </a:moveTo>
                <a:lnTo>
                  <a:pt x="1141" y="994"/>
                </a:lnTo>
                <a:lnTo>
                  <a:pt x="1150" y="1034"/>
                </a:lnTo>
                <a:lnTo>
                  <a:pt x="1147" y="1109"/>
                </a:lnTo>
                <a:lnTo>
                  <a:pt x="1078" y="1092"/>
                </a:lnTo>
                <a:lnTo>
                  <a:pt x="1075" y="1092"/>
                </a:lnTo>
                <a:lnTo>
                  <a:pt x="1054" y="1086"/>
                </a:lnTo>
                <a:lnTo>
                  <a:pt x="1053" y="1086"/>
                </a:lnTo>
                <a:lnTo>
                  <a:pt x="1051" y="1086"/>
                </a:lnTo>
                <a:lnTo>
                  <a:pt x="1035" y="1081"/>
                </a:lnTo>
                <a:lnTo>
                  <a:pt x="1030" y="1081"/>
                </a:lnTo>
                <a:lnTo>
                  <a:pt x="1017" y="1076"/>
                </a:lnTo>
                <a:lnTo>
                  <a:pt x="973" y="1067"/>
                </a:lnTo>
                <a:lnTo>
                  <a:pt x="970" y="1065"/>
                </a:lnTo>
                <a:lnTo>
                  <a:pt x="929" y="1055"/>
                </a:lnTo>
                <a:lnTo>
                  <a:pt x="842" y="1033"/>
                </a:lnTo>
                <a:lnTo>
                  <a:pt x="809" y="1024"/>
                </a:lnTo>
                <a:lnTo>
                  <a:pt x="783" y="1038"/>
                </a:lnTo>
                <a:lnTo>
                  <a:pt x="762" y="1030"/>
                </a:lnTo>
                <a:lnTo>
                  <a:pt x="732" y="1028"/>
                </a:lnTo>
                <a:lnTo>
                  <a:pt x="710" y="1021"/>
                </a:lnTo>
                <a:lnTo>
                  <a:pt x="691" y="1037"/>
                </a:lnTo>
                <a:lnTo>
                  <a:pt x="658" y="1034"/>
                </a:lnTo>
                <a:lnTo>
                  <a:pt x="651" y="1034"/>
                </a:lnTo>
                <a:lnTo>
                  <a:pt x="640" y="1033"/>
                </a:lnTo>
                <a:lnTo>
                  <a:pt x="635" y="1034"/>
                </a:lnTo>
                <a:lnTo>
                  <a:pt x="596" y="1050"/>
                </a:lnTo>
                <a:lnTo>
                  <a:pt x="550" y="1047"/>
                </a:lnTo>
                <a:lnTo>
                  <a:pt x="524" y="1027"/>
                </a:lnTo>
                <a:lnTo>
                  <a:pt x="517" y="1031"/>
                </a:lnTo>
                <a:lnTo>
                  <a:pt x="487" y="1035"/>
                </a:lnTo>
                <a:lnTo>
                  <a:pt x="476" y="1041"/>
                </a:lnTo>
                <a:lnTo>
                  <a:pt x="431" y="1040"/>
                </a:lnTo>
                <a:lnTo>
                  <a:pt x="429" y="1020"/>
                </a:lnTo>
                <a:lnTo>
                  <a:pt x="394" y="1001"/>
                </a:lnTo>
                <a:lnTo>
                  <a:pt x="390" y="998"/>
                </a:lnTo>
                <a:lnTo>
                  <a:pt x="386" y="991"/>
                </a:lnTo>
                <a:lnTo>
                  <a:pt x="382" y="989"/>
                </a:lnTo>
                <a:lnTo>
                  <a:pt x="346" y="987"/>
                </a:lnTo>
                <a:lnTo>
                  <a:pt x="334" y="980"/>
                </a:lnTo>
                <a:lnTo>
                  <a:pt x="312" y="991"/>
                </a:lnTo>
                <a:lnTo>
                  <a:pt x="280" y="1001"/>
                </a:lnTo>
                <a:lnTo>
                  <a:pt x="267" y="1000"/>
                </a:lnTo>
                <a:lnTo>
                  <a:pt x="254" y="1004"/>
                </a:lnTo>
                <a:lnTo>
                  <a:pt x="224" y="991"/>
                </a:lnTo>
                <a:lnTo>
                  <a:pt x="176" y="947"/>
                </a:lnTo>
                <a:lnTo>
                  <a:pt x="181" y="928"/>
                </a:lnTo>
                <a:lnTo>
                  <a:pt x="182" y="926"/>
                </a:lnTo>
                <a:lnTo>
                  <a:pt x="182" y="922"/>
                </a:lnTo>
                <a:lnTo>
                  <a:pt x="184" y="892"/>
                </a:lnTo>
                <a:lnTo>
                  <a:pt x="186" y="858"/>
                </a:lnTo>
                <a:lnTo>
                  <a:pt x="165" y="800"/>
                </a:lnTo>
                <a:lnTo>
                  <a:pt x="134" y="779"/>
                </a:lnTo>
                <a:lnTo>
                  <a:pt x="126" y="781"/>
                </a:lnTo>
                <a:lnTo>
                  <a:pt x="108" y="779"/>
                </a:lnTo>
                <a:lnTo>
                  <a:pt x="101" y="745"/>
                </a:lnTo>
                <a:lnTo>
                  <a:pt x="96" y="738"/>
                </a:lnTo>
                <a:lnTo>
                  <a:pt x="67" y="729"/>
                </a:lnTo>
                <a:lnTo>
                  <a:pt x="58" y="719"/>
                </a:lnTo>
                <a:lnTo>
                  <a:pt x="31" y="725"/>
                </a:lnTo>
                <a:lnTo>
                  <a:pt x="18" y="712"/>
                </a:lnTo>
                <a:lnTo>
                  <a:pt x="15" y="698"/>
                </a:lnTo>
                <a:lnTo>
                  <a:pt x="7" y="709"/>
                </a:lnTo>
                <a:lnTo>
                  <a:pt x="0" y="706"/>
                </a:lnTo>
                <a:lnTo>
                  <a:pt x="26" y="601"/>
                </a:lnTo>
                <a:lnTo>
                  <a:pt x="20" y="655"/>
                </a:lnTo>
                <a:lnTo>
                  <a:pt x="29" y="645"/>
                </a:lnTo>
                <a:lnTo>
                  <a:pt x="40" y="645"/>
                </a:lnTo>
                <a:lnTo>
                  <a:pt x="42" y="611"/>
                </a:lnTo>
                <a:lnTo>
                  <a:pt x="59" y="596"/>
                </a:lnTo>
                <a:lnTo>
                  <a:pt x="61" y="586"/>
                </a:lnTo>
                <a:lnTo>
                  <a:pt x="39" y="587"/>
                </a:lnTo>
                <a:lnTo>
                  <a:pt x="26" y="573"/>
                </a:lnTo>
                <a:lnTo>
                  <a:pt x="29" y="556"/>
                </a:lnTo>
                <a:lnTo>
                  <a:pt x="30" y="532"/>
                </a:lnTo>
                <a:lnTo>
                  <a:pt x="27" y="522"/>
                </a:lnTo>
                <a:lnTo>
                  <a:pt x="36" y="533"/>
                </a:lnTo>
                <a:lnTo>
                  <a:pt x="74" y="526"/>
                </a:lnTo>
                <a:lnTo>
                  <a:pt x="75" y="521"/>
                </a:lnTo>
                <a:lnTo>
                  <a:pt x="53" y="505"/>
                </a:lnTo>
                <a:lnTo>
                  <a:pt x="39" y="485"/>
                </a:lnTo>
                <a:lnTo>
                  <a:pt x="34" y="512"/>
                </a:lnTo>
                <a:lnTo>
                  <a:pt x="24" y="515"/>
                </a:lnTo>
                <a:lnTo>
                  <a:pt x="37" y="434"/>
                </a:lnTo>
                <a:lnTo>
                  <a:pt x="36" y="406"/>
                </a:lnTo>
                <a:lnTo>
                  <a:pt x="27" y="386"/>
                </a:lnTo>
                <a:lnTo>
                  <a:pt x="34" y="333"/>
                </a:lnTo>
                <a:lnTo>
                  <a:pt x="28" y="261"/>
                </a:lnTo>
                <a:lnTo>
                  <a:pt x="28" y="254"/>
                </a:lnTo>
                <a:lnTo>
                  <a:pt x="9" y="221"/>
                </a:lnTo>
                <a:lnTo>
                  <a:pt x="7" y="184"/>
                </a:lnTo>
                <a:lnTo>
                  <a:pt x="13" y="172"/>
                </a:lnTo>
                <a:lnTo>
                  <a:pt x="9" y="138"/>
                </a:lnTo>
                <a:lnTo>
                  <a:pt x="30" y="89"/>
                </a:lnTo>
                <a:lnTo>
                  <a:pt x="24" y="71"/>
                </a:lnTo>
                <a:lnTo>
                  <a:pt x="35" y="75"/>
                </a:lnTo>
                <a:lnTo>
                  <a:pt x="126" y="172"/>
                </a:lnTo>
                <a:lnTo>
                  <a:pt x="212" y="208"/>
                </a:lnTo>
                <a:lnTo>
                  <a:pt x="212" y="213"/>
                </a:lnTo>
                <a:lnTo>
                  <a:pt x="268" y="231"/>
                </a:lnTo>
                <a:lnTo>
                  <a:pt x="288" y="255"/>
                </a:lnTo>
                <a:lnTo>
                  <a:pt x="300" y="261"/>
                </a:lnTo>
                <a:lnTo>
                  <a:pt x="303" y="243"/>
                </a:lnTo>
                <a:lnTo>
                  <a:pt x="319" y="248"/>
                </a:lnTo>
                <a:lnTo>
                  <a:pt x="309" y="255"/>
                </a:lnTo>
                <a:lnTo>
                  <a:pt x="314" y="271"/>
                </a:lnTo>
                <a:lnTo>
                  <a:pt x="317" y="269"/>
                </a:lnTo>
                <a:lnTo>
                  <a:pt x="323" y="325"/>
                </a:lnTo>
                <a:lnTo>
                  <a:pt x="299" y="347"/>
                </a:lnTo>
                <a:lnTo>
                  <a:pt x="298" y="356"/>
                </a:lnTo>
                <a:lnTo>
                  <a:pt x="333" y="326"/>
                </a:lnTo>
                <a:lnTo>
                  <a:pt x="342" y="329"/>
                </a:lnTo>
                <a:lnTo>
                  <a:pt x="341" y="367"/>
                </a:lnTo>
                <a:lnTo>
                  <a:pt x="338" y="367"/>
                </a:lnTo>
                <a:lnTo>
                  <a:pt x="324" y="431"/>
                </a:lnTo>
                <a:lnTo>
                  <a:pt x="326" y="433"/>
                </a:lnTo>
                <a:lnTo>
                  <a:pt x="330" y="460"/>
                </a:lnTo>
                <a:lnTo>
                  <a:pt x="336" y="474"/>
                </a:lnTo>
                <a:lnTo>
                  <a:pt x="314" y="484"/>
                </a:lnTo>
                <a:lnTo>
                  <a:pt x="310" y="474"/>
                </a:lnTo>
                <a:lnTo>
                  <a:pt x="308" y="472"/>
                </a:lnTo>
                <a:lnTo>
                  <a:pt x="312" y="494"/>
                </a:lnTo>
                <a:lnTo>
                  <a:pt x="326" y="491"/>
                </a:lnTo>
                <a:lnTo>
                  <a:pt x="344" y="479"/>
                </a:lnTo>
                <a:lnTo>
                  <a:pt x="340" y="457"/>
                </a:lnTo>
                <a:lnTo>
                  <a:pt x="356" y="362"/>
                </a:lnTo>
                <a:lnTo>
                  <a:pt x="383" y="318"/>
                </a:lnTo>
                <a:lnTo>
                  <a:pt x="390" y="316"/>
                </a:lnTo>
                <a:lnTo>
                  <a:pt x="395" y="304"/>
                </a:lnTo>
                <a:lnTo>
                  <a:pt x="380" y="265"/>
                </a:lnTo>
                <a:lnTo>
                  <a:pt x="380" y="237"/>
                </a:lnTo>
                <a:lnTo>
                  <a:pt x="371" y="262"/>
                </a:lnTo>
                <a:lnTo>
                  <a:pt x="374" y="284"/>
                </a:lnTo>
                <a:lnTo>
                  <a:pt x="365" y="261"/>
                </a:lnTo>
                <a:lnTo>
                  <a:pt x="359" y="258"/>
                </a:lnTo>
                <a:lnTo>
                  <a:pt x="362" y="223"/>
                </a:lnTo>
                <a:lnTo>
                  <a:pt x="381" y="227"/>
                </a:lnTo>
                <a:lnTo>
                  <a:pt x="387" y="217"/>
                </a:lnTo>
                <a:lnTo>
                  <a:pt x="387" y="216"/>
                </a:lnTo>
                <a:lnTo>
                  <a:pt x="372" y="193"/>
                </a:lnTo>
                <a:lnTo>
                  <a:pt x="362" y="179"/>
                </a:lnTo>
                <a:lnTo>
                  <a:pt x="342" y="216"/>
                </a:lnTo>
                <a:lnTo>
                  <a:pt x="348" y="277"/>
                </a:lnTo>
                <a:lnTo>
                  <a:pt x="352" y="278"/>
                </a:lnTo>
                <a:lnTo>
                  <a:pt x="354" y="265"/>
                </a:lnTo>
                <a:lnTo>
                  <a:pt x="373" y="291"/>
                </a:lnTo>
                <a:lnTo>
                  <a:pt x="366" y="326"/>
                </a:lnTo>
                <a:lnTo>
                  <a:pt x="352" y="298"/>
                </a:lnTo>
                <a:lnTo>
                  <a:pt x="336" y="279"/>
                </a:lnTo>
                <a:lnTo>
                  <a:pt x="341" y="243"/>
                </a:lnTo>
                <a:lnTo>
                  <a:pt x="324" y="223"/>
                </a:lnTo>
                <a:lnTo>
                  <a:pt x="349" y="170"/>
                </a:lnTo>
                <a:lnTo>
                  <a:pt x="360" y="109"/>
                </a:lnTo>
                <a:lnTo>
                  <a:pt x="378" y="165"/>
                </a:lnTo>
                <a:lnTo>
                  <a:pt x="390" y="112"/>
                </a:lnTo>
                <a:lnTo>
                  <a:pt x="394" y="84"/>
                </a:lnTo>
                <a:lnTo>
                  <a:pt x="375" y="77"/>
                </a:lnTo>
                <a:lnTo>
                  <a:pt x="371" y="106"/>
                </a:lnTo>
                <a:lnTo>
                  <a:pt x="362" y="38"/>
                </a:lnTo>
                <a:lnTo>
                  <a:pt x="367" y="0"/>
                </a:lnTo>
                <a:lnTo>
                  <a:pt x="663" y="88"/>
                </a:lnTo>
                <a:lnTo>
                  <a:pt x="978" y="173"/>
                </a:lnTo>
                <a:lnTo>
                  <a:pt x="1077" y="199"/>
                </a:lnTo>
                <a:lnTo>
                  <a:pt x="1197" y="227"/>
                </a:lnTo>
                <a:lnTo>
                  <a:pt x="1260" y="243"/>
                </a:lnTo>
                <a:lnTo>
                  <a:pt x="1258" y="254"/>
                </a:lnTo>
                <a:lnTo>
                  <a:pt x="1257" y="267"/>
                </a:lnTo>
                <a:lnTo>
                  <a:pt x="1253" y="286"/>
                </a:lnTo>
                <a:lnTo>
                  <a:pt x="1228" y="447"/>
                </a:lnTo>
                <a:lnTo>
                  <a:pt x="1220" y="492"/>
                </a:lnTo>
                <a:lnTo>
                  <a:pt x="1217" y="515"/>
                </a:lnTo>
                <a:lnTo>
                  <a:pt x="1215" y="523"/>
                </a:lnTo>
                <a:lnTo>
                  <a:pt x="1214" y="528"/>
                </a:lnTo>
                <a:lnTo>
                  <a:pt x="1213" y="535"/>
                </a:lnTo>
                <a:lnTo>
                  <a:pt x="1203" y="600"/>
                </a:lnTo>
                <a:lnTo>
                  <a:pt x="1198" y="635"/>
                </a:lnTo>
                <a:lnTo>
                  <a:pt x="1187" y="709"/>
                </a:lnTo>
                <a:lnTo>
                  <a:pt x="1182" y="740"/>
                </a:lnTo>
                <a:lnTo>
                  <a:pt x="1182" y="743"/>
                </a:lnTo>
                <a:lnTo>
                  <a:pt x="1177" y="779"/>
                </a:lnTo>
                <a:lnTo>
                  <a:pt x="1159" y="886"/>
                </a:lnTo>
                <a:lnTo>
                  <a:pt x="1157" y="901"/>
                </a:lnTo>
                <a:lnTo>
                  <a:pt x="1150" y="947"/>
                </a:lnTo>
                <a:lnTo>
                  <a:pt x="1149" y="959"/>
                </a:lnTo>
                <a:lnTo>
                  <a:pt x="1146" y="98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0" name="Freeform 23"/>
          <p:cNvSpPr/>
          <p:nvPr/>
        </p:nvSpPr>
        <p:spPr>
          <a:xfrm>
            <a:off x="960480" y="2205000"/>
            <a:ext cx="41400" cy="34920"/>
          </a:xfrm>
          <a:custGeom>
            <a:avLst/>
            <a:gdLst>
              <a:gd name="textAreaLeft" fmla="*/ 0 w 41400"/>
              <a:gd name="textAreaRight" fmla="*/ 41760 w 41400"/>
              <a:gd name="textAreaTop" fmla="*/ 0 h 34920"/>
              <a:gd name="textAreaBottom" fmla="*/ 35280 h 34920"/>
            </a:gdLst>
            <a:ahLst/>
            <a:rect l="textAreaLeft" t="textAreaTop" r="textAreaRight" b="textAreaBottom"/>
            <a:pathLst>
              <a:path w="68" h="66">
                <a:moveTo>
                  <a:pt x="7" y="0"/>
                </a:moveTo>
                <a:lnTo>
                  <a:pt x="16" y="29"/>
                </a:lnTo>
                <a:lnTo>
                  <a:pt x="23" y="35"/>
                </a:lnTo>
                <a:lnTo>
                  <a:pt x="28" y="7"/>
                </a:lnTo>
                <a:lnTo>
                  <a:pt x="68" y="19"/>
                </a:lnTo>
                <a:lnTo>
                  <a:pt x="45" y="66"/>
                </a:lnTo>
                <a:lnTo>
                  <a:pt x="16" y="65"/>
                </a:lnTo>
                <a:lnTo>
                  <a:pt x="0" y="46"/>
                </a:lnTo>
                <a:lnTo>
                  <a:pt x="7" y="0"/>
                </a:lnTo>
                <a:close/>
              </a:path>
            </a:pathLst>
          </a:custGeom>
          <a:solidFill>
            <a:srgbClr val="ffffff"/>
          </a:solidFill>
          <a:ln w="0">
            <a:solidFill>
              <a:srgbClr val="000000"/>
            </a:solidFill>
          </a:ln>
        </p:spPr>
        <p:style>
          <a:lnRef idx="0"/>
          <a:fillRef idx="0"/>
          <a:effectRef idx="0"/>
          <a:fontRef idx="minor"/>
        </p:style>
        <p:txBody>
          <a:bodyPr lIns="90000" rIns="90000" tIns="-11520" bIns="-11520" anchor="t">
            <a:noAutofit/>
          </a:bodyPr>
          <a:p>
            <a:endParaRPr b="0" lang="en-US" sz="2800" spc="-1" strike="noStrike">
              <a:solidFill>
                <a:srgbClr val="000000"/>
              </a:solidFill>
              <a:latin typeface="Arial"/>
            </a:endParaRPr>
          </a:p>
        </p:txBody>
      </p:sp>
      <p:sp>
        <p:nvSpPr>
          <p:cNvPr id="131" name="Freeform 24"/>
          <p:cNvSpPr/>
          <p:nvPr/>
        </p:nvSpPr>
        <p:spPr>
          <a:xfrm>
            <a:off x="1974960" y="2998800"/>
            <a:ext cx="784080" cy="690480"/>
          </a:xfrm>
          <a:custGeom>
            <a:avLst/>
            <a:gdLst>
              <a:gd name="textAreaLeft" fmla="*/ 0 w 784080"/>
              <a:gd name="textAreaRight" fmla="*/ 784440 w 784080"/>
              <a:gd name="textAreaTop" fmla="*/ 0 h 690480"/>
              <a:gd name="textAreaBottom" fmla="*/ 690840 h 690480"/>
            </a:gdLst>
            <a:ahLst/>
            <a:rect l="textAreaLeft" t="textAreaTop" r="textAreaRight" b="textAreaBottom"/>
            <a:pathLst>
              <a:path w="1297" h="1322">
                <a:moveTo>
                  <a:pt x="837" y="1288"/>
                </a:moveTo>
                <a:lnTo>
                  <a:pt x="828" y="1286"/>
                </a:lnTo>
                <a:lnTo>
                  <a:pt x="805" y="1283"/>
                </a:lnTo>
                <a:lnTo>
                  <a:pt x="742" y="1276"/>
                </a:lnTo>
                <a:lnTo>
                  <a:pt x="737" y="1276"/>
                </a:lnTo>
                <a:lnTo>
                  <a:pt x="661" y="1268"/>
                </a:lnTo>
                <a:lnTo>
                  <a:pt x="651" y="1266"/>
                </a:lnTo>
                <a:lnTo>
                  <a:pt x="605" y="1261"/>
                </a:lnTo>
                <a:lnTo>
                  <a:pt x="554" y="1255"/>
                </a:lnTo>
                <a:lnTo>
                  <a:pt x="508" y="1249"/>
                </a:lnTo>
                <a:lnTo>
                  <a:pt x="398" y="1235"/>
                </a:lnTo>
                <a:lnTo>
                  <a:pt x="354" y="1230"/>
                </a:lnTo>
                <a:lnTo>
                  <a:pt x="274" y="1220"/>
                </a:lnTo>
                <a:lnTo>
                  <a:pt x="268" y="1218"/>
                </a:lnTo>
                <a:lnTo>
                  <a:pt x="186" y="1207"/>
                </a:lnTo>
                <a:lnTo>
                  <a:pt x="176" y="1205"/>
                </a:lnTo>
                <a:lnTo>
                  <a:pt x="136" y="1200"/>
                </a:lnTo>
                <a:lnTo>
                  <a:pt x="0" y="1177"/>
                </a:lnTo>
                <a:lnTo>
                  <a:pt x="7" y="1103"/>
                </a:lnTo>
                <a:lnTo>
                  <a:pt x="14" y="1047"/>
                </a:lnTo>
                <a:lnTo>
                  <a:pt x="15" y="1030"/>
                </a:lnTo>
                <a:lnTo>
                  <a:pt x="19" y="1007"/>
                </a:lnTo>
                <a:lnTo>
                  <a:pt x="23" y="956"/>
                </a:lnTo>
                <a:lnTo>
                  <a:pt x="26" y="930"/>
                </a:lnTo>
                <a:lnTo>
                  <a:pt x="31" y="882"/>
                </a:lnTo>
                <a:lnTo>
                  <a:pt x="35" y="845"/>
                </a:lnTo>
                <a:lnTo>
                  <a:pt x="45" y="742"/>
                </a:lnTo>
                <a:lnTo>
                  <a:pt x="46" y="732"/>
                </a:lnTo>
                <a:lnTo>
                  <a:pt x="54" y="661"/>
                </a:lnTo>
                <a:lnTo>
                  <a:pt x="62" y="587"/>
                </a:lnTo>
                <a:lnTo>
                  <a:pt x="63" y="581"/>
                </a:lnTo>
                <a:lnTo>
                  <a:pt x="64" y="569"/>
                </a:lnTo>
                <a:lnTo>
                  <a:pt x="70" y="513"/>
                </a:lnTo>
                <a:lnTo>
                  <a:pt x="71" y="495"/>
                </a:lnTo>
                <a:lnTo>
                  <a:pt x="76" y="455"/>
                </a:lnTo>
                <a:lnTo>
                  <a:pt x="77" y="441"/>
                </a:lnTo>
                <a:lnTo>
                  <a:pt x="77" y="440"/>
                </a:lnTo>
                <a:lnTo>
                  <a:pt x="85" y="367"/>
                </a:lnTo>
                <a:lnTo>
                  <a:pt x="88" y="330"/>
                </a:lnTo>
                <a:lnTo>
                  <a:pt x="92" y="298"/>
                </a:lnTo>
                <a:lnTo>
                  <a:pt x="96" y="255"/>
                </a:lnTo>
                <a:lnTo>
                  <a:pt x="100" y="220"/>
                </a:lnTo>
                <a:lnTo>
                  <a:pt x="106" y="155"/>
                </a:lnTo>
                <a:lnTo>
                  <a:pt x="107" y="146"/>
                </a:lnTo>
                <a:lnTo>
                  <a:pt x="111" y="98"/>
                </a:lnTo>
                <a:lnTo>
                  <a:pt x="122" y="0"/>
                </a:lnTo>
                <a:lnTo>
                  <a:pt x="230" y="18"/>
                </a:lnTo>
                <a:lnTo>
                  <a:pt x="298" y="27"/>
                </a:lnTo>
                <a:lnTo>
                  <a:pt x="322" y="30"/>
                </a:lnTo>
                <a:lnTo>
                  <a:pt x="332" y="31"/>
                </a:lnTo>
                <a:lnTo>
                  <a:pt x="445" y="47"/>
                </a:lnTo>
                <a:lnTo>
                  <a:pt x="466" y="51"/>
                </a:lnTo>
                <a:lnTo>
                  <a:pt x="530" y="59"/>
                </a:lnTo>
                <a:lnTo>
                  <a:pt x="549" y="62"/>
                </a:lnTo>
                <a:lnTo>
                  <a:pt x="571" y="65"/>
                </a:lnTo>
                <a:lnTo>
                  <a:pt x="591" y="68"/>
                </a:lnTo>
                <a:lnTo>
                  <a:pt x="649" y="74"/>
                </a:lnTo>
                <a:lnTo>
                  <a:pt x="781" y="89"/>
                </a:lnTo>
                <a:lnTo>
                  <a:pt x="802" y="94"/>
                </a:lnTo>
                <a:lnTo>
                  <a:pt x="925" y="108"/>
                </a:lnTo>
                <a:lnTo>
                  <a:pt x="927" y="108"/>
                </a:lnTo>
                <a:lnTo>
                  <a:pt x="949" y="109"/>
                </a:lnTo>
                <a:lnTo>
                  <a:pt x="967" y="112"/>
                </a:lnTo>
                <a:lnTo>
                  <a:pt x="970" y="112"/>
                </a:lnTo>
                <a:lnTo>
                  <a:pt x="985" y="111"/>
                </a:lnTo>
                <a:lnTo>
                  <a:pt x="1123" y="123"/>
                </a:lnTo>
                <a:lnTo>
                  <a:pt x="1132" y="125"/>
                </a:lnTo>
                <a:lnTo>
                  <a:pt x="1166" y="128"/>
                </a:lnTo>
                <a:lnTo>
                  <a:pt x="1183" y="129"/>
                </a:lnTo>
                <a:lnTo>
                  <a:pt x="1297" y="139"/>
                </a:lnTo>
                <a:lnTo>
                  <a:pt x="1293" y="211"/>
                </a:lnTo>
                <a:lnTo>
                  <a:pt x="1291" y="264"/>
                </a:lnTo>
                <a:lnTo>
                  <a:pt x="1290" y="285"/>
                </a:lnTo>
                <a:lnTo>
                  <a:pt x="1286" y="359"/>
                </a:lnTo>
                <a:lnTo>
                  <a:pt x="1286" y="380"/>
                </a:lnTo>
                <a:lnTo>
                  <a:pt x="1285" y="391"/>
                </a:lnTo>
                <a:lnTo>
                  <a:pt x="1283" y="432"/>
                </a:lnTo>
                <a:lnTo>
                  <a:pt x="1281" y="476"/>
                </a:lnTo>
                <a:lnTo>
                  <a:pt x="1280" y="508"/>
                </a:lnTo>
                <a:lnTo>
                  <a:pt x="1278" y="545"/>
                </a:lnTo>
                <a:lnTo>
                  <a:pt x="1276" y="580"/>
                </a:lnTo>
                <a:lnTo>
                  <a:pt x="1276" y="581"/>
                </a:lnTo>
                <a:lnTo>
                  <a:pt x="1276" y="587"/>
                </a:lnTo>
                <a:lnTo>
                  <a:pt x="1274" y="618"/>
                </a:lnTo>
                <a:lnTo>
                  <a:pt x="1270" y="692"/>
                </a:lnTo>
                <a:lnTo>
                  <a:pt x="1269" y="729"/>
                </a:lnTo>
                <a:lnTo>
                  <a:pt x="1268" y="743"/>
                </a:lnTo>
                <a:lnTo>
                  <a:pt x="1267" y="783"/>
                </a:lnTo>
                <a:lnTo>
                  <a:pt x="1264" y="849"/>
                </a:lnTo>
                <a:lnTo>
                  <a:pt x="1259" y="952"/>
                </a:lnTo>
                <a:lnTo>
                  <a:pt x="1257" y="988"/>
                </a:lnTo>
                <a:lnTo>
                  <a:pt x="1256" y="1025"/>
                </a:lnTo>
                <a:lnTo>
                  <a:pt x="1253" y="1062"/>
                </a:lnTo>
                <a:lnTo>
                  <a:pt x="1251" y="1101"/>
                </a:lnTo>
                <a:lnTo>
                  <a:pt x="1251" y="1116"/>
                </a:lnTo>
                <a:lnTo>
                  <a:pt x="1250" y="1137"/>
                </a:lnTo>
                <a:lnTo>
                  <a:pt x="1249" y="1156"/>
                </a:lnTo>
                <a:lnTo>
                  <a:pt x="1248" y="1174"/>
                </a:lnTo>
                <a:lnTo>
                  <a:pt x="1246" y="1205"/>
                </a:lnTo>
                <a:lnTo>
                  <a:pt x="1245" y="1232"/>
                </a:lnTo>
                <a:lnTo>
                  <a:pt x="1242" y="1286"/>
                </a:lnTo>
                <a:lnTo>
                  <a:pt x="1241" y="1322"/>
                </a:lnTo>
                <a:lnTo>
                  <a:pt x="1137" y="1315"/>
                </a:lnTo>
                <a:lnTo>
                  <a:pt x="1094" y="1312"/>
                </a:lnTo>
                <a:lnTo>
                  <a:pt x="1082" y="1310"/>
                </a:lnTo>
                <a:lnTo>
                  <a:pt x="1050" y="1308"/>
                </a:lnTo>
                <a:lnTo>
                  <a:pt x="1028" y="1306"/>
                </a:lnTo>
                <a:lnTo>
                  <a:pt x="1023" y="1306"/>
                </a:lnTo>
                <a:lnTo>
                  <a:pt x="993" y="1303"/>
                </a:lnTo>
                <a:lnTo>
                  <a:pt x="882" y="1293"/>
                </a:lnTo>
                <a:lnTo>
                  <a:pt x="861" y="1291"/>
                </a:lnTo>
                <a:lnTo>
                  <a:pt x="858" y="1291"/>
                </a:lnTo>
                <a:lnTo>
                  <a:pt x="844" y="1289"/>
                </a:lnTo>
                <a:lnTo>
                  <a:pt x="837" y="1288"/>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2" name="Freeform 25"/>
          <p:cNvSpPr/>
          <p:nvPr/>
        </p:nvSpPr>
        <p:spPr>
          <a:xfrm>
            <a:off x="3895560" y="2760840"/>
            <a:ext cx="603360" cy="685800"/>
          </a:xfrm>
          <a:custGeom>
            <a:avLst/>
            <a:gdLst>
              <a:gd name="textAreaLeft" fmla="*/ 0 w 603360"/>
              <a:gd name="textAreaRight" fmla="*/ 603720 w 603360"/>
              <a:gd name="textAreaTop" fmla="*/ 0 h 685800"/>
              <a:gd name="textAreaBottom" fmla="*/ 686160 h 685800"/>
            </a:gdLst>
            <a:ahLst/>
            <a:rect l="textAreaLeft" t="textAreaTop" r="textAreaRight" b="textAreaBottom"/>
            <a:pathLst>
              <a:path w="996" h="1308">
                <a:moveTo>
                  <a:pt x="754" y="1279"/>
                </a:moveTo>
                <a:lnTo>
                  <a:pt x="748" y="1279"/>
                </a:lnTo>
                <a:lnTo>
                  <a:pt x="737" y="1281"/>
                </a:lnTo>
                <a:lnTo>
                  <a:pt x="725" y="1281"/>
                </a:lnTo>
                <a:lnTo>
                  <a:pt x="707" y="1282"/>
                </a:lnTo>
                <a:lnTo>
                  <a:pt x="671" y="1286"/>
                </a:lnTo>
                <a:lnTo>
                  <a:pt x="651" y="1288"/>
                </a:lnTo>
                <a:lnTo>
                  <a:pt x="649" y="1288"/>
                </a:lnTo>
                <a:lnTo>
                  <a:pt x="645" y="1288"/>
                </a:lnTo>
                <a:lnTo>
                  <a:pt x="644" y="1288"/>
                </a:lnTo>
                <a:lnTo>
                  <a:pt x="627" y="1289"/>
                </a:lnTo>
                <a:lnTo>
                  <a:pt x="605" y="1291"/>
                </a:lnTo>
                <a:lnTo>
                  <a:pt x="569" y="1295"/>
                </a:lnTo>
                <a:lnTo>
                  <a:pt x="562" y="1295"/>
                </a:lnTo>
                <a:lnTo>
                  <a:pt x="553" y="1296"/>
                </a:lnTo>
                <a:lnTo>
                  <a:pt x="531" y="1298"/>
                </a:lnTo>
                <a:lnTo>
                  <a:pt x="517" y="1299"/>
                </a:lnTo>
                <a:lnTo>
                  <a:pt x="466" y="1305"/>
                </a:lnTo>
                <a:lnTo>
                  <a:pt x="458" y="1305"/>
                </a:lnTo>
                <a:lnTo>
                  <a:pt x="439" y="1306"/>
                </a:lnTo>
                <a:lnTo>
                  <a:pt x="428" y="1308"/>
                </a:lnTo>
                <a:lnTo>
                  <a:pt x="416" y="1274"/>
                </a:lnTo>
                <a:lnTo>
                  <a:pt x="408" y="1268"/>
                </a:lnTo>
                <a:lnTo>
                  <a:pt x="381" y="1262"/>
                </a:lnTo>
                <a:lnTo>
                  <a:pt x="352" y="1242"/>
                </a:lnTo>
                <a:lnTo>
                  <a:pt x="345" y="1205"/>
                </a:lnTo>
                <a:lnTo>
                  <a:pt x="331" y="1173"/>
                </a:lnTo>
                <a:lnTo>
                  <a:pt x="330" y="1169"/>
                </a:lnTo>
                <a:lnTo>
                  <a:pt x="326" y="1147"/>
                </a:lnTo>
                <a:lnTo>
                  <a:pt x="326" y="1146"/>
                </a:lnTo>
                <a:lnTo>
                  <a:pt x="344" y="1093"/>
                </a:lnTo>
                <a:lnTo>
                  <a:pt x="317" y="1049"/>
                </a:lnTo>
                <a:lnTo>
                  <a:pt x="316" y="1045"/>
                </a:lnTo>
                <a:lnTo>
                  <a:pt x="313" y="1022"/>
                </a:lnTo>
                <a:lnTo>
                  <a:pt x="308" y="997"/>
                </a:lnTo>
                <a:lnTo>
                  <a:pt x="301" y="988"/>
                </a:lnTo>
                <a:lnTo>
                  <a:pt x="301" y="956"/>
                </a:lnTo>
                <a:lnTo>
                  <a:pt x="302" y="946"/>
                </a:lnTo>
                <a:lnTo>
                  <a:pt x="302" y="940"/>
                </a:lnTo>
                <a:lnTo>
                  <a:pt x="296" y="920"/>
                </a:lnTo>
                <a:lnTo>
                  <a:pt x="293" y="919"/>
                </a:lnTo>
                <a:lnTo>
                  <a:pt x="278" y="893"/>
                </a:lnTo>
                <a:lnTo>
                  <a:pt x="269" y="882"/>
                </a:lnTo>
                <a:lnTo>
                  <a:pt x="267" y="878"/>
                </a:lnTo>
                <a:lnTo>
                  <a:pt x="256" y="874"/>
                </a:lnTo>
                <a:lnTo>
                  <a:pt x="245" y="872"/>
                </a:lnTo>
                <a:lnTo>
                  <a:pt x="234" y="864"/>
                </a:lnTo>
                <a:lnTo>
                  <a:pt x="218" y="844"/>
                </a:lnTo>
                <a:lnTo>
                  <a:pt x="192" y="825"/>
                </a:lnTo>
                <a:lnTo>
                  <a:pt x="186" y="810"/>
                </a:lnTo>
                <a:lnTo>
                  <a:pt x="165" y="774"/>
                </a:lnTo>
                <a:lnTo>
                  <a:pt x="150" y="766"/>
                </a:lnTo>
                <a:lnTo>
                  <a:pt x="142" y="762"/>
                </a:lnTo>
                <a:lnTo>
                  <a:pt x="128" y="757"/>
                </a:lnTo>
                <a:lnTo>
                  <a:pt x="123" y="753"/>
                </a:lnTo>
                <a:lnTo>
                  <a:pt x="113" y="740"/>
                </a:lnTo>
                <a:lnTo>
                  <a:pt x="110" y="730"/>
                </a:lnTo>
                <a:lnTo>
                  <a:pt x="109" y="729"/>
                </a:lnTo>
                <a:lnTo>
                  <a:pt x="78" y="723"/>
                </a:lnTo>
                <a:lnTo>
                  <a:pt x="43" y="689"/>
                </a:lnTo>
                <a:lnTo>
                  <a:pt x="37" y="682"/>
                </a:lnTo>
                <a:lnTo>
                  <a:pt x="25" y="674"/>
                </a:lnTo>
                <a:lnTo>
                  <a:pt x="28" y="640"/>
                </a:lnTo>
                <a:lnTo>
                  <a:pt x="27" y="598"/>
                </a:lnTo>
                <a:lnTo>
                  <a:pt x="29" y="562"/>
                </a:lnTo>
                <a:lnTo>
                  <a:pt x="26" y="536"/>
                </a:lnTo>
                <a:lnTo>
                  <a:pt x="27" y="535"/>
                </a:lnTo>
                <a:lnTo>
                  <a:pt x="26" y="525"/>
                </a:lnTo>
                <a:lnTo>
                  <a:pt x="27" y="512"/>
                </a:lnTo>
                <a:lnTo>
                  <a:pt x="32" y="451"/>
                </a:lnTo>
                <a:lnTo>
                  <a:pt x="24" y="435"/>
                </a:lnTo>
                <a:lnTo>
                  <a:pt x="0" y="410"/>
                </a:lnTo>
                <a:lnTo>
                  <a:pt x="5" y="384"/>
                </a:lnTo>
                <a:lnTo>
                  <a:pt x="6" y="384"/>
                </a:lnTo>
                <a:lnTo>
                  <a:pt x="20" y="350"/>
                </a:lnTo>
                <a:lnTo>
                  <a:pt x="93" y="278"/>
                </a:lnTo>
                <a:lnTo>
                  <a:pt x="92" y="252"/>
                </a:lnTo>
                <a:lnTo>
                  <a:pt x="89" y="177"/>
                </a:lnTo>
                <a:lnTo>
                  <a:pt x="88" y="153"/>
                </a:lnTo>
                <a:lnTo>
                  <a:pt x="85" y="116"/>
                </a:lnTo>
                <a:lnTo>
                  <a:pt x="85" y="105"/>
                </a:lnTo>
                <a:lnTo>
                  <a:pt x="92" y="106"/>
                </a:lnTo>
                <a:lnTo>
                  <a:pt x="117" y="76"/>
                </a:lnTo>
                <a:lnTo>
                  <a:pt x="131" y="88"/>
                </a:lnTo>
                <a:lnTo>
                  <a:pt x="132" y="91"/>
                </a:lnTo>
                <a:lnTo>
                  <a:pt x="165" y="89"/>
                </a:lnTo>
                <a:lnTo>
                  <a:pt x="205" y="68"/>
                </a:lnTo>
                <a:lnTo>
                  <a:pt x="234" y="55"/>
                </a:lnTo>
                <a:lnTo>
                  <a:pt x="262" y="28"/>
                </a:lnTo>
                <a:lnTo>
                  <a:pt x="274" y="33"/>
                </a:lnTo>
                <a:lnTo>
                  <a:pt x="314" y="0"/>
                </a:lnTo>
                <a:lnTo>
                  <a:pt x="332" y="23"/>
                </a:lnTo>
                <a:lnTo>
                  <a:pt x="315" y="61"/>
                </a:lnTo>
                <a:lnTo>
                  <a:pt x="318" y="82"/>
                </a:lnTo>
                <a:lnTo>
                  <a:pt x="310" y="98"/>
                </a:lnTo>
                <a:lnTo>
                  <a:pt x="312" y="109"/>
                </a:lnTo>
                <a:lnTo>
                  <a:pt x="332" y="96"/>
                </a:lnTo>
                <a:lnTo>
                  <a:pt x="338" y="74"/>
                </a:lnTo>
                <a:lnTo>
                  <a:pt x="373" y="105"/>
                </a:lnTo>
                <a:lnTo>
                  <a:pt x="381" y="103"/>
                </a:lnTo>
                <a:lnTo>
                  <a:pt x="393" y="109"/>
                </a:lnTo>
                <a:lnTo>
                  <a:pt x="395" y="108"/>
                </a:lnTo>
                <a:lnTo>
                  <a:pt x="429" y="125"/>
                </a:lnTo>
                <a:lnTo>
                  <a:pt x="448" y="162"/>
                </a:lnTo>
                <a:lnTo>
                  <a:pt x="481" y="179"/>
                </a:lnTo>
                <a:lnTo>
                  <a:pt x="493" y="181"/>
                </a:lnTo>
                <a:lnTo>
                  <a:pt x="623" y="211"/>
                </a:lnTo>
                <a:lnTo>
                  <a:pt x="640" y="221"/>
                </a:lnTo>
                <a:lnTo>
                  <a:pt x="650" y="227"/>
                </a:lnTo>
                <a:lnTo>
                  <a:pt x="666" y="237"/>
                </a:lnTo>
                <a:lnTo>
                  <a:pt x="683" y="237"/>
                </a:lnTo>
                <a:lnTo>
                  <a:pt x="692" y="240"/>
                </a:lnTo>
                <a:lnTo>
                  <a:pt x="703" y="247"/>
                </a:lnTo>
                <a:lnTo>
                  <a:pt x="724" y="241"/>
                </a:lnTo>
                <a:lnTo>
                  <a:pt x="765" y="247"/>
                </a:lnTo>
                <a:lnTo>
                  <a:pt x="788" y="255"/>
                </a:lnTo>
                <a:lnTo>
                  <a:pt x="797" y="268"/>
                </a:lnTo>
                <a:lnTo>
                  <a:pt x="789" y="289"/>
                </a:lnTo>
                <a:lnTo>
                  <a:pt x="802" y="296"/>
                </a:lnTo>
                <a:lnTo>
                  <a:pt x="812" y="291"/>
                </a:lnTo>
                <a:lnTo>
                  <a:pt x="813" y="296"/>
                </a:lnTo>
                <a:lnTo>
                  <a:pt x="834" y="301"/>
                </a:lnTo>
                <a:lnTo>
                  <a:pt x="839" y="309"/>
                </a:lnTo>
                <a:lnTo>
                  <a:pt x="881" y="481"/>
                </a:lnTo>
                <a:lnTo>
                  <a:pt x="897" y="486"/>
                </a:lnTo>
                <a:lnTo>
                  <a:pt x="892" y="509"/>
                </a:lnTo>
                <a:lnTo>
                  <a:pt x="892" y="516"/>
                </a:lnTo>
                <a:lnTo>
                  <a:pt x="871" y="529"/>
                </a:lnTo>
                <a:lnTo>
                  <a:pt x="841" y="601"/>
                </a:lnTo>
                <a:lnTo>
                  <a:pt x="840" y="601"/>
                </a:lnTo>
                <a:lnTo>
                  <a:pt x="839" y="618"/>
                </a:lnTo>
                <a:lnTo>
                  <a:pt x="839" y="637"/>
                </a:lnTo>
                <a:lnTo>
                  <a:pt x="859" y="638"/>
                </a:lnTo>
                <a:lnTo>
                  <a:pt x="877" y="623"/>
                </a:lnTo>
                <a:lnTo>
                  <a:pt x="880" y="620"/>
                </a:lnTo>
                <a:lnTo>
                  <a:pt x="880" y="618"/>
                </a:lnTo>
                <a:lnTo>
                  <a:pt x="882" y="613"/>
                </a:lnTo>
                <a:lnTo>
                  <a:pt x="887" y="591"/>
                </a:lnTo>
                <a:lnTo>
                  <a:pt x="916" y="553"/>
                </a:lnTo>
                <a:lnTo>
                  <a:pt x="948" y="489"/>
                </a:lnTo>
                <a:lnTo>
                  <a:pt x="952" y="469"/>
                </a:lnTo>
                <a:lnTo>
                  <a:pt x="971" y="442"/>
                </a:lnTo>
                <a:lnTo>
                  <a:pt x="972" y="431"/>
                </a:lnTo>
                <a:lnTo>
                  <a:pt x="991" y="414"/>
                </a:lnTo>
                <a:lnTo>
                  <a:pt x="996" y="430"/>
                </a:lnTo>
                <a:lnTo>
                  <a:pt x="943" y="606"/>
                </a:lnTo>
                <a:lnTo>
                  <a:pt x="943" y="607"/>
                </a:lnTo>
                <a:lnTo>
                  <a:pt x="929" y="659"/>
                </a:lnTo>
                <a:lnTo>
                  <a:pt x="923" y="712"/>
                </a:lnTo>
                <a:lnTo>
                  <a:pt x="929" y="735"/>
                </a:lnTo>
                <a:lnTo>
                  <a:pt x="906" y="811"/>
                </a:lnTo>
                <a:lnTo>
                  <a:pt x="901" y="844"/>
                </a:lnTo>
                <a:lnTo>
                  <a:pt x="909" y="886"/>
                </a:lnTo>
                <a:lnTo>
                  <a:pt x="905" y="925"/>
                </a:lnTo>
                <a:lnTo>
                  <a:pt x="899" y="949"/>
                </a:lnTo>
                <a:lnTo>
                  <a:pt x="900" y="961"/>
                </a:lnTo>
                <a:lnTo>
                  <a:pt x="889" y="1000"/>
                </a:lnTo>
                <a:lnTo>
                  <a:pt x="885" y="1037"/>
                </a:lnTo>
                <a:lnTo>
                  <a:pt x="890" y="1054"/>
                </a:lnTo>
                <a:lnTo>
                  <a:pt x="891" y="1074"/>
                </a:lnTo>
                <a:lnTo>
                  <a:pt x="897" y="1110"/>
                </a:lnTo>
                <a:lnTo>
                  <a:pt x="911" y="1156"/>
                </a:lnTo>
                <a:lnTo>
                  <a:pt x="920" y="1181"/>
                </a:lnTo>
                <a:lnTo>
                  <a:pt x="919" y="1207"/>
                </a:lnTo>
                <a:lnTo>
                  <a:pt x="916" y="1220"/>
                </a:lnTo>
                <a:lnTo>
                  <a:pt x="923" y="1258"/>
                </a:lnTo>
                <a:lnTo>
                  <a:pt x="889" y="1262"/>
                </a:lnTo>
                <a:lnTo>
                  <a:pt x="867" y="1265"/>
                </a:lnTo>
                <a:lnTo>
                  <a:pt x="853" y="1266"/>
                </a:lnTo>
                <a:lnTo>
                  <a:pt x="845" y="1268"/>
                </a:lnTo>
                <a:lnTo>
                  <a:pt x="843" y="1268"/>
                </a:lnTo>
                <a:lnTo>
                  <a:pt x="835" y="1269"/>
                </a:lnTo>
                <a:lnTo>
                  <a:pt x="780" y="1275"/>
                </a:lnTo>
                <a:lnTo>
                  <a:pt x="771" y="1276"/>
                </a:lnTo>
                <a:lnTo>
                  <a:pt x="765" y="1278"/>
                </a:lnTo>
                <a:lnTo>
                  <a:pt x="759" y="1278"/>
                </a:lnTo>
                <a:lnTo>
                  <a:pt x="756" y="1279"/>
                </a:lnTo>
                <a:lnTo>
                  <a:pt x="754" y="1279"/>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3" name="Freeform 26"/>
          <p:cNvSpPr/>
          <p:nvPr/>
        </p:nvSpPr>
        <p:spPr>
          <a:xfrm>
            <a:off x="4084560" y="3421080"/>
            <a:ext cx="457200" cy="869760"/>
          </a:xfrm>
          <a:custGeom>
            <a:avLst/>
            <a:gdLst>
              <a:gd name="textAreaLeft" fmla="*/ 0 w 457200"/>
              <a:gd name="textAreaRight" fmla="*/ 457560 w 457200"/>
              <a:gd name="textAreaTop" fmla="*/ 0 h 869760"/>
              <a:gd name="textAreaBottom" fmla="*/ 870120 h 869760"/>
            </a:gdLst>
            <a:ahLst/>
            <a:rect l="textAreaLeft" t="textAreaTop" r="textAreaRight" b="textAreaBottom"/>
            <a:pathLst>
              <a:path w="754" h="1664">
                <a:moveTo>
                  <a:pt x="0" y="747"/>
                </a:moveTo>
                <a:lnTo>
                  <a:pt x="0" y="735"/>
                </a:lnTo>
                <a:lnTo>
                  <a:pt x="0" y="733"/>
                </a:lnTo>
                <a:lnTo>
                  <a:pt x="8" y="698"/>
                </a:lnTo>
                <a:lnTo>
                  <a:pt x="10" y="696"/>
                </a:lnTo>
                <a:lnTo>
                  <a:pt x="12" y="693"/>
                </a:lnTo>
                <a:lnTo>
                  <a:pt x="19" y="688"/>
                </a:lnTo>
                <a:lnTo>
                  <a:pt x="17" y="632"/>
                </a:lnTo>
                <a:lnTo>
                  <a:pt x="50" y="613"/>
                </a:lnTo>
                <a:lnTo>
                  <a:pt x="58" y="606"/>
                </a:lnTo>
                <a:lnTo>
                  <a:pt x="61" y="603"/>
                </a:lnTo>
                <a:lnTo>
                  <a:pt x="62" y="594"/>
                </a:lnTo>
                <a:lnTo>
                  <a:pt x="62" y="579"/>
                </a:lnTo>
                <a:lnTo>
                  <a:pt x="86" y="502"/>
                </a:lnTo>
                <a:lnTo>
                  <a:pt x="85" y="481"/>
                </a:lnTo>
                <a:lnTo>
                  <a:pt x="74" y="454"/>
                </a:lnTo>
                <a:lnTo>
                  <a:pt x="53" y="430"/>
                </a:lnTo>
                <a:lnTo>
                  <a:pt x="58" y="404"/>
                </a:lnTo>
                <a:lnTo>
                  <a:pt x="61" y="391"/>
                </a:lnTo>
                <a:lnTo>
                  <a:pt x="70" y="376"/>
                </a:lnTo>
                <a:lnTo>
                  <a:pt x="107" y="364"/>
                </a:lnTo>
                <a:lnTo>
                  <a:pt x="157" y="340"/>
                </a:lnTo>
                <a:lnTo>
                  <a:pt x="178" y="322"/>
                </a:lnTo>
                <a:lnTo>
                  <a:pt x="185" y="275"/>
                </a:lnTo>
                <a:lnTo>
                  <a:pt x="187" y="268"/>
                </a:lnTo>
                <a:lnTo>
                  <a:pt x="197" y="259"/>
                </a:lnTo>
                <a:lnTo>
                  <a:pt x="198" y="258"/>
                </a:lnTo>
                <a:lnTo>
                  <a:pt x="208" y="230"/>
                </a:lnTo>
                <a:lnTo>
                  <a:pt x="210" y="213"/>
                </a:lnTo>
                <a:lnTo>
                  <a:pt x="211" y="191"/>
                </a:lnTo>
                <a:lnTo>
                  <a:pt x="211" y="190"/>
                </a:lnTo>
                <a:lnTo>
                  <a:pt x="208" y="181"/>
                </a:lnTo>
                <a:lnTo>
                  <a:pt x="203" y="155"/>
                </a:lnTo>
                <a:lnTo>
                  <a:pt x="184" y="142"/>
                </a:lnTo>
                <a:lnTo>
                  <a:pt x="176" y="136"/>
                </a:lnTo>
                <a:lnTo>
                  <a:pt x="163" y="130"/>
                </a:lnTo>
                <a:lnTo>
                  <a:pt x="159" y="123"/>
                </a:lnTo>
                <a:lnTo>
                  <a:pt x="146" y="84"/>
                </a:lnTo>
                <a:lnTo>
                  <a:pt x="119" y="64"/>
                </a:lnTo>
                <a:lnTo>
                  <a:pt x="114" y="51"/>
                </a:lnTo>
                <a:lnTo>
                  <a:pt x="114" y="50"/>
                </a:lnTo>
                <a:lnTo>
                  <a:pt x="125" y="48"/>
                </a:lnTo>
                <a:lnTo>
                  <a:pt x="144" y="47"/>
                </a:lnTo>
                <a:lnTo>
                  <a:pt x="152" y="47"/>
                </a:lnTo>
                <a:lnTo>
                  <a:pt x="203" y="41"/>
                </a:lnTo>
                <a:lnTo>
                  <a:pt x="217" y="40"/>
                </a:lnTo>
                <a:lnTo>
                  <a:pt x="239" y="38"/>
                </a:lnTo>
                <a:lnTo>
                  <a:pt x="248" y="37"/>
                </a:lnTo>
                <a:lnTo>
                  <a:pt x="255" y="37"/>
                </a:lnTo>
                <a:lnTo>
                  <a:pt x="291" y="33"/>
                </a:lnTo>
                <a:lnTo>
                  <a:pt x="313" y="31"/>
                </a:lnTo>
                <a:lnTo>
                  <a:pt x="330" y="30"/>
                </a:lnTo>
                <a:lnTo>
                  <a:pt x="331" y="30"/>
                </a:lnTo>
                <a:lnTo>
                  <a:pt x="335" y="30"/>
                </a:lnTo>
                <a:lnTo>
                  <a:pt x="337" y="30"/>
                </a:lnTo>
                <a:lnTo>
                  <a:pt x="357" y="28"/>
                </a:lnTo>
                <a:lnTo>
                  <a:pt x="393" y="24"/>
                </a:lnTo>
                <a:lnTo>
                  <a:pt x="411" y="23"/>
                </a:lnTo>
                <a:lnTo>
                  <a:pt x="423" y="23"/>
                </a:lnTo>
                <a:lnTo>
                  <a:pt x="434" y="21"/>
                </a:lnTo>
                <a:lnTo>
                  <a:pt x="440" y="21"/>
                </a:lnTo>
                <a:lnTo>
                  <a:pt x="442" y="21"/>
                </a:lnTo>
                <a:lnTo>
                  <a:pt x="445" y="20"/>
                </a:lnTo>
                <a:lnTo>
                  <a:pt x="451" y="20"/>
                </a:lnTo>
                <a:lnTo>
                  <a:pt x="457" y="18"/>
                </a:lnTo>
                <a:lnTo>
                  <a:pt x="466" y="17"/>
                </a:lnTo>
                <a:lnTo>
                  <a:pt x="521" y="11"/>
                </a:lnTo>
                <a:lnTo>
                  <a:pt x="529" y="10"/>
                </a:lnTo>
                <a:lnTo>
                  <a:pt x="531" y="10"/>
                </a:lnTo>
                <a:lnTo>
                  <a:pt x="539" y="8"/>
                </a:lnTo>
                <a:lnTo>
                  <a:pt x="553" y="7"/>
                </a:lnTo>
                <a:lnTo>
                  <a:pt x="575" y="4"/>
                </a:lnTo>
                <a:lnTo>
                  <a:pt x="609" y="0"/>
                </a:lnTo>
                <a:lnTo>
                  <a:pt x="610" y="35"/>
                </a:lnTo>
                <a:lnTo>
                  <a:pt x="611" y="72"/>
                </a:lnTo>
                <a:lnTo>
                  <a:pt x="625" y="101"/>
                </a:lnTo>
                <a:lnTo>
                  <a:pt x="647" y="143"/>
                </a:lnTo>
                <a:lnTo>
                  <a:pt x="658" y="179"/>
                </a:lnTo>
                <a:lnTo>
                  <a:pt x="677" y="225"/>
                </a:lnTo>
                <a:lnTo>
                  <a:pt x="680" y="271"/>
                </a:lnTo>
                <a:lnTo>
                  <a:pt x="681" y="279"/>
                </a:lnTo>
                <a:lnTo>
                  <a:pt x="682" y="298"/>
                </a:lnTo>
                <a:lnTo>
                  <a:pt x="685" y="325"/>
                </a:lnTo>
                <a:lnTo>
                  <a:pt x="686" y="337"/>
                </a:lnTo>
                <a:lnTo>
                  <a:pt x="686" y="347"/>
                </a:lnTo>
                <a:lnTo>
                  <a:pt x="687" y="354"/>
                </a:lnTo>
                <a:lnTo>
                  <a:pt x="687" y="363"/>
                </a:lnTo>
                <a:lnTo>
                  <a:pt x="689" y="387"/>
                </a:lnTo>
                <a:lnTo>
                  <a:pt x="690" y="400"/>
                </a:lnTo>
                <a:lnTo>
                  <a:pt x="691" y="411"/>
                </a:lnTo>
                <a:lnTo>
                  <a:pt x="694" y="434"/>
                </a:lnTo>
                <a:lnTo>
                  <a:pt x="694" y="437"/>
                </a:lnTo>
                <a:lnTo>
                  <a:pt x="695" y="452"/>
                </a:lnTo>
                <a:lnTo>
                  <a:pt x="701" y="515"/>
                </a:lnTo>
                <a:lnTo>
                  <a:pt x="703" y="547"/>
                </a:lnTo>
                <a:lnTo>
                  <a:pt x="704" y="564"/>
                </a:lnTo>
                <a:lnTo>
                  <a:pt x="706" y="587"/>
                </a:lnTo>
                <a:lnTo>
                  <a:pt x="706" y="591"/>
                </a:lnTo>
                <a:lnTo>
                  <a:pt x="709" y="614"/>
                </a:lnTo>
                <a:lnTo>
                  <a:pt x="710" y="640"/>
                </a:lnTo>
                <a:lnTo>
                  <a:pt x="714" y="689"/>
                </a:lnTo>
                <a:lnTo>
                  <a:pt x="714" y="696"/>
                </a:lnTo>
                <a:lnTo>
                  <a:pt x="715" y="715"/>
                </a:lnTo>
                <a:lnTo>
                  <a:pt x="720" y="769"/>
                </a:lnTo>
                <a:lnTo>
                  <a:pt x="722" y="790"/>
                </a:lnTo>
                <a:lnTo>
                  <a:pt x="725" y="824"/>
                </a:lnTo>
                <a:lnTo>
                  <a:pt x="727" y="849"/>
                </a:lnTo>
                <a:lnTo>
                  <a:pt x="730" y="882"/>
                </a:lnTo>
                <a:lnTo>
                  <a:pt x="730" y="888"/>
                </a:lnTo>
                <a:lnTo>
                  <a:pt x="734" y="927"/>
                </a:lnTo>
                <a:lnTo>
                  <a:pt x="734" y="926"/>
                </a:lnTo>
                <a:lnTo>
                  <a:pt x="722" y="954"/>
                </a:lnTo>
                <a:lnTo>
                  <a:pt x="725" y="957"/>
                </a:lnTo>
                <a:lnTo>
                  <a:pt x="728" y="956"/>
                </a:lnTo>
                <a:lnTo>
                  <a:pt x="721" y="986"/>
                </a:lnTo>
                <a:lnTo>
                  <a:pt x="722" y="1001"/>
                </a:lnTo>
                <a:lnTo>
                  <a:pt x="734" y="1032"/>
                </a:lnTo>
                <a:lnTo>
                  <a:pt x="746" y="1059"/>
                </a:lnTo>
                <a:lnTo>
                  <a:pt x="743" y="1064"/>
                </a:lnTo>
                <a:lnTo>
                  <a:pt x="743" y="1068"/>
                </a:lnTo>
                <a:lnTo>
                  <a:pt x="746" y="1074"/>
                </a:lnTo>
                <a:lnTo>
                  <a:pt x="754" y="1108"/>
                </a:lnTo>
                <a:lnTo>
                  <a:pt x="736" y="1156"/>
                </a:lnTo>
                <a:lnTo>
                  <a:pt x="731" y="1162"/>
                </a:lnTo>
                <a:lnTo>
                  <a:pt x="728" y="1183"/>
                </a:lnTo>
                <a:lnTo>
                  <a:pt x="715" y="1193"/>
                </a:lnTo>
                <a:lnTo>
                  <a:pt x="718" y="1210"/>
                </a:lnTo>
                <a:lnTo>
                  <a:pt x="712" y="1224"/>
                </a:lnTo>
                <a:lnTo>
                  <a:pt x="682" y="1264"/>
                </a:lnTo>
                <a:lnTo>
                  <a:pt x="677" y="1262"/>
                </a:lnTo>
                <a:lnTo>
                  <a:pt x="678" y="1264"/>
                </a:lnTo>
                <a:lnTo>
                  <a:pt x="679" y="1269"/>
                </a:lnTo>
                <a:lnTo>
                  <a:pt x="682" y="1301"/>
                </a:lnTo>
                <a:lnTo>
                  <a:pt x="680" y="1323"/>
                </a:lnTo>
                <a:lnTo>
                  <a:pt x="666" y="1373"/>
                </a:lnTo>
                <a:lnTo>
                  <a:pt x="670" y="1377"/>
                </a:lnTo>
                <a:lnTo>
                  <a:pt x="680" y="1398"/>
                </a:lnTo>
                <a:lnTo>
                  <a:pt x="664" y="1428"/>
                </a:lnTo>
                <a:lnTo>
                  <a:pt x="662" y="1454"/>
                </a:lnTo>
                <a:lnTo>
                  <a:pt x="666" y="1468"/>
                </a:lnTo>
                <a:lnTo>
                  <a:pt x="667" y="1469"/>
                </a:lnTo>
                <a:lnTo>
                  <a:pt x="681" y="1488"/>
                </a:lnTo>
                <a:lnTo>
                  <a:pt x="670" y="1499"/>
                </a:lnTo>
                <a:lnTo>
                  <a:pt x="647" y="1506"/>
                </a:lnTo>
                <a:lnTo>
                  <a:pt x="629" y="1523"/>
                </a:lnTo>
                <a:lnTo>
                  <a:pt x="627" y="1525"/>
                </a:lnTo>
                <a:lnTo>
                  <a:pt x="625" y="1523"/>
                </a:lnTo>
                <a:lnTo>
                  <a:pt x="617" y="1519"/>
                </a:lnTo>
                <a:lnTo>
                  <a:pt x="606" y="1571"/>
                </a:lnTo>
                <a:lnTo>
                  <a:pt x="621" y="1608"/>
                </a:lnTo>
                <a:lnTo>
                  <a:pt x="611" y="1627"/>
                </a:lnTo>
                <a:lnTo>
                  <a:pt x="610" y="1628"/>
                </a:lnTo>
                <a:lnTo>
                  <a:pt x="609" y="1628"/>
                </a:lnTo>
                <a:lnTo>
                  <a:pt x="598" y="1627"/>
                </a:lnTo>
                <a:lnTo>
                  <a:pt x="585" y="1614"/>
                </a:lnTo>
                <a:lnTo>
                  <a:pt x="561" y="1607"/>
                </a:lnTo>
                <a:lnTo>
                  <a:pt x="526" y="1588"/>
                </a:lnTo>
                <a:lnTo>
                  <a:pt x="526" y="1590"/>
                </a:lnTo>
                <a:lnTo>
                  <a:pt x="513" y="1591"/>
                </a:lnTo>
                <a:lnTo>
                  <a:pt x="490" y="1631"/>
                </a:lnTo>
                <a:lnTo>
                  <a:pt x="483" y="1641"/>
                </a:lnTo>
                <a:lnTo>
                  <a:pt x="482" y="1648"/>
                </a:lnTo>
                <a:lnTo>
                  <a:pt x="488" y="1661"/>
                </a:lnTo>
                <a:lnTo>
                  <a:pt x="469" y="1642"/>
                </a:lnTo>
                <a:lnTo>
                  <a:pt x="469" y="1664"/>
                </a:lnTo>
                <a:lnTo>
                  <a:pt x="459" y="1662"/>
                </a:lnTo>
                <a:lnTo>
                  <a:pt x="447" y="1654"/>
                </a:lnTo>
                <a:lnTo>
                  <a:pt x="426" y="1593"/>
                </a:lnTo>
                <a:lnTo>
                  <a:pt x="422" y="1593"/>
                </a:lnTo>
                <a:lnTo>
                  <a:pt x="419" y="1593"/>
                </a:lnTo>
                <a:lnTo>
                  <a:pt x="416" y="1574"/>
                </a:lnTo>
                <a:lnTo>
                  <a:pt x="421" y="1569"/>
                </a:lnTo>
                <a:lnTo>
                  <a:pt x="425" y="1566"/>
                </a:lnTo>
                <a:lnTo>
                  <a:pt x="431" y="1554"/>
                </a:lnTo>
                <a:lnTo>
                  <a:pt x="409" y="1499"/>
                </a:lnTo>
                <a:lnTo>
                  <a:pt x="409" y="1498"/>
                </a:lnTo>
                <a:lnTo>
                  <a:pt x="411" y="1483"/>
                </a:lnTo>
                <a:lnTo>
                  <a:pt x="378" y="1448"/>
                </a:lnTo>
                <a:lnTo>
                  <a:pt x="376" y="1432"/>
                </a:lnTo>
                <a:lnTo>
                  <a:pt x="352" y="1413"/>
                </a:lnTo>
                <a:lnTo>
                  <a:pt x="337" y="1411"/>
                </a:lnTo>
                <a:lnTo>
                  <a:pt x="326" y="1415"/>
                </a:lnTo>
                <a:lnTo>
                  <a:pt x="312" y="1390"/>
                </a:lnTo>
                <a:lnTo>
                  <a:pt x="288" y="1364"/>
                </a:lnTo>
                <a:lnTo>
                  <a:pt x="272" y="1357"/>
                </a:lnTo>
                <a:lnTo>
                  <a:pt x="264" y="1349"/>
                </a:lnTo>
                <a:lnTo>
                  <a:pt x="263" y="1346"/>
                </a:lnTo>
                <a:lnTo>
                  <a:pt x="241" y="1319"/>
                </a:lnTo>
                <a:lnTo>
                  <a:pt x="239" y="1312"/>
                </a:lnTo>
                <a:lnTo>
                  <a:pt x="241" y="1271"/>
                </a:lnTo>
                <a:lnTo>
                  <a:pt x="253" y="1235"/>
                </a:lnTo>
                <a:lnTo>
                  <a:pt x="254" y="1230"/>
                </a:lnTo>
                <a:lnTo>
                  <a:pt x="254" y="1228"/>
                </a:lnTo>
                <a:lnTo>
                  <a:pt x="255" y="1225"/>
                </a:lnTo>
                <a:lnTo>
                  <a:pt x="256" y="1221"/>
                </a:lnTo>
                <a:lnTo>
                  <a:pt x="266" y="1196"/>
                </a:lnTo>
                <a:lnTo>
                  <a:pt x="266" y="1186"/>
                </a:lnTo>
                <a:lnTo>
                  <a:pt x="265" y="1159"/>
                </a:lnTo>
                <a:lnTo>
                  <a:pt x="266" y="1152"/>
                </a:lnTo>
                <a:lnTo>
                  <a:pt x="273" y="1144"/>
                </a:lnTo>
                <a:lnTo>
                  <a:pt x="274" y="1143"/>
                </a:lnTo>
                <a:lnTo>
                  <a:pt x="275" y="1142"/>
                </a:lnTo>
                <a:lnTo>
                  <a:pt x="273" y="1127"/>
                </a:lnTo>
                <a:lnTo>
                  <a:pt x="249" y="1110"/>
                </a:lnTo>
                <a:lnTo>
                  <a:pt x="243" y="1109"/>
                </a:lnTo>
                <a:lnTo>
                  <a:pt x="233" y="1106"/>
                </a:lnTo>
                <a:lnTo>
                  <a:pt x="225" y="1102"/>
                </a:lnTo>
                <a:lnTo>
                  <a:pt x="211" y="1099"/>
                </a:lnTo>
                <a:lnTo>
                  <a:pt x="195" y="1127"/>
                </a:lnTo>
                <a:lnTo>
                  <a:pt x="189" y="1130"/>
                </a:lnTo>
                <a:lnTo>
                  <a:pt x="173" y="1112"/>
                </a:lnTo>
                <a:lnTo>
                  <a:pt x="168" y="1093"/>
                </a:lnTo>
                <a:lnTo>
                  <a:pt x="165" y="1055"/>
                </a:lnTo>
                <a:lnTo>
                  <a:pt x="158" y="1027"/>
                </a:lnTo>
                <a:lnTo>
                  <a:pt x="151" y="1015"/>
                </a:lnTo>
                <a:lnTo>
                  <a:pt x="133" y="993"/>
                </a:lnTo>
                <a:lnTo>
                  <a:pt x="115" y="979"/>
                </a:lnTo>
                <a:lnTo>
                  <a:pt x="103" y="971"/>
                </a:lnTo>
                <a:lnTo>
                  <a:pt x="82" y="939"/>
                </a:lnTo>
                <a:lnTo>
                  <a:pt x="73" y="937"/>
                </a:lnTo>
                <a:lnTo>
                  <a:pt x="69" y="923"/>
                </a:lnTo>
                <a:lnTo>
                  <a:pt x="53" y="909"/>
                </a:lnTo>
                <a:lnTo>
                  <a:pt x="49" y="903"/>
                </a:lnTo>
                <a:lnTo>
                  <a:pt x="43" y="899"/>
                </a:lnTo>
                <a:lnTo>
                  <a:pt x="42" y="898"/>
                </a:lnTo>
                <a:lnTo>
                  <a:pt x="31" y="881"/>
                </a:lnTo>
                <a:lnTo>
                  <a:pt x="32" y="878"/>
                </a:lnTo>
                <a:lnTo>
                  <a:pt x="28" y="862"/>
                </a:lnTo>
                <a:lnTo>
                  <a:pt x="15" y="844"/>
                </a:lnTo>
                <a:lnTo>
                  <a:pt x="16" y="823"/>
                </a:lnTo>
                <a:lnTo>
                  <a:pt x="9" y="807"/>
                </a:lnTo>
                <a:lnTo>
                  <a:pt x="0" y="770"/>
                </a:lnTo>
                <a:lnTo>
                  <a:pt x="0" y="747"/>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4" name="Freeform 27"/>
          <p:cNvSpPr/>
          <p:nvPr/>
        </p:nvSpPr>
        <p:spPr>
          <a:xfrm>
            <a:off x="3524400" y="3297240"/>
            <a:ext cx="688680" cy="485640"/>
          </a:xfrm>
          <a:custGeom>
            <a:avLst/>
            <a:gdLst>
              <a:gd name="textAreaLeft" fmla="*/ 0 w 688680"/>
              <a:gd name="textAreaRight" fmla="*/ 688680 w 688680"/>
              <a:gd name="textAreaTop" fmla="*/ 0 h 485640"/>
              <a:gd name="textAreaBottom" fmla="*/ 486000 h 485640"/>
            </a:gdLst>
            <a:ahLst/>
            <a:rect l="textAreaLeft" t="textAreaTop" r="textAreaRight" b="textAreaBottom"/>
            <a:pathLst>
              <a:path w="1140" h="929">
                <a:moveTo>
                  <a:pt x="536" y="27"/>
                </a:moveTo>
                <a:lnTo>
                  <a:pt x="509" y="29"/>
                </a:lnTo>
                <a:lnTo>
                  <a:pt x="474" y="30"/>
                </a:lnTo>
                <a:lnTo>
                  <a:pt x="471" y="30"/>
                </a:lnTo>
                <a:lnTo>
                  <a:pt x="453" y="32"/>
                </a:lnTo>
                <a:lnTo>
                  <a:pt x="452" y="32"/>
                </a:lnTo>
                <a:lnTo>
                  <a:pt x="449" y="32"/>
                </a:lnTo>
                <a:lnTo>
                  <a:pt x="405" y="33"/>
                </a:lnTo>
                <a:lnTo>
                  <a:pt x="384" y="35"/>
                </a:lnTo>
                <a:lnTo>
                  <a:pt x="372" y="35"/>
                </a:lnTo>
                <a:lnTo>
                  <a:pt x="336" y="36"/>
                </a:lnTo>
                <a:lnTo>
                  <a:pt x="320" y="37"/>
                </a:lnTo>
                <a:lnTo>
                  <a:pt x="301" y="37"/>
                </a:lnTo>
                <a:lnTo>
                  <a:pt x="298" y="37"/>
                </a:lnTo>
                <a:lnTo>
                  <a:pt x="291" y="39"/>
                </a:lnTo>
                <a:lnTo>
                  <a:pt x="255" y="40"/>
                </a:lnTo>
                <a:lnTo>
                  <a:pt x="233" y="40"/>
                </a:lnTo>
                <a:lnTo>
                  <a:pt x="210" y="42"/>
                </a:lnTo>
                <a:lnTo>
                  <a:pt x="199" y="42"/>
                </a:lnTo>
                <a:lnTo>
                  <a:pt x="153" y="43"/>
                </a:lnTo>
                <a:lnTo>
                  <a:pt x="147" y="43"/>
                </a:lnTo>
                <a:lnTo>
                  <a:pt x="128" y="43"/>
                </a:lnTo>
                <a:lnTo>
                  <a:pt x="116" y="44"/>
                </a:lnTo>
                <a:lnTo>
                  <a:pt x="104" y="44"/>
                </a:lnTo>
                <a:lnTo>
                  <a:pt x="94" y="44"/>
                </a:lnTo>
                <a:lnTo>
                  <a:pt x="61" y="46"/>
                </a:lnTo>
                <a:lnTo>
                  <a:pt x="40" y="46"/>
                </a:lnTo>
                <a:lnTo>
                  <a:pt x="26" y="46"/>
                </a:lnTo>
                <a:lnTo>
                  <a:pt x="18" y="46"/>
                </a:lnTo>
                <a:lnTo>
                  <a:pt x="1" y="46"/>
                </a:lnTo>
                <a:lnTo>
                  <a:pt x="14" y="83"/>
                </a:lnTo>
                <a:lnTo>
                  <a:pt x="10" y="118"/>
                </a:lnTo>
                <a:lnTo>
                  <a:pt x="19" y="130"/>
                </a:lnTo>
                <a:lnTo>
                  <a:pt x="29" y="158"/>
                </a:lnTo>
                <a:lnTo>
                  <a:pt x="27" y="169"/>
                </a:lnTo>
                <a:lnTo>
                  <a:pt x="19" y="181"/>
                </a:lnTo>
                <a:lnTo>
                  <a:pt x="20" y="208"/>
                </a:lnTo>
                <a:lnTo>
                  <a:pt x="13" y="222"/>
                </a:lnTo>
                <a:lnTo>
                  <a:pt x="0" y="283"/>
                </a:lnTo>
                <a:lnTo>
                  <a:pt x="21" y="315"/>
                </a:lnTo>
                <a:lnTo>
                  <a:pt x="21" y="325"/>
                </a:lnTo>
                <a:lnTo>
                  <a:pt x="26" y="342"/>
                </a:lnTo>
                <a:lnTo>
                  <a:pt x="32" y="347"/>
                </a:lnTo>
                <a:lnTo>
                  <a:pt x="48" y="409"/>
                </a:lnTo>
                <a:lnTo>
                  <a:pt x="52" y="416"/>
                </a:lnTo>
                <a:lnTo>
                  <a:pt x="52" y="419"/>
                </a:lnTo>
                <a:lnTo>
                  <a:pt x="48" y="427"/>
                </a:lnTo>
                <a:lnTo>
                  <a:pt x="61" y="454"/>
                </a:lnTo>
                <a:lnTo>
                  <a:pt x="64" y="477"/>
                </a:lnTo>
                <a:lnTo>
                  <a:pt x="69" y="491"/>
                </a:lnTo>
                <a:lnTo>
                  <a:pt x="78" y="491"/>
                </a:lnTo>
                <a:lnTo>
                  <a:pt x="88" y="530"/>
                </a:lnTo>
                <a:lnTo>
                  <a:pt x="90" y="532"/>
                </a:lnTo>
                <a:lnTo>
                  <a:pt x="96" y="565"/>
                </a:lnTo>
                <a:lnTo>
                  <a:pt x="91" y="585"/>
                </a:lnTo>
                <a:lnTo>
                  <a:pt x="93" y="602"/>
                </a:lnTo>
                <a:lnTo>
                  <a:pt x="114" y="627"/>
                </a:lnTo>
                <a:lnTo>
                  <a:pt x="114" y="636"/>
                </a:lnTo>
                <a:lnTo>
                  <a:pt x="113" y="639"/>
                </a:lnTo>
                <a:lnTo>
                  <a:pt x="114" y="647"/>
                </a:lnTo>
                <a:lnTo>
                  <a:pt x="125" y="670"/>
                </a:lnTo>
                <a:lnTo>
                  <a:pt x="137" y="701"/>
                </a:lnTo>
                <a:lnTo>
                  <a:pt x="130" y="712"/>
                </a:lnTo>
                <a:lnTo>
                  <a:pt x="129" y="731"/>
                </a:lnTo>
                <a:lnTo>
                  <a:pt x="137" y="731"/>
                </a:lnTo>
                <a:lnTo>
                  <a:pt x="139" y="737"/>
                </a:lnTo>
                <a:lnTo>
                  <a:pt x="137" y="739"/>
                </a:lnTo>
                <a:lnTo>
                  <a:pt x="139" y="749"/>
                </a:lnTo>
                <a:lnTo>
                  <a:pt x="137" y="768"/>
                </a:lnTo>
                <a:lnTo>
                  <a:pt x="137" y="771"/>
                </a:lnTo>
                <a:lnTo>
                  <a:pt x="138" y="772"/>
                </a:lnTo>
                <a:lnTo>
                  <a:pt x="140" y="786"/>
                </a:lnTo>
                <a:lnTo>
                  <a:pt x="149" y="816"/>
                </a:lnTo>
                <a:lnTo>
                  <a:pt x="150" y="817"/>
                </a:lnTo>
                <a:lnTo>
                  <a:pt x="148" y="825"/>
                </a:lnTo>
                <a:lnTo>
                  <a:pt x="147" y="851"/>
                </a:lnTo>
                <a:lnTo>
                  <a:pt x="138" y="861"/>
                </a:lnTo>
                <a:lnTo>
                  <a:pt x="163" y="904"/>
                </a:lnTo>
                <a:lnTo>
                  <a:pt x="160" y="910"/>
                </a:lnTo>
                <a:lnTo>
                  <a:pt x="163" y="910"/>
                </a:lnTo>
                <a:lnTo>
                  <a:pt x="208" y="910"/>
                </a:lnTo>
                <a:lnTo>
                  <a:pt x="231" y="910"/>
                </a:lnTo>
                <a:lnTo>
                  <a:pt x="252" y="910"/>
                </a:lnTo>
                <a:lnTo>
                  <a:pt x="260" y="910"/>
                </a:lnTo>
                <a:lnTo>
                  <a:pt x="297" y="908"/>
                </a:lnTo>
                <a:lnTo>
                  <a:pt x="312" y="908"/>
                </a:lnTo>
                <a:lnTo>
                  <a:pt x="341" y="908"/>
                </a:lnTo>
                <a:lnTo>
                  <a:pt x="363" y="907"/>
                </a:lnTo>
                <a:lnTo>
                  <a:pt x="387" y="907"/>
                </a:lnTo>
                <a:lnTo>
                  <a:pt x="392" y="907"/>
                </a:lnTo>
                <a:lnTo>
                  <a:pt x="432" y="904"/>
                </a:lnTo>
                <a:lnTo>
                  <a:pt x="435" y="904"/>
                </a:lnTo>
                <a:lnTo>
                  <a:pt x="473" y="903"/>
                </a:lnTo>
                <a:lnTo>
                  <a:pt x="476" y="901"/>
                </a:lnTo>
                <a:lnTo>
                  <a:pt x="516" y="898"/>
                </a:lnTo>
                <a:lnTo>
                  <a:pt x="517" y="898"/>
                </a:lnTo>
                <a:lnTo>
                  <a:pt x="521" y="898"/>
                </a:lnTo>
                <a:lnTo>
                  <a:pt x="555" y="895"/>
                </a:lnTo>
                <a:lnTo>
                  <a:pt x="565" y="895"/>
                </a:lnTo>
                <a:lnTo>
                  <a:pt x="576" y="894"/>
                </a:lnTo>
                <a:lnTo>
                  <a:pt x="588" y="894"/>
                </a:lnTo>
                <a:lnTo>
                  <a:pt x="610" y="893"/>
                </a:lnTo>
                <a:lnTo>
                  <a:pt x="637" y="890"/>
                </a:lnTo>
                <a:lnTo>
                  <a:pt x="655" y="888"/>
                </a:lnTo>
                <a:lnTo>
                  <a:pt x="700" y="884"/>
                </a:lnTo>
                <a:lnTo>
                  <a:pt x="706" y="883"/>
                </a:lnTo>
                <a:lnTo>
                  <a:pt x="720" y="883"/>
                </a:lnTo>
                <a:lnTo>
                  <a:pt x="745" y="880"/>
                </a:lnTo>
                <a:lnTo>
                  <a:pt x="771" y="877"/>
                </a:lnTo>
                <a:lnTo>
                  <a:pt x="789" y="876"/>
                </a:lnTo>
                <a:lnTo>
                  <a:pt x="792" y="876"/>
                </a:lnTo>
                <a:lnTo>
                  <a:pt x="802" y="874"/>
                </a:lnTo>
                <a:lnTo>
                  <a:pt x="823" y="871"/>
                </a:lnTo>
                <a:lnTo>
                  <a:pt x="829" y="871"/>
                </a:lnTo>
                <a:lnTo>
                  <a:pt x="844" y="870"/>
                </a:lnTo>
                <a:lnTo>
                  <a:pt x="882" y="864"/>
                </a:lnTo>
                <a:lnTo>
                  <a:pt x="884" y="867"/>
                </a:lnTo>
                <a:lnTo>
                  <a:pt x="884" y="868"/>
                </a:lnTo>
                <a:lnTo>
                  <a:pt x="901" y="884"/>
                </a:lnTo>
                <a:lnTo>
                  <a:pt x="925" y="924"/>
                </a:lnTo>
                <a:lnTo>
                  <a:pt x="941" y="929"/>
                </a:lnTo>
                <a:lnTo>
                  <a:pt x="948" y="924"/>
                </a:lnTo>
                <a:lnTo>
                  <a:pt x="946" y="868"/>
                </a:lnTo>
                <a:lnTo>
                  <a:pt x="979" y="849"/>
                </a:lnTo>
                <a:lnTo>
                  <a:pt x="987" y="842"/>
                </a:lnTo>
                <a:lnTo>
                  <a:pt x="990" y="839"/>
                </a:lnTo>
                <a:lnTo>
                  <a:pt x="991" y="830"/>
                </a:lnTo>
                <a:lnTo>
                  <a:pt x="991" y="815"/>
                </a:lnTo>
                <a:lnTo>
                  <a:pt x="1015" y="738"/>
                </a:lnTo>
                <a:lnTo>
                  <a:pt x="1014" y="717"/>
                </a:lnTo>
                <a:lnTo>
                  <a:pt x="1003" y="690"/>
                </a:lnTo>
                <a:lnTo>
                  <a:pt x="982" y="666"/>
                </a:lnTo>
                <a:lnTo>
                  <a:pt x="987" y="640"/>
                </a:lnTo>
                <a:lnTo>
                  <a:pt x="990" y="627"/>
                </a:lnTo>
                <a:lnTo>
                  <a:pt x="999" y="612"/>
                </a:lnTo>
                <a:lnTo>
                  <a:pt x="1036" y="600"/>
                </a:lnTo>
                <a:lnTo>
                  <a:pt x="1086" y="576"/>
                </a:lnTo>
                <a:lnTo>
                  <a:pt x="1107" y="558"/>
                </a:lnTo>
                <a:lnTo>
                  <a:pt x="1114" y="511"/>
                </a:lnTo>
                <a:lnTo>
                  <a:pt x="1116" y="504"/>
                </a:lnTo>
                <a:lnTo>
                  <a:pt x="1126" y="495"/>
                </a:lnTo>
                <a:lnTo>
                  <a:pt x="1127" y="494"/>
                </a:lnTo>
                <a:lnTo>
                  <a:pt x="1137" y="466"/>
                </a:lnTo>
                <a:lnTo>
                  <a:pt x="1139" y="449"/>
                </a:lnTo>
                <a:lnTo>
                  <a:pt x="1140" y="427"/>
                </a:lnTo>
                <a:lnTo>
                  <a:pt x="1140" y="426"/>
                </a:lnTo>
                <a:lnTo>
                  <a:pt x="1137" y="417"/>
                </a:lnTo>
                <a:lnTo>
                  <a:pt x="1132" y="391"/>
                </a:lnTo>
                <a:lnTo>
                  <a:pt x="1113" y="378"/>
                </a:lnTo>
                <a:lnTo>
                  <a:pt x="1105" y="372"/>
                </a:lnTo>
                <a:lnTo>
                  <a:pt x="1092" y="366"/>
                </a:lnTo>
                <a:lnTo>
                  <a:pt x="1088" y="359"/>
                </a:lnTo>
                <a:lnTo>
                  <a:pt x="1075" y="320"/>
                </a:lnTo>
                <a:lnTo>
                  <a:pt x="1048" y="300"/>
                </a:lnTo>
                <a:lnTo>
                  <a:pt x="1043" y="287"/>
                </a:lnTo>
                <a:lnTo>
                  <a:pt x="1043" y="286"/>
                </a:lnTo>
                <a:lnTo>
                  <a:pt x="1031" y="252"/>
                </a:lnTo>
                <a:lnTo>
                  <a:pt x="1023" y="246"/>
                </a:lnTo>
                <a:lnTo>
                  <a:pt x="996" y="240"/>
                </a:lnTo>
                <a:lnTo>
                  <a:pt x="967" y="220"/>
                </a:lnTo>
                <a:lnTo>
                  <a:pt x="960" y="183"/>
                </a:lnTo>
                <a:lnTo>
                  <a:pt x="946" y="151"/>
                </a:lnTo>
                <a:lnTo>
                  <a:pt x="945" y="147"/>
                </a:lnTo>
                <a:lnTo>
                  <a:pt x="941" y="125"/>
                </a:lnTo>
                <a:lnTo>
                  <a:pt x="941" y="124"/>
                </a:lnTo>
                <a:lnTo>
                  <a:pt x="959" y="71"/>
                </a:lnTo>
                <a:lnTo>
                  <a:pt x="932" y="27"/>
                </a:lnTo>
                <a:lnTo>
                  <a:pt x="931" y="23"/>
                </a:lnTo>
                <a:lnTo>
                  <a:pt x="928" y="0"/>
                </a:lnTo>
                <a:lnTo>
                  <a:pt x="922" y="0"/>
                </a:lnTo>
                <a:lnTo>
                  <a:pt x="909" y="2"/>
                </a:lnTo>
                <a:lnTo>
                  <a:pt x="859" y="5"/>
                </a:lnTo>
                <a:lnTo>
                  <a:pt x="857" y="6"/>
                </a:lnTo>
                <a:lnTo>
                  <a:pt x="839" y="8"/>
                </a:lnTo>
                <a:lnTo>
                  <a:pt x="779" y="12"/>
                </a:lnTo>
                <a:lnTo>
                  <a:pt x="715" y="16"/>
                </a:lnTo>
                <a:lnTo>
                  <a:pt x="698" y="18"/>
                </a:lnTo>
                <a:lnTo>
                  <a:pt x="620" y="22"/>
                </a:lnTo>
                <a:lnTo>
                  <a:pt x="617" y="23"/>
                </a:lnTo>
                <a:lnTo>
                  <a:pt x="612" y="23"/>
                </a:lnTo>
                <a:lnTo>
                  <a:pt x="556" y="26"/>
                </a:lnTo>
                <a:lnTo>
                  <a:pt x="552" y="26"/>
                </a:lnTo>
                <a:lnTo>
                  <a:pt x="536" y="27"/>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5" name="Freeform 28"/>
          <p:cNvSpPr/>
          <p:nvPr/>
        </p:nvSpPr>
        <p:spPr>
          <a:xfrm>
            <a:off x="2919240" y="3857760"/>
            <a:ext cx="843120" cy="480960"/>
          </a:xfrm>
          <a:custGeom>
            <a:avLst/>
            <a:gdLst>
              <a:gd name="textAreaLeft" fmla="*/ 0 w 843120"/>
              <a:gd name="textAreaRight" fmla="*/ 843480 w 843120"/>
              <a:gd name="textAreaTop" fmla="*/ 0 h 480960"/>
              <a:gd name="textAreaBottom" fmla="*/ 481320 h 480960"/>
            </a:gdLst>
            <a:ahLst/>
            <a:rect l="textAreaLeft" t="textAreaTop" r="textAreaRight" b="textAreaBottom"/>
            <a:pathLst>
              <a:path w="1393" h="917">
                <a:moveTo>
                  <a:pt x="1379" y="292"/>
                </a:moveTo>
                <a:lnTo>
                  <a:pt x="1379" y="312"/>
                </a:lnTo>
                <a:lnTo>
                  <a:pt x="1380" y="334"/>
                </a:lnTo>
                <a:lnTo>
                  <a:pt x="1380" y="351"/>
                </a:lnTo>
                <a:lnTo>
                  <a:pt x="1380" y="379"/>
                </a:lnTo>
                <a:lnTo>
                  <a:pt x="1380" y="383"/>
                </a:lnTo>
                <a:lnTo>
                  <a:pt x="1382" y="417"/>
                </a:lnTo>
                <a:lnTo>
                  <a:pt x="1383" y="454"/>
                </a:lnTo>
                <a:lnTo>
                  <a:pt x="1383" y="461"/>
                </a:lnTo>
                <a:lnTo>
                  <a:pt x="1383" y="488"/>
                </a:lnTo>
                <a:lnTo>
                  <a:pt x="1384" y="529"/>
                </a:lnTo>
                <a:lnTo>
                  <a:pt x="1385" y="559"/>
                </a:lnTo>
                <a:lnTo>
                  <a:pt x="1385" y="586"/>
                </a:lnTo>
                <a:lnTo>
                  <a:pt x="1386" y="593"/>
                </a:lnTo>
                <a:lnTo>
                  <a:pt x="1386" y="623"/>
                </a:lnTo>
                <a:lnTo>
                  <a:pt x="1387" y="667"/>
                </a:lnTo>
                <a:lnTo>
                  <a:pt x="1388" y="701"/>
                </a:lnTo>
                <a:lnTo>
                  <a:pt x="1388" y="707"/>
                </a:lnTo>
                <a:lnTo>
                  <a:pt x="1390" y="753"/>
                </a:lnTo>
                <a:lnTo>
                  <a:pt x="1391" y="790"/>
                </a:lnTo>
                <a:lnTo>
                  <a:pt x="1391" y="795"/>
                </a:lnTo>
                <a:lnTo>
                  <a:pt x="1391" y="802"/>
                </a:lnTo>
                <a:lnTo>
                  <a:pt x="1392" y="853"/>
                </a:lnTo>
                <a:lnTo>
                  <a:pt x="1393" y="877"/>
                </a:lnTo>
                <a:lnTo>
                  <a:pt x="1393" y="885"/>
                </a:lnTo>
                <a:lnTo>
                  <a:pt x="1393" y="894"/>
                </a:lnTo>
                <a:lnTo>
                  <a:pt x="1393" y="902"/>
                </a:lnTo>
                <a:lnTo>
                  <a:pt x="1393" y="904"/>
                </a:lnTo>
                <a:lnTo>
                  <a:pt x="1392" y="904"/>
                </a:lnTo>
                <a:lnTo>
                  <a:pt x="1369" y="904"/>
                </a:lnTo>
                <a:lnTo>
                  <a:pt x="1320" y="905"/>
                </a:lnTo>
                <a:lnTo>
                  <a:pt x="1308" y="907"/>
                </a:lnTo>
                <a:lnTo>
                  <a:pt x="1275" y="908"/>
                </a:lnTo>
                <a:lnTo>
                  <a:pt x="1263" y="908"/>
                </a:lnTo>
                <a:lnTo>
                  <a:pt x="1246" y="908"/>
                </a:lnTo>
                <a:lnTo>
                  <a:pt x="1228" y="909"/>
                </a:lnTo>
                <a:lnTo>
                  <a:pt x="1224" y="909"/>
                </a:lnTo>
                <a:lnTo>
                  <a:pt x="1204" y="909"/>
                </a:lnTo>
                <a:lnTo>
                  <a:pt x="1196" y="909"/>
                </a:lnTo>
                <a:lnTo>
                  <a:pt x="1173" y="911"/>
                </a:lnTo>
                <a:lnTo>
                  <a:pt x="1157" y="911"/>
                </a:lnTo>
                <a:lnTo>
                  <a:pt x="1140" y="911"/>
                </a:lnTo>
                <a:lnTo>
                  <a:pt x="1133" y="911"/>
                </a:lnTo>
                <a:lnTo>
                  <a:pt x="1133" y="912"/>
                </a:lnTo>
                <a:lnTo>
                  <a:pt x="1111" y="912"/>
                </a:lnTo>
                <a:lnTo>
                  <a:pt x="1051" y="914"/>
                </a:lnTo>
                <a:lnTo>
                  <a:pt x="1035" y="914"/>
                </a:lnTo>
                <a:lnTo>
                  <a:pt x="1017" y="914"/>
                </a:lnTo>
                <a:lnTo>
                  <a:pt x="993" y="914"/>
                </a:lnTo>
                <a:lnTo>
                  <a:pt x="970" y="915"/>
                </a:lnTo>
                <a:lnTo>
                  <a:pt x="946" y="915"/>
                </a:lnTo>
                <a:lnTo>
                  <a:pt x="919" y="915"/>
                </a:lnTo>
                <a:lnTo>
                  <a:pt x="888" y="915"/>
                </a:lnTo>
                <a:lnTo>
                  <a:pt x="876" y="915"/>
                </a:lnTo>
                <a:lnTo>
                  <a:pt x="859" y="917"/>
                </a:lnTo>
                <a:lnTo>
                  <a:pt x="852" y="917"/>
                </a:lnTo>
                <a:lnTo>
                  <a:pt x="817" y="917"/>
                </a:lnTo>
                <a:lnTo>
                  <a:pt x="796" y="917"/>
                </a:lnTo>
                <a:lnTo>
                  <a:pt x="759" y="917"/>
                </a:lnTo>
                <a:lnTo>
                  <a:pt x="749" y="917"/>
                </a:lnTo>
                <a:lnTo>
                  <a:pt x="738" y="917"/>
                </a:lnTo>
                <a:lnTo>
                  <a:pt x="735" y="917"/>
                </a:lnTo>
                <a:lnTo>
                  <a:pt x="704" y="917"/>
                </a:lnTo>
                <a:lnTo>
                  <a:pt x="693" y="917"/>
                </a:lnTo>
                <a:lnTo>
                  <a:pt x="688" y="917"/>
                </a:lnTo>
                <a:lnTo>
                  <a:pt x="665" y="917"/>
                </a:lnTo>
                <a:lnTo>
                  <a:pt x="657" y="917"/>
                </a:lnTo>
                <a:lnTo>
                  <a:pt x="618" y="915"/>
                </a:lnTo>
                <a:lnTo>
                  <a:pt x="605" y="915"/>
                </a:lnTo>
                <a:lnTo>
                  <a:pt x="571" y="915"/>
                </a:lnTo>
                <a:lnTo>
                  <a:pt x="507" y="914"/>
                </a:lnTo>
                <a:lnTo>
                  <a:pt x="500" y="914"/>
                </a:lnTo>
                <a:lnTo>
                  <a:pt x="485" y="914"/>
                </a:lnTo>
                <a:lnTo>
                  <a:pt x="477" y="914"/>
                </a:lnTo>
                <a:lnTo>
                  <a:pt x="469" y="914"/>
                </a:lnTo>
                <a:lnTo>
                  <a:pt x="397" y="912"/>
                </a:lnTo>
                <a:lnTo>
                  <a:pt x="384" y="911"/>
                </a:lnTo>
                <a:lnTo>
                  <a:pt x="382" y="911"/>
                </a:lnTo>
                <a:lnTo>
                  <a:pt x="376" y="911"/>
                </a:lnTo>
                <a:lnTo>
                  <a:pt x="366" y="911"/>
                </a:lnTo>
                <a:lnTo>
                  <a:pt x="360" y="909"/>
                </a:lnTo>
                <a:lnTo>
                  <a:pt x="277" y="908"/>
                </a:lnTo>
                <a:lnTo>
                  <a:pt x="265" y="908"/>
                </a:lnTo>
                <a:lnTo>
                  <a:pt x="205" y="907"/>
                </a:lnTo>
                <a:lnTo>
                  <a:pt x="195" y="907"/>
                </a:lnTo>
                <a:lnTo>
                  <a:pt x="184" y="905"/>
                </a:lnTo>
                <a:lnTo>
                  <a:pt x="172" y="905"/>
                </a:lnTo>
                <a:lnTo>
                  <a:pt x="125" y="904"/>
                </a:lnTo>
                <a:lnTo>
                  <a:pt x="91" y="902"/>
                </a:lnTo>
                <a:lnTo>
                  <a:pt x="54" y="901"/>
                </a:lnTo>
                <a:lnTo>
                  <a:pt x="44" y="901"/>
                </a:lnTo>
                <a:lnTo>
                  <a:pt x="3" y="900"/>
                </a:lnTo>
                <a:lnTo>
                  <a:pt x="0" y="900"/>
                </a:lnTo>
                <a:lnTo>
                  <a:pt x="1" y="860"/>
                </a:lnTo>
                <a:lnTo>
                  <a:pt x="3" y="823"/>
                </a:lnTo>
                <a:lnTo>
                  <a:pt x="4" y="782"/>
                </a:lnTo>
                <a:lnTo>
                  <a:pt x="5" y="748"/>
                </a:lnTo>
                <a:lnTo>
                  <a:pt x="6" y="711"/>
                </a:lnTo>
                <a:lnTo>
                  <a:pt x="6" y="705"/>
                </a:lnTo>
                <a:lnTo>
                  <a:pt x="8" y="677"/>
                </a:lnTo>
                <a:lnTo>
                  <a:pt x="10" y="599"/>
                </a:lnTo>
                <a:lnTo>
                  <a:pt x="11" y="561"/>
                </a:lnTo>
                <a:lnTo>
                  <a:pt x="12" y="519"/>
                </a:lnTo>
                <a:lnTo>
                  <a:pt x="12" y="518"/>
                </a:lnTo>
                <a:lnTo>
                  <a:pt x="13" y="487"/>
                </a:lnTo>
                <a:lnTo>
                  <a:pt x="13" y="466"/>
                </a:lnTo>
                <a:lnTo>
                  <a:pt x="16" y="414"/>
                </a:lnTo>
                <a:lnTo>
                  <a:pt x="16" y="412"/>
                </a:lnTo>
                <a:lnTo>
                  <a:pt x="16" y="390"/>
                </a:lnTo>
                <a:lnTo>
                  <a:pt x="17" y="359"/>
                </a:lnTo>
                <a:lnTo>
                  <a:pt x="19" y="300"/>
                </a:lnTo>
                <a:lnTo>
                  <a:pt x="19" y="285"/>
                </a:lnTo>
                <a:lnTo>
                  <a:pt x="19" y="277"/>
                </a:lnTo>
                <a:lnTo>
                  <a:pt x="20" y="263"/>
                </a:lnTo>
                <a:lnTo>
                  <a:pt x="20" y="260"/>
                </a:lnTo>
                <a:lnTo>
                  <a:pt x="21" y="188"/>
                </a:lnTo>
                <a:lnTo>
                  <a:pt x="22" y="151"/>
                </a:lnTo>
                <a:lnTo>
                  <a:pt x="24" y="129"/>
                </a:lnTo>
                <a:lnTo>
                  <a:pt x="24" y="128"/>
                </a:lnTo>
                <a:lnTo>
                  <a:pt x="27" y="0"/>
                </a:lnTo>
                <a:lnTo>
                  <a:pt x="142" y="6"/>
                </a:lnTo>
                <a:lnTo>
                  <a:pt x="149" y="6"/>
                </a:lnTo>
                <a:lnTo>
                  <a:pt x="158" y="6"/>
                </a:lnTo>
                <a:lnTo>
                  <a:pt x="194" y="7"/>
                </a:lnTo>
                <a:lnTo>
                  <a:pt x="240" y="9"/>
                </a:lnTo>
                <a:lnTo>
                  <a:pt x="260" y="10"/>
                </a:lnTo>
                <a:lnTo>
                  <a:pt x="262" y="10"/>
                </a:lnTo>
                <a:lnTo>
                  <a:pt x="264" y="10"/>
                </a:lnTo>
                <a:lnTo>
                  <a:pt x="296" y="12"/>
                </a:lnTo>
                <a:lnTo>
                  <a:pt x="330" y="13"/>
                </a:lnTo>
                <a:lnTo>
                  <a:pt x="363" y="13"/>
                </a:lnTo>
                <a:lnTo>
                  <a:pt x="365" y="13"/>
                </a:lnTo>
                <a:lnTo>
                  <a:pt x="374" y="13"/>
                </a:lnTo>
                <a:lnTo>
                  <a:pt x="431" y="14"/>
                </a:lnTo>
                <a:lnTo>
                  <a:pt x="465" y="16"/>
                </a:lnTo>
                <a:lnTo>
                  <a:pt x="511" y="16"/>
                </a:lnTo>
                <a:lnTo>
                  <a:pt x="522" y="17"/>
                </a:lnTo>
                <a:lnTo>
                  <a:pt x="546" y="17"/>
                </a:lnTo>
                <a:lnTo>
                  <a:pt x="555" y="17"/>
                </a:lnTo>
                <a:lnTo>
                  <a:pt x="567" y="17"/>
                </a:lnTo>
                <a:lnTo>
                  <a:pt x="601" y="17"/>
                </a:lnTo>
                <a:lnTo>
                  <a:pt x="624" y="17"/>
                </a:lnTo>
                <a:lnTo>
                  <a:pt x="627" y="17"/>
                </a:lnTo>
                <a:lnTo>
                  <a:pt x="645" y="17"/>
                </a:lnTo>
                <a:lnTo>
                  <a:pt x="667" y="19"/>
                </a:lnTo>
                <a:lnTo>
                  <a:pt x="668" y="19"/>
                </a:lnTo>
                <a:lnTo>
                  <a:pt x="691" y="19"/>
                </a:lnTo>
                <a:lnTo>
                  <a:pt x="709" y="19"/>
                </a:lnTo>
                <a:lnTo>
                  <a:pt x="736" y="19"/>
                </a:lnTo>
                <a:lnTo>
                  <a:pt x="759" y="19"/>
                </a:lnTo>
                <a:lnTo>
                  <a:pt x="771" y="19"/>
                </a:lnTo>
                <a:lnTo>
                  <a:pt x="781" y="19"/>
                </a:lnTo>
                <a:lnTo>
                  <a:pt x="791" y="19"/>
                </a:lnTo>
                <a:lnTo>
                  <a:pt x="826" y="19"/>
                </a:lnTo>
                <a:lnTo>
                  <a:pt x="872" y="19"/>
                </a:lnTo>
                <a:lnTo>
                  <a:pt x="873" y="19"/>
                </a:lnTo>
                <a:lnTo>
                  <a:pt x="893" y="19"/>
                </a:lnTo>
                <a:lnTo>
                  <a:pt x="916" y="17"/>
                </a:lnTo>
                <a:lnTo>
                  <a:pt x="954" y="17"/>
                </a:lnTo>
                <a:lnTo>
                  <a:pt x="962" y="17"/>
                </a:lnTo>
                <a:lnTo>
                  <a:pt x="975" y="17"/>
                </a:lnTo>
                <a:lnTo>
                  <a:pt x="984" y="17"/>
                </a:lnTo>
                <a:lnTo>
                  <a:pt x="1029" y="16"/>
                </a:lnTo>
                <a:lnTo>
                  <a:pt x="1036" y="16"/>
                </a:lnTo>
                <a:lnTo>
                  <a:pt x="1052" y="16"/>
                </a:lnTo>
                <a:lnTo>
                  <a:pt x="1074" y="16"/>
                </a:lnTo>
                <a:lnTo>
                  <a:pt x="1076" y="16"/>
                </a:lnTo>
                <a:lnTo>
                  <a:pt x="1097" y="14"/>
                </a:lnTo>
                <a:lnTo>
                  <a:pt x="1117" y="14"/>
                </a:lnTo>
                <a:lnTo>
                  <a:pt x="1120" y="14"/>
                </a:lnTo>
                <a:lnTo>
                  <a:pt x="1143" y="14"/>
                </a:lnTo>
                <a:lnTo>
                  <a:pt x="1157" y="13"/>
                </a:lnTo>
                <a:lnTo>
                  <a:pt x="1239" y="12"/>
                </a:lnTo>
                <a:lnTo>
                  <a:pt x="1244" y="12"/>
                </a:lnTo>
                <a:lnTo>
                  <a:pt x="1279" y="47"/>
                </a:lnTo>
                <a:lnTo>
                  <a:pt x="1297" y="47"/>
                </a:lnTo>
                <a:lnTo>
                  <a:pt x="1303" y="40"/>
                </a:lnTo>
                <a:lnTo>
                  <a:pt x="1314" y="46"/>
                </a:lnTo>
                <a:lnTo>
                  <a:pt x="1324" y="61"/>
                </a:lnTo>
                <a:lnTo>
                  <a:pt x="1324" y="88"/>
                </a:lnTo>
                <a:lnTo>
                  <a:pt x="1303" y="105"/>
                </a:lnTo>
                <a:lnTo>
                  <a:pt x="1294" y="122"/>
                </a:lnTo>
                <a:lnTo>
                  <a:pt x="1284" y="149"/>
                </a:lnTo>
                <a:lnTo>
                  <a:pt x="1295" y="159"/>
                </a:lnTo>
                <a:lnTo>
                  <a:pt x="1302" y="173"/>
                </a:lnTo>
                <a:lnTo>
                  <a:pt x="1310" y="182"/>
                </a:lnTo>
                <a:lnTo>
                  <a:pt x="1327" y="195"/>
                </a:lnTo>
                <a:lnTo>
                  <a:pt x="1328" y="223"/>
                </a:lnTo>
                <a:lnTo>
                  <a:pt x="1347" y="246"/>
                </a:lnTo>
                <a:lnTo>
                  <a:pt x="1352" y="254"/>
                </a:lnTo>
                <a:lnTo>
                  <a:pt x="1375" y="258"/>
                </a:lnTo>
                <a:lnTo>
                  <a:pt x="1379" y="257"/>
                </a:lnTo>
                <a:lnTo>
                  <a:pt x="1379" y="267"/>
                </a:lnTo>
                <a:lnTo>
                  <a:pt x="1378" y="268"/>
                </a:lnTo>
                <a:lnTo>
                  <a:pt x="1378" y="271"/>
                </a:lnTo>
                <a:lnTo>
                  <a:pt x="1379" y="29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6" name="Freeform 29"/>
          <p:cNvSpPr/>
          <p:nvPr/>
        </p:nvSpPr>
        <p:spPr>
          <a:xfrm>
            <a:off x="3452760" y="2414520"/>
            <a:ext cx="754200" cy="906480"/>
          </a:xfrm>
          <a:custGeom>
            <a:avLst/>
            <a:gdLst>
              <a:gd name="textAreaLeft" fmla="*/ 0 w 754200"/>
              <a:gd name="textAreaRight" fmla="*/ 754560 w 754200"/>
              <a:gd name="textAreaTop" fmla="*/ 0 h 906480"/>
              <a:gd name="textAreaBottom" fmla="*/ 906840 h 906480"/>
            </a:gdLst>
            <a:ahLst/>
            <a:rect l="textAreaLeft" t="textAreaTop" r="textAreaRight" b="textAreaBottom"/>
            <a:pathLst>
              <a:path w="1245" h="1732">
                <a:moveTo>
                  <a:pt x="138" y="1346"/>
                </a:moveTo>
                <a:lnTo>
                  <a:pt x="138" y="1295"/>
                </a:lnTo>
                <a:lnTo>
                  <a:pt x="137" y="1209"/>
                </a:lnTo>
                <a:lnTo>
                  <a:pt x="134" y="1191"/>
                </a:lnTo>
                <a:lnTo>
                  <a:pt x="128" y="1182"/>
                </a:lnTo>
                <a:lnTo>
                  <a:pt x="107" y="1169"/>
                </a:lnTo>
                <a:lnTo>
                  <a:pt x="72" y="1116"/>
                </a:lnTo>
                <a:lnTo>
                  <a:pt x="69" y="1105"/>
                </a:lnTo>
                <a:lnTo>
                  <a:pt x="102" y="1068"/>
                </a:lnTo>
                <a:lnTo>
                  <a:pt x="115" y="1013"/>
                </a:lnTo>
                <a:lnTo>
                  <a:pt x="113" y="994"/>
                </a:lnTo>
                <a:lnTo>
                  <a:pt x="113" y="987"/>
                </a:lnTo>
                <a:lnTo>
                  <a:pt x="104" y="892"/>
                </a:lnTo>
                <a:lnTo>
                  <a:pt x="85" y="848"/>
                </a:lnTo>
                <a:lnTo>
                  <a:pt x="78" y="811"/>
                </a:lnTo>
                <a:lnTo>
                  <a:pt x="77" y="810"/>
                </a:lnTo>
                <a:lnTo>
                  <a:pt x="74" y="810"/>
                </a:lnTo>
                <a:lnTo>
                  <a:pt x="78" y="738"/>
                </a:lnTo>
                <a:lnTo>
                  <a:pt x="70" y="701"/>
                </a:lnTo>
                <a:lnTo>
                  <a:pt x="66" y="657"/>
                </a:lnTo>
                <a:lnTo>
                  <a:pt x="67" y="647"/>
                </a:lnTo>
                <a:lnTo>
                  <a:pt x="67" y="631"/>
                </a:lnTo>
                <a:lnTo>
                  <a:pt x="65" y="606"/>
                </a:lnTo>
                <a:lnTo>
                  <a:pt x="67" y="603"/>
                </a:lnTo>
                <a:lnTo>
                  <a:pt x="63" y="594"/>
                </a:lnTo>
                <a:lnTo>
                  <a:pt x="65" y="592"/>
                </a:lnTo>
                <a:lnTo>
                  <a:pt x="64" y="555"/>
                </a:lnTo>
                <a:lnTo>
                  <a:pt x="63" y="555"/>
                </a:lnTo>
                <a:lnTo>
                  <a:pt x="59" y="521"/>
                </a:lnTo>
                <a:lnTo>
                  <a:pt x="57" y="505"/>
                </a:lnTo>
                <a:lnTo>
                  <a:pt x="35" y="445"/>
                </a:lnTo>
                <a:lnTo>
                  <a:pt x="18" y="362"/>
                </a:lnTo>
                <a:lnTo>
                  <a:pt x="15" y="359"/>
                </a:lnTo>
                <a:lnTo>
                  <a:pt x="15" y="353"/>
                </a:lnTo>
                <a:lnTo>
                  <a:pt x="18" y="349"/>
                </a:lnTo>
                <a:lnTo>
                  <a:pt x="16" y="287"/>
                </a:lnTo>
                <a:lnTo>
                  <a:pt x="11" y="251"/>
                </a:lnTo>
                <a:lnTo>
                  <a:pt x="6" y="159"/>
                </a:lnTo>
                <a:lnTo>
                  <a:pt x="8" y="155"/>
                </a:lnTo>
                <a:lnTo>
                  <a:pt x="0" y="119"/>
                </a:lnTo>
                <a:lnTo>
                  <a:pt x="130" y="116"/>
                </a:lnTo>
                <a:lnTo>
                  <a:pt x="304" y="114"/>
                </a:lnTo>
                <a:lnTo>
                  <a:pt x="330" y="112"/>
                </a:lnTo>
                <a:lnTo>
                  <a:pt x="328" y="0"/>
                </a:lnTo>
                <a:lnTo>
                  <a:pt x="359" y="3"/>
                </a:lnTo>
                <a:lnTo>
                  <a:pt x="382" y="17"/>
                </a:lnTo>
                <a:lnTo>
                  <a:pt x="406" y="170"/>
                </a:lnTo>
                <a:lnTo>
                  <a:pt x="423" y="190"/>
                </a:lnTo>
                <a:lnTo>
                  <a:pt x="448" y="194"/>
                </a:lnTo>
                <a:lnTo>
                  <a:pt x="473" y="193"/>
                </a:lnTo>
                <a:lnTo>
                  <a:pt x="478" y="206"/>
                </a:lnTo>
                <a:lnTo>
                  <a:pt x="543" y="210"/>
                </a:lnTo>
                <a:lnTo>
                  <a:pt x="552" y="243"/>
                </a:lnTo>
                <a:lnTo>
                  <a:pt x="591" y="237"/>
                </a:lnTo>
                <a:lnTo>
                  <a:pt x="605" y="226"/>
                </a:lnTo>
                <a:lnTo>
                  <a:pt x="604" y="219"/>
                </a:lnTo>
                <a:lnTo>
                  <a:pt x="645" y="202"/>
                </a:lnTo>
                <a:lnTo>
                  <a:pt x="664" y="204"/>
                </a:lnTo>
                <a:lnTo>
                  <a:pt x="685" y="202"/>
                </a:lnTo>
                <a:lnTo>
                  <a:pt x="722" y="226"/>
                </a:lnTo>
                <a:lnTo>
                  <a:pt x="737" y="224"/>
                </a:lnTo>
                <a:lnTo>
                  <a:pt x="741" y="254"/>
                </a:lnTo>
                <a:lnTo>
                  <a:pt x="760" y="253"/>
                </a:lnTo>
                <a:lnTo>
                  <a:pt x="783" y="314"/>
                </a:lnTo>
                <a:lnTo>
                  <a:pt x="800" y="305"/>
                </a:lnTo>
                <a:lnTo>
                  <a:pt x="796" y="278"/>
                </a:lnTo>
                <a:lnTo>
                  <a:pt x="829" y="271"/>
                </a:lnTo>
                <a:lnTo>
                  <a:pt x="842" y="281"/>
                </a:lnTo>
                <a:lnTo>
                  <a:pt x="846" y="302"/>
                </a:lnTo>
                <a:lnTo>
                  <a:pt x="877" y="314"/>
                </a:lnTo>
                <a:lnTo>
                  <a:pt x="926" y="349"/>
                </a:lnTo>
                <a:lnTo>
                  <a:pt x="962" y="343"/>
                </a:lnTo>
                <a:lnTo>
                  <a:pt x="1000" y="308"/>
                </a:lnTo>
                <a:lnTo>
                  <a:pt x="1029" y="288"/>
                </a:lnTo>
                <a:lnTo>
                  <a:pt x="1047" y="332"/>
                </a:lnTo>
                <a:lnTo>
                  <a:pt x="1066" y="323"/>
                </a:lnTo>
                <a:lnTo>
                  <a:pt x="1112" y="325"/>
                </a:lnTo>
                <a:lnTo>
                  <a:pt x="1144" y="318"/>
                </a:lnTo>
                <a:lnTo>
                  <a:pt x="1190" y="349"/>
                </a:lnTo>
                <a:lnTo>
                  <a:pt x="1209" y="336"/>
                </a:lnTo>
                <a:lnTo>
                  <a:pt x="1245" y="336"/>
                </a:lnTo>
                <a:lnTo>
                  <a:pt x="1173" y="397"/>
                </a:lnTo>
                <a:lnTo>
                  <a:pt x="1094" y="438"/>
                </a:lnTo>
                <a:lnTo>
                  <a:pt x="1055" y="470"/>
                </a:lnTo>
                <a:lnTo>
                  <a:pt x="1013" y="518"/>
                </a:lnTo>
                <a:lnTo>
                  <a:pt x="978" y="573"/>
                </a:lnTo>
                <a:lnTo>
                  <a:pt x="960" y="601"/>
                </a:lnTo>
                <a:lnTo>
                  <a:pt x="895" y="682"/>
                </a:lnTo>
                <a:lnTo>
                  <a:pt x="863" y="714"/>
                </a:lnTo>
                <a:lnTo>
                  <a:pt x="853" y="740"/>
                </a:lnTo>
                <a:lnTo>
                  <a:pt x="863" y="752"/>
                </a:lnTo>
                <a:lnTo>
                  <a:pt x="849" y="740"/>
                </a:lnTo>
                <a:lnTo>
                  <a:pt x="824" y="770"/>
                </a:lnTo>
                <a:lnTo>
                  <a:pt x="817" y="769"/>
                </a:lnTo>
                <a:lnTo>
                  <a:pt x="817" y="780"/>
                </a:lnTo>
                <a:lnTo>
                  <a:pt x="820" y="817"/>
                </a:lnTo>
                <a:lnTo>
                  <a:pt x="821" y="841"/>
                </a:lnTo>
                <a:lnTo>
                  <a:pt x="824" y="916"/>
                </a:lnTo>
                <a:lnTo>
                  <a:pt x="825" y="942"/>
                </a:lnTo>
                <a:lnTo>
                  <a:pt x="752" y="1014"/>
                </a:lnTo>
                <a:lnTo>
                  <a:pt x="738" y="1048"/>
                </a:lnTo>
                <a:lnTo>
                  <a:pt x="737" y="1048"/>
                </a:lnTo>
                <a:lnTo>
                  <a:pt x="732" y="1074"/>
                </a:lnTo>
                <a:lnTo>
                  <a:pt x="756" y="1099"/>
                </a:lnTo>
                <a:lnTo>
                  <a:pt x="764" y="1115"/>
                </a:lnTo>
                <a:lnTo>
                  <a:pt x="759" y="1176"/>
                </a:lnTo>
                <a:lnTo>
                  <a:pt x="758" y="1189"/>
                </a:lnTo>
                <a:lnTo>
                  <a:pt x="759" y="1199"/>
                </a:lnTo>
                <a:lnTo>
                  <a:pt x="758" y="1200"/>
                </a:lnTo>
                <a:lnTo>
                  <a:pt x="761" y="1226"/>
                </a:lnTo>
                <a:lnTo>
                  <a:pt x="759" y="1262"/>
                </a:lnTo>
                <a:lnTo>
                  <a:pt x="760" y="1304"/>
                </a:lnTo>
                <a:lnTo>
                  <a:pt x="757" y="1338"/>
                </a:lnTo>
                <a:lnTo>
                  <a:pt x="769" y="1346"/>
                </a:lnTo>
                <a:lnTo>
                  <a:pt x="775" y="1353"/>
                </a:lnTo>
                <a:lnTo>
                  <a:pt x="810" y="1387"/>
                </a:lnTo>
                <a:lnTo>
                  <a:pt x="841" y="1393"/>
                </a:lnTo>
                <a:lnTo>
                  <a:pt x="842" y="1394"/>
                </a:lnTo>
                <a:lnTo>
                  <a:pt x="845" y="1404"/>
                </a:lnTo>
                <a:lnTo>
                  <a:pt x="855" y="1417"/>
                </a:lnTo>
                <a:lnTo>
                  <a:pt x="860" y="1421"/>
                </a:lnTo>
                <a:lnTo>
                  <a:pt x="874" y="1426"/>
                </a:lnTo>
                <a:lnTo>
                  <a:pt x="882" y="1430"/>
                </a:lnTo>
                <a:lnTo>
                  <a:pt x="897" y="1438"/>
                </a:lnTo>
                <a:lnTo>
                  <a:pt x="918" y="1474"/>
                </a:lnTo>
                <a:lnTo>
                  <a:pt x="924" y="1489"/>
                </a:lnTo>
                <a:lnTo>
                  <a:pt x="950" y="1508"/>
                </a:lnTo>
                <a:lnTo>
                  <a:pt x="966" y="1528"/>
                </a:lnTo>
                <a:lnTo>
                  <a:pt x="977" y="1536"/>
                </a:lnTo>
                <a:lnTo>
                  <a:pt x="988" y="1538"/>
                </a:lnTo>
                <a:lnTo>
                  <a:pt x="999" y="1542"/>
                </a:lnTo>
                <a:lnTo>
                  <a:pt x="1001" y="1546"/>
                </a:lnTo>
                <a:lnTo>
                  <a:pt x="1010" y="1557"/>
                </a:lnTo>
                <a:lnTo>
                  <a:pt x="1025" y="1583"/>
                </a:lnTo>
                <a:lnTo>
                  <a:pt x="1028" y="1584"/>
                </a:lnTo>
                <a:lnTo>
                  <a:pt x="1034" y="1604"/>
                </a:lnTo>
                <a:lnTo>
                  <a:pt x="1034" y="1610"/>
                </a:lnTo>
                <a:lnTo>
                  <a:pt x="1033" y="1620"/>
                </a:lnTo>
                <a:lnTo>
                  <a:pt x="1033" y="1652"/>
                </a:lnTo>
                <a:lnTo>
                  <a:pt x="1040" y="1661"/>
                </a:lnTo>
                <a:lnTo>
                  <a:pt x="1045" y="1686"/>
                </a:lnTo>
                <a:lnTo>
                  <a:pt x="1039" y="1686"/>
                </a:lnTo>
                <a:lnTo>
                  <a:pt x="1026" y="1688"/>
                </a:lnTo>
                <a:lnTo>
                  <a:pt x="976" y="1691"/>
                </a:lnTo>
                <a:lnTo>
                  <a:pt x="974" y="1692"/>
                </a:lnTo>
                <a:lnTo>
                  <a:pt x="956" y="1694"/>
                </a:lnTo>
                <a:lnTo>
                  <a:pt x="896" y="1698"/>
                </a:lnTo>
                <a:lnTo>
                  <a:pt x="832" y="1702"/>
                </a:lnTo>
                <a:lnTo>
                  <a:pt x="815" y="1704"/>
                </a:lnTo>
                <a:lnTo>
                  <a:pt x="737" y="1708"/>
                </a:lnTo>
                <a:lnTo>
                  <a:pt x="734" y="1709"/>
                </a:lnTo>
                <a:lnTo>
                  <a:pt x="729" y="1709"/>
                </a:lnTo>
                <a:lnTo>
                  <a:pt x="673" y="1712"/>
                </a:lnTo>
                <a:lnTo>
                  <a:pt x="669" y="1712"/>
                </a:lnTo>
                <a:lnTo>
                  <a:pt x="653" y="1713"/>
                </a:lnTo>
                <a:lnTo>
                  <a:pt x="626" y="1715"/>
                </a:lnTo>
                <a:lnTo>
                  <a:pt x="591" y="1716"/>
                </a:lnTo>
                <a:lnTo>
                  <a:pt x="588" y="1716"/>
                </a:lnTo>
                <a:lnTo>
                  <a:pt x="570" y="1718"/>
                </a:lnTo>
                <a:lnTo>
                  <a:pt x="569" y="1718"/>
                </a:lnTo>
                <a:lnTo>
                  <a:pt x="566" y="1718"/>
                </a:lnTo>
                <a:lnTo>
                  <a:pt x="522" y="1719"/>
                </a:lnTo>
                <a:lnTo>
                  <a:pt x="501" y="1721"/>
                </a:lnTo>
                <a:lnTo>
                  <a:pt x="489" y="1721"/>
                </a:lnTo>
                <a:lnTo>
                  <a:pt x="453" y="1722"/>
                </a:lnTo>
                <a:lnTo>
                  <a:pt x="437" y="1723"/>
                </a:lnTo>
                <a:lnTo>
                  <a:pt x="418" y="1723"/>
                </a:lnTo>
                <a:lnTo>
                  <a:pt x="415" y="1723"/>
                </a:lnTo>
                <a:lnTo>
                  <a:pt x="408" y="1725"/>
                </a:lnTo>
                <a:lnTo>
                  <a:pt x="372" y="1726"/>
                </a:lnTo>
                <a:lnTo>
                  <a:pt x="350" y="1726"/>
                </a:lnTo>
                <a:lnTo>
                  <a:pt x="327" y="1728"/>
                </a:lnTo>
                <a:lnTo>
                  <a:pt x="316" y="1728"/>
                </a:lnTo>
                <a:lnTo>
                  <a:pt x="270" y="1729"/>
                </a:lnTo>
                <a:lnTo>
                  <a:pt x="264" y="1729"/>
                </a:lnTo>
                <a:lnTo>
                  <a:pt x="245" y="1729"/>
                </a:lnTo>
                <a:lnTo>
                  <a:pt x="233" y="1730"/>
                </a:lnTo>
                <a:lnTo>
                  <a:pt x="221" y="1730"/>
                </a:lnTo>
                <a:lnTo>
                  <a:pt x="211" y="1730"/>
                </a:lnTo>
                <a:lnTo>
                  <a:pt x="178" y="1732"/>
                </a:lnTo>
                <a:lnTo>
                  <a:pt x="157" y="1732"/>
                </a:lnTo>
                <a:lnTo>
                  <a:pt x="143" y="1732"/>
                </a:lnTo>
                <a:lnTo>
                  <a:pt x="143" y="1695"/>
                </a:lnTo>
                <a:lnTo>
                  <a:pt x="142" y="1658"/>
                </a:lnTo>
                <a:lnTo>
                  <a:pt x="142" y="1628"/>
                </a:lnTo>
                <a:lnTo>
                  <a:pt x="142" y="1584"/>
                </a:lnTo>
                <a:lnTo>
                  <a:pt x="141" y="1547"/>
                </a:lnTo>
                <a:lnTo>
                  <a:pt x="141" y="1526"/>
                </a:lnTo>
                <a:lnTo>
                  <a:pt x="139" y="1423"/>
                </a:lnTo>
                <a:lnTo>
                  <a:pt x="139" y="1399"/>
                </a:lnTo>
                <a:lnTo>
                  <a:pt x="139" y="1397"/>
                </a:lnTo>
                <a:lnTo>
                  <a:pt x="138" y="134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7" name="Freeform 30"/>
          <p:cNvSpPr/>
          <p:nvPr/>
        </p:nvSpPr>
        <p:spPr>
          <a:xfrm>
            <a:off x="3618000" y="3749760"/>
            <a:ext cx="769680" cy="709560"/>
          </a:xfrm>
          <a:custGeom>
            <a:avLst/>
            <a:gdLst>
              <a:gd name="textAreaLeft" fmla="*/ 0 w 769680"/>
              <a:gd name="textAreaRight" fmla="*/ 770040 w 769680"/>
              <a:gd name="textAreaTop" fmla="*/ 0 h 709560"/>
              <a:gd name="textAreaBottom" fmla="*/ 709920 h 709560"/>
            </a:gdLst>
            <a:ahLst/>
            <a:rect l="textAreaLeft" t="textAreaTop" r="textAreaRight" b="textAreaBottom"/>
            <a:pathLst>
              <a:path w="1272" h="1356">
                <a:moveTo>
                  <a:pt x="277" y="40"/>
                </a:moveTo>
                <a:lnTo>
                  <a:pt x="315" y="39"/>
                </a:lnTo>
                <a:lnTo>
                  <a:pt x="318" y="37"/>
                </a:lnTo>
                <a:lnTo>
                  <a:pt x="358" y="34"/>
                </a:lnTo>
                <a:lnTo>
                  <a:pt x="359" y="34"/>
                </a:lnTo>
                <a:lnTo>
                  <a:pt x="363" y="34"/>
                </a:lnTo>
                <a:lnTo>
                  <a:pt x="397" y="31"/>
                </a:lnTo>
                <a:lnTo>
                  <a:pt x="407" y="31"/>
                </a:lnTo>
                <a:lnTo>
                  <a:pt x="418" y="30"/>
                </a:lnTo>
                <a:lnTo>
                  <a:pt x="430" y="30"/>
                </a:lnTo>
                <a:lnTo>
                  <a:pt x="452" y="29"/>
                </a:lnTo>
                <a:lnTo>
                  <a:pt x="479" y="26"/>
                </a:lnTo>
                <a:lnTo>
                  <a:pt x="497" y="24"/>
                </a:lnTo>
                <a:lnTo>
                  <a:pt x="542" y="20"/>
                </a:lnTo>
                <a:lnTo>
                  <a:pt x="548" y="19"/>
                </a:lnTo>
                <a:lnTo>
                  <a:pt x="562" y="19"/>
                </a:lnTo>
                <a:lnTo>
                  <a:pt x="587" y="16"/>
                </a:lnTo>
                <a:lnTo>
                  <a:pt x="613" y="13"/>
                </a:lnTo>
                <a:lnTo>
                  <a:pt x="631" y="12"/>
                </a:lnTo>
                <a:lnTo>
                  <a:pt x="634" y="12"/>
                </a:lnTo>
                <a:lnTo>
                  <a:pt x="644" y="10"/>
                </a:lnTo>
                <a:lnTo>
                  <a:pt x="665" y="7"/>
                </a:lnTo>
                <a:lnTo>
                  <a:pt x="671" y="7"/>
                </a:lnTo>
                <a:lnTo>
                  <a:pt x="686" y="6"/>
                </a:lnTo>
                <a:lnTo>
                  <a:pt x="724" y="0"/>
                </a:lnTo>
                <a:lnTo>
                  <a:pt x="726" y="3"/>
                </a:lnTo>
                <a:lnTo>
                  <a:pt x="726" y="4"/>
                </a:lnTo>
                <a:lnTo>
                  <a:pt x="743" y="20"/>
                </a:lnTo>
                <a:lnTo>
                  <a:pt x="767" y="60"/>
                </a:lnTo>
                <a:lnTo>
                  <a:pt x="783" y="65"/>
                </a:lnTo>
                <a:lnTo>
                  <a:pt x="781" y="68"/>
                </a:lnTo>
                <a:lnTo>
                  <a:pt x="779" y="70"/>
                </a:lnTo>
                <a:lnTo>
                  <a:pt x="771" y="105"/>
                </a:lnTo>
                <a:lnTo>
                  <a:pt x="771" y="107"/>
                </a:lnTo>
                <a:lnTo>
                  <a:pt x="771" y="119"/>
                </a:lnTo>
                <a:lnTo>
                  <a:pt x="771" y="142"/>
                </a:lnTo>
                <a:lnTo>
                  <a:pt x="780" y="179"/>
                </a:lnTo>
                <a:lnTo>
                  <a:pt x="787" y="195"/>
                </a:lnTo>
                <a:lnTo>
                  <a:pt x="786" y="216"/>
                </a:lnTo>
                <a:lnTo>
                  <a:pt x="799" y="234"/>
                </a:lnTo>
                <a:lnTo>
                  <a:pt x="803" y="250"/>
                </a:lnTo>
                <a:lnTo>
                  <a:pt x="802" y="253"/>
                </a:lnTo>
                <a:lnTo>
                  <a:pt x="813" y="270"/>
                </a:lnTo>
                <a:lnTo>
                  <a:pt x="814" y="271"/>
                </a:lnTo>
                <a:lnTo>
                  <a:pt x="820" y="275"/>
                </a:lnTo>
                <a:lnTo>
                  <a:pt x="824" y="281"/>
                </a:lnTo>
                <a:lnTo>
                  <a:pt x="840" y="295"/>
                </a:lnTo>
                <a:lnTo>
                  <a:pt x="844" y="309"/>
                </a:lnTo>
                <a:lnTo>
                  <a:pt x="853" y="311"/>
                </a:lnTo>
                <a:lnTo>
                  <a:pt x="874" y="343"/>
                </a:lnTo>
                <a:lnTo>
                  <a:pt x="886" y="351"/>
                </a:lnTo>
                <a:lnTo>
                  <a:pt x="904" y="365"/>
                </a:lnTo>
                <a:lnTo>
                  <a:pt x="922" y="387"/>
                </a:lnTo>
                <a:lnTo>
                  <a:pt x="929" y="399"/>
                </a:lnTo>
                <a:lnTo>
                  <a:pt x="936" y="427"/>
                </a:lnTo>
                <a:lnTo>
                  <a:pt x="939" y="465"/>
                </a:lnTo>
                <a:lnTo>
                  <a:pt x="944" y="484"/>
                </a:lnTo>
                <a:lnTo>
                  <a:pt x="960" y="502"/>
                </a:lnTo>
                <a:lnTo>
                  <a:pt x="966" y="499"/>
                </a:lnTo>
                <a:lnTo>
                  <a:pt x="982" y="471"/>
                </a:lnTo>
                <a:lnTo>
                  <a:pt x="996" y="474"/>
                </a:lnTo>
                <a:lnTo>
                  <a:pt x="1004" y="478"/>
                </a:lnTo>
                <a:lnTo>
                  <a:pt x="1014" y="481"/>
                </a:lnTo>
                <a:lnTo>
                  <a:pt x="1020" y="482"/>
                </a:lnTo>
                <a:lnTo>
                  <a:pt x="1044" y="499"/>
                </a:lnTo>
                <a:lnTo>
                  <a:pt x="1046" y="514"/>
                </a:lnTo>
                <a:lnTo>
                  <a:pt x="1045" y="515"/>
                </a:lnTo>
                <a:lnTo>
                  <a:pt x="1044" y="516"/>
                </a:lnTo>
                <a:lnTo>
                  <a:pt x="1037" y="524"/>
                </a:lnTo>
                <a:lnTo>
                  <a:pt x="1036" y="531"/>
                </a:lnTo>
                <a:lnTo>
                  <a:pt x="1037" y="558"/>
                </a:lnTo>
                <a:lnTo>
                  <a:pt x="1037" y="568"/>
                </a:lnTo>
                <a:lnTo>
                  <a:pt x="1027" y="593"/>
                </a:lnTo>
                <a:lnTo>
                  <a:pt x="1026" y="597"/>
                </a:lnTo>
                <a:lnTo>
                  <a:pt x="1025" y="600"/>
                </a:lnTo>
                <a:lnTo>
                  <a:pt x="1025" y="602"/>
                </a:lnTo>
                <a:lnTo>
                  <a:pt x="1024" y="607"/>
                </a:lnTo>
                <a:lnTo>
                  <a:pt x="1012" y="643"/>
                </a:lnTo>
                <a:lnTo>
                  <a:pt x="1010" y="684"/>
                </a:lnTo>
                <a:lnTo>
                  <a:pt x="1012" y="691"/>
                </a:lnTo>
                <a:lnTo>
                  <a:pt x="1034" y="718"/>
                </a:lnTo>
                <a:lnTo>
                  <a:pt x="1035" y="721"/>
                </a:lnTo>
                <a:lnTo>
                  <a:pt x="1043" y="729"/>
                </a:lnTo>
                <a:lnTo>
                  <a:pt x="1059" y="736"/>
                </a:lnTo>
                <a:lnTo>
                  <a:pt x="1083" y="762"/>
                </a:lnTo>
                <a:lnTo>
                  <a:pt x="1097" y="787"/>
                </a:lnTo>
                <a:lnTo>
                  <a:pt x="1108" y="783"/>
                </a:lnTo>
                <a:lnTo>
                  <a:pt x="1123" y="785"/>
                </a:lnTo>
                <a:lnTo>
                  <a:pt x="1147" y="804"/>
                </a:lnTo>
                <a:lnTo>
                  <a:pt x="1149" y="820"/>
                </a:lnTo>
                <a:lnTo>
                  <a:pt x="1182" y="855"/>
                </a:lnTo>
                <a:lnTo>
                  <a:pt x="1180" y="870"/>
                </a:lnTo>
                <a:lnTo>
                  <a:pt x="1180" y="871"/>
                </a:lnTo>
                <a:lnTo>
                  <a:pt x="1202" y="926"/>
                </a:lnTo>
                <a:lnTo>
                  <a:pt x="1196" y="938"/>
                </a:lnTo>
                <a:lnTo>
                  <a:pt x="1192" y="941"/>
                </a:lnTo>
                <a:lnTo>
                  <a:pt x="1187" y="946"/>
                </a:lnTo>
                <a:lnTo>
                  <a:pt x="1190" y="965"/>
                </a:lnTo>
                <a:lnTo>
                  <a:pt x="1193" y="965"/>
                </a:lnTo>
                <a:lnTo>
                  <a:pt x="1197" y="965"/>
                </a:lnTo>
                <a:lnTo>
                  <a:pt x="1218" y="1026"/>
                </a:lnTo>
                <a:lnTo>
                  <a:pt x="1230" y="1034"/>
                </a:lnTo>
                <a:lnTo>
                  <a:pt x="1240" y="1036"/>
                </a:lnTo>
                <a:lnTo>
                  <a:pt x="1240" y="1014"/>
                </a:lnTo>
                <a:lnTo>
                  <a:pt x="1259" y="1033"/>
                </a:lnTo>
                <a:lnTo>
                  <a:pt x="1266" y="1037"/>
                </a:lnTo>
                <a:lnTo>
                  <a:pt x="1272" y="1047"/>
                </a:lnTo>
                <a:lnTo>
                  <a:pt x="1270" y="1048"/>
                </a:lnTo>
                <a:lnTo>
                  <a:pt x="1269" y="1065"/>
                </a:lnTo>
                <a:lnTo>
                  <a:pt x="1268" y="1070"/>
                </a:lnTo>
                <a:lnTo>
                  <a:pt x="1270" y="1097"/>
                </a:lnTo>
                <a:lnTo>
                  <a:pt x="1270" y="1107"/>
                </a:lnTo>
                <a:lnTo>
                  <a:pt x="1258" y="1109"/>
                </a:lnTo>
                <a:lnTo>
                  <a:pt x="1264" y="1138"/>
                </a:lnTo>
                <a:lnTo>
                  <a:pt x="1251" y="1165"/>
                </a:lnTo>
                <a:lnTo>
                  <a:pt x="1235" y="1146"/>
                </a:lnTo>
                <a:lnTo>
                  <a:pt x="1228" y="1149"/>
                </a:lnTo>
                <a:lnTo>
                  <a:pt x="1226" y="1152"/>
                </a:lnTo>
                <a:lnTo>
                  <a:pt x="1221" y="1187"/>
                </a:lnTo>
                <a:lnTo>
                  <a:pt x="1208" y="1189"/>
                </a:lnTo>
                <a:lnTo>
                  <a:pt x="1204" y="1166"/>
                </a:lnTo>
                <a:lnTo>
                  <a:pt x="1198" y="1190"/>
                </a:lnTo>
                <a:lnTo>
                  <a:pt x="1206" y="1227"/>
                </a:lnTo>
                <a:lnTo>
                  <a:pt x="1200" y="1238"/>
                </a:lnTo>
                <a:lnTo>
                  <a:pt x="1203" y="1264"/>
                </a:lnTo>
                <a:lnTo>
                  <a:pt x="1173" y="1267"/>
                </a:lnTo>
                <a:lnTo>
                  <a:pt x="1187" y="1285"/>
                </a:lnTo>
                <a:lnTo>
                  <a:pt x="1195" y="1302"/>
                </a:lnTo>
                <a:lnTo>
                  <a:pt x="1189" y="1308"/>
                </a:lnTo>
                <a:lnTo>
                  <a:pt x="1171" y="1342"/>
                </a:lnTo>
                <a:lnTo>
                  <a:pt x="1168" y="1343"/>
                </a:lnTo>
                <a:lnTo>
                  <a:pt x="1138" y="1346"/>
                </a:lnTo>
                <a:lnTo>
                  <a:pt x="1129" y="1348"/>
                </a:lnTo>
                <a:lnTo>
                  <a:pt x="1089" y="1352"/>
                </a:lnTo>
                <a:lnTo>
                  <a:pt x="1074" y="1353"/>
                </a:lnTo>
                <a:lnTo>
                  <a:pt x="1066" y="1355"/>
                </a:lnTo>
                <a:lnTo>
                  <a:pt x="1050" y="1356"/>
                </a:lnTo>
                <a:lnTo>
                  <a:pt x="1064" y="1319"/>
                </a:lnTo>
                <a:lnTo>
                  <a:pt x="1068" y="1316"/>
                </a:lnTo>
                <a:lnTo>
                  <a:pt x="1081" y="1291"/>
                </a:lnTo>
                <a:lnTo>
                  <a:pt x="1092" y="1277"/>
                </a:lnTo>
                <a:lnTo>
                  <a:pt x="1083" y="1202"/>
                </a:lnTo>
                <a:lnTo>
                  <a:pt x="1069" y="1203"/>
                </a:lnTo>
                <a:lnTo>
                  <a:pt x="1065" y="1204"/>
                </a:lnTo>
                <a:lnTo>
                  <a:pt x="1056" y="1204"/>
                </a:lnTo>
                <a:lnTo>
                  <a:pt x="1003" y="1209"/>
                </a:lnTo>
                <a:lnTo>
                  <a:pt x="977" y="1211"/>
                </a:lnTo>
                <a:lnTo>
                  <a:pt x="974" y="1211"/>
                </a:lnTo>
                <a:lnTo>
                  <a:pt x="963" y="1213"/>
                </a:lnTo>
                <a:lnTo>
                  <a:pt x="946" y="1214"/>
                </a:lnTo>
                <a:lnTo>
                  <a:pt x="923" y="1216"/>
                </a:lnTo>
                <a:lnTo>
                  <a:pt x="899" y="1219"/>
                </a:lnTo>
                <a:lnTo>
                  <a:pt x="885" y="1220"/>
                </a:lnTo>
                <a:lnTo>
                  <a:pt x="878" y="1220"/>
                </a:lnTo>
                <a:lnTo>
                  <a:pt x="846" y="1223"/>
                </a:lnTo>
                <a:lnTo>
                  <a:pt x="845" y="1223"/>
                </a:lnTo>
                <a:lnTo>
                  <a:pt x="844" y="1223"/>
                </a:lnTo>
                <a:lnTo>
                  <a:pt x="838" y="1224"/>
                </a:lnTo>
                <a:lnTo>
                  <a:pt x="828" y="1224"/>
                </a:lnTo>
                <a:lnTo>
                  <a:pt x="819" y="1224"/>
                </a:lnTo>
                <a:lnTo>
                  <a:pt x="796" y="1227"/>
                </a:lnTo>
                <a:lnTo>
                  <a:pt x="781" y="1227"/>
                </a:lnTo>
                <a:lnTo>
                  <a:pt x="734" y="1231"/>
                </a:lnTo>
                <a:lnTo>
                  <a:pt x="711" y="1233"/>
                </a:lnTo>
                <a:lnTo>
                  <a:pt x="710" y="1233"/>
                </a:lnTo>
                <a:lnTo>
                  <a:pt x="706" y="1233"/>
                </a:lnTo>
                <a:lnTo>
                  <a:pt x="663" y="1237"/>
                </a:lnTo>
                <a:lnTo>
                  <a:pt x="652" y="1237"/>
                </a:lnTo>
                <a:lnTo>
                  <a:pt x="635" y="1238"/>
                </a:lnTo>
                <a:lnTo>
                  <a:pt x="599" y="1241"/>
                </a:lnTo>
                <a:lnTo>
                  <a:pt x="593" y="1241"/>
                </a:lnTo>
                <a:lnTo>
                  <a:pt x="589" y="1241"/>
                </a:lnTo>
                <a:lnTo>
                  <a:pt x="573" y="1243"/>
                </a:lnTo>
                <a:lnTo>
                  <a:pt x="537" y="1244"/>
                </a:lnTo>
                <a:lnTo>
                  <a:pt x="517" y="1246"/>
                </a:lnTo>
                <a:lnTo>
                  <a:pt x="490" y="1247"/>
                </a:lnTo>
                <a:lnTo>
                  <a:pt x="486" y="1247"/>
                </a:lnTo>
                <a:lnTo>
                  <a:pt x="475" y="1248"/>
                </a:lnTo>
                <a:lnTo>
                  <a:pt x="462" y="1248"/>
                </a:lnTo>
                <a:lnTo>
                  <a:pt x="436" y="1250"/>
                </a:lnTo>
                <a:lnTo>
                  <a:pt x="412" y="1251"/>
                </a:lnTo>
                <a:lnTo>
                  <a:pt x="396" y="1253"/>
                </a:lnTo>
                <a:lnTo>
                  <a:pt x="382" y="1253"/>
                </a:lnTo>
                <a:lnTo>
                  <a:pt x="370" y="1254"/>
                </a:lnTo>
                <a:lnTo>
                  <a:pt x="357" y="1254"/>
                </a:lnTo>
                <a:lnTo>
                  <a:pt x="342" y="1255"/>
                </a:lnTo>
                <a:lnTo>
                  <a:pt x="286" y="1257"/>
                </a:lnTo>
                <a:lnTo>
                  <a:pt x="262" y="1258"/>
                </a:lnTo>
                <a:lnTo>
                  <a:pt x="241" y="1260"/>
                </a:lnTo>
                <a:lnTo>
                  <a:pt x="239" y="1230"/>
                </a:lnTo>
                <a:lnTo>
                  <a:pt x="239" y="1216"/>
                </a:lnTo>
                <a:lnTo>
                  <a:pt x="239" y="1209"/>
                </a:lnTo>
                <a:lnTo>
                  <a:pt x="238" y="1206"/>
                </a:lnTo>
                <a:lnTo>
                  <a:pt x="238" y="1189"/>
                </a:lnTo>
                <a:lnTo>
                  <a:pt x="238" y="1180"/>
                </a:lnTo>
                <a:lnTo>
                  <a:pt x="237" y="1152"/>
                </a:lnTo>
                <a:lnTo>
                  <a:pt x="237" y="1122"/>
                </a:lnTo>
                <a:lnTo>
                  <a:pt x="236" y="1111"/>
                </a:lnTo>
                <a:lnTo>
                  <a:pt x="236" y="1109"/>
                </a:lnTo>
                <a:lnTo>
                  <a:pt x="236" y="1101"/>
                </a:lnTo>
                <a:lnTo>
                  <a:pt x="236" y="1092"/>
                </a:lnTo>
                <a:lnTo>
                  <a:pt x="236" y="1084"/>
                </a:lnTo>
                <a:lnTo>
                  <a:pt x="235" y="1060"/>
                </a:lnTo>
                <a:lnTo>
                  <a:pt x="234" y="1009"/>
                </a:lnTo>
                <a:lnTo>
                  <a:pt x="234" y="1002"/>
                </a:lnTo>
                <a:lnTo>
                  <a:pt x="234" y="997"/>
                </a:lnTo>
                <a:lnTo>
                  <a:pt x="233" y="960"/>
                </a:lnTo>
                <a:lnTo>
                  <a:pt x="231" y="914"/>
                </a:lnTo>
                <a:lnTo>
                  <a:pt x="231" y="908"/>
                </a:lnTo>
                <a:lnTo>
                  <a:pt x="230" y="874"/>
                </a:lnTo>
                <a:lnTo>
                  <a:pt x="229" y="830"/>
                </a:lnTo>
                <a:lnTo>
                  <a:pt x="229" y="800"/>
                </a:lnTo>
                <a:lnTo>
                  <a:pt x="228" y="793"/>
                </a:lnTo>
                <a:lnTo>
                  <a:pt x="228" y="766"/>
                </a:lnTo>
                <a:lnTo>
                  <a:pt x="227" y="736"/>
                </a:lnTo>
                <a:lnTo>
                  <a:pt x="226" y="695"/>
                </a:lnTo>
                <a:lnTo>
                  <a:pt x="226" y="668"/>
                </a:lnTo>
                <a:lnTo>
                  <a:pt x="226" y="661"/>
                </a:lnTo>
                <a:lnTo>
                  <a:pt x="225" y="624"/>
                </a:lnTo>
                <a:lnTo>
                  <a:pt x="223" y="590"/>
                </a:lnTo>
                <a:lnTo>
                  <a:pt x="223" y="586"/>
                </a:lnTo>
                <a:lnTo>
                  <a:pt x="223" y="558"/>
                </a:lnTo>
                <a:lnTo>
                  <a:pt x="223" y="541"/>
                </a:lnTo>
                <a:lnTo>
                  <a:pt x="222" y="519"/>
                </a:lnTo>
                <a:lnTo>
                  <a:pt x="222" y="499"/>
                </a:lnTo>
                <a:lnTo>
                  <a:pt x="221" y="478"/>
                </a:lnTo>
                <a:lnTo>
                  <a:pt x="221" y="475"/>
                </a:lnTo>
                <a:lnTo>
                  <a:pt x="222" y="474"/>
                </a:lnTo>
                <a:lnTo>
                  <a:pt x="222" y="464"/>
                </a:lnTo>
                <a:lnTo>
                  <a:pt x="218" y="465"/>
                </a:lnTo>
                <a:lnTo>
                  <a:pt x="195" y="461"/>
                </a:lnTo>
                <a:lnTo>
                  <a:pt x="190" y="453"/>
                </a:lnTo>
                <a:lnTo>
                  <a:pt x="171" y="430"/>
                </a:lnTo>
                <a:lnTo>
                  <a:pt x="170" y="402"/>
                </a:lnTo>
                <a:lnTo>
                  <a:pt x="153" y="389"/>
                </a:lnTo>
                <a:lnTo>
                  <a:pt x="145" y="380"/>
                </a:lnTo>
                <a:lnTo>
                  <a:pt x="138" y="366"/>
                </a:lnTo>
                <a:lnTo>
                  <a:pt x="127" y="356"/>
                </a:lnTo>
                <a:lnTo>
                  <a:pt x="137" y="329"/>
                </a:lnTo>
                <a:lnTo>
                  <a:pt x="146" y="312"/>
                </a:lnTo>
                <a:lnTo>
                  <a:pt x="167" y="295"/>
                </a:lnTo>
                <a:lnTo>
                  <a:pt x="167" y="268"/>
                </a:lnTo>
                <a:lnTo>
                  <a:pt x="157" y="253"/>
                </a:lnTo>
                <a:lnTo>
                  <a:pt x="146" y="247"/>
                </a:lnTo>
                <a:lnTo>
                  <a:pt x="140" y="254"/>
                </a:lnTo>
                <a:lnTo>
                  <a:pt x="122" y="254"/>
                </a:lnTo>
                <a:lnTo>
                  <a:pt x="87" y="219"/>
                </a:lnTo>
                <a:lnTo>
                  <a:pt x="76" y="210"/>
                </a:lnTo>
                <a:lnTo>
                  <a:pt x="52" y="145"/>
                </a:lnTo>
                <a:lnTo>
                  <a:pt x="42" y="142"/>
                </a:lnTo>
                <a:lnTo>
                  <a:pt x="42" y="141"/>
                </a:lnTo>
                <a:lnTo>
                  <a:pt x="29" y="126"/>
                </a:lnTo>
                <a:lnTo>
                  <a:pt x="18" y="53"/>
                </a:lnTo>
                <a:lnTo>
                  <a:pt x="12" y="64"/>
                </a:lnTo>
                <a:lnTo>
                  <a:pt x="5" y="64"/>
                </a:lnTo>
                <a:lnTo>
                  <a:pt x="0" y="47"/>
                </a:lnTo>
                <a:lnTo>
                  <a:pt x="2" y="46"/>
                </a:lnTo>
                <a:lnTo>
                  <a:pt x="5" y="46"/>
                </a:lnTo>
                <a:lnTo>
                  <a:pt x="50" y="46"/>
                </a:lnTo>
                <a:lnTo>
                  <a:pt x="73" y="46"/>
                </a:lnTo>
                <a:lnTo>
                  <a:pt x="94" y="46"/>
                </a:lnTo>
                <a:lnTo>
                  <a:pt x="102" y="46"/>
                </a:lnTo>
                <a:lnTo>
                  <a:pt x="139" y="44"/>
                </a:lnTo>
                <a:lnTo>
                  <a:pt x="154" y="44"/>
                </a:lnTo>
                <a:lnTo>
                  <a:pt x="183" y="44"/>
                </a:lnTo>
                <a:lnTo>
                  <a:pt x="205" y="43"/>
                </a:lnTo>
                <a:lnTo>
                  <a:pt x="229" y="43"/>
                </a:lnTo>
                <a:lnTo>
                  <a:pt x="234" y="43"/>
                </a:lnTo>
                <a:lnTo>
                  <a:pt x="274" y="40"/>
                </a:lnTo>
                <a:lnTo>
                  <a:pt x="277" y="4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8" name="Freeform 31"/>
          <p:cNvSpPr/>
          <p:nvPr/>
        </p:nvSpPr>
        <p:spPr>
          <a:xfrm>
            <a:off x="2768760" y="2457360"/>
            <a:ext cx="753840" cy="488880"/>
          </a:xfrm>
          <a:custGeom>
            <a:avLst/>
            <a:gdLst>
              <a:gd name="textAreaLeft" fmla="*/ 0 w 753840"/>
              <a:gd name="textAreaRight" fmla="*/ 754200 w 753840"/>
              <a:gd name="textAreaTop" fmla="*/ 0 h 488880"/>
              <a:gd name="textAreaBottom" fmla="*/ 489240 h 488880"/>
            </a:gdLst>
            <a:ahLst/>
            <a:rect l="textAreaLeft" t="textAreaTop" r="textAreaRight" b="textAreaBottom"/>
            <a:pathLst>
              <a:path w="1244" h="932">
                <a:moveTo>
                  <a:pt x="339" y="912"/>
                </a:moveTo>
                <a:lnTo>
                  <a:pt x="465" y="917"/>
                </a:lnTo>
                <a:lnTo>
                  <a:pt x="485" y="919"/>
                </a:lnTo>
                <a:lnTo>
                  <a:pt x="587" y="922"/>
                </a:lnTo>
                <a:lnTo>
                  <a:pt x="589" y="922"/>
                </a:lnTo>
                <a:lnTo>
                  <a:pt x="591" y="923"/>
                </a:lnTo>
                <a:lnTo>
                  <a:pt x="672" y="925"/>
                </a:lnTo>
                <a:lnTo>
                  <a:pt x="673" y="926"/>
                </a:lnTo>
                <a:lnTo>
                  <a:pt x="692" y="926"/>
                </a:lnTo>
                <a:lnTo>
                  <a:pt x="720" y="926"/>
                </a:lnTo>
                <a:lnTo>
                  <a:pt x="735" y="927"/>
                </a:lnTo>
                <a:lnTo>
                  <a:pt x="798" y="929"/>
                </a:lnTo>
                <a:lnTo>
                  <a:pt x="839" y="929"/>
                </a:lnTo>
                <a:lnTo>
                  <a:pt x="881" y="930"/>
                </a:lnTo>
                <a:lnTo>
                  <a:pt x="884" y="930"/>
                </a:lnTo>
                <a:lnTo>
                  <a:pt x="943" y="930"/>
                </a:lnTo>
                <a:lnTo>
                  <a:pt x="964" y="932"/>
                </a:lnTo>
                <a:lnTo>
                  <a:pt x="1004" y="932"/>
                </a:lnTo>
                <a:lnTo>
                  <a:pt x="1006" y="932"/>
                </a:lnTo>
                <a:lnTo>
                  <a:pt x="1009" y="932"/>
                </a:lnTo>
                <a:lnTo>
                  <a:pt x="1089" y="932"/>
                </a:lnTo>
                <a:lnTo>
                  <a:pt x="1130" y="930"/>
                </a:lnTo>
                <a:lnTo>
                  <a:pt x="1134" y="930"/>
                </a:lnTo>
                <a:lnTo>
                  <a:pt x="1172" y="930"/>
                </a:lnTo>
                <a:lnTo>
                  <a:pt x="1214" y="929"/>
                </a:lnTo>
                <a:lnTo>
                  <a:pt x="1244" y="929"/>
                </a:lnTo>
                <a:lnTo>
                  <a:pt x="1242" y="910"/>
                </a:lnTo>
                <a:lnTo>
                  <a:pt x="1242" y="903"/>
                </a:lnTo>
                <a:lnTo>
                  <a:pt x="1233" y="808"/>
                </a:lnTo>
                <a:lnTo>
                  <a:pt x="1214" y="764"/>
                </a:lnTo>
                <a:lnTo>
                  <a:pt x="1207" y="727"/>
                </a:lnTo>
                <a:lnTo>
                  <a:pt x="1206" y="726"/>
                </a:lnTo>
                <a:lnTo>
                  <a:pt x="1203" y="726"/>
                </a:lnTo>
                <a:lnTo>
                  <a:pt x="1207" y="654"/>
                </a:lnTo>
                <a:lnTo>
                  <a:pt x="1199" y="617"/>
                </a:lnTo>
                <a:lnTo>
                  <a:pt x="1195" y="573"/>
                </a:lnTo>
                <a:lnTo>
                  <a:pt x="1196" y="563"/>
                </a:lnTo>
                <a:lnTo>
                  <a:pt x="1196" y="547"/>
                </a:lnTo>
                <a:lnTo>
                  <a:pt x="1194" y="522"/>
                </a:lnTo>
                <a:lnTo>
                  <a:pt x="1196" y="519"/>
                </a:lnTo>
                <a:lnTo>
                  <a:pt x="1192" y="510"/>
                </a:lnTo>
                <a:lnTo>
                  <a:pt x="1194" y="508"/>
                </a:lnTo>
                <a:lnTo>
                  <a:pt x="1193" y="471"/>
                </a:lnTo>
                <a:lnTo>
                  <a:pt x="1192" y="471"/>
                </a:lnTo>
                <a:lnTo>
                  <a:pt x="1188" y="437"/>
                </a:lnTo>
                <a:lnTo>
                  <a:pt x="1186" y="421"/>
                </a:lnTo>
                <a:lnTo>
                  <a:pt x="1164" y="361"/>
                </a:lnTo>
                <a:lnTo>
                  <a:pt x="1147" y="278"/>
                </a:lnTo>
                <a:lnTo>
                  <a:pt x="1144" y="275"/>
                </a:lnTo>
                <a:lnTo>
                  <a:pt x="1144" y="269"/>
                </a:lnTo>
                <a:lnTo>
                  <a:pt x="1147" y="265"/>
                </a:lnTo>
                <a:lnTo>
                  <a:pt x="1145" y="203"/>
                </a:lnTo>
                <a:lnTo>
                  <a:pt x="1140" y="167"/>
                </a:lnTo>
                <a:lnTo>
                  <a:pt x="1135" y="75"/>
                </a:lnTo>
                <a:lnTo>
                  <a:pt x="1137" y="71"/>
                </a:lnTo>
                <a:lnTo>
                  <a:pt x="1129" y="35"/>
                </a:lnTo>
                <a:lnTo>
                  <a:pt x="1014" y="35"/>
                </a:lnTo>
                <a:lnTo>
                  <a:pt x="847" y="35"/>
                </a:lnTo>
                <a:lnTo>
                  <a:pt x="762" y="34"/>
                </a:lnTo>
                <a:lnTo>
                  <a:pt x="658" y="31"/>
                </a:lnTo>
                <a:lnTo>
                  <a:pt x="469" y="25"/>
                </a:lnTo>
                <a:lnTo>
                  <a:pt x="448" y="24"/>
                </a:lnTo>
                <a:lnTo>
                  <a:pt x="364" y="20"/>
                </a:lnTo>
                <a:lnTo>
                  <a:pt x="218" y="13"/>
                </a:lnTo>
                <a:lnTo>
                  <a:pt x="42" y="0"/>
                </a:lnTo>
                <a:lnTo>
                  <a:pt x="39" y="72"/>
                </a:lnTo>
                <a:lnTo>
                  <a:pt x="37" y="96"/>
                </a:lnTo>
                <a:lnTo>
                  <a:pt x="36" y="106"/>
                </a:lnTo>
                <a:lnTo>
                  <a:pt x="36" y="109"/>
                </a:lnTo>
                <a:lnTo>
                  <a:pt x="35" y="144"/>
                </a:lnTo>
                <a:lnTo>
                  <a:pt x="34" y="177"/>
                </a:lnTo>
                <a:lnTo>
                  <a:pt x="31" y="254"/>
                </a:lnTo>
                <a:lnTo>
                  <a:pt x="28" y="291"/>
                </a:lnTo>
                <a:lnTo>
                  <a:pt x="28" y="292"/>
                </a:lnTo>
                <a:lnTo>
                  <a:pt x="27" y="326"/>
                </a:lnTo>
                <a:lnTo>
                  <a:pt x="25" y="363"/>
                </a:lnTo>
                <a:lnTo>
                  <a:pt x="20" y="466"/>
                </a:lnTo>
                <a:lnTo>
                  <a:pt x="19" y="472"/>
                </a:lnTo>
                <a:lnTo>
                  <a:pt x="19" y="485"/>
                </a:lnTo>
                <a:lnTo>
                  <a:pt x="16" y="546"/>
                </a:lnTo>
                <a:lnTo>
                  <a:pt x="11" y="655"/>
                </a:lnTo>
                <a:lnTo>
                  <a:pt x="9" y="686"/>
                </a:lnTo>
                <a:lnTo>
                  <a:pt x="8" y="716"/>
                </a:lnTo>
                <a:lnTo>
                  <a:pt x="7" y="729"/>
                </a:lnTo>
                <a:lnTo>
                  <a:pt x="4" y="793"/>
                </a:lnTo>
                <a:lnTo>
                  <a:pt x="3" y="801"/>
                </a:lnTo>
                <a:lnTo>
                  <a:pt x="2" y="847"/>
                </a:lnTo>
                <a:lnTo>
                  <a:pt x="0" y="892"/>
                </a:lnTo>
                <a:lnTo>
                  <a:pt x="7" y="892"/>
                </a:lnTo>
                <a:lnTo>
                  <a:pt x="69" y="896"/>
                </a:lnTo>
                <a:lnTo>
                  <a:pt x="173" y="903"/>
                </a:lnTo>
                <a:lnTo>
                  <a:pt x="183" y="903"/>
                </a:lnTo>
                <a:lnTo>
                  <a:pt x="257" y="908"/>
                </a:lnTo>
                <a:lnTo>
                  <a:pt x="319" y="912"/>
                </a:lnTo>
                <a:lnTo>
                  <a:pt x="339" y="91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9" name="Freeform 32"/>
          <p:cNvSpPr/>
          <p:nvPr/>
        </p:nvSpPr>
        <p:spPr>
          <a:xfrm>
            <a:off x="2725560" y="3379680"/>
            <a:ext cx="946440" cy="487440"/>
          </a:xfrm>
          <a:custGeom>
            <a:avLst/>
            <a:gdLst>
              <a:gd name="textAreaLeft" fmla="*/ 0 w 946440"/>
              <a:gd name="textAreaRight" fmla="*/ 946800 w 946440"/>
              <a:gd name="textAreaTop" fmla="*/ 0 h 487440"/>
              <a:gd name="textAreaBottom" fmla="*/ 487800 h 487440"/>
            </a:gdLst>
            <a:ahLst/>
            <a:rect l="textAreaLeft" t="textAreaTop" r="textAreaRight" b="textAreaBottom"/>
            <a:pathLst>
              <a:path w="1563" h="932">
                <a:moveTo>
                  <a:pt x="946" y="930"/>
                </a:moveTo>
                <a:lnTo>
                  <a:pt x="943" y="930"/>
                </a:lnTo>
                <a:lnTo>
                  <a:pt x="920" y="930"/>
                </a:lnTo>
                <a:lnTo>
                  <a:pt x="886" y="930"/>
                </a:lnTo>
                <a:lnTo>
                  <a:pt x="874" y="930"/>
                </a:lnTo>
                <a:lnTo>
                  <a:pt x="865" y="930"/>
                </a:lnTo>
                <a:lnTo>
                  <a:pt x="841" y="930"/>
                </a:lnTo>
                <a:lnTo>
                  <a:pt x="830" y="929"/>
                </a:lnTo>
                <a:lnTo>
                  <a:pt x="784" y="929"/>
                </a:lnTo>
                <a:lnTo>
                  <a:pt x="750" y="927"/>
                </a:lnTo>
                <a:lnTo>
                  <a:pt x="693" y="926"/>
                </a:lnTo>
                <a:lnTo>
                  <a:pt x="684" y="926"/>
                </a:lnTo>
                <a:lnTo>
                  <a:pt x="682" y="926"/>
                </a:lnTo>
                <a:lnTo>
                  <a:pt x="649" y="926"/>
                </a:lnTo>
                <a:lnTo>
                  <a:pt x="615" y="925"/>
                </a:lnTo>
                <a:lnTo>
                  <a:pt x="583" y="923"/>
                </a:lnTo>
                <a:lnTo>
                  <a:pt x="581" y="923"/>
                </a:lnTo>
                <a:lnTo>
                  <a:pt x="579" y="923"/>
                </a:lnTo>
                <a:lnTo>
                  <a:pt x="559" y="922"/>
                </a:lnTo>
                <a:lnTo>
                  <a:pt x="513" y="920"/>
                </a:lnTo>
                <a:lnTo>
                  <a:pt x="477" y="919"/>
                </a:lnTo>
                <a:lnTo>
                  <a:pt x="468" y="919"/>
                </a:lnTo>
                <a:lnTo>
                  <a:pt x="461" y="919"/>
                </a:lnTo>
                <a:lnTo>
                  <a:pt x="346" y="913"/>
                </a:lnTo>
                <a:lnTo>
                  <a:pt x="349" y="810"/>
                </a:lnTo>
                <a:lnTo>
                  <a:pt x="351" y="783"/>
                </a:lnTo>
                <a:lnTo>
                  <a:pt x="351" y="764"/>
                </a:lnTo>
                <a:lnTo>
                  <a:pt x="352" y="728"/>
                </a:lnTo>
                <a:lnTo>
                  <a:pt x="353" y="706"/>
                </a:lnTo>
                <a:lnTo>
                  <a:pt x="354" y="691"/>
                </a:lnTo>
                <a:lnTo>
                  <a:pt x="356" y="615"/>
                </a:lnTo>
                <a:lnTo>
                  <a:pt x="255" y="610"/>
                </a:lnTo>
                <a:lnTo>
                  <a:pt x="253" y="610"/>
                </a:lnTo>
                <a:lnTo>
                  <a:pt x="249" y="610"/>
                </a:lnTo>
                <a:lnTo>
                  <a:pt x="119" y="601"/>
                </a:lnTo>
                <a:lnTo>
                  <a:pt x="85" y="600"/>
                </a:lnTo>
                <a:lnTo>
                  <a:pt x="76" y="598"/>
                </a:lnTo>
                <a:lnTo>
                  <a:pt x="0" y="593"/>
                </a:lnTo>
                <a:lnTo>
                  <a:pt x="1" y="557"/>
                </a:lnTo>
                <a:lnTo>
                  <a:pt x="4" y="503"/>
                </a:lnTo>
                <a:lnTo>
                  <a:pt x="5" y="476"/>
                </a:lnTo>
                <a:lnTo>
                  <a:pt x="7" y="445"/>
                </a:lnTo>
                <a:lnTo>
                  <a:pt x="8" y="427"/>
                </a:lnTo>
                <a:lnTo>
                  <a:pt x="9" y="408"/>
                </a:lnTo>
                <a:lnTo>
                  <a:pt x="10" y="387"/>
                </a:lnTo>
                <a:lnTo>
                  <a:pt x="10" y="372"/>
                </a:lnTo>
                <a:lnTo>
                  <a:pt x="12" y="333"/>
                </a:lnTo>
                <a:lnTo>
                  <a:pt x="15" y="296"/>
                </a:lnTo>
                <a:lnTo>
                  <a:pt x="16" y="259"/>
                </a:lnTo>
                <a:lnTo>
                  <a:pt x="18" y="223"/>
                </a:lnTo>
                <a:lnTo>
                  <a:pt x="23" y="120"/>
                </a:lnTo>
                <a:lnTo>
                  <a:pt x="26" y="54"/>
                </a:lnTo>
                <a:lnTo>
                  <a:pt x="27" y="14"/>
                </a:lnTo>
                <a:lnTo>
                  <a:pt x="28" y="0"/>
                </a:lnTo>
                <a:lnTo>
                  <a:pt x="35" y="0"/>
                </a:lnTo>
                <a:lnTo>
                  <a:pt x="37" y="0"/>
                </a:lnTo>
                <a:lnTo>
                  <a:pt x="123" y="6"/>
                </a:lnTo>
                <a:lnTo>
                  <a:pt x="168" y="8"/>
                </a:lnTo>
                <a:lnTo>
                  <a:pt x="173" y="10"/>
                </a:lnTo>
                <a:lnTo>
                  <a:pt x="211" y="13"/>
                </a:lnTo>
                <a:lnTo>
                  <a:pt x="232" y="14"/>
                </a:lnTo>
                <a:lnTo>
                  <a:pt x="236" y="14"/>
                </a:lnTo>
                <a:lnTo>
                  <a:pt x="247" y="14"/>
                </a:lnTo>
                <a:lnTo>
                  <a:pt x="301" y="18"/>
                </a:lnTo>
                <a:lnTo>
                  <a:pt x="340" y="20"/>
                </a:lnTo>
                <a:lnTo>
                  <a:pt x="370" y="21"/>
                </a:lnTo>
                <a:lnTo>
                  <a:pt x="427" y="25"/>
                </a:lnTo>
                <a:lnTo>
                  <a:pt x="440" y="25"/>
                </a:lnTo>
                <a:lnTo>
                  <a:pt x="517" y="28"/>
                </a:lnTo>
                <a:lnTo>
                  <a:pt x="587" y="31"/>
                </a:lnTo>
                <a:lnTo>
                  <a:pt x="644" y="33"/>
                </a:lnTo>
                <a:lnTo>
                  <a:pt x="696" y="34"/>
                </a:lnTo>
                <a:lnTo>
                  <a:pt x="811" y="37"/>
                </a:lnTo>
                <a:lnTo>
                  <a:pt x="860" y="38"/>
                </a:lnTo>
                <a:lnTo>
                  <a:pt x="991" y="40"/>
                </a:lnTo>
                <a:lnTo>
                  <a:pt x="1012" y="67"/>
                </a:lnTo>
                <a:lnTo>
                  <a:pt x="1024" y="74"/>
                </a:lnTo>
                <a:lnTo>
                  <a:pt x="1034" y="77"/>
                </a:lnTo>
                <a:lnTo>
                  <a:pt x="1051" y="86"/>
                </a:lnTo>
                <a:lnTo>
                  <a:pt x="1078" y="109"/>
                </a:lnTo>
                <a:lnTo>
                  <a:pt x="1100" y="81"/>
                </a:lnTo>
                <a:lnTo>
                  <a:pt x="1140" y="84"/>
                </a:lnTo>
                <a:lnTo>
                  <a:pt x="1145" y="84"/>
                </a:lnTo>
                <a:lnTo>
                  <a:pt x="1164" y="81"/>
                </a:lnTo>
                <a:lnTo>
                  <a:pt x="1167" y="82"/>
                </a:lnTo>
                <a:lnTo>
                  <a:pt x="1208" y="81"/>
                </a:lnTo>
                <a:lnTo>
                  <a:pt x="1224" y="98"/>
                </a:lnTo>
                <a:lnTo>
                  <a:pt x="1230" y="106"/>
                </a:lnTo>
                <a:lnTo>
                  <a:pt x="1249" y="109"/>
                </a:lnTo>
                <a:lnTo>
                  <a:pt x="1286" y="125"/>
                </a:lnTo>
                <a:lnTo>
                  <a:pt x="1303" y="149"/>
                </a:lnTo>
                <a:lnTo>
                  <a:pt x="1316" y="179"/>
                </a:lnTo>
                <a:lnTo>
                  <a:pt x="1336" y="186"/>
                </a:lnTo>
                <a:lnTo>
                  <a:pt x="1350" y="189"/>
                </a:lnTo>
                <a:lnTo>
                  <a:pt x="1366" y="251"/>
                </a:lnTo>
                <a:lnTo>
                  <a:pt x="1370" y="258"/>
                </a:lnTo>
                <a:lnTo>
                  <a:pt x="1370" y="261"/>
                </a:lnTo>
                <a:lnTo>
                  <a:pt x="1366" y="269"/>
                </a:lnTo>
                <a:lnTo>
                  <a:pt x="1379" y="296"/>
                </a:lnTo>
                <a:lnTo>
                  <a:pt x="1382" y="319"/>
                </a:lnTo>
                <a:lnTo>
                  <a:pt x="1387" y="333"/>
                </a:lnTo>
                <a:lnTo>
                  <a:pt x="1396" y="333"/>
                </a:lnTo>
                <a:lnTo>
                  <a:pt x="1406" y="372"/>
                </a:lnTo>
                <a:lnTo>
                  <a:pt x="1408" y="374"/>
                </a:lnTo>
                <a:lnTo>
                  <a:pt x="1414" y="407"/>
                </a:lnTo>
                <a:lnTo>
                  <a:pt x="1409" y="427"/>
                </a:lnTo>
                <a:lnTo>
                  <a:pt x="1411" y="444"/>
                </a:lnTo>
                <a:lnTo>
                  <a:pt x="1432" y="469"/>
                </a:lnTo>
                <a:lnTo>
                  <a:pt x="1432" y="478"/>
                </a:lnTo>
                <a:lnTo>
                  <a:pt x="1431" y="481"/>
                </a:lnTo>
                <a:lnTo>
                  <a:pt x="1432" y="489"/>
                </a:lnTo>
                <a:lnTo>
                  <a:pt x="1443" y="512"/>
                </a:lnTo>
                <a:lnTo>
                  <a:pt x="1455" y="543"/>
                </a:lnTo>
                <a:lnTo>
                  <a:pt x="1448" y="554"/>
                </a:lnTo>
                <a:lnTo>
                  <a:pt x="1447" y="573"/>
                </a:lnTo>
                <a:lnTo>
                  <a:pt x="1455" y="573"/>
                </a:lnTo>
                <a:lnTo>
                  <a:pt x="1457" y="579"/>
                </a:lnTo>
                <a:lnTo>
                  <a:pt x="1455" y="581"/>
                </a:lnTo>
                <a:lnTo>
                  <a:pt x="1457" y="591"/>
                </a:lnTo>
                <a:lnTo>
                  <a:pt x="1455" y="610"/>
                </a:lnTo>
                <a:lnTo>
                  <a:pt x="1455" y="613"/>
                </a:lnTo>
                <a:lnTo>
                  <a:pt x="1456" y="614"/>
                </a:lnTo>
                <a:lnTo>
                  <a:pt x="1458" y="628"/>
                </a:lnTo>
                <a:lnTo>
                  <a:pt x="1467" y="658"/>
                </a:lnTo>
                <a:lnTo>
                  <a:pt x="1468" y="659"/>
                </a:lnTo>
                <a:lnTo>
                  <a:pt x="1466" y="667"/>
                </a:lnTo>
                <a:lnTo>
                  <a:pt x="1465" y="693"/>
                </a:lnTo>
                <a:lnTo>
                  <a:pt x="1456" y="703"/>
                </a:lnTo>
                <a:lnTo>
                  <a:pt x="1481" y="746"/>
                </a:lnTo>
                <a:lnTo>
                  <a:pt x="1478" y="752"/>
                </a:lnTo>
                <a:lnTo>
                  <a:pt x="1476" y="753"/>
                </a:lnTo>
                <a:lnTo>
                  <a:pt x="1481" y="770"/>
                </a:lnTo>
                <a:lnTo>
                  <a:pt x="1488" y="770"/>
                </a:lnTo>
                <a:lnTo>
                  <a:pt x="1494" y="759"/>
                </a:lnTo>
                <a:lnTo>
                  <a:pt x="1505" y="832"/>
                </a:lnTo>
                <a:lnTo>
                  <a:pt x="1518" y="847"/>
                </a:lnTo>
                <a:lnTo>
                  <a:pt x="1518" y="848"/>
                </a:lnTo>
                <a:lnTo>
                  <a:pt x="1528" y="851"/>
                </a:lnTo>
                <a:lnTo>
                  <a:pt x="1552" y="916"/>
                </a:lnTo>
                <a:lnTo>
                  <a:pt x="1563" y="925"/>
                </a:lnTo>
                <a:lnTo>
                  <a:pt x="1558" y="925"/>
                </a:lnTo>
                <a:lnTo>
                  <a:pt x="1476" y="926"/>
                </a:lnTo>
                <a:lnTo>
                  <a:pt x="1462" y="927"/>
                </a:lnTo>
                <a:lnTo>
                  <a:pt x="1439" y="927"/>
                </a:lnTo>
                <a:lnTo>
                  <a:pt x="1436" y="927"/>
                </a:lnTo>
                <a:lnTo>
                  <a:pt x="1416" y="927"/>
                </a:lnTo>
                <a:lnTo>
                  <a:pt x="1395" y="929"/>
                </a:lnTo>
                <a:lnTo>
                  <a:pt x="1393" y="929"/>
                </a:lnTo>
                <a:lnTo>
                  <a:pt x="1371" y="929"/>
                </a:lnTo>
                <a:lnTo>
                  <a:pt x="1355" y="929"/>
                </a:lnTo>
                <a:lnTo>
                  <a:pt x="1348" y="929"/>
                </a:lnTo>
                <a:lnTo>
                  <a:pt x="1303" y="930"/>
                </a:lnTo>
                <a:lnTo>
                  <a:pt x="1294" y="930"/>
                </a:lnTo>
                <a:lnTo>
                  <a:pt x="1281" y="930"/>
                </a:lnTo>
                <a:lnTo>
                  <a:pt x="1273" y="930"/>
                </a:lnTo>
                <a:lnTo>
                  <a:pt x="1235" y="930"/>
                </a:lnTo>
                <a:lnTo>
                  <a:pt x="1212" y="932"/>
                </a:lnTo>
                <a:lnTo>
                  <a:pt x="1192" y="932"/>
                </a:lnTo>
                <a:lnTo>
                  <a:pt x="1191" y="932"/>
                </a:lnTo>
                <a:lnTo>
                  <a:pt x="1145" y="932"/>
                </a:lnTo>
                <a:lnTo>
                  <a:pt x="1110" y="932"/>
                </a:lnTo>
                <a:lnTo>
                  <a:pt x="1100" y="932"/>
                </a:lnTo>
                <a:lnTo>
                  <a:pt x="1090" y="932"/>
                </a:lnTo>
                <a:lnTo>
                  <a:pt x="1078" y="932"/>
                </a:lnTo>
                <a:lnTo>
                  <a:pt x="1055" y="932"/>
                </a:lnTo>
                <a:lnTo>
                  <a:pt x="1028" y="932"/>
                </a:lnTo>
                <a:lnTo>
                  <a:pt x="1010" y="932"/>
                </a:lnTo>
                <a:lnTo>
                  <a:pt x="987" y="932"/>
                </a:lnTo>
                <a:lnTo>
                  <a:pt x="986" y="932"/>
                </a:lnTo>
                <a:lnTo>
                  <a:pt x="964" y="930"/>
                </a:lnTo>
                <a:lnTo>
                  <a:pt x="946" y="93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0" name="Freeform 33"/>
          <p:cNvSpPr/>
          <p:nvPr/>
        </p:nvSpPr>
        <p:spPr>
          <a:xfrm>
            <a:off x="2743200" y="2924280"/>
            <a:ext cx="798480" cy="554040"/>
          </a:xfrm>
          <a:custGeom>
            <a:avLst/>
            <a:gdLst>
              <a:gd name="textAreaLeft" fmla="*/ 0 w 798480"/>
              <a:gd name="textAreaRight" fmla="*/ 798840 w 798480"/>
              <a:gd name="textAreaTop" fmla="*/ 0 h 554040"/>
              <a:gd name="textAreaBottom" fmla="*/ 554040 h 554040"/>
            </a:gdLst>
            <a:ahLst/>
            <a:rect l="textAreaLeft" t="textAreaTop" r="textAreaRight" b="textAreaBottom"/>
            <a:pathLst>
              <a:path w="1322" h="1057">
                <a:moveTo>
                  <a:pt x="1196" y="966"/>
                </a:moveTo>
                <a:lnTo>
                  <a:pt x="1202" y="974"/>
                </a:lnTo>
                <a:lnTo>
                  <a:pt x="1221" y="977"/>
                </a:lnTo>
                <a:lnTo>
                  <a:pt x="1258" y="993"/>
                </a:lnTo>
                <a:lnTo>
                  <a:pt x="1275" y="1017"/>
                </a:lnTo>
                <a:lnTo>
                  <a:pt x="1288" y="1047"/>
                </a:lnTo>
                <a:lnTo>
                  <a:pt x="1308" y="1054"/>
                </a:lnTo>
                <a:lnTo>
                  <a:pt x="1322" y="1057"/>
                </a:lnTo>
                <a:lnTo>
                  <a:pt x="1316" y="1052"/>
                </a:lnTo>
                <a:lnTo>
                  <a:pt x="1311" y="1035"/>
                </a:lnTo>
                <a:lnTo>
                  <a:pt x="1311" y="1025"/>
                </a:lnTo>
                <a:lnTo>
                  <a:pt x="1290" y="993"/>
                </a:lnTo>
                <a:lnTo>
                  <a:pt x="1303" y="932"/>
                </a:lnTo>
                <a:lnTo>
                  <a:pt x="1310" y="918"/>
                </a:lnTo>
                <a:lnTo>
                  <a:pt x="1309" y="891"/>
                </a:lnTo>
                <a:lnTo>
                  <a:pt x="1317" y="879"/>
                </a:lnTo>
                <a:lnTo>
                  <a:pt x="1319" y="868"/>
                </a:lnTo>
                <a:lnTo>
                  <a:pt x="1309" y="840"/>
                </a:lnTo>
                <a:lnTo>
                  <a:pt x="1300" y="828"/>
                </a:lnTo>
                <a:lnTo>
                  <a:pt x="1304" y="793"/>
                </a:lnTo>
                <a:lnTo>
                  <a:pt x="1291" y="756"/>
                </a:lnTo>
                <a:lnTo>
                  <a:pt x="1308" y="756"/>
                </a:lnTo>
                <a:lnTo>
                  <a:pt x="1316" y="756"/>
                </a:lnTo>
                <a:lnTo>
                  <a:pt x="1316" y="719"/>
                </a:lnTo>
                <a:lnTo>
                  <a:pt x="1315" y="682"/>
                </a:lnTo>
                <a:lnTo>
                  <a:pt x="1315" y="652"/>
                </a:lnTo>
                <a:lnTo>
                  <a:pt x="1315" y="608"/>
                </a:lnTo>
                <a:lnTo>
                  <a:pt x="1314" y="571"/>
                </a:lnTo>
                <a:lnTo>
                  <a:pt x="1314" y="550"/>
                </a:lnTo>
                <a:lnTo>
                  <a:pt x="1312" y="447"/>
                </a:lnTo>
                <a:lnTo>
                  <a:pt x="1312" y="423"/>
                </a:lnTo>
                <a:lnTo>
                  <a:pt x="1312" y="421"/>
                </a:lnTo>
                <a:lnTo>
                  <a:pt x="1311" y="370"/>
                </a:lnTo>
                <a:lnTo>
                  <a:pt x="1311" y="319"/>
                </a:lnTo>
                <a:lnTo>
                  <a:pt x="1310" y="233"/>
                </a:lnTo>
                <a:lnTo>
                  <a:pt x="1307" y="215"/>
                </a:lnTo>
                <a:lnTo>
                  <a:pt x="1301" y="206"/>
                </a:lnTo>
                <a:lnTo>
                  <a:pt x="1280" y="193"/>
                </a:lnTo>
                <a:lnTo>
                  <a:pt x="1245" y="140"/>
                </a:lnTo>
                <a:lnTo>
                  <a:pt x="1242" y="129"/>
                </a:lnTo>
                <a:lnTo>
                  <a:pt x="1275" y="92"/>
                </a:lnTo>
                <a:lnTo>
                  <a:pt x="1288" y="37"/>
                </a:lnTo>
                <a:lnTo>
                  <a:pt x="1258" y="37"/>
                </a:lnTo>
                <a:lnTo>
                  <a:pt x="1216" y="38"/>
                </a:lnTo>
                <a:lnTo>
                  <a:pt x="1178" y="38"/>
                </a:lnTo>
                <a:lnTo>
                  <a:pt x="1174" y="38"/>
                </a:lnTo>
                <a:lnTo>
                  <a:pt x="1133" y="40"/>
                </a:lnTo>
                <a:lnTo>
                  <a:pt x="1053" y="40"/>
                </a:lnTo>
                <a:lnTo>
                  <a:pt x="1050" y="40"/>
                </a:lnTo>
                <a:lnTo>
                  <a:pt x="1048" y="40"/>
                </a:lnTo>
                <a:lnTo>
                  <a:pt x="1008" y="40"/>
                </a:lnTo>
                <a:lnTo>
                  <a:pt x="987" y="38"/>
                </a:lnTo>
                <a:lnTo>
                  <a:pt x="928" y="38"/>
                </a:lnTo>
                <a:lnTo>
                  <a:pt x="925" y="38"/>
                </a:lnTo>
                <a:lnTo>
                  <a:pt x="883" y="37"/>
                </a:lnTo>
                <a:lnTo>
                  <a:pt x="842" y="37"/>
                </a:lnTo>
                <a:lnTo>
                  <a:pt x="779" y="35"/>
                </a:lnTo>
                <a:lnTo>
                  <a:pt x="764" y="34"/>
                </a:lnTo>
                <a:lnTo>
                  <a:pt x="736" y="34"/>
                </a:lnTo>
                <a:lnTo>
                  <a:pt x="717" y="34"/>
                </a:lnTo>
                <a:lnTo>
                  <a:pt x="716" y="33"/>
                </a:lnTo>
                <a:lnTo>
                  <a:pt x="635" y="31"/>
                </a:lnTo>
                <a:lnTo>
                  <a:pt x="633" y="30"/>
                </a:lnTo>
                <a:lnTo>
                  <a:pt x="631" y="30"/>
                </a:lnTo>
                <a:lnTo>
                  <a:pt x="529" y="27"/>
                </a:lnTo>
                <a:lnTo>
                  <a:pt x="509" y="25"/>
                </a:lnTo>
                <a:lnTo>
                  <a:pt x="383" y="20"/>
                </a:lnTo>
                <a:lnTo>
                  <a:pt x="363" y="20"/>
                </a:lnTo>
                <a:lnTo>
                  <a:pt x="301" y="16"/>
                </a:lnTo>
                <a:lnTo>
                  <a:pt x="227" y="11"/>
                </a:lnTo>
                <a:lnTo>
                  <a:pt x="217" y="11"/>
                </a:lnTo>
                <a:lnTo>
                  <a:pt x="113" y="4"/>
                </a:lnTo>
                <a:lnTo>
                  <a:pt x="51" y="0"/>
                </a:lnTo>
                <a:lnTo>
                  <a:pt x="44" y="0"/>
                </a:lnTo>
                <a:lnTo>
                  <a:pt x="43" y="18"/>
                </a:lnTo>
                <a:lnTo>
                  <a:pt x="41" y="57"/>
                </a:lnTo>
                <a:lnTo>
                  <a:pt x="35" y="204"/>
                </a:lnTo>
                <a:lnTo>
                  <a:pt x="33" y="214"/>
                </a:lnTo>
                <a:lnTo>
                  <a:pt x="31" y="276"/>
                </a:lnTo>
                <a:lnTo>
                  <a:pt x="31" y="278"/>
                </a:lnTo>
                <a:lnTo>
                  <a:pt x="28" y="278"/>
                </a:lnTo>
                <a:lnTo>
                  <a:pt x="24" y="350"/>
                </a:lnTo>
                <a:lnTo>
                  <a:pt x="22" y="403"/>
                </a:lnTo>
                <a:lnTo>
                  <a:pt x="21" y="424"/>
                </a:lnTo>
                <a:lnTo>
                  <a:pt x="17" y="498"/>
                </a:lnTo>
                <a:lnTo>
                  <a:pt x="17" y="519"/>
                </a:lnTo>
                <a:lnTo>
                  <a:pt x="16" y="530"/>
                </a:lnTo>
                <a:lnTo>
                  <a:pt x="14" y="571"/>
                </a:lnTo>
                <a:lnTo>
                  <a:pt x="12" y="615"/>
                </a:lnTo>
                <a:lnTo>
                  <a:pt x="11" y="647"/>
                </a:lnTo>
                <a:lnTo>
                  <a:pt x="9" y="684"/>
                </a:lnTo>
                <a:lnTo>
                  <a:pt x="7" y="719"/>
                </a:lnTo>
                <a:lnTo>
                  <a:pt x="7" y="720"/>
                </a:lnTo>
                <a:lnTo>
                  <a:pt x="7" y="726"/>
                </a:lnTo>
                <a:lnTo>
                  <a:pt x="5" y="757"/>
                </a:lnTo>
                <a:lnTo>
                  <a:pt x="1" y="831"/>
                </a:lnTo>
                <a:lnTo>
                  <a:pt x="0" y="868"/>
                </a:lnTo>
                <a:lnTo>
                  <a:pt x="7" y="868"/>
                </a:lnTo>
                <a:lnTo>
                  <a:pt x="9" y="868"/>
                </a:lnTo>
                <a:lnTo>
                  <a:pt x="95" y="874"/>
                </a:lnTo>
                <a:lnTo>
                  <a:pt x="140" y="876"/>
                </a:lnTo>
                <a:lnTo>
                  <a:pt x="145" y="878"/>
                </a:lnTo>
                <a:lnTo>
                  <a:pt x="183" y="881"/>
                </a:lnTo>
                <a:lnTo>
                  <a:pt x="204" y="882"/>
                </a:lnTo>
                <a:lnTo>
                  <a:pt x="208" y="882"/>
                </a:lnTo>
                <a:lnTo>
                  <a:pt x="219" y="882"/>
                </a:lnTo>
                <a:lnTo>
                  <a:pt x="273" y="886"/>
                </a:lnTo>
                <a:lnTo>
                  <a:pt x="312" y="888"/>
                </a:lnTo>
                <a:lnTo>
                  <a:pt x="342" y="889"/>
                </a:lnTo>
                <a:lnTo>
                  <a:pt x="399" y="893"/>
                </a:lnTo>
                <a:lnTo>
                  <a:pt x="412" y="893"/>
                </a:lnTo>
                <a:lnTo>
                  <a:pt x="489" y="896"/>
                </a:lnTo>
                <a:lnTo>
                  <a:pt x="559" y="899"/>
                </a:lnTo>
                <a:lnTo>
                  <a:pt x="616" y="901"/>
                </a:lnTo>
                <a:lnTo>
                  <a:pt x="668" y="902"/>
                </a:lnTo>
                <a:lnTo>
                  <a:pt x="783" y="905"/>
                </a:lnTo>
                <a:lnTo>
                  <a:pt x="832" y="906"/>
                </a:lnTo>
                <a:lnTo>
                  <a:pt x="963" y="908"/>
                </a:lnTo>
                <a:lnTo>
                  <a:pt x="984" y="935"/>
                </a:lnTo>
                <a:lnTo>
                  <a:pt x="996" y="942"/>
                </a:lnTo>
                <a:lnTo>
                  <a:pt x="1006" y="945"/>
                </a:lnTo>
                <a:lnTo>
                  <a:pt x="1023" y="954"/>
                </a:lnTo>
                <a:lnTo>
                  <a:pt x="1050" y="977"/>
                </a:lnTo>
                <a:lnTo>
                  <a:pt x="1072" y="949"/>
                </a:lnTo>
                <a:lnTo>
                  <a:pt x="1112" y="952"/>
                </a:lnTo>
                <a:lnTo>
                  <a:pt x="1117" y="952"/>
                </a:lnTo>
                <a:lnTo>
                  <a:pt x="1136" y="949"/>
                </a:lnTo>
                <a:lnTo>
                  <a:pt x="1139" y="950"/>
                </a:lnTo>
                <a:lnTo>
                  <a:pt x="1180" y="949"/>
                </a:lnTo>
                <a:lnTo>
                  <a:pt x="1196" y="96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1" name="Freeform 34"/>
          <p:cNvSpPr/>
          <p:nvPr/>
        </p:nvSpPr>
        <p:spPr>
          <a:xfrm>
            <a:off x="3849840" y="4933800"/>
            <a:ext cx="647640" cy="614520"/>
          </a:xfrm>
          <a:custGeom>
            <a:avLst/>
            <a:gdLst>
              <a:gd name="textAreaLeft" fmla="*/ 0 w 647640"/>
              <a:gd name="textAreaRight" fmla="*/ 648000 w 647640"/>
              <a:gd name="textAreaTop" fmla="*/ 0 h 614520"/>
              <a:gd name="textAreaBottom" fmla="*/ 614880 h 614520"/>
            </a:gdLst>
            <a:ahLst/>
            <a:rect l="textAreaLeft" t="textAreaTop" r="textAreaRight" b="textAreaBottom"/>
            <a:pathLst>
              <a:path w="1069" h="1173">
                <a:moveTo>
                  <a:pt x="598" y="599"/>
                </a:moveTo>
                <a:lnTo>
                  <a:pt x="622" y="596"/>
                </a:lnTo>
                <a:lnTo>
                  <a:pt x="633" y="594"/>
                </a:lnTo>
                <a:lnTo>
                  <a:pt x="668" y="591"/>
                </a:lnTo>
                <a:lnTo>
                  <a:pt x="684" y="590"/>
                </a:lnTo>
                <a:lnTo>
                  <a:pt x="692" y="590"/>
                </a:lnTo>
                <a:lnTo>
                  <a:pt x="720" y="587"/>
                </a:lnTo>
                <a:lnTo>
                  <a:pt x="724" y="587"/>
                </a:lnTo>
                <a:lnTo>
                  <a:pt x="734" y="586"/>
                </a:lnTo>
                <a:lnTo>
                  <a:pt x="759" y="583"/>
                </a:lnTo>
                <a:lnTo>
                  <a:pt x="765" y="583"/>
                </a:lnTo>
                <a:lnTo>
                  <a:pt x="782" y="582"/>
                </a:lnTo>
                <a:lnTo>
                  <a:pt x="784" y="580"/>
                </a:lnTo>
                <a:lnTo>
                  <a:pt x="809" y="579"/>
                </a:lnTo>
                <a:lnTo>
                  <a:pt x="868" y="572"/>
                </a:lnTo>
                <a:lnTo>
                  <a:pt x="884" y="570"/>
                </a:lnTo>
                <a:lnTo>
                  <a:pt x="885" y="572"/>
                </a:lnTo>
                <a:lnTo>
                  <a:pt x="889" y="570"/>
                </a:lnTo>
                <a:lnTo>
                  <a:pt x="886" y="593"/>
                </a:lnTo>
                <a:lnTo>
                  <a:pt x="875" y="647"/>
                </a:lnTo>
                <a:lnTo>
                  <a:pt x="872" y="672"/>
                </a:lnTo>
                <a:lnTo>
                  <a:pt x="893" y="719"/>
                </a:lnTo>
                <a:lnTo>
                  <a:pt x="894" y="719"/>
                </a:lnTo>
                <a:lnTo>
                  <a:pt x="908" y="730"/>
                </a:lnTo>
                <a:lnTo>
                  <a:pt x="925" y="791"/>
                </a:lnTo>
                <a:lnTo>
                  <a:pt x="947" y="810"/>
                </a:lnTo>
                <a:lnTo>
                  <a:pt x="927" y="820"/>
                </a:lnTo>
                <a:lnTo>
                  <a:pt x="903" y="857"/>
                </a:lnTo>
                <a:lnTo>
                  <a:pt x="883" y="868"/>
                </a:lnTo>
                <a:lnTo>
                  <a:pt x="905" y="884"/>
                </a:lnTo>
                <a:lnTo>
                  <a:pt x="916" y="903"/>
                </a:lnTo>
                <a:lnTo>
                  <a:pt x="933" y="905"/>
                </a:lnTo>
                <a:lnTo>
                  <a:pt x="944" y="864"/>
                </a:lnTo>
                <a:lnTo>
                  <a:pt x="955" y="852"/>
                </a:lnTo>
                <a:lnTo>
                  <a:pt x="980" y="844"/>
                </a:lnTo>
                <a:lnTo>
                  <a:pt x="1016" y="808"/>
                </a:lnTo>
                <a:lnTo>
                  <a:pt x="1017" y="875"/>
                </a:lnTo>
                <a:lnTo>
                  <a:pt x="1006" y="882"/>
                </a:lnTo>
                <a:lnTo>
                  <a:pt x="1008" y="896"/>
                </a:lnTo>
                <a:lnTo>
                  <a:pt x="977" y="935"/>
                </a:lnTo>
                <a:lnTo>
                  <a:pt x="975" y="962"/>
                </a:lnTo>
                <a:lnTo>
                  <a:pt x="961" y="947"/>
                </a:lnTo>
                <a:lnTo>
                  <a:pt x="963" y="970"/>
                </a:lnTo>
                <a:lnTo>
                  <a:pt x="936" y="960"/>
                </a:lnTo>
                <a:lnTo>
                  <a:pt x="963" y="972"/>
                </a:lnTo>
                <a:lnTo>
                  <a:pt x="936" y="977"/>
                </a:lnTo>
                <a:lnTo>
                  <a:pt x="959" y="1011"/>
                </a:lnTo>
                <a:lnTo>
                  <a:pt x="945" y="1010"/>
                </a:lnTo>
                <a:lnTo>
                  <a:pt x="967" y="1045"/>
                </a:lnTo>
                <a:lnTo>
                  <a:pt x="993" y="1041"/>
                </a:lnTo>
                <a:lnTo>
                  <a:pt x="1022" y="1061"/>
                </a:lnTo>
                <a:lnTo>
                  <a:pt x="1036" y="1055"/>
                </a:lnTo>
                <a:lnTo>
                  <a:pt x="1056" y="1079"/>
                </a:lnTo>
                <a:lnTo>
                  <a:pt x="1069" y="1084"/>
                </a:lnTo>
                <a:lnTo>
                  <a:pt x="1065" y="1130"/>
                </a:lnTo>
                <a:lnTo>
                  <a:pt x="1049" y="1133"/>
                </a:lnTo>
                <a:lnTo>
                  <a:pt x="1047" y="1160"/>
                </a:lnTo>
                <a:lnTo>
                  <a:pt x="1047" y="1152"/>
                </a:lnTo>
                <a:lnTo>
                  <a:pt x="1027" y="1129"/>
                </a:lnTo>
                <a:lnTo>
                  <a:pt x="1001" y="1169"/>
                </a:lnTo>
                <a:lnTo>
                  <a:pt x="997" y="1163"/>
                </a:lnTo>
                <a:lnTo>
                  <a:pt x="1003" y="1156"/>
                </a:lnTo>
                <a:lnTo>
                  <a:pt x="999" y="1132"/>
                </a:lnTo>
                <a:lnTo>
                  <a:pt x="993" y="1130"/>
                </a:lnTo>
                <a:lnTo>
                  <a:pt x="973" y="1094"/>
                </a:lnTo>
                <a:lnTo>
                  <a:pt x="918" y="1074"/>
                </a:lnTo>
                <a:lnTo>
                  <a:pt x="886" y="1079"/>
                </a:lnTo>
                <a:lnTo>
                  <a:pt x="852" y="1123"/>
                </a:lnTo>
                <a:lnTo>
                  <a:pt x="851" y="1123"/>
                </a:lnTo>
                <a:lnTo>
                  <a:pt x="820" y="1150"/>
                </a:lnTo>
                <a:lnTo>
                  <a:pt x="795" y="1160"/>
                </a:lnTo>
                <a:lnTo>
                  <a:pt x="813" y="1150"/>
                </a:lnTo>
                <a:lnTo>
                  <a:pt x="822" y="1137"/>
                </a:lnTo>
                <a:lnTo>
                  <a:pt x="804" y="1102"/>
                </a:lnTo>
                <a:lnTo>
                  <a:pt x="790" y="1099"/>
                </a:lnTo>
                <a:lnTo>
                  <a:pt x="784" y="1119"/>
                </a:lnTo>
                <a:lnTo>
                  <a:pt x="765" y="1115"/>
                </a:lnTo>
                <a:lnTo>
                  <a:pt x="732" y="1145"/>
                </a:lnTo>
                <a:lnTo>
                  <a:pt x="707" y="1173"/>
                </a:lnTo>
                <a:lnTo>
                  <a:pt x="699" y="1173"/>
                </a:lnTo>
                <a:lnTo>
                  <a:pt x="678" y="1142"/>
                </a:lnTo>
                <a:lnTo>
                  <a:pt x="641" y="1147"/>
                </a:lnTo>
                <a:lnTo>
                  <a:pt x="584" y="1096"/>
                </a:lnTo>
                <a:lnTo>
                  <a:pt x="598" y="1102"/>
                </a:lnTo>
                <a:lnTo>
                  <a:pt x="612" y="1081"/>
                </a:lnTo>
                <a:lnTo>
                  <a:pt x="604" y="1052"/>
                </a:lnTo>
                <a:lnTo>
                  <a:pt x="555" y="1038"/>
                </a:lnTo>
                <a:lnTo>
                  <a:pt x="545" y="1044"/>
                </a:lnTo>
                <a:lnTo>
                  <a:pt x="543" y="1013"/>
                </a:lnTo>
                <a:lnTo>
                  <a:pt x="528" y="1013"/>
                </a:lnTo>
                <a:lnTo>
                  <a:pt x="526" y="980"/>
                </a:lnTo>
                <a:lnTo>
                  <a:pt x="501" y="979"/>
                </a:lnTo>
                <a:lnTo>
                  <a:pt x="476" y="990"/>
                </a:lnTo>
                <a:lnTo>
                  <a:pt x="479" y="983"/>
                </a:lnTo>
                <a:lnTo>
                  <a:pt x="473" y="980"/>
                </a:lnTo>
                <a:lnTo>
                  <a:pt x="473" y="956"/>
                </a:lnTo>
                <a:lnTo>
                  <a:pt x="454" y="957"/>
                </a:lnTo>
                <a:lnTo>
                  <a:pt x="448" y="970"/>
                </a:lnTo>
                <a:lnTo>
                  <a:pt x="417" y="986"/>
                </a:lnTo>
                <a:lnTo>
                  <a:pt x="452" y="1023"/>
                </a:lnTo>
                <a:lnTo>
                  <a:pt x="484" y="1017"/>
                </a:lnTo>
                <a:lnTo>
                  <a:pt x="503" y="1030"/>
                </a:lnTo>
                <a:lnTo>
                  <a:pt x="502" y="1057"/>
                </a:lnTo>
                <a:lnTo>
                  <a:pt x="478" y="1054"/>
                </a:lnTo>
                <a:lnTo>
                  <a:pt x="444" y="1033"/>
                </a:lnTo>
                <a:lnTo>
                  <a:pt x="423" y="1034"/>
                </a:lnTo>
                <a:lnTo>
                  <a:pt x="401" y="1048"/>
                </a:lnTo>
                <a:lnTo>
                  <a:pt x="325" y="1042"/>
                </a:lnTo>
                <a:lnTo>
                  <a:pt x="253" y="1007"/>
                </a:lnTo>
                <a:lnTo>
                  <a:pt x="191" y="991"/>
                </a:lnTo>
                <a:lnTo>
                  <a:pt x="92" y="1010"/>
                </a:lnTo>
                <a:lnTo>
                  <a:pt x="77" y="1037"/>
                </a:lnTo>
                <a:lnTo>
                  <a:pt x="65" y="1010"/>
                </a:lnTo>
                <a:lnTo>
                  <a:pt x="62" y="979"/>
                </a:lnTo>
                <a:lnTo>
                  <a:pt x="69" y="972"/>
                </a:lnTo>
                <a:lnTo>
                  <a:pt x="85" y="930"/>
                </a:lnTo>
                <a:lnTo>
                  <a:pt x="90" y="920"/>
                </a:lnTo>
                <a:lnTo>
                  <a:pt x="94" y="915"/>
                </a:lnTo>
                <a:lnTo>
                  <a:pt x="97" y="892"/>
                </a:lnTo>
                <a:lnTo>
                  <a:pt x="95" y="857"/>
                </a:lnTo>
                <a:lnTo>
                  <a:pt x="86" y="835"/>
                </a:lnTo>
                <a:lnTo>
                  <a:pt x="85" y="813"/>
                </a:lnTo>
                <a:lnTo>
                  <a:pt x="87" y="810"/>
                </a:lnTo>
                <a:lnTo>
                  <a:pt x="92" y="781"/>
                </a:lnTo>
                <a:lnTo>
                  <a:pt x="110" y="706"/>
                </a:lnTo>
                <a:lnTo>
                  <a:pt x="119" y="669"/>
                </a:lnTo>
                <a:lnTo>
                  <a:pt x="113" y="631"/>
                </a:lnTo>
                <a:lnTo>
                  <a:pt x="117" y="576"/>
                </a:lnTo>
                <a:lnTo>
                  <a:pt x="106" y="579"/>
                </a:lnTo>
                <a:lnTo>
                  <a:pt x="73" y="488"/>
                </a:lnTo>
                <a:lnTo>
                  <a:pt x="79" y="484"/>
                </a:lnTo>
                <a:lnTo>
                  <a:pt x="56" y="460"/>
                </a:lnTo>
                <a:lnTo>
                  <a:pt x="54" y="410"/>
                </a:lnTo>
                <a:lnTo>
                  <a:pt x="44" y="383"/>
                </a:lnTo>
                <a:lnTo>
                  <a:pt x="45" y="383"/>
                </a:lnTo>
                <a:lnTo>
                  <a:pt x="18" y="349"/>
                </a:lnTo>
                <a:lnTo>
                  <a:pt x="17" y="345"/>
                </a:lnTo>
                <a:lnTo>
                  <a:pt x="16" y="343"/>
                </a:lnTo>
                <a:lnTo>
                  <a:pt x="15" y="340"/>
                </a:lnTo>
                <a:lnTo>
                  <a:pt x="10" y="338"/>
                </a:lnTo>
                <a:lnTo>
                  <a:pt x="8" y="279"/>
                </a:lnTo>
                <a:lnTo>
                  <a:pt x="8" y="262"/>
                </a:lnTo>
                <a:lnTo>
                  <a:pt x="7" y="226"/>
                </a:lnTo>
                <a:lnTo>
                  <a:pt x="7" y="221"/>
                </a:lnTo>
                <a:lnTo>
                  <a:pt x="6" y="189"/>
                </a:lnTo>
                <a:lnTo>
                  <a:pt x="5" y="152"/>
                </a:lnTo>
                <a:lnTo>
                  <a:pt x="4" y="130"/>
                </a:lnTo>
                <a:lnTo>
                  <a:pt x="4" y="118"/>
                </a:lnTo>
                <a:lnTo>
                  <a:pt x="4" y="113"/>
                </a:lnTo>
                <a:lnTo>
                  <a:pt x="2" y="75"/>
                </a:lnTo>
                <a:lnTo>
                  <a:pt x="1" y="40"/>
                </a:lnTo>
                <a:lnTo>
                  <a:pt x="0" y="34"/>
                </a:lnTo>
                <a:lnTo>
                  <a:pt x="9" y="33"/>
                </a:lnTo>
                <a:lnTo>
                  <a:pt x="23" y="33"/>
                </a:lnTo>
                <a:lnTo>
                  <a:pt x="47" y="31"/>
                </a:lnTo>
                <a:lnTo>
                  <a:pt x="72" y="30"/>
                </a:lnTo>
                <a:lnTo>
                  <a:pt x="74" y="30"/>
                </a:lnTo>
                <a:lnTo>
                  <a:pt x="103" y="28"/>
                </a:lnTo>
                <a:lnTo>
                  <a:pt x="108" y="28"/>
                </a:lnTo>
                <a:lnTo>
                  <a:pt x="110" y="28"/>
                </a:lnTo>
                <a:lnTo>
                  <a:pt x="140" y="27"/>
                </a:lnTo>
                <a:lnTo>
                  <a:pt x="156" y="26"/>
                </a:lnTo>
                <a:lnTo>
                  <a:pt x="159" y="26"/>
                </a:lnTo>
                <a:lnTo>
                  <a:pt x="164" y="26"/>
                </a:lnTo>
                <a:lnTo>
                  <a:pt x="169" y="26"/>
                </a:lnTo>
                <a:lnTo>
                  <a:pt x="208" y="23"/>
                </a:lnTo>
                <a:lnTo>
                  <a:pt x="244" y="21"/>
                </a:lnTo>
                <a:lnTo>
                  <a:pt x="245" y="21"/>
                </a:lnTo>
                <a:lnTo>
                  <a:pt x="260" y="20"/>
                </a:lnTo>
                <a:lnTo>
                  <a:pt x="304" y="18"/>
                </a:lnTo>
                <a:lnTo>
                  <a:pt x="370" y="14"/>
                </a:lnTo>
                <a:lnTo>
                  <a:pt x="390" y="13"/>
                </a:lnTo>
                <a:lnTo>
                  <a:pt x="485" y="7"/>
                </a:lnTo>
                <a:lnTo>
                  <a:pt x="486" y="7"/>
                </a:lnTo>
                <a:lnTo>
                  <a:pt x="509" y="4"/>
                </a:lnTo>
                <a:lnTo>
                  <a:pt x="515" y="4"/>
                </a:lnTo>
                <a:lnTo>
                  <a:pt x="519" y="4"/>
                </a:lnTo>
                <a:lnTo>
                  <a:pt x="520" y="4"/>
                </a:lnTo>
                <a:lnTo>
                  <a:pt x="548" y="1"/>
                </a:lnTo>
                <a:lnTo>
                  <a:pt x="556" y="1"/>
                </a:lnTo>
                <a:lnTo>
                  <a:pt x="560" y="1"/>
                </a:lnTo>
                <a:lnTo>
                  <a:pt x="567" y="0"/>
                </a:lnTo>
                <a:lnTo>
                  <a:pt x="582" y="125"/>
                </a:lnTo>
                <a:lnTo>
                  <a:pt x="606" y="111"/>
                </a:lnTo>
                <a:lnTo>
                  <a:pt x="598" y="126"/>
                </a:lnTo>
                <a:lnTo>
                  <a:pt x="593" y="130"/>
                </a:lnTo>
                <a:lnTo>
                  <a:pt x="608" y="153"/>
                </a:lnTo>
                <a:lnTo>
                  <a:pt x="585" y="150"/>
                </a:lnTo>
                <a:lnTo>
                  <a:pt x="609" y="163"/>
                </a:lnTo>
                <a:lnTo>
                  <a:pt x="613" y="240"/>
                </a:lnTo>
                <a:lnTo>
                  <a:pt x="589" y="237"/>
                </a:lnTo>
                <a:lnTo>
                  <a:pt x="590" y="261"/>
                </a:lnTo>
                <a:lnTo>
                  <a:pt x="604" y="261"/>
                </a:lnTo>
                <a:lnTo>
                  <a:pt x="611" y="260"/>
                </a:lnTo>
                <a:lnTo>
                  <a:pt x="608" y="261"/>
                </a:lnTo>
                <a:lnTo>
                  <a:pt x="608" y="264"/>
                </a:lnTo>
                <a:lnTo>
                  <a:pt x="590" y="278"/>
                </a:lnTo>
                <a:lnTo>
                  <a:pt x="599" y="298"/>
                </a:lnTo>
                <a:lnTo>
                  <a:pt x="571" y="339"/>
                </a:lnTo>
                <a:lnTo>
                  <a:pt x="569" y="340"/>
                </a:lnTo>
                <a:lnTo>
                  <a:pt x="567" y="376"/>
                </a:lnTo>
                <a:lnTo>
                  <a:pt x="557" y="377"/>
                </a:lnTo>
                <a:lnTo>
                  <a:pt x="550" y="377"/>
                </a:lnTo>
                <a:lnTo>
                  <a:pt x="545" y="382"/>
                </a:lnTo>
                <a:lnTo>
                  <a:pt x="545" y="383"/>
                </a:lnTo>
                <a:lnTo>
                  <a:pt x="523" y="411"/>
                </a:lnTo>
                <a:lnTo>
                  <a:pt x="527" y="494"/>
                </a:lnTo>
                <a:lnTo>
                  <a:pt x="511" y="547"/>
                </a:lnTo>
                <a:lnTo>
                  <a:pt x="505" y="566"/>
                </a:lnTo>
                <a:lnTo>
                  <a:pt x="510" y="601"/>
                </a:lnTo>
                <a:lnTo>
                  <a:pt x="504" y="606"/>
                </a:lnTo>
                <a:lnTo>
                  <a:pt x="558" y="601"/>
                </a:lnTo>
                <a:lnTo>
                  <a:pt x="583" y="599"/>
                </a:lnTo>
                <a:lnTo>
                  <a:pt x="598" y="599"/>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2" name="Freeform 35"/>
          <p:cNvSpPr/>
          <p:nvPr/>
        </p:nvSpPr>
        <p:spPr>
          <a:xfrm>
            <a:off x="3765600" y="4378320"/>
            <a:ext cx="573120" cy="573120"/>
          </a:xfrm>
          <a:custGeom>
            <a:avLst/>
            <a:gdLst>
              <a:gd name="textAreaLeft" fmla="*/ 0 w 573120"/>
              <a:gd name="textAreaRight" fmla="*/ 573480 w 573120"/>
              <a:gd name="textAreaTop" fmla="*/ 0 h 573120"/>
              <a:gd name="textAreaBottom" fmla="*/ 573480 h 573120"/>
            </a:gdLst>
            <a:ahLst/>
            <a:rect l="textAreaLeft" t="textAreaTop" r="textAreaRight" b="textAreaBottom"/>
            <a:pathLst>
              <a:path w="948" h="1093">
                <a:moveTo>
                  <a:pt x="29" y="278"/>
                </a:moveTo>
                <a:lnTo>
                  <a:pt x="32" y="293"/>
                </a:lnTo>
                <a:lnTo>
                  <a:pt x="33" y="303"/>
                </a:lnTo>
                <a:lnTo>
                  <a:pt x="34" y="314"/>
                </a:lnTo>
                <a:lnTo>
                  <a:pt x="40" y="351"/>
                </a:lnTo>
                <a:lnTo>
                  <a:pt x="40" y="356"/>
                </a:lnTo>
                <a:lnTo>
                  <a:pt x="44" y="385"/>
                </a:lnTo>
                <a:lnTo>
                  <a:pt x="44" y="387"/>
                </a:lnTo>
                <a:lnTo>
                  <a:pt x="43" y="388"/>
                </a:lnTo>
                <a:lnTo>
                  <a:pt x="44" y="392"/>
                </a:lnTo>
                <a:lnTo>
                  <a:pt x="44" y="429"/>
                </a:lnTo>
                <a:lnTo>
                  <a:pt x="45" y="524"/>
                </a:lnTo>
                <a:lnTo>
                  <a:pt x="45" y="538"/>
                </a:lnTo>
                <a:lnTo>
                  <a:pt x="45" y="541"/>
                </a:lnTo>
                <a:lnTo>
                  <a:pt x="45" y="585"/>
                </a:lnTo>
                <a:lnTo>
                  <a:pt x="45" y="598"/>
                </a:lnTo>
                <a:lnTo>
                  <a:pt x="45" y="611"/>
                </a:lnTo>
                <a:lnTo>
                  <a:pt x="45" y="652"/>
                </a:lnTo>
                <a:lnTo>
                  <a:pt x="46" y="666"/>
                </a:lnTo>
                <a:lnTo>
                  <a:pt x="46" y="729"/>
                </a:lnTo>
                <a:lnTo>
                  <a:pt x="46" y="747"/>
                </a:lnTo>
                <a:lnTo>
                  <a:pt x="46" y="765"/>
                </a:lnTo>
                <a:lnTo>
                  <a:pt x="48" y="816"/>
                </a:lnTo>
                <a:lnTo>
                  <a:pt x="48" y="821"/>
                </a:lnTo>
                <a:lnTo>
                  <a:pt x="48" y="829"/>
                </a:lnTo>
                <a:lnTo>
                  <a:pt x="48" y="836"/>
                </a:lnTo>
                <a:lnTo>
                  <a:pt x="49" y="912"/>
                </a:lnTo>
                <a:lnTo>
                  <a:pt x="70" y="938"/>
                </a:lnTo>
                <a:lnTo>
                  <a:pt x="94" y="924"/>
                </a:lnTo>
                <a:lnTo>
                  <a:pt x="136" y="934"/>
                </a:lnTo>
                <a:lnTo>
                  <a:pt x="136" y="941"/>
                </a:lnTo>
                <a:lnTo>
                  <a:pt x="137" y="987"/>
                </a:lnTo>
                <a:lnTo>
                  <a:pt x="138" y="1018"/>
                </a:lnTo>
                <a:lnTo>
                  <a:pt x="139" y="1024"/>
                </a:lnTo>
                <a:lnTo>
                  <a:pt x="139" y="1060"/>
                </a:lnTo>
                <a:lnTo>
                  <a:pt x="140" y="1093"/>
                </a:lnTo>
                <a:lnTo>
                  <a:pt x="149" y="1092"/>
                </a:lnTo>
                <a:lnTo>
                  <a:pt x="163" y="1092"/>
                </a:lnTo>
                <a:lnTo>
                  <a:pt x="187" y="1090"/>
                </a:lnTo>
                <a:lnTo>
                  <a:pt x="212" y="1089"/>
                </a:lnTo>
                <a:lnTo>
                  <a:pt x="214" y="1089"/>
                </a:lnTo>
                <a:lnTo>
                  <a:pt x="243" y="1087"/>
                </a:lnTo>
                <a:lnTo>
                  <a:pt x="248" y="1087"/>
                </a:lnTo>
                <a:lnTo>
                  <a:pt x="250" y="1087"/>
                </a:lnTo>
                <a:lnTo>
                  <a:pt x="280" y="1086"/>
                </a:lnTo>
                <a:lnTo>
                  <a:pt x="296" y="1085"/>
                </a:lnTo>
                <a:lnTo>
                  <a:pt x="299" y="1085"/>
                </a:lnTo>
                <a:lnTo>
                  <a:pt x="304" y="1085"/>
                </a:lnTo>
                <a:lnTo>
                  <a:pt x="309" y="1085"/>
                </a:lnTo>
                <a:lnTo>
                  <a:pt x="348" y="1082"/>
                </a:lnTo>
                <a:lnTo>
                  <a:pt x="384" y="1080"/>
                </a:lnTo>
                <a:lnTo>
                  <a:pt x="385" y="1080"/>
                </a:lnTo>
                <a:lnTo>
                  <a:pt x="400" y="1079"/>
                </a:lnTo>
                <a:lnTo>
                  <a:pt x="444" y="1077"/>
                </a:lnTo>
                <a:lnTo>
                  <a:pt x="510" y="1073"/>
                </a:lnTo>
                <a:lnTo>
                  <a:pt x="530" y="1072"/>
                </a:lnTo>
                <a:lnTo>
                  <a:pt x="625" y="1066"/>
                </a:lnTo>
                <a:lnTo>
                  <a:pt x="626" y="1066"/>
                </a:lnTo>
                <a:lnTo>
                  <a:pt x="649" y="1063"/>
                </a:lnTo>
                <a:lnTo>
                  <a:pt x="655" y="1063"/>
                </a:lnTo>
                <a:lnTo>
                  <a:pt x="659" y="1063"/>
                </a:lnTo>
                <a:lnTo>
                  <a:pt x="660" y="1063"/>
                </a:lnTo>
                <a:lnTo>
                  <a:pt x="688" y="1060"/>
                </a:lnTo>
                <a:lnTo>
                  <a:pt x="696" y="1060"/>
                </a:lnTo>
                <a:lnTo>
                  <a:pt x="700" y="1060"/>
                </a:lnTo>
                <a:lnTo>
                  <a:pt x="707" y="1059"/>
                </a:lnTo>
                <a:lnTo>
                  <a:pt x="707" y="1058"/>
                </a:lnTo>
                <a:lnTo>
                  <a:pt x="709" y="946"/>
                </a:lnTo>
                <a:lnTo>
                  <a:pt x="700" y="947"/>
                </a:lnTo>
                <a:lnTo>
                  <a:pt x="707" y="919"/>
                </a:lnTo>
                <a:lnTo>
                  <a:pt x="687" y="930"/>
                </a:lnTo>
                <a:lnTo>
                  <a:pt x="696" y="910"/>
                </a:lnTo>
                <a:lnTo>
                  <a:pt x="689" y="904"/>
                </a:lnTo>
                <a:lnTo>
                  <a:pt x="688" y="903"/>
                </a:lnTo>
                <a:lnTo>
                  <a:pt x="688" y="902"/>
                </a:lnTo>
                <a:lnTo>
                  <a:pt x="685" y="894"/>
                </a:lnTo>
                <a:lnTo>
                  <a:pt x="704" y="849"/>
                </a:lnTo>
                <a:lnTo>
                  <a:pt x="703" y="826"/>
                </a:lnTo>
                <a:lnTo>
                  <a:pt x="728" y="829"/>
                </a:lnTo>
                <a:lnTo>
                  <a:pt x="708" y="767"/>
                </a:lnTo>
                <a:lnTo>
                  <a:pt x="723" y="755"/>
                </a:lnTo>
                <a:lnTo>
                  <a:pt x="731" y="724"/>
                </a:lnTo>
                <a:lnTo>
                  <a:pt x="731" y="723"/>
                </a:lnTo>
                <a:lnTo>
                  <a:pt x="751" y="683"/>
                </a:lnTo>
                <a:lnTo>
                  <a:pt x="767" y="669"/>
                </a:lnTo>
                <a:lnTo>
                  <a:pt x="762" y="651"/>
                </a:lnTo>
                <a:lnTo>
                  <a:pt x="780" y="645"/>
                </a:lnTo>
                <a:lnTo>
                  <a:pt x="777" y="659"/>
                </a:lnTo>
                <a:lnTo>
                  <a:pt x="780" y="660"/>
                </a:lnTo>
                <a:lnTo>
                  <a:pt x="799" y="597"/>
                </a:lnTo>
                <a:lnTo>
                  <a:pt x="793" y="563"/>
                </a:lnTo>
                <a:lnTo>
                  <a:pt x="793" y="561"/>
                </a:lnTo>
                <a:lnTo>
                  <a:pt x="800" y="554"/>
                </a:lnTo>
                <a:lnTo>
                  <a:pt x="803" y="565"/>
                </a:lnTo>
                <a:lnTo>
                  <a:pt x="816" y="547"/>
                </a:lnTo>
                <a:lnTo>
                  <a:pt x="794" y="534"/>
                </a:lnTo>
                <a:lnTo>
                  <a:pt x="800" y="529"/>
                </a:lnTo>
                <a:lnTo>
                  <a:pt x="808" y="536"/>
                </a:lnTo>
                <a:lnTo>
                  <a:pt x="817" y="527"/>
                </a:lnTo>
                <a:lnTo>
                  <a:pt x="813" y="520"/>
                </a:lnTo>
                <a:lnTo>
                  <a:pt x="824" y="503"/>
                </a:lnTo>
                <a:lnTo>
                  <a:pt x="825" y="500"/>
                </a:lnTo>
                <a:lnTo>
                  <a:pt x="827" y="496"/>
                </a:lnTo>
                <a:lnTo>
                  <a:pt x="843" y="492"/>
                </a:lnTo>
                <a:lnTo>
                  <a:pt x="852" y="479"/>
                </a:lnTo>
                <a:lnTo>
                  <a:pt x="851" y="465"/>
                </a:lnTo>
                <a:lnTo>
                  <a:pt x="840" y="451"/>
                </a:lnTo>
                <a:lnTo>
                  <a:pt x="868" y="408"/>
                </a:lnTo>
                <a:lnTo>
                  <a:pt x="881" y="408"/>
                </a:lnTo>
                <a:lnTo>
                  <a:pt x="874" y="339"/>
                </a:lnTo>
                <a:lnTo>
                  <a:pt x="867" y="323"/>
                </a:lnTo>
                <a:lnTo>
                  <a:pt x="865" y="334"/>
                </a:lnTo>
                <a:lnTo>
                  <a:pt x="857" y="333"/>
                </a:lnTo>
                <a:lnTo>
                  <a:pt x="864" y="316"/>
                </a:lnTo>
                <a:lnTo>
                  <a:pt x="880" y="296"/>
                </a:lnTo>
                <a:lnTo>
                  <a:pt x="888" y="276"/>
                </a:lnTo>
                <a:lnTo>
                  <a:pt x="906" y="282"/>
                </a:lnTo>
                <a:lnTo>
                  <a:pt x="908" y="217"/>
                </a:lnTo>
                <a:lnTo>
                  <a:pt x="929" y="170"/>
                </a:lnTo>
                <a:lnTo>
                  <a:pt x="948" y="167"/>
                </a:lnTo>
                <a:lnTo>
                  <a:pt x="930" y="140"/>
                </a:lnTo>
                <a:lnTo>
                  <a:pt x="927" y="141"/>
                </a:lnTo>
                <a:lnTo>
                  <a:pt x="897" y="144"/>
                </a:lnTo>
                <a:lnTo>
                  <a:pt x="888" y="146"/>
                </a:lnTo>
                <a:lnTo>
                  <a:pt x="848" y="150"/>
                </a:lnTo>
                <a:lnTo>
                  <a:pt x="833" y="151"/>
                </a:lnTo>
                <a:lnTo>
                  <a:pt x="825" y="153"/>
                </a:lnTo>
                <a:lnTo>
                  <a:pt x="809" y="154"/>
                </a:lnTo>
                <a:lnTo>
                  <a:pt x="823" y="117"/>
                </a:lnTo>
                <a:lnTo>
                  <a:pt x="827" y="114"/>
                </a:lnTo>
                <a:lnTo>
                  <a:pt x="840" y="89"/>
                </a:lnTo>
                <a:lnTo>
                  <a:pt x="851" y="75"/>
                </a:lnTo>
                <a:lnTo>
                  <a:pt x="842" y="0"/>
                </a:lnTo>
                <a:lnTo>
                  <a:pt x="828" y="1"/>
                </a:lnTo>
                <a:lnTo>
                  <a:pt x="824" y="2"/>
                </a:lnTo>
                <a:lnTo>
                  <a:pt x="815" y="2"/>
                </a:lnTo>
                <a:lnTo>
                  <a:pt x="762" y="7"/>
                </a:lnTo>
                <a:lnTo>
                  <a:pt x="736" y="9"/>
                </a:lnTo>
                <a:lnTo>
                  <a:pt x="733" y="9"/>
                </a:lnTo>
                <a:lnTo>
                  <a:pt x="722" y="11"/>
                </a:lnTo>
                <a:lnTo>
                  <a:pt x="705" y="12"/>
                </a:lnTo>
                <a:lnTo>
                  <a:pt x="682" y="14"/>
                </a:lnTo>
                <a:lnTo>
                  <a:pt x="658" y="17"/>
                </a:lnTo>
                <a:lnTo>
                  <a:pt x="644" y="18"/>
                </a:lnTo>
                <a:lnTo>
                  <a:pt x="637" y="18"/>
                </a:lnTo>
                <a:lnTo>
                  <a:pt x="605" y="21"/>
                </a:lnTo>
                <a:lnTo>
                  <a:pt x="604" y="21"/>
                </a:lnTo>
                <a:lnTo>
                  <a:pt x="603" y="21"/>
                </a:lnTo>
                <a:lnTo>
                  <a:pt x="597" y="22"/>
                </a:lnTo>
                <a:lnTo>
                  <a:pt x="587" y="22"/>
                </a:lnTo>
                <a:lnTo>
                  <a:pt x="578" y="22"/>
                </a:lnTo>
                <a:lnTo>
                  <a:pt x="555" y="25"/>
                </a:lnTo>
                <a:lnTo>
                  <a:pt x="540" y="25"/>
                </a:lnTo>
                <a:lnTo>
                  <a:pt x="493" y="29"/>
                </a:lnTo>
                <a:lnTo>
                  <a:pt x="470" y="31"/>
                </a:lnTo>
                <a:lnTo>
                  <a:pt x="469" y="31"/>
                </a:lnTo>
                <a:lnTo>
                  <a:pt x="465" y="31"/>
                </a:lnTo>
                <a:lnTo>
                  <a:pt x="422" y="35"/>
                </a:lnTo>
                <a:lnTo>
                  <a:pt x="411" y="35"/>
                </a:lnTo>
                <a:lnTo>
                  <a:pt x="394" y="36"/>
                </a:lnTo>
                <a:lnTo>
                  <a:pt x="358" y="39"/>
                </a:lnTo>
                <a:lnTo>
                  <a:pt x="352" y="39"/>
                </a:lnTo>
                <a:lnTo>
                  <a:pt x="348" y="39"/>
                </a:lnTo>
                <a:lnTo>
                  <a:pt x="332" y="41"/>
                </a:lnTo>
                <a:lnTo>
                  <a:pt x="296" y="42"/>
                </a:lnTo>
                <a:lnTo>
                  <a:pt x="276" y="44"/>
                </a:lnTo>
                <a:lnTo>
                  <a:pt x="249" y="45"/>
                </a:lnTo>
                <a:lnTo>
                  <a:pt x="245" y="45"/>
                </a:lnTo>
                <a:lnTo>
                  <a:pt x="234" y="46"/>
                </a:lnTo>
                <a:lnTo>
                  <a:pt x="221" y="46"/>
                </a:lnTo>
                <a:lnTo>
                  <a:pt x="195" y="48"/>
                </a:lnTo>
                <a:lnTo>
                  <a:pt x="171" y="49"/>
                </a:lnTo>
                <a:lnTo>
                  <a:pt x="155" y="51"/>
                </a:lnTo>
                <a:lnTo>
                  <a:pt x="141" y="51"/>
                </a:lnTo>
                <a:lnTo>
                  <a:pt x="129" y="52"/>
                </a:lnTo>
                <a:lnTo>
                  <a:pt x="116" y="52"/>
                </a:lnTo>
                <a:lnTo>
                  <a:pt x="101" y="53"/>
                </a:lnTo>
                <a:lnTo>
                  <a:pt x="45" y="55"/>
                </a:lnTo>
                <a:lnTo>
                  <a:pt x="21" y="56"/>
                </a:lnTo>
                <a:lnTo>
                  <a:pt x="0" y="58"/>
                </a:lnTo>
                <a:lnTo>
                  <a:pt x="4" y="95"/>
                </a:lnTo>
                <a:lnTo>
                  <a:pt x="6" y="114"/>
                </a:lnTo>
                <a:lnTo>
                  <a:pt x="12" y="158"/>
                </a:lnTo>
                <a:lnTo>
                  <a:pt x="14" y="168"/>
                </a:lnTo>
                <a:lnTo>
                  <a:pt x="14" y="175"/>
                </a:lnTo>
                <a:lnTo>
                  <a:pt x="25" y="243"/>
                </a:lnTo>
                <a:lnTo>
                  <a:pt x="27" y="265"/>
                </a:lnTo>
                <a:lnTo>
                  <a:pt x="29" y="278"/>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3" name="Freeform 36"/>
          <p:cNvSpPr/>
          <p:nvPr/>
        </p:nvSpPr>
        <p:spPr>
          <a:xfrm>
            <a:off x="2806560" y="4322880"/>
            <a:ext cx="987480" cy="536400"/>
          </a:xfrm>
          <a:custGeom>
            <a:avLst/>
            <a:gdLst>
              <a:gd name="textAreaLeft" fmla="*/ 0 w 987480"/>
              <a:gd name="textAreaRight" fmla="*/ 987840 w 987480"/>
              <a:gd name="textAreaTop" fmla="*/ 0 h 536400"/>
              <a:gd name="textAreaBottom" fmla="*/ 536760 h 536400"/>
            </a:gdLst>
            <a:ahLst/>
            <a:rect l="textAreaLeft" t="textAreaTop" r="textAreaRight" b="textAreaBottom"/>
            <a:pathLst>
              <a:path w="1633" h="1027">
                <a:moveTo>
                  <a:pt x="1596" y="266"/>
                </a:moveTo>
                <a:lnTo>
                  <a:pt x="1590" y="222"/>
                </a:lnTo>
                <a:lnTo>
                  <a:pt x="1588" y="203"/>
                </a:lnTo>
                <a:lnTo>
                  <a:pt x="1584" y="166"/>
                </a:lnTo>
                <a:lnTo>
                  <a:pt x="1582" y="136"/>
                </a:lnTo>
                <a:lnTo>
                  <a:pt x="1582" y="122"/>
                </a:lnTo>
                <a:lnTo>
                  <a:pt x="1582" y="115"/>
                </a:lnTo>
                <a:lnTo>
                  <a:pt x="1581" y="112"/>
                </a:lnTo>
                <a:lnTo>
                  <a:pt x="1581" y="95"/>
                </a:lnTo>
                <a:lnTo>
                  <a:pt x="1581" y="86"/>
                </a:lnTo>
                <a:lnTo>
                  <a:pt x="1580" y="58"/>
                </a:lnTo>
                <a:lnTo>
                  <a:pt x="1580" y="28"/>
                </a:lnTo>
                <a:lnTo>
                  <a:pt x="1579" y="17"/>
                </a:lnTo>
                <a:lnTo>
                  <a:pt x="1578" y="17"/>
                </a:lnTo>
                <a:lnTo>
                  <a:pt x="1555" y="17"/>
                </a:lnTo>
                <a:lnTo>
                  <a:pt x="1506" y="18"/>
                </a:lnTo>
                <a:lnTo>
                  <a:pt x="1494" y="20"/>
                </a:lnTo>
                <a:lnTo>
                  <a:pt x="1461" y="21"/>
                </a:lnTo>
                <a:lnTo>
                  <a:pt x="1449" y="21"/>
                </a:lnTo>
                <a:lnTo>
                  <a:pt x="1432" y="21"/>
                </a:lnTo>
                <a:lnTo>
                  <a:pt x="1414" y="22"/>
                </a:lnTo>
                <a:lnTo>
                  <a:pt x="1410" y="22"/>
                </a:lnTo>
                <a:lnTo>
                  <a:pt x="1390" y="22"/>
                </a:lnTo>
                <a:lnTo>
                  <a:pt x="1382" y="22"/>
                </a:lnTo>
                <a:lnTo>
                  <a:pt x="1359" y="24"/>
                </a:lnTo>
                <a:lnTo>
                  <a:pt x="1343" y="24"/>
                </a:lnTo>
                <a:lnTo>
                  <a:pt x="1326" y="24"/>
                </a:lnTo>
                <a:lnTo>
                  <a:pt x="1319" y="24"/>
                </a:lnTo>
                <a:lnTo>
                  <a:pt x="1319" y="25"/>
                </a:lnTo>
                <a:lnTo>
                  <a:pt x="1297" y="25"/>
                </a:lnTo>
                <a:lnTo>
                  <a:pt x="1237" y="27"/>
                </a:lnTo>
                <a:lnTo>
                  <a:pt x="1221" y="27"/>
                </a:lnTo>
                <a:lnTo>
                  <a:pt x="1203" y="27"/>
                </a:lnTo>
                <a:lnTo>
                  <a:pt x="1179" y="27"/>
                </a:lnTo>
                <a:lnTo>
                  <a:pt x="1156" y="28"/>
                </a:lnTo>
                <a:lnTo>
                  <a:pt x="1132" y="28"/>
                </a:lnTo>
                <a:lnTo>
                  <a:pt x="1105" y="28"/>
                </a:lnTo>
                <a:lnTo>
                  <a:pt x="1074" y="28"/>
                </a:lnTo>
                <a:lnTo>
                  <a:pt x="1062" y="28"/>
                </a:lnTo>
                <a:lnTo>
                  <a:pt x="1045" y="30"/>
                </a:lnTo>
                <a:lnTo>
                  <a:pt x="1038" y="30"/>
                </a:lnTo>
                <a:lnTo>
                  <a:pt x="1003" y="30"/>
                </a:lnTo>
                <a:lnTo>
                  <a:pt x="982" y="30"/>
                </a:lnTo>
                <a:lnTo>
                  <a:pt x="945" y="30"/>
                </a:lnTo>
                <a:lnTo>
                  <a:pt x="935" y="30"/>
                </a:lnTo>
                <a:lnTo>
                  <a:pt x="924" y="30"/>
                </a:lnTo>
                <a:lnTo>
                  <a:pt x="921" y="30"/>
                </a:lnTo>
                <a:lnTo>
                  <a:pt x="890" y="30"/>
                </a:lnTo>
                <a:lnTo>
                  <a:pt x="879" y="30"/>
                </a:lnTo>
                <a:lnTo>
                  <a:pt x="874" y="30"/>
                </a:lnTo>
                <a:lnTo>
                  <a:pt x="851" y="30"/>
                </a:lnTo>
                <a:lnTo>
                  <a:pt x="843" y="30"/>
                </a:lnTo>
                <a:lnTo>
                  <a:pt x="804" y="28"/>
                </a:lnTo>
                <a:lnTo>
                  <a:pt x="791" y="28"/>
                </a:lnTo>
                <a:lnTo>
                  <a:pt x="757" y="28"/>
                </a:lnTo>
                <a:lnTo>
                  <a:pt x="693" y="27"/>
                </a:lnTo>
                <a:lnTo>
                  <a:pt x="686" y="27"/>
                </a:lnTo>
                <a:lnTo>
                  <a:pt x="671" y="27"/>
                </a:lnTo>
                <a:lnTo>
                  <a:pt x="663" y="27"/>
                </a:lnTo>
                <a:lnTo>
                  <a:pt x="655" y="27"/>
                </a:lnTo>
                <a:lnTo>
                  <a:pt x="583" y="25"/>
                </a:lnTo>
                <a:lnTo>
                  <a:pt x="570" y="24"/>
                </a:lnTo>
                <a:lnTo>
                  <a:pt x="568" y="24"/>
                </a:lnTo>
                <a:lnTo>
                  <a:pt x="562" y="24"/>
                </a:lnTo>
                <a:lnTo>
                  <a:pt x="552" y="24"/>
                </a:lnTo>
                <a:lnTo>
                  <a:pt x="546" y="22"/>
                </a:lnTo>
                <a:lnTo>
                  <a:pt x="463" y="21"/>
                </a:lnTo>
                <a:lnTo>
                  <a:pt x="451" y="21"/>
                </a:lnTo>
                <a:lnTo>
                  <a:pt x="391" y="20"/>
                </a:lnTo>
                <a:lnTo>
                  <a:pt x="381" y="20"/>
                </a:lnTo>
                <a:lnTo>
                  <a:pt x="370" y="18"/>
                </a:lnTo>
                <a:lnTo>
                  <a:pt x="358" y="18"/>
                </a:lnTo>
                <a:lnTo>
                  <a:pt x="311" y="17"/>
                </a:lnTo>
                <a:lnTo>
                  <a:pt x="277" y="15"/>
                </a:lnTo>
                <a:lnTo>
                  <a:pt x="240" y="14"/>
                </a:lnTo>
                <a:lnTo>
                  <a:pt x="230" y="14"/>
                </a:lnTo>
                <a:lnTo>
                  <a:pt x="189" y="13"/>
                </a:lnTo>
                <a:lnTo>
                  <a:pt x="186" y="13"/>
                </a:lnTo>
                <a:lnTo>
                  <a:pt x="77" y="5"/>
                </a:lnTo>
                <a:lnTo>
                  <a:pt x="52" y="3"/>
                </a:lnTo>
                <a:lnTo>
                  <a:pt x="6" y="0"/>
                </a:lnTo>
                <a:lnTo>
                  <a:pt x="5" y="38"/>
                </a:lnTo>
                <a:lnTo>
                  <a:pt x="3" y="83"/>
                </a:lnTo>
                <a:lnTo>
                  <a:pt x="0" y="150"/>
                </a:lnTo>
                <a:lnTo>
                  <a:pt x="72" y="153"/>
                </a:lnTo>
                <a:lnTo>
                  <a:pt x="118" y="156"/>
                </a:lnTo>
                <a:lnTo>
                  <a:pt x="158" y="159"/>
                </a:lnTo>
                <a:lnTo>
                  <a:pt x="166" y="159"/>
                </a:lnTo>
                <a:lnTo>
                  <a:pt x="168" y="159"/>
                </a:lnTo>
                <a:lnTo>
                  <a:pt x="183" y="160"/>
                </a:lnTo>
                <a:lnTo>
                  <a:pt x="208" y="161"/>
                </a:lnTo>
                <a:lnTo>
                  <a:pt x="216" y="161"/>
                </a:lnTo>
                <a:lnTo>
                  <a:pt x="260" y="163"/>
                </a:lnTo>
                <a:lnTo>
                  <a:pt x="307" y="166"/>
                </a:lnTo>
                <a:lnTo>
                  <a:pt x="331" y="166"/>
                </a:lnTo>
                <a:lnTo>
                  <a:pt x="362" y="167"/>
                </a:lnTo>
                <a:lnTo>
                  <a:pt x="378" y="169"/>
                </a:lnTo>
                <a:lnTo>
                  <a:pt x="387" y="169"/>
                </a:lnTo>
                <a:lnTo>
                  <a:pt x="402" y="169"/>
                </a:lnTo>
                <a:lnTo>
                  <a:pt x="448" y="170"/>
                </a:lnTo>
                <a:lnTo>
                  <a:pt x="463" y="171"/>
                </a:lnTo>
                <a:lnTo>
                  <a:pt x="496" y="171"/>
                </a:lnTo>
                <a:lnTo>
                  <a:pt x="499" y="173"/>
                </a:lnTo>
                <a:lnTo>
                  <a:pt x="566" y="174"/>
                </a:lnTo>
                <a:lnTo>
                  <a:pt x="567" y="174"/>
                </a:lnTo>
                <a:lnTo>
                  <a:pt x="566" y="211"/>
                </a:lnTo>
                <a:lnTo>
                  <a:pt x="565" y="306"/>
                </a:lnTo>
                <a:lnTo>
                  <a:pt x="564" y="323"/>
                </a:lnTo>
                <a:lnTo>
                  <a:pt x="564" y="349"/>
                </a:lnTo>
                <a:lnTo>
                  <a:pt x="564" y="360"/>
                </a:lnTo>
                <a:lnTo>
                  <a:pt x="564" y="376"/>
                </a:lnTo>
                <a:lnTo>
                  <a:pt x="563" y="398"/>
                </a:lnTo>
                <a:lnTo>
                  <a:pt x="563" y="438"/>
                </a:lnTo>
                <a:lnTo>
                  <a:pt x="562" y="473"/>
                </a:lnTo>
                <a:lnTo>
                  <a:pt x="562" y="482"/>
                </a:lnTo>
                <a:lnTo>
                  <a:pt x="562" y="496"/>
                </a:lnTo>
                <a:lnTo>
                  <a:pt x="562" y="536"/>
                </a:lnTo>
                <a:lnTo>
                  <a:pt x="560" y="547"/>
                </a:lnTo>
                <a:lnTo>
                  <a:pt x="560" y="568"/>
                </a:lnTo>
                <a:lnTo>
                  <a:pt x="560" y="586"/>
                </a:lnTo>
                <a:lnTo>
                  <a:pt x="559" y="614"/>
                </a:lnTo>
                <a:lnTo>
                  <a:pt x="559" y="659"/>
                </a:lnTo>
                <a:lnTo>
                  <a:pt x="559" y="679"/>
                </a:lnTo>
                <a:lnTo>
                  <a:pt x="558" y="698"/>
                </a:lnTo>
                <a:lnTo>
                  <a:pt x="558" y="754"/>
                </a:lnTo>
                <a:lnTo>
                  <a:pt x="564" y="751"/>
                </a:lnTo>
                <a:lnTo>
                  <a:pt x="565" y="751"/>
                </a:lnTo>
                <a:lnTo>
                  <a:pt x="588" y="770"/>
                </a:lnTo>
                <a:lnTo>
                  <a:pt x="606" y="798"/>
                </a:lnTo>
                <a:lnTo>
                  <a:pt x="654" y="803"/>
                </a:lnTo>
                <a:lnTo>
                  <a:pt x="659" y="807"/>
                </a:lnTo>
                <a:lnTo>
                  <a:pt x="702" y="817"/>
                </a:lnTo>
                <a:lnTo>
                  <a:pt x="709" y="825"/>
                </a:lnTo>
                <a:lnTo>
                  <a:pt x="711" y="859"/>
                </a:lnTo>
                <a:lnTo>
                  <a:pt x="726" y="868"/>
                </a:lnTo>
                <a:lnTo>
                  <a:pt x="739" y="865"/>
                </a:lnTo>
                <a:lnTo>
                  <a:pt x="759" y="868"/>
                </a:lnTo>
                <a:lnTo>
                  <a:pt x="798" y="890"/>
                </a:lnTo>
                <a:lnTo>
                  <a:pt x="823" y="879"/>
                </a:lnTo>
                <a:lnTo>
                  <a:pt x="826" y="881"/>
                </a:lnTo>
                <a:lnTo>
                  <a:pt x="836" y="889"/>
                </a:lnTo>
                <a:lnTo>
                  <a:pt x="847" y="903"/>
                </a:lnTo>
                <a:lnTo>
                  <a:pt x="862" y="905"/>
                </a:lnTo>
                <a:lnTo>
                  <a:pt x="898" y="889"/>
                </a:lnTo>
                <a:lnTo>
                  <a:pt x="910" y="892"/>
                </a:lnTo>
                <a:lnTo>
                  <a:pt x="918" y="886"/>
                </a:lnTo>
                <a:lnTo>
                  <a:pt x="926" y="885"/>
                </a:lnTo>
                <a:lnTo>
                  <a:pt x="931" y="926"/>
                </a:lnTo>
                <a:lnTo>
                  <a:pt x="949" y="926"/>
                </a:lnTo>
                <a:lnTo>
                  <a:pt x="949" y="960"/>
                </a:lnTo>
                <a:lnTo>
                  <a:pt x="969" y="971"/>
                </a:lnTo>
                <a:lnTo>
                  <a:pt x="1018" y="934"/>
                </a:lnTo>
                <a:lnTo>
                  <a:pt x="1030" y="957"/>
                </a:lnTo>
                <a:lnTo>
                  <a:pt x="1036" y="953"/>
                </a:lnTo>
                <a:lnTo>
                  <a:pt x="1042" y="951"/>
                </a:lnTo>
                <a:lnTo>
                  <a:pt x="1045" y="951"/>
                </a:lnTo>
                <a:lnTo>
                  <a:pt x="1067" y="980"/>
                </a:lnTo>
                <a:lnTo>
                  <a:pt x="1106" y="963"/>
                </a:lnTo>
                <a:lnTo>
                  <a:pt x="1102" y="998"/>
                </a:lnTo>
                <a:lnTo>
                  <a:pt x="1116" y="1010"/>
                </a:lnTo>
                <a:lnTo>
                  <a:pt x="1150" y="940"/>
                </a:lnTo>
                <a:lnTo>
                  <a:pt x="1153" y="939"/>
                </a:lnTo>
                <a:lnTo>
                  <a:pt x="1189" y="977"/>
                </a:lnTo>
                <a:lnTo>
                  <a:pt x="1219" y="956"/>
                </a:lnTo>
                <a:lnTo>
                  <a:pt x="1220" y="956"/>
                </a:lnTo>
                <a:lnTo>
                  <a:pt x="1215" y="963"/>
                </a:lnTo>
                <a:lnTo>
                  <a:pt x="1237" y="991"/>
                </a:lnTo>
                <a:lnTo>
                  <a:pt x="1253" y="991"/>
                </a:lnTo>
                <a:lnTo>
                  <a:pt x="1261" y="1005"/>
                </a:lnTo>
                <a:lnTo>
                  <a:pt x="1286" y="994"/>
                </a:lnTo>
                <a:lnTo>
                  <a:pt x="1334" y="960"/>
                </a:lnTo>
                <a:lnTo>
                  <a:pt x="1365" y="968"/>
                </a:lnTo>
                <a:lnTo>
                  <a:pt x="1381" y="959"/>
                </a:lnTo>
                <a:lnTo>
                  <a:pt x="1384" y="951"/>
                </a:lnTo>
                <a:lnTo>
                  <a:pt x="1411" y="944"/>
                </a:lnTo>
                <a:lnTo>
                  <a:pt x="1412" y="937"/>
                </a:lnTo>
                <a:lnTo>
                  <a:pt x="1419" y="939"/>
                </a:lnTo>
                <a:lnTo>
                  <a:pt x="1425" y="951"/>
                </a:lnTo>
                <a:lnTo>
                  <a:pt x="1424" y="953"/>
                </a:lnTo>
                <a:lnTo>
                  <a:pt x="1469" y="954"/>
                </a:lnTo>
                <a:lnTo>
                  <a:pt x="1476" y="954"/>
                </a:lnTo>
                <a:lnTo>
                  <a:pt x="1481" y="937"/>
                </a:lnTo>
                <a:lnTo>
                  <a:pt x="1499" y="936"/>
                </a:lnTo>
                <a:lnTo>
                  <a:pt x="1505" y="936"/>
                </a:lnTo>
                <a:lnTo>
                  <a:pt x="1506" y="944"/>
                </a:lnTo>
                <a:lnTo>
                  <a:pt x="1530" y="957"/>
                </a:lnTo>
                <a:lnTo>
                  <a:pt x="1555" y="990"/>
                </a:lnTo>
                <a:lnTo>
                  <a:pt x="1565" y="994"/>
                </a:lnTo>
                <a:lnTo>
                  <a:pt x="1564" y="984"/>
                </a:lnTo>
                <a:lnTo>
                  <a:pt x="1578" y="988"/>
                </a:lnTo>
                <a:lnTo>
                  <a:pt x="1578" y="1000"/>
                </a:lnTo>
                <a:lnTo>
                  <a:pt x="1582" y="998"/>
                </a:lnTo>
                <a:lnTo>
                  <a:pt x="1581" y="1002"/>
                </a:lnTo>
                <a:lnTo>
                  <a:pt x="1604" y="1008"/>
                </a:lnTo>
                <a:lnTo>
                  <a:pt x="1625" y="1027"/>
                </a:lnTo>
                <a:lnTo>
                  <a:pt x="1633" y="1020"/>
                </a:lnTo>
                <a:lnTo>
                  <a:pt x="1632" y="944"/>
                </a:lnTo>
                <a:lnTo>
                  <a:pt x="1632" y="937"/>
                </a:lnTo>
                <a:lnTo>
                  <a:pt x="1632" y="929"/>
                </a:lnTo>
                <a:lnTo>
                  <a:pt x="1632" y="924"/>
                </a:lnTo>
                <a:lnTo>
                  <a:pt x="1630" y="873"/>
                </a:lnTo>
                <a:lnTo>
                  <a:pt x="1630" y="855"/>
                </a:lnTo>
                <a:lnTo>
                  <a:pt x="1630" y="837"/>
                </a:lnTo>
                <a:lnTo>
                  <a:pt x="1630" y="774"/>
                </a:lnTo>
                <a:lnTo>
                  <a:pt x="1629" y="760"/>
                </a:lnTo>
                <a:lnTo>
                  <a:pt x="1629" y="719"/>
                </a:lnTo>
                <a:lnTo>
                  <a:pt x="1629" y="706"/>
                </a:lnTo>
                <a:lnTo>
                  <a:pt x="1629" y="693"/>
                </a:lnTo>
                <a:lnTo>
                  <a:pt x="1629" y="649"/>
                </a:lnTo>
                <a:lnTo>
                  <a:pt x="1629" y="646"/>
                </a:lnTo>
                <a:lnTo>
                  <a:pt x="1629" y="632"/>
                </a:lnTo>
                <a:lnTo>
                  <a:pt x="1628" y="537"/>
                </a:lnTo>
                <a:lnTo>
                  <a:pt x="1628" y="500"/>
                </a:lnTo>
                <a:lnTo>
                  <a:pt x="1627" y="496"/>
                </a:lnTo>
                <a:lnTo>
                  <a:pt x="1628" y="495"/>
                </a:lnTo>
                <a:lnTo>
                  <a:pt x="1628" y="493"/>
                </a:lnTo>
                <a:lnTo>
                  <a:pt x="1624" y="464"/>
                </a:lnTo>
                <a:lnTo>
                  <a:pt x="1624" y="459"/>
                </a:lnTo>
                <a:lnTo>
                  <a:pt x="1618" y="422"/>
                </a:lnTo>
                <a:lnTo>
                  <a:pt x="1617" y="411"/>
                </a:lnTo>
                <a:lnTo>
                  <a:pt x="1616" y="401"/>
                </a:lnTo>
                <a:lnTo>
                  <a:pt x="1613" y="386"/>
                </a:lnTo>
                <a:lnTo>
                  <a:pt x="1611" y="373"/>
                </a:lnTo>
                <a:lnTo>
                  <a:pt x="1609" y="351"/>
                </a:lnTo>
                <a:lnTo>
                  <a:pt x="1598" y="283"/>
                </a:lnTo>
                <a:lnTo>
                  <a:pt x="1598" y="276"/>
                </a:lnTo>
                <a:lnTo>
                  <a:pt x="1596" y="26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4" name="Freeform 37"/>
          <p:cNvSpPr/>
          <p:nvPr/>
        </p:nvSpPr>
        <p:spPr>
          <a:xfrm>
            <a:off x="2333520" y="4398840"/>
            <a:ext cx="1587600" cy="1673280"/>
          </a:xfrm>
          <a:custGeom>
            <a:avLst/>
            <a:gdLst>
              <a:gd name="textAreaLeft" fmla="*/ 0 w 1587600"/>
              <a:gd name="textAreaRight" fmla="*/ 1587960 w 1587600"/>
              <a:gd name="textAreaTop" fmla="*/ 0 h 1673280"/>
              <a:gd name="textAreaBottom" fmla="*/ 1673640 h 1673280"/>
            </a:gdLst>
            <a:ahLst/>
            <a:rect l="textAreaLeft" t="textAreaTop" r="textAreaRight" b="textAreaBottom"/>
            <a:pathLst>
              <a:path w="2624" h="3194">
                <a:moveTo>
                  <a:pt x="1354" y="2641"/>
                </a:moveTo>
                <a:lnTo>
                  <a:pt x="1333" y="2604"/>
                </a:lnTo>
                <a:lnTo>
                  <a:pt x="1307" y="2558"/>
                </a:lnTo>
                <a:lnTo>
                  <a:pt x="1264" y="2499"/>
                </a:lnTo>
                <a:lnTo>
                  <a:pt x="1253" y="2485"/>
                </a:lnTo>
                <a:lnTo>
                  <a:pt x="1235" y="2415"/>
                </a:lnTo>
                <a:lnTo>
                  <a:pt x="1241" y="2409"/>
                </a:lnTo>
                <a:lnTo>
                  <a:pt x="1186" y="2290"/>
                </a:lnTo>
                <a:lnTo>
                  <a:pt x="1175" y="2233"/>
                </a:lnTo>
                <a:lnTo>
                  <a:pt x="1154" y="2208"/>
                </a:lnTo>
                <a:lnTo>
                  <a:pt x="1149" y="2187"/>
                </a:lnTo>
                <a:lnTo>
                  <a:pt x="1105" y="2146"/>
                </a:lnTo>
                <a:lnTo>
                  <a:pt x="1097" y="2120"/>
                </a:lnTo>
                <a:lnTo>
                  <a:pt x="1080" y="2116"/>
                </a:lnTo>
                <a:lnTo>
                  <a:pt x="1074" y="2103"/>
                </a:lnTo>
                <a:lnTo>
                  <a:pt x="1058" y="2100"/>
                </a:lnTo>
                <a:lnTo>
                  <a:pt x="1053" y="2069"/>
                </a:lnTo>
                <a:lnTo>
                  <a:pt x="1047" y="2069"/>
                </a:lnTo>
                <a:lnTo>
                  <a:pt x="1023" y="2029"/>
                </a:lnTo>
                <a:lnTo>
                  <a:pt x="1001" y="2026"/>
                </a:lnTo>
                <a:lnTo>
                  <a:pt x="1001" y="2021"/>
                </a:lnTo>
                <a:lnTo>
                  <a:pt x="956" y="2018"/>
                </a:lnTo>
                <a:lnTo>
                  <a:pt x="911" y="2007"/>
                </a:lnTo>
                <a:lnTo>
                  <a:pt x="909" y="2012"/>
                </a:lnTo>
                <a:lnTo>
                  <a:pt x="898" y="2008"/>
                </a:lnTo>
                <a:lnTo>
                  <a:pt x="896" y="2014"/>
                </a:lnTo>
                <a:lnTo>
                  <a:pt x="842" y="1984"/>
                </a:lnTo>
                <a:lnTo>
                  <a:pt x="796" y="2019"/>
                </a:lnTo>
                <a:lnTo>
                  <a:pt x="783" y="2019"/>
                </a:lnTo>
                <a:lnTo>
                  <a:pt x="748" y="2062"/>
                </a:lnTo>
                <a:lnTo>
                  <a:pt x="717" y="2164"/>
                </a:lnTo>
                <a:lnTo>
                  <a:pt x="674" y="2216"/>
                </a:lnTo>
                <a:lnTo>
                  <a:pt x="660" y="2243"/>
                </a:lnTo>
                <a:lnTo>
                  <a:pt x="616" y="2225"/>
                </a:lnTo>
                <a:lnTo>
                  <a:pt x="586" y="2191"/>
                </a:lnTo>
                <a:lnTo>
                  <a:pt x="541" y="2161"/>
                </a:lnTo>
                <a:lnTo>
                  <a:pt x="532" y="2148"/>
                </a:lnTo>
                <a:lnTo>
                  <a:pt x="491" y="2133"/>
                </a:lnTo>
                <a:lnTo>
                  <a:pt x="467" y="2109"/>
                </a:lnTo>
                <a:lnTo>
                  <a:pt x="442" y="2069"/>
                </a:lnTo>
                <a:lnTo>
                  <a:pt x="393" y="2026"/>
                </a:lnTo>
                <a:lnTo>
                  <a:pt x="361" y="1916"/>
                </a:lnTo>
                <a:lnTo>
                  <a:pt x="357" y="1841"/>
                </a:lnTo>
                <a:lnTo>
                  <a:pt x="329" y="1756"/>
                </a:lnTo>
                <a:lnTo>
                  <a:pt x="312" y="1723"/>
                </a:lnTo>
                <a:lnTo>
                  <a:pt x="307" y="1710"/>
                </a:lnTo>
                <a:lnTo>
                  <a:pt x="235" y="1651"/>
                </a:lnTo>
                <a:lnTo>
                  <a:pt x="189" y="1573"/>
                </a:lnTo>
                <a:lnTo>
                  <a:pt x="163" y="1550"/>
                </a:lnTo>
                <a:lnTo>
                  <a:pt x="120" y="1479"/>
                </a:lnTo>
                <a:lnTo>
                  <a:pt x="94" y="1466"/>
                </a:lnTo>
                <a:lnTo>
                  <a:pt x="76" y="1441"/>
                </a:lnTo>
                <a:lnTo>
                  <a:pt x="43" y="1363"/>
                </a:lnTo>
                <a:lnTo>
                  <a:pt x="26" y="1360"/>
                </a:lnTo>
                <a:lnTo>
                  <a:pt x="21" y="1350"/>
                </a:lnTo>
                <a:lnTo>
                  <a:pt x="0" y="1314"/>
                </a:lnTo>
                <a:lnTo>
                  <a:pt x="8" y="1307"/>
                </a:lnTo>
                <a:lnTo>
                  <a:pt x="3" y="1290"/>
                </a:lnTo>
                <a:lnTo>
                  <a:pt x="8" y="1285"/>
                </a:lnTo>
                <a:lnTo>
                  <a:pt x="56" y="1289"/>
                </a:lnTo>
                <a:lnTo>
                  <a:pt x="81" y="1292"/>
                </a:lnTo>
                <a:lnTo>
                  <a:pt x="106" y="1293"/>
                </a:lnTo>
                <a:lnTo>
                  <a:pt x="131" y="1296"/>
                </a:lnTo>
                <a:lnTo>
                  <a:pt x="254" y="1309"/>
                </a:lnTo>
                <a:lnTo>
                  <a:pt x="310" y="1313"/>
                </a:lnTo>
                <a:lnTo>
                  <a:pt x="346" y="1316"/>
                </a:lnTo>
                <a:lnTo>
                  <a:pt x="360" y="1317"/>
                </a:lnTo>
                <a:lnTo>
                  <a:pt x="458" y="1326"/>
                </a:lnTo>
                <a:lnTo>
                  <a:pt x="476" y="1327"/>
                </a:lnTo>
                <a:lnTo>
                  <a:pt x="524" y="1330"/>
                </a:lnTo>
                <a:lnTo>
                  <a:pt x="533" y="1331"/>
                </a:lnTo>
                <a:lnTo>
                  <a:pt x="579" y="1334"/>
                </a:lnTo>
                <a:lnTo>
                  <a:pt x="581" y="1334"/>
                </a:lnTo>
                <a:lnTo>
                  <a:pt x="584" y="1334"/>
                </a:lnTo>
                <a:lnTo>
                  <a:pt x="603" y="1336"/>
                </a:lnTo>
                <a:lnTo>
                  <a:pt x="656" y="1340"/>
                </a:lnTo>
                <a:lnTo>
                  <a:pt x="663" y="1340"/>
                </a:lnTo>
                <a:lnTo>
                  <a:pt x="704" y="1343"/>
                </a:lnTo>
                <a:lnTo>
                  <a:pt x="715" y="1343"/>
                </a:lnTo>
                <a:lnTo>
                  <a:pt x="716" y="1317"/>
                </a:lnTo>
                <a:lnTo>
                  <a:pt x="719" y="1269"/>
                </a:lnTo>
                <a:lnTo>
                  <a:pt x="721" y="1202"/>
                </a:lnTo>
                <a:lnTo>
                  <a:pt x="722" y="1188"/>
                </a:lnTo>
                <a:lnTo>
                  <a:pt x="723" y="1157"/>
                </a:lnTo>
                <a:lnTo>
                  <a:pt x="725" y="1099"/>
                </a:lnTo>
                <a:lnTo>
                  <a:pt x="727" y="1058"/>
                </a:lnTo>
                <a:lnTo>
                  <a:pt x="729" y="1008"/>
                </a:lnTo>
                <a:lnTo>
                  <a:pt x="733" y="933"/>
                </a:lnTo>
                <a:lnTo>
                  <a:pt x="733" y="930"/>
                </a:lnTo>
                <a:lnTo>
                  <a:pt x="736" y="896"/>
                </a:lnTo>
                <a:lnTo>
                  <a:pt x="736" y="888"/>
                </a:lnTo>
                <a:lnTo>
                  <a:pt x="737" y="875"/>
                </a:lnTo>
                <a:lnTo>
                  <a:pt x="738" y="845"/>
                </a:lnTo>
                <a:lnTo>
                  <a:pt x="739" y="834"/>
                </a:lnTo>
                <a:lnTo>
                  <a:pt x="740" y="800"/>
                </a:lnTo>
                <a:lnTo>
                  <a:pt x="744" y="747"/>
                </a:lnTo>
                <a:lnTo>
                  <a:pt x="747" y="672"/>
                </a:lnTo>
                <a:lnTo>
                  <a:pt x="747" y="656"/>
                </a:lnTo>
                <a:lnTo>
                  <a:pt x="747" y="654"/>
                </a:lnTo>
                <a:lnTo>
                  <a:pt x="748" y="619"/>
                </a:lnTo>
                <a:lnTo>
                  <a:pt x="749" y="598"/>
                </a:lnTo>
                <a:lnTo>
                  <a:pt x="753" y="524"/>
                </a:lnTo>
                <a:lnTo>
                  <a:pt x="754" y="489"/>
                </a:lnTo>
                <a:lnTo>
                  <a:pt x="754" y="486"/>
                </a:lnTo>
                <a:lnTo>
                  <a:pt x="755" y="462"/>
                </a:lnTo>
                <a:lnTo>
                  <a:pt x="755" y="448"/>
                </a:lnTo>
                <a:lnTo>
                  <a:pt x="757" y="411"/>
                </a:lnTo>
                <a:lnTo>
                  <a:pt x="757" y="394"/>
                </a:lnTo>
                <a:lnTo>
                  <a:pt x="759" y="367"/>
                </a:lnTo>
                <a:lnTo>
                  <a:pt x="760" y="350"/>
                </a:lnTo>
                <a:lnTo>
                  <a:pt x="763" y="262"/>
                </a:lnTo>
                <a:lnTo>
                  <a:pt x="764" y="228"/>
                </a:lnTo>
                <a:lnTo>
                  <a:pt x="764" y="224"/>
                </a:lnTo>
                <a:lnTo>
                  <a:pt x="765" y="218"/>
                </a:lnTo>
                <a:lnTo>
                  <a:pt x="769" y="133"/>
                </a:lnTo>
                <a:lnTo>
                  <a:pt x="773" y="0"/>
                </a:lnTo>
                <a:lnTo>
                  <a:pt x="781" y="1"/>
                </a:lnTo>
                <a:lnTo>
                  <a:pt x="853" y="4"/>
                </a:lnTo>
                <a:lnTo>
                  <a:pt x="899" y="7"/>
                </a:lnTo>
                <a:lnTo>
                  <a:pt x="939" y="10"/>
                </a:lnTo>
                <a:lnTo>
                  <a:pt x="947" y="10"/>
                </a:lnTo>
                <a:lnTo>
                  <a:pt x="949" y="10"/>
                </a:lnTo>
                <a:lnTo>
                  <a:pt x="964" y="11"/>
                </a:lnTo>
                <a:lnTo>
                  <a:pt x="989" y="12"/>
                </a:lnTo>
                <a:lnTo>
                  <a:pt x="997" y="12"/>
                </a:lnTo>
                <a:lnTo>
                  <a:pt x="1041" y="14"/>
                </a:lnTo>
                <a:lnTo>
                  <a:pt x="1088" y="17"/>
                </a:lnTo>
                <a:lnTo>
                  <a:pt x="1112" y="17"/>
                </a:lnTo>
                <a:lnTo>
                  <a:pt x="1143" y="18"/>
                </a:lnTo>
                <a:lnTo>
                  <a:pt x="1159" y="20"/>
                </a:lnTo>
                <a:lnTo>
                  <a:pt x="1168" y="20"/>
                </a:lnTo>
                <a:lnTo>
                  <a:pt x="1183" y="20"/>
                </a:lnTo>
                <a:lnTo>
                  <a:pt x="1229" y="21"/>
                </a:lnTo>
                <a:lnTo>
                  <a:pt x="1244" y="22"/>
                </a:lnTo>
                <a:lnTo>
                  <a:pt x="1277" y="22"/>
                </a:lnTo>
                <a:lnTo>
                  <a:pt x="1280" y="24"/>
                </a:lnTo>
                <a:lnTo>
                  <a:pt x="1347" y="25"/>
                </a:lnTo>
                <a:lnTo>
                  <a:pt x="1348" y="25"/>
                </a:lnTo>
                <a:lnTo>
                  <a:pt x="1347" y="62"/>
                </a:lnTo>
                <a:lnTo>
                  <a:pt x="1346" y="157"/>
                </a:lnTo>
                <a:lnTo>
                  <a:pt x="1345" y="174"/>
                </a:lnTo>
                <a:lnTo>
                  <a:pt x="1345" y="200"/>
                </a:lnTo>
                <a:lnTo>
                  <a:pt x="1345" y="211"/>
                </a:lnTo>
                <a:lnTo>
                  <a:pt x="1345" y="227"/>
                </a:lnTo>
                <a:lnTo>
                  <a:pt x="1344" y="249"/>
                </a:lnTo>
                <a:lnTo>
                  <a:pt x="1344" y="289"/>
                </a:lnTo>
                <a:lnTo>
                  <a:pt x="1343" y="324"/>
                </a:lnTo>
                <a:lnTo>
                  <a:pt x="1343" y="333"/>
                </a:lnTo>
                <a:lnTo>
                  <a:pt x="1343" y="347"/>
                </a:lnTo>
                <a:lnTo>
                  <a:pt x="1343" y="387"/>
                </a:lnTo>
                <a:lnTo>
                  <a:pt x="1341" y="398"/>
                </a:lnTo>
                <a:lnTo>
                  <a:pt x="1341" y="419"/>
                </a:lnTo>
                <a:lnTo>
                  <a:pt x="1341" y="437"/>
                </a:lnTo>
                <a:lnTo>
                  <a:pt x="1340" y="465"/>
                </a:lnTo>
                <a:lnTo>
                  <a:pt x="1340" y="510"/>
                </a:lnTo>
                <a:lnTo>
                  <a:pt x="1340" y="530"/>
                </a:lnTo>
                <a:lnTo>
                  <a:pt x="1339" y="549"/>
                </a:lnTo>
                <a:lnTo>
                  <a:pt x="1339" y="605"/>
                </a:lnTo>
                <a:lnTo>
                  <a:pt x="1345" y="602"/>
                </a:lnTo>
                <a:lnTo>
                  <a:pt x="1346" y="602"/>
                </a:lnTo>
                <a:lnTo>
                  <a:pt x="1369" y="621"/>
                </a:lnTo>
                <a:lnTo>
                  <a:pt x="1387" y="649"/>
                </a:lnTo>
                <a:lnTo>
                  <a:pt x="1435" y="654"/>
                </a:lnTo>
                <a:lnTo>
                  <a:pt x="1440" y="658"/>
                </a:lnTo>
                <a:lnTo>
                  <a:pt x="1483" y="668"/>
                </a:lnTo>
                <a:lnTo>
                  <a:pt x="1490" y="676"/>
                </a:lnTo>
                <a:lnTo>
                  <a:pt x="1492" y="710"/>
                </a:lnTo>
                <a:lnTo>
                  <a:pt x="1507" y="719"/>
                </a:lnTo>
                <a:lnTo>
                  <a:pt x="1520" y="716"/>
                </a:lnTo>
                <a:lnTo>
                  <a:pt x="1540" y="719"/>
                </a:lnTo>
                <a:lnTo>
                  <a:pt x="1579" y="741"/>
                </a:lnTo>
                <a:lnTo>
                  <a:pt x="1604" y="730"/>
                </a:lnTo>
                <a:lnTo>
                  <a:pt x="1607" y="732"/>
                </a:lnTo>
                <a:lnTo>
                  <a:pt x="1617" y="740"/>
                </a:lnTo>
                <a:lnTo>
                  <a:pt x="1628" y="754"/>
                </a:lnTo>
                <a:lnTo>
                  <a:pt x="1643" y="756"/>
                </a:lnTo>
                <a:lnTo>
                  <a:pt x="1679" y="740"/>
                </a:lnTo>
                <a:lnTo>
                  <a:pt x="1691" y="743"/>
                </a:lnTo>
                <a:lnTo>
                  <a:pt x="1699" y="737"/>
                </a:lnTo>
                <a:lnTo>
                  <a:pt x="1707" y="736"/>
                </a:lnTo>
                <a:lnTo>
                  <a:pt x="1712" y="777"/>
                </a:lnTo>
                <a:lnTo>
                  <a:pt x="1730" y="777"/>
                </a:lnTo>
                <a:lnTo>
                  <a:pt x="1730" y="811"/>
                </a:lnTo>
                <a:lnTo>
                  <a:pt x="1750" y="822"/>
                </a:lnTo>
                <a:lnTo>
                  <a:pt x="1799" y="785"/>
                </a:lnTo>
                <a:lnTo>
                  <a:pt x="1811" y="808"/>
                </a:lnTo>
                <a:lnTo>
                  <a:pt x="1817" y="804"/>
                </a:lnTo>
                <a:lnTo>
                  <a:pt x="1823" y="802"/>
                </a:lnTo>
                <a:lnTo>
                  <a:pt x="1826" y="802"/>
                </a:lnTo>
                <a:lnTo>
                  <a:pt x="1848" y="831"/>
                </a:lnTo>
                <a:lnTo>
                  <a:pt x="1887" y="814"/>
                </a:lnTo>
                <a:lnTo>
                  <a:pt x="1883" y="849"/>
                </a:lnTo>
                <a:lnTo>
                  <a:pt x="1897" y="861"/>
                </a:lnTo>
                <a:lnTo>
                  <a:pt x="1931" y="791"/>
                </a:lnTo>
                <a:lnTo>
                  <a:pt x="1934" y="790"/>
                </a:lnTo>
                <a:lnTo>
                  <a:pt x="1970" y="828"/>
                </a:lnTo>
                <a:lnTo>
                  <a:pt x="2000" y="807"/>
                </a:lnTo>
                <a:lnTo>
                  <a:pt x="2001" y="807"/>
                </a:lnTo>
                <a:lnTo>
                  <a:pt x="1996" y="814"/>
                </a:lnTo>
                <a:lnTo>
                  <a:pt x="2018" y="842"/>
                </a:lnTo>
                <a:lnTo>
                  <a:pt x="2034" y="842"/>
                </a:lnTo>
                <a:lnTo>
                  <a:pt x="2042" y="856"/>
                </a:lnTo>
                <a:lnTo>
                  <a:pt x="2067" y="845"/>
                </a:lnTo>
                <a:lnTo>
                  <a:pt x="2115" y="811"/>
                </a:lnTo>
                <a:lnTo>
                  <a:pt x="2146" y="819"/>
                </a:lnTo>
                <a:lnTo>
                  <a:pt x="2162" y="810"/>
                </a:lnTo>
                <a:lnTo>
                  <a:pt x="2165" y="802"/>
                </a:lnTo>
                <a:lnTo>
                  <a:pt x="2192" y="795"/>
                </a:lnTo>
                <a:lnTo>
                  <a:pt x="2193" y="788"/>
                </a:lnTo>
                <a:lnTo>
                  <a:pt x="2200" y="790"/>
                </a:lnTo>
                <a:lnTo>
                  <a:pt x="2206" y="802"/>
                </a:lnTo>
                <a:lnTo>
                  <a:pt x="2205" y="804"/>
                </a:lnTo>
                <a:lnTo>
                  <a:pt x="2250" y="805"/>
                </a:lnTo>
                <a:lnTo>
                  <a:pt x="2257" y="805"/>
                </a:lnTo>
                <a:lnTo>
                  <a:pt x="2262" y="788"/>
                </a:lnTo>
                <a:lnTo>
                  <a:pt x="2280" y="787"/>
                </a:lnTo>
                <a:lnTo>
                  <a:pt x="2286" y="787"/>
                </a:lnTo>
                <a:lnTo>
                  <a:pt x="2287" y="795"/>
                </a:lnTo>
                <a:lnTo>
                  <a:pt x="2311" y="808"/>
                </a:lnTo>
                <a:lnTo>
                  <a:pt x="2336" y="841"/>
                </a:lnTo>
                <a:lnTo>
                  <a:pt x="2346" y="845"/>
                </a:lnTo>
                <a:lnTo>
                  <a:pt x="2345" y="835"/>
                </a:lnTo>
                <a:lnTo>
                  <a:pt x="2359" y="839"/>
                </a:lnTo>
                <a:lnTo>
                  <a:pt x="2359" y="851"/>
                </a:lnTo>
                <a:lnTo>
                  <a:pt x="2363" y="849"/>
                </a:lnTo>
                <a:lnTo>
                  <a:pt x="2362" y="853"/>
                </a:lnTo>
                <a:lnTo>
                  <a:pt x="2385" y="859"/>
                </a:lnTo>
                <a:lnTo>
                  <a:pt x="2406" y="878"/>
                </a:lnTo>
                <a:lnTo>
                  <a:pt x="2414" y="871"/>
                </a:lnTo>
                <a:lnTo>
                  <a:pt x="2435" y="897"/>
                </a:lnTo>
                <a:lnTo>
                  <a:pt x="2459" y="883"/>
                </a:lnTo>
                <a:lnTo>
                  <a:pt x="2501" y="893"/>
                </a:lnTo>
                <a:lnTo>
                  <a:pt x="2501" y="900"/>
                </a:lnTo>
                <a:lnTo>
                  <a:pt x="2502" y="946"/>
                </a:lnTo>
                <a:lnTo>
                  <a:pt x="2503" y="977"/>
                </a:lnTo>
                <a:lnTo>
                  <a:pt x="2504" y="983"/>
                </a:lnTo>
                <a:lnTo>
                  <a:pt x="2504" y="1019"/>
                </a:lnTo>
                <a:lnTo>
                  <a:pt x="2505" y="1052"/>
                </a:lnTo>
                <a:lnTo>
                  <a:pt x="2506" y="1058"/>
                </a:lnTo>
                <a:lnTo>
                  <a:pt x="2507" y="1093"/>
                </a:lnTo>
                <a:lnTo>
                  <a:pt x="2509" y="1131"/>
                </a:lnTo>
                <a:lnTo>
                  <a:pt x="2509" y="1136"/>
                </a:lnTo>
                <a:lnTo>
                  <a:pt x="2509" y="1148"/>
                </a:lnTo>
                <a:lnTo>
                  <a:pt x="2510" y="1170"/>
                </a:lnTo>
                <a:lnTo>
                  <a:pt x="2511" y="1207"/>
                </a:lnTo>
                <a:lnTo>
                  <a:pt x="2512" y="1239"/>
                </a:lnTo>
                <a:lnTo>
                  <a:pt x="2512" y="1244"/>
                </a:lnTo>
                <a:lnTo>
                  <a:pt x="2513" y="1280"/>
                </a:lnTo>
                <a:lnTo>
                  <a:pt x="2513" y="1297"/>
                </a:lnTo>
                <a:lnTo>
                  <a:pt x="2515" y="1356"/>
                </a:lnTo>
                <a:lnTo>
                  <a:pt x="2520" y="1358"/>
                </a:lnTo>
                <a:lnTo>
                  <a:pt x="2521" y="1361"/>
                </a:lnTo>
                <a:lnTo>
                  <a:pt x="2522" y="1363"/>
                </a:lnTo>
                <a:lnTo>
                  <a:pt x="2523" y="1367"/>
                </a:lnTo>
                <a:lnTo>
                  <a:pt x="2550" y="1401"/>
                </a:lnTo>
                <a:lnTo>
                  <a:pt x="2549" y="1401"/>
                </a:lnTo>
                <a:lnTo>
                  <a:pt x="2559" y="1428"/>
                </a:lnTo>
                <a:lnTo>
                  <a:pt x="2561" y="1478"/>
                </a:lnTo>
                <a:lnTo>
                  <a:pt x="2584" y="1502"/>
                </a:lnTo>
                <a:lnTo>
                  <a:pt x="2578" y="1506"/>
                </a:lnTo>
                <a:lnTo>
                  <a:pt x="2611" y="1597"/>
                </a:lnTo>
                <a:lnTo>
                  <a:pt x="2622" y="1594"/>
                </a:lnTo>
                <a:lnTo>
                  <a:pt x="2618" y="1649"/>
                </a:lnTo>
                <a:lnTo>
                  <a:pt x="2624" y="1687"/>
                </a:lnTo>
                <a:lnTo>
                  <a:pt x="2615" y="1724"/>
                </a:lnTo>
                <a:lnTo>
                  <a:pt x="2597" y="1799"/>
                </a:lnTo>
                <a:lnTo>
                  <a:pt x="2592" y="1828"/>
                </a:lnTo>
                <a:lnTo>
                  <a:pt x="2590" y="1831"/>
                </a:lnTo>
                <a:lnTo>
                  <a:pt x="2591" y="1853"/>
                </a:lnTo>
                <a:lnTo>
                  <a:pt x="2600" y="1875"/>
                </a:lnTo>
                <a:lnTo>
                  <a:pt x="2602" y="1910"/>
                </a:lnTo>
                <a:lnTo>
                  <a:pt x="2599" y="1933"/>
                </a:lnTo>
                <a:lnTo>
                  <a:pt x="2595" y="1938"/>
                </a:lnTo>
                <a:lnTo>
                  <a:pt x="2590" y="1948"/>
                </a:lnTo>
                <a:lnTo>
                  <a:pt x="2574" y="1990"/>
                </a:lnTo>
                <a:lnTo>
                  <a:pt x="2567" y="1997"/>
                </a:lnTo>
                <a:lnTo>
                  <a:pt x="2570" y="2028"/>
                </a:lnTo>
                <a:lnTo>
                  <a:pt x="2582" y="2055"/>
                </a:lnTo>
                <a:lnTo>
                  <a:pt x="2569" y="2048"/>
                </a:lnTo>
                <a:lnTo>
                  <a:pt x="2537" y="2048"/>
                </a:lnTo>
                <a:lnTo>
                  <a:pt x="2474" y="2085"/>
                </a:lnTo>
                <a:lnTo>
                  <a:pt x="2471" y="2087"/>
                </a:lnTo>
                <a:lnTo>
                  <a:pt x="2398" y="2147"/>
                </a:lnTo>
                <a:lnTo>
                  <a:pt x="2387" y="2144"/>
                </a:lnTo>
                <a:lnTo>
                  <a:pt x="2425" y="2104"/>
                </a:lnTo>
                <a:lnTo>
                  <a:pt x="2445" y="2097"/>
                </a:lnTo>
                <a:lnTo>
                  <a:pt x="2445" y="2092"/>
                </a:lnTo>
                <a:lnTo>
                  <a:pt x="2418" y="2089"/>
                </a:lnTo>
                <a:lnTo>
                  <a:pt x="2393" y="2099"/>
                </a:lnTo>
                <a:lnTo>
                  <a:pt x="2391" y="2024"/>
                </a:lnTo>
                <a:lnTo>
                  <a:pt x="2377" y="2031"/>
                </a:lnTo>
                <a:lnTo>
                  <a:pt x="2367" y="2058"/>
                </a:lnTo>
                <a:lnTo>
                  <a:pt x="2354" y="2056"/>
                </a:lnTo>
                <a:lnTo>
                  <a:pt x="2350" y="2055"/>
                </a:lnTo>
                <a:lnTo>
                  <a:pt x="2347" y="2053"/>
                </a:lnTo>
                <a:lnTo>
                  <a:pt x="2345" y="2056"/>
                </a:lnTo>
                <a:lnTo>
                  <a:pt x="2339" y="2070"/>
                </a:lnTo>
                <a:lnTo>
                  <a:pt x="2342" y="2085"/>
                </a:lnTo>
                <a:lnTo>
                  <a:pt x="2338" y="2092"/>
                </a:lnTo>
                <a:lnTo>
                  <a:pt x="2342" y="2102"/>
                </a:lnTo>
                <a:lnTo>
                  <a:pt x="2361" y="2109"/>
                </a:lnTo>
                <a:lnTo>
                  <a:pt x="2368" y="2141"/>
                </a:lnTo>
                <a:lnTo>
                  <a:pt x="2399" y="2155"/>
                </a:lnTo>
                <a:lnTo>
                  <a:pt x="2320" y="2235"/>
                </a:lnTo>
                <a:lnTo>
                  <a:pt x="2267" y="2297"/>
                </a:lnTo>
                <a:lnTo>
                  <a:pt x="2243" y="2312"/>
                </a:lnTo>
                <a:lnTo>
                  <a:pt x="2242" y="2313"/>
                </a:lnTo>
                <a:lnTo>
                  <a:pt x="2161" y="2374"/>
                </a:lnTo>
                <a:lnTo>
                  <a:pt x="2089" y="2421"/>
                </a:lnTo>
                <a:lnTo>
                  <a:pt x="2063" y="2448"/>
                </a:lnTo>
                <a:lnTo>
                  <a:pt x="2038" y="2476"/>
                </a:lnTo>
                <a:lnTo>
                  <a:pt x="2012" y="2496"/>
                </a:lnTo>
                <a:lnTo>
                  <a:pt x="1966" y="2546"/>
                </a:lnTo>
                <a:lnTo>
                  <a:pt x="1927" y="2605"/>
                </a:lnTo>
                <a:lnTo>
                  <a:pt x="1927" y="2612"/>
                </a:lnTo>
                <a:lnTo>
                  <a:pt x="1928" y="2614"/>
                </a:lnTo>
                <a:lnTo>
                  <a:pt x="1907" y="2645"/>
                </a:lnTo>
                <a:lnTo>
                  <a:pt x="1889" y="2690"/>
                </a:lnTo>
                <a:lnTo>
                  <a:pt x="1863" y="2778"/>
                </a:lnTo>
                <a:lnTo>
                  <a:pt x="1862" y="2787"/>
                </a:lnTo>
                <a:lnTo>
                  <a:pt x="1857" y="2860"/>
                </a:lnTo>
                <a:lnTo>
                  <a:pt x="1876" y="2978"/>
                </a:lnTo>
                <a:lnTo>
                  <a:pt x="1891" y="3035"/>
                </a:lnTo>
                <a:lnTo>
                  <a:pt x="1907" y="3155"/>
                </a:lnTo>
                <a:lnTo>
                  <a:pt x="1863" y="3194"/>
                </a:lnTo>
                <a:lnTo>
                  <a:pt x="1833" y="3187"/>
                </a:lnTo>
                <a:lnTo>
                  <a:pt x="1807" y="3157"/>
                </a:lnTo>
                <a:lnTo>
                  <a:pt x="1755" y="3136"/>
                </a:lnTo>
                <a:lnTo>
                  <a:pt x="1672" y="3136"/>
                </a:lnTo>
                <a:lnTo>
                  <a:pt x="1666" y="3120"/>
                </a:lnTo>
                <a:lnTo>
                  <a:pt x="1656" y="3120"/>
                </a:lnTo>
                <a:lnTo>
                  <a:pt x="1601" y="3080"/>
                </a:lnTo>
                <a:lnTo>
                  <a:pt x="1580" y="3082"/>
                </a:lnTo>
                <a:lnTo>
                  <a:pt x="1566" y="3067"/>
                </a:lnTo>
                <a:lnTo>
                  <a:pt x="1566" y="3058"/>
                </a:lnTo>
                <a:lnTo>
                  <a:pt x="1513" y="3039"/>
                </a:lnTo>
                <a:lnTo>
                  <a:pt x="1478" y="2985"/>
                </a:lnTo>
                <a:lnTo>
                  <a:pt x="1457" y="2907"/>
                </a:lnTo>
                <a:lnTo>
                  <a:pt x="1428" y="2859"/>
                </a:lnTo>
                <a:lnTo>
                  <a:pt x="1419" y="2780"/>
                </a:lnTo>
                <a:lnTo>
                  <a:pt x="1410" y="2710"/>
                </a:lnTo>
                <a:lnTo>
                  <a:pt x="1385" y="2668"/>
                </a:lnTo>
                <a:lnTo>
                  <a:pt x="1359" y="2649"/>
                </a:lnTo>
                <a:lnTo>
                  <a:pt x="1354" y="264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5" name="Freeform 38"/>
          <p:cNvSpPr/>
          <p:nvPr/>
        </p:nvSpPr>
        <p:spPr>
          <a:xfrm>
            <a:off x="1370160" y="4183200"/>
            <a:ext cx="755640" cy="961920"/>
          </a:xfrm>
          <a:custGeom>
            <a:avLst/>
            <a:gdLst>
              <a:gd name="textAreaLeft" fmla="*/ 0 w 755640"/>
              <a:gd name="textAreaRight" fmla="*/ 756000 w 755640"/>
              <a:gd name="textAreaTop" fmla="*/ 0 h 961920"/>
              <a:gd name="textAreaBottom" fmla="*/ 962280 h 961920"/>
            </a:gdLst>
            <a:ahLst/>
            <a:rect l="textAreaLeft" t="textAreaTop" r="textAreaRight" b="textAreaBottom"/>
            <a:pathLst>
              <a:path w="1249" h="1840">
                <a:moveTo>
                  <a:pt x="0" y="1277"/>
                </a:moveTo>
                <a:lnTo>
                  <a:pt x="24" y="1238"/>
                </a:lnTo>
                <a:lnTo>
                  <a:pt x="61" y="1237"/>
                </a:lnTo>
                <a:lnTo>
                  <a:pt x="78" y="1163"/>
                </a:lnTo>
                <a:lnTo>
                  <a:pt x="61" y="1155"/>
                </a:lnTo>
                <a:lnTo>
                  <a:pt x="42" y="1128"/>
                </a:lnTo>
                <a:lnTo>
                  <a:pt x="53" y="1045"/>
                </a:lnTo>
                <a:lnTo>
                  <a:pt x="70" y="1031"/>
                </a:lnTo>
                <a:lnTo>
                  <a:pt x="106" y="959"/>
                </a:lnTo>
                <a:lnTo>
                  <a:pt x="116" y="881"/>
                </a:lnTo>
                <a:lnTo>
                  <a:pt x="125" y="872"/>
                </a:lnTo>
                <a:lnTo>
                  <a:pt x="133" y="848"/>
                </a:lnTo>
                <a:lnTo>
                  <a:pt x="171" y="828"/>
                </a:lnTo>
                <a:lnTo>
                  <a:pt x="191" y="809"/>
                </a:lnTo>
                <a:lnTo>
                  <a:pt x="198" y="794"/>
                </a:lnTo>
                <a:lnTo>
                  <a:pt x="158" y="742"/>
                </a:lnTo>
                <a:lnTo>
                  <a:pt x="159" y="726"/>
                </a:lnTo>
                <a:lnTo>
                  <a:pt x="146" y="654"/>
                </a:lnTo>
                <a:lnTo>
                  <a:pt x="127" y="610"/>
                </a:lnTo>
                <a:lnTo>
                  <a:pt x="131" y="569"/>
                </a:lnTo>
                <a:lnTo>
                  <a:pt x="150" y="498"/>
                </a:lnTo>
                <a:lnTo>
                  <a:pt x="148" y="345"/>
                </a:lnTo>
                <a:lnTo>
                  <a:pt x="159" y="309"/>
                </a:lnTo>
                <a:lnTo>
                  <a:pt x="152" y="243"/>
                </a:lnTo>
                <a:lnTo>
                  <a:pt x="200" y="237"/>
                </a:lnTo>
                <a:lnTo>
                  <a:pt x="243" y="282"/>
                </a:lnTo>
                <a:lnTo>
                  <a:pt x="286" y="240"/>
                </a:lnTo>
                <a:lnTo>
                  <a:pt x="311" y="47"/>
                </a:lnTo>
                <a:lnTo>
                  <a:pt x="318" y="0"/>
                </a:lnTo>
                <a:lnTo>
                  <a:pt x="378" y="13"/>
                </a:lnTo>
                <a:lnTo>
                  <a:pt x="439" y="24"/>
                </a:lnTo>
                <a:lnTo>
                  <a:pt x="531" y="41"/>
                </a:lnTo>
                <a:lnTo>
                  <a:pt x="535" y="43"/>
                </a:lnTo>
                <a:lnTo>
                  <a:pt x="558" y="47"/>
                </a:lnTo>
                <a:lnTo>
                  <a:pt x="598" y="53"/>
                </a:lnTo>
                <a:lnTo>
                  <a:pt x="745" y="78"/>
                </a:lnTo>
                <a:lnTo>
                  <a:pt x="791" y="87"/>
                </a:lnTo>
                <a:lnTo>
                  <a:pt x="807" y="89"/>
                </a:lnTo>
                <a:lnTo>
                  <a:pt x="837" y="94"/>
                </a:lnTo>
                <a:lnTo>
                  <a:pt x="884" y="101"/>
                </a:lnTo>
                <a:lnTo>
                  <a:pt x="931" y="108"/>
                </a:lnTo>
                <a:lnTo>
                  <a:pt x="979" y="115"/>
                </a:lnTo>
                <a:lnTo>
                  <a:pt x="983" y="118"/>
                </a:lnTo>
                <a:lnTo>
                  <a:pt x="1070" y="131"/>
                </a:lnTo>
                <a:lnTo>
                  <a:pt x="1140" y="142"/>
                </a:lnTo>
                <a:lnTo>
                  <a:pt x="1164" y="145"/>
                </a:lnTo>
                <a:lnTo>
                  <a:pt x="1249" y="156"/>
                </a:lnTo>
                <a:lnTo>
                  <a:pt x="1242" y="230"/>
                </a:lnTo>
                <a:lnTo>
                  <a:pt x="1235" y="305"/>
                </a:lnTo>
                <a:lnTo>
                  <a:pt x="1222" y="453"/>
                </a:lnTo>
                <a:lnTo>
                  <a:pt x="1210" y="592"/>
                </a:lnTo>
                <a:lnTo>
                  <a:pt x="1209" y="601"/>
                </a:lnTo>
                <a:lnTo>
                  <a:pt x="1195" y="763"/>
                </a:lnTo>
                <a:lnTo>
                  <a:pt x="1190" y="816"/>
                </a:lnTo>
                <a:lnTo>
                  <a:pt x="1190" y="820"/>
                </a:lnTo>
                <a:lnTo>
                  <a:pt x="1185" y="875"/>
                </a:lnTo>
                <a:lnTo>
                  <a:pt x="1180" y="936"/>
                </a:lnTo>
                <a:lnTo>
                  <a:pt x="1170" y="1048"/>
                </a:lnTo>
                <a:lnTo>
                  <a:pt x="1164" y="1115"/>
                </a:lnTo>
                <a:lnTo>
                  <a:pt x="1164" y="1121"/>
                </a:lnTo>
                <a:lnTo>
                  <a:pt x="1163" y="1122"/>
                </a:lnTo>
                <a:lnTo>
                  <a:pt x="1149" y="1284"/>
                </a:lnTo>
                <a:lnTo>
                  <a:pt x="1147" y="1301"/>
                </a:lnTo>
                <a:lnTo>
                  <a:pt x="1143" y="1345"/>
                </a:lnTo>
                <a:lnTo>
                  <a:pt x="1138" y="1411"/>
                </a:lnTo>
                <a:lnTo>
                  <a:pt x="1137" y="1420"/>
                </a:lnTo>
                <a:lnTo>
                  <a:pt x="1130" y="1494"/>
                </a:lnTo>
                <a:lnTo>
                  <a:pt x="1129" y="1515"/>
                </a:lnTo>
                <a:lnTo>
                  <a:pt x="1105" y="1777"/>
                </a:lnTo>
                <a:lnTo>
                  <a:pt x="1105" y="1783"/>
                </a:lnTo>
                <a:lnTo>
                  <a:pt x="1099" y="1840"/>
                </a:lnTo>
                <a:lnTo>
                  <a:pt x="818" y="1799"/>
                </a:lnTo>
                <a:lnTo>
                  <a:pt x="694" y="1779"/>
                </a:lnTo>
                <a:lnTo>
                  <a:pt x="645" y="1746"/>
                </a:lnTo>
                <a:lnTo>
                  <a:pt x="639" y="1743"/>
                </a:lnTo>
                <a:lnTo>
                  <a:pt x="614" y="1726"/>
                </a:lnTo>
                <a:lnTo>
                  <a:pt x="613" y="1725"/>
                </a:lnTo>
                <a:lnTo>
                  <a:pt x="270" y="1492"/>
                </a:lnTo>
                <a:lnTo>
                  <a:pt x="24" y="1321"/>
                </a:lnTo>
                <a:lnTo>
                  <a:pt x="0" y="1277"/>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6" name="Freeform 39"/>
          <p:cNvSpPr/>
          <p:nvPr/>
        </p:nvSpPr>
        <p:spPr>
          <a:xfrm>
            <a:off x="534960" y="3171960"/>
            <a:ext cx="955800" cy="1657080"/>
          </a:xfrm>
          <a:custGeom>
            <a:avLst/>
            <a:gdLst>
              <a:gd name="textAreaLeft" fmla="*/ 0 w 955800"/>
              <a:gd name="textAreaRight" fmla="*/ 956160 w 955800"/>
              <a:gd name="textAreaTop" fmla="*/ 0 h 1657080"/>
              <a:gd name="textAreaBottom" fmla="*/ 1657440 h 1657080"/>
            </a:gdLst>
            <a:ahLst/>
            <a:rect l="textAreaLeft" t="textAreaTop" r="textAreaRight" b="textAreaBottom"/>
            <a:pathLst>
              <a:path w="1576" h="3170">
                <a:moveTo>
                  <a:pt x="1397" y="3170"/>
                </a:moveTo>
                <a:lnTo>
                  <a:pt x="1402" y="3170"/>
                </a:lnTo>
                <a:lnTo>
                  <a:pt x="1439" y="3169"/>
                </a:lnTo>
                <a:lnTo>
                  <a:pt x="1456" y="3095"/>
                </a:lnTo>
                <a:lnTo>
                  <a:pt x="1439" y="3087"/>
                </a:lnTo>
                <a:lnTo>
                  <a:pt x="1420" y="3060"/>
                </a:lnTo>
                <a:lnTo>
                  <a:pt x="1431" y="2977"/>
                </a:lnTo>
                <a:lnTo>
                  <a:pt x="1448" y="2963"/>
                </a:lnTo>
                <a:lnTo>
                  <a:pt x="1484" y="2891"/>
                </a:lnTo>
                <a:lnTo>
                  <a:pt x="1494" y="2813"/>
                </a:lnTo>
                <a:lnTo>
                  <a:pt x="1503" y="2804"/>
                </a:lnTo>
                <a:lnTo>
                  <a:pt x="1511" y="2780"/>
                </a:lnTo>
                <a:lnTo>
                  <a:pt x="1549" y="2760"/>
                </a:lnTo>
                <a:lnTo>
                  <a:pt x="1569" y="2741"/>
                </a:lnTo>
                <a:lnTo>
                  <a:pt x="1576" y="2726"/>
                </a:lnTo>
                <a:lnTo>
                  <a:pt x="1536" y="2674"/>
                </a:lnTo>
                <a:lnTo>
                  <a:pt x="1537" y="2658"/>
                </a:lnTo>
                <a:lnTo>
                  <a:pt x="1524" y="2586"/>
                </a:lnTo>
                <a:lnTo>
                  <a:pt x="1505" y="2542"/>
                </a:lnTo>
                <a:lnTo>
                  <a:pt x="1509" y="2501"/>
                </a:lnTo>
                <a:lnTo>
                  <a:pt x="1463" y="2420"/>
                </a:lnTo>
                <a:lnTo>
                  <a:pt x="1412" y="2331"/>
                </a:lnTo>
                <a:lnTo>
                  <a:pt x="1353" y="2227"/>
                </a:lnTo>
                <a:lnTo>
                  <a:pt x="1334" y="2194"/>
                </a:lnTo>
                <a:lnTo>
                  <a:pt x="1312" y="2156"/>
                </a:lnTo>
                <a:lnTo>
                  <a:pt x="1311" y="2155"/>
                </a:lnTo>
                <a:lnTo>
                  <a:pt x="1257" y="2060"/>
                </a:lnTo>
                <a:lnTo>
                  <a:pt x="1213" y="1982"/>
                </a:lnTo>
                <a:lnTo>
                  <a:pt x="1118" y="1816"/>
                </a:lnTo>
                <a:lnTo>
                  <a:pt x="1062" y="1718"/>
                </a:lnTo>
                <a:lnTo>
                  <a:pt x="1051" y="1700"/>
                </a:lnTo>
                <a:lnTo>
                  <a:pt x="1018" y="1641"/>
                </a:lnTo>
                <a:lnTo>
                  <a:pt x="1011" y="1629"/>
                </a:lnTo>
                <a:lnTo>
                  <a:pt x="986" y="1586"/>
                </a:lnTo>
                <a:lnTo>
                  <a:pt x="930" y="1488"/>
                </a:lnTo>
                <a:lnTo>
                  <a:pt x="883" y="1404"/>
                </a:lnTo>
                <a:lnTo>
                  <a:pt x="858" y="1361"/>
                </a:lnTo>
                <a:lnTo>
                  <a:pt x="824" y="1302"/>
                </a:lnTo>
                <a:lnTo>
                  <a:pt x="810" y="1278"/>
                </a:lnTo>
                <a:lnTo>
                  <a:pt x="806" y="1271"/>
                </a:lnTo>
                <a:lnTo>
                  <a:pt x="799" y="1258"/>
                </a:lnTo>
                <a:lnTo>
                  <a:pt x="774" y="1216"/>
                </a:lnTo>
                <a:lnTo>
                  <a:pt x="762" y="1195"/>
                </a:lnTo>
                <a:lnTo>
                  <a:pt x="754" y="1180"/>
                </a:lnTo>
                <a:lnTo>
                  <a:pt x="726" y="1131"/>
                </a:lnTo>
                <a:lnTo>
                  <a:pt x="717" y="1114"/>
                </a:lnTo>
                <a:lnTo>
                  <a:pt x="711" y="1105"/>
                </a:lnTo>
                <a:lnTo>
                  <a:pt x="702" y="1090"/>
                </a:lnTo>
                <a:lnTo>
                  <a:pt x="705" y="1070"/>
                </a:lnTo>
                <a:lnTo>
                  <a:pt x="707" y="1057"/>
                </a:lnTo>
                <a:lnTo>
                  <a:pt x="709" y="1054"/>
                </a:lnTo>
                <a:lnTo>
                  <a:pt x="710" y="1041"/>
                </a:lnTo>
                <a:lnTo>
                  <a:pt x="714" y="1017"/>
                </a:lnTo>
                <a:lnTo>
                  <a:pt x="718" y="997"/>
                </a:lnTo>
                <a:lnTo>
                  <a:pt x="721" y="980"/>
                </a:lnTo>
                <a:lnTo>
                  <a:pt x="725" y="961"/>
                </a:lnTo>
                <a:lnTo>
                  <a:pt x="728" y="945"/>
                </a:lnTo>
                <a:lnTo>
                  <a:pt x="735" y="908"/>
                </a:lnTo>
                <a:lnTo>
                  <a:pt x="739" y="880"/>
                </a:lnTo>
                <a:lnTo>
                  <a:pt x="752" y="812"/>
                </a:lnTo>
                <a:lnTo>
                  <a:pt x="781" y="653"/>
                </a:lnTo>
                <a:lnTo>
                  <a:pt x="816" y="454"/>
                </a:lnTo>
                <a:lnTo>
                  <a:pt x="824" y="406"/>
                </a:lnTo>
                <a:lnTo>
                  <a:pt x="846" y="284"/>
                </a:lnTo>
                <a:lnTo>
                  <a:pt x="857" y="217"/>
                </a:lnTo>
                <a:lnTo>
                  <a:pt x="822" y="209"/>
                </a:lnTo>
                <a:lnTo>
                  <a:pt x="814" y="206"/>
                </a:lnTo>
                <a:lnTo>
                  <a:pt x="706" y="176"/>
                </a:lnTo>
                <a:lnTo>
                  <a:pt x="673" y="166"/>
                </a:lnTo>
                <a:lnTo>
                  <a:pt x="634" y="155"/>
                </a:lnTo>
                <a:lnTo>
                  <a:pt x="609" y="146"/>
                </a:lnTo>
                <a:lnTo>
                  <a:pt x="515" y="117"/>
                </a:lnTo>
                <a:lnTo>
                  <a:pt x="486" y="107"/>
                </a:lnTo>
                <a:lnTo>
                  <a:pt x="466" y="101"/>
                </a:lnTo>
                <a:lnTo>
                  <a:pt x="337" y="63"/>
                </a:lnTo>
                <a:lnTo>
                  <a:pt x="320" y="56"/>
                </a:lnTo>
                <a:lnTo>
                  <a:pt x="305" y="53"/>
                </a:lnTo>
                <a:lnTo>
                  <a:pt x="284" y="47"/>
                </a:lnTo>
                <a:lnTo>
                  <a:pt x="271" y="43"/>
                </a:lnTo>
                <a:lnTo>
                  <a:pt x="256" y="39"/>
                </a:lnTo>
                <a:lnTo>
                  <a:pt x="238" y="33"/>
                </a:lnTo>
                <a:lnTo>
                  <a:pt x="232" y="32"/>
                </a:lnTo>
                <a:lnTo>
                  <a:pt x="204" y="23"/>
                </a:lnTo>
                <a:lnTo>
                  <a:pt x="174" y="13"/>
                </a:lnTo>
                <a:lnTo>
                  <a:pt x="152" y="6"/>
                </a:lnTo>
                <a:lnTo>
                  <a:pt x="137" y="0"/>
                </a:lnTo>
                <a:lnTo>
                  <a:pt x="116" y="64"/>
                </a:lnTo>
                <a:lnTo>
                  <a:pt x="131" y="88"/>
                </a:lnTo>
                <a:lnTo>
                  <a:pt x="129" y="162"/>
                </a:lnTo>
                <a:lnTo>
                  <a:pt x="123" y="188"/>
                </a:lnTo>
                <a:lnTo>
                  <a:pt x="97" y="251"/>
                </a:lnTo>
                <a:lnTo>
                  <a:pt x="89" y="251"/>
                </a:lnTo>
                <a:lnTo>
                  <a:pt x="89" y="278"/>
                </a:lnTo>
                <a:lnTo>
                  <a:pt x="94" y="278"/>
                </a:lnTo>
                <a:lnTo>
                  <a:pt x="94" y="294"/>
                </a:lnTo>
                <a:lnTo>
                  <a:pt x="78" y="327"/>
                </a:lnTo>
                <a:lnTo>
                  <a:pt x="15" y="422"/>
                </a:lnTo>
                <a:lnTo>
                  <a:pt x="11" y="460"/>
                </a:lnTo>
                <a:lnTo>
                  <a:pt x="0" y="490"/>
                </a:lnTo>
                <a:lnTo>
                  <a:pt x="36" y="549"/>
                </a:lnTo>
                <a:lnTo>
                  <a:pt x="48" y="586"/>
                </a:lnTo>
                <a:lnTo>
                  <a:pt x="65" y="670"/>
                </a:lnTo>
                <a:lnTo>
                  <a:pt x="66" y="710"/>
                </a:lnTo>
                <a:lnTo>
                  <a:pt x="44" y="779"/>
                </a:lnTo>
                <a:lnTo>
                  <a:pt x="43" y="932"/>
                </a:lnTo>
                <a:lnTo>
                  <a:pt x="58" y="970"/>
                </a:lnTo>
                <a:lnTo>
                  <a:pt x="95" y="1063"/>
                </a:lnTo>
                <a:lnTo>
                  <a:pt x="112" y="1091"/>
                </a:lnTo>
                <a:lnTo>
                  <a:pt x="116" y="1134"/>
                </a:lnTo>
                <a:lnTo>
                  <a:pt x="126" y="1138"/>
                </a:lnTo>
                <a:lnTo>
                  <a:pt x="130" y="1153"/>
                </a:lnTo>
                <a:lnTo>
                  <a:pt x="124" y="1155"/>
                </a:lnTo>
                <a:lnTo>
                  <a:pt x="124" y="1189"/>
                </a:lnTo>
                <a:lnTo>
                  <a:pt x="115" y="1229"/>
                </a:lnTo>
                <a:lnTo>
                  <a:pt x="124" y="1220"/>
                </a:lnTo>
                <a:lnTo>
                  <a:pt x="135" y="1226"/>
                </a:lnTo>
                <a:lnTo>
                  <a:pt x="150" y="1257"/>
                </a:lnTo>
                <a:lnTo>
                  <a:pt x="168" y="1274"/>
                </a:lnTo>
                <a:lnTo>
                  <a:pt x="183" y="1304"/>
                </a:lnTo>
                <a:lnTo>
                  <a:pt x="192" y="1304"/>
                </a:lnTo>
                <a:lnTo>
                  <a:pt x="190" y="1314"/>
                </a:lnTo>
                <a:lnTo>
                  <a:pt x="184" y="1314"/>
                </a:lnTo>
                <a:lnTo>
                  <a:pt x="182" y="1336"/>
                </a:lnTo>
                <a:lnTo>
                  <a:pt x="171" y="1397"/>
                </a:lnTo>
                <a:lnTo>
                  <a:pt x="175" y="1399"/>
                </a:lnTo>
                <a:lnTo>
                  <a:pt x="180" y="1439"/>
                </a:lnTo>
                <a:lnTo>
                  <a:pt x="171" y="1474"/>
                </a:lnTo>
                <a:lnTo>
                  <a:pt x="179" y="1514"/>
                </a:lnTo>
                <a:lnTo>
                  <a:pt x="186" y="1522"/>
                </a:lnTo>
                <a:lnTo>
                  <a:pt x="199" y="1558"/>
                </a:lnTo>
                <a:lnTo>
                  <a:pt x="222" y="1582"/>
                </a:lnTo>
                <a:lnTo>
                  <a:pt x="250" y="1587"/>
                </a:lnTo>
                <a:lnTo>
                  <a:pt x="259" y="1623"/>
                </a:lnTo>
                <a:lnTo>
                  <a:pt x="246" y="1678"/>
                </a:lnTo>
                <a:lnTo>
                  <a:pt x="233" y="1692"/>
                </a:lnTo>
                <a:lnTo>
                  <a:pt x="225" y="1678"/>
                </a:lnTo>
                <a:lnTo>
                  <a:pt x="212" y="1692"/>
                </a:lnTo>
                <a:lnTo>
                  <a:pt x="219" y="1796"/>
                </a:lnTo>
                <a:lnTo>
                  <a:pt x="234" y="1813"/>
                </a:lnTo>
                <a:lnTo>
                  <a:pt x="268" y="1888"/>
                </a:lnTo>
                <a:lnTo>
                  <a:pt x="271" y="1926"/>
                </a:lnTo>
                <a:lnTo>
                  <a:pt x="286" y="1956"/>
                </a:lnTo>
                <a:lnTo>
                  <a:pt x="289" y="1986"/>
                </a:lnTo>
                <a:lnTo>
                  <a:pt x="312" y="2016"/>
                </a:lnTo>
                <a:lnTo>
                  <a:pt x="326" y="2058"/>
                </a:lnTo>
                <a:lnTo>
                  <a:pt x="351" y="2085"/>
                </a:lnTo>
                <a:lnTo>
                  <a:pt x="353" y="2104"/>
                </a:lnTo>
                <a:lnTo>
                  <a:pt x="339" y="2139"/>
                </a:lnTo>
                <a:lnTo>
                  <a:pt x="362" y="2173"/>
                </a:lnTo>
                <a:lnTo>
                  <a:pt x="382" y="2189"/>
                </a:lnTo>
                <a:lnTo>
                  <a:pt x="371" y="2233"/>
                </a:lnTo>
                <a:lnTo>
                  <a:pt x="370" y="2263"/>
                </a:lnTo>
                <a:lnTo>
                  <a:pt x="353" y="2356"/>
                </a:lnTo>
                <a:lnTo>
                  <a:pt x="395" y="2397"/>
                </a:lnTo>
                <a:lnTo>
                  <a:pt x="466" y="2417"/>
                </a:lnTo>
                <a:lnTo>
                  <a:pt x="488" y="2438"/>
                </a:lnTo>
                <a:lnTo>
                  <a:pt x="536" y="2447"/>
                </a:lnTo>
                <a:lnTo>
                  <a:pt x="561" y="2468"/>
                </a:lnTo>
                <a:lnTo>
                  <a:pt x="594" y="2515"/>
                </a:lnTo>
                <a:lnTo>
                  <a:pt x="608" y="2556"/>
                </a:lnTo>
                <a:lnTo>
                  <a:pt x="646" y="2592"/>
                </a:lnTo>
                <a:lnTo>
                  <a:pt x="706" y="2609"/>
                </a:lnTo>
                <a:lnTo>
                  <a:pt x="729" y="2624"/>
                </a:lnTo>
                <a:lnTo>
                  <a:pt x="739" y="2661"/>
                </a:lnTo>
                <a:lnTo>
                  <a:pt x="741" y="2708"/>
                </a:lnTo>
                <a:lnTo>
                  <a:pt x="759" y="2724"/>
                </a:lnTo>
                <a:lnTo>
                  <a:pt x="789" y="2722"/>
                </a:lnTo>
                <a:lnTo>
                  <a:pt x="808" y="2752"/>
                </a:lnTo>
                <a:lnTo>
                  <a:pt x="829" y="2777"/>
                </a:lnTo>
                <a:lnTo>
                  <a:pt x="873" y="2848"/>
                </a:lnTo>
                <a:lnTo>
                  <a:pt x="889" y="2871"/>
                </a:lnTo>
                <a:lnTo>
                  <a:pt x="912" y="2938"/>
                </a:lnTo>
                <a:lnTo>
                  <a:pt x="911" y="3051"/>
                </a:lnTo>
                <a:lnTo>
                  <a:pt x="927" y="3094"/>
                </a:lnTo>
                <a:lnTo>
                  <a:pt x="926" y="3121"/>
                </a:lnTo>
                <a:lnTo>
                  <a:pt x="1128" y="3142"/>
                </a:lnTo>
                <a:lnTo>
                  <a:pt x="1397" y="3170"/>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7" name="Freeform 40"/>
          <p:cNvSpPr/>
          <p:nvPr/>
        </p:nvSpPr>
        <p:spPr>
          <a:xfrm>
            <a:off x="817560" y="4497480"/>
            <a:ext cx="39600" cy="21960"/>
          </a:xfrm>
          <a:custGeom>
            <a:avLst/>
            <a:gdLst>
              <a:gd name="textAreaLeft" fmla="*/ 0 w 39600"/>
              <a:gd name="textAreaRight" fmla="*/ 39960 w 39600"/>
              <a:gd name="textAreaTop" fmla="*/ 0 h 21960"/>
              <a:gd name="textAreaBottom" fmla="*/ 21960 h 21960"/>
            </a:gdLst>
            <a:ahLst/>
            <a:rect l="textAreaLeft" t="textAreaTop" r="textAreaRight" b="textAreaBottom"/>
            <a:pathLst>
              <a:path w="68" h="43">
                <a:moveTo>
                  <a:pt x="0" y="0"/>
                </a:moveTo>
                <a:lnTo>
                  <a:pt x="50" y="34"/>
                </a:lnTo>
                <a:lnTo>
                  <a:pt x="62" y="24"/>
                </a:lnTo>
                <a:lnTo>
                  <a:pt x="68" y="36"/>
                </a:lnTo>
                <a:lnTo>
                  <a:pt x="59" y="43"/>
                </a:lnTo>
                <a:lnTo>
                  <a:pt x="7" y="36"/>
                </a:lnTo>
                <a:lnTo>
                  <a:pt x="0" y="0"/>
                </a:lnTo>
                <a:close/>
              </a:path>
            </a:pathLst>
          </a:custGeom>
          <a:solidFill>
            <a:srgbClr val="ffffff"/>
          </a:solidFill>
          <a:ln w="0">
            <a:solidFill>
              <a:srgbClr val="000000"/>
            </a:solidFill>
          </a:ln>
        </p:spPr>
        <p:style>
          <a:lnRef idx="0"/>
          <a:fillRef idx="0"/>
          <a:effectRef idx="0"/>
          <a:fontRef idx="minor"/>
        </p:style>
        <p:txBody>
          <a:bodyPr lIns="90000" rIns="90000" tIns="-24840" bIns="-24840" anchor="t">
            <a:noAutofit/>
          </a:bodyPr>
          <a:p>
            <a:endParaRPr b="0" lang="en-US" sz="2800" spc="-1" strike="noStrike">
              <a:solidFill>
                <a:srgbClr val="000000"/>
              </a:solidFill>
              <a:latin typeface="Arial"/>
            </a:endParaRPr>
          </a:p>
        </p:txBody>
      </p:sp>
      <p:sp>
        <p:nvSpPr>
          <p:cNvPr id="148" name="Freeform 41"/>
          <p:cNvSpPr/>
          <p:nvPr/>
        </p:nvSpPr>
        <p:spPr>
          <a:xfrm>
            <a:off x="779400" y="4500720"/>
            <a:ext cx="27000" cy="15840"/>
          </a:xfrm>
          <a:custGeom>
            <a:avLst/>
            <a:gdLst>
              <a:gd name="textAreaLeft" fmla="*/ 0 w 27000"/>
              <a:gd name="textAreaRight" fmla="*/ 27360 w 27000"/>
              <a:gd name="textAreaTop" fmla="*/ 0 h 15840"/>
              <a:gd name="textAreaBottom" fmla="*/ 16200 h 15840"/>
            </a:gdLst>
            <a:ahLst/>
            <a:rect l="textAreaLeft" t="textAreaTop" r="textAreaRight" b="textAreaBottom"/>
            <a:pathLst>
              <a:path w="45" h="31">
                <a:moveTo>
                  <a:pt x="0" y="8"/>
                </a:moveTo>
                <a:lnTo>
                  <a:pt x="6" y="28"/>
                </a:lnTo>
                <a:lnTo>
                  <a:pt x="45" y="31"/>
                </a:lnTo>
                <a:lnTo>
                  <a:pt x="33" y="11"/>
                </a:lnTo>
                <a:lnTo>
                  <a:pt x="36" y="0"/>
                </a:lnTo>
                <a:lnTo>
                  <a:pt x="0" y="8"/>
                </a:lnTo>
                <a:close/>
              </a:path>
            </a:pathLst>
          </a:custGeom>
          <a:solidFill>
            <a:srgbClr val="ffffff"/>
          </a:solidFill>
          <a:ln w="0">
            <a:solidFill>
              <a:srgbClr val="000000"/>
            </a:solidFill>
          </a:ln>
        </p:spPr>
        <p:style>
          <a:lnRef idx="0"/>
          <a:fillRef idx="0"/>
          <a:effectRef idx="0"/>
          <a:fontRef idx="minor"/>
        </p:style>
        <p:txBody>
          <a:bodyPr lIns="90000" rIns="90000" tIns="-30600" bIns="-30600" anchor="t">
            <a:noAutofit/>
          </a:bodyPr>
          <a:p>
            <a:endParaRPr b="0" lang="en-US" sz="2800" spc="-1" strike="noStrike">
              <a:solidFill>
                <a:srgbClr val="000000"/>
              </a:solidFill>
              <a:latin typeface="Arial"/>
            </a:endParaRPr>
          </a:p>
        </p:txBody>
      </p:sp>
      <p:sp>
        <p:nvSpPr>
          <p:cNvPr id="149" name="Freeform 42"/>
          <p:cNvSpPr/>
          <p:nvPr/>
        </p:nvSpPr>
        <p:spPr>
          <a:xfrm>
            <a:off x="952560" y="4624560"/>
            <a:ext cx="25200" cy="26640"/>
          </a:xfrm>
          <a:custGeom>
            <a:avLst/>
            <a:gdLst>
              <a:gd name="textAreaLeft" fmla="*/ 0 w 25200"/>
              <a:gd name="textAreaRight" fmla="*/ 25560 w 25200"/>
              <a:gd name="textAreaTop" fmla="*/ 0 h 26640"/>
              <a:gd name="textAreaBottom" fmla="*/ 27000 h 26640"/>
            </a:gdLst>
            <a:ahLst/>
            <a:rect l="textAreaLeft" t="textAreaTop" r="textAreaRight" b="textAreaBottom"/>
            <a:pathLst>
              <a:path w="41" h="52">
                <a:moveTo>
                  <a:pt x="0" y="0"/>
                </a:moveTo>
                <a:lnTo>
                  <a:pt x="0" y="13"/>
                </a:lnTo>
                <a:lnTo>
                  <a:pt x="12" y="18"/>
                </a:lnTo>
                <a:lnTo>
                  <a:pt x="21" y="52"/>
                </a:lnTo>
                <a:lnTo>
                  <a:pt x="41" y="48"/>
                </a:lnTo>
                <a:lnTo>
                  <a:pt x="36" y="28"/>
                </a:lnTo>
                <a:lnTo>
                  <a:pt x="0" y="0"/>
                </a:lnTo>
                <a:close/>
              </a:path>
            </a:pathLst>
          </a:custGeom>
          <a:solidFill>
            <a:srgbClr val="ffffff"/>
          </a:solidFill>
          <a:ln w="0">
            <a:solidFill>
              <a:srgbClr val="000000"/>
            </a:solidFill>
          </a:ln>
        </p:spPr>
        <p:style>
          <a:lnRef idx="0"/>
          <a:fillRef idx="0"/>
          <a:effectRef idx="0"/>
          <a:fontRef idx="minor"/>
        </p:style>
        <p:txBody>
          <a:bodyPr lIns="90000" rIns="90000" tIns="-19800" bIns="-19800" anchor="t">
            <a:noAutofit/>
          </a:bodyPr>
          <a:p>
            <a:endParaRPr b="0" lang="en-US" sz="2800" spc="-1" strike="noStrike">
              <a:solidFill>
                <a:srgbClr val="000000"/>
              </a:solidFill>
              <a:latin typeface="Arial"/>
            </a:endParaRPr>
          </a:p>
        </p:txBody>
      </p:sp>
      <p:sp>
        <p:nvSpPr>
          <p:cNvPr id="150" name="Freeform 43"/>
          <p:cNvSpPr/>
          <p:nvPr/>
        </p:nvSpPr>
        <p:spPr>
          <a:xfrm>
            <a:off x="938160" y="4691160"/>
            <a:ext cx="20520" cy="36360"/>
          </a:xfrm>
          <a:custGeom>
            <a:avLst/>
            <a:gdLst>
              <a:gd name="textAreaLeft" fmla="*/ 0 w 20520"/>
              <a:gd name="textAreaRight" fmla="*/ 20880 w 20520"/>
              <a:gd name="textAreaTop" fmla="*/ 0 h 36360"/>
              <a:gd name="textAreaBottom" fmla="*/ 36720 h 36360"/>
            </a:gdLst>
            <a:ahLst/>
            <a:rect l="textAreaLeft" t="textAreaTop" r="textAreaRight" b="textAreaBottom"/>
            <a:pathLst>
              <a:path w="34" h="69">
                <a:moveTo>
                  <a:pt x="0" y="0"/>
                </a:moveTo>
                <a:lnTo>
                  <a:pt x="16" y="68"/>
                </a:lnTo>
                <a:lnTo>
                  <a:pt x="34" y="69"/>
                </a:lnTo>
                <a:lnTo>
                  <a:pt x="0" y="0"/>
                </a:lnTo>
                <a:close/>
              </a:path>
            </a:pathLst>
          </a:custGeom>
          <a:solidFill>
            <a:srgbClr val="ffffff"/>
          </a:solidFill>
          <a:ln w="0">
            <a:solidFill>
              <a:srgbClr val="000000"/>
            </a:solidFill>
          </a:ln>
        </p:spPr>
        <p:style>
          <a:lnRef idx="0"/>
          <a:fillRef idx="0"/>
          <a:effectRef idx="0"/>
          <a:fontRef idx="minor"/>
        </p:style>
        <p:txBody>
          <a:bodyPr lIns="90000" rIns="90000" tIns="-10080" bIns="-10080" anchor="t">
            <a:noAutofit/>
          </a:bodyPr>
          <a:p>
            <a:endParaRPr b="0" lang="en-US" sz="2800" spc="-1" strike="noStrike">
              <a:solidFill>
                <a:srgbClr val="000000"/>
              </a:solidFill>
              <a:latin typeface="Arial"/>
            </a:endParaRPr>
          </a:p>
        </p:txBody>
      </p:sp>
      <p:sp>
        <p:nvSpPr>
          <p:cNvPr id="151" name="Freeform 44"/>
          <p:cNvSpPr/>
          <p:nvPr/>
        </p:nvSpPr>
        <p:spPr>
          <a:xfrm>
            <a:off x="2125800" y="3641760"/>
            <a:ext cx="815760" cy="687240"/>
          </a:xfrm>
          <a:custGeom>
            <a:avLst/>
            <a:gdLst>
              <a:gd name="textAreaLeft" fmla="*/ 0 w 815760"/>
              <a:gd name="textAreaRight" fmla="*/ 816120 w 815760"/>
              <a:gd name="textAreaTop" fmla="*/ 0 h 687240"/>
              <a:gd name="textAreaBottom" fmla="*/ 687600 h 687240"/>
            </a:gdLst>
            <a:ahLst/>
            <a:rect l="textAreaLeft" t="textAreaTop" r="textAreaRight" b="textAreaBottom"/>
            <a:pathLst>
              <a:path w="1347" h="1312">
                <a:moveTo>
                  <a:pt x="1334" y="540"/>
                </a:moveTo>
                <a:lnTo>
                  <a:pt x="1334" y="541"/>
                </a:lnTo>
                <a:lnTo>
                  <a:pt x="1332" y="563"/>
                </a:lnTo>
                <a:lnTo>
                  <a:pt x="1331" y="600"/>
                </a:lnTo>
                <a:lnTo>
                  <a:pt x="1330" y="672"/>
                </a:lnTo>
                <a:lnTo>
                  <a:pt x="1330" y="675"/>
                </a:lnTo>
                <a:lnTo>
                  <a:pt x="1329" y="689"/>
                </a:lnTo>
                <a:lnTo>
                  <a:pt x="1329" y="697"/>
                </a:lnTo>
                <a:lnTo>
                  <a:pt x="1329" y="712"/>
                </a:lnTo>
                <a:lnTo>
                  <a:pt x="1327" y="771"/>
                </a:lnTo>
                <a:lnTo>
                  <a:pt x="1326" y="802"/>
                </a:lnTo>
                <a:lnTo>
                  <a:pt x="1326" y="824"/>
                </a:lnTo>
                <a:lnTo>
                  <a:pt x="1326" y="826"/>
                </a:lnTo>
                <a:lnTo>
                  <a:pt x="1323" y="878"/>
                </a:lnTo>
                <a:lnTo>
                  <a:pt x="1323" y="899"/>
                </a:lnTo>
                <a:lnTo>
                  <a:pt x="1322" y="930"/>
                </a:lnTo>
                <a:lnTo>
                  <a:pt x="1322" y="931"/>
                </a:lnTo>
                <a:lnTo>
                  <a:pt x="1321" y="973"/>
                </a:lnTo>
                <a:lnTo>
                  <a:pt x="1320" y="1011"/>
                </a:lnTo>
                <a:lnTo>
                  <a:pt x="1318" y="1089"/>
                </a:lnTo>
                <a:lnTo>
                  <a:pt x="1316" y="1117"/>
                </a:lnTo>
                <a:lnTo>
                  <a:pt x="1316" y="1123"/>
                </a:lnTo>
                <a:lnTo>
                  <a:pt x="1315" y="1160"/>
                </a:lnTo>
                <a:lnTo>
                  <a:pt x="1314" y="1194"/>
                </a:lnTo>
                <a:lnTo>
                  <a:pt x="1313" y="1235"/>
                </a:lnTo>
                <a:lnTo>
                  <a:pt x="1311" y="1272"/>
                </a:lnTo>
                <a:lnTo>
                  <a:pt x="1310" y="1312"/>
                </a:lnTo>
                <a:lnTo>
                  <a:pt x="1201" y="1304"/>
                </a:lnTo>
                <a:lnTo>
                  <a:pt x="1176" y="1302"/>
                </a:lnTo>
                <a:lnTo>
                  <a:pt x="1130" y="1299"/>
                </a:lnTo>
                <a:lnTo>
                  <a:pt x="1114" y="1299"/>
                </a:lnTo>
                <a:lnTo>
                  <a:pt x="1072" y="1296"/>
                </a:lnTo>
                <a:lnTo>
                  <a:pt x="1060" y="1294"/>
                </a:lnTo>
                <a:lnTo>
                  <a:pt x="942" y="1287"/>
                </a:lnTo>
                <a:lnTo>
                  <a:pt x="873" y="1283"/>
                </a:lnTo>
                <a:lnTo>
                  <a:pt x="768" y="1275"/>
                </a:lnTo>
                <a:lnTo>
                  <a:pt x="727" y="1270"/>
                </a:lnTo>
                <a:lnTo>
                  <a:pt x="714" y="1269"/>
                </a:lnTo>
                <a:lnTo>
                  <a:pt x="621" y="1260"/>
                </a:lnTo>
                <a:lnTo>
                  <a:pt x="616" y="1260"/>
                </a:lnTo>
                <a:lnTo>
                  <a:pt x="592" y="1258"/>
                </a:lnTo>
                <a:lnTo>
                  <a:pt x="568" y="1256"/>
                </a:lnTo>
                <a:lnTo>
                  <a:pt x="480" y="1248"/>
                </a:lnTo>
                <a:lnTo>
                  <a:pt x="303" y="1226"/>
                </a:lnTo>
                <a:lnTo>
                  <a:pt x="298" y="1225"/>
                </a:lnTo>
                <a:lnTo>
                  <a:pt x="291" y="1225"/>
                </a:lnTo>
                <a:lnTo>
                  <a:pt x="289" y="1225"/>
                </a:lnTo>
                <a:lnTo>
                  <a:pt x="171" y="1211"/>
                </a:lnTo>
                <a:lnTo>
                  <a:pt x="124" y="1204"/>
                </a:lnTo>
                <a:lnTo>
                  <a:pt x="69" y="1198"/>
                </a:lnTo>
                <a:lnTo>
                  <a:pt x="54" y="1195"/>
                </a:lnTo>
                <a:lnTo>
                  <a:pt x="0" y="1188"/>
                </a:lnTo>
                <a:lnTo>
                  <a:pt x="12" y="1045"/>
                </a:lnTo>
                <a:lnTo>
                  <a:pt x="13" y="1039"/>
                </a:lnTo>
                <a:lnTo>
                  <a:pt x="20" y="965"/>
                </a:lnTo>
                <a:lnTo>
                  <a:pt x="24" y="926"/>
                </a:lnTo>
                <a:lnTo>
                  <a:pt x="26" y="890"/>
                </a:lnTo>
                <a:lnTo>
                  <a:pt x="30" y="845"/>
                </a:lnTo>
                <a:lnTo>
                  <a:pt x="30" y="842"/>
                </a:lnTo>
                <a:lnTo>
                  <a:pt x="30" y="808"/>
                </a:lnTo>
                <a:lnTo>
                  <a:pt x="36" y="741"/>
                </a:lnTo>
                <a:lnTo>
                  <a:pt x="43" y="668"/>
                </a:lnTo>
                <a:lnTo>
                  <a:pt x="51" y="594"/>
                </a:lnTo>
                <a:lnTo>
                  <a:pt x="60" y="485"/>
                </a:lnTo>
                <a:lnTo>
                  <a:pt x="61" y="482"/>
                </a:lnTo>
                <a:lnTo>
                  <a:pt x="64" y="445"/>
                </a:lnTo>
                <a:lnTo>
                  <a:pt x="67" y="408"/>
                </a:lnTo>
                <a:lnTo>
                  <a:pt x="68" y="397"/>
                </a:lnTo>
                <a:lnTo>
                  <a:pt x="74" y="333"/>
                </a:lnTo>
                <a:lnTo>
                  <a:pt x="77" y="296"/>
                </a:lnTo>
                <a:lnTo>
                  <a:pt x="83" y="231"/>
                </a:lnTo>
                <a:lnTo>
                  <a:pt x="89" y="166"/>
                </a:lnTo>
                <a:lnTo>
                  <a:pt x="94" y="112"/>
                </a:lnTo>
                <a:lnTo>
                  <a:pt x="94" y="103"/>
                </a:lnTo>
                <a:lnTo>
                  <a:pt x="97" y="73"/>
                </a:lnTo>
                <a:lnTo>
                  <a:pt x="100" y="36"/>
                </a:lnTo>
                <a:lnTo>
                  <a:pt x="104" y="0"/>
                </a:lnTo>
                <a:lnTo>
                  <a:pt x="148" y="5"/>
                </a:lnTo>
                <a:lnTo>
                  <a:pt x="258" y="19"/>
                </a:lnTo>
                <a:lnTo>
                  <a:pt x="304" y="25"/>
                </a:lnTo>
                <a:lnTo>
                  <a:pt x="355" y="31"/>
                </a:lnTo>
                <a:lnTo>
                  <a:pt x="401" y="36"/>
                </a:lnTo>
                <a:lnTo>
                  <a:pt x="411" y="38"/>
                </a:lnTo>
                <a:lnTo>
                  <a:pt x="487" y="46"/>
                </a:lnTo>
                <a:lnTo>
                  <a:pt x="492" y="46"/>
                </a:lnTo>
                <a:lnTo>
                  <a:pt x="555" y="53"/>
                </a:lnTo>
                <a:lnTo>
                  <a:pt x="578" y="56"/>
                </a:lnTo>
                <a:lnTo>
                  <a:pt x="587" y="58"/>
                </a:lnTo>
                <a:lnTo>
                  <a:pt x="594" y="59"/>
                </a:lnTo>
                <a:lnTo>
                  <a:pt x="608" y="61"/>
                </a:lnTo>
                <a:lnTo>
                  <a:pt x="611" y="61"/>
                </a:lnTo>
                <a:lnTo>
                  <a:pt x="632" y="63"/>
                </a:lnTo>
                <a:lnTo>
                  <a:pt x="743" y="73"/>
                </a:lnTo>
                <a:lnTo>
                  <a:pt x="773" y="76"/>
                </a:lnTo>
                <a:lnTo>
                  <a:pt x="778" y="76"/>
                </a:lnTo>
                <a:lnTo>
                  <a:pt x="800" y="78"/>
                </a:lnTo>
                <a:lnTo>
                  <a:pt x="832" y="80"/>
                </a:lnTo>
                <a:lnTo>
                  <a:pt x="844" y="82"/>
                </a:lnTo>
                <a:lnTo>
                  <a:pt x="887" y="85"/>
                </a:lnTo>
                <a:lnTo>
                  <a:pt x="991" y="92"/>
                </a:lnTo>
                <a:lnTo>
                  <a:pt x="1067" y="97"/>
                </a:lnTo>
                <a:lnTo>
                  <a:pt x="1076" y="99"/>
                </a:lnTo>
                <a:lnTo>
                  <a:pt x="1110" y="100"/>
                </a:lnTo>
                <a:lnTo>
                  <a:pt x="1240" y="109"/>
                </a:lnTo>
                <a:lnTo>
                  <a:pt x="1244" y="109"/>
                </a:lnTo>
                <a:lnTo>
                  <a:pt x="1246" y="109"/>
                </a:lnTo>
                <a:lnTo>
                  <a:pt x="1347" y="114"/>
                </a:lnTo>
                <a:lnTo>
                  <a:pt x="1345" y="190"/>
                </a:lnTo>
                <a:lnTo>
                  <a:pt x="1344" y="205"/>
                </a:lnTo>
                <a:lnTo>
                  <a:pt x="1343" y="227"/>
                </a:lnTo>
                <a:lnTo>
                  <a:pt x="1342" y="263"/>
                </a:lnTo>
                <a:lnTo>
                  <a:pt x="1342" y="282"/>
                </a:lnTo>
                <a:lnTo>
                  <a:pt x="1340" y="309"/>
                </a:lnTo>
                <a:lnTo>
                  <a:pt x="1337" y="412"/>
                </a:lnTo>
                <a:lnTo>
                  <a:pt x="1334" y="540"/>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2" name="Freeform 45"/>
          <p:cNvSpPr/>
          <p:nvPr/>
        </p:nvSpPr>
        <p:spPr>
          <a:xfrm>
            <a:off x="1365120" y="2292480"/>
            <a:ext cx="673200" cy="1168200"/>
          </a:xfrm>
          <a:custGeom>
            <a:avLst/>
            <a:gdLst>
              <a:gd name="textAreaLeft" fmla="*/ 0 w 673200"/>
              <a:gd name="textAreaRight" fmla="*/ 673560 w 673200"/>
              <a:gd name="textAreaTop" fmla="*/ 0 h 1168200"/>
              <a:gd name="textAreaBottom" fmla="*/ 1168560 h 1168200"/>
            </a:gdLst>
            <a:ahLst/>
            <a:rect l="textAreaLeft" t="textAreaTop" r="textAreaRight" b="textAreaBottom"/>
            <a:pathLst>
              <a:path w="1113" h="2229">
                <a:moveTo>
                  <a:pt x="117" y="1401"/>
                </a:moveTo>
                <a:lnTo>
                  <a:pt x="114" y="1409"/>
                </a:lnTo>
                <a:lnTo>
                  <a:pt x="111" y="1411"/>
                </a:lnTo>
                <a:lnTo>
                  <a:pt x="91" y="1477"/>
                </a:lnTo>
                <a:lnTo>
                  <a:pt x="87" y="1482"/>
                </a:lnTo>
                <a:lnTo>
                  <a:pt x="80" y="1496"/>
                </a:lnTo>
                <a:lnTo>
                  <a:pt x="75" y="1534"/>
                </a:lnTo>
                <a:lnTo>
                  <a:pt x="70" y="1564"/>
                </a:lnTo>
                <a:lnTo>
                  <a:pt x="52" y="1684"/>
                </a:lnTo>
                <a:lnTo>
                  <a:pt x="0" y="2023"/>
                </a:lnTo>
                <a:lnTo>
                  <a:pt x="10" y="2026"/>
                </a:lnTo>
                <a:lnTo>
                  <a:pt x="168" y="2063"/>
                </a:lnTo>
                <a:lnTo>
                  <a:pt x="344" y="2101"/>
                </a:lnTo>
                <a:lnTo>
                  <a:pt x="394" y="2111"/>
                </a:lnTo>
                <a:lnTo>
                  <a:pt x="420" y="2118"/>
                </a:lnTo>
                <a:lnTo>
                  <a:pt x="475" y="2130"/>
                </a:lnTo>
                <a:lnTo>
                  <a:pt x="480" y="2130"/>
                </a:lnTo>
                <a:lnTo>
                  <a:pt x="483" y="2131"/>
                </a:lnTo>
                <a:lnTo>
                  <a:pt x="517" y="2138"/>
                </a:lnTo>
                <a:lnTo>
                  <a:pt x="567" y="2148"/>
                </a:lnTo>
                <a:lnTo>
                  <a:pt x="654" y="2164"/>
                </a:lnTo>
                <a:lnTo>
                  <a:pt x="698" y="2171"/>
                </a:lnTo>
                <a:lnTo>
                  <a:pt x="838" y="2195"/>
                </a:lnTo>
                <a:lnTo>
                  <a:pt x="842" y="2198"/>
                </a:lnTo>
                <a:lnTo>
                  <a:pt x="843" y="2198"/>
                </a:lnTo>
                <a:lnTo>
                  <a:pt x="850" y="2198"/>
                </a:lnTo>
                <a:lnTo>
                  <a:pt x="853" y="2199"/>
                </a:lnTo>
                <a:lnTo>
                  <a:pt x="871" y="2202"/>
                </a:lnTo>
                <a:lnTo>
                  <a:pt x="915" y="2209"/>
                </a:lnTo>
                <a:lnTo>
                  <a:pt x="957" y="2216"/>
                </a:lnTo>
                <a:lnTo>
                  <a:pt x="966" y="2218"/>
                </a:lnTo>
                <a:lnTo>
                  <a:pt x="972" y="2218"/>
                </a:lnTo>
                <a:lnTo>
                  <a:pt x="1038" y="2229"/>
                </a:lnTo>
                <a:lnTo>
                  <a:pt x="1042" y="2192"/>
                </a:lnTo>
                <a:lnTo>
                  <a:pt x="1052" y="2089"/>
                </a:lnTo>
                <a:lnTo>
                  <a:pt x="1053" y="2079"/>
                </a:lnTo>
                <a:lnTo>
                  <a:pt x="1061" y="2008"/>
                </a:lnTo>
                <a:lnTo>
                  <a:pt x="1069" y="1934"/>
                </a:lnTo>
                <a:lnTo>
                  <a:pt x="1070" y="1928"/>
                </a:lnTo>
                <a:lnTo>
                  <a:pt x="1071" y="1916"/>
                </a:lnTo>
                <a:lnTo>
                  <a:pt x="1077" y="1860"/>
                </a:lnTo>
                <a:lnTo>
                  <a:pt x="1078" y="1842"/>
                </a:lnTo>
                <a:lnTo>
                  <a:pt x="1083" y="1802"/>
                </a:lnTo>
                <a:lnTo>
                  <a:pt x="1084" y="1788"/>
                </a:lnTo>
                <a:lnTo>
                  <a:pt x="1084" y="1787"/>
                </a:lnTo>
                <a:lnTo>
                  <a:pt x="1092" y="1714"/>
                </a:lnTo>
                <a:lnTo>
                  <a:pt x="1095" y="1677"/>
                </a:lnTo>
                <a:lnTo>
                  <a:pt x="1099" y="1645"/>
                </a:lnTo>
                <a:lnTo>
                  <a:pt x="1103" y="1602"/>
                </a:lnTo>
                <a:lnTo>
                  <a:pt x="1107" y="1567"/>
                </a:lnTo>
                <a:lnTo>
                  <a:pt x="1113" y="1502"/>
                </a:lnTo>
                <a:lnTo>
                  <a:pt x="1106" y="1497"/>
                </a:lnTo>
                <a:lnTo>
                  <a:pt x="1106" y="1496"/>
                </a:lnTo>
                <a:lnTo>
                  <a:pt x="1100" y="1492"/>
                </a:lnTo>
                <a:lnTo>
                  <a:pt x="1085" y="1445"/>
                </a:lnTo>
                <a:lnTo>
                  <a:pt x="1067" y="1411"/>
                </a:lnTo>
                <a:lnTo>
                  <a:pt x="1063" y="1411"/>
                </a:lnTo>
                <a:lnTo>
                  <a:pt x="1049" y="1421"/>
                </a:lnTo>
                <a:lnTo>
                  <a:pt x="1041" y="1439"/>
                </a:lnTo>
                <a:lnTo>
                  <a:pt x="1039" y="1469"/>
                </a:lnTo>
                <a:lnTo>
                  <a:pt x="1020" y="1463"/>
                </a:lnTo>
                <a:lnTo>
                  <a:pt x="934" y="1455"/>
                </a:lnTo>
                <a:lnTo>
                  <a:pt x="915" y="1439"/>
                </a:lnTo>
                <a:lnTo>
                  <a:pt x="894" y="1456"/>
                </a:lnTo>
                <a:lnTo>
                  <a:pt x="868" y="1463"/>
                </a:lnTo>
                <a:lnTo>
                  <a:pt x="830" y="1445"/>
                </a:lnTo>
                <a:lnTo>
                  <a:pt x="810" y="1465"/>
                </a:lnTo>
                <a:lnTo>
                  <a:pt x="813" y="1479"/>
                </a:lnTo>
                <a:lnTo>
                  <a:pt x="807" y="1483"/>
                </a:lnTo>
                <a:lnTo>
                  <a:pt x="783" y="1452"/>
                </a:lnTo>
                <a:lnTo>
                  <a:pt x="772" y="1358"/>
                </a:lnTo>
                <a:lnTo>
                  <a:pt x="723" y="1313"/>
                </a:lnTo>
                <a:lnTo>
                  <a:pt x="730" y="1277"/>
                </a:lnTo>
                <a:lnTo>
                  <a:pt x="673" y="1059"/>
                </a:lnTo>
                <a:lnTo>
                  <a:pt x="614" y="1100"/>
                </a:lnTo>
                <a:lnTo>
                  <a:pt x="591" y="1100"/>
                </a:lnTo>
                <a:lnTo>
                  <a:pt x="564" y="1077"/>
                </a:lnTo>
                <a:lnTo>
                  <a:pt x="627" y="809"/>
                </a:lnTo>
                <a:lnTo>
                  <a:pt x="631" y="811"/>
                </a:lnTo>
                <a:lnTo>
                  <a:pt x="645" y="777"/>
                </a:lnTo>
                <a:lnTo>
                  <a:pt x="644" y="765"/>
                </a:lnTo>
                <a:lnTo>
                  <a:pt x="637" y="763"/>
                </a:lnTo>
                <a:lnTo>
                  <a:pt x="616" y="765"/>
                </a:lnTo>
                <a:lnTo>
                  <a:pt x="600" y="765"/>
                </a:lnTo>
                <a:lnTo>
                  <a:pt x="597" y="757"/>
                </a:lnTo>
                <a:lnTo>
                  <a:pt x="598" y="741"/>
                </a:lnTo>
                <a:lnTo>
                  <a:pt x="591" y="733"/>
                </a:lnTo>
                <a:lnTo>
                  <a:pt x="575" y="741"/>
                </a:lnTo>
                <a:lnTo>
                  <a:pt x="572" y="736"/>
                </a:lnTo>
                <a:lnTo>
                  <a:pt x="578" y="726"/>
                </a:lnTo>
                <a:lnTo>
                  <a:pt x="552" y="666"/>
                </a:lnTo>
                <a:lnTo>
                  <a:pt x="539" y="643"/>
                </a:lnTo>
                <a:lnTo>
                  <a:pt x="507" y="564"/>
                </a:lnTo>
                <a:lnTo>
                  <a:pt x="483" y="547"/>
                </a:lnTo>
                <a:lnTo>
                  <a:pt x="446" y="493"/>
                </a:lnTo>
                <a:lnTo>
                  <a:pt x="467" y="485"/>
                </a:lnTo>
                <a:lnTo>
                  <a:pt x="450" y="463"/>
                </a:lnTo>
                <a:lnTo>
                  <a:pt x="458" y="414"/>
                </a:lnTo>
                <a:lnTo>
                  <a:pt x="420" y="327"/>
                </a:lnTo>
                <a:lnTo>
                  <a:pt x="421" y="321"/>
                </a:lnTo>
                <a:lnTo>
                  <a:pt x="430" y="259"/>
                </a:lnTo>
                <a:lnTo>
                  <a:pt x="440" y="188"/>
                </a:lnTo>
                <a:lnTo>
                  <a:pt x="442" y="178"/>
                </a:lnTo>
                <a:lnTo>
                  <a:pt x="442" y="177"/>
                </a:lnTo>
                <a:lnTo>
                  <a:pt x="458" y="70"/>
                </a:lnTo>
                <a:lnTo>
                  <a:pt x="462" y="42"/>
                </a:lnTo>
                <a:lnTo>
                  <a:pt x="463" y="35"/>
                </a:lnTo>
                <a:lnTo>
                  <a:pt x="309" y="0"/>
                </a:lnTo>
                <a:lnTo>
                  <a:pt x="307" y="11"/>
                </a:lnTo>
                <a:lnTo>
                  <a:pt x="306" y="24"/>
                </a:lnTo>
                <a:lnTo>
                  <a:pt x="302" y="43"/>
                </a:lnTo>
                <a:lnTo>
                  <a:pt x="277" y="204"/>
                </a:lnTo>
                <a:lnTo>
                  <a:pt x="269" y="249"/>
                </a:lnTo>
                <a:lnTo>
                  <a:pt x="266" y="272"/>
                </a:lnTo>
                <a:lnTo>
                  <a:pt x="264" y="280"/>
                </a:lnTo>
                <a:lnTo>
                  <a:pt x="263" y="285"/>
                </a:lnTo>
                <a:lnTo>
                  <a:pt x="262" y="292"/>
                </a:lnTo>
                <a:lnTo>
                  <a:pt x="252" y="357"/>
                </a:lnTo>
                <a:lnTo>
                  <a:pt x="247" y="392"/>
                </a:lnTo>
                <a:lnTo>
                  <a:pt x="236" y="466"/>
                </a:lnTo>
                <a:lnTo>
                  <a:pt x="231" y="497"/>
                </a:lnTo>
                <a:lnTo>
                  <a:pt x="231" y="500"/>
                </a:lnTo>
                <a:lnTo>
                  <a:pt x="226" y="536"/>
                </a:lnTo>
                <a:lnTo>
                  <a:pt x="208" y="643"/>
                </a:lnTo>
                <a:lnTo>
                  <a:pt x="206" y="658"/>
                </a:lnTo>
                <a:lnTo>
                  <a:pt x="199" y="704"/>
                </a:lnTo>
                <a:lnTo>
                  <a:pt x="198" y="716"/>
                </a:lnTo>
                <a:lnTo>
                  <a:pt x="195" y="737"/>
                </a:lnTo>
                <a:lnTo>
                  <a:pt x="190" y="751"/>
                </a:lnTo>
                <a:lnTo>
                  <a:pt x="199" y="791"/>
                </a:lnTo>
                <a:lnTo>
                  <a:pt x="196" y="866"/>
                </a:lnTo>
                <a:lnTo>
                  <a:pt x="200" y="879"/>
                </a:lnTo>
                <a:lnTo>
                  <a:pt x="207" y="904"/>
                </a:lnTo>
                <a:lnTo>
                  <a:pt x="210" y="911"/>
                </a:lnTo>
                <a:lnTo>
                  <a:pt x="245" y="951"/>
                </a:lnTo>
                <a:lnTo>
                  <a:pt x="252" y="991"/>
                </a:lnTo>
                <a:lnTo>
                  <a:pt x="202" y="1086"/>
                </a:lnTo>
                <a:lnTo>
                  <a:pt x="200" y="1087"/>
                </a:lnTo>
                <a:lnTo>
                  <a:pt x="184" y="1126"/>
                </a:lnTo>
                <a:lnTo>
                  <a:pt x="178" y="1137"/>
                </a:lnTo>
                <a:lnTo>
                  <a:pt x="163" y="1158"/>
                </a:lnTo>
                <a:lnTo>
                  <a:pt x="148" y="1201"/>
                </a:lnTo>
                <a:lnTo>
                  <a:pt x="122" y="1222"/>
                </a:lnTo>
                <a:lnTo>
                  <a:pt x="71" y="1323"/>
                </a:lnTo>
                <a:lnTo>
                  <a:pt x="70" y="1345"/>
                </a:lnTo>
                <a:lnTo>
                  <a:pt x="92" y="1365"/>
                </a:lnTo>
                <a:lnTo>
                  <a:pt x="104" y="1370"/>
                </a:lnTo>
                <a:lnTo>
                  <a:pt x="117" y="140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3" name="Freeform 46"/>
          <p:cNvSpPr/>
          <p:nvPr/>
        </p:nvSpPr>
        <p:spPr>
          <a:xfrm>
            <a:off x="1619280" y="2309760"/>
            <a:ext cx="1174680" cy="768240"/>
          </a:xfrm>
          <a:custGeom>
            <a:avLst/>
            <a:gdLst>
              <a:gd name="textAreaLeft" fmla="*/ 0 w 1174680"/>
              <a:gd name="textAreaRight" fmla="*/ 1175040 w 1174680"/>
              <a:gd name="textAreaTop" fmla="*/ 0 h 768240"/>
              <a:gd name="textAreaBottom" fmla="*/ 768600 h 768240"/>
            </a:gdLst>
            <a:ahLst/>
            <a:rect l="textAreaLeft" t="textAreaTop" r="textAreaRight" b="textAreaBottom"/>
            <a:pathLst>
              <a:path w="1942" h="1467">
                <a:moveTo>
                  <a:pt x="253" y="1024"/>
                </a:moveTo>
                <a:lnTo>
                  <a:pt x="194" y="1065"/>
                </a:lnTo>
                <a:lnTo>
                  <a:pt x="171" y="1065"/>
                </a:lnTo>
                <a:lnTo>
                  <a:pt x="144" y="1042"/>
                </a:lnTo>
                <a:lnTo>
                  <a:pt x="207" y="774"/>
                </a:lnTo>
                <a:lnTo>
                  <a:pt x="211" y="776"/>
                </a:lnTo>
                <a:lnTo>
                  <a:pt x="225" y="742"/>
                </a:lnTo>
                <a:lnTo>
                  <a:pt x="224" y="730"/>
                </a:lnTo>
                <a:lnTo>
                  <a:pt x="217" y="728"/>
                </a:lnTo>
                <a:lnTo>
                  <a:pt x="196" y="730"/>
                </a:lnTo>
                <a:lnTo>
                  <a:pt x="180" y="730"/>
                </a:lnTo>
                <a:lnTo>
                  <a:pt x="177" y="722"/>
                </a:lnTo>
                <a:lnTo>
                  <a:pt x="178" y="706"/>
                </a:lnTo>
                <a:lnTo>
                  <a:pt x="171" y="698"/>
                </a:lnTo>
                <a:lnTo>
                  <a:pt x="155" y="706"/>
                </a:lnTo>
                <a:lnTo>
                  <a:pt x="152" y="701"/>
                </a:lnTo>
                <a:lnTo>
                  <a:pt x="158" y="691"/>
                </a:lnTo>
                <a:lnTo>
                  <a:pt x="132" y="631"/>
                </a:lnTo>
                <a:lnTo>
                  <a:pt x="119" y="608"/>
                </a:lnTo>
                <a:lnTo>
                  <a:pt x="87" y="529"/>
                </a:lnTo>
                <a:lnTo>
                  <a:pt x="63" y="512"/>
                </a:lnTo>
                <a:lnTo>
                  <a:pt x="26" y="458"/>
                </a:lnTo>
                <a:lnTo>
                  <a:pt x="47" y="450"/>
                </a:lnTo>
                <a:lnTo>
                  <a:pt x="30" y="428"/>
                </a:lnTo>
                <a:lnTo>
                  <a:pt x="38" y="379"/>
                </a:lnTo>
                <a:lnTo>
                  <a:pt x="0" y="292"/>
                </a:lnTo>
                <a:lnTo>
                  <a:pt x="1" y="286"/>
                </a:lnTo>
                <a:lnTo>
                  <a:pt x="10" y="224"/>
                </a:lnTo>
                <a:lnTo>
                  <a:pt x="20" y="153"/>
                </a:lnTo>
                <a:lnTo>
                  <a:pt x="22" y="143"/>
                </a:lnTo>
                <a:lnTo>
                  <a:pt x="22" y="142"/>
                </a:lnTo>
                <a:lnTo>
                  <a:pt x="38" y="35"/>
                </a:lnTo>
                <a:lnTo>
                  <a:pt x="42" y="7"/>
                </a:lnTo>
                <a:lnTo>
                  <a:pt x="43" y="0"/>
                </a:lnTo>
                <a:lnTo>
                  <a:pt x="250" y="44"/>
                </a:lnTo>
                <a:lnTo>
                  <a:pt x="354" y="65"/>
                </a:lnTo>
                <a:lnTo>
                  <a:pt x="649" y="121"/>
                </a:lnTo>
                <a:lnTo>
                  <a:pt x="795" y="146"/>
                </a:lnTo>
                <a:lnTo>
                  <a:pt x="879" y="159"/>
                </a:lnTo>
                <a:lnTo>
                  <a:pt x="999" y="177"/>
                </a:lnTo>
                <a:lnTo>
                  <a:pt x="1078" y="189"/>
                </a:lnTo>
                <a:lnTo>
                  <a:pt x="1276" y="214"/>
                </a:lnTo>
                <a:lnTo>
                  <a:pt x="1442" y="234"/>
                </a:lnTo>
                <a:lnTo>
                  <a:pt x="1614" y="252"/>
                </a:lnTo>
                <a:lnTo>
                  <a:pt x="1781" y="268"/>
                </a:lnTo>
                <a:lnTo>
                  <a:pt x="1942" y="281"/>
                </a:lnTo>
                <a:lnTo>
                  <a:pt x="1939" y="353"/>
                </a:lnTo>
                <a:lnTo>
                  <a:pt x="1937" y="377"/>
                </a:lnTo>
                <a:lnTo>
                  <a:pt x="1936" y="387"/>
                </a:lnTo>
                <a:lnTo>
                  <a:pt x="1936" y="390"/>
                </a:lnTo>
                <a:lnTo>
                  <a:pt x="1935" y="425"/>
                </a:lnTo>
                <a:lnTo>
                  <a:pt x="1934" y="458"/>
                </a:lnTo>
                <a:lnTo>
                  <a:pt x="1931" y="535"/>
                </a:lnTo>
                <a:lnTo>
                  <a:pt x="1928" y="572"/>
                </a:lnTo>
                <a:lnTo>
                  <a:pt x="1928" y="573"/>
                </a:lnTo>
                <a:lnTo>
                  <a:pt x="1927" y="607"/>
                </a:lnTo>
                <a:lnTo>
                  <a:pt x="1925" y="644"/>
                </a:lnTo>
                <a:lnTo>
                  <a:pt x="1920" y="747"/>
                </a:lnTo>
                <a:lnTo>
                  <a:pt x="1919" y="753"/>
                </a:lnTo>
                <a:lnTo>
                  <a:pt x="1919" y="766"/>
                </a:lnTo>
                <a:lnTo>
                  <a:pt x="1916" y="827"/>
                </a:lnTo>
                <a:lnTo>
                  <a:pt x="1911" y="936"/>
                </a:lnTo>
                <a:lnTo>
                  <a:pt x="1909" y="967"/>
                </a:lnTo>
                <a:lnTo>
                  <a:pt x="1908" y="997"/>
                </a:lnTo>
                <a:lnTo>
                  <a:pt x="1907" y="1010"/>
                </a:lnTo>
                <a:lnTo>
                  <a:pt x="1904" y="1074"/>
                </a:lnTo>
                <a:lnTo>
                  <a:pt x="1903" y="1082"/>
                </a:lnTo>
                <a:lnTo>
                  <a:pt x="1902" y="1128"/>
                </a:lnTo>
                <a:lnTo>
                  <a:pt x="1900" y="1173"/>
                </a:lnTo>
                <a:lnTo>
                  <a:pt x="1899" y="1191"/>
                </a:lnTo>
                <a:lnTo>
                  <a:pt x="1897" y="1230"/>
                </a:lnTo>
                <a:lnTo>
                  <a:pt x="1891" y="1377"/>
                </a:lnTo>
                <a:lnTo>
                  <a:pt x="1889" y="1387"/>
                </a:lnTo>
                <a:lnTo>
                  <a:pt x="1887" y="1449"/>
                </a:lnTo>
                <a:lnTo>
                  <a:pt x="1887" y="1451"/>
                </a:lnTo>
                <a:lnTo>
                  <a:pt x="1884" y="1451"/>
                </a:lnTo>
                <a:lnTo>
                  <a:pt x="1770" y="1441"/>
                </a:lnTo>
                <a:lnTo>
                  <a:pt x="1753" y="1440"/>
                </a:lnTo>
                <a:lnTo>
                  <a:pt x="1719" y="1437"/>
                </a:lnTo>
                <a:lnTo>
                  <a:pt x="1710" y="1435"/>
                </a:lnTo>
                <a:lnTo>
                  <a:pt x="1572" y="1423"/>
                </a:lnTo>
                <a:lnTo>
                  <a:pt x="1557" y="1424"/>
                </a:lnTo>
                <a:lnTo>
                  <a:pt x="1554" y="1424"/>
                </a:lnTo>
                <a:lnTo>
                  <a:pt x="1536" y="1421"/>
                </a:lnTo>
                <a:lnTo>
                  <a:pt x="1514" y="1420"/>
                </a:lnTo>
                <a:lnTo>
                  <a:pt x="1512" y="1420"/>
                </a:lnTo>
                <a:lnTo>
                  <a:pt x="1389" y="1406"/>
                </a:lnTo>
                <a:lnTo>
                  <a:pt x="1368" y="1401"/>
                </a:lnTo>
                <a:lnTo>
                  <a:pt x="1236" y="1386"/>
                </a:lnTo>
                <a:lnTo>
                  <a:pt x="1178" y="1380"/>
                </a:lnTo>
                <a:lnTo>
                  <a:pt x="1158" y="1377"/>
                </a:lnTo>
                <a:lnTo>
                  <a:pt x="1136" y="1374"/>
                </a:lnTo>
                <a:lnTo>
                  <a:pt x="1117" y="1371"/>
                </a:lnTo>
                <a:lnTo>
                  <a:pt x="1053" y="1363"/>
                </a:lnTo>
                <a:lnTo>
                  <a:pt x="1032" y="1359"/>
                </a:lnTo>
                <a:lnTo>
                  <a:pt x="919" y="1343"/>
                </a:lnTo>
                <a:lnTo>
                  <a:pt x="909" y="1342"/>
                </a:lnTo>
                <a:lnTo>
                  <a:pt x="885" y="1339"/>
                </a:lnTo>
                <a:lnTo>
                  <a:pt x="817" y="1330"/>
                </a:lnTo>
                <a:lnTo>
                  <a:pt x="709" y="1312"/>
                </a:lnTo>
                <a:lnTo>
                  <a:pt x="698" y="1410"/>
                </a:lnTo>
                <a:lnTo>
                  <a:pt x="694" y="1458"/>
                </a:lnTo>
                <a:lnTo>
                  <a:pt x="693" y="1467"/>
                </a:lnTo>
                <a:lnTo>
                  <a:pt x="686" y="1462"/>
                </a:lnTo>
                <a:lnTo>
                  <a:pt x="686" y="1461"/>
                </a:lnTo>
                <a:lnTo>
                  <a:pt x="680" y="1457"/>
                </a:lnTo>
                <a:lnTo>
                  <a:pt x="665" y="1410"/>
                </a:lnTo>
                <a:lnTo>
                  <a:pt x="647" y="1376"/>
                </a:lnTo>
                <a:lnTo>
                  <a:pt x="643" y="1376"/>
                </a:lnTo>
                <a:lnTo>
                  <a:pt x="629" y="1386"/>
                </a:lnTo>
                <a:lnTo>
                  <a:pt x="621" y="1404"/>
                </a:lnTo>
                <a:lnTo>
                  <a:pt x="619" y="1434"/>
                </a:lnTo>
                <a:lnTo>
                  <a:pt x="600" y="1428"/>
                </a:lnTo>
                <a:lnTo>
                  <a:pt x="514" y="1420"/>
                </a:lnTo>
                <a:lnTo>
                  <a:pt x="495" y="1404"/>
                </a:lnTo>
                <a:lnTo>
                  <a:pt x="474" y="1421"/>
                </a:lnTo>
                <a:lnTo>
                  <a:pt x="448" y="1428"/>
                </a:lnTo>
                <a:lnTo>
                  <a:pt x="410" y="1410"/>
                </a:lnTo>
                <a:lnTo>
                  <a:pt x="390" y="1430"/>
                </a:lnTo>
                <a:lnTo>
                  <a:pt x="393" y="1444"/>
                </a:lnTo>
                <a:lnTo>
                  <a:pt x="387" y="1448"/>
                </a:lnTo>
                <a:lnTo>
                  <a:pt x="363" y="1417"/>
                </a:lnTo>
                <a:lnTo>
                  <a:pt x="352" y="1323"/>
                </a:lnTo>
                <a:lnTo>
                  <a:pt x="303" y="1278"/>
                </a:lnTo>
                <a:lnTo>
                  <a:pt x="310" y="1242"/>
                </a:lnTo>
                <a:lnTo>
                  <a:pt x="253" y="1024"/>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4" name="Freeform 47"/>
          <p:cNvSpPr/>
          <p:nvPr/>
        </p:nvSpPr>
        <p:spPr>
          <a:xfrm>
            <a:off x="2035080" y="4264200"/>
            <a:ext cx="774720" cy="892080"/>
          </a:xfrm>
          <a:custGeom>
            <a:avLst/>
            <a:gdLst>
              <a:gd name="textAreaLeft" fmla="*/ 0 w 774720"/>
              <a:gd name="textAreaRight" fmla="*/ 775080 w 774720"/>
              <a:gd name="textAreaTop" fmla="*/ 0 h 892080"/>
              <a:gd name="textAreaBottom" fmla="*/ 892440 h 892080"/>
            </a:gdLst>
            <a:ahLst/>
            <a:rect l="textAreaLeft" t="textAreaTop" r="textAreaRight" b="textAreaBottom"/>
            <a:pathLst>
              <a:path w="1280" h="1705">
                <a:moveTo>
                  <a:pt x="36" y="1688"/>
                </a:moveTo>
                <a:lnTo>
                  <a:pt x="169" y="1705"/>
                </a:lnTo>
                <a:lnTo>
                  <a:pt x="179" y="1572"/>
                </a:lnTo>
                <a:lnTo>
                  <a:pt x="361" y="1594"/>
                </a:lnTo>
                <a:lnTo>
                  <a:pt x="514" y="1610"/>
                </a:lnTo>
                <a:lnTo>
                  <a:pt x="493" y="1574"/>
                </a:lnTo>
                <a:lnTo>
                  <a:pt x="501" y="1567"/>
                </a:lnTo>
                <a:lnTo>
                  <a:pt x="496" y="1550"/>
                </a:lnTo>
                <a:lnTo>
                  <a:pt x="501" y="1545"/>
                </a:lnTo>
                <a:lnTo>
                  <a:pt x="549" y="1549"/>
                </a:lnTo>
                <a:lnTo>
                  <a:pt x="574" y="1552"/>
                </a:lnTo>
                <a:lnTo>
                  <a:pt x="599" y="1553"/>
                </a:lnTo>
                <a:lnTo>
                  <a:pt x="624" y="1556"/>
                </a:lnTo>
                <a:lnTo>
                  <a:pt x="747" y="1569"/>
                </a:lnTo>
                <a:lnTo>
                  <a:pt x="803" y="1573"/>
                </a:lnTo>
                <a:lnTo>
                  <a:pt x="839" y="1576"/>
                </a:lnTo>
                <a:lnTo>
                  <a:pt x="853" y="1577"/>
                </a:lnTo>
                <a:lnTo>
                  <a:pt x="951" y="1586"/>
                </a:lnTo>
                <a:lnTo>
                  <a:pt x="969" y="1587"/>
                </a:lnTo>
                <a:lnTo>
                  <a:pt x="1017" y="1590"/>
                </a:lnTo>
                <a:lnTo>
                  <a:pt x="1026" y="1591"/>
                </a:lnTo>
                <a:lnTo>
                  <a:pt x="1072" y="1594"/>
                </a:lnTo>
                <a:lnTo>
                  <a:pt x="1074" y="1594"/>
                </a:lnTo>
                <a:lnTo>
                  <a:pt x="1077" y="1594"/>
                </a:lnTo>
                <a:lnTo>
                  <a:pt x="1096" y="1596"/>
                </a:lnTo>
                <a:lnTo>
                  <a:pt x="1149" y="1600"/>
                </a:lnTo>
                <a:lnTo>
                  <a:pt x="1156" y="1600"/>
                </a:lnTo>
                <a:lnTo>
                  <a:pt x="1197" y="1603"/>
                </a:lnTo>
                <a:lnTo>
                  <a:pt x="1208" y="1603"/>
                </a:lnTo>
                <a:lnTo>
                  <a:pt x="1209" y="1577"/>
                </a:lnTo>
                <a:lnTo>
                  <a:pt x="1212" y="1529"/>
                </a:lnTo>
                <a:lnTo>
                  <a:pt x="1214" y="1462"/>
                </a:lnTo>
                <a:lnTo>
                  <a:pt x="1215" y="1448"/>
                </a:lnTo>
                <a:lnTo>
                  <a:pt x="1216" y="1417"/>
                </a:lnTo>
                <a:lnTo>
                  <a:pt x="1218" y="1359"/>
                </a:lnTo>
                <a:lnTo>
                  <a:pt x="1220" y="1318"/>
                </a:lnTo>
                <a:lnTo>
                  <a:pt x="1222" y="1268"/>
                </a:lnTo>
                <a:lnTo>
                  <a:pt x="1226" y="1193"/>
                </a:lnTo>
                <a:lnTo>
                  <a:pt x="1226" y="1190"/>
                </a:lnTo>
                <a:lnTo>
                  <a:pt x="1229" y="1156"/>
                </a:lnTo>
                <a:lnTo>
                  <a:pt x="1229" y="1148"/>
                </a:lnTo>
                <a:lnTo>
                  <a:pt x="1230" y="1135"/>
                </a:lnTo>
                <a:lnTo>
                  <a:pt x="1231" y="1105"/>
                </a:lnTo>
                <a:lnTo>
                  <a:pt x="1232" y="1094"/>
                </a:lnTo>
                <a:lnTo>
                  <a:pt x="1233" y="1060"/>
                </a:lnTo>
                <a:lnTo>
                  <a:pt x="1237" y="1007"/>
                </a:lnTo>
                <a:lnTo>
                  <a:pt x="1240" y="932"/>
                </a:lnTo>
                <a:lnTo>
                  <a:pt x="1240" y="916"/>
                </a:lnTo>
                <a:lnTo>
                  <a:pt x="1240" y="914"/>
                </a:lnTo>
                <a:lnTo>
                  <a:pt x="1241" y="879"/>
                </a:lnTo>
                <a:lnTo>
                  <a:pt x="1242" y="858"/>
                </a:lnTo>
                <a:lnTo>
                  <a:pt x="1246" y="784"/>
                </a:lnTo>
                <a:lnTo>
                  <a:pt x="1247" y="749"/>
                </a:lnTo>
                <a:lnTo>
                  <a:pt x="1247" y="746"/>
                </a:lnTo>
                <a:lnTo>
                  <a:pt x="1248" y="722"/>
                </a:lnTo>
                <a:lnTo>
                  <a:pt x="1248" y="708"/>
                </a:lnTo>
                <a:lnTo>
                  <a:pt x="1250" y="671"/>
                </a:lnTo>
                <a:lnTo>
                  <a:pt x="1250" y="654"/>
                </a:lnTo>
                <a:lnTo>
                  <a:pt x="1252" y="627"/>
                </a:lnTo>
                <a:lnTo>
                  <a:pt x="1253" y="610"/>
                </a:lnTo>
                <a:lnTo>
                  <a:pt x="1256" y="522"/>
                </a:lnTo>
                <a:lnTo>
                  <a:pt x="1257" y="488"/>
                </a:lnTo>
                <a:lnTo>
                  <a:pt x="1257" y="484"/>
                </a:lnTo>
                <a:lnTo>
                  <a:pt x="1258" y="478"/>
                </a:lnTo>
                <a:lnTo>
                  <a:pt x="1262" y="393"/>
                </a:lnTo>
                <a:lnTo>
                  <a:pt x="1266" y="260"/>
                </a:lnTo>
                <a:lnTo>
                  <a:pt x="1274" y="261"/>
                </a:lnTo>
                <a:lnTo>
                  <a:pt x="1277" y="194"/>
                </a:lnTo>
                <a:lnTo>
                  <a:pt x="1279" y="149"/>
                </a:lnTo>
                <a:lnTo>
                  <a:pt x="1280" y="111"/>
                </a:lnTo>
                <a:lnTo>
                  <a:pt x="1264" y="111"/>
                </a:lnTo>
                <a:lnTo>
                  <a:pt x="1222" y="108"/>
                </a:lnTo>
                <a:lnTo>
                  <a:pt x="1210" y="106"/>
                </a:lnTo>
                <a:lnTo>
                  <a:pt x="1092" y="99"/>
                </a:lnTo>
                <a:lnTo>
                  <a:pt x="1023" y="95"/>
                </a:lnTo>
                <a:lnTo>
                  <a:pt x="918" y="87"/>
                </a:lnTo>
                <a:lnTo>
                  <a:pt x="877" y="82"/>
                </a:lnTo>
                <a:lnTo>
                  <a:pt x="864" y="81"/>
                </a:lnTo>
                <a:lnTo>
                  <a:pt x="771" y="72"/>
                </a:lnTo>
                <a:lnTo>
                  <a:pt x="766" y="72"/>
                </a:lnTo>
                <a:lnTo>
                  <a:pt x="742" y="70"/>
                </a:lnTo>
                <a:lnTo>
                  <a:pt x="718" y="68"/>
                </a:lnTo>
                <a:lnTo>
                  <a:pt x="630" y="60"/>
                </a:lnTo>
                <a:lnTo>
                  <a:pt x="453" y="38"/>
                </a:lnTo>
                <a:lnTo>
                  <a:pt x="448" y="37"/>
                </a:lnTo>
                <a:lnTo>
                  <a:pt x="441" y="37"/>
                </a:lnTo>
                <a:lnTo>
                  <a:pt x="439" y="37"/>
                </a:lnTo>
                <a:lnTo>
                  <a:pt x="321" y="23"/>
                </a:lnTo>
                <a:lnTo>
                  <a:pt x="274" y="16"/>
                </a:lnTo>
                <a:lnTo>
                  <a:pt x="219" y="10"/>
                </a:lnTo>
                <a:lnTo>
                  <a:pt x="204" y="7"/>
                </a:lnTo>
                <a:lnTo>
                  <a:pt x="150" y="0"/>
                </a:lnTo>
                <a:lnTo>
                  <a:pt x="143" y="74"/>
                </a:lnTo>
                <a:lnTo>
                  <a:pt x="136" y="149"/>
                </a:lnTo>
                <a:lnTo>
                  <a:pt x="123" y="297"/>
                </a:lnTo>
                <a:lnTo>
                  <a:pt x="111" y="436"/>
                </a:lnTo>
                <a:lnTo>
                  <a:pt x="110" y="445"/>
                </a:lnTo>
                <a:lnTo>
                  <a:pt x="96" y="607"/>
                </a:lnTo>
                <a:lnTo>
                  <a:pt x="91" y="660"/>
                </a:lnTo>
                <a:lnTo>
                  <a:pt x="91" y="664"/>
                </a:lnTo>
                <a:lnTo>
                  <a:pt x="86" y="719"/>
                </a:lnTo>
                <a:lnTo>
                  <a:pt x="81" y="780"/>
                </a:lnTo>
                <a:lnTo>
                  <a:pt x="71" y="892"/>
                </a:lnTo>
                <a:lnTo>
                  <a:pt x="65" y="959"/>
                </a:lnTo>
                <a:lnTo>
                  <a:pt x="65" y="965"/>
                </a:lnTo>
                <a:lnTo>
                  <a:pt x="64" y="966"/>
                </a:lnTo>
                <a:lnTo>
                  <a:pt x="50" y="1128"/>
                </a:lnTo>
                <a:lnTo>
                  <a:pt x="48" y="1145"/>
                </a:lnTo>
                <a:lnTo>
                  <a:pt x="44" y="1189"/>
                </a:lnTo>
                <a:lnTo>
                  <a:pt x="39" y="1255"/>
                </a:lnTo>
                <a:lnTo>
                  <a:pt x="38" y="1264"/>
                </a:lnTo>
                <a:lnTo>
                  <a:pt x="31" y="1338"/>
                </a:lnTo>
                <a:lnTo>
                  <a:pt x="30" y="1359"/>
                </a:lnTo>
                <a:lnTo>
                  <a:pt x="6" y="1621"/>
                </a:lnTo>
                <a:lnTo>
                  <a:pt x="6" y="1627"/>
                </a:lnTo>
                <a:lnTo>
                  <a:pt x="0" y="1684"/>
                </a:lnTo>
                <a:lnTo>
                  <a:pt x="36" y="1688"/>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5" name="Freeform 48"/>
          <p:cNvSpPr/>
          <p:nvPr/>
        </p:nvSpPr>
        <p:spPr>
          <a:xfrm>
            <a:off x="960480" y="3284640"/>
            <a:ext cx="717480" cy="1195200"/>
          </a:xfrm>
          <a:custGeom>
            <a:avLst/>
            <a:gdLst>
              <a:gd name="textAreaLeft" fmla="*/ 0 w 717480"/>
              <a:gd name="textAreaRight" fmla="*/ 717840 w 717480"/>
              <a:gd name="textAreaTop" fmla="*/ 0 h 1195200"/>
              <a:gd name="textAreaBottom" fmla="*/ 1195560 h 1195200"/>
            </a:gdLst>
            <a:ahLst/>
            <a:rect l="textAreaLeft" t="textAreaTop" r="textAreaRight" b="textAreaBottom"/>
            <a:pathLst>
              <a:path w="1185" h="2284">
                <a:moveTo>
                  <a:pt x="5" y="840"/>
                </a:moveTo>
                <a:lnTo>
                  <a:pt x="3" y="853"/>
                </a:lnTo>
                <a:lnTo>
                  <a:pt x="0" y="873"/>
                </a:lnTo>
                <a:lnTo>
                  <a:pt x="9" y="888"/>
                </a:lnTo>
                <a:lnTo>
                  <a:pt x="15" y="897"/>
                </a:lnTo>
                <a:lnTo>
                  <a:pt x="24" y="914"/>
                </a:lnTo>
                <a:lnTo>
                  <a:pt x="52" y="963"/>
                </a:lnTo>
                <a:lnTo>
                  <a:pt x="60" y="978"/>
                </a:lnTo>
                <a:lnTo>
                  <a:pt x="72" y="999"/>
                </a:lnTo>
                <a:lnTo>
                  <a:pt x="97" y="1041"/>
                </a:lnTo>
                <a:lnTo>
                  <a:pt x="104" y="1054"/>
                </a:lnTo>
                <a:lnTo>
                  <a:pt x="108" y="1061"/>
                </a:lnTo>
                <a:lnTo>
                  <a:pt x="122" y="1085"/>
                </a:lnTo>
                <a:lnTo>
                  <a:pt x="156" y="1144"/>
                </a:lnTo>
                <a:lnTo>
                  <a:pt x="181" y="1187"/>
                </a:lnTo>
                <a:lnTo>
                  <a:pt x="228" y="1271"/>
                </a:lnTo>
                <a:lnTo>
                  <a:pt x="284" y="1369"/>
                </a:lnTo>
                <a:lnTo>
                  <a:pt x="309" y="1412"/>
                </a:lnTo>
                <a:lnTo>
                  <a:pt x="316" y="1424"/>
                </a:lnTo>
                <a:lnTo>
                  <a:pt x="349" y="1483"/>
                </a:lnTo>
                <a:lnTo>
                  <a:pt x="360" y="1501"/>
                </a:lnTo>
                <a:lnTo>
                  <a:pt x="416" y="1599"/>
                </a:lnTo>
                <a:lnTo>
                  <a:pt x="511" y="1765"/>
                </a:lnTo>
                <a:lnTo>
                  <a:pt x="555" y="1843"/>
                </a:lnTo>
                <a:lnTo>
                  <a:pt x="609" y="1938"/>
                </a:lnTo>
                <a:lnTo>
                  <a:pt x="610" y="1939"/>
                </a:lnTo>
                <a:lnTo>
                  <a:pt x="632" y="1977"/>
                </a:lnTo>
                <a:lnTo>
                  <a:pt x="651" y="2010"/>
                </a:lnTo>
                <a:lnTo>
                  <a:pt x="710" y="2114"/>
                </a:lnTo>
                <a:lnTo>
                  <a:pt x="761" y="2203"/>
                </a:lnTo>
                <a:lnTo>
                  <a:pt x="807" y="2284"/>
                </a:lnTo>
                <a:lnTo>
                  <a:pt x="826" y="2213"/>
                </a:lnTo>
                <a:lnTo>
                  <a:pt x="824" y="2060"/>
                </a:lnTo>
                <a:lnTo>
                  <a:pt x="835" y="2024"/>
                </a:lnTo>
                <a:lnTo>
                  <a:pt x="828" y="1958"/>
                </a:lnTo>
                <a:lnTo>
                  <a:pt x="876" y="1952"/>
                </a:lnTo>
                <a:lnTo>
                  <a:pt x="919" y="1997"/>
                </a:lnTo>
                <a:lnTo>
                  <a:pt x="962" y="1955"/>
                </a:lnTo>
                <a:lnTo>
                  <a:pt x="987" y="1762"/>
                </a:lnTo>
                <a:lnTo>
                  <a:pt x="994" y="1715"/>
                </a:lnTo>
                <a:lnTo>
                  <a:pt x="998" y="1685"/>
                </a:lnTo>
                <a:lnTo>
                  <a:pt x="1010" y="1587"/>
                </a:lnTo>
                <a:lnTo>
                  <a:pt x="1016" y="1536"/>
                </a:lnTo>
                <a:lnTo>
                  <a:pt x="1022" y="1494"/>
                </a:lnTo>
                <a:lnTo>
                  <a:pt x="1023" y="1488"/>
                </a:lnTo>
                <a:lnTo>
                  <a:pt x="1038" y="1376"/>
                </a:lnTo>
                <a:lnTo>
                  <a:pt x="1043" y="1334"/>
                </a:lnTo>
                <a:lnTo>
                  <a:pt x="1050" y="1273"/>
                </a:lnTo>
                <a:lnTo>
                  <a:pt x="1054" y="1251"/>
                </a:lnTo>
                <a:lnTo>
                  <a:pt x="1056" y="1236"/>
                </a:lnTo>
                <a:lnTo>
                  <a:pt x="1057" y="1220"/>
                </a:lnTo>
                <a:lnTo>
                  <a:pt x="1065" y="1166"/>
                </a:lnTo>
                <a:lnTo>
                  <a:pt x="1089" y="978"/>
                </a:lnTo>
                <a:lnTo>
                  <a:pt x="1090" y="965"/>
                </a:lnTo>
                <a:lnTo>
                  <a:pt x="1098" y="904"/>
                </a:lnTo>
                <a:lnTo>
                  <a:pt x="1105" y="858"/>
                </a:lnTo>
                <a:lnTo>
                  <a:pt x="1108" y="830"/>
                </a:lnTo>
                <a:lnTo>
                  <a:pt x="1113" y="796"/>
                </a:lnTo>
                <a:lnTo>
                  <a:pt x="1121" y="728"/>
                </a:lnTo>
                <a:lnTo>
                  <a:pt x="1132" y="646"/>
                </a:lnTo>
                <a:lnTo>
                  <a:pt x="1147" y="536"/>
                </a:lnTo>
                <a:lnTo>
                  <a:pt x="1160" y="440"/>
                </a:lnTo>
                <a:lnTo>
                  <a:pt x="1180" y="276"/>
                </a:lnTo>
                <a:lnTo>
                  <a:pt x="1185" y="244"/>
                </a:lnTo>
                <a:lnTo>
                  <a:pt x="1151" y="237"/>
                </a:lnTo>
                <a:lnTo>
                  <a:pt x="1148" y="236"/>
                </a:lnTo>
                <a:lnTo>
                  <a:pt x="1143" y="236"/>
                </a:lnTo>
                <a:lnTo>
                  <a:pt x="1088" y="224"/>
                </a:lnTo>
                <a:lnTo>
                  <a:pt x="1062" y="217"/>
                </a:lnTo>
                <a:lnTo>
                  <a:pt x="1012" y="207"/>
                </a:lnTo>
                <a:lnTo>
                  <a:pt x="836" y="169"/>
                </a:lnTo>
                <a:lnTo>
                  <a:pt x="678" y="132"/>
                </a:lnTo>
                <a:lnTo>
                  <a:pt x="668" y="129"/>
                </a:lnTo>
                <a:lnTo>
                  <a:pt x="628" y="121"/>
                </a:lnTo>
                <a:lnTo>
                  <a:pt x="620" y="118"/>
                </a:lnTo>
                <a:lnTo>
                  <a:pt x="466" y="81"/>
                </a:lnTo>
                <a:lnTo>
                  <a:pt x="413" y="68"/>
                </a:lnTo>
                <a:lnTo>
                  <a:pt x="379" y="61"/>
                </a:lnTo>
                <a:lnTo>
                  <a:pt x="272" y="33"/>
                </a:lnTo>
                <a:lnTo>
                  <a:pt x="265" y="30"/>
                </a:lnTo>
                <a:lnTo>
                  <a:pt x="241" y="24"/>
                </a:lnTo>
                <a:lnTo>
                  <a:pt x="177" y="6"/>
                </a:lnTo>
                <a:lnTo>
                  <a:pt x="155" y="0"/>
                </a:lnTo>
                <a:lnTo>
                  <a:pt x="144" y="67"/>
                </a:lnTo>
                <a:lnTo>
                  <a:pt x="122" y="189"/>
                </a:lnTo>
                <a:lnTo>
                  <a:pt x="114" y="237"/>
                </a:lnTo>
                <a:lnTo>
                  <a:pt x="79" y="436"/>
                </a:lnTo>
                <a:lnTo>
                  <a:pt x="50" y="595"/>
                </a:lnTo>
                <a:lnTo>
                  <a:pt x="37" y="663"/>
                </a:lnTo>
                <a:lnTo>
                  <a:pt x="33" y="691"/>
                </a:lnTo>
                <a:lnTo>
                  <a:pt x="26" y="728"/>
                </a:lnTo>
                <a:lnTo>
                  <a:pt x="23" y="744"/>
                </a:lnTo>
                <a:lnTo>
                  <a:pt x="19" y="763"/>
                </a:lnTo>
                <a:lnTo>
                  <a:pt x="16" y="780"/>
                </a:lnTo>
                <a:lnTo>
                  <a:pt x="12" y="800"/>
                </a:lnTo>
                <a:lnTo>
                  <a:pt x="8" y="824"/>
                </a:lnTo>
                <a:lnTo>
                  <a:pt x="7" y="837"/>
                </a:lnTo>
                <a:lnTo>
                  <a:pt x="5" y="84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6" name="Freeform 49"/>
          <p:cNvSpPr/>
          <p:nvPr/>
        </p:nvSpPr>
        <p:spPr>
          <a:xfrm>
            <a:off x="608040" y="2541600"/>
            <a:ext cx="909720" cy="809640"/>
          </a:xfrm>
          <a:custGeom>
            <a:avLst/>
            <a:gdLst>
              <a:gd name="textAreaLeft" fmla="*/ 0 w 909720"/>
              <a:gd name="textAreaRight" fmla="*/ 910080 w 909720"/>
              <a:gd name="textAreaTop" fmla="*/ 0 h 809640"/>
              <a:gd name="textAreaBottom" fmla="*/ 810000 h 809640"/>
            </a:gdLst>
            <a:ahLst/>
            <a:rect l="textAreaLeft" t="textAreaTop" r="textAreaRight" b="textAreaBottom"/>
            <a:pathLst>
              <a:path w="1503" h="1547">
                <a:moveTo>
                  <a:pt x="1321" y="869"/>
                </a:moveTo>
                <a:lnTo>
                  <a:pt x="1343" y="889"/>
                </a:lnTo>
                <a:lnTo>
                  <a:pt x="1355" y="894"/>
                </a:lnTo>
                <a:lnTo>
                  <a:pt x="1368" y="925"/>
                </a:lnTo>
                <a:lnTo>
                  <a:pt x="1365" y="933"/>
                </a:lnTo>
                <a:lnTo>
                  <a:pt x="1362" y="935"/>
                </a:lnTo>
                <a:lnTo>
                  <a:pt x="1342" y="1001"/>
                </a:lnTo>
                <a:lnTo>
                  <a:pt x="1338" y="1006"/>
                </a:lnTo>
                <a:lnTo>
                  <a:pt x="1331" y="1020"/>
                </a:lnTo>
                <a:lnTo>
                  <a:pt x="1326" y="1058"/>
                </a:lnTo>
                <a:lnTo>
                  <a:pt x="1321" y="1088"/>
                </a:lnTo>
                <a:lnTo>
                  <a:pt x="1303" y="1208"/>
                </a:lnTo>
                <a:lnTo>
                  <a:pt x="1251" y="1547"/>
                </a:lnTo>
                <a:lnTo>
                  <a:pt x="1211" y="1539"/>
                </a:lnTo>
                <a:lnTo>
                  <a:pt x="1203" y="1536"/>
                </a:lnTo>
                <a:lnTo>
                  <a:pt x="1049" y="1499"/>
                </a:lnTo>
                <a:lnTo>
                  <a:pt x="996" y="1486"/>
                </a:lnTo>
                <a:lnTo>
                  <a:pt x="962" y="1479"/>
                </a:lnTo>
                <a:lnTo>
                  <a:pt x="855" y="1451"/>
                </a:lnTo>
                <a:lnTo>
                  <a:pt x="848" y="1448"/>
                </a:lnTo>
                <a:lnTo>
                  <a:pt x="824" y="1442"/>
                </a:lnTo>
                <a:lnTo>
                  <a:pt x="760" y="1424"/>
                </a:lnTo>
                <a:lnTo>
                  <a:pt x="738" y="1418"/>
                </a:lnTo>
                <a:lnTo>
                  <a:pt x="703" y="1410"/>
                </a:lnTo>
                <a:lnTo>
                  <a:pt x="695" y="1407"/>
                </a:lnTo>
                <a:lnTo>
                  <a:pt x="587" y="1377"/>
                </a:lnTo>
                <a:lnTo>
                  <a:pt x="554" y="1367"/>
                </a:lnTo>
                <a:lnTo>
                  <a:pt x="515" y="1356"/>
                </a:lnTo>
                <a:lnTo>
                  <a:pt x="490" y="1347"/>
                </a:lnTo>
                <a:lnTo>
                  <a:pt x="396" y="1318"/>
                </a:lnTo>
                <a:lnTo>
                  <a:pt x="367" y="1308"/>
                </a:lnTo>
                <a:lnTo>
                  <a:pt x="347" y="1302"/>
                </a:lnTo>
                <a:lnTo>
                  <a:pt x="218" y="1264"/>
                </a:lnTo>
                <a:lnTo>
                  <a:pt x="201" y="1257"/>
                </a:lnTo>
                <a:lnTo>
                  <a:pt x="186" y="1254"/>
                </a:lnTo>
                <a:lnTo>
                  <a:pt x="165" y="1248"/>
                </a:lnTo>
                <a:lnTo>
                  <a:pt x="152" y="1244"/>
                </a:lnTo>
                <a:lnTo>
                  <a:pt x="137" y="1240"/>
                </a:lnTo>
                <a:lnTo>
                  <a:pt x="119" y="1234"/>
                </a:lnTo>
                <a:lnTo>
                  <a:pt x="113" y="1233"/>
                </a:lnTo>
                <a:lnTo>
                  <a:pt x="85" y="1224"/>
                </a:lnTo>
                <a:lnTo>
                  <a:pt x="55" y="1214"/>
                </a:lnTo>
                <a:lnTo>
                  <a:pt x="33" y="1207"/>
                </a:lnTo>
                <a:lnTo>
                  <a:pt x="18" y="1201"/>
                </a:lnTo>
                <a:lnTo>
                  <a:pt x="0" y="1162"/>
                </a:lnTo>
                <a:lnTo>
                  <a:pt x="24" y="1006"/>
                </a:lnTo>
                <a:lnTo>
                  <a:pt x="7" y="940"/>
                </a:lnTo>
                <a:lnTo>
                  <a:pt x="33" y="912"/>
                </a:lnTo>
                <a:lnTo>
                  <a:pt x="74" y="806"/>
                </a:lnTo>
                <a:lnTo>
                  <a:pt x="84" y="800"/>
                </a:lnTo>
                <a:lnTo>
                  <a:pt x="116" y="738"/>
                </a:lnTo>
                <a:lnTo>
                  <a:pt x="141" y="670"/>
                </a:lnTo>
                <a:lnTo>
                  <a:pt x="141" y="668"/>
                </a:lnTo>
                <a:lnTo>
                  <a:pt x="175" y="553"/>
                </a:lnTo>
                <a:lnTo>
                  <a:pt x="236" y="345"/>
                </a:lnTo>
                <a:lnTo>
                  <a:pt x="236" y="343"/>
                </a:lnTo>
                <a:lnTo>
                  <a:pt x="236" y="339"/>
                </a:lnTo>
                <a:lnTo>
                  <a:pt x="257" y="284"/>
                </a:lnTo>
                <a:lnTo>
                  <a:pt x="288" y="143"/>
                </a:lnTo>
                <a:lnTo>
                  <a:pt x="288" y="131"/>
                </a:lnTo>
                <a:lnTo>
                  <a:pt x="313" y="36"/>
                </a:lnTo>
                <a:lnTo>
                  <a:pt x="307" y="1"/>
                </a:lnTo>
                <a:lnTo>
                  <a:pt x="311" y="0"/>
                </a:lnTo>
                <a:lnTo>
                  <a:pt x="327" y="26"/>
                </a:lnTo>
                <a:lnTo>
                  <a:pt x="350" y="23"/>
                </a:lnTo>
                <a:lnTo>
                  <a:pt x="367" y="10"/>
                </a:lnTo>
                <a:lnTo>
                  <a:pt x="396" y="19"/>
                </a:lnTo>
                <a:lnTo>
                  <a:pt x="401" y="26"/>
                </a:lnTo>
                <a:lnTo>
                  <a:pt x="408" y="60"/>
                </a:lnTo>
                <a:lnTo>
                  <a:pt x="426" y="62"/>
                </a:lnTo>
                <a:lnTo>
                  <a:pt x="434" y="60"/>
                </a:lnTo>
                <a:lnTo>
                  <a:pt x="465" y="81"/>
                </a:lnTo>
                <a:lnTo>
                  <a:pt x="486" y="139"/>
                </a:lnTo>
                <a:lnTo>
                  <a:pt x="484" y="173"/>
                </a:lnTo>
                <a:lnTo>
                  <a:pt x="482" y="203"/>
                </a:lnTo>
                <a:lnTo>
                  <a:pt x="482" y="207"/>
                </a:lnTo>
                <a:lnTo>
                  <a:pt x="481" y="209"/>
                </a:lnTo>
                <a:lnTo>
                  <a:pt x="476" y="228"/>
                </a:lnTo>
                <a:lnTo>
                  <a:pt x="524" y="272"/>
                </a:lnTo>
                <a:lnTo>
                  <a:pt x="554" y="285"/>
                </a:lnTo>
                <a:lnTo>
                  <a:pt x="567" y="281"/>
                </a:lnTo>
                <a:lnTo>
                  <a:pt x="580" y="282"/>
                </a:lnTo>
                <a:lnTo>
                  <a:pt x="612" y="272"/>
                </a:lnTo>
                <a:lnTo>
                  <a:pt x="634" y="261"/>
                </a:lnTo>
                <a:lnTo>
                  <a:pt x="646" y="268"/>
                </a:lnTo>
                <a:lnTo>
                  <a:pt x="682" y="270"/>
                </a:lnTo>
                <a:lnTo>
                  <a:pt x="686" y="272"/>
                </a:lnTo>
                <a:lnTo>
                  <a:pt x="690" y="279"/>
                </a:lnTo>
                <a:lnTo>
                  <a:pt x="694" y="282"/>
                </a:lnTo>
                <a:lnTo>
                  <a:pt x="729" y="301"/>
                </a:lnTo>
                <a:lnTo>
                  <a:pt x="731" y="321"/>
                </a:lnTo>
                <a:lnTo>
                  <a:pt x="776" y="322"/>
                </a:lnTo>
                <a:lnTo>
                  <a:pt x="787" y="316"/>
                </a:lnTo>
                <a:lnTo>
                  <a:pt x="817" y="312"/>
                </a:lnTo>
                <a:lnTo>
                  <a:pt x="824" y="308"/>
                </a:lnTo>
                <a:lnTo>
                  <a:pt x="850" y="328"/>
                </a:lnTo>
                <a:lnTo>
                  <a:pt x="896" y="331"/>
                </a:lnTo>
                <a:lnTo>
                  <a:pt x="935" y="315"/>
                </a:lnTo>
                <a:lnTo>
                  <a:pt x="940" y="314"/>
                </a:lnTo>
                <a:lnTo>
                  <a:pt x="951" y="315"/>
                </a:lnTo>
                <a:lnTo>
                  <a:pt x="958" y="315"/>
                </a:lnTo>
                <a:lnTo>
                  <a:pt x="991" y="318"/>
                </a:lnTo>
                <a:lnTo>
                  <a:pt x="1010" y="302"/>
                </a:lnTo>
                <a:lnTo>
                  <a:pt x="1032" y="309"/>
                </a:lnTo>
                <a:lnTo>
                  <a:pt x="1062" y="311"/>
                </a:lnTo>
                <a:lnTo>
                  <a:pt x="1083" y="319"/>
                </a:lnTo>
                <a:lnTo>
                  <a:pt x="1109" y="305"/>
                </a:lnTo>
                <a:lnTo>
                  <a:pt x="1142" y="314"/>
                </a:lnTo>
                <a:lnTo>
                  <a:pt x="1229" y="336"/>
                </a:lnTo>
                <a:lnTo>
                  <a:pt x="1270" y="346"/>
                </a:lnTo>
                <a:lnTo>
                  <a:pt x="1273" y="348"/>
                </a:lnTo>
                <a:lnTo>
                  <a:pt x="1317" y="357"/>
                </a:lnTo>
                <a:lnTo>
                  <a:pt x="1330" y="362"/>
                </a:lnTo>
                <a:lnTo>
                  <a:pt x="1335" y="362"/>
                </a:lnTo>
                <a:lnTo>
                  <a:pt x="1351" y="367"/>
                </a:lnTo>
                <a:lnTo>
                  <a:pt x="1353" y="367"/>
                </a:lnTo>
                <a:lnTo>
                  <a:pt x="1354" y="367"/>
                </a:lnTo>
                <a:lnTo>
                  <a:pt x="1375" y="373"/>
                </a:lnTo>
                <a:lnTo>
                  <a:pt x="1378" y="373"/>
                </a:lnTo>
                <a:lnTo>
                  <a:pt x="1447" y="390"/>
                </a:lnTo>
                <a:lnTo>
                  <a:pt x="1451" y="403"/>
                </a:lnTo>
                <a:lnTo>
                  <a:pt x="1458" y="428"/>
                </a:lnTo>
                <a:lnTo>
                  <a:pt x="1461" y="435"/>
                </a:lnTo>
                <a:lnTo>
                  <a:pt x="1496" y="475"/>
                </a:lnTo>
                <a:lnTo>
                  <a:pt x="1503" y="515"/>
                </a:lnTo>
                <a:lnTo>
                  <a:pt x="1453" y="610"/>
                </a:lnTo>
                <a:lnTo>
                  <a:pt x="1451" y="611"/>
                </a:lnTo>
                <a:lnTo>
                  <a:pt x="1435" y="650"/>
                </a:lnTo>
                <a:lnTo>
                  <a:pt x="1429" y="661"/>
                </a:lnTo>
                <a:lnTo>
                  <a:pt x="1414" y="682"/>
                </a:lnTo>
                <a:lnTo>
                  <a:pt x="1399" y="725"/>
                </a:lnTo>
                <a:lnTo>
                  <a:pt x="1373" y="746"/>
                </a:lnTo>
                <a:lnTo>
                  <a:pt x="1322" y="847"/>
                </a:lnTo>
                <a:lnTo>
                  <a:pt x="1321" y="869"/>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7" name="Freeform 50"/>
          <p:cNvSpPr/>
          <p:nvPr/>
        </p:nvSpPr>
        <p:spPr>
          <a:xfrm>
            <a:off x="4273560" y="4235400"/>
            <a:ext cx="961920" cy="379440"/>
          </a:xfrm>
          <a:custGeom>
            <a:avLst/>
            <a:gdLst>
              <a:gd name="textAreaLeft" fmla="*/ 0 w 961920"/>
              <a:gd name="textAreaRight" fmla="*/ 962280 w 961920"/>
              <a:gd name="textAreaTop" fmla="*/ 0 h 379440"/>
              <a:gd name="textAreaBottom" fmla="*/ 379800 h 379440"/>
            </a:gdLst>
            <a:ahLst/>
            <a:rect l="textAreaLeft" t="textAreaTop" r="textAreaRight" b="textAreaBottom"/>
            <a:pathLst>
              <a:path w="1592" h="722">
                <a:moveTo>
                  <a:pt x="251" y="244"/>
                </a:moveTo>
                <a:lnTo>
                  <a:pt x="249" y="244"/>
                </a:lnTo>
                <a:lnTo>
                  <a:pt x="224" y="246"/>
                </a:lnTo>
                <a:lnTo>
                  <a:pt x="162" y="252"/>
                </a:lnTo>
                <a:lnTo>
                  <a:pt x="153" y="254"/>
                </a:lnTo>
                <a:lnTo>
                  <a:pt x="140" y="256"/>
                </a:lnTo>
                <a:lnTo>
                  <a:pt x="127" y="258"/>
                </a:lnTo>
                <a:lnTo>
                  <a:pt x="117" y="259"/>
                </a:lnTo>
                <a:lnTo>
                  <a:pt x="125" y="296"/>
                </a:lnTo>
                <a:lnTo>
                  <a:pt x="119" y="307"/>
                </a:lnTo>
                <a:lnTo>
                  <a:pt x="122" y="333"/>
                </a:lnTo>
                <a:lnTo>
                  <a:pt x="92" y="336"/>
                </a:lnTo>
                <a:lnTo>
                  <a:pt x="106" y="354"/>
                </a:lnTo>
                <a:lnTo>
                  <a:pt x="114" y="371"/>
                </a:lnTo>
                <a:lnTo>
                  <a:pt x="108" y="377"/>
                </a:lnTo>
                <a:lnTo>
                  <a:pt x="90" y="411"/>
                </a:lnTo>
                <a:lnTo>
                  <a:pt x="108" y="438"/>
                </a:lnTo>
                <a:lnTo>
                  <a:pt x="89" y="441"/>
                </a:lnTo>
                <a:lnTo>
                  <a:pt x="68" y="488"/>
                </a:lnTo>
                <a:lnTo>
                  <a:pt x="66" y="553"/>
                </a:lnTo>
                <a:lnTo>
                  <a:pt x="48" y="547"/>
                </a:lnTo>
                <a:lnTo>
                  <a:pt x="40" y="567"/>
                </a:lnTo>
                <a:lnTo>
                  <a:pt x="24" y="587"/>
                </a:lnTo>
                <a:lnTo>
                  <a:pt x="17" y="604"/>
                </a:lnTo>
                <a:lnTo>
                  <a:pt x="25" y="605"/>
                </a:lnTo>
                <a:lnTo>
                  <a:pt x="27" y="594"/>
                </a:lnTo>
                <a:lnTo>
                  <a:pt x="34" y="610"/>
                </a:lnTo>
                <a:lnTo>
                  <a:pt x="41" y="679"/>
                </a:lnTo>
                <a:lnTo>
                  <a:pt x="28" y="679"/>
                </a:lnTo>
                <a:lnTo>
                  <a:pt x="0" y="722"/>
                </a:lnTo>
                <a:lnTo>
                  <a:pt x="59" y="716"/>
                </a:lnTo>
                <a:lnTo>
                  <a:pt x="87" y="714"/>
                </a:lnTo>
                <a:lnTo>
                  <a:pt x="112" y="712"/>
                </a:lnTo>
                <a:lnTo>
                  <a:pt x="127" y="709"/>
                </a:lnTo>
                <a:lnTo>
                  <a:pt x="147" y="707"/>
                </a:lnTo>
                <a:lnTo>
                  <a:pt x="163" y="706"/>
                </a:lnTo>
                <a:lnTo>
                  <a:pt x="183" y="705"/>
                </a:lnTo>
                <a:lnTo>
                  <a:pt x="193" y="703"/>
                </a:lnTo>
                <a:lnTo>
                  <a:pt x="203" y="702"/>
                </a:lnTo>
                <a:lnTo>
                  <a:pt x="212" y="700"/>
                </a:lnTo>
                <a:lnTo>
                  <a:pt x="231" y="699"/>
                </a:lnTo>
                <a:lnTo>
                  <a:pt x="240" y="697"/>
                </a:lnTo>
                <a:lnTo>
                  <a:pt x="248" y="697"/>
                </a:lnTo>
                <a:lnTo>
                  <a:pt x="250" y="697"/>
                </a:lnTo>
                <a:lnTo>
                  <a:pt x="266" y="695"/>
                </a:lnTo>
                <a:lnTo>
                  <a:pt x="284" y="693"/>
                </a:lnTo>
                <a:lnTo>
                  <a:pt x="291" y="692"/>
                </a:lnTo>
                <a:lnTo>
                  <a:pt x="309" y="690"/>
                </a:lnTo>
                <a:lnTo>
                  <a:pt x="328" y="688"/>
                </a:lnTo>
                <a:lnTo>
                  <a:pt x="369" y="683"/>
                </a:lnTo>
                <a:lnTo>
                  <a:pt x="370" y="683"/>
                </a:lnTo>
                <a:lnTo>
                  <a:pt x="372" y="682"/>
                </a:lnTo>
                <a:lnTo>
                  <a:pt x="394" y="680"/>
                </a:lnTo>
                <a:lnTo>
                  <a:pt x="404" y="679"/>
                </a:lnTo>
                <a:lnTo>
                  <a:pt x="403" y="676"/>
                </a:lnTo>
                <a:lnTo>
                  <a:pt x="403" y="675"/>
                </a:lnTo>
                <a:lnTo>
                  <a:pt x="444" y="670"/>
                </a:lnTo>
                <a:lnTo>
                  <a:pt x="460" y="669"/>
                </a:lnTo>
                <a:lnTo>
                  <a:pt x="503" y="663"/>
                </a:lnTo>
                <a:lnTo>
                  <a:pt x="517" y="662"/>
                </a:lnTo>
                <a:lnTo>
                  <a:pt x="562" y="656"/>
                </a:lnTo>
                <a:lnTo>
                  <a:pt x="586" y="655"/>
                </a:lnTo>
                <a:lnTo>
                  <a:pt x="591" y="653"/>
                </a:lnTo>
                <a:lnTo>
                  <a:pt x="592" y="653"/>
                </a:lnTo>
                <a:lnTo>
                  <a:pt x="593" y="653"/>
                </a:lnTo>
                <a:lnTo>
                  <a:pt x="648" y="648"/>
                </a:lnTo>
                <a:lnTo>
                  <a:pt x="660" y="646"/>
                </a:lnTo>
                <a:lnTo>
                  <a:pt x="665" y="646"/>
                </a:lnTo>
                <a:lnTo>
                  <a:pt x="675" y="645"/>
                </a:lnTo>
                <a:lnTo>
                  <a:pt x="729" y="638"/>
                </a:lnTo>
                <a:lnTo>
                  <a:pt x="753" y="634"/>
                </a:lnTo>
                <a:lnTo>
                  <a:pt x="764" y="632"/>
                </a:lnTo>
                <a:lnTo>
                  <a:pt x="766" y="632"/>
                </a:lnTo>
                <a:lnTo>
                  <a:pt x="774" y="631"/>
                </a:lnTo>
                <a:lnTo>
                  <a:pt x="814" y="625"/>
                </a:lnTo>
                <a:lnTo>
                  <a:pt x="849" y="621"/>
                </a:lnTo>
                <a:lnTo>
                  <a:pt x="856" y="619"/>
                </a:lnTo>
                <a:lnTo>
                  <a:pt x="897" y="615"/>
                </a:lnTo>
                <a:lnTo>
                  <a:pt x="900" y="614"/>
                </a:lnTo>
                <a:lnTo>
                  <a:pt x="921" y="611"/>
                </a:lnTo>
                <a:lnTo>
                  <a:pt x="926" y="611"/>
                </a:lnTo>
                <a:lnTo>
                  <a:pt x="945" y="608"/>
                </a:lnTo>
                <a:lnTo>
                  <a:pt x="946" y="608"/>
                </a:lnTo>
                <a:lnTo>
                  <a:pt x="956" y="605"/>
                </a:lnTo>
                <a:lnTo>
                  <a:pt x="966" y="604"/>
                </a:lnTo>
                <a:lnTo>
                  <a:pt x="968" y="604"/>
                </a:lnTo>
                <a:lnTo>
                  <a:pt x="970" y="602"/>
                </a:lnTo>
                <a:lnTo>
                  <a:pt x="1019" y="594"/>
                </a:lnTo>
                <a:lnTo>
                  <a:pt x="1020" y="594"/>
                </a:lnTo>
                <a:lnTo>
                  <a:pt x="1032" y="592"/>
                </a:lnTo>
                <a:lnTo>
                  <a:pt x="1047" y="590"/>
                </a:lnTo>
                <a:lnTo>
                  <a:pt x="1052" y="590"/>
                </a:lnTo>
                <a:lnTo>
                  <a:pt x="1059" y="588"/>
                </a:lnTo>
                <a:lnTo>
                  <a:pt x="1064" y="587"/>
                </a:lnTo>
                <a:lnTo>
                  <a:pt x="1072" y="587"/>
                </a:lnTo>
                <a:lnTo>
                  <a:pt x="1088" y="584"/>
                </a:lnTo>
                <a:lnTo>
                  <a:pt x="1114" y="578"/>
                </a:lnTo>
                <a:lnTo>
                  <a:pt x="1135" y="575"/>
                </a:lnTo>
                <a:lnTo>
                  <a:pt x="1145" y="574"/>
                </a:lnTo>
                <a:lnTo>
                  <a:pt x="1145" y="570"/>
                </a:lnTo>
                <a:lnTo>
                  <a:pt x="1144" y="533"/>
                </a:lnTo>
                <a:lnTo>
                  <a:pt x="1144" y="509"/>
                </a:lnTo>
                <a:lnTo>
                  <a:pt x="1151" y="493"/>
                </a:lnTo>
                <a:lnTo>
                  <a:pt x="1180" y="489"/>
                </a:lnTo>
                <a:lnTo>
                  <a:pt x="1191" y="475"/>
                </a:lnTo>
                <a:lnTo>
                  <a:pt x="1192" y="449"/>
                </a:lnTo>
                <a:lnTo>
                  <a:pt x="1192" y="434"/>
                </a:lnTo>
                <a:lnTo>
                  <a:pt x="1199" y="421"/>
                </a:lnTo>
                <a:lnTo>
                  <a:pt x="1200" y="422"/>
                </a:lnTo>
                <a:lnTo>
                  <a:pt x="1212" y="402"/>
                </a:lnTo>
                <a:lnTo>
                  <a:pt x="1235" y="385"/>
                </a:lnTo>
                <a:lnTo>
                  <a:pt x="1251" y="380"/>
                </a:lnTo>
                <a:lnTo>
                  <a:pt x="1257" y="380"/>
                </a:lnTo>
                <a:lnTo>
                  <a:pt x="1282" y="377"/>
                </a:lnTo>
                <a:lnTo>
                  <a:pt x="1325" y="329"/>
                </a:lnTo>
                <a:lnTo>
                  <a:pt x="1323" y="323"/>
                </a:lnTo>
                <a:lnTo>
                  <a:pt x="1346" y="303"/>
                </a:lnTo>
                <a:lnTo>
                  <a:pt x="1369" y="297"/>
                </a:lnTo>
                <a:lnTo>
                  <a:pt x="1376" y="290"/>
                </a:lnTo>
                <a:lnTo>
                  <a:pt x="1384" y="262"/>
                </a:lnTo>
                <a:lnTo>
                  <a:pt x="1384" y="259"/>
                </a:lnTo>
                <a:lnTo>
                  <a:pt x="1383" y="242"/>
                </a:lnTo>
                <a:lnTo>
                  <a:pt x="1403" y="222"/>
                </a:lnTo>
                <a:lnTo>
                  <a:pt x="1430" y="200"/>
                </a:lnTo>
                <a:lnTo>
                  <a:pt x="1434" y="204"/>
                </a:lnTo>
                <a:lnTo>
                  <a:pt x="1434" y="217"/>
                </a:lnTo>
                <a:lnTo>
                  <a:pt x="1455" y="219"/>
                </a:lnTo>
                <a:lnTo>
                  <a:pt x="1456" y="218"/>
                </a:lnTo>
                <a:lnTo>
                  <a:pt x="1463" y="208"/>
                </a:lnTo>
                <a:lnTo>
                  <a:pt x="1469" y="188"/>
                </a:lnTo>
                <a:lnTo>
                  <a:pt x="1475" y="177"/>
                </a:lnTo>
                <a:lnTo>
                  <a:pt x="1497" y="164"/>
                </a:lnTo>
                <a:lnTo>
                  <a:pt x="1502" y="156"/>
                </a:lnTo>
                <a:lnTo>
                  <a:pt x="1519" y="163"/>
                </a:lnTo>
                <a:lnTo>
                  <a:pt x="1522" y="168"/>
                </a:lnTo>
                <a:lnTo>
                  <a:pt x="1530" y="167"/>
                </a:lnTo>
                <a:lnTo>
                  <a:pt x="1534" y="158"/>
                </a:lnTo>
                <a:lnTo>
                  <a:pt x="1539" y="158"/>
                </a:lnTo>
                <a:lnTo>
                  <a:pt x="1552" y="113"/>
                </a:lnTo>
                <a:lnTo>
                  <a:pt x="1554" y="106"/>
                </a:lnTo>
                <a:lnTo>
                  <a:pt x="1560" y="95"/>
                </a:lnTo>
                <a:lnTo>
                  <a:pt x="1583" y="85"/>
                </a:lnTo>
                <a:lnTo>
                  <a:pt x="1585" y="68"/>
                </a:lnTo>
                <a:lnTo>
                  <a:pt x="1586" y="35"/>
                </a:lnTo>
                <a:lnTo>
                  <a:pt x="1587" y="8"/>
                </a:lnTo>
                <a:lnTo>
                  <a:pt x="1592" y="0"/>
                </a:lnTo>
                <a:lnTo>
                  <a:pt x="1573" y="4"/>
                </a:lnTo>
                <a:lnTo>
                  <a:pt x="1558" y="7"/>
                </a:lnTo>
                <a:lnTo>
                  <a:pt x="1541" y="10"/>
                </a:lnTo>
                <a:lnTo>
                  <a:pt x="1539" y="17"/>
                </a:lnTo>
                <a:lnTo>
                  <a:pt x="1499" y="24"/>
                </a:lnTo>
                <a:lnTo>
                  <a:pt x="1494" y="25"/>
                </a:lnTo>
                <a:lnTo>
                  <a:pt x="1487" y="25"/>
                </a:lnTo>
                <a:lnTo>
                  <a:pt x="1481" y="27"/>
                </a:lnTo>
                <a:lnTo>
                  <a:pt x="1480" y="27"/>
                </a:lnTo>
                <a:lnTo>
                  <a:pt x="1472" y="28"/>
                </a:lnTo>
                <a:lnTo>
                  <a:pt x="1457" y="32"/>
                </a:lnTo>
                <a:lnTo>
                  <a:pt x="1433" y="37"/>
                </a:lnTo>
                <a:lnTo>
                  <a:pt x="1414" y="41"/>
                </a:lnTo>
                <a:lnTo>
                  <a:pt x="1410" y="41"/>
                </a:lnTo>
                <a:lnTo>
                  <a:pt x="1403" y="42"/>
                </a:lnTo>
                <a:lnTo>
                  <a:pt x="1371" y="48"/>
                </a:lnTo>
                <a:lnTo>
                  <a:pt x="1363" y="49"/>
                </a:lnTo>
                <a:lnTo>
                  <a:pt x="1343" y="54"/>
                </a:lnTo>
                <a:lnTo>
                  <a:pt x="1291" y="63"/>
                </a:lnTo>
                <a:lnTo>
                  <a:pt x="1289" y="62"/>
                </a:lnTo>
                <a:lnTo>
                  <a:pt x="1252" y="69"/>
                </a:lnTo>
                <a:lnTo>
                  <a:pt x="1224" y="73"/>
                </a:lnTo>
                <a:lnTo>
                  <a:pt x="1219" y="75"/>
                </a:lnTo>
                <a:lnTo>
                  <a:pt x="1214" y="75"/>
                </a:lnTo>
                <a:lnTo>
                  <a:pt x="1211" y="80"/>
                </a:lnTo>
                <a:lnTo>
                  <a:pt x="1193" y="83"/>
                </a:lnTo>
                <a:lnTo>
                  <a:pt x="1167" y="88"/>
                </a:lnTo>
                <a:lnTo>
                  <a:pt x="1154" y="89"/>
                </a:lnTo>
                <a:lnTo>
                  <a:pt x="1152" y="89"/>
                </a:lnTo>
                <a:lnTo>
                  <a:pt x="1138" y="90"/>
                </a:lnTo>
                <a:lnTo>
                  <a:pt x="1114" y="95"/>
                </a:lnTo>
                <a:lnTo>
                  <a:pt x="1111" y="95"/>
                </a:lnTo>
                <a:lnTo>
                  <a:pt x="1108" y="96"/>
                </a:lnTo>
                <a:lnTo>
                  <a:pt x="1105" y="96"/>
                </a:lnTo>
                <a:lnTo>
                  <a:pt x="1071" y="100"/>
                </a:lnTo>
                <a:lnTo>
                  <a:pt x="1052" y="105"/>
                </a:lnTo>
                <a:lnTo>
                  <a:pt x="1008" y="109"/>
                </a:lnTo>
                <a:lnTo>
                  <a:pt x="1007" y="109"/>
                </a:lnTo>
                <a:lnTo>
                  <a:pt x="990" y="110"/>
                </a:lnTo>
                <a:lnTo>
                  <a:pt x="976" y="112"/>
                </a:lnTo>
                <a:lnTo>
                  <a:pt x="970" y="112"/>
                </a:lnTo>
                <a:lnTo>
                  <a:pt x="966" y="112"/>
                </a:lnTo>
                <a:lnTo>
                  <a:pt x="943" y="113"/>
                </a:lnTo>
                <a:lnTo>
                  <a:pt x="914" y="117"/>
                </a:lnTo>
                <a:lnTo>
                  <a:pt x="911" y="117"/>
                </a:lnTo>
                <a:lnTo>
                  <a:pt x="910" y="119"/>
                </a:lnTo>
                <a:lnTo>
                  <a:pt x="903" y="120"/>
                </a:lnTo>
                <a:lnTo>
                  <a:pt x="884" y="124"/>
                </a:lnTo>
                <a:lnTo>
                  <a:pt x="872" y="127"/>
                </a:lnTo>
                <a:lnTo>
                  <a:pt x="849" y="130"/>
                </a:lnTo>
                <a:lnTo>
                  <a:pt x="818" y="133"/>
                </a:lnTo>
                <a:lnTo>
                  <a:pt x="810" y="134"/>
                </a:lnTo>
                <a:lnTo>
                  <a:pt x="798" y="136"/>
                </a:lnTo>
                <a:lnTo>
                  <a:pt x="783" y="136"/>
                </a:lnTo>
                <a:lnTo>
                  <a:pt x="778" y="137"/>
                </a:lnTo>
                <a:lnTo>
                  <a:pt x="754" y="139"/>
                </a:lnTo>
                <a:lnTo>
                  <a:pt x="739" y="139"/>
                </a:lnTo>
                <a:lnTo>
                  <a:pt x="722" y="140"/>
                </a:lnTo>
                <a:lnTo>
                  <a:pt x="715" y="140"/>
                </a:lnTo>
                <a:lnTo>
                  <a:pt x="700" y="141"/>
                </a:lnTo>
                <a:lnTo>
                  <a:pt x="684" y="143"/>
                </a:lnTo>
                <a:lnTo>
                  <a:pt x="675" y="147"/>
                </a:lnTo>
                <a:lnTo>
                  <a:pt x="673" y="151"/>
                </a:lnTo>
                <a:lnTo>
                  <a:pt x="667" y="146"/>
                </a:lnTo>
                <a:lnTo>
                  <a:pt x="647" y="150"/>
                </a:lnTo>
                <a:lnTo>
                  <a:pt x="635" y="151"/>
                </a:lnTo>
                <a:lnTo>
                  <a:pt x="622" y="154"/>
                </a:lnTo>
                <a:lnTo>
                  <a:pt x="614" y="156"/>
                </a:lnTo>
                <a:lnTo>
                  <a:pt x="579" y="161"/>
                </a:lnTo>
                <a:lnTo>
                  <a:pt x="569" y="163"/>
                </a:lnTo>
                <a:lnTo>
                  <a:pt x="567" y="163"/>
                </a:lnTo>
                <a:lnTo>
                  <a:pt x="544" y="166"/>
                </a:lnTo>
                <a:lnTo>
                  <a:pt x="528" y="168"/>
                </a:lnTo>
                <a:lnTo>
                  <a:pt x="504" y="171"/>
                </a:lnTo>
                <a:lnTo>
                  <a:pt x="485" y="174"/>
                </a:lnTo>
                <a:lnTo>
                  <a:pt x="471" y="177"/>
                </a:lnTo>
                <a:lnTo>
                  <a:pt x="460" y="178"/>
                </a:lnTo>
                <a:lnTo>
                  <a:pt x="431" y="183"/>
                </a:lnTo>
                <a:lnTo>
                  <a:pt x="431" y="174"/>
                </a:lnTo>
                <a:lnTo>
                  <a:pt x="389" y="174"/>
                </a:lnTo>
                <a:lnTo>
                  <a:pt x="391" y="181"/>
                </a:lnTo>
                <a:lnTo>
                  <a:pt x="393" y="190"/>
                </a:lnTo>
                <a:lnTo>
                  <a:pt x="396" y="228"/>
                </a:lnTo>
                <a:lnTo>
                  <a:pt x="353" y="232"/>
                </a:lnTo>
                <a:lnTo>
                  <a:pt x="336" y="235"/>
                </a:lnTo>
                <a:lnTo>
                  <a:pt x="314" y="236"/>
                </a:lnTo>
                <a:lnTo>
                  <a:pt x="313" y="236"/>
                </a:lnTo>
                <a:lnTo>
                  <a:pt x="309" y="236"/>
                </a:lnTo>
                <a:lnTo>
                  <a:pt x="304" y="238"/>
                </a:lnTo>
                <a:lnTo>
                  <a:pt x="264" y="242"/>
                </a:lnTo>
                <a:lnTo>
                  <a:pt x="252" y="244"/>
                </a:lnTo>
                <a:lnTo>
                  <a:pt x="251" y="244"/>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8" name="Freeform 51"/>
          <p:cNvSpPr/>
          <p:nvPr/>
        </p:nvSpPr>
        <p:spPr>
          <a:xfrm>
            <a:off x="5006880" y="3727440"/>
            <a:ext cx="879480" cy="547560"/>
          </a:xfrm>
          <a:custGeom>
            <a:avLst/>
            <a:gdLst>
              <a:gd name="textAreaLeft" fmla="*/ 0 w 879480"/>
              <a:gd name="textAreaRight" fmla="*/ 879840 w 879480"/>
              <a:gd name="textAreaTop" fmla="*/ 0 h 547560"/>
              <a:gd name="textAreaBottom" fmla="*/ 547920 h 547560"/>
            </a:gdLst>
            <a:ahLst/>
            <a:rect l="textAreaLeft" t="textAreaTop" r="textAreaRight" b="textAreaBottom"/>
            <a:pathLst>
              <a:path w="1451" h="1048">
                <a:moveTo>
                  <a:pt x="1323" y="583"/>
                </a:moveTo>
                <a:lnTo>
                  <a:pt x="1326" y="584"/>
                </a:lnTo>
                <a:lnTo>
                  <a:pt x="1327" y="583"/>
                </a:lnTo>
                <a:lnTo>
                  <a:pt x="1344" y="593"/>
                </a:lnTo>
                <a:lnTo>
                  <a:pt x="1345" y="594"/>
                </a:lnTo>
                <a:lnTo>
                  <a:pt x="1347" y="627"/>
                </a:lnTo>
                <a:lnTo>
                  <a:pt x="1350" y="632"/>
                </a:lnTo>
                <a:lnTo>
                  <a:pt x="1351" y="635"/>
                </a:lnTo>
                <a:lnTo>
                  <a:pt x="1360" y="637"/>
                </a:lnTo>
                <a:lnTo>
                  <a:pt x="1374" y="641"/>
                </a:lnTo>
                <a:lnTo>
                  <a:pt x="1385" y="642"/>
                </a:lnTo>
                <a:lnTo>
                  <a:pt x="1407" y="632"/>
                </a:lnTo>
                <a:lnTo>
                  <a:pt x="1451" y="736"/>
                </a:lnTo>
                <a:lnTo>
                  <a:pt x="1427" y="743"/>
                </a:lnTo>
                <a:lnTo>
                  <a:pt x="1404" y="749"/>
                </a:lnTo>
                <a:lnTo>
                  <a:pt x="1380" y="756"/>
                </a:lnTo>
                <a:lnTo>
                  <a:pt x="1377" y="757"/>
                </a:lnTo>
                <a:lnTo>
                  <a:pt x="1369" y="758"/>
                </a:lnTo>
                <a:lnTo>
                  <a:pt x="1363" y="760"/>
                </a:lnTo>
                <a:lnTo>
                  <a:pt x="1358" y="761"/>
                </a:lnTo>
                <a:lnTo>
                  <a:pt x="1336" y="767"/>
                </a:lnTo>
                <a:lnTo>
                  <a:pt x="1335" y="767"/>
                </a:lnTo>
                <a:lnTo>
                  <a:pt x="1328" y="770"/>
                </a:lnTo>
                <a:lnTo>
                  <a:pt x="1327" y="770"/>
                </a:lnTo>
                <a:lnTo>
                  <a:pt x="1289" y="780"/>
                </a:lnTo>
                <a:lnTo>
                  <a:pt x="1265" y="785"/>
                </a:lnTo>
                <a:lnTo>
                  <a:pt x="1258" y="787"/>
                </a:lnTo>
                <a:lnTo>
                  <a:pt x="1258" y="790"/>
                </a:lnTo>
                <a:lnTo>
                  <a:pt x="1225" y="798"/>
                </a:lnTo>
                <a:lnTo>
                  <a:pt x="1219" y="800"/>
                </a:lnTo>
                <a:lnTo>
                  <a:pt x="1212" y="801"/>
                </a:lnTo>
                <a:lnTo>
                  <a:pt x="1196" y="805"/>
                </a:lnTo>
                <a:lnTo>
                  <a:pt x="1187" y="808"/>
                </a:lnTo>
                <a:lnTo>
                  <a:pt x="1142" y="819"/>
                </a:lnTo>
                <a:lnTo>
                  <a:pt x="1137" y="821"/>
                </a:lnTo>
                <a:lnTo>
                  <a:pt x="1100" y="829"/>
                </a:lnTo>
                <a:lnTo>
                  <a:pt x="1095" y="831"/>
                </a:lnTo>
                <a:lnTo>
                  <a:pt x="1087" y="834"/>
                </a:lnTo>
                <a:lnTo>
                  <a:pt x="1076" y="836"/>
                </a:lnTo>
                <a:lnTo>
                  <a:pt x="1066" y="839"/>
                </a:lnTo>
                <a:lnTo>
                  <a:pt x="1058" y="841"/>
                </a:lnTo>
                <a:lnTo>
                  <a:pt x="1049" y="844"/>
                </a:lnTo>
                <a:lnTo>
                  <a:pt x="1016" y="851"/>
                </a:lnTo>
                <a:lnTo>
                  <a:pt x="1011" y="852"/>
                </a:lnTo>
                <a:lnTo>
                  <a:pt x="998" y="856"/>
                </a:lnTo>
                <a:lnTo>
                  <a:pt x="988" y="858"/>
                </a:lnTo>
                <a:lnTo>
                  <a:pt x="982" y="861"/>
                </a:lnTo>
                <a:lnTo>
                  <a:pt x="974" y="862"/>
                </a:lnTo>
                <a:lnTo>
                  <a:pt x="966" y="865"/>
                </a:lnTo>
                <a:lnTo>
                  <a:pt x="943" y="871"/>
                </a:lnTo>
                <a:lnTo>
                  <a:pt x="922" y="875"/>
                </a:lnTo>
                <a:lnTo>
                  <a:pt x="919" y="875"/>
                </a:lnTo>
                <a:lnTo>
                  <a:pt x="913" y="876"/>
                </a:lnTo>
                <a:lnTo>
                  <a:pt x="911" y="878"/>
                </a:lnTo>
                <a:lnTo>
                  <a:pt x="907" y="878"/>
                </a:lnTo>
                <a:lnTo>
                  <a:pt x="904" y="879"/>
                </a:lnTo>
                <a:lnTo>
                  <a:pt x="847" y="892"/>
                </a:lnTo>
                <a:lnTo>
                  <a:pt x="832" y="896"/>
                </a:lnTo>
                <a:lnTo>
                  <a:pt x="826" y="897"/>
                </a:lnTo>
                <a:lnTo>
                  <a:pt x="803" y="903"/>
                </a:lnTo>
                <a:lnTo>
                  <a:pt x="778" y="909"/>
                </a:lnTo>
                <a:lnTo>
                  <a:pt x="768" y="910"/>
                </a:lnTo>
                <a:lnTo>
                  <a:pt x="756" y="913"/>
                </a:lnTo>
                <a:lnTo>
                  <a:pt x="740" y="917"/>
                </a:lnTo>
                <a:lnTo>
                  <a:pt x="711" y="923"/>
                </a:lnTo>
                <a:lnTo>
                  <a:pt x="687" y="929"/>
                </a:lnTo>
                <a:lnTo>
                  <a:pt x="682" y="930"/>
                </a:lnTo>
                <a:lnTo>
                  <a:pt x="677" y="930"/>
                </a:lnTo>
                <a:lnTo>
                  <a:pt x="664" y="934"/>
                </a:lnTo>
                <a:lnTo>
                  <a:pt x="632" y="940"/>
                </a:lnTo>
                <a:lnTo>
                  <a:pt x="604" y="944"/>
                </a:lnTo>
                <a:lnTo>
                  <a:pt x="594" y="946"/>
                </a:lnTo>
                <a:lnTo>
                  <a:pt x="581" y="947"/>
                </a:lnTo>
                <a:lnTo>
                  <a:pt x="572" y="949"/>
                </a:lnTo>
                <a:lnTo>
                  <a:pt x="555" y="951"/>
                </a:lnTo>
                <a:lnTo>
                  <a:pt x="543" y="954"/>
                </a:lnTo>
                <a:lnTo>
                  <a:pt x="533" y="957"/>
                </a:lnTo>
                <a:lnTo>
                  <a:pt x="530" y="957"/>
                </a:lnTo>
                <a:lnTo>
                  <a:pt x="528" y="958"/>
                </a:lnTo>
                <a:lnTo>
                  <a:pt x="524" y="958"/>
                </a:lnTo>
                <a:lnTo>
                  <a:pt x="523" y="958"/>
                </a:lnTo>
                <a:lnTo>
                  <a:pt x="519" y="960"/>
                </a:lnTo>
                <a:lnTo>
                  <a:pt x="490" y="964"/>
                </a:lnTo>
                <a:lnTo>
                  <a:pt x="442" y="971"/>
                </a:lnTo>
                <a:lnTo>
                  <a:pt x="434" y="973"/>
                </a:lnTo>
                <a:lnTo>
                  <a:pt x="417" y="975"/>
                </a:lnTo>
                <a:lnTo>
                  <a:pt x="411" y="975"/>
                </a:lnTo>
                <a:lnTo>
                  <a:pt x="383" y="980"/>
                </a:lnTo>
                <a:lnTo>
                  <a:pt x="373" y="981"/>
                </a:lnTo>
                <a:lnTo>
                  <a:pt x="378" y="973"/>
                </a:lnTo>
                <a:lnTo>
                  <a:pt x="359" y="977"/>
                </a:lnTo>
                <a:lnTo>
                  <a:pt x="344" y="980"/>
                </a:lnTo>
                <a:lnTo>
                  <a:pt x="327" y="983"/>
                </a:lnTo>
                <a:lnTo>
                  <a:pt x="325" y="990"/>
                </a:lnTo>
                <a:lnTo>
                  <a:pt x="285" y="997"/>
                </a:lnTo>
                <a:lnTo>
                  <a:pt x="280" y="998"/>
                </a:lnTo>
                <a:lnTo>
                  <a:pt x="273" y="998"/>
                </a:lnTo>
                <a:lnTo>
                  <a:pt x="267" y="1000"/>
                </a:lnTo>
                <a:lnTo>
                  <a:pt x="266" y="1000"/>
                </a:lnTo>
                <a:lnTo>
                  <a:pt x="258" y="1001"/>
                </a:lnTo>
                <a:lnTo>
                  <a:pt x="243" y="1005"/>
                </a:lnTo>
                <a:lnTo>
                  <a:pt x="219" y="1010"/>
                </a:lnTo>
                <a:lnTo>
                  <a:pt x="200" y="1014"/>
                </a:lnTo>
                <a:lnTo>
                  <a:pt x="196" y="1014"/>
                </a:lnTo>
                <a:lnTo>
                  <a:pt x="189" y="1015"/>
                </a:lnTo>
                <a:lnTo>
                  <a:pt x="157" y="1021"/>
                </a:lnTo>
                <a:lnTo>
                  <a:pt x="149" y="1022"/>
                </a:lnTo>
                <a:lnTo>
                  <a:pt x="129" y="1027"/>
                </a:lnTo>
                <a:lnTo>
                  <a:pt x="77" y="1036"/>
                </a:lnTo>
                <a:lnTo>
                  <a:pt x="75" y="1035"/>
                </a:lnTo>
                <a:lnTo>
                  <a:pt x="38" y="1042"/>
                </a:lnTo>
                <a:lnTo>
                  <a:pt x="10" y="1046"/>
                </a:lnTo>
                <a:lnTo>
                  <a:pt x="5" y="1048"/>
                </a:lnTo>
                <a:lnTo>
                  <a:pt x="0" y="1048"/>
                </a:lnTo>
                <a:lnTo>
                  <a:pt x="8" y="1039"/>
                </a:lnTo>
                <a:lnTo>
                  <a:pt x="30" y="1021"/>
                </a:lnTo>
                <a:lnTo>
                  <a:pt x="37" y="1022"/>
                </a:lnTo>
                <a:lnTo>
                  <a:pt x="97" y="985"/>
                </a:lnTo>
                <a:lnTo>
                  <a:pt x="96" y="974"/>
                </a:lnTo>
                <a:lnTo>
                  <a:pt x="138" y="934"/>
                </a:lnTo>
                <a:lnTo>
                  <a:pt x="139" y="933"/>
                </a:lnTo>
                <a:lnTo>
                  <a:pt x="137" y="910"/>
                </a:lnTo>
                <a:lnTo>
                  <a:pt x="157" y="892"/>
                </a:lnTo>
                <a:lnTo>
                  <a:pt x="161" y="861"/>
                </a:lnTo>
                <a:lnTo>
                  <a:pt x="185" y="834"/>
                </a:lnTo>
                <a:lnTo>
                  <a:pt x="187" y="831"/>
                </a:lnTo>
                <a:lnTo>
                  <a:pt x="207" y="814"/>
                </a:lnTo>
                <a:lnTo>
                  <a:pt x="218" y="808"/>
                </a:lnTo>
                <a:lnTo>
                  <a:pt x="228" y="795"/>
                </a:lnTo>
                <a:lnTo>
                  <a:pt x="245" y="768"/>
                </a:lnTo>
                <a:lnTo>
                  <a:pt x="266" y="739"/>
                </a:lnTo>
                <a:lnTo>
                  <a:pt x="283" y="712"/>
                </a:lnTo>
                <a:lnTo>
                  <a:pt x="291" y="717"/>
                </a:lnTo>
                <a:lnTo>
                  <a:pt x="287" y="722"/>
                </a:lnTo>
                <a:lnTo>
                  <a:pt x="296" y="758"/>
                </a:lnTo>
                <a:lnTo>
                  <a:pt x="337" y="791"/>
                </a:lnTo>
                <a:lnTo>
                  <a:pt x="349" y="800"/>
                </a:lnTo>
                <a:lnTo>
                  <a:pt x="389" y="771"/>
                </a:lnTo>
                <a:lnTo>
                  <a:pt x="402" y="749"/>
                </a:lnTo>
                <a:lnTo>
                  <a:pt x="411" y="758"/>
                </a:lnTo>
                <a:lnTo>
                  <a:pt x="427" y="770"/>
                </a:lnTo>
                <a:lnTo>
                  <a:pt x="432" y="773"/>
                </a:lnTo>
                <a:lnTo>
                  <a:pt x="449" y="757"/>
                </a:lnTo>
                <a:lnTo>
                  <a:pt x="474" y="744"/>
                </a:lnTo>
                <a:lnTo>
                  <a:pt x="474" y="747"/>
                </a:lnTo>
                <a:lnTo>
                  <a:pt x="497" y="726"/>
                </a:lnTo>
                <a:lnTo>
                  <a:pt x="489" y="716"/>
                </a:lnTo>
                <a:lnTo>
                  <a:pt x="491" y="702"/>
                </a:lnTo>
                <a:lnTo>
                  <a:pt x="509" y="715"/>
                </a:lnTo>
                <a:lnTo>
                  <a:pt x="556" y="676"/>
                </a:lnTo>
                <a:lnTo>
                  <a:pt x="562" y="688"/>
                </a:lnTo>
                <a:lnTo>
                  <a:pt x="588" y="659"/>
                </a:lnTo>
                <a:lnTo>
                  <a:pt x="596" y="627"/>
                </a:lnTo>
                <a:lnTo>
                  <a:pt x="600" y="618"/>
                </a:lnTo>
                <a:lnTo>
                  <a:pt x="594" y="615"/>
                </a:lnTo>
                <a:lnTo>
                  <a:pt x="588" y="611"/>
                </a:lnTo>
                <a:lnTo>
                  <a:pt x="581" y="604"/>
                </a:lnTo>
                <a:lnTo>
                  <a:pt x="592" y="574"/>
                </a:lnTo>
                <a:lnTo>
                  <a:pt x="601" y="543"/>
                </a:lnTo>
                <a:lnTo>
                  <a:pt x="617" y="516"/>
                </a:lnTo>
                <a:lnTo>
                  <a:pt x="625" y="500"/>
                </a:lnTo>
                <a:lnTo>
                  <a:pt x="625" y="499"/>
                </a:lnTo>
                <a:lnTo>
                  <a:pt x="629" y="479"/>
                </a:lnTo>
                <a:lnTo>
                  <a:pt x="631" y="461"/>
                </a:lnTo>
                <a:lnTo>
                  <a:pt x="639" y="432"/>
                </a:lnTo>
                <a:lnTo>
                  <a:pt x="651" y="412"/>
                </a:lnTo>
                <a:lnTo>
                  <a:pt x="655" y="384"/>
                </a:lnTo>
                <a:lnTo>
                  <a:pt x="658" y="378"/>
                </a:lnTo>
                <a:lnTo>
                  <a:pt x="664" y="312"/>
                </a:lnTo>
                <a:lnTo>
                  <a:pt x="679" y="316"/>
                </a:lnTo>
                <a:lnTo>
                  <a:pt x="700" y="343"/>
                </a:lnTo>
                <a:lnTo>
                  <a:pt x="732" y="350"/>
                </a:lnTo>
                <a:lnTo>
                  <a:pt x="741" y="334"/>
                </a:lnTo>
                <a:lnTo>
                  <a:pt x="745" y="327"/>
                </a:lnTo>
                <a:lnTo>
                  <a:pt x="747" y="320"/>
                </a:lnTo>
                <a:lnTo>
                  <a:pt x="746" y="316"/>
                </a:lnTo>
                <a:lnTo>
                  <a:pt x="762" y="237"/>
                </a:lnTo>
                <a:lnTo>
                  <a:pt x="770" y="211"/>
                </a:lnTo>
                <a:lnTo>
                  <a:pt x="770" y="208"/>
                </a:lnTo>
                <a:lnTo>
                  <a:pt x="796" y="228"/>
                </a:lnTo>
                <a:lnTo>
                  <a:pt x="811" y="178"/>
                </a:lnTo>
                <a:lnTo>
                  <a:pt x="839" y="146"/>
                </a:lnTo>
                <a:lnTo>
                  <a:pt x="842" y="127"/>
                </a:lnTo>
                <a:lnTo>
                  <a:pt x="847" y="117"/>
                </a:lnTo>
                <a:lnTo>
                  <a:pt x="856" y="103"/>
                </a:lnTo>
                <a:lnTo>
                  <a:pt x="860" y="48"/>
                </a:lnTo>
                <a:lnTo>
                  <a:pt x="858" y="0"/>
                </a:lnTo>
                <a:lnTo>
                  <a:pt x="869" y="8"/>
                </a:lnTo>
                <a:lnTo>
                  <a:pt x="875" y="11"/>
                </a:lnTo>
                <a:lnTo>
                  <a:pt x="882" y="17"/>
                </a:lnTo>
                <a:lnTo>
                  <a:pt x="897" y="27"/>
                </a:lnTo>
                <a:lnTo>
                  <a:pt x="904" y="31"/>
                </a:lnTo>
                <a:lnTo>
                  <a:pt x="923" y="45"/>
                </a:lnTo>
                <a:lnTo>
                  <a:pt x="928" y="48"/>
                </a:lnTo>
                <a:lnTo>
                  <a:pt x="930" y="49"/>
                </a:lnTo>
                <a:lnTo>
                  <a:pt x="967" y="75"/>
                </a:lnTo>
                <a:lnTo>
                  <a:pt x="971" y="37"/>
                </a:lnTo>
                <a:lnTo>
                  <a:pt x="974" y="22"/>
                </a:lnTo>
                <a:lnTo>
                  <a:pt x="977" y="14"/>
                </a:lnTo>
                <a:lnTo>
                  <a:pt x="984" y="11"/>
                </a:lnTo>
                <a:lnTo>
                  <a:pt x="991" y="14"/>
                </a:lnTo>
                <a:lnTo>
                  <a:pt x="1020" y="25"/>
                </a:lnTo>
                <a:lnTo>
                  <a:pt x="1028" y="32"/>
                </a:lnTo>
                <a:lnTo>
                  <a:pt x="1022" y="62"/>
                </a:lnTo>
                <a:lnTo>
                  <a:pt x="1051" y="75"/>
                </a:lnTo>
                <a:lnTo>
                  <a:pt x="1059" y="73"/>
                </a:lnTo>
                <a:lnTo>
                  <a:pt x="1075" y="79"/>
                </a:lnTo>
                <a:lnTo>
                  <a:pt x="1076" y="89"/>
                </a:lnTo>
                <a:lnTo>
                  <a:pt x="1097" y="92"/>
                </a:lnTo>
                <a:lnTo>
                  <a:pt x="1103" y="100"/>
                </a:lnTo>
                <a:lnTo>
                  <a:pt x="1118" y="115"/>
                </a:lnTo>
                <a:lnTo>
                  <a:pt x="1119" y="113"/>
                </a:lnTo>
                <a:lnTo>
                  <a:pt x="1120" y="123"/>
                </a:lnTo>
                <a:lnTo>
                  <a:pt x="1124" y="137"/>
                </a:lnTo>
                <a:lnTo>
                  <a:pt x="1124" y="139"/>
                </a:lnTo>
                <a:lnTo>
                  <a:pt x="1124" y="144"/>
                </a:lnTo>
                <a:lnTo>
                  <a:pt x="1126" y="150"/>
                </a:lnTo>
                <a:lnTo>
                  <a:pt x="1120" y="166"/>
                </a:lnTo>
                <a:lnTo>
                  <a:pt x="1114" y="174"/>
                </a:lnTo>
                <a:lnTo>
                  <a:pt x="1114" y="176"/>
                </a:lnTo>
                <a:lnTo>
                  <a:pt x="1115" y="188"/>
                </a:lnTo>
                <a:lnTo>
                  <a:pt x="1103" y="197"/>
                </a:lnTo>
                <a:lnTo>
                  <a:pt x="1100" y="193"/>
                </a:lnTo>
                <a:lnTo>
                  <a:pt x="1099" y="191"/>
                </a:lnTo>
                <a:lnTo>
                  <a:pt x="1095" y="195"/>
                </a:lnTo>
                <a:lnTo>
                  <a:pt x="1096" y="215"/>
                </a:lnTo>
                <a:lnTo>
                  <a:pt x="1091" y="234"/>
                </a:lnTo>
                <a:lnTo>
                  <a:pt x="1091" y="235"/>
                </a:lnTo>
                <a:lnTo>
                  <a:pt x="1091" y="255"/>
                </a:lnTo>
                <a:lnTo>
                  <a:pt x="1102" y="279"/>
                </a:lnTo>
                <a:lnTo>
                  <a:pt x="1110" y="282"/>
                </a:lnTo>
                <a:lnTo>
                  <a:pt x="1150" y="258"/>
                </a:lnTo>
                <a:lnTo>
                  <a:pt x="1156" y="286"/>
                </a:lnTo>
                <a:lnTo>
                  <a:pt x="1166" y="292"/>
                </a:lnTo>
                <a:lnTo>
                  <a:pt x="1169" y="305"/>
                </a:lnTo>
                <a:lnTo>
                  <a:pt x="1185" y="312"/>
                </a:lnTo>
                <a:lnTo>
                  <a:pt x="1231" y="306"/>
                </a:lnTo>
                <a:lnTo>
                  <a:pt x="1257" y="334"/>
                </a:lnTo>
                <a:lnTo>
                  <a:pt x="1314" y="364"/>
                </a:lnTo>
                <a:lnTo>
                  <a:pt x="1308" y="408"/>
                </a:lnTo>
                <a:lnTo>
                  <a:pt x="1311" y="428"/>
                </a:lnTo>
                <a:lnTo>
                  <a:pt x="1320" y="442"/>
                </a:lnTo>
                <a:lnTo>
                  <a:pt x="1279" y="448"/>
                </a:lnTo>
                <a:lnTo>
                  <a:pt x="1260" y="421"/>
                </a:lnTo>
                <a:lnTo>
                  <a:pt x="1246" y="411"/>
                </a:lnTo>
                <a:lnTo>
                  <a:pt x="1223" y="393"/>
                </a:lnTo>
                <a:lnTo>
                  <a:pt x="1217" y="393"/>
                </a:lnTo>
                <a:lnTo>
                  <a:pt x="1217" y="394"/>
                </a:lnTo>
                <a:lnTo>
                  <a:pt x="1225" y="408"/>
                </a:lnTo>
                <a:lnTo>
                  <a:pt x="1240" y="420"/>
                </a:lnTo>
                <a:lnTo>
                  <a:pt x="1251" y="424"/>
                </a:lnTo>
                <a:lnTo>
                  <a:pt x="1271" y="456"/>
                </a:lnTo>
                <a:lnTo>
                  <a:pt x="1308" y="462"/>
                </a:lnTo>
                <a:lnTo>
                  <a:pt x="1311" y="475"/>
                </a:lnTo>
                <a:lnTo>
                  <a:pt x="1318" y="482"/>
                </a:lnTo>
                <a:lnTo>
                  <a:pt x="1328" y="479"/>
                </a:lnTo>
                <a:lnTo>
                  <a:pt x="1339" y="515"/>
                </a:lnTo>
                <a:lnTo>
                  <a:pt x="1316" y="520"/>
                </a:lnTo>
                <a:lnTo>
                  <a:pt x="1310" y="516"/>
                </a:lnTo>
                <a:lnTo>
                  <a:pt x="1304" y="526"/>
                </a:lnTo>
                <a:lnTo>
                  <a:pt x="1321" y="551"/>
                </a:lnTo>
                <a:lnTo>
                  <a:pt x="1298" y="566"/>
                </a:lnTo>
                <a:lnTo>
                  <a:pt x="1300" y="568"/>
                </a:lnTo>
                <a:lnTo>
                  <a:pt x="1322" y="564"/>
                </a:lnTo>
                <a:lnTo>
                  <a:pt x="1323" y="58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9" name="Freeform 52"/>
          <p:cNvSpPr/>
          <p:nvPr/>
        </p:nvSpPr>
        <p:spPr>
          <a:xfrm>
            <a:off x="5846760" y="3870360"/>
            <a:ext cx="61920" cy="163440"/>
          </a:xfrm>
          <a:custGeom>
            <a:avLst/>
            <a:gdLst>
              <a:gd name="textAreaLeft" fmla="*/ 0 w 61920"/>
              <a:gd name="textAreaRight" fmla="*/ 62280 w 61920"/>
              <a:gd name="textAreaTop" fmla="*/ 0 h 163440"/>
              <a:gd name="textAreaBottom" fmla="*/ 163800 h 163440"/>
            </a:gdLst>
            <a:ahLst/>
            <a:rect l="textAreaLeft" t="textAreaTop" r="textAreaRight" b="textAreaBottom"/>
            <a:pathLst>
              <a:path w="102" h="311">
                <a:moveTo>
                  <a:pt x="0" y="175"/>
                </a:moveTo>
                <a:lnTo>
                  <a:pt x="0" y="267"/>
                </a:lnTo>
                <a:lnTo>
                  <a:pt x="22" y="311"/>
                </a:lnTo>
                <a:lnTo>
                  <a:pt x="22" y="298"/>
                </a:lnTo>
                <a:lnTo>
                  <a:pt x="28" y="297"/>
                </a:lnTo>
                <a:lnTo>
                  <a:pt x="26" y="303"/>
                </a:lnTo>
                <a:lnTo>
                  <a:pt x="44" y="259"/>
                </a:lnTo>
                <a:lnTo>
                  <a:pt x="54" y="185"/>
                </a:lnTo>
                <a:lnTo>
                  <a:pt x="65" y="74"/>
                </a:lnTo>
                <a:lnTo>
                  <a:pt x="74" y="54"/>
                </a:lnTo>
                <a:lnTo>
                  <a:pt x="86" y="56"/>
                </a:lnTo>
                <a:lnTo>
                  <a:pt x="102" y="0"/>
                </a:lnTo>
                <a:lnTo>
                  <a:pt x="73" y="13"/>
                </a:lnTo>
                <a:lnTo>
                  <a:pt x="61" y="17"/>
                </a:lnTo>
                <a:lnTo>
                  <a:pt x="34" y="29"/>
                </a:lnTo>
                <a:lnTo>
                  <a:pt x="30" y="44"/>
                </a:lnTo>
                <a:lnTo>
                  <a:pt x="16" y="63"/>
                </a:lnTo>
                <a:lnTo>
                  <a:pt x="29" y="67"/>
                </a:lnTo>
                <a:lnTo>
                  <a:pt x="2" y="151"/>
                </a:lnTo>
                <a:lnTo>
                  <a:pt x="0" y="175"/>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0" name="Freeform 53"/>
          <p:cNvSpPr/>
          <p:nvPr/>
        </p:nvSpPr>
        <p:spPr>
          <a:xfrm>
            <a:off x="5091120" y="3594240"/>
            <a:ext cx="507960" cy="552240"/>
          </a:xfrm>
          <a:custGeom>
            <a:avLst/>
            <a:gdLst>
              <a:gd name="textAreaLeft" fmla="*/ 0 w 507960"/>
              <a:gd name="textAreaRight" fmla="*/ 508320 w 507960"/>
              <a:gd name="textAreaTop" fmla="*/ 0 h 552240"/>
              <a:gd name="textAreaBottom" fmla="*/ 552600 h 552240"/>
            </a:gdLst>
            <a:ahLst/>
            <a:rect l="textAreaLeft" t="textAreaTop" r="textAreaRight" b="textAreaBottom"/>
            <a:pathLst>
              <a:path w="841" h="1056">
                <a:moveTo>
                  <a:pt x="186" y="413"/>
                </a:moveTo>
                <a:lnTo>
                  <a:pt x="199" y="400"/>
                </a:lnTo>
                <a:lnTo>
                  <a:pt x="205" y="395"/>
                </a:lnTo>
                <a:lnTo>
                  <a:pt x="226" y="371"/>
                </a:lnTo>
                <a:lnTo>
                  <a:pt x="231" y="356"/>
                </a:lnTo>
                <a:lnTo>
                  <a:pt x="237" y="342"/>
                </a:lnTo>
                <a:lnTo>
                  <a:pt x="243" y="334"/>
                </a:lnTo>
                <a:lnTo>
                  <a:pt x="252" y="320"/>
                </a:lnTo>
                <a:lnTo>
                  <a:pt x="263" y="311"/>
                </a:lnTo>
                <a:lnTo>
                  <a:pt x="267" y="281"/>
                </a:lnTo>
                <a:lnTo>
                  <a:pt x="260" y="274"/>
                </a:lnTo>
                <a:lnTo>
                  <a:pt x="264" y="243"/>
                </a:lnTo>
                <a:lnTo>
                  <a:pt x="265" y="222"/>
                </a:lnTo>
                <a:lnTo>
                  <a:pt x="273" y="206"/>
                </a:lnTo>
                <a:lnTo>
                  <a:pt x="273" y="186"/>
                </a:lnTo>
                <a:lnTo>
                  <a:pt x="273" y="158"/>
                </a:lnTo>
                <a:lnTo>
                  <a:pt x="273" y="148"/>
                </a:lnTo>
                <a:lnTo>
                  <a:pt x="275" y="139"/>
                </a:lnTo>
                <a:lnTo>
                  <a:pt x="282" y="115"/>
                </a:lnTo>
                <a:lnTo>
                  <a:pt x="280" y="81"/>
                </a:lnTo>
                <a:lnTo>
                  <a:pt x="275" y="76"/>
                </a:lnTo>
                <a:lnTo>
                  <a:pt x="276" y="74"/>
                </a:lnTo>
                <a:lnTo>
                  <a:pt x="274" y="44"/>
                </a:lnTo>
                <a:lnTo>
                  <a:pt x="261" y="22"/>
                </a:lnTo>
                <a:lnTo>
                  <a:pt x="267" y="9"/>
                </a:lnTo>
                <a:lnTo>
                  <a:pt x="279" y="5"/>
                </a:lnTo>
                <a:lnTo>
                  <a:pt x="285" y="0"/>
                </a:lnTo>
                <a:lnTo>
                  <a:pt x="285" y="3"/>
                </a:lnTo>
                <a:lnTo>
                  <a:pt x="288" y="13"/>
                </a:lnTo>
                <a:lnTo>
                  <a:pt x="292" y="47"/>
                </a:lnTo>
                <a:lnTo>
                  <a:pt x="292" y="53"/>
                </a:lnTo>
                <a:lnTo>
                  <a:pt x="293" y="61"/>
                </a:lnTo>
                <a:lnTo>
                  <a:pt x="295" y="70"/>
                </a:lnTo>
                <a:lnTo>
                  <a:pt x="301" y="114"/>
                </a:lnTo>
                <a:lnTo>
                  <a:pt x="301" y="120"/>
                </a:lnTo>
                <a:lnTo>
                  <a:pt x="305" y="141"/>
                </a:lnTo>
                <a:lnTo>
                  <a:pt x="306" y="145"/>
                </a:lnTo>
                <a:lnTo>
                  <a:pt x="309" y="169"/>
                </a:lnTo>
                <a:lnTo>
                  <a:pt x="311" y="182"/>
                </a:lnTo>
                <a:lnTo>
                  <a:pt x="312" y="188"/>
                </a:lnTo>
                <a:lnTo>
                  <a:pt x="313" y="199"/>
                </a:lnTo>
                <a:lnTo>
                  <a:pt x="322" y="261"/>
                </a:lnTo>
                <a:lnTo>
                  <a:pt x="322" y="264"/>
                </a:lnTo>
                <a:lnTo>
                  <a:pt x="323" y="270"/>
                </a:lnTo>
                <a:lnTo>
                  <a:pt x="327" y="268"/>
                </a:lnTo>
                <a:lnTo>
                  <a:pt x="340" y="266"/>
                </a:lnTo>
                <a:lnTo>
                  <a:pt x="346" y="264"/>
                </a:lnTo>
                <a:lnTo>
                  <a:pt x="348" y="264"/>
                </a:lnTo>
                <a:lnTo>
                  <a:pt x="431" y="246"/>
                </a:lnTo>
                <a:lnTo>
                  <a:pt x="439" y="244"/>
                </a:lnTo>
                <a:lnTo>
                  <a:pt x="449" y="241"/>
                </a:lnTo>
                <a:lnTo>
                  <a:pt x="458" y="240"/>
                </a:lnTo>
                <a:lnTo>
                  <a:pt x="490" y="233"/>
                </a:lnTo>
                <a:lnTo>
                  <a:pt x="496" y="232"/>
                </a:lnTo>
                <a:lnTo>
                  <a:pt x="509" y="229"/>
                </a:lnTo>
                <a:lnTo>
                  <a:pt x="516" y="284"/>
                </a:lnTo>
                <a:lnTo>
                  <a:pt x="530" y="380"/>
                </a:lnTo>
                <a:lnTo>
                  <a:pt x="532" y="380"/>
                </a:lnTo>
                <a:lnTo>
                  <a:pt x="546" y="355"/>
                </a:lnTo>
                <a:lnTo>
                  <a:pt x="563" y="335"/>
                </a:lnTo>
                <a:lnTo>
                  <a:pt x="565" y="327"/>
                </a:lnTo>
                <a:lnTo>
                  <a:pt x="572" y="318"/>
                </a:lnTo>
                <a:lnTo>
                  <a:pt x="593" y="281"/>
                </a:lnTo>
                <a:lnTo>
                  <a:pt x="605" y="285"/>
                </a:lnTo>
                <a:lnTo>
                  <a:pt x="634" y="227"/>
                </a:lnTo>
                <a:lnTo>
                  <a:pt x="664" y="249"/>
                </a:lnTo>
                <a:lnTo>
                  <a:pt x="669" y="246"/>
                </a:lnTo>
                <a:lnTo>
                  <a:pt x="692" y="246"/>
                </a:lnTo>
                <a:lnTo>
                  <a:pt x="698" y="246"/>
                </a:lnTo>
                <a:lnTo>
                  <a:pt x="711" y="215"/>
                </a:lnTo>
                <a:lnTo>
                  <a:pt x="709" y="209"/>
                </a:lnTo>
                <a:lnTo>
                  <a:pt x="716" y="205"/>
                </a:lnTo>
                <a:lnTo>
                  <a:pt x="730" y="205"/>
                </a:lnTo>
                <a:lnTo>
                  <a:pt x="752" y="181"/>
                </a:lnTo>
                <a:lnTo>
                  <a:pt x="772" y="196"/>
                </a:lnTo>
                <a:lnTo>
                  <a:pt x="777" y="200"/>
                </a:lnTo>
                <a:lnTo>
                  <a:pt x="799" y="190"/>
                </a:lnTo>
                <a:lnTo>
                  <a:pt x="814" y="224"/>
                </a:lnTo>
                <a:lnTo>
                  <a:pt x="831" y="244"/>
                </a:lnTo>
                <a:lnTo>
                  <a:pt x="835" y="268"/>
                </a:lnTo>
                <a:lnTo>
                  <a:pt x="841" y="270"/>
                </a:lnTo>
                <a:lnTo>
                  <a:pt x="838" y="278"/>
                </a:lnTo>
                <a:lnTo>
                  <a:pt x="835" y="293"/>
                </a:lnTo>
                <a:lnTo>
                  <a:pt x="831" y="331"/>
                </a:lnTo>
                <a:lnTo>
                  <a:pt x="794" y="305"/>
                </a:lnTo>
                <a:lnTo>
                  <a:pt x="792" y="304"/>
                </a:lnTo>
                <a:lnTo>
                  <a:pt x="787" y="301"/>
                </a:lnTo>
                <a:lnTo>
                  <a:pt x="768" y="287"/>
                </a:lnTo>
                <a:lnTo>
                  <a:pt x="761" y="283"/>
                </a:lnTo>
                <a:lnTo>
                  <a:pt x="746" y="273"/>
                </a:lnTo>
                <a:lnTo>
                  <a:pt x="739" y="267"/>
                </a:lnTo>
                <a:lnTo>
                  <a:pt x="733" y="264"/>
                </a:lnTo>
                <a:lnTo>
                  <a:pt x="722" y="256"/>
                </a:lnTo>
                <a:lnTo>
                  <a:pt x="724" y="304"/>
                </a:lnTo>
                <a:lnTo>
                  <a:pt x="720" y="359"/>
                </a:lnTo>
                <a:lnTo>
                  <a:pt x="711" y="373"/>
                </a:lnTo>
                <a:lnTo>
                  <a:pt x="706" y="383"/>
                </a:lnTo>
                <a:lnTo>
                  <a:pt x="703" y="402"/>
                </a:lnTo>
                <a:lnTo>
                  <a:pt x="675" y="434"/>
                </a:lnTo>
                <a:lnTo>
                  <a:pt x="660" y="484"/>
                </a:lnTo>
                <a:lnTo>
                  <a:pt x="634" y="464"/>
                </a:lnTo>
                <a:lnTo>
                  <a:pt x="634" y="467"/>
                </a:lnTo>
                <a:lnTo>
                  <a:pt x="626" y="493"/>
                </a:lnTo>
                <a:lnTo>
                  <a:pt x="610" y="572"/>
                </a:lnTo>
                <a:lnTo>
                  <a:pt x="611" y="576"/>
                </a:lnTo>
                <a:lnTo>
                  <a:pt x="609" y="583"/>
                </a:lnTo>
                <a:lnTo>
                  <a:pt x="605" y="590"/>
                </a:lnTo>
                <a:lnTo>
                  <a:pt x="596" y="606"/>
                </a:lnTo>
                <a:lnTo>
                  <a:pt x="564" y="599"/>
                </a:lnTo>
                <a:lnTo>
                  <a:pt x="543" y="572"/>
                </a:lnTo>
                <a:lnTo>
                  <a:pt x="528" y="568"/>
                </a:lnTo>
                <a:lnTo>
                  <a:pt x="522" y="634"/>
                </a:lnTo>
                <a:lnTo>
                  <a:pt x="519" y="640"/>
                </a:lnTo>
                <a:lnTo>
                  <a:pt x="515" y="668"/>
                </a:lnTo>
                <a:lnTo>
                  <a:pt x="503" y="688"/>
                </a:lnTo>
                <a:lnTo>
                  <a:pt x="495" y="717"/>
                </a:lnTo>
                <a:lnTo>
                  <a:pt x="493" y="735"/>
                </a:lnTo>
                <a:lnTo>
                  <a:pt x="489" y="755"/>
                </a:lnTo>
                <a:lnTo>
                  <a:pt x="489" y="756"/>
                </a:lnTo>
                <a:lnTo>
                  <a:pt x="481" y="772"/>
                </a:lnTo>
                <a:lnTo>
                  <a:pt x="465" y="799"/>
                </a:lnTo>
                <a:lnTo>
                  <a:pt x="456" y="830"/>
                </a:lnTo>
                <a:lnTo>
                  <a:pt x="445" y="860"/>
                </a:lnTo>
                <a:lnTo>
                  <a:pt x="452" y="867"/>
                </a:lnTo>
                <a:lnTo>
                  <a:pt x="458" y="871"/>
                </a:lnTo>
                <a:lnTo>
                  <a:pt x="464" y="874"/>
                </a:lnTo>
                <a:lnTo>
                  <a:pt x="460" y="883"/>
                </a:lnTo>
                <a:lnTo>
                  <a:pt x="452" y="915"/>
                </a:lnTo>
                <a:lnTo>
                  <a:pt x="426" y="944"/>
                </a:lnTo>
                <a:lnTo>
                  <a:pt x="420" y="932"/>
                </a:lnTo>
                <a:lnTo>
                  <a:pt x="373" y="971"/>
                </a:lnTo>
                <a:lnTo>
                  <a:pt x="355" y="958"/>
                </a:lnTo>
                <a:lnTo>
                  <a:pt x="353" y="972"/>
                </a:lnTo>
                <a:lnTo>
                  <a:pt x="361" y="982"/>
                </a:lnTo>
                <a:lnTo>
                  <a:pt x="338" y="1003"/>
                </a:lnTo>
                <a:lnTo>
                  <a:pt x="338" y="1000"/>
                </a:lnTo>
                <a:lnTo>
                  <a:pt x="313" y="1013"/>
                </a:lnTo>
                <a:lnTo>
                  <a:pt x="296" y="1029"/>
                </a:lnTo>
                <a:lnTo>
                  <a:pt x="291" y="1026"/>
                </a:lnTo>
                <a:lnTo>
                  <a:pt x="275" y="1014"/>
                </a:lnTo>
                <a:lnTo>
                  <a:pt x="266" y="1005"/>
                </a:lnTo>
                <a:lnTo>
                  <a:pt x="253" y="1027"/>
                </a:lnTo>
                <a:lnTo>
                  <a:pt x="213" y="1056"/>
                </a:lnTo>
                <a:lnTo>
                  <a:pt x="201" y="1047"/>
                </a:lnTo>
                <a:lnTo>
                  <a:pt x="160" y="1014"/>
                </a:lnTo>
                <a:lnTo>
                  <a:pt x="151" y="978"/>
                </a:lnTo>
                <a:lnTo>
                  <a:pt x="155" y="973"/>
                </a:lnTo>
                <a:lnTo>
                  <a:pt x="147" y="968"/>
                </a:lnTo>
                <a:lnTo>
                  <a:pt x="117" y="969"/>
                </a:lnTo>
                <a:lnTo>
                  <a:pt x="116" y="961"/>
                </a:lnTo>
                <a:lnTo>
                  <a:pt x="72" y="921"/>
                </a:lnTo>
                <a:lnTo>
                  <a:pt x="73" y="918"/>
                </a:lnTo>
                <a:lnTo>
                  <a:pt x="63" y="904"/>
                </a:lnTo>
                <a:lnTo>
                  <a:pt x="52" y="890"/>
                </a:lnTo>
                <a:lnTo>
                  <a:pt x="51" y="884"/>
                </a:lnTo>
                <a:lnTo>
                  <a:pt x="34" y="871"/>
                </a:lnTo>
                <a:lnTo>
                  <a:pt x="34" y="866"/>
                </a:lnTo>
                <a:lnTo>
                  <a:pt x="34" y="850"/>
                </a:lnTo>
                <a:lnTo>
                  <a:pt x="4" y="814"/>
                </a:lnTo>
                <a:lnTo>
                  <a:pt x="4" y="780"/>
                </a:lnTo>
                <a:lnTo>
                  <a:pt x="8" y="779"/>
                </a:lnTo>
                <a:lnTo>
                  <a:pt x="1" y="742"/>
                </a:lnTo>
                <a:lnTo>
                  <a:pt x="0" y="728"/>
                </a:lnTo>
                <a:lnTo>
                  <a:pt x="17" y="728"/>
                </a:lnTo>
                <a:lnTo>
                  <a:pt x="39" y="717"/>
                </a:lnTo>
                <a:lnTo>
                  <a:pt x="49" y="695"/>
                </a:lnTo>
                <a:lnTo>
                  <a:pt x="49" y="670"/>
                </a:lnTo>
                <a:lnTo>
                  <a:pt x="55" y="664"/>
                </a:lnTo>
                <a:lnTo>
                  <a:pt x="56" y="664"/>
                </a:lnTo>
                <a:lnTo>
                  <a:pt x="61" y="666"/>
                </a:lnTo>
                <a:lnTo>
                  <a:pt x="68" y="654"/>
                </a:lnTo>
                <a:lnTo>
                  <a:pt x="60" y="617"/>
                </a:lnTo>
                <a:lnTo>
                  <a:pt x="69" y="552"/>
                </a:lnTo>
                <a:lnTo>
                  <a:pt x="77" y="538"/>
                </a:lnTo>
                <a:lnTo>
                  <a:pt x="84" y="529"/>
                </a:lnTo>
                <a:lnTo>
                  <a:pt x="107" y="569"/>
                </a:lnTo>
                <a:lnTo>
                  <a:pt x="113" y="568"/>
                </a:lnTo>
                <a:lnTo>
                  <a:pt x="123" y="548"/>
                </a:lnTo>
                <a:lnTo>
                  <a:pt x="128" y="500"/>
                </a:lnTo>
                <a:lnTo>
                  <a:pt x="127" y="491"/>
                </a:lnTo>
                <a:lnTo>
                  <a:pt x="124" y="481"/>
                </a:lnTo>
                <a:lnTo>
                  <a:pt x="123" y="476"/>
                </a:lnTo>
                <a:lnTo>
                  <a:pt x="123" y="473"/>
                </a:lnTo>
                <a:lnTo>
                  <a:pt x="127" y="463"/>
                </a:lnTo>
                <a:lnTo>
                  <a:pt x="131" y="453"/>
                </a:lnTo>
                <a:lnTo>
                  <a:pt x="153" y="441"/>
                </a:lnTo>
                <a:lnTo>
                  <a:pt x="161" y="409"/>
                </a:lnTo>
                <a:lnTo>
                  <a:pt x="186" y="41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1" name="Freeform 54"/>
          <p:cNvSpPr/>
          <p:nvPr/>
        </p:nvSpPr>
        <p:spPr>
          <a:xfrm>
            <a:off x="4487760" y="3494160"/>
            <a:ext cx="352440" cy="658800"/>
          </a:xfrm>
          <a:custGeom>
            <a:avLst/>
            <a:gdLst>
              <a:gd name="textAreaLeft" fmla="*/ 0 w 352440"/>
              <a:gd name="textAreaRight" fmla="*/ 352800 w 352440"/>
              <a:gd name="textAreaTop" fmla="*/ 0 h 658800"/>
              <a:gd name="textAreaBottom" fmla="*/ 659160 h 658800"/>
            </a:gdLst>
            <a:ahLst/>
            <a:rect l="textAreaLeft" t="textAreaTop" r="textAreaRight" b="textAreaBottom"/>
            <a:pathLst>
              <a:path w="580" h="1256">
                <a:moveTo>
                  <a:pt x="523" y="350"/>
                </a:moveTo>
                <a:lnTo>
                  <a:pt x="525" y="373"/>
                </a:lnTo>
                <a:lnTo>
                  <a:pt x="527" y="398"/>
                </a:lnTo>
                <a:lnTo>
                  <a:pt x="530" y="415"/>
                </a:lnTo>
                <a:lnTo>
                  <a:pt x="531" y="428"/>
                </a:lnTo>
                <a:lnTo>
                  <a:pt x="533" y="447"/>
                </a:lnTo>
                <a:lnTo>
                  <a:pt x="536" y="483"/>
                </a:lnTo>
                <a:lnTo>
                  <a:pt x="540" y="519"/>
                </a:lnTo>
                <a:lnTo>
                  <a:pt x="540" y="520"/>
                </a:lnTo>
                <a:lnTo>
                  <a:pt x="542" y="544"/>
                </a:lnTo>
                <a:lnTo>
                  <a:pt x="543" y="557"/>
                </a:lnTo>
                <a:lnTo>
                  <a:pt x="544" y="573"/>
                </a:lnTo>
                <a:lnTo>
                  <a:pt x="548" y="601"/>
                </a:lnTo>
                <a:lnTo>
                  <a:pt x="551" y="637"/>
                </a:lnTo>
                <a:lnTo>
                  <a:pt x="551" y="641"/>
                </a:lnTo>
                <a:lnTo>
                  <a:pt x="552" y="648"/>
                </a:lnTo>
                <a:lnTo>
                  <a:pt x="554" y="662"/>
                </a:lnTo>
                <a:lnTo>
                  <a:pt x="555" y="668"/>
                </a:lnTo>
                <a:lnTo>
                  <a:pt x="555" y="679"/>
                </a:lnTo>
                <a:lnTo>
                  <a:pt x="559" y="726"/>
                </a:lnTo>
                <a:lnTo>
                  <a:pt x="564" y="764"/>
                </a:lnTo>
                <a:lnTo>
                  <a:pt x="565" y="780"/>
                </a:lnTo>
                <a:lnTo>
                  <a:pt x="566" y="785"/>
                </a:lnTo>
                <a:lnTo>
                  <a:pt x="557" y="797"/>
                </a:lnTo>
                <a:lnTo>
                  <a:pt x="558" y="810"/>
                </a:lnTo>
                <a:lnTo>
                  <a:pt x="564" y="817"/>
                </a:lnTo>
                <a:lnTo>
                  <a:pt x="562" y="841"/>
                </a:lnTo>
                <a:lnTo>
                  <a:pt x="563" y="848"/>
                </a:lnTo>
                <a:lnTo>
                  <a:pt x="580" y="852"/>
                </a:lnTo>
                <a:lnTo>
                  <a:pt x="578" y="858"/>
                </a:lnTo>
                <a:lnTo>
                  <a:pt x="565" y="881"/>
                </a:lnTo>
                <a:lnTo>
                  <a:pt x="543" y="889"/>
                </a:lnTo>
                <a:lnTo>
                  <a:pt x="540" y="893"/>
                </a:lnTo>
                <a:lnTo>
                  <a:pt x="534" y="899"/>
                </a:lnTo>
                <a:lnTo>
                  <a:pt x="523" y="912"/>
                </a:lnTo>
                <a:lnTo>
                  <a:pt x="509" y="919"/>
                </a:lnTo>
                <a:lnTo>
                  <a:pt x="499" y="907"/>
                </a:lnTo>
                <a:lnTo>
                  <a:pt x="498" y="907"/>
                </a:lnTo>
                <a:lnTo>
                  <a:pt x="484" y="910"/>
                </a:lnTo>
                <a:lnTo>
                  <a:pt x="476" y="912"/>
                </a:lnTo>
                <a:lnTo>
                  <a:pt x="468" y="946"/>
                </a:lnTo>
                <a:lnTo>
                  <a:pt x="471" y="957"/>
                </a:lnTo>
                <a:lnTo>
                  <a:pt x="472" y="976"/>
                </a:lnTo>
                <a:lnTo>
                  <a:pt x="462" y="993"/>
                </a:lnTo>
                <a:lnTo>
                  <a:pt x="440" y="1014"/>
                </a:lnTo>
                <a:lnTo>
                  <a:pt x="439" y="1024"/>
                </a:lnTo>
                <a:lnTo>
                  <a:pt x="421" y="1061"/>
                </a:lnTo>
                <a:lnTo>
                  <a:pt x="419" y="1058"/>
                </a:lnTo>
                <a:lnTo>
                  <a:pt x="413" y="1055"/>
                </a:lnTo>
                <a:lnTo>
                  <a:pt x="406" y="1068"/>
                </a:lnTo>
                <a:lnTo>
                  <a:pt x="397" y="1090"/>
                </a:lnTo>
                <a:lnTo>
                  <a:pt x="397" y="1106"/>
                </a:lnTo>
                <a:lnTo>
                  <a:pt x="397" y="1107"/>
                </a:lnTo>
                <a:lnTo>
                  <a:pt x="392" y="1144"/>
                </a:lnTo>
                <a:lnTo>
                  <a:pt x="384" y="1147"/>
                </a:lnTo>
                <a:lnTo>
                  <a:pt x="383" y="1147"/>
                </a:lnTo>
                <a:lnTo>
                  <a:pt x="336" y="1140"/>
                </a:lnTo>
                <a:lnTo>
                  <a:pt x="330" y="1117"/>
                </a:lnTo>
                <a:lnTo>
                  <a:pt x="318" y="1102"/>
                </a:lnTo>
                <a:lnTo>
                  <a:pt x="309" y="1099"/>
                </a:lnTo>
                <a:lnTo>
                  <a:pt x="310" y="1117"/>
                </a:lnTo>
                <a:lnTo>
                  <a:pt x="295" y="1123"/>
                </a:lnTo>
                <a:lnTo>
                  <a:pt x="294" y="1126"/>
                </a:lnTo>
                <a:lnTo>
                  <a:pt x="295" y="1130"/>
                </a:lnTo>
                <a:lnTo>
                  <a:pt x="292" y="1146"/>
                </a:lnTo>
                <a:lnTo>
                  <a:pt x="287" y="1147"/>
                </a:lnTo>
                <a:lnTo>
                  <a:pt x="276" y="1200"/>
                </a:lnTo>
                <a:lnTo>
                  <a:pt x="267" y="1211"/>
                </a:lnTo>
                <a:lnTo>
                  <a:pt x="266" y="1201"/>
                </a:lnTo>
                <a:lnTo>
                  <a:pt x="247" y="1193"/>
                </a:lnTo>
                <a:lnTo>
                  <a:pt x="234" y="1168"/>
                </a:lnTo>
                <a:lnTo>
                  <a:pt x="223" y="1177"/>
                </a:lnTo>
                <a:lnTo>
                  <a:pt x="205" y="1193"/>
                </a:lnTo>
                <a:lnTo>
                  <a:pt x="202" y="1195"/>
                </a:lnTo>
                <a:lnTo>
                  <a:pt x="182" y="1239"/>
                </a:lnTo>
                <a:lnTo>
                  <a:pt x="152" y="1215"/>
                </a:lnTo>
                <a:lnTo>
                  <a:pt x="145" y="1211"/>
                </a:lnTo>
                <a:lnTo>
                  <a:pt x="129" y="1201"/>
                </a:lnTo>
                <a:lnTo>
                  <a:pt x="127" y="1200"/>
                </a:lnTo>
                <a:lnTo>
                  <a:pt x="118" y="1201"/>
                </a:lnTo>
                <a:lnTo>
                  <a:pt x="86" y="1210"/>
                </a:lnTo>
                <a:lnTo>
                  <a:pt x="88" y="1239"/>
                </a:lnTo>
                <a:lnTo>
                  <a:pt x="72" y="1219"/>
                </a:lnTo>
                <a:lnTo>
                  <a:pt x="63" y="1222"/>
                </a:lnTo>
                <a:lnTo>
                  <a:pt x="39" y="1217"/>
                </a:lnTo>
                <a:lnTo>
                  <a:pt x="30" y="1224"/>
                </a:lnTo>
                <a:lnTo>
                  <a:pt x="29" y="1234"/>
                </a:lnTo>
                <a:lnTo>
                  <a:pt x="20" y="1256"/>
                </a:lnTo>
                <a:lnTo>
                  <a:pt x="14" y="1256"/>
                </a:lnTo>
                <a:lnTo>
                  <a:pt x="4" y="1235"/>
                </a:lnTo>
                <a:lnTo>
                  <a:pt x="0" y="1231"/>
                </a:lnTo>
                <a:lnTo>
                  <a:pt x="14" y="1181"/>
                </a:lnTo>
                <a:lnTo>
                  <a:pt x="16" y="1159"/>
                </a:lnTo>
                <a:lnTo>
                  <a:pt x="13" y="1127"/>
                </a:lnTo>
                <a:lnTo>
                  <a:pt x="12" y="1122"/>
                </a:lnTo>
                <a:lnTo>
                  <a:pt x="11" y="1120"/>
                </a:lnTo>
                <a:lnTo>
                  <a:pt x="16" y="1122"/>
                </a:lnTo>
                <a:lnTo>
                  <a:pt x="46" y="1082"/>
                </a:lnTo>
                <a:lnTo>
                  <a:pt x="52" y="1068"/>
                </a:lnTo>
                <a:lnTo>
                  <a:pt x="49" y="1051"/>
                </a:lnTo>
                <a:lnTo>
                  <a:pt x="62" y="1041"/>
                </a:lnTo>
                <a:lnTo>
                  <a:pt x="65" y="1020"/>
                </a:lnTo>
                <a:lnTo>
                  <a:pt x="70" y="1014"/>
                </a:lnTo>
                <a:lnTo>
                  <a:pt x="88" y="966"/>
                </a:lnTo>
                <a:lnTo>
                  <a:pt x="80" y="932"/>
                </a:lnTo>
                <a:lnTo>
                  <a:pt x="77" y="926"/>
                </a:lnTo>
                <a:lnTo>
                  <a:pt x="77" y="922"/>
                </a:lnTo>
                <a:lnTo>
                  <a:pt x="80" y="917"/>
                </a:lnTo>
                <a:lnTo>
                  <a:pt x="68" y="890"/>
                </a:lnTo>
                <a:lnTo>
                  <a:pt x="56" y="859"/>
                </a:lnTo>
                <a:lnTo>
                  <a:pt x="55" y="844"/>
                </a:lnTo>
                <a:lnTo>
                  <a:pt x="62" y="814"/>
                </a:lnTo>
                <a:lnTo>
                  <a:pt x="59" y="815"/>
                </a:lnTo>
                <a:lnTo>
                  <a:pt x="56" y="812"/>
                </a:lnTo>
                <a:lnTo>
                  <a:pt x="68" y="784"/>
                </a:lnTo>
                <a:lnTo>
                  <a:pt x="68" y="785"/>
                </a:lnTo>
                <a:lnTo>
                  <a:pt x="64" y="746"/>
                </a:lnTo>
                <a:lnTo>
                  <a:pt x="64" y="740"/>
                </a:lnTo>
                <a:lnTo>
                  <a:pt x="61" y="707"/>
                </a:lnTo>
                <a:lnTo>
                  <a:pt x="59" y="682"/>
                </a:lnTo>
                <a:lnTo>
                  <a:pt x="56" y="648"/>
                </a:lnTo>
                <a:lnTo>
                  <a:pt x="54" y="627"/>
                </a:lnTo>
                <a:lnTo>
                  <a:pt x="49" y="573"/>
                </a:lnTo>
                <a:lnTo>
                  <a:pt x="48" y="554"/>
                </a:lnTo>
                <a:lnTo>
                  <a:pt x="48" y="547"/>
                </a:lnTo>
                <a:lnTo>
                  <a:pt x="44" y="498"/>
                </a:lnTo>
                <a:lnTo>
                  <a:pt x="43" y="472"/>
                </a:lnTo>
                <a:lnTo>
                  <a:pt x="40" y="449"/>
                </a:lnTo>
                <a:lnTo>
                  <a:pt x="40" y="445"/>
                </a:lnTo>
                <a:lnTo>
                  <a:pt x="38" y="422"/>
                </a:lnTo>
                <a:lnTo>
                  <a:pt x="37" y="405"/>
                </a:lnTo>
                <a:lnTo>
                  <a:pt x="35" y="373"/>
                </a:lnTo>
                <a:lnTo>
                  <a:pt x="29" y="310"/>
                </a:lnTo>
                <a:lnTo>
                  <a:pt x="28" y="295"/>
                </a:lnTo>
                <a:lnTo>
                  <a:pt x="28" y="292"/>
                </a:lnTo>
                <a:lnTo>
                  <a:pt x="25" y="269"/>
                </a:lnTo>
                <a:lnTo>
                  <a:pt x="24" y="258"/>
                </a:lnTo>
                <a:lnTo>
                  <a:pt x="23" y="245"/>
                </a:lnTo>
                <a:lnTo>
                  <a:pt x="21" y="221"/>
                </a:lnTo>
                <a:lnTo>
                  <a:pt x="21" y="212"/>
                </a:lnTo>
                <a:lnTo>
                  <a:pt x="20" y="205"/>
                </a:lnTo>
                <a:lnTo>
                  <a:pt x="20" y="195"/>
                </a:lnTo>
                <a:lnTo>
                  <a:pt x="19" y="183"/>
                </a:lnTo>
                <a:lnTo>
                  <a:pt x="16" y="156"/>
                </a:lnTo>
                <a:lnTo>
                  <a:pt x="15" y="137"/>
                </a:lnTo>
                <a:lnTo>
                  <a:pt x="14" y="129"/>
                </a:lnTo>
                <a:lnTo>
                  <a:pt x="11" y="83"/>
                </a:lnTo>
                <a:lnTo>
                  <a:pt x="12" y="85"/>
                </a:lnTo>
                <a:lnTo>
                  <a:pt x="39" y="103"/>
                </a:lnTo>
                <a:lnTo>
                  <a:pt x="65" y="102"/>
                </a:lnTo>
                <a:lnTo>
                  <a:pt x="72" y="99"/>
                </a:lnTo>
                <a:lnTo>
                  <a:pt x="76" y="98"/>
                </a:lnTo>
                <a:lnTo>
                  <a:pt x="115" y="71"/>
                </a:lnTo>
                <a:lnTo>
                  <a:pt x="121" y="62"/>
                </a:lnTo>
                <a:lnTo>
                  <a:pt x="123" y="62"/>
                </a:lnTo>
                <a:lnTo>
                  <a:pt x="132" y="52"/>
                </a:lnTo>
                <a:lnTo>
                  <a:pt x="145" y="51"/>
                </a:lnTo>
                <a:lnTo>
                  <a:pt x="167" y="48"/>
                </a:lnTo>
                <a:lnTo>
                  <a:pt x="184" y="45"/>
                </a:lnTo>
                <a:lnTo>
                  <a:pt x="211" y="42"/>
                </a:lnTo>
                <a:lnTo>
                  <a:pt x="232" y="38"/>
                </a:lnTo>
                <a:lnTo>
                  <a:pt x="237" y="38"/>
                </a:lnTo>
                <a:lnTo>
                  <a:pt x="266" y="34"/>
                </a:lnTo>
                <a:lnTo>
                  <a:pt x="277" y="32"/>
                </a:lnTo>
                <a:lnTo>
                  <a:pt x="319" y="27"/>
                </a:lnTo>
                <a:lnTo>
                  <a:pt x="320" y="27"/>
                </a:lnTo>
                <a:lnTo>
                  <a:pt x="336" y="24"/>
                </a:lnTo>
                <a:lnTo>
                  <a:pt x="364" y="20"/>
                </a:lnTo>
                <a:lnTo>
                  <a:pt x="386" y="15"/>
                </a:lnTo>
                <a:lnTo>
                  <a:pt x="400" y="14"/>
                </a:lnTo>
                <a:lnTo>
                  <a:pt x="407" y="13"/>
                </a:lnTo>
                <a:lnTo>
                  <a:pt x="412" y="11"/>
                </a:lnTo>
                <a:lnTo>
                  <a:pt x="418" y="11"/>
                </a:lnTo>
                <a:lnTo>
                  <a:pt x="430" y="8"/>
                </a:lnTo>
                <a:lnTo>
                  <a:pt x="452" y="5"/>
                </a:lnTo>
                <a:lnTo>
                  <a:pt x="483" y="0"/>
                </a:lnTo>
                <a:lnTo>
                  <a:pt x="485" y="0"/>
                </a:lnTo>
                <a:lnTo>
                  <a:pt x="487" y="18"/>
                </a:lnTo>
                <a:lnTo>
                  <a:pt x="493" y="68"/>
                </a:lnTo>
                <a:lnTo>
                  <a:pt x="496" y="99"/>
                </a:lnTo>
                <a:lnTo>
                  <a:pt x="498" y="113"/>
                </a:lnTo>
                <a:lnTo>
                  <a:pt x="499" y="117"/>
                </a:lnTo>
                <a:lnTo>
                  <a:pt x="501" y="144"/>
                </a:lnTo>
                <a:lnTo>
                  <a:pt x="502" y="150"/>
                </a:lnTo>
                <a:lnTo>
                  <a:pt x="506" y="187"/>
                </a:lnTo>
                <a:lnTo>
                  <a:pt x="510" y="224"/>
                </a:lnTo>
                <a:lnTo>
                  <a:pt x="510" y="228"/>
                </a:lnTo>
                <a:lnTo>
                  <a:pt x="512" y="247"/>
                </a:lnTo>
                <a:lnTo>
                  <a:pt x="514" y="261"/>
                </a:lnTo>
                <a:lnTo>
                  <a:pt x="518" y="298"/>
                </a:lnTo>
                <a:lnTo>
                  <a:pt x="518" y="305"/>
                </a:lnTo>
                <a:lnTo>
                  <a:pt x="522" y="334"/>
                </a:lnTo>
                <a:lnTo>
                  <a:pt x="523" y="35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2" name="Freeform 55"/>
          <p:cNvSpPr/>
          <p:nvPr/>
        </p:nvSpPr>
        <p:spPr>
          <a:xfrm>
            <a:off x="4564080" y="2874960"/>
            <a:ext cx="444600" cy="646200"/>
          </a:xfrm>
          <a:custGeom>
            <a:avLst/>
            <a:gdLst>
              <a:gd name="textAreaLeft" fmla="*/ 0 w 444600"/>
              <a:gd name="textAreaRight" fmla="*/ 444960 w 444600"/>
              <a:gd name="textAreaTop" fmla="*/ 0 h 646200"/>
              <a:gd name="textAreaBottom" fmla="*/ 646560 h 646200"/>
            </a:gdLst>
            <a:ahLst/>
            <a:rect l="textAreaLeft" t="textAreaTop" r="textAreaRight" b="textAreaBottom"/>
            <a:pathLst>
              <a:path w="733" h="1237">
                <a:moveTo>
                  <a:pt x="525" y="332"/>
                </a:moveTo>
                <a:lnTo>
                  <a:pt x="502" y="408"/>
                </a:lnTo>
                <a:lnTo>
                  <a:pt x="496" y="416"/>
                </a:lnTo>
                <a:lnTo>
                  <a:pt x="495" y="442"/>
                </a:lnTo>
                <a:lnTo>
                  <a:pt x="495" y="453"/>
                </a:lnTo>
                <a:lnTo>
                  <a:pt x="488" y="476"/>
                </a:lnTo>
                <a:lnTo>
                  <a:pt x="468" y="500"/>
                </a:lnTo>
                <a:lnTo>
                  <a:pt x="448" y="511"/>
                </a:lnTo>
                <a:lnTo>
                  <a:pt x="446" y="527"/>
                </a:lnTo>
                <a:lnTo>
                  <a:pt x="445" y="578"/>
                </a:lnTo>
                <a:lnTo>
                  <a:pt x="460" y="600"/>
                </a:lnTo>
                <a:lnTo>
                  <a:pt x="492" y="613"/>
                </a:lnTo>
                <a:lnTo>
                  <a:pt x="501" y="602"/>
                </a:lnTo>
                <a:lnTo>
                  <a:pt x="521" y="572"/>
                </a:lnTo>
                <a:lnTo>
                  <a:pt x="526" y="566"/>
                </a:lnTo>
                <a:lnTo>
                  <a:pt x="536" y="527"/>
                </a:lnTo>
                <a:lnTo>
                  <a:pt x="544" y="518"/>
                </a:lnTo>
                <a:lnTo>
                  <a:pt x="533" y="510"/>
                </a:lnTo>
                <a:lnTo>
                  <a:pt x="549" y="501"/>
                </a:lnTo>
                <a:lnTo>
                  <a:pt x="554" y="487"/>
                </a:lnTo>
                <a:lnTo>
                  <a:pt x="575" y="477"/>
                </a:lnTo>
                <a:lnTo>
                  <a:pt x="598" y="450"/>
                </a:lnTo>
                <a:lnTo>
                  <a:pt x="608" y="449"/>
                </a:lnTo>
                <a:lnTo>
                  <a:pt x="637" y="464"/>
                </a:lnTo>
                <a:lnTo>
                  <a:pt x="657" y="498"/>
                </a:lnTo>
                <a:lnTo>
                  <a:pt x="673" y="551"/>
                </a:lnTo>
                <a:lnTo>
                  <a:pt x="697" y="640"/>
                </a:lnTo>
                <a:lnTo>
                  <a:pt x="703" y="677"/>
                </a:lnTo>
                <a:lnTo>
                  <a:pt x="710" y="700"/>
                </a:lnTo>
                <a:lnTo>
                  <a:pt x="733" y="754"/>
                </a:lnTo>
                <a:lnTo>
                  <a:pt x="728" y="856"/>
                </a:lnTo>
                <a:lnTo>
                  <a:pt x="703" y="897"/>
                </a:lnTo>
                <a:lnTo>
                  <a:pt x="700" y="866"/>
                </a:lnTo>
                <a:lnTo>
                  <a:pt x="708" y="851"/>
                </a:lnTo>
                <a:lnTo>
                  <a:pt x="689" y="850"/>
                </a:lnTo>
                <a:lnTo>
                  <a:pt x="676" y="870"/>
                </a:lnTo>
                <a:lnTo>
                  <a:pt x="669" y="908"/>
                </a:lnTo>
                <a:lnTo>
                  <a:pt x="673" y="922"/>
                </a:lnTo>
                <a:lnTo>
                  <a:pt x="668" y="954"/>
                </a:lnTo>
                <a:lnTo>
                  <a:pt x="655" y="962"/>
                </a:lnTo>
                <a:lnTo>
                  <a:pt x="636" y="993"/>
                </a:lnTo>
                <a:lnTo>
                  <a:pt x="633" y="1057"/>
                </a:lnTo>
                <a:lnTo>
                  <a:pt x="606" y="1108"/>
                </a:lnTo>
                <a:lnTo>
                  <a:pt x="601" y="1148"/>
                </a:lnTo>
                <a:lnTo>
                  <a:pt x="597" y="1152"/>
                </a:lnTo>
                <a:lnTo>
                  <a:pt x="578" y="1156"/>
                </a:lnTo>
                <a:lnTo>
                  <a:pt x="572" y="1158"/>
                </a:lnTo>
                <a:lnTo>
                  <a:pt x="543" y="1165"/>
                </a:lnTo>
                <a:lnTo>
                  <a:pt x="522" y="1169"/>
                </a:lnTo>
                <a:lnTo>
                  <a:pt x="469" y="1182"/>
                </a:lnTo>
                <a:lnTo>
                  <a:pt x="439" y="1188"/>
                </a:lnTo>
                <a:lnTo>
                  <a:pt x="432" y="1189"/>
                </a:lnTo>
                <a:lnTo>
                  <a:pt x="420" y="1192"/>
                </a:lnTo>
                <a:lnTo>
                  <a:pt x="372" y="1202"/>
                </a:lnTo>
                <a:lnTo>
                  <a:pt x="361" y="1203"/>
                </a:lnTo>
                <a:lnTo>
                  <a:pt x="359" y="1185"/>
                </a:lnTo>
                <a:lnTo>
                  <a:pt x="357" y="1185"/>
                </a:lnTo>
                <a:lnTo>
                  <a:pt x="326" y="1190"/>
                </a:lnTo>
                <a:lnTo>
                  <a:pt x="304" y="1193"/>
                </a:lnTo>
                <a:lnTo>
                  <a:pt x="292" y="1196"/>
                </a:lnTo>
                <a:lnTo>
                  <a:pt x="286" y="1196"/>
                </a:lnTo>
                <a:lnTo>
                  <a:pt x="281" y="1198"/>
                </a:lnTo>
                <a:lnTo>
                  <a:pt x="274" y="1199"/>
                </a:lnTo>
                <a:lnTo>
                  <a:pt x="260" y="1200"/>
                </a:lnTo>
                <a:lnTo>
                  <a:pt x="238" y="1205"/>
                </a:lnTo>
                <a:lnTo>
                  <a:pt x="210" y="1209"/>
                </a:lnTo>
                <a:lnTo>
                  <a:pt x="194" y="1212"/>
                </a:lnTo>
                <a:lnTo>
                  <a:pt x="193" y="1212"/>
                </a:lnTo>
                <a:lnTo>
                  <a:pt x="151" y="1217"/>
                </a:lnTo>
                <a:lnTo>
                  <a:pt x="140" y="1219"/>
                </a:lnTo>
                <a:lnTo>
                  <a:pt x="111" y="1223"/>
                </a:lnTo>
                <a:lnTo>
                  <a:pt x="106" y="1223"/>
                </a:lnTo>
                <a:lnTo>
                  <a:pt x="85" y="1227"/>
                </a:lnTo>
                <a:lnTo>
                  <a:pt x="58" y="1230"/>
                </a:lnTo>
                <a:lnTo>
                  <a:pt x="41" y="1233"/>
                </a:lnTo>
                <a:lnTo>
                  <a:pt x="19" y="1236"/>
                </a:lnTo>
                <a:lnTo>
                  <a:pt x="6" y="1237"/>
                </a:lnTo>
                <a:lnTo>
                  <a:pt x="31" y="1206"/>
                </a:lnTo>
                <a:lnTo>
                  <a:pt x="54" y="1134"/>
                </a:lnTo>
                <a:lnTo>
                  <a:pt x="73" y="1084"/>
                </a:lnTo>
                <a:lnTo>
                  <a:pt x="85" y="1029"/>
                </a:lnTo>
                <a:lnTo>
                  <a:pt x="87" y="931"/>
                </a:lnTo>
                <a:lnTo>
                  <a:pt x="86" y="925"/>
                </a:lnTo>
                <a:lnTo>
                  <a:pt x="76" y="857"/>
                </a:lnTo>
                <a:lnTo>
                  <a:pt x="65" y="823"/>
                </a:lnTo>
                <a:lnTo>
                  <a:pt x="24" y="725"/>
                </a:lnTo>
                <a:lnTo>
                  <a:pt x="23" y="724"/>
                </a:lnTo>
                <a:lnTo>
                  <a:pt x="11" y="653"/>
                </a:lnTo>
                <a:lnTo>
                  <a:pt x="14" y="649"/>
                </a:lnTo>
                <a:lnTo>
                  <a:pt x="18" y="620"/>
                </a:lnTo>
                <a:lnTo>
                  <a:pt x="5" y="569"/>
                </a:lnTo>
                <a:lnTo>
                  <a:pt x="0" y="561"/>
                </a:lnTo>
                <a:lnTo>
                  <a:pt x="16" y="514"/>
                </a:lnTo>
                <a:lnTo>
                  <a:pt x="33" y="454"/>
                </a:lnTo>
                <a:lnTo>
                  <a:pt x="33" y="434"/>
                </a:lnTo>
                <a:lnTo>
                  <a:pt x="33" y="410"/>
                </a:lnTo>
                <a:lnTo>
                  <a:pt x="34" y="399"/>
                </a:lnTo>
                <a:lnTo>
                  <a:pt x="25" y="365"/>
                </a:lnTo>
                <a:lnTo>
                  <a:pt x="53" y="338"/>
                </a:lnTo>
                <a:lnTo>
                  <a:pt x="53" y="330"/>
                </a:lnTo>
                <a:lnTo>
                  <a:pt x="50" y="293"/>
                </a:lnTo>
                <a:lnTo>
                  <a:pt x="62" y="293"/>
                </a:lnTo>
                <a:lnTo>
                  <a:pt x="96" y="257"/>
                </a:lnTo>
                <a:lnTo>
                  <a:pt x="129" y="210"/>
                </a:lnTo>
                <a:lnTo>
                  <a:pt x="120" y="254"/>
                </a:lnTo>
                <a:lnTo>
                  <a:pt x="126" y="320"/>
                </a:lnTo>
                <a:lnTo>
                  <a:pt x="142" y="257"/>
                </a:lnTo>
                <a:lnTo>
                  <a:pt x="146" y="291"/>
                </a:lnTo>
                <a:lnTo>
                  <a:pt x="141" y="325"/>
                </a:lnTo>
                <a:lnTo>
                  <a:pt x="145" y="325"/>
                </a:lnTo>
                <a:lnTo>
                  <a:pt x="157" y="290"/>
                </a:lnTo>
                <a:lnTo>
                  <a:pt x="164" y="247"/>
                </a:lnTo>
                <a:lnTo>
                  <a:pt x="156" y="188"/>
                </a:lnTo>
                <a:lnTo>
                  <a:pt x="156" y="175"/>
                </a:lnTo>
                <a:lnTo>
                  <a:pt x="175" y="145"/>
                </a:lnTo>
                <a:lnTo>
                  <a:pt x="200" y="132"/>
                </a:lnTo>
                <a:lnTo>
                  <a:pt x="215" y="130"/>
                </a:lnTo>
                <a:lnTo>
                  <a:pt x="215" y="114"/>
                </a:lnTo>
                <a:lnTo>
                  <a:pt x="196" y="94"/>
                </a:lnTo>
                <a:lnTo>
                  <a:pt x="196" y="56"/>
                </a:lnTo>
                <a:lnTo>
                  <a:pt x="205" y="47"/>
                </a:lnTo>
                <a:lnTo>
                  <a:pt x="202" y="15"/>
                </a:lnTo>
                <a:lnTo>
                  <a:pt x="238" y="13"/>
                </a:lnTo>
                <a:lnTo>
                  <a:pt x="247" y="0"/>
                </a:lnTo>
                <a:lnTo>
                  <a:pt x="257" y="10"/>
                </a:lnTo>
                <a:lnTo>
                  <a:pt x="289" y="27"/>
                </a:lnTo>
                <a:lnTo>
                  <a:pt x="340" y="33"/>
                </a:lnTo>
                <a:lnTo>
                  <a:pt x="359" y="64"/>
                </a:lnTo>
                <a:lnTo>
                  <a:pt x="399" y="71"/>
                </a:lnTo>
                <a:lnTo>
                  <a:pt x="440" y="90"/>
                </a:lnTo>
                <a:lnTo>
                  <a:pt x="465" y="91"/>
                </a:lnTo>
                <a:lnTo>
                  <a:pt x="489" y="131"/>
                </a:lnTo>
                <a:lnTo>
                  <a:pt x="513" y="176"/>
                </a:lnTo>
                <a:lnTo>
                  <a:pt x="494" y="172"/>
                </a:lnTo>
                <a:lnTo>
                  <a:pt x="487" y="193"/>
                </a:lnTo>
                <a:lnTo>
                  <a:pt x="502" y="220"/>
                </a:lnTo>
                <a:lnTo>
                  <a:pt x="512" y="226"/>
                </a:lnTo>
                <a:lnTo>
                  <a:pt x="512" y="232"/>
                </a:lnTo>
                <a:lnTo>
                  <a:pt x="520" y="261"/>
                </a:lnTo>
                <a:lnTo>
                  <a:pt x="525" y="33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3" name="Freeform 56"/>
          <p:cNvSpPr/>
          <p:nvPr/>
        </p:nvSpPr>
        <p:spPr>
          <a:xfrm>
            <a:off x="4133880" y="2655720"/>
            <a:ext cx="698400" cy="360360"/>
          </a:xfrm>
          <a:custGeom>
            <a:avLst/>
            <a:gdLst>
              <a:gd name="textAreaLeft" fmla="*/ 0 w 698400"/>
              <a:gd name="textAreaRight" fmla="*/ 698760 w 698400"/>
              <a:gd name="textAreaTop" fmla="*/ 0 h 360360"/>
              <a:gd name="textAreaBottom" fmla="*/ 360720 h 360360"/>
            </a:gdLst>
            <a:ahLst/>
            <a:rect l="textAreaLeft" t="textAreaTop" r="textAreaRight" b="textAreaBottom"/>
            <a:pathLst>
              <a:path w="1155" h="688">
                <a:moveTo>
                  <a:pt x="672" y="470"/>
                </a:moveTo>
                <a:lnTo>
                  <a:pt x="644" y="476"/>
                </a:lnTo>
                <a:lnTo>
                  <a:pt x="622" y="444"/>
                </a:lnTo>
                <a:lnTo>
                  <a:pt x="610" y="480"/>
                </a:lnTo>
                <a:lnTo>
                  <a:pt x="588" y="484"/>
                </a:lnTo>
                <a:lnTo>
                  <a:pt x="581" y="463"/>
                </a:lnTo>
                <a:lnTo>
                  <a:pt x="544" y="548"/>
                </a:lnTo>
                <a:lnTo>
                  <a:pt x="512" y="646"/>
                </a:lnTo>
                <a:lnTo>
                  <a:pt x="497" y="681"/>
                </a:lnTo>
                <a:lnTo>
                  <a:pt x="502" y="688"/>
                </a:lnTo>
                <a:lnTo>
                  <a:pt x="486" y="683"/>
                </a:lnTo>
                <a:lnTo>
                  <a:pt x="444" y="511"/>
                </a:lnTo>
                <a:lnTo>
                  <a:pt x="439" y="503"/>
                </a:lnTo>
                <a:lnTo>
                  <a:pt x="418" y="498"/>
                </a:lnTo>
                <a:lnTo>
                  <a:pt x="417" y="493"/>
                </a:lnTo>
                <a:lnTo>
                  <a:pt x="407" y="498"/>
                </a:lnTo>
                <a:lnTo>
                  <a:pt x="394" y="491"/>
                </a:lnTo>
                <a:lnTo>
                  <a:pt x="402" y="470"/>
                </a:lnTo>
                <a:lnTo>
                  <a:pt x="393" y="457"/>
                </a:lnTo>
                <a:lnTo>
                  <a:pt x="370" y="449"/>
                </a:lnTo>
                <a:lnTo>
                  <a:pt x="329" y="443"/>
                </a:lnTo>
                <a:lnTo>
                  <a:pt x="308" y="449"/>
                </a:lnTo>
                <a:lnTo>
                  <a:pt x="297" y="442"/>
                </a:lnTo>
                <a:lnTo>
                  <a:pt x="288" y="439"/>
                </a:lnTo>
                <a:lnTo>
                  <a:pt x="271" y="439"/>
                </a:lnTo>
                <a:lnTo>
                  <a:pt x="255" y="429"/>
                </a:lnTo>
                <a:lnTo>
                  <a:pt x="245" y="423"/>
                </a:lnTo>
                <a:lnTo>
                  <a:pt x="228" y="413"/>
                </a:lnTo>
                <a:lnTo>
                  <a:pt x="98" y="383"/>
                </a:lnTo>
                <a:lnTo>
                  <a:pt x="86" y="381"/>
                </a:lnTo>
                <a:lnTo>
                  <a:pt x="53" y="364"/>
                </a:lnTo>
                <a:lnTo>
                  <a:pt x="34" y="327"/>
                </a:lnTo>
                <a:lnTo>
                  <a:pt x="0" y="310"/>
                </a:lnTo>
                <a:lnTo>
                  <a:pt x="26" y="291"/>
                </a:lnTo>
                <a:lnTo>
                  <a:pt x="66" y="267"/>
                </a:lnTo>
                <a:lnTo>
                  <a:pt x="84" y="243"/>
                </a:lnTo>
                <a:lnTo>
                  <a:pt x="105" y="223"/>
                </a:lnTo>
                <a:lnTo>
                  <a:pt x="125" y="223"/>
                </a:lnTo>
                <a:lnTo>
                  <a:pt x="185" y="192"/>
                </a:lnTo>
                <a:lnTo>
                  <a:pt x="234" y="149"/>
                </a:lnTo>
                <a:lnTo>
                  <a:pt x="242" y="127"/>
                </a:lnTo>
                <a:lnTo>
                  <a:pt x="279" y="84"/>
                </a:lnTo>
                <a:lnTo>
                  <a:pt x="298" y="67"/>
                </a:lnTo>
                <a:lnTo>
                  <a:pt x="313" y="39"/>
                </a:lnTo>
                <a:lnTo>
                  <a:pt x="357" y="8"/>
                </a:lnTo>
                <a:lnTo>
                  <a:pt x="377" y="0"/>
                </a:lnTo>
                <a:lnTo>
                  <a:pt x="417" y="2"/>
                </a:lnTo>
                <a:lnTo>
                  <a:pt x="423" y="12"/>
                </a:lnTo>
                <a:lnTo>
                  <a:pt x="381" y="49"/>
                </a:lnTo>
                <a:lnTo>
                  <a:pt x="346" y="87"/>
                </a:lnTo>
                <a:lnTo>
                  <a:pt x="344" y="105"/>
                </a:lnTo>
                <a:lnTo>
                  <a:pt x="329" y="127"/>
                </a:lnTo>
                <a:lnTo>
                  <a:pt x="326" y="145"/>
                </a:lnTo>
                <a:lnTo>
                  <a:pt x="316" y="166"/>
                </a:lnTo>
                <a:lnTo>
                  <a:pt x="349" y="168"/>
                </a:lnTo>
                <a:lnTo>
                  <a:pt x="383" y="166"/>
                </a:lnTo>
                <a:lnTo>
                  <a:pt x="432" y="175"/>
                </a:lnTo>
                <a:lnTo>
                  <a:pt x="461" y="205"/>
                </a:lnTo>
                <a:lnTo>
                  <a:pt x="506" y="273"/>
                </a:lnTo>
                <a:lnTo>
                  <a:pt x="545" y="269"/>
                </a:lnTo>
                <a:lnTo>
                  <a:pt x="606" y="266"/>
                </a:lnTo>
                <a:lnTo>
                  <a:pt x="615" y="259"/>
                </a:lnTo>
                <a:lnTo>
                  <a:pt x="610" y="247"/>
                </a:lnTo>
                <a:lnTo>
                  <a:pt x="623" y="257"/>
                </a:lnTo>
                <a:lnTo>
                  <a:pt x="641" y="254"/>
                </a:lnTo>
                <a:lnTo>
                  <a:pt x="703" y="198"/>
                </a:lnTo>
                <a:lnTo>
                  <a:pt x="745" y="183"/>
                </a:lnTo>
                <a:lnTo>
                  <a:pt x="764" y="183"/>
                </a:lnTo>
                <a:lnTo>
                  <a:pt x="805" y="178"/>
                </a:lnTo>
                <a:lnTo>
                  <a:pt x="846" y="148"/>
                </a:lnTo>
                <a:lnTo>
                  <a:pt x="884" y="138"/>
                </a:lnTo>
                <a:lnTo>
                  <a:pt x="885" y="217"/>
                </a:lnTo>
                <a:lnTo>
                  <a:pt x="893" y="223"/>
                </a:lnTo>
                <a:lnTo>
                  <a:pt x="934" y="222"/>
                </a:lnTo>
                <a:lnTo>
                  <a:pt x="955" y="213"/>
                </a:lnTo>
                <a:lnTo>
                  <a:pt x="966" y="229"/>
                </a:lnTo>
                <a:lnTo>
                  <a:pt x="987" y="200"/>
                </a:lnTo>
                <a:lnTo>
                  <a:pt x="1013" y="199"/>
                </a:lnTo>
                <a:lnTo>
                  <a:pt x="1023" y="183"/>
                </a:lnTo>
                <a:lnTo>
                  <a:pt x="1033" y="185"/>
                </a:lnTo>
                <a:lnTo>
                  <a:pt x="1038" y="192"/>
                </a:lnTo>
                <a:lnTo>
                  <a:pt x="1037" y="230"/>
                </a:lnTo>
                <a:lnTo>
                  <a:pt x="1053" y="283"/>
                </a:lnTo>
                <a:lnTo>
                  <a:pt x="1067" y="291"/>
                </a:lnTo>
                <a:lnTo>
                  <a:pt x="1078" y="317"/>
                </a:lnTo>
                <a:lnTo>
                  <a:pt x="1086" y="314"/>
                </a:lnTo>
                <a:lnTo>
                  <a:pt x="1097" y="295"/>
                </a:lnTo>
                <a:lnTo>
                  <a:pt x="1111" y="304"/>
                </a:lnTo>
                <a:lnTo>
                  <a:pt x="1131" y="294"/>
                </a:lnTo>
                <a:lnTo>
                  <a:pt x="1155" y="322"/>
                </a:lnTo>
                <a:lnTo>
                  <a:pt x="1136" y="344"/>
                </a:lnTo>
                <a:lnTo>
                  <a:pt x="1112" y="348"/>
                </a:lnTo>
                <a:lnTo>
                  <a:pt x="1094" y="342"/>
                </a:lnTo>
                <a:lnTo>
                  <a:pt x="1073" y="348"/>
                </a:lnTo>
                <a:lnTo>
                  <a:pt x="1054" y="344"/>
                </a:lnTo>
                <a:lnTo>
                  <a:pt x="1012" y="365"/>
                </a:lnTo>
                <a:lnTo>
                  <a:pt x="968" y="341"/>
                </a:lnTo>
                <a:lnTo>
                  <a:pt x="959" y="354"/>
                </a:lnTo>
                <a:lnTo>
                  <a:pt x="953" y="405"/>
                </a:lnTo>
                <a:lnTo>
                  <a:pt x="908" y="361"/>
                </a:lnTo>
                <a:lnTo>
                  <a:pt x="885" y="354"/>
                </a:lnTo>
                <a:lnTo>
                  <a:pt x="822" y="347"/>
                </a:lnTo>
                <a:lnTo>
                  <a:pt x="804" y="379"/>
                </a:lnTo>
                <a:lnTo>
                  <a:pt x="784" y="392"/>
                </a:lnTo>
                <a:lnTo>
                  <a:pt x="765" y="393"/>
                </a:lnTo>
                <a:lnTo>
                  <a:pt x="751" y="405"/>
                </a:lnTo>
                <a:lnTo>
                  <a:pt x="722" y="400"/>
                </a:lnTo>
                <a:lnTo>
                  <a:pt x="702" y="409"/>
                </a:lnTo>
                <a:lnTo>
                  <a:pt x="672" y="47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4" name="Freeform 57"/>
          <p:cNvSpPr/>
          <p:nvPr/>
        </p:nvSpPr>
        <p:spPr>
          <a:xfrm>
            <a:off x="4724280" y="2859120"/>
            <a:ext cx="27000" cy="20520"/>
          </a:xfrm>
          <a:custGeom>
            <a:avLst/>
            <a:gdLst>
              <a:gd name="textAreaLeft" fmla="*/ 0 w 27000"/>
              <a:gd name="textAreaRight" fmla="*/ 27360 w 27000"/>
              <a:gd name="textAreaTop" fmla="*/ 0 h 20520"/>
              <a:gd name="textAreaBottom" fmla="*/ 20880 h 20520"/>
            </a:gdLst>
            <a:ahLst/>
            <a:rect l="textAreaLeft" t="textAreaTop" r="textAreaRight" b="textAreaBottom"/>
            <a:pathLst>
              <a:path w="47" h="39">
                <a:moveTo>
                  <a:pt x="1" y="8"/>
                </a:moveTo>
                <a:lnTo>
                  <a:pt x="0" y="0"/>
                </a:lnTo>
                <a:lnTo>
                  <a:pt x="47" y="31"/>
                </a:lnTo>
                <a:lnTo>
                  <a:pt x="28" y="39"/>
                </a:lnTo>
                <a:lnTo>
                  <a:pt x="1" y="8"/>
                </a:lnTo>
                <a:close/>
              </a:path>
            </a:pathLst>
          </a:custGeom>
          <a:solidFill>
            <a:srgbClr val="ffffff"/>
          </a:solidFill>
          <a:ln w="0">
            <a:solidFill>
              <a:srgbClr val="000000"/>
            </a:solidFill>
          </a:ln>
        </p:spPr>
        <p:style>
          <a:lnRef idx="0"/>
          <a:fillRef idx="0"/>
          <a:effectRef idx="0"/>
          <a:fontRef idx="minor"/>
        </p:style>
        <p:txBody>
          <a:bodyPr lIns="90000" rIns="90000" tIns="-25920" bIns="-25920" anchor="t">
            <a:noAutofit/>
          </a:bodyPr>
          <a:p>
            <a:endParaRPr b="0" lang="en-US" sz="2800" spc="-1" strike="noStrike">
              <a:solidFill>
                <a:srgbClr val="000000"/>
              </a:solidFill>
              <a:latin typeface="Arial"/>
            </a:endParaRPr>
          </a:p>
        </p:txBody>
      </p:sp>
      <p:sp>
        <p:nvSpPr>
          <p:cNvPr id="165" name="Freeform 58"/>
          <p:cNvSpPr/>
          <p:nvPr/>
        </p:nvSpPr>
        <p:spPr>
          <a:xfrm>
            <a:off x="4257720" y="2583000"/>
            <a:ext cx="28440" cy="6120"/>
          </a:xfrm>
          <a:custGeom>
            <a:avLst/>
            <a:gdLst>
              <a:gd name="textAreaLeft" fmla="*/ 0 w 28440"/>
              <a:gd name="textAreaRight" fmla="*/ 28800 w 28440"/>
              <a:gd name="textAreaTop" fmla="*/ 0 h 6120"/>
              <a:gd name="textAreaBottom" fmla="*/ 6480 h 6120"/>
            </a:gdLst>
            <a:ahLst/>
            <a:rect l="textAreaLeft" t="textAreaTop" r="textAreaRight" b="textAreaBottom"/>
            <a:pathLst>
              <a:path w="48" h="11">
                <a:moveTo>
                  <a:pt x="0" y="6"/>
                </a:moveTo>
                <a:lnTo>
                  <a:pt x="48" y="0"/>
                </a:lnTo>
                <a:lnTo>
                  <a:pt x="38" y="7"/>
                </a:lnTo>
                <a:lnTo>
                  <a:pt x="29" y="11"/>
                </a:lnTo>
                <a:lnTo>
                  <a:pt x="0" y="6"/>
                </a:lnTo>
                <a:close/>
              </a:path>
            </a:pathLst>
          </a:custGeom>
          <a:solidFill>
            <a:srgbClr val="ffffff"/>
          </a:solidFill>
          <a:ln w="0">
            <a:solidFill>
              <a:srgbClr val="000000"/>
            </a:solidFill>
          </a:ln>
        </p:spPr>
        <p:style>
          <a:lnRef idx="0"/>
          <a:fillRef idx="0"/>
          <a:effectRef idx="0"/>
          <a:fontRef idx="minor"/>
        </p:style>
        <p:txBody>
          <a:bodyPr lIns="90000" rIns="90000" tIns="-40320" bIns="-40320" anchor="t">
            <a:noAutofit/>
          </a:bodyPr>
          <a:p>
            <a:endParaRPr b="0" lang="en-US" sz="2800" spc="-1" strike="noStrike">
              <a:solidFill>
                <a:srgbClr val="000000"/>
              </a:solidFill>
              <a:latin typeface="Arial"/>
            </a:endParaRPr>
          </a:p>
        </p:txBody>
      </p:sp>
      <p:sp>
        <p:nvSpPr>
          <p:cNvPr id="166" name="Freeform 59"/>
          <p:cNvSpPr/>
          <p:nvPr/>
        </p:nvSpPr>
        <p:spPr>
          <a:xfrm>
            <a:off x="4784760" y="3386160"/>
            <a:ext cx="479520" cy="587520"/>
          </a:xfrm>
          <a:custGeom>
            <a:avLst/>
            <a:gdLst>
              <a:gd name="textAreaLeft" fmla="*/ 0 w 479520"/>
              <a:gd name="textAreaRight" fmla="*/ 479880 w 479520"/>
              <a:gd name="textAreaTop" fmla="*/ 0 h 587520"/>
              <a:gd name="textAreaBottom" fmla="*/ 587520 h 587520"/>
            </a:gdLst>
            <a:ahLst/>
            <a:rect l="textAreaLeft" t="textAreaTop" r="textAreaRight" b="textAreaBottom"/>
            <a:pathLst>
              <a:path w="792" h="1122">
                <a:moveTo>
                  <a:pt x="296" y="1095"/>
                </a:moveTo>
                <a:lnTo>
                  <a:pt x="288" y="1094"/>
                </a:lnTo>
                <a:lnTo>
                  <a:pt x="267" y="1067"/>
                </a:lnTo>
                <a:lnTo>
                  <a:pt x="256" y="1064"/>
                </a:lnTo>
                <a:lnTo>
                  <a:pt x="238" y="1062"/>
                </a:lnTo>
                <a:lnTo>
                  <a:pt x="229" y="1067"/>
                </a:lnTo>
                <a:lnTo>
                  <a:pt x="215" y="1065"/>
                </a:lnTo>
                <a:lnTo>
                  <a:pt x="195" y="1057"/>
                </a:lnTo>
                <a:lnTo>
                  <a:pt x="192" y="1043"/>
                </a:lnTo>
                <a:lnTo>
                  <a:pt x="187" y="1028"/>
                </a:lnTo>
                <a:lnTo>
                  <a:pt x="182" y="1023"/>
                </a:lnTo>
                <a:lnTo>
                  <a:pt x="172" y="1001"/>
                </a:lnTo>
                <a:lnTo>
                  <a:pt x="161" y="996"/>
                </a:lnTo>
                <a:lnTo>
                  <a:pt x="139" y="980"/>
                </a:lnTo>
                <a:lnTo>
                  <a:pt x="136" y="986"/>
                </a:lnTo>
                <a:lnTo>
                  <a:pt x="116" y="994"/>
                </a:lnTo>
                <a:lnTo>
                  <a:pt x="91" y="977"/>
                </a:lnTo>
                <a:lnTo>
                  <a:pt x="86" y="984"/>
                </a:lnTo>
                <a:lnTo>
                  <a:pt x="79" y="991"/>
                </a:lnTo>
                <a:lnTo>
                  <a:pt x="78" y="986"/>
                </a:lnTo>
                <a:lnTo>
                  <a:pt x="77" y="970"/>
                </a:lnTo>
                <a:lnTo>
                  <a:pt x="72" y="932"/>
                </a:lnTo>
                <a:lnTo>
                  <a:pt x="68" y="885"/>
                </a:lnTo>
                <a:lnTo>
                  <a:pt x="68" y="874"/>
                </a:lnTo>
                <a:lnTo>
                  <a:pt x="67" y="868"/>
                </a:lnTo>
                <a:lnTo>
                  <a:pt x="65" y="854"/>
                </a:lnTo>
                <a:lnTo>
                  <a:pt x="64" y="847"/>
                </a:lnTo>
                <a:lnTo>
                  <a:pt x="64" y="843"/>
                </a:lnTo>
                <a:lnTo>
                  <a:pt x="61" y="807"/>
                </a:lnTo>
                <a:lnTo>
                  <a:pt x="57" y="779"/>
                </a:lnTo>
                <a:lnTo>
                  <a:pt x="56" y="763"/>
                </a:lnTo>
                <a:lnTo>
                  <a:pt x="55" y="750"/>
                </a:lnTo>
                <a:lnTo>
                  <a:pt x="53" y="726"/>
                </a:lnTo>
                <a:lnTo>
                  <a:pt x="53" y="725"/>
                </a:lnTo>
                <a:lnTo>
                  <a:pt x="49" y="689"/>
                </a:lnTo>
                <a:lnTo>
                  <a:pt x="46" y="653"/>
                </a:lnTo>
                <a:lnTo>
                  <a:pt x="44" y="634"/>
                </a:lnTo>
                <a:lnTo>
                  <a:pt x="43" y="621"/>
                </a:lnTo>
                <a:lnTo>
                  <a:pt x="40" y="604"/>
                </a:lnTo>
                <a:lnTo>
                  <a:pt x="38" y="579"/>
                </a:lnTo>
                <a:lnTo>
                  <a:pt x="36" y="556"/>
                </a:lnTo>
                <a:lnTo>
                  <a:pt x="35" y="540"/>
                </a:lnTo>
                <a:lnTo>
                  <a:pt x="31" y="511"/>
                </a:lnTo>
                <a:lnTo>
                  <a:pt x="31" y="504"/>
                </a:lnTo>
                <a:lnTo>
                  <a:pt x="27" y="467"/>
                </a:lnTo>
                <a:lnTo>
                  <a:pt x="25" y="453"/>
                </a:lnTo>
                <a:lnTo>
                  <a:pt x="23" y="434"/>
                </a:lnTo>
                <a:lnTo>
                  <a:pt x="23" y="430"/>
                </a:lnTo>
                <a:lnTo>
                  <a:pt x="19" y="393"/>
                </a:lnTo>
                <a:lnTo>
                  <a:pt x="15" y="356"/>
                </a:lnTo>
                <a:lnTo>
                  <a:pt x="14" y="350"/>
                </a:lnTo>
                <a:lnTo>
                  <a:pt x="12" y="323"/>
                </a:lnTo>
                <a:lnTo>
                  <a:pt x="11" y="319"/>
                </a:lnTo>
                <a:lnTo>
                  <a:pt x="9" y="305"/>
                </a:lnTo>
                <a:lnTo>
                  <a:pt x="6" y="274"/>
                </a:lnTo>
                <a:lnTo>
                  <a:pt x="0" y="224"/>
                </a:lnTo>
                <a:lnTo>
                  <a:pt x="11" y="223"/>
                </a:lnTo>
                <a:lnTo>
                  <a:pt x="59" y="213"/>
                </a:lnTo>
                <a:lnTo>
                  <a:pt x="71" y="210"/>
                </a:lnTo>
                <a:lnTo>
                  <a:pt x="78" y="209"/>
                </a:lnTo>
                <a:lnTo>
                  <a:pt x="108" y="203"/>
                </a:lnTo>
                <a:lnTo>
                  <a:pt x="161" y="190"/>
                </a:lnTo>
                <a:lnTo>
                  <a:pt x="182" y="186"/>
                </a:lnTo>
                <a:lnTo>
                  <a:pt x="211" y="179"/>
                </a:lnTo>
                <a:lnTo>
                  <a:pt x="217" y="177"/>
                </a:lnTo>
                <a:lnTo>
                  <a:pt x="236" y="173"/>
                </a:lnTo>
                <a:lnTo>
                  <a:pt x="251" y="184"/>
                </a:lnTo>
                <a:lnTo>
                  <a:pt x="273" y="189"/>
                </a:lnTo>
                <a:lnTo>
                  <a:pt x="289" y="197"/>
                </a:lnTo>
                <a:lnTo>
                  <a:pt x="321" y="216"/>
                </a:lnTo>
                <a:lnTo>
                  <a:pt x="365" y="206"/>
                </a:lnTo>
                <a:lnTo>
                  <a:pt x="376" y="221"/>
                </a:lnTo>
                <a:lnTo>
                  <a:pt x="391" y="234"/>
                </a:lnTo>
                <a:lnTo>
                  <a:pt x="415" y="245"/>
                </a:lnTo>
                <a:lnTo>
                  <a:pt x="440" y="227"/>
                </a:lnTo>
                <a:lnTo>
                  <a:pt x="456" y="221"/>
                </a:lnTo>
                <a:lnTo>
                  <a:pt x="475" y="204"/>
                </a:lnTo>
                <a:lnTo>
                  <a:pt x="503" y="192"/>
                </a:lnTo>
                <a:lnTo>
                  <a:pt x="520" y="194"/>
                </a:lnTo>
                <a:lnTo>
                  <a:pt x="542" y="189"/>
                </a:lnTo>
                <a:lnTo>
                  <a:pt x="582" y="138"/>
                </a:lnTo>
                <a:lnTo>
                  <a:pt x="595" y="115"/>
                </a:lnTo>
                <a:lnTo>
                  <a:pt x="599" y="109"/>
                </a:lnTo>
                <a:lnTo>
                  <a:pt x="659" y="55"/>
                </a:lnTo>
                <a:lnTo>
                  <a:pt x="738" y="0"/>
                </a:lnTo>
                <a:lnTo>
                  <a:pt x="741" y="31"/>
                </a:lnTo>
                <a:lnTo>
                  <a:pt x="742" y="38"/>
                </a:lnTo>
                <a:lnTo>
                  <a:pt x="748" y="78"/>
                </a:lnTo>
                <a:lnTo>
                  <a:pt x="751" y="104"/>
                </a:lnTo>
                <a:lnTo>
                  <a:pt x="757" y="141"/>
                </a:lnTo>
                <a:lnTo>
                  <a:pt x="757" y="145"/>
                </a:lnTo>
                <a:lnTo>
                  <a:pt x="762" y="177"/>
                </a:lnTo>
                <a:lnTo>
                  <a:pt x="765" y="203"/>
                </a:lnTo>
                <a:lnTo>
                  <a:pt x="772" y="248"/>
                </a:lnTo>
                <a:lnTo>
                  <a:pt x="772" y="251"/>
                </a:lnTo>
                <a:lnTo>
                  <a:pt x="778" y="288"/>
                </a:lnTo>
                <a:lnTo>
                  <a:pt x="779" y="295"/>
                </a:lnTo>
                <a:lnTo>
                  <a:pt x="781" y="316"/>
                </a:lnTo>
                <a:lnTo>
                  <a:pt x="782" y="325"/>
                </a:lnTo>
                <a:lnTo>
                  <a:pt x="783" y="331"/>
                </a:lnTo>
                <a:lnTo>
                  <a:pt x="786" y="349"/>
                </a:lnTo>
                <a:lnTo>
                  <a:pt x="789" y="367"/>
                </a:lnTo>
                <a:lnTo>
                  <a:pt x="792" y="394"/>
                </a:lnTo>
                <a:lnTo>
                  <a:pt x="786" y="399"/>
                </a:lnTo>
                <a:lnTo>
                  <a:pt x="774" y="403"/>
                </a:lnTo>
                <a:lnTo>
                  <a:pt x="768" y="416"/>
                </a:lnTo>
                <a:lnTo>
                  <a:pt x="781" y="438"/>
                </a:lnTo>
                <a:lnTo>
                  <a:pt x="783" y="468"/>
                </a:lnTo>
                <a:lnTo>
                  <a:pt x="782" y="470"/>
                </a:lnTo>
                <a:lnTo>
                  <a:pt x="787" y="475"/>
                </a:lnTo>
                <a:lnTo>
                  <a:pt x="789" y="509"/>
                </a:lnTo>
                <a:lnTo>
                  <a:pt x="782" y="533"/>
                </a:lnTo>
                <a:lnTo>
                  <a:pt x="780" y="542"/>
                </a:lnTo>
                <a:lnTo>
                  <a:pt x="780" y="552"/>
                </a:lnTo>
                <a:lnTo>
                  <a:pt x="780" y="580"/>
                </a:lnTo>
                <a:lnTo>
                  <a:pt x="780" y="600"/>
                </a:lnTo>
                <a:lnTo>
                  <a:pt x="772" y="616"/>
                </a:lnTo>
                <a:lnTo>
                  <a:pt x="771" y="637"/>
                </a:lnTo>
                <a:lnTo>
                  <a:pt x="767" y="668"/>
                </a:lnTo>
                <a:lnTo>
                  <a:pt x="774" y="675"/>
                </a:lnTo>
                <a:lnTo>
                  <a:pt x="770" y="705"/>
                </a:lnTo>
                <a:lnTo>
                  <a:pt x="759" y="714"/>
                </a:lnTo>
                <a:lnTo>
                  <a:pt x="750" y="728"/>
                </a:lnTo>
                <a:lnTo>
                  <a:pt x="744" y="736"/>
                </a:lnTo>
                <a:lnTo>
                  <a:pt x="738" y="750"/>
                </a:lnTo>
                <a:lnTo>
                  <a:pt x="733" y="765"/>
                </a:lnTo>
                <a:lnTo>
                  <a:pt x="712" y="789"/>
                </a:lnTo>
                <a:lnTo>
                  <a:pt x="706" y="794"/>
                </a:lnTo>
                <a:lnTo>
                  <a:pt x="693" y="807"/>
                </a:lnTo>
                <a:lnTo>
                  <a:pt x="668" y="803"/>
                </a:lnTo>
                <a:lnTo>
                  <a:pt x="660" y="835"/>
                </a:lnTo>
                <a:lnTo>
                  <a:pt x="638" y="847"/>
                </a:lnTo>
                <a:lnTo>
                  <a:pt x="634" y="857"/>
                </a:lnTo>
                <a:lnTo>
                  <a:pt x="630" y="867"/>
                </a:lnTo>
                <a:lnTo>
                  <a:pt x="630" y="870"/>
                </a:lnTo>
                <a:lnTo>
                  <a:pt x="631" y="875"/>
                </a:lnTo>
                <a:lnTo>
                  <a:pt x="634" y="885"/>
                </a:lnTo>
                <a:lnTo>
                  <a:pt x="635" y="894"/>
                </a:lnTo>
                <a:lnTo>
                  <a:pt x="630" y="942"/>
                </a:lnTo>
                <a:lnTo>
                  <a:pt x="620" y="962"/>
                </a:lnTo>
                <a:lnTo>
                  <a:pt x="614" y="963"/>
                </a:lnTo>
                <a:lnTo>
                  <a:pt x="591" y="923"/>
                </a:lnTo>
                <a:lnTo>
                  <a:pt x="584" y="932"/>
                </a:lnTo>
                <a:lnTo>
                  <a:pt x="576" y="946"/>
                </a:lnTo>
                <a:lnTo>
                  <a:pt x="567" y="1011"/>
                </a:lnTo>
                <a:lnTo>
                  <a:pt x="575" y="1048"/>
                </a:lnTo>
                <a:lnTo>
                  <a:pt x="568" y="1060"/>
                </a:lnTo>
                <a:lnTo>
                  <a:pt x="563" y="1058"/>
                </a:lnTo>
                <a:lnTo>
                  <a:pt x="562" y="1058"/>
                </a:lnTo>
                <a:lnTo>
                  <a:pt x="556" y="1064"/>
                </a:lnTo>
                <a:lnTo>
                  <a:pt x="556" y="1089"/>
                </a:lnTo>
                <a:lnTo>
                  <a:pt x="546" y="1111"/>
                </a:lnTo>
                <a:lnTo>
                  <a:pt x="524" y="1122"/>
                </a:lnTo>
                <a:lnTo>
                  <a:pt x="507" y="1122"/>
                </a:lnTo>
                <a:lnTo>
                  <a:pt x="499" y="1106"/>
                </a:lnTo>
                <a:lnTo>
                  <a:pt x="491" y="1101"/>
                </a:lnTo>
                <a:lnTo>
                  <a:pt x="474" y="1087"/>
                </a:lnTo>
                <a:lnTo>
                  <a:pt x="461" y="1087"/>
                </a:lnTo>
                <a:lnTo>
                  <a:pt x="452" y="1071"/>
                </a:lnTo>
                <a:lnTo>
                  <a:pt x="443" y="1035"/>
                </a:lnTo>
                <a:lnTo>
                  <a:pt x="416" y="1048"/>
                </a:lnTo>
                <a:lnTo>
                  <a:pt x="399" y="1081"/>
                </a:lnTo>
                <a:lnTo>
                  <a:pt x="382" y="1084"/>
                </a:lnTo>
                <a:lnTo>
                  <a:pt x="376" y="1088"/>
                </a:lnTo>
                <a:lnTo>
                  <a:pt x="373" y="1094"/>
                </a:lnTo>
                <a:lnTo>
                  <a:pt x="356" y="1078"/>
                </a:lnTo>
                <a:lnTo>
                  <a:pt x="326" y="1071"/>
                </a:lnTo>
                <a:lnTo>
                  <a:pt x="310" y="1081"/>
                </a:lnTo>
                <a:lnTo>
                  <a:pt x="308" y="1094"/>
                </a:lnTo>
                <a:lnTo>
                  <a:pt x="300" y="1096"/>
                </a:lnTo>
                <a:lnTo>
                  <a:pt x="297" y="1096"/>
                </a:lnTo>
                <a:lnTo>
                  <a:pt x="296" y="1095"/>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7" name="Freeform 60"/>
          <p:cNvSpPr/>
          <p:nvPr/>
        </p:nvSpPr>
        <p:spPr>
          <a:xfrm>
            <a:off x="4154400" y="4592520"/>
            <a:ext cx="405000" cy="765360"/>
          </a:xfrm>
          <a:custGeom>
            <a:avLst/>
            <a:gdLst>
              <a:gd name="textAreaLeft" fmla="*/ 0 w 405000"/>
              <a:gd name="textAreaRight" fmla="*/ 405360 w 405000"/>
              <a:gd name="textAreaTop" fmla="*/ 0 h 765360"/>
              <a:gd name="textAreaBottom" fmla="*/ 765720 h 765360"/>
            </a:gdLst>
            <a:ahLst/>
            <a:rect l="textAreaLeft" t="textAreaTop" r="textAreaRight" b="textAreaBottom"/>
            <a:pathLst>
              <a:path w="669" h="1461">
                <a:moveTo>
                  <a:pt x="53" y="1028"/>
                </a:moveTo>
                <a:lnTo>
                  <a:pt x="63" y="1027"/>
                </a:lnTo>
                <a:lnTo>
                  <a:pt x="65" y="991"/>
                </a:lnTo>
                <a:lnTo>
                  <a:pt x="67" y="990"/>
                </a:lnTo>
                <a:lnTo>
                  <a:pt x="95" y="949"/>
                </a:lnTo>
                <a:lnTo>
                  <a:pt x="86" y="929"/>
                </a:lnTo>
                <a:lnTo>
                  <a:pt x="104" y="915"/>
                </a:lnTo>
                <a:lnTo>
                  <a:pt x="104" y="912"/>
                </a:lnTo>
                <a:lnTo>
                  <a:pt x="107" y="911"/>
                </a:lnTo>
                <a:lnTo>
                  <a:pt x="100" y="912"/>
                </a:lnTo>
                <a:lnTo>
                  <a:pt x="86" y="912"/>
                </a:lnTo>
                <a:lnTo>
                  <a:pt x="85" y="888"/>
                </a:lnTo>
                <a:lnTo>
                  <a:pt x="109" y="891"/>
                </a:lnTo>
                <a:lnTo>
                  <a:pt x="105" y="814"/>
                </a:lnTo>
                <a:lnTo>
                  <a:pt x="81" y="801"/>
                </a:lnTo>
                <a:lnTo>
                  <a:pt x="104" y="804"/>
                </a:lnTo>
                <a:lnTo>
                  <a:pt x="89" y="781"/>
                </a:lnTo>
                <a:lnTo>
                  <a:pt x="94" y="777"/>
                </a:lnTo>
                <a:lnTo>
                  <a:pt x="102" y="762"/>
                </a:lnTo>
                <a:lnTo>
                  <a:pt x="78" y="776"/>
                </a:lnTo>
                <a:lnTo>
                  <a:pt x="63" y="651"/>
                </a:lnTo>
                <a:lnTo>
                  <a:pt x="63" y="650"/>
                </a:lnTo>
                <a:lnTo>
                  <a:pt x="65" y="538"/>
                </a:lnTo>
                <a:lnTo>
                  <a:pt x="56" y="539"/>
                </a:lnTo>
                <a:lnTo>
                  <a:pt x="63" y="511"/>
                </a:lnTo>
                <a:lnTo>
                  <a:pt x="43" y="522"/>
                </a:lnTo>
                <a:lnTo>
                  <a:pt x="52" y="502"/>
                </a:lnTo>
                <a:lnTo>
                  <a:pt x="45" y="496"/>
                </a:lnTo>
                <a:lnTo>
                  <a:pt x="44" y="495"/>
                </a:lnTo>
                <a:lnTo>
                  <a:pt x="44" y="494"/>
                </a:lnTo>
                <a:lnTo>
                  <a:pt x="41" y="486"/>
                </a:lnTo>
                <a:lnTo>
                  <a:pt x="60" y="441"/>
                </a:lnTo>
                <a:lnTo>
                  <a:pt x="59" y="418"/>
                </a:lnTo>
                <a:lnTo>
                  <a:pt x="84" y="421"/>
                </a:lnTo>
                <a:lnTo>
                  <a:pt x="64" y="359"/>
                </a:lnTo>
                <a:lnTo>
                  <a:pt x="79" y="347"/>
                </a:lnTo>
                <a:lnTo>
                  <a:pt x="87" y="316"/>
                </a:lnTo>
                <a:lnTo>
                  <a:pt x="87" y="315"/>
                </a:lnTo>
                <a:lnTo>
                  <a:pt x="107" y="275"/>
                </a:lnTo>
                <a:lnTo>
                  <a:pt x="123" y="261"/>
                </a:lnTo>
                <a:lnTo>
                  <a:pt x="118" y="243"/>
                </a:lnTo>
                <a:lnTo>
                  <a:pt x="136" y="237"/>
                </a:lnTo>
                <a:lnTo>
                  <a:pt x="133" y="251"/>
                </a:lnTo>
                <a:lnTo>
                  <a:pt x="136" y="252"/>
                </a:lnTo>
                <a:lnTo>
                  <a:pt x="155" y="189"/>
                </a:lnTo>
                <a:lnTo>
                  <a:pt x="149" y="155"/>
                </a:lnTo>
                <a:lnTo>
                  <a:pt x="149" y="153"/>
                </a:lnTo>
                <a:lnTo>
                  <a:pt x="156" y="146"/>
                </a:lnTo>
                <a:lnTo>
                  <a:pt x="159" y="157"/>
                </a:lnTo>
                <a:lnTo>
                  <a:pt x="172" y="139"/>
                </a:lnTo>
                <a:lnTo>
                  <a:pt x="150" y="126"/>
                </a:lnTo>
                <a:lnTo>
                  <a:pt x="156" y="121"/>
                </a:lnTo>
                <a:lnTo>
                  <a:pt x="164" y="128"/>
                </a:lnTo>
                <a:lnTo>
                  <a:pt x="173" y="119"/>
                </a:lnTo>
                <a:lnTo>
                  <a:pt x="169" y="112"/>
                </a:lnTo>
                <a:lnTo>
                  <a:pt x="180" y="95"/>
                </a:lnTo>
                <a:lnTo>
                  <a:pt x="181" y="92"/>
                </a:lnTo>
                <a:lnTo>
                  <a:pt x="183" y="88"/>
                </a:lnTo>
                <a:lnTo>
                  <a:pt x="199" y="84"/>
                </a:lnTo>
                <a:lnTo>
                  <a:pt x="208" y="71"/>
                </a:lnTo>
                <a:lnTo>
                  <a:pt x="207" y="57"/>
                </a:lnTo>
                <a:lnTo>
                  <a:pt x="196" y="43"/>
                </a:lnTo>
                <a:lnTo>
                  <a:pt x="255" y="37"/>
                </a:lnTo>
                <a:lnTo>
                  <a:pt x="283" y="35"/>
                </a:lnTo>
                <a:lnTo>
                  <a:pt x="308" y="33"/>
                </a:lnTo>
                <a:lnTo>
                  <a:pt x="323" y="30"/>
                </a:lnTo>
                <a:lnTo>
                  <a:pt x="343" y="28"/>
                </a:lnTo>
                <a:lnTo>
                  <a:pt x="359" y="27"/>
                </a:lnTo>
                <a:lnTo>
                  <a:pt x="379" y="26"/>
                </a:lnTo>
                <a:lnTo>
                  <a:pt x="389" y="24"/>
                </a:lnTo>
                <a:lnTo>
                  <a:pt x="399" y="23"/>
                </a:lnTo>
                <a:lnTo>
                  <a:pt x="408" y="21"/>
                </a:lnTo>
                <a:lnTo>
                  <a:pt x="427" y="20"/>
                </a:lnTo>
                <a:lnTo>
                  <a:pt x="436" y="18"/>
                </a:lnTo>
                <a:lnTo>
                  <a:pt x="444" y="18"/>
                </a:lnTo>
                <a:lnTo>
                  <a:pt x="446" y="18"/>
                </a:lnTo>
                <a:lnTo>
                  <a:pt x="462" y="16"/>
                </a:lnTo>
                <a:lnTo>
                  <a:pt x="480" y="14"/>
                </a:lnTo>
                <a:lnTo>
                  <a:pt x="487" y="13"/>
                </a:lnTo>
                <a:lnTo>
                  <a:pt x="505" y="11"/>
                </a:lnTo>
                <a:lnTo>
                  <a:pt x="524" y="9"/>
                </a:lnTo>
                <a:lnTo>
                  <a:pt x="565" y="4"/>
                </a:lnTo>
                <a:lnTo>
                  <a:pt x="566" y="4"/>
                </a:lnTo>
                <a:lnTo>
                  <a:pt x="568" y="3"/>
                </a:lnTo>
                <a:lnTo>
                  <a:pt x="590" y="1"/>
                </a:lnTo>
                <a:lnTo>
                  <a:pt x="600" y="0"/>
                </a:lnTo>
                <a:lnTo>
                  <a:pt x="616" y="26"/>
                </a:lnTo>
                <a:lnTo>
                  <a:pt x="622" y="28"/>
                </a:lnTo>
                <a:lnTo>
                  <a:pt x="622" y="45"/>
                </a:lnTo>
                <a:lnTo>
                  <a:pt x="621" y="94"/>
                </a:lnTo>
                <a:lnTo>
                  <a:pt x="621" y="122"/>
                </a:lnTo>
                <a:lnTo>
                  <a:pt x="621" y="146"/>
                </a:lnTo>
                <a:lnTo>
                  <a:pt x="621" y="148"/>
                </a:lnTo>
                <a:lnTo>
                  <a:pt x="621" y="157"/>
                </a:lnTo>
                <a:lnTo>
                  <a:pt x="621" y="163"/>
                </a:lnTo>
                <a:lnTo>
                  <a:pt x="621" y="183"/>
                </a:lnTo>
                <a:lnTo>
                  <a:pt x="621" y="200"/>
                </a:lnTo>
                <a:lnTo>
                  <a:pt x="621" y="240"/>
                </a:lnTo>
                <a:lnTo>
                  <a:pt x="621" y="245"/>
                </a:lnTo>
                <a:lnTo>
                  <a:pt x="620" y="271"/>
                </a:lnTo>
                <a:lnTo>
                  <a:pt x="620" y="279"/>
                </a:lnTo>
                <a:lnTo>
                  <a:pt x="620" y="296"/>
                </a:lnTo>
                <a:lnTo>
                  <a:pt x="620" y="345"/>
                </a:lnTo>
                <a:lnTo>
                  <a:pt x="620" y="373"/>
                </a:lnTo>
                <a:lnTo>
                  <a:pt x="620" y="376"/>
                </a:lnTo>
                <a:lnTo>
                  <a:pt x="620" y="437"/>
                </a:lnTo>
                <a:lnTo>
                  <a:pt x="620" y="447"/>
                </a:lnTo>
                <a:lnTo>
                  <a:pt x="619" y="474"/>
                </a:lnTo>
                <a:lnTo>
                  <a:pt x="619" y="511"/>
                </a:lnTo>
                <a:lnTo>
                  <a:pt x="619" y="530"/>
                </a:lnTo>
                <a:lnTo>
                  <a:pt x="619" y="536"/>
                </a:lnTo>
                <a:lnTo>
                  <a:pt x="619" y="600"/>
                </a:lnTo>
                <a:lnTo>
                  <a:pt x="619" y="608"/>
                </a:lnTo>
                <a:lnTo>
                  <a:pt x="619" y="618"/>
                </a:lnTo>
                <a:lnTo>
                  <a:pt x="619" y="686"/>
                </a:lnTo>
                <a:lnTo>
                  <a:pt x="619" y="696"/>
                </a:lnTo>
                <a:lnTo>
                  <a:pt x="619" y="723"/>
                </a:lnTo>
                <a:lnTo>
                  <a:pt x="619" y="777"/>
                </a:lnTo>
                <a:lnTo>
                  <a:pt x="619" y="784"/>
                </a:lnTo>
                <a:lnTo>
                  <a:pt x="619" y="804"/>
                </a:lnTo>
                <a:lnTo>
                  <a:pt x="619" y="821"/>
                </a:lnTo>
                <a:lnTo>
                  <a:pt x="619" y="824"/>
                </a:lnTo>
                <a:lnTo>
                  <a:pt x="619" y="828"/>
                </a:lnTo>
                <a:lnTo>
                  <a:pt x="619" y="838"/>
                </a:lnTo>
                <a:lnTo>
                  <a:pt x="617" y="860"/>
                </a:lnTo>
                <a:lnTo>
                  <a:pt x="617" y="929"/>
                </a:lnTo>
                <a:lnTo>
                  <a:pt x="617" y="935"/>
                </a:lnTo>
                <a:lnTo>
                  <a:pt x="619" y="939"/>
                </a:lnTo>
                <a:lnTo>
                  <a:pt x="623" y="987"/>
                </a:lnTo>
                <a:lnTo>
                  <a:pt x="630" y="1045"/>
                </a:lnTo>
                <a:lnTo>
                  <a:pt x="631" y="1051"/>
                </a:lnTo>
                <a:lnTo>
                  <a:pt x="632" y="1064"/>
                </a:lnTo>
                <a:lnTo>
                  <a:pt x="635" y="1081"/>
                </a:lnTo>
                <a:lnTo>
                  <a:pt x="638" y="1116"/>
                </a:lnTo>
                <a:lnTo>
                  <a:pt x="644" y="1159"/>
                </a:lnTo>
                <a:lnTo>
                  <a:pt x="644" y="1167"/>
                </a:lnTo>
                <a:lnTo>
                  <a:pt x="646" y="1179"/>
                </a:lnTo>
                <a:lnTo>
                  <a:pt x="647" y="1193"/>
                </a:lnTo>
                <a:lnTo>
                  <a:pt x="655" y="1267"/>
                </a:lnTo>
                <a:lnTo>
                  <a:pt x="656" y="1271"/>
                </a:lnTo>
                <a:lnTo>
                  <a:pt x="660" y="1311"/>
                </a:lnTo>
                <a:lnTo>
                  <a:pt x="664" y="1349"/>
                </a:lnTo>
                <a:lnTo>
                  <a:pt x="669" y="1386"/>
                </a:lnTo>
                <a:lnTo>
                  <a:pt x="648" y="1396"/>
                </a:lnTo>
                <a:lnTo>
                  <a:pt x="596" y="1393"/>
                </a:lnTo>
                <a:lnTo>
                  <a:pt x="575" y="1379"/>
                </a:lnTo>
                <a:lnTo>
                  <a:pt x="575" y="1389"/>
                </a:lnTo>
                <a:lnTo>
                  <a:pt x="544" y="1389"/>
                </a:lnTo>
                <a:lnTo>
                  <a:pt x="487" y="1415"/>
                </a:lnTo>
                <a:lnTo>
                  <a:pt x="476" y="1400"/>
                </a:lnTo>
                <a:lnTo>
                  <a:pt x="480" y="1415"/>
                </a:lnTo>
                <a:lnTo>
                  <a:pt x="447" y="1459"/>
                </a:lnTo>
                <a:lnTo>
                  <a:pt x="443" y="1461"/>
                </a:lnTo>
                <a:lnTo>
                  <a:pt x="421" y="1442"/>
                </a:lnTo>
                <a:lnTo>
                  <a:pt x="404" y="1381"/>
                </a:lnTo>
                <a:lnTo>
                  <a:pt x="390" y="1370"/>
                </a:lnTo>
                <a:lnTo>
                  <a:pt x="389" y="1370"/>
                </a:lnTo>
                <a:lnTo>
                  <a:pt x="368" y="1323"/>
                </a:lnTo>
                <a:lnTo>
                  <a:pt x="371" y="1298"/>
                </a:lnTo>
                <a:lnTo>
                  <a:pt x="382" y="1244"/>
                </a:lnTo>
                <a:lnTo>
                  <a:pt x="385" y="1221"/>
                </a:lnTo>
                <a:lnTo>
                  <a:pt x="381" y="1223"/>
                </a:lnTo>
                <a:lnTo>
                  <a:pt x="380" y="1221"/>
                </a:lnTo>
                <a:lnTo>
                  <a:pt x="364" y="1223"/>
                </a:lnTo>
                <a:lnTo>
                  <a:pt x="305" y="1230"/>
                </a:lnTo>
                <a:lnTo>
                  <a:pt x="280" y="1231"/>
                </a:lnTo>
                <a:lnTo>
                  <a:pt x="278" y="1233"/>
                </a:lnTo>
                <a:lnTo>
                  <a:pt x="261" y="1234"/>
                </a:lnTo>
                <a:lnTo>
                  <a:pt x="255" y="1234"/>
                </a:lnTo>
                <a:lnTo>
                  <a:pt x="230" y="1237"/>
                </a:lnTo>
                <a:lnTo>
                  <a:pt x="220" y="1238"/>
                </a:lnTo>
                <a:lnTo>
                  <a:pt x="216" y="1238"/>
                </a:lnTo>
                <a:lnTo>
                  <a:pt x="188" y="1241"/>
                </a:lnTo>
                <a:lnTo>
                  <a:pt x="180" y="1241"/>
                </a:lnTo>
                <a:lnTo>
                  <a:pt x="164" y="1242"/>
                </a:lnTo>
                <a:lnTo>
                  <a:pt x="129" y="1245"/>
                </a:lnTo>
                <a:lnTo>
                  <a:pt x="118" y="1247"/>
                </a:lnTo>
                <a:lnTo>
                  <a:pt x="94" y="1250"/>
                </a:lnTo>
                <a:lnTo>
                  <a:pt x="79" y="1250"/>
                </a:lnTo>
                <a:lnTo>
                  <a:pt x="54" y="1252"/>
                </a:lnTo>
                <a:lnTo>
                  <a:pt x="0" y="1257"/>
                </a:lnTo>
                <a:lnTo>
                  <a:pt x="6" y="1252"/>
                </a:lnTo>
                <a:lnTo>
                  <a:pt x="1" y="1217"/>
                </a:lnTo>
                <a:lnTo>
                  <a:pt x="7" y="1198"/>
                </a:lnTo>
                <a:lnTo>
                  <a:pt x="23" y="1145"/>
                </a:lnTo>
                <a:lnTo>
                  <a:pt x="19" y="1062"/>
                </a:lnTo>
                <a:lnTo>
                  <a:pt x="41" y="1034"/>
                </a:lnTo>
                <a:lnTo>
                  <a:pt x="41" y="1033"/>
                </a:lnTo>
                <a:lnTo>
                  <a:pt x="46" y="1028"/>
                </a:lnTo>
                <a:lnTo>
                  <a:pt x="53" y="1028"/>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8" name="Freeform 61"/>
          <p:cNvSpPr/>
          <p:nvPr/>
        </p:nvSpPr>
        <p:spPr>
          <a:xfrm>
            <a:off x="4516560" y="4557600"/>
            <a:ext cx="446040" cy="774720"/>
          </a:xfrm>
          <a:custGeom>
            <a:avLst/>
            <a:gdLst>
              <a:gd name="textAreaLeft" fmla="*/ 0 w 446040"/>
              <a:gd name="textAreaRight" fmla="*/ 446400 w 446040"/>
              <a:gd name="textAreaTop" fmla="*/ 0 h 774720"/>
              <a:gd name="textAreaBottom" fmla="*/ 775080 h 774720"/>
            </a:gdLst>
            <a:ahLst/>
            <a:rect l="textAreaLeft" t="textAreaTop" r="textAreaRight" b="textAreaBottom"/>
            <a:pathLst>
              <a:path w="735" h="1479">
                <a:moveTo>
                  <a:pt x="45" y="1224"/>
                </a:moveTo>
                <a:lnTo>
                  <a:pt x="45" y="1232"/>
                </a:lnTo>
                <a:lnTo>
                  <a:pt x="47" y="1244"/>
                </a:lnTo>
                <a:lnTo>
                  <a:pt x="48" y="1258"/>
                </a:lnTo>
                <a:lnTo>
                  <a:pt x="56" y="1332"/>
                </a:lnTo>
                <a:lnTo>
                  <a:pt x="57" y="1336"/>
                </a:lnTo>
                <a:lnTo>
                  <a:pt x="61" y="1376"/>
                </a:lnTo>
                <a:lnTo>
                  <a:pt x="65" y="1414"/>
                </a:lnTo>
                <a:lnTo>
                  <a:pt x="70" y="1451"/>
                </a:lnTo>
                <a:lnTo>
                  <a:pt x="72" y="1439"/>
                </a:lnTo>
                <a:lnTo>
                  <a:pt x="97" y="1438"/>
                </a:lnTo>
                <a:lnTo>
                  <a:pt x="108" y="1455"/>
                </a:lnTo>
                <a:lnTo>
                  <a:pt x="124" y="1446"/>
                </a:lnTo>
                <a:lnTo>
                  <a:pt x="125" y="1398"/>
                </a:lnTo>
                <a:lnTo>
                  <a:pt x="140" y="1343"/>
                </a:lnTo>
                <a:lnTo>
                  <a:pt x="159" y="1357"/>
                </a:lnTo>
                <a:lnTo>
                  <a:pt x="160" y="1394"/>
                </a:lnTo>
                <a:lnTo>
                  <a:pt x="147" y="1479"/>
                </a:lnTo>
                <a:lnTo>
                  <a:pt x="243" y="1451"/>
                </a:lnTo>
                <a:lnTo>
                  <a:pt x="273" y="1395"/>
                </a:lnTo>
                <a:lnTo>
                  <a:pt x="260" y="1381"/>
                </a:lnTo>
                <a:lnTo>
                  <a:pt x="265" y="1343"/>
                </a:lnTo>
                <a:lnTo>
                  <a:pt x="213" y="1283"/>
                </a:lnTo>
                <a:lnTo>
                  <a:pt x="214" y="1238"/>
                </a:lnTo>
                <a:lnTo>
                  <a:pt x="284" y="1229"/>
                </a:lnTo>
                <a:lnTo>
                  <a:pt x="287" y="1229"/>
                </a:lnTo>
                <a:lnTo>
                  <a:pt x="302" y="1227"/>
                </a:lnTo>
                <a:lnTo>
                  <a:pt x="307" y="1225"/>
                </a:lnTo>
                <a:lnTo>
                  <a:pt x="335" y="1222"/>
                </a:lnTo>
                <a:lnTo>
                  <a:pt x="377" y="1217"/>
                </a:lnTo>
                <a:lnTo>
                  <a:pt x="391" y="1215"/>
                </a:lnTo>
                <a:lnTo>
                  <a:pt x="395" y="1215"/>
                </a:lnTo>
                <a:lnTo>
                  <a:pt x="398" y="1215"/>
                </a:lnTo>
                <a:lnTo>
                  <a:pt x="422" y="1211"/>
                </a:lnTo>
                <a:lnTo>
                  <a:pt x="429" y="1211"/>
                </a:lnTo>
                <a:lnTo>
                  <a:pt x="457" y="1207"/>
                </a:lnTo>
                <a:lnTo>
                  <a:pt x="460" y="1205"/>
                </a:lnTo>
                <a:lnTo>
                  <a:pt x="485" y="1202"/>
                </a:lnTo>
                <a:lnTo>
                  <a:pt x="497" y="1201"/>
                </a:lnTo>
                <a:lnTo>
                  <a:pt x="503" y="1200"/>
                </a:lnTo>
                <a:lnTo>
                  <a:pt x="510" y="1200"/>
                </a:lnTo>
                <a:lnTo>
                  <a:pt x="528" y="1197"/>
                </a:lnTo>
                <a:lnTo>
                  <a:pt x="547" y="1194"/>
                </a:lnTo>
                <a:lnTo>
                  <a:pt x="582" y="1188"/>
                </a:lnTo>
                <a:lnTo>
                  <a:pt x="636" y="1180"/>
                </a:lnTo>
                <a:lnTo>
                  <a:pt x="638" y="1178"/>
                </a:lnTo>
                <a:lnTo>
                  <a:pt x="686" y="1170"/>
                </a:lnTo>
                <a:lnTo>
                  <a:pt x="704" y="1167"/>
                </a:lnTo>
                <a:lnTo>
                  <a:pt x="735" y="1163"/>
                </a:lnTo>
                <a:lnTo>
                  <a:pt x="735" y="1160"/>
                </a:lnTo>
                <a:lnTo>
                  <a:pt x="735" y="1159"/>
                </a:lnTo>
                <a:lnTo>
                  <a:pt x="727" y="1142"/>
                </a:lnTo>
                <a:lnTo>
                  <a:pt x="720" y="1127"/>
                </a:lnTo>
                <a:lnTo>
                  <a:pt x="707" y="1092"/>
                </a:lnTo>
                <a:lnTo>
                  <a:pt x="709" y="1073"/>
                </a:lnTo>
                <a:lnTo>
                  <a:pt x="707" y="1055"/>
                </a:lnTo>
                <a:lnTo>
                  <a:pt x="709" y="1017"/>
                </a:lnTo>
                <a:lnTo>
                  <a:pt x="711" y="1011"/>
                </a:lnTo>
                <a:lnTo>
                  <a:pt x="703" y="980"/>
                </a:lnTo>
                <a:lnTo>
                  <a:pt x="689" y="961"/>
                </a:lnTo>
                <a:lnTo>
                  <a:pt x="687" y="942"/>
                </a:lnTo>
                <a:lnTo>
                  <a:pt x="687" y="940"/>
                </a:lnTo>
                <a:lnTo>
                  <a:pt x="687" y="939"/>
                </a:lnTo>
                <a:lnTo>
                  <a:pt x="684" y="936"/>
                </a:lnTo>
                <a:lnTo>
                  <a:pt x="683" y="909"/>
                </a:lnTo>
                <a:lnTo>
                  <a:pt x="684" y="902"/>
                </a:lnTo>
                <a:lnTo>
                  <a:pt x="692" y="872"/>
                </a:lnTo>
                <a:lnTo>
                  <a:pt x="692" y="869"/>
                </a:lnTo>
                <a:lnTo>
                  <a:pt x="692" y="849"/>
                </a:lnTo>
                <a:lnTo>
                  <a:pt x="689" y="831"/>
                </a:lnTo>
                <a:lnTo>
                  <a:pt x="700" y="812"/>
                </a:lnTo>
                <a:lnTo>
                  <a:pt x="713" y="795"/>
                </a:lnTo>
                <a:lnTo>
                  <a:pt x="716" y="790"/>
                </a:lnTo>
                <a:lnTo>
                  <a:pt x="695" y="771"/>
                </a:lnTo>
                <a:lnTo>
                  <a:pt x="699" y="754"/>
                </a:lnTo>
                <a:lnTo>
                  <a:pt x="691" y="719"/>
                </a:lnTo>
                <a:lnTo>
                  <a:pt x="689" y="716"/>
                </a:lnTo>
                <a:lnTo>
                  <a:pt x="670" y="689"/>
                </a:lnTo>
                <a:lnTo>
                  <a:pt x="667" y="682"/>
                </a:lnTo>
                <a:lnTo>
                  <a:pt x="657" y="651"/>
                </a:lnTo>
                <a:lnTo>
                  <a:pt x="655" y="649"/>
                </a:lnTo>
                <a:lnTo>
                  <a:pt x="656" y="641"/>
                </a:lnTo>
                <a:lnTo>
                  <a:pt x="643" y="615"/>
                </a:lnTo>
                <a:lnTo>
                  <a:pt x="636" y="590"/>
                </a:lnTo>
                <a:lnTo>
                  <a:pt x="633" y="580"/>
                </a:lnTo>
                <a:lnTo>
                  <a:pt x="625" y="546"/>
                </a:lnTo>
                <a:lnTo>
                  <a:pt x="624" y="540"/>
                </a:lnTo>
                <a:lnTo>
                  <a:pt x="619" y="515"/>
                </a:lnTo>
                <a:lnTo>
                  <a:pt x="607" y="468"/>
                </a:lnTo>
                <a:lnTo>
                  <a:pt x="604" y="452"/>
                </a:lnTo>
                <a:lnTo>
                  <a:pt x="600" y="437"/>
                </a:lnTo>
                <a:lnTo>
                  <a:pt x="599" y="432"/>
                </a:lnTo>
                <a:lnTo>
                  <a:pt x="590" y="395"/>
                </a:lnTo>
                <a:lnTo>
                  <a:pt x="589" y="387"/>
                </a:lnTo>
                <a:lnTo>
                  <a:pt x="575" y="332"/>
                </a:lnTo>
                <a:lnTo>
                  <a:pt x="575" y="327"/>
                </a:lnTo>
                <a:lnTo>
                  <a:pt x="572" y="315"/>
                </a:lnTo>
                <a:lnTo>
                  <a:pt x="567" y="298"/>
                </a:lnTo>
                <a:lnTo>
                  <a:pt x="565" y="286"/>
                </a:lnTo>
                <a:lnTo>
                  <a:pt x="563" y="278"/>
                </a:lnTo>
                <a:lnTo>
                  <a:pt x="559" y="264"/>
                </a:lnTo>
                <a:lnTo>
                  <a:pt x="555" y="239"/>
                </a:lnTo>
                <a:lnTo>
                  <a:pt x="550" y="221"/>
                </a:lnTo>
                <a:lnTo>
                  <a:pt x="545" y="203"/>
                </a:lnTo>
                <a:lnTo>
                  <a:pt x="537" y="169"/>
                </a:lnTo>
                <a:lnTo>
                  <a:pt x="533" y="152"/>
                </a:lnTo>
                <a:lnTo>
                  <a:pt x="529" y="135"/>
                </a:lnTo>
                <a:lnTo>
                  <a:pt x="524" y="116"/>
                </a:lnTo>
                <a:lnTo>
                  <a:pt x="521" y="105"/>
                </a:lnTo>
                <a:lnTo>
                  <a:pt x="512" y="68"/>
                </a:lnTo>
                <a:lnTo>
                  <a:pt x="508" y="47"/>
                </a:lnTo>
                <a:lnTo>
                  <a:pt x="505" y="37"/>
                </a:lnTo>
                <a:lnTo>
                  <a:pt x="504" y="32"/>
                </a:lnTo>
                <a:lnTo>
                  <a:pt x="497" y="0"/>
                </a:lnTo>
                <a:lnTo>
                  <a:pt x="494" y="1"/>
                </a:lnTo>
                <a:lnTo>
                  <a:pt x="453" y="5"/>
                </a:lnTo>
                <a:lnTo>
                  <a:pt x="446" y="7"/>
                </a:lnTo>
                <a:lnTo>
                  <a:pt x="411" y="11"/>
                </a:lnTo>
                <a:lnTo>
                  <a:pt x="371" y="17"/>
                </a:lnTo>
                <a:lnTo>
                  <a:pt x="363" y="18"/>
                </a:lnTo>
                <a:lnTo>
                  <a:pt x="361" y="18"/>
                </a:lnTo>
                <a:lnTo>
                  <a:pt x="350" y="20"/>
                </a:lnTo>
                <a:lnTo>
                  <a:pt x="326" y="24"/>
                </a:lnTo>
                <a:lnTo>
                  <a:pt x="272" y="31"/>
                </a:lnTo>
                <a:lnTo>
                  <a:pt x="262" y="32"/>
                </a:lnTo>
                <a:lnTo>
                  <a:pt x="257" y="32"/>
                </a:lnTo>
                <a:lnTo>
                  <a:pt x="245" y="34"/>
                </a:lnTo>
                <a:lnTo>
                  <a:pt x="190" y="39"/>
                </a:lnTo>
                <a:lnTo>
                  <a:pt x="189" y="39"/>
                </a:lnTo>
                <a:lnTo>
                  <a:pt x="188" y="39"/>
                </a:lnTo>
                <a:lnTo>
                  <a:pt x="183" y="41"/>
                </a:lnTo>
                <a:lnTo>
                  <a:pt x="159" y="42"/>
                </a:lnTo>
                <a:lnTo>
                  <a:pt x="114" y="48"/>
                </a:lnTo>
                <a:lnTo>
                  <a:pt x="100" y="49"/>
                </a:lnTo>
                <a:lnTo>
                  <a:pt x="57" y="55"/>
                </a:lnTo>
                <a:lnTo>
                  <a:pt x="41" y="56"/>
                </a:lnTo>
                <a:lnTo>
                  <a:pt x="0" y="61"/>
                </a:lnTo>
                <a:lnTo>
                  <a:pt x="0" y="62"/>
                </a:lnTo>
                <a:lnTo>
                  <a:pt x="1" y="65"/>
                </a:lnTo>
                <a:lnTo>
                  <a:pt x="17" y="91"/>
                </a:lnTo>
                <a:lnTo>
                  <a:pt x="23" y="93"/>
                </a:lnTo>
                <a:lnTo>
                  <a:pt x="23" y="110"/>
                </a:lnTo>
                <a:lnTo>
                  <a:pt x="22" y="159"/>
                </a:lnTo>
                <a:lnTo>
                  <a:pt x="22" y="187"/>
                </a:lnTo>
                <a:lnTo>
                  <a:pt x="22" y="211"/>
                </a:lnTo>
                <a:lnTo>
                  <a:pt x="22" y="213"/>
                </a:lnTo>
                <a:lnTo>
                  <a:pt x="22" y="222"/>
                </a:lnTo>
                <a:lnTo>
                  <a:pt x="22" y="228"/>
                </a:lnTo>
                <a:lnTo>
                  <a:pt x="22" y="248"/>
                </a:lnTo>
                <a:lnTo>
                  <a:pt x="22" y="265"/>
                </a:lnTo>
                <a:lnTo>
                  <a:pt x="22" y="305"/>
                </a:lnTo>
                <a:lnTo>
                  <a:pt x="22" y="310"/>
                </a:lnTo>
                <a:lnTo>
                  <a:pt x="21" y="336"/>
                </a:lnTo>
                <a:lnTo>
                  <a:pt x="21" y="344"/>
                </a:lnTo>
                <a:lnTo>
                  <a:pt x="21" y="361"/>
                </a:lnTo>
                <a:lnTo>
                  <a:pt x="21" y="410"/>
                </a:lnTo>
                <a:lnTo>
                  <a:pt x="21" y="438"/>
                </a:lnTo>
                <a:lnTo>
                  <a:pt x="21" y="441"/>
                </a:lnTo>
                <a:lnTo>
                  <a:pt x="21" y="502"/>
                </a:lnTo>
                <a:lnTo>
                  <a:pt x="21" y="512"/>
                </a:lnTo>
                <a:lnTo>
                  <a:pt x="20" y="539"/>
                </a:lnTo>
                <a:lnTo>
                  <a:pt x="20" y="576"/>
                </a:lnTo>
                <a:lnTo>
                  <a:pt x="20" y="595"/>
                </a:lnTo>
                <a:lnTo>
                  <a:pt x="20" y="601"/>
                </a:lnTo>
                <a:lnTo>
                  <a:pt x="20" y="665"/>
                </a:lnTo>
                <a:lnTo>
                  <a:pt x="20" y="673"/>
                </a:lnTo>
                <a:lnTo>
                  <a:pt x="20" y="683"/>
                </a:lnTo>
                <a:lnTo>
                  <a:pt x="20" y="751"/>
                </a:lnTo>
                <a:lnTo>
                  <a:pt x="20" y="761"/>
                </a:lnTo>
                <a:lnTo>
                  <a:pt x="20" y="788"/>
                </a:lnTo>
                <a:lnTo>
                  <a:pt x="20" y="842"/>
                </a:lnTo>
                <a:lnTo>
                  <a:pt x="20" y="849"/>
                </a:lnTo>
                <a:lnTo>
                  <a:pt x="20" y="869"/>
                </a:lnTo>
                <a:lnTo>
                  <a:pt x="20" y="886"/>
                </a:lnTo>
                <a:lnTo>
                  <a:pt x="20" y="889"/>
                </a:lnTo>
                <a:lnTo>
                  <a:pt x="20" y="893"/>
                </a:lnTo>
                <a:lnTo>
                  <a:pt x="20" y="903"/>
                </a:lnTo>
                <a:lnTo>
                  <a:pt x="18" y="925"/>
                </a:lnTo>
                <a:lnTo>
                  <a:pt x="18" y="994"/>
                </a:lnTo>
                <a:lnTo>
                  <a:pt x="18" y="1000"/>
                </a:lnTo>
                <a:lnTo>
                  <a:pt x="20" y="1004"/>
                </a:lnTo>
                <a:lnTo>
                  <a:pt x="24" y="1052"/>
                </a:lnTo>
                <a:lnTo>
                  <a:pt x="31" y="1110"/>
                </a:lnTo>
                <a:lnTo>
                  <a:pt x="32" y="1116"/>
                </a:lnTo>
                <a:lnTo>
                  <a:pt x="33" y="1129"/>
                </a:lnTo>
                <a:lnTo>
                  <a:pt x="36" y="1146"/>
                </a:lnTo>
                <a:lnTo>
                  <a:pt x="39" y="1181"/>
                </a:lnTo>
                <a:lnTo>
                  <a:pt x="45" y="1224"/>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69" name="Freeform 62"/>
          <p:cNvSpPr/>
          <p:nvPr/>
        </p:nvSpPr>
        <p:spPr>
          <a:xfrm>
            <a:off x="4646520" y="5133960"/>
            <a:ext cx="1038240" cy="880920"/>
          </a:xfrm>
          <a:custGeom>
            <a:avLst/>
            <a:gdLst>
              <a:gd name="textAreaLeft" fmla="*/ 0 w 1038240"/>
              <a:gd name="textAreaRight" fmla="*/ 1038600 w 1038240"/>
              <a:gd name="textAreaTop" fmla="*/ 0 h 880920"/>
              <a:gd name="textAreaBottom" fmla="*/ 881280 h 880920"/>
            </a:gdLst>
            <a:ahLst/>
            <a:rect l="textAreaLeft" t="textAreaTop" r="textAreaRight" b="textAreaBottom"/>
            <a:pathLst>
              <a:path w="1716" h="1680">
                <a:moveTo>
                  <a:pt x="344" y="308"/>
                </a:moveTo>
                <a:lnTo>
                  <a:pt x="424" y="353"/>
                </a:lnTo>
                <a:lnTo>
                  <a:pt x="454" y="381"/>
                </a:lnTo>
                <a:lnTo>
                  <a:pt x="476" y="391"/>
                </a:lnTo>
                <a:lnTo>
                  <a:pt x="486" y="455"/>
                </a:lnTo>
                <a:lnTo>
                  <a:pt x="478" y="405"/>
                </a:lnTo>
                <a:lnTo>
                  <a:pt x="487" y="461"/>
                </a:lnTo>
                <a:lnTo>
                  <a:pt x="518" y="458"/>
                </a:lnTo>
                <a:lnTo>
                  <a:pt x="539" y="469"/>
                </a:lnTo>
                <a:lnTo>
                  <a:pt x="537" y="444"/>
                </a:lnTo>
                <a:lnTo>
                  <a:pt x="562" y="441"/>
                </a:lnTo>
                <a:lnTo>
                  <a:pt x="584" y="421"/>
                </a:lnTo>
                <a:lnTo>
                  <a:pt x="578" y="432"/>
                </a:lnTo>
                <a:lnTo>
                  <a:pt x="657" y="364"/>
                </a:lnTo>
                <a:lnTo>
                  <a:pt x="683" y="367"/>
                </a:lnTo>
                <a:lnTo>
                  <a:pt x="686" y="343"/>
                </a:lnTo>
                <a:lnTo>
                  <a:pt x="683" y="335"/>
                </a:lnTo>
                <a:lnTo>
                  <a:pt x="703" y="306"/>
                </a:lnTo>
                <a:lnTo>
                  <a:pt x="737" y="296"/>
                </a:lnTo>
                <a:lnTo>
                  <a:pt x="753" y="298"/>
                </a:lnTo>
                <a:lnTo>
                  <a:pt x="754" y="299"/>
                </a:lnTo>
                <a:lnTo>
                  <a:pt x="833" y="346"/>
                </a:lnTo>
                <a:lnTo>
                  <a:pt x="848" y="378"/>
                </a:lnTo>
                <a:lnTo>
                  <a:pt x="883" y="401"/>
                </a:lnTo>
                <a:lnTo>
                  <a:pt x="899" y="449"/>
                </a:lnTo>
                <a:lnTo>
                  <a:pt x="926" y="464"/>
                </a:lnTo>
                <a:lnTo>
                  <a:pt x="950" y="502"/>
                </a:lnTo>
                <a:lnTo>
                  <a:pt x="968" y="510"/>
                </a:lnTo>
                <a:lnTo>
                  <a:pt x="970" y="547"/>
                </a:lnTo>
                <a:lnTo>
                  <a:pt x="984" y="544"/>
                </a:lnTo>
                <a:lnTo>
                  <a:pt x="989" y="534"/>
                </a:lnTo>
                <a:lnTo>
                  <a:pt x="1013" y="529"/>
                </a:lnTo>
                <a:lnTo>
                  <a:pt x="1029" y="536"/>
                </a:lnTo>
                <a:lnTo>
                  <a:pt x="1042" y="576"/>
                </a:lnTo>
                <a:lnTo>
                  <a:pt x="1062" y="598"/>
                </a:lnTo>
                <a:lnTo>
                  <a:pt x="1050" y="630"/>
                </a:lnTo>
                <a:lnTo>
                  <a:pt x="1064" y="642"/>
                </a:lnTo>
                <a:lnTo>
                  <a:pt x="1061" y="652"/>
                </a:lnTo>
                <a:lnTo>
                  <a:pt x="1071" y="658"/>
                </a:lnTo>
                <a:lnTo>
                  <a:pt x="1072" y="661"/>
                </a:lnTo>
                <a:lnTo>
                  <a:pt x="1079" y="734"/>
                </a:lnTo>
                <a:lnTo>
                  <a:pt x="1069" y="793"/>
                </a:lnTo>
                <a:lnTo>
                  <a:pt x="1063" y="815"/>
                </a:lnTo>
                <a:lnTo>
                  <a:pt x="1069" y="828"/>
                </a:lnTo>
                <a:lnTo>
                  <a:pt x="1059" y="839"/>
                </a:lnTo>
                <a:lnTo>
                  <a:pt x="1064" y="905"/>
                </a:lnTo>
                <a:lnTo>
                  <a:pt x="1087" y="937"/>
                </a:lnTo>
                <a:lnTo>
                  <a:pt x="1094" y="968"/>
                </a:lnTo>
                <a:lnTo>
                  <a:pt x="1101" y="974"/>
                </a:lnTo>
                <a:lnTo>
                  <a:pt x="1115" y="936"/>
                </a:lnTo>
                <a:lnTo>
                  <a:pt x="1115" y="895"/>
                </a:lnTo>
                <a:lnTo>
                  <a:pt x="1110" y="885"/>
                </a:lnTo>
                <a:lnTo>
                  <a:pt x="1088" y="879"/>
                </a:lnTo>
                <a:lnTo>
                  <a:pt x="1103" y="871"/>
                </a:lnTo>
                <a:lnTo>
                  <a:pt x="1138" y="906"/>
                </a:lnTo>
                <a:lnTo>
                  <a:pt x="1139" y="890"/>
                </a:lnTo>
                <a:lnTo>
                  <a:pt x="1157" y="888"/>
                </a:lnTo>
                <a:lnTo>
                  <a:pt x="1134" y="960"/>
                </a:lnTo>
                <a:lnTo>
                  <a:pt x="1121" y="980"/>
                </a:lnTo>
                <a:lnTo>
                  <a:pt x="1122" y="988"/>
                </a:lnTo>
                <a:lnTo>
                  <a:pt x="1098" y="1000"/>
                </a:lnTo>
                <a:lnTo>
                  <a:pt x="1125" y="1038"/>
                </a:lnTo>
                <a:lnTo>
                  <a:pt x="1125" y="1039"/>
                </a:lnTo>
                <a:lnTo>
                  <a:pt x="1152" y="1075"/>
                </a:lnTo>
                <a:lnTo>
                  <a:pt x="1197" y="1157"/>
                </a:lnTo>
                <a:lnTo>
                  <a:pt x="1209" y="1177"/>
                </a:lnTo>
                <a:lnTo>
                  <a:pt x="1224" y="1200"/>
                </a:lnTo>
                <a:lnTo>
                  <a:pt x="1251" y="1281"/>
                </a:lnTo>
                <a:lnTo>
                  <a:pt x="1267" y="1296"/>
                </a:lnTo>
                <a:lnTo>
                  <a:pt x="1290" y="1286"/>
                </a:lnTo>
                <a:lnTo>
                  <a:pt x="1291" y="1278"/>
                </a:lnTo>
                <a:lnTo>
                  <a:pt x="1330" y="1316"/>
                </a:lnTo>
                <a:lnTo>
                  <a:pt x="1346" y="1374"/>
                </a:lnTo>
                <a:lnTo>
                  <a:pt x="1384" y="1449"/>
                </a:lnTo>
                <a:lnTo>
                  <a:pt x="1384" y="1441"/>
                </a:lnTo>
                <a:lnTo>
                  <a:pt x="1393" y="1435"/>
                </a:lnTo>
                <a:lnTo>
                  <a:pt x="1430" y="1454"/>
                </a:lnTo>
                <a:lnTo>
                  <a:pt x="1446" y="1456"/>
                </a:lnTo>
                <a:lnTo>
                  <a:pt x="1484" y="1498"/>
                </a:lnTo>
                <a:lnTo>
                  <a:pt x="1521" y="1573"/>
                </a:lnTo>
                <a:lnTo>
                  <a:pt x="1516" y="1578"/>
                </a:lnTo>
                <a:lnTo>
                  <a:pt x="1516" y="1610"/>
                </a:lnTo>
                <a:lnTo>
                  <a:pt x="1537" y="1637"/>
                </a:lnTo>
                <a:lnTo>
                  <a:pt x="1556" y="1631"/>
                </a:lnTo>
                <a:lnTo>
                  <a:pt x="1584" y="1608"/>
                </a:lnTo>
                <a:lnTo>
                  <a:pt x="1597" y="1610"/>
                </a:lnTo>
                <a:lnTo>
                  <a:pt x="1598" y="1615"/>
                </a:lnTo>
                <a:lnTo>
                  <a:pt x="1618" y="1611"/>
                </a:lnTo>
                <a:lnTo>
                  <a:pt x="1610" y="1645"/>
                </a:lnTo>
                <a:lnTo>
                  <a:pt x="1620" y="1654"/>
                </a:lnTo>
                <a:lnTo>
                  <a:pt x="1634" y="1642"/>
                </a:lnTo>
                <a:lnTo>
                  <a:pt x="1629" y="1608"/>
                </a:lnTo>
                <a:lnTo>
                  <a:pt x="1632" y="1593"/>
                </a:lnTo>
                <a:lnTo>
                  <a:pt x="1636" y="1597"/>
                </a:lnTo>
                <a:lnTo>
                  <a:pt x="1662" y="1583"/>
                </a:lnTo>
                <a:lnTo>
                  <a:pt x="1665" y="1631"/>
                </a:lnTo>
                <a:lnTo>
                  <a:pt x="1654" y="1644"/>
                </a:lnTo>
                <a:lnTo>
                  <a:pt x="1656" y="1649"/>
                </a:lnTo>
                <a:lnTo>
                  <a:pt x="1638" y="1680"/>
                </a:lnTo>
                <a:lnTo>
                  <a:pt x="1655" y="1659"/>
                </a:lnTo>
                <a:lnTo>
                  <a:pt x="1688" y="1598"/>
                </a:lnTo>
                <a:lnTo>
                  <a:pt x="1706" y="1533"/>
                </a:lnTo>
                <a:lnTo>
                  <a:pt x="1716" y="1483"/>
                </a:lnTo>
                <a:lnTo>
                  <a:pt x="1714" y="1478"/>
                </a:lnTo>
                <a:lnTo>
                  <a:pt x="1703" y="1530"/>
                </a:lnTo>
                <a:lnTo>
                  <a:pt x="1681" y="1547"/>
                </a:lnTo>
                <a:lnTo>
                  <a:pt x="1693" y="1526"/>
                </a:lnTo>
                <a:lnTo>
                  <a:pt x="1681" y="1490"/>
                </a:lnTo>
                <a:lnTo>
                  <a:pt x="1692" y="1431"/>
                </a:lnTo>
                <a:lnTo>
                  <a:pt x="1706" y="1422"/>
                </a:lnTo>
                <a:lnTo>
                  <a:pt x="1713" y="1434"/>
                </a:lnTo>
                <a:lnTo>
                  <a:pt x="1708" y="1343"/>
                </a:lnTo>
                <a:lnTo>
                  <a:pt x="1708" y="1336"/>
                </a:lnTo>
                <a:lnTo>
                  <a:pt x="1703" y="1241"/>
                </a:lnTo>
                <a:lnTo>
                  <a:pt x="1692" y="1102"/>
                </a:lnTo>
                <a:lnTo>
                  <a:pt x="1674" y="1052"/>
                </a:lnTo>
                <a:lnTo>
                  <a:pt x="1637" y="971"/>
                </a:lnTo>
                <a:lnTo>
                  <a:pt x="1600" y="892"/>
                </a:lnTo>
                <a:lnTo>
                  <a:pt x="1561" y="808"/>
                </a:lnTo>
                <a:lnTo>
                  <a:pt x="1524" y="737"/>
                </a:lnTo>
                <a:lnTo>
                  <a:pt x="1509" y="673"/>
                </a:lnTo>
                <a:lnTo>
                  <a:pt x="1514" y="627"/>
                </a:lnTo>
                <a:lnTo>
                  <a:pt x="1464" y="549"/>
                </a:lnTo>
                <a:lnTo>
                  <a:pt x="1399" y="448"/>
                </a:lnTo>
                <a:lnTo>
                  <a:pt x="1367" y="384"/>
                </a:lnTo>
                <a:lnTo>
                  <a:pt x="1363" y="378"/>
                </a:lnTo>
                <a:lnTo>
                  <a:pt x="1331" y="312"/>
                </a:lnTo>
                <a:lnTo>
                  <a:pt x="1329" y="313"/>
                </a:lnTo>
                <a:lnTo>
                  <a:pt x="1322" y="291"/>
                </a:lnTo>
                <a:lnTo>
                  <a:pt x="1309" y="245"/>
                </a:lnTo>
                <a:lnTo>
                  <a:pt x="1275" y="149"/>
                </a:lnTo>
                <a:lnTo>
                  <a:pt x="1257" y="78"/>
                </a:lnTo>
                <a:lnTo>
                  <a:pt x="1253" y="78"/>
                </a:lnTo>
                <a:lnTo>
                  <a:pt x="1253" y="75"/>
                </a:lnTo>
                <a:lnTo>
                  <a:pt x="1245" y="18"/>
                </a:lnTo>
                <a:lnTo>
                  <a:pt x="1243" y="17"/>
                </a:lnTo>
                <a:lnTo>
                  <a:pt x="1185" y="17"/>
                </a:lnTo>
                <a:lnTo>
                  <a:pt x="1155" y="7"/>
                </a:lnTo>
                <a:lnTo>
                  <a:pt x="1147" y="0"/>
                </a:lnTo>
                <a:lnTo>
                  <a:pt x="1123" y="28"/>
                </a:lnTo>
                <a:lnTo>
                  <a:pt x="1138" y="100"/>
                </a:lnTo>
                <a:lnTo>
                  <a:pt x="1136" y="143"/>
                </a:lnTo>
                <a:lnTo>
                  <a:pt x="1109" y="144"/>
                </a:lnTo>
                <a:lnTo>
                  <a:pt x="1098" y="109"/>
                </a:lnTo>
                <a:lnTo>
                  <a:pt x="1096" y="89"/>
                </a:lnTo>
                <a:lnTo>
                  <a:pt x="1088" y="89"/>
                </a:lnTo>
                <a:lnTo>
                  <a:pt x="1063" y="92"/>
                </a:lnTo>
                <a:lnTo>
                  <a:pt x="1054" y="93"/>
                </a:lnTo>
                <a:lnTo>
                  <a:pt x="1046" y="93"/>
                </a:lnTo>
                <a:lnTo>
                  <a:pt x="1038" y="95"/>
                </a:lnTo>
                <a:lnTo>
                  <a:pt x="1021" y="96"/>
                </a:lnTo>
                <a:lnTo>
                  <a:pt x="1003" y="98"/>
                </a:lnTo>
                <a:lnTo>
                  <a:pt x="999" y="99"/>
                </a:lnTo>
                <a:lnTo>
                  <a:pt x="987" y="99"/>
                </a:lnTo>
                <a:lnTo>
                  <a:pt x="962" y="102"/>
                </a:lnTo>
                <a:lnTo>
                  <a:pt x="909" y="108"/>
                </a:lnTo>
                <a:lnTo>
                  <a:pt x="896" y="109"/>
                </a:lnTo>
                <a:lnTo>
                  <a:pt x="886" y="109"/>
                </a:lnTo>
                <a:lnTo>
                  <a:pt x="873" y="110"/>
                </a:lnTo>
                <a:lnTo>
                  <a:pt x="867" y="112"/>
                </a:lnTo>
                <a:lnTo>
                  <a:pt x="864" y="112"/>
                </a:lnTo>
                <a:lnTo>
                  <a:pt x="857" y="112"/>
                </a:lnTo>
                <a:lnTo>
                  <a:pt x="835" y="115"/>
                </a:lnTo>
                <a:lnTo>
                  <a:pt x="813" y="116"/>
                </a:lnTo>
                <a:lnTo>
                  <a:pt x="806" y="118"/>
                </a:lnTo>
                <a:lnTo>
                  <a:pt x="799" y="118"/>
                </a:lnTo>
                <a:lnTo>
                  <a:pt x="785" y="119"/>
                </a:lnTo>
                <a:lnTo>
                  <a:pt x="759" y="122"/>
                </a:lnTo>
                <a:lnTo>
                  <a:pt x="745" y="123"/>
                </a:lnTo>
                <a:lnTo>
                  <a:pt x="733" y="125"/>
                </a:lnTo>
                <a:lnTo>
                  <a:pt x="730" y="125"/>
                </a:lnTo>
                <a:lnTo>
                  <a:pt x="723" y="125"/>
                </a:lnTo>
                <a:lnTo>
                  <a:pt x="717" y="126"/>
                </a:lnTo>
                <a:lnTo>
                  <a:pt x="695" y="127"/>
                </a:lnTo>
                <a:lnTo>
                  <a:pt x="682" y="129"/>
                </a:lnTo>
                <a:lnTo>
                  <a:pt x="676" y="130"/>
                </a:lnTo>
                <a:lnTo>
                  <a:pt x="671" y="130"/>
                </a:lnTo>
                <a:lnTo>
                  <a:pt x="658" y="132"/>
                </a:lnTo>
                <a:lnTo>
                  <a:pt x="657" y="132"/>
                </a:lnTo>
                <a:lnTo>
                  <a:pt x="638" y="135"/>
                </a:lnTo>
                <a:lnTo>
                  <a:pt x="603" y="137"/>
                </a:lnTo>
                <a:lnTo>
                  <a:pt x="559" y="142"/>
                </a:lnTo>
                <a:lnTo>
                  <a:pt x="556" y="137"/>
                </a:lnTo>
                <a:lnTo>
                  <a:pt x="523" y="69"/>
                </a:lnTo>
                <a:lnTo>
                  <a:pt x="522" y="61"/>
                </a:lnTo>
                <a:lnTo>
                  <a:pt x="491" y="65"/>
                </a:lnTo>
                <a:lnTo>
                  <a:pt x="473" y="68"/>
                </a:lnTo>
                <a:lnTo>
                  <a:pt x="425" y="76"/>
                </a:lnTo>
                <a:lnTo>
                  <a:pt x="423" y="78"/>
                </a:lnTo>
                <a:lnTo>
                  <a:pt x="369" y="86"/>
                </a:lnTo>
                <a:lnTo>
                  <a:pt x="334" y="92"/>
                </a:lnTo>
                <a:lnTo>
                  <a:pt x="315" y="95"/>
                </a:lnTo>
                <a:lnTo>
                  <a:pt x="297" y="98"/>
                </a:lnTo>
                <a:lnTo>
                  <a:pt x="290" y="98"/>
                </a:lnTo>
                <a:lnTo>
                  <a:pt x="284" y="99"/>
                </a:lnTo>
                <a:lnTo>
                  <a:pt x="272" y="100"/>
                </a:lnTo>
                <a:lnTo>
                  <a:pt x="247" y="103"/>
                </a:lnTo>
                <a:lnTo>
                  <a:pt x="244" y="105"/>
                </a:lnTo>
                <a:lnTo>
                  <a:pt x="216" y="109"/>
                </a:lnTo>
                <a:lnTo>
                  <a:pt x="209" y="109"/>
                </a:lnTo>
                <a:lnTo>
                  <a:pt x="185" y="113"/>
                </a:lnTo>
                <a:lnTo>
                  <a:pt x="182" y="113"/>
                </a:lnTo>
                <a:lnTo>
                  <a:pt x="178" y="113"/>
                </a:lnTo>
                <a:lnTo>
                  <a:pt x="164" y="115"/>
                </a:lnTo>
                <a:lnTo>
                  <a:pt x="122" y="120"/>
                </a:lnTo>
                <a:lnTo>
                  <a:pt x="94" y="123"/>
                </a:lnTo>
                <a:lnTo>
                  <a:pt x="89" y="125"/>
                </a:lnTo>
                <a:lnTo>
                  <a:pt x="74" y="127"/>
                </a:lnTo>
                <a:lnTo>
                  <a:pt x="71" y="127"/>
                </a:lnTo>
                <a:lnTo>
                  <a:pt x="1" y="136"/>
                </a:lnTo>
                <a:lnTo>
                  <a:pt x="0" y="181"/>
                </a:lnTo>
                <a:lnTo>
                  <a:pt x="52" y="241"/>
                </a:lnTo>
                <a:lnTo>
                  <a:pt x="47" y="279"/>
                </a:lnTo>
                <a:lnTo>
                  <a:pt x="60" y="293"/>
                </a:lnTo>
                <a:lnTo>
                  <a:pt x="30" y="349"/>
                </a:lnTo>
                <a:lnTo>
                  <a:pt x="64" y="335"/>
                </a:lnTo>
                <a:lnTo>
                  <a:pt x="168" y="299"/>
                </a:lnTo>
                <a:lnTo>
                  <a:pt x="178" y="296"/>
                </a:lnTo>
                <a:lnTo>
                  <a:pt x="238" y="289"/>
                </a:lnTo>
                <a:lnTo>
                  <a:pt x="259" y="286"/>
                </a:lnTo>
                <a:lnTo>
                  <a:pt x="263" y="286"/>
                </a:lnTo>
                <a:lnTo>
                  <a:pt x="264" y="286"/>
                </a:lnTo>
                <a:lnTo>
                  <a:pt x="344" y="308"/>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0" name="Freeform 63"/>
          <p:cNvSpPr/>
          <p:nvPr/>
        </p:nvSpPr>
        <p:spPr>
          <a:xfrm>
            <a:off x="5497560" y="6049800"/>
            <a:ext cx="63360" cy="46080"/>
          </a:xfrm>
          <a:custGeom>
            <a:avLst/>
            <a:gdLst>
              <a:gd name="textAreaLeft" fmla="*/ 0 w 63360"/>
              <a:gd name="textAreaRight" fmla="*/ 63720 w 63360"/>
              <a:gd name="textAreaTop" fmla="*/ 0 h 46080"/>
              <a:gd name="textAreaBottom" fmla="*/ 46440 h 46080"/>
            </a:gdLst>
            <a:ahLst/>
            <a:rect l="textAreaLeft" t="textAreaTop" r="textAreaRight" b="textAreaBottom"/>
            <a:pathLst>
              <a:path w="105" h="87">
                <a:moveTo>
                  <a:pt x="0" y="87"/>
                </a:moveTo>
                <a:lnTo>
                  <a:pt x="58" y="53"/>
                </a:lnTo>
                <a:lnTo>
                  <a:pt x="61" y="38"/>
                </a:lnTo>
                <a:lnTo>
                  <a:pt x="86" y="46"/>
                </a:lnTo>
                <a:lnTo>
                  <a:pt x="105" y="33"/>
                </a:lnTo>
                <a:lnTo>
                  <a:pt x="84" y="10"/>
                </a:lnTo>
                <a:lnTo>
                  <a:pt x="58" y="0"/>
                </a:lnTo>
                <a:lnTo>
                  <a:pt x="59" y="19"/>
                </a:lnTo>
                <a:lnTo>
                  <a:pt x="53" y="30"/>
                </a:lnTo>
                <a:lnTo>
                  <a:pt x="39" y="21"/>
                </a:lnTo>
                <a:lnTo>
                  <a:pt x="9" y="50"/>
                </a:lnTo>
                <a:lnTo>
                  <a:pt x="11" y="74"/>
                </a:lnTo>
                <a:lnTo>
                  <a:pt x="0" y="87"/>
                </a:lnTo>
                <a:close/>
              </a:path>
            </a:pathLst>
          </a:custGeom>
          <a:solidFill>
            <a:srgbClr val="ffffff"/>
          </a:solidFill>
          <a:ln w="0">
            <a:solidFill>
              <a:srgbClr val="000000"/>
            </a:solidFill>
          </a:ln>
        </p:spPr>
        <p:style>
          <a:lnRef idx="0"/>
          <a:fillRef idx="0"/>
          <a:effectRef idx="0"/>
          <a:fontRef idx="minor"/>
        </p:style>
        <p:txBody>
          <a:bodyPr lIns="90000" rIns="90000" tIns="-360" bIns="-360" anchor="t">
            <a:noAutofit/>
          </a:bodyPr>
          <a:p>
            <a:endParaRPr b="0" lang="en-US" sz="2800" spc="-1" strike="noStrike">
              <a:solidFill>
                <a:srgbClr val="000000"/>
              </a:solidFill>
              <a:latin typeface="Arial"/>
            </a:endParaRPr>
          </a:p>
        </p:txBody>
      </p:sp>
      <p:sp>
        <p:nvSpPr>
          <p:cNvPr id="171" name="Freeform 64"/>
          <p:cNvSpPr/>
          <p:nvPr/>
        </p:nvSpPr>
        <p:spPr>
          <a:xfrm>
            <a:off x="5581800" y="6035760"/>
            <a:ext cx="28440" cy="20520"/>
          </a:xfrm>
          <a:custGeom>
            <a:avLst/>
            <a:gdLst>
              <a:gd name="textAreaLeft" fmla="*/ 0 w 28440"/>
              <a:gd name="textAreaRight" fmla="*/ 28800 w 28440"/>
              <a:gd name="textAreaTop" fmla="*/ 0 h 20520"/>
              <a:gd name="textAreaBottom" fmla="*/ 20880 h 20520"/>
            </a:gdLst>
            <a:ahLst/>
            <a:rect l="textAreaLeft" t="textAreaTop" r="textAreaRight" b="textAreaBottom"/>
            <a:pathLst>
              <a:path w="48" h="39">
                <a:moveTo>
                  <a:pt x="0" y="35"/>
                </a:moveTo>
                <a:lnTo>
                  <a:pt x="5" y="39"/>
                </a:lnTo>
                <a:lnTo>
                  <a:pt x="48" y="0"/>
                </a:lnTo>
                <a:lnTo>
                  <a:pt x="28" y="15"/>
                </a:lnTo>
                <a:lnTo>
                  <a:pt x="0" y="35"/>
                </a:lnTo>
                <a:close/>
              </a:path>
            </a:pathLst>
          </a:custGeom>
          <a:solidFill>
            <a:srgbClr val="ffffff"/>
          </a:solidFill>
          <a:ln w="0">
            <a:solidFill>
              <a:srgbClr val="000000"/>
            </a:solidFill>
          </a:ln>
        </p:spPr>
        <p:style>
          <a:lnRef idx="0"/>
          <a:fillRef idx="0"/>
          <a:effectRef idx="0"/>
          <a:fontRef idx="minor"/>
        </p:style>
        <p:txBody>
          <a:bodyPr lIns="90000" rIns="90000" tIns="-25920" bIns="-25920" anchor="t">
            <a:noAutofit/>
          </a:bodyPr>
          <a:p>
            <a:endParaRPr b="0" lang="en-US" sz="2800" spc="-1" strike="noStrike">
              <a:solidFill>
                <a:srgbClr val="000000"/>
              </a:solidFill>
              <a:latin typeface="Arial"/>
            </a:endParaRPr>
          </a:p>
        </p:txBody>
      </p:sp>
      <p:sp>
        <p:nvSpPr>
          <p:cNvPr id="172" name="Freeform 65"/>
          <p:cNvSpPr/>
          <p:nvPr/>
        </p:nvSpPr>
        <p:spPr>
          <a:xfrm>
            <a:off x="5613480" y="6026040"/>
            <a:ext cx="9360" cy="6480"/>
          </a:xfrm>
          <a:custGeom>
            <a:avLst/>
            <a:gdLst>
              <a:gd name="textAreaLeft" fmla="*/ 0 w 9360"/>
              <a:gd name="textAreaRight" fmla="*/ 9720 w 9360"/>
              <a:gd name="textAreaTop" fmla="*/ 0 h 6480"/>
              <a:gd name="textAreaBottom" fmla="*/ 6840 h 6480"/>
            </a:gdLst>
            <a:ahLst/>
            <a:rect l="textAreaLeft" t="textAreaTop" r="textAreaRight" b="textAreaBottom"/>
            <a:pathLst>
              <a:path w="13" h="14">
                <a:moveTo>
                  <a:pt x="0" y="14"/>
                </a:moveTo>
                <a:lnTo>
                  <a:pt x="13" y="0"/>
                </a:lnTo>
                <a:lnTo>
                  <a:pt x="12" y="10"/>
                </a:lnTo>
                <a:lnTo>
                  <a:pt x="0" y="14"/>
                </a:lnTo>
                <a:close/>
              </a:path>
            </a:pathLst>
          </a:custGeom>
          <a:solidFill>
            <a:srgbClr val="ffffff"/>
          </a:solidFill>
          <a:ln w="0">
            <a:solidFill>
              <a:srgbClr val="000000"/>
            </a:solidFill>
          </a:ln>
        </p:spPr>
        <p:style>
          <a:lnRef idx="0"/>
          <a:fillRef idx="0"/>
          <a:effectRef idx="0"/>
          <a:fontRef idx="minor"/>
        </p:style>
        <p:txBody>
          <a:bodyPr lIns="90000" rIns="90000" tIns="-39960" bIns="-39960" anchor="t">
            <a:noAutofit/>
          </a:bodyPr>
          <a:p>
            <a:endParaRPr b="0" lang="en-US" sz="2800" spc="-1" strike="noStrike">
              <a:solidFill>
                <a:srgbClr val="000000"/>
              </a:solidFill>
              <a:latin typeface="Arial"/>
            </a:endParaRPr>
          </a:p>
        </p:txBody>
      </p:sp>
      <p:sp>
        <p:nvSpPr>
          <p:cNvPr id="173" name="Freeform 66"/>
          <p:cNvSpPr/>
          <p:nvPr/>
        </p:nvSpPr>
        <p:spPr>
          <a:xfrm>
            <a:off x="5551560" y="6051600"/>
            <a:ext cx="6120" cy="4680"/>
          </a:xfrm>
          <a:custGeom>
            <a:avLst/>
            <a:gdLst>
              <a:gd name="textAreaLeft" fmla="*/ 0 w 6120"/>
              <a:gd name="textAreaRight" fmla="*/ 6480 w 6120"/>
              <a:gd name="textAreaTop" fmla="*/ 0 h 4680"/>
              <a:gd name="textAreaBottom" fmla="*/ 5040 h 4680"/>
            </a:gdLst>
            <a:ahLst/>
            <a:rect l="textAreaLeft" t="textAreaTop" r="textAreaRight" b="textAreaBottom"/>
            <a:pathLst>
              <a:path w="9" h="9">
                <a:moveTo>
                  <a:pt x="0" y="0"/>
                </a:moveTo>
                <a:lnTo>
                  <a:pt x="5" y="9"/>
                </a:lnTo>
                <a:lnTo>
                  <a:pt x="9" y="0"/>
                </a:lnTo>
                <a:lnTo>
                  <a:pt x="0" y="0"/>
                </a:lnTo>
                <a:close/>
              </a:path>
            </a:pathLst>
          </a:custGeom>
          <a:solidFill>
            <a:srgbClr val="ffffff"/>
          </a:solidFill>
          <a:ln w="0">
            <a:solidFill>
              <a:srgbClr val="000000"/>
            </a:solidFill>
          </a:ln>
        </p:spPr>
        <p:style>
          <a:lnRef idx="0"/>
          <a:fillRef idx="0"/>
          <a:effectRef idx="0"/>
          <a:fontRef idx="minor"/>
        </p:style>
        <p:txBody>
          <a:bodyPr lIns="90000" rIns="90000" tIns="-41760" bIns="-41760" anchor="t">
            <a:noAutofit/>
          </a:bodyPr>
          <a:p>
            <a:endParaRPr b="0" lang="en-US" sz="2800" spc="-1" strike="noStrike">
              <a:solidFill>
                <a:srgbClr val="000000"/>
              </a:solidFill>
              <a:latin typeface="Arial"/>
            </a:endParaRPr>
          </a:p>
        </p:txBody>
      </p:sp>
      <p:sp>
        <p:nvSpPr>
          <p:cNvPr id="174" name="Freeform 67"/>
          <p:cNvSpPr/>
          <p:nvPr/>
        </p:nvSpPr>
        <p:spPr>
          <a:xfrm>
            <a:off x="5626080" y="6018120"/>
            <a:ext cx="7920" cy="6480"/>
          </a:xfrm>
          <a:custGeom>
            <a:avLst/>
            <a:gdLst>
              <a:gd name="textAreaLeft" fmla="*/ 0 w 7920"/>
              <a:gd name="textAreaRight" fmla="*/ 8280 w 7920"/>
              <a:gd name="textAreaTop" fmla="*/ 0 h 6480"/>
              <a:gd name="textAreaBottom" fmla="*/ 6840 h 6480"/>
            </a:gdLst>
            <a:ahLst/>
            <a:rect l="textAreaLeft" t="textAreaTop" r="textAreaRight" b="textAreaBottom"/>
            <a:pathLst>
              <a:path w="10" h="14">
                <a:moveTo>
                  <a:pt x="0" y="14"/>
                </a:moveTo>
                <a:lnTo>
                  <a:pt x="10" y="1"/>
                </a:lnTo>
                <a:lnTo>
                  <a:pt x="10" y="0"/>
                </a:lnTo>
                <a:lnTo>
                  <a:pt x="0" y="14"/>
                </a:lnTo>
                <a:close/>
              </a:path>
            </a:pathLst>
          </a:custGeom>
          <a:solidFill>
            <a:srgbClr val="ffffff"/>
          </a:solidFill>
          <a:ln w="0">
            <a:solidFill>
              <a:srgbClr val="000000"/>
            </a:solidFill>
          </a:ln>
        </p:spPr>
        <p:style>
          <a:lnRef idx="0"/>
          <a:fillRef idx="0"/>
          <a:effectRef idx="0"/>
          <a:fontRef idx="minor"/>
        </p:style>
        <p:txBody>
          <a:bodyPr lIns="90000" rIns="90000" tIns="-39960" bIns="-39960" anchor="t">
            <a:noAutofit/>
          </a:bodyPr>
          <a:p>
            <a:endParaRPr b="0" lang="en-US" sz="2800" spc="-1" strike="noStrike">
              <a:solidFill>
                <a:srgbClr val="000000"/>
              </a:solidFill>
              <a:latin typeface="Arial"/>
            </a:endParaRPr>
          </a:p>
        </p:txBody>
      </p:sp>
      <p:sp>
        <p:nvSpPr>
          <p:cNvPr id="175" name="Freeform 68"/>
          <p:cNvSpPr/>
          <p:nvPr/>
        </p:nvSpPr>
        <p:spPr>
          <a:xfrm>
            <a:off x="5624640" y="6026040"/>
            <a:ext cx="1440" cy="1800"/>
          </a:xfrm>
          <a:custGeom>
            <a:avLst/>
            <a:gdLst>
              <a:gd name="textAreaLeft" fmla="*/ 0 w 1440"/>
              <a:gd name="textAreaRight" fmla="*/ 1800 w 1440"/>
              <a:gd name="textAreaTop" fmla="*/ 0 h 1800"/>
              <a:gd name="textAreaBottom" fmla="*/ 2160 h 1800"/>
            </a:gdLst>
            <a:ahLst/>
            <a:rect l="textAreaLeft" t="textAreaTop" r="textAreaRight" b="textAreaBottom"/>
            <a:pathLst>
              <a:path w="2" h="1588">
                <a:moveTo>
                  <a:pt x="0" y="0"/>
                </a:moveTo>
                <a:lnTo>
                  <a:pt x="2" y="0"/>
                </a:lnTo>
                <a:lnTo>
                  <a:pt x="0" y="0"/>
                </a:lnTo>
                <a:close/>
              </a:path>
            </a:pathLst>
          </a:custGeom>
          <a:solidFill>
            <a:srgbClr val="ffffff"/>
          </a:solidFill>
          <a:ln w="0">
            <a:solidFill>
              <a:srgbClr val="000000"/>
            </a:solidFill>
          </a:ln>
        </p:spPr>
        <p:style>
          <a:lnRef idx="0"/>
          <a:fillRef idx="0"/>
          <a:effectRef idx="0"/>
          <a:fontRef idx="minor"/>
        </p:style>
        <p:txBody>
          <a:bodyPr lIns="90000" rIns="90000" tIns="-44640" bIns="-44640" anchor="t">
            <a:noAutofit/>
          </a:bodyPr>
          <a:p>
            <a:endParaRPr b="0" lang="en-US" sz="2800" spc="-1" strike="noStrike">
              <a:solidFill>
                <a:srgbClr val="000000"/>
              </a:solidFill>
              <a:latin typeface="Arial"/>
            </a:endParaRPr>
          </a:p>
        </p:txBody>
      </p:sp>
      <p:sp>
        <p:nvSpPr>
          <p:cNvPr id="176" name="Freeform 69"/>
          <p:cNvSpPr/>
          <p:nvPr/>
        </p:nvSpPr>
        <p:spPr>
          <a:xfrm>
            <a:off x="4818240" y="4514760"/>
            <a:ext cx="620640" cy="695520"/>
          </a:xfrm>
          <a:custGeom>
            <a:avLst/>
            <a:gdLst>
              <a:gd name="textAreaLeft" fmla="*/ 0 w 620640"/>
              <a:gd name="textAreaRight" fmla="*/ 621000 w 620640"/>
              <a:gd name="textAreaTop" fmla="*/ 0 h 695520"/>
              <a:gd name="textAreaBottom" fmla="*/ 695880 h 695520"/>
            </a:gdLst>
            <a:ahLst/>
            <a:rect l="textAreaLeft" t="textAreaTop" r="textAreaRight" b="textAreaBottom"/>
            <a:pathLst>
              <a:path w="1028" h="1330">
                <a:moveTo>
                  <a:pt x="152" y="60"/>
                </a:moveTo>
                <a:lnTo>
                  <a:pt x="159" y="58"/>
                </a:lnTo>
                <a:lnTo>
                  <a:pt x="164" y="57"/>
                </a:lnTo>
                <a:lnTo>
                  <a:pt x="172" y="57"/>
                </a:lnTo>
                <a:lnTo>
                  <a:pt x="188" y="54"/>
                </a:lnTo>
                <a:lnTo>
                  <a:pt x="214" y="48"/>
                </a:lnTo>
                <a:lnTo>
                  <a:pt x="235" y="45"/>
                </a:lnTo>
                <a:lnTo>
                  <a:pt x="245" y="44"/>
                </a:lnTo>
                <a:lnTo>
                  <a:pt x="259" y="41"/>
                </a:lnTo>
                <a:lnTo>
                  <a:pt x="282" y="38"/>
                </a:lnTo>
                <a:lnTo>
                  <a:pt x="283" y="37"/>
                </a:lnTo>
                <a:lnTo>
                  <a:pt x="306" y="34"/>
                </a:lnTo>
                <a:lnTo>
                  <a:pt x="316" y="31"/>
                </a:lnTo>
                <a:lnTo>
                  <a:pt x="319" y="31"/>
                </a:lnTo>
                <a:lnTo>
                  <a:pt x="379" y="21"/>
                </a:lnTo>
                <a:lnTo>
                  <a:pt x="379" y="20"/>
                </a:lnTo>
                <a:lnTo>
                  <a:pt x="392" y="17"/>
                </a:lnTo>
                <a:lnTo>
                  <a:pt x="402" y="16"/>
                </a:lnTo>
                <a:lnTo>
                  <a:pt x="405" y="14"/>
                </a:lnTo>
                <a:lnTo>
                  <a:pt x="436" y="9"/>
                </a:lnTo>
                <a:lnTo>
                  <a:pt x="463" y="2"/>
                </a:lnTo>
                <a:lnTo>
                  <a:pt x="476" y="0"/>
                </a:lnTo>
                <a:lnTo>
                  <a:pt x="475" y="19"/>
                </a:lnTo>
                <a:lnTo>
                  <a:pt x="454" y="47"/>
                </a:lnTo>
                <a:lnTo>
                  <a:pt x="439" y="92"/>
                </a:lnTo>
                <a:lnTo>
                  <a:pt x="443" y="101"/>
                </a:lnTo>
                <a:lnTo>
                  <a:pt x="465" y="115"/>
                </a:lnTo>
                <a:lnTo>
                  <a:pt x="489" y="131"/>
                </a:lnTo>
                <a:lnTo>
                  <a:pt x="493" y="136"/>
                </a:lnTo>
                <a:lnTo>
                  <a:pt x="505" y="146"/>
                </a:lnTo>
                <a:lnTo>
                  <a:pt x="505" y="148"/>
                </a:lnTo>
                <a:lnTo>
                  <a:pt x="509" y="150"/>
                </a:lnTo>
                <a:lnTo>
                  <a:pt x="516" y="152"/>
                </a:lnTo>
                <a:lnTo>
                  <a:pt x="517" y="149"/>
                </a:lnTo>
                <a:lnTo>
                  <a:pt x="540" y="150"/>
                </a:lnTo>
                <a:lnTo>
                  <a:pt x="550" y="175"/>
                </a:lnTo>
                <a:lnTo>
                  <a:pt x="565" y="197"/>
                </a:lnTo>
                <a:lnTo>
                  <a:pt x="571" y="203"/>
                </a:lnTo>
                <a:lnTo>
                  <a:pt x="573" y="209"/>
                </a:lnTo>
                <a:lnTo>
                  <a:pt x="574" y="220"/>
                </a:lnTo>
                <a:lnTo>
                  <a:pt x="591" y="243"/>
                </a:lnTo>
                <a:lnTo>
                  <a:pt x="603" y="260"/>
                </a:lnTo>
                <a:lnTo>
                  <a:pt x="610" y="272"/>
                </a:lnTo>
                <a:lnTo>
                  <a:pt x="611" y="275"/>
                </a:lnTo>
                <a:lnTo>
                  <a:pt x="612" y="277"/>
                </a:lnTo>
                <a:lnTo>
                  <a:pt x="618" y="289"/>
                </a:lnTo>
                <a:lnTo>
                  <a:pt x="659" y="314"/>
                </a:lnTo>
                <a:lnTo>
                  <a:pt x="686" y="336"/>
                </a:lnTo>
                <a:lnTo>
                  <a:pt x="694" y="356"/>
                </a:lnTo>
                <a:lnTo>
                  <a:pt x="702" y="373"/>
                </a:lnTo>
                <a:lnTo>
                  <a:pt x="716" y="380"/>
                </a:lnTo>
                <a:lnTo>
                  <a:pt x="718" y="379"/>
                </a:lnTo>
                <a:lnTo>
                  <a:pt x="735" y="389"/>
                </a:lnTo>
                <a:lnTo>
                  <a:pt x="735" y="390"/>
                </a:lnTo>
                <a:lnTo>
                  <a:pt x="737" y="390"/>
                </a:lnTo>
                <a:lnTo>
                  <a:pt x="738" y="392"/>
                </a:lnTo>
                <a:lnTo>
                  <a:pt x="763" y="437"/>
                </a:lnTo>
                <a:lnTo>
                  <a:pt x="775" y="453"/>
                </a:lnTo>
                <a:lnTo>
                  <a:pt x="782" y="471"/>
                </a:lnTo>
                <a:lnTo>
                  <a:pt x="803" y="482"/>
                </a:lnTo>
                <a:lnTo>
                  <a:pt x="806" y="496"/>
                </a:lnTo>
                <a:lnTo>
                  <a:pt x="813" y="502"/>
                </a:lnTo>
                <a:lnTo>
                  <a:pt x="834" y="506"/>
                </a:lnTo>
                <a:lnTo>
                  <a:pt x="850" y="519"/>
                </a:lnTo>
                <a:lnTo>
                  <a:pt x="861" y="528"/>
                </a:lnTo>
                <a:lnTo>
                  <a:pt x="862" y="550"/>
                </a:lnTo>
                <a:lnTo>
                  <a:pt x="889" y="601"/>
                </a:lnTo>
                <a:lnTo>
                  <a:pt x="892" y="637"/>
                </a:lnTo>
                <a:lnTo>
                  <a:pt x="898" y="645"/>
                </a:lnTo>
                <a:lnTo>
                  <a:pt x="900" y="647"/>
                </a:lnTo>
                <a:lnTo>
                  <a:pt x="901" y="645"/>
                </a:lnTo>
                <a:lnTo>
                  <a:pt x="921" y="653"/>
                </a:lnTo>
                <a:lnTo>
                  <a:pt x="961" y="719"/>
                </a:lnTo>
                <a:lnTo>
                  <a:pt x="958" y="738"/>
                </a:lnTo>
                <a:lnTo>
                  <a:pt x="961" y="745"/>
                </a:lnTo>
                <a:lnTo>
                  <a:pt x="970" y="773"/>
                </a:lnTo>
                <a:lnTo>
                  <a:pt x="994" y="776"/>
                </a:lnTo>
                <a:lnTo>
                  <a:pt x="1017" y="786"/>
                </a:lnTo>
                <a:lnTo>
                  <a:pt x="1025" y="786"/>
                </a:lnTo>
                <a:lnTo>
                  <a:pt x="1028" y="799"/>
                </a:lnTo>
                <a:lnTo>
                  <a:pt x="1003" y="847"/>
                </a:lnTo>
                <a:lnTo>
                  <a:pt x="990" y="844"/>
                </a:lnTo>
                <a:lnTo>
                  <a:pt x="997" y="861"/>
                </a:lnTo>
                <a:lnTo>
                  <a:pt x="983" y="891"/>
                </a:lnTo>
                <a:lnTo>
                  <a:pt x="978" y="889"/>
                </a:lnTo>
                <a:lnTo>
                  <a:pt x="975" y="891"/>
                </a:lnTo>
                <a:lnTo>
                  <a:pt x="972" y="895"/>
                </a:lnTo>
                <a:lnTo>
                  <a:pt x="982" y="899"/>
                </a:lnTo>
                <a:lnTo>
                  <a:pt x="987" y="921"/>
                </a:lnTo>
                <a:lnTo>
                  <a:pt x="981" y="943"/>
                </a:lnTo>
                <a:lnTo>
                  <a:pt x="977" y="939"/>
                </a:lnTo>
                <a:lnTo>
                  <a:pt x="964" y="948"/>
                </a:lnTo>
                <a:lnTo>
                  <a:pt x="967" y="955"/>
                </a:lnTo>
                <a:lnTo>
                  <a:pt x="982" y="953"/>
                </a:lnTo>
                <a:lnTo>
                  <a:pt x="969" y="997"/>
                </a:lnTo>
                <a:lnTo>
                  <a:pt x="964" y="1001"/>
                </a:lnTo>
                <a:lnTo>
                  <a:pt x="971" y="1024"/>
                </a:lnTo>
                <a:lnTo>
                  <a:pt x="974" y="1031"/>
                </a:lnTo>
                <a:lnTo>
                  <a:pt x="957" y="1072"/>
                </a:lnTo>
                <a:lnTo>
                  <a:pt x="945" y="1081"/>
                </a:lnTo>
                <a:lnTo>
                  <a:pt x="951" y="1081"/>
                </a:lnTo>
                <a:lnTo>
                  <a:pt x="950" y="1113"/>
                </a:lnTo>
                <a:lnTo>
                  <a:pt x="946" y="1118"/>
                </a:lnTo>
                <a:lnTo>
                  <a:pt x="957" y="1122"/>
                </a:lnTo>
                <a:lnTo>
                  <a:pt x="959" y="1203"/>
                </a:lnTo>
                <a:lnTo>
                  <a:pt x="901" y="1203"/>
                </a:lnTo>
                <a:lnTo>
                  <a:pt x="871" y="1193"/>
                </a:lnTo>
                <a:lnTo>
                  <a:pt x="863" y="1186"/>
                </a:lnTo>
                <a:lnTo>
                  <a:pt x="839" y="1214"/>
                </a:lnTo>
                <a:lnTo>
                  <a:pt x="854" y="1286"/>
                </a:lnTo>
                <a:lnTo>
                  <a:pt x="852" y="1329"/>
                </a:lnTo>
                <a:lnTo>
                  <a:pt x="825" y="1330"/>
                </a:lnTo>
                <a:lnTo>
                  <a:pt x="814" y="1295"/>
                </a:lnTo>
                <a:lnTo>
                  <a:pt x="812" y="1275"/>
                </a:lnTo>
                <a:lnTo>
                  <a:pt x="804" y="1275"/>
                </a:lnTo>
                <a:lnTo>
                  <a:pt x="779" y="1278"/>
                </a:lnTo>
                <a:lnTo>
                  <a:pt x="770" y="1279"/>
                </a:lnTo>
                <a:lnTo>
                  <a:pt x="762" y="1279"/>
                </a:lnTo>
                <a:lnTo>
                  <a:pt x="754" y="1281"/>
                </a:lnTo>
                <a:lnTo>
                  <a:pt x="737" y="1282"/>
                </a:lnTo>
                <a:lnTo>
                  <a:pt x="719" y="1284"/>
                </a:lnTo>
                <a:lnTo>
                  <a:pt x="715" y="1285"/>
                </a:lnTo>
                <a:lnTo>
                  <a:pt x="703" y="1285"/>
                </a:lnTo>
                <a:lnTo>
                  <a:pt x="678" y="1288"/>
                </a:lnTo>
                <a:lnTo>
                  <a:pt x="625" y="1294"/>
                </a:lnTo>
                <a:lnTo>
                  <a:pt x="612" y="1295"/>
                </a:lnTo>
                <a:lnTo>
                  <a:pt x="602" y="1295"/>
                </a:lnTo>
                <a:lnTo>
                  <a:pt x="589" y="1296"/>
                </a:lnTo>
                <a:lnTo>
                  <a:pt x="583" y="1298"/>
                </a:lnTo>
                <a:lnTo>
                  <a:pt x="580" y="1298"/>
                </a:lnTo>
                <a:lnTo>
                  <a:pt x="573" y="1298"/>
                </a:lnTo>
                <a:lnTo>
                  <a:pt x="551" y="1301"/>
                </a:lnTo>
                <a:lnTo>
                  <a:pt x="529" y="1302"/>
                </a:lnTo>
                <a:lnTo>
                  <a:pt x="522" y="1304"/>
                </a:lnTo>
                <a:lnTo>
                  <a:pt x="515" y="1304"/>
                </a:lnTo>
                <a:lnTo>
                  <a:pt x="501" y="1305"/>
                </a:lnTo>
                <a:lnTo>
                  <a:pt x="475" y="1308"/>
                </a:lnTo>
                <a:lnTo>
                  <a:pt x="461" y="1309"/>
                </a:lnTo>
                <a:lnTo>
                  <a:pt x="449" y="1311"/>
                </a:lnTo>
                <a:lnTo>
                  <a:pt x="446" y="1311"/>
                </a:lnTo>
                <a:lnTo>
                  <a:pt x="439" y="1311"/>
                </a:lnTo>
                <a:lnTo>
                  <a:pt x="433" y="1312"/>
                </a:lnTo>
                <a:lnTo>
                  <a:pt x="411" y="1313"/>
                </a:lnTo>
                <a:lnTo>
                  <a:pt x="398" y="1315"/>
                </a:lnTo>
                <a:lnTo>
                  <a:pt x="392" y="1316"/>
                </a:lnTo>
                <a:lnTo>
                  <a:pt x="387" y="1316"/>
                </a:lnTo>
                <a:lnTo>
                  <a:pt x="374" y="1318"/>
                </a:lnTo>
                <a:lnTo>
                  <a:pt x="373" y="1318"/>
                </a:lnTo>
                <a:lnTo>
                  <a:pt x="354" y="1321"/>
                </a:lnTo>
                <a:lnTo>
                  <a:pt x="319" y="1323"/>
                </a:lnTo>
                <a:lnTo>
                  <a:pt x="275" y="1328"/>
                </a:lnTo>
                <a:lnTo>
                  <a:pt x="272" y="1323"/>
                </a:lnTo>
                <a:lnTo>
                  <a:pt x="239" y="1255"/>
                </a:lnTo>
                <a:lnTo>
                  <a:pt x="238" y="1247"/>
                </a:lnTo>
                <a:lnTo>
                  <a:pt x="238" y="1244"/>
                </a:lnTo>
                <a:lnTo>
                  <a:pt x="238" y="1243"/>
                </a:lnTo>
                <a:lnTo>
                  <a:pt x="230" y="1226"/>
                </a:lnTo>
                <a:lnTo>
                  <a:pt x="223" y="1211"/>
                </a:lnTo>
                <a:lnTo>
                  <a:pt x="210" y="1176"/>
                </a:lnTo>
                <a:lnTo>
                  <a:pt x="212" y="1157"/>
                </a:lnTo>
                <a:lnTo>
                  <a:pt x="210" y="1139"/>
                </a:lnTo>
                <a:lnTo>
                  <a:pt x="212" y="1101"/>
                </a:lnTo>
                <a:lnTo>
                  <a:pt x="214" y="1095"/>
                </a:lnTo>
                <a:lnTo>
                  <a:pt x="206" y="1064"/>
                </a:lnTo>
                <a:lnTo>
                  <a:pt x="192" y="1045"/>
                </a:lnTo>
                <a:lnTo>
                  <a:pt x="190" y="1026"/>
                </a:lnTo>
                <a:lnTo>
                  <a:pt x="190" y="1024"/>
                </a:lnTo>
                <a:lnTo>
                  <a:pt x="190" y="1023"/>
                </a:lnTo>
                <a:lnTo>
                  <a:pt x="187" y="1020"/>
                </a:lnTo>
                <a:lnTo>
                  <a:pt x="186" y="993"/>
                </a:lnTo>
                <a:lnTo>
                  <a:pt x="187" y="986"/>
                </a:lnTo>
                <a:lnTo>
                  <a:pt x="195" y="956"/>
                </a:lnTo>
                <a:lnTo>
                  <a:pt x="195" y="953"/>
                </a:lnTo>
                <a:lnTo>
                  <a:pt x="195" y="933"/>
                </a:lnTo>
                <a:lnTo>
                  <a:pt x="192" y="915"/>
                </a:lnTo>
                <a:lnTo>
                  <a:pt x="203" y="896"/>
                </a:lnTo>
                <a:lnTo>
                  <a:pt x="216" y="879"/>
                </a:lnTo>
                <a:lnTo>
                  <a:pt x="219" y="874"/>
                </a:lnTo>
                <a:lnTo>
                  <a:pt x="198" y="855"/>
                </a:lnTo>
                <a:lnTo>
                  <a:pt x="202" y="838"/>
                </a:lnTo>
                <a:lnTo>
                  <a:pt x="194" y="803"/>
                </a:lnTo>
                <a:lnTo>
                  <a:pt x="192" y="800"/>
                </a:lnTo>
                <a:lnTo>
                  <a:pt x="173" y="773"/>
                </a:lnTo>
                <a:lnTo>
                  <a:pt x="170" y="766"/>
                </a:lnTo>
                <a:lnTo>
                  <a:pt x="160" y="735"/>
                </a:lnTo>
                <a:lnTo>
                  <a:pt x="158" y="733"/>
                </a:lnTo>
                <a:lnTo>
                  <a:pt x="159" y="725"/>
                </a:lnTo>
                <a:lnTo>
                  <a:pt x="146" y="699"/>
                </a:lnTo>
                <a:lnTo>
                  <a:pt x="139" y="674"/>
                </a:lnTo>
                <a:lnTo>
                  <a:pt x="136" y="664"/>
                </a:lnTo>
                <a:lnTo>
                  <a:pt x="128" y="630"/>
                </a:lnTo>
                <a:lnTo>
                  <a:pt x="127" y="624"/>
                </a:lnTo>
                <a:lnTo>
                  <a:pt x="122" y="599"/>
                </a:lnTo>
                <a:lnTo>
                  <a:pt x="110" y="552"/>
                </a:lnTo>
                <a:lnTo>
                  <a:pt x="107" y="536"/>
                </a:lnTo>
                <a:lnTo>
                  <a:pt x="103" y="521"/>
                </a:lnTo>
                <a:lnTo>
                  <a:pt x="102" y="516"/>
                </a:lnTo>
                <a:lnTo>
                  <a:pt x="93" y="479"/>
                </a:lnTo>
                <a:lnTo>
                  <a:pt x="92" y="471"/>
                </a:lnTo>
                <a:lnTo>
                  <a:pt x="78" y="416"/>
                </a:lnTo>
                <a:lnTo>
                  <a:pt x="78" y="411"/>
                </a:lnTo>
                <a:lnTo>
                  <a:pt x="75" y="399"/>
                </a:lnTo>
                <a:lnTo>
                  <a:pt x="70" y="382"/>
                </a:lnTo>
                <a:lnTo>
                  <a:pt x="68" y="370"/>
                </a:lnTo>
                <a:lnTo>
                  <a:pt x="66" y="362"/>
                </a:lnTo>
                <a:lnTo>
                  <a:pt x="62" y="348"/>
                </a:lnTo>
                <a:lnTo>
                  <a:pt x="58" y="323"/>
                </a:lnTo>
                <a:lnTo>
                  <a:pt x="53" y="305"/>
                </a:lnTo>
                <a:lnTo>
                  <a:pt x="48" y="287"/>
                </a:lnTo>
                <a:lnTo>
                  <a:pt x="40" y="253"/>
                </a:lnTo>
                <a:lnTo>
                  <a:pt x="36" y="236"/>
                </a:lnTo>
                <a:lnTo>
                  <a:pt x="32" y="219"/>
                </a:lnTo>
                <a:lnTo>
                  <a:pt x="27" y="200"/>
                </a:lnTo>
                <a:lnTo>
                  <a:pt x="24" y="189"/>
                </a:lnTo>
                <a:lnTo>
                  <a:pt x="15" y="152"/>
                </a:lnTo>
                <a:lnTo>
                  <a:pt x="11" y="131"/>
                </a:lnTo>
                <a:lnTo>
                  <a:pt x="8" y="121"/>
                </a:lnTo>
                <a:lnTo>
                  <a:pt x="7" y="116"/>
                </a:lnTo>
                <a:lnTo>
                  <a:pt x="0" y="84"/>
                </a:lnTo>
                <a:lnTo>
                  <a:pt x="21" y="81"/>
                </a:lnTo>
                <a:lnTo>
                  <a:pt x="26" y="81"/>
                </a:lnTo>
                <a:lnTo>
                  <a:pt x="45" y="78"/>
                </a:lnTo>
                <a:lnTo>
                  <a:pt x="46" y="78"/>
                </a:lnTo>
                <a:lnTo>
                  <a:pt x="56" y="75"/>
                </a:lnTo>
                <a:lnTo>
                  <a:pt x="66" y="74"/>
                </a:lnTo>
                <a:lnTo>
                  <a:pt x="68" y="74"/>
                </a:lnTo>
                <a:lnTo>
                  <a:pt x="70" y="72"/>
                </a:lnTo>
                <a:lnTo>
                  <a:pt x="119" y="64"/>
                </a:lnTo>
                <a:lnTo>
                  <a:pt x="120" y="64"/>
                </a:lnTo>
                <a:lnTo>
                  <a:pt x="132" y="62"/>
                </a:lnTo>
                <a:lnTo>
                  <a:pt x="147" y="60"/>
                </a:lnTo>
                <a:lnTo>
                  <a:pt x="152" y="6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7" name="Freeform 70"/>
          <p:cNvSpPr/>
          <p:nvPr/>
        </p:nvSpPr>
        <p:spPr>
          <a:xfrm>
            <a:off x="5823000" y="3348000"/>
            <a:ext cx="150840" cy="376200"/>
          </a:xfrm>
          <a:custGeom>
            <a:avLst/>
            <a:gdLst>
              <a:gd name="textAreaLeft" fmla="*/ 0 w 150840"/>
              <a:gd name="textAreaRight" fmla="*/ 151200 w 150840"/>
              <a:gd name="textAreaTop" fmla="*/ 0 h 376200"/>
              <a:gd name="textAreaBottom" fmla="*/ 376560 h 376200"/>
            </a:gdLst>
            <a:ahLst/>
            <a:rect l="textAreaLeft" t="textAreaTop" r="textAreaRight" b="textAreaBottom"/>
            <a:pathLst>
              <a:path w="250" h="719">
                <a:moveTo>
                  <a:pt x="224" y="521"/>
                </a:moveTo>
                <a:lnTo>
                  <a:pt x="230" y="517"/>
                </a:lnTo>
                <a:lnTo>
                  <a:pt x="250" y="432"/>
                </a:lnTo>
                <a:lnTo>
                  <a:pt x="242" y="331"/>
                </a:lnTo>
                <a:lnTo>
                  <a:pt x="238" y="249"/>
                </a:lnTo>
                <a:lnTo>
                  <a:pt x="229" y="222"/>
                </a:lnTo>
                <a:lnTo>
                  <a:pt x="231" y="233"/>
                </a:lnTo>
                <a:lnTo>
                  <a:pt x="197" y="234"/>
                </a:lnTo>
                <a:lnTo>
                  <a:pt x="193" y="241"/>
                </a:lnTo>
                <a:lnTo>
                  <a:pt x="184" y="239"/>
                </a:lnTo>
                <a:lnTo>
                  <a:pt x="181" y="227"/>
                </a:lnTo>
                <a:lnTo>
                  <a:pt x="181" y="222"/>
                </a:lnTo>
                <a:lnTo>
                  <a:pt x="180" y="215"/>
                </a:lnTo>
                <a:lnTo>
                  <a:pt x="185" y="197"/>
                </a:lnTo>
                <a:lnTo>
                  <a:pt x="184" y="190"/>
                </a:lnTo>
                <a:lnTo>
                  <a:pt x="183" y="186"/>
                </a:lnTo>
                <a:lnTo>
                  <a:pt x="190" y="180"/>
                </a:lnTo>
                <a:lnTo>
                  <a:pt x="193" y="180"/>
                </a:lnTo>
                <a:lnTo>
                  <a:pt x="202" y="175"/>
                </a:lnTo>
                <a:lnTo>
                  <a:pt x="207" y="173"/>
                </a:lnTo>
                <a:lnTo>
                  <a:pt x="209" y="162"/>
                </a:lnTo>
                <a:lnTo>
                  <a:pt x="209" y="152"/>
                </a:lnTo>
                <a:lnTo>
                  <a:pt x="209" y="139"/>
                </a:lnTo>
                <a:lnTo>
                  <a:pt x="212" y="127"/>
                </a:lnTo>
                <a:lnTo>
                  <a:pt x="215" y="102"/>
                </a:lnTo>
                <a:lnTo>
                  <a:pt x="216" y="100"/>
                </a:lnTo>
                <a:lnTo>
                  <a:pt x="216" y="98"/>
                </a:lnTo>
                <a:lnTo>
                  <a:pt x="216" y="97"/>
                </a:lnTo>
                <a:lnTo>
                  <a:pt x="216" y="88"/>
                </a:lnTo>
                <a:lnTo>
                  <a:pt x="216" y="71"/>
                </a:lnTo>
                <a:lnTo>
                  <a:pt x="216" y="68"/>
                </a:lnTo>
                <a:lnTo>
                  <a:pt x="216" y="64"/>
                </a:lnTo>
                <a:lnTo>
                  <a:pt x="215" y="64"/>
                </a:lnTo>
                <a:lnTo>
                  <a:pt x="168" y="47"/>
                </a:lnTo>
                <a:lnTo>
                  <a:pt x="153" y="41"/>
                </a:lnTo>
                <a:lnTo>
                  <a:pt x="151" y="40"/>
                </a:lnTo>
                <a:lnTo>
                  <a:pt x="149" y="40"/>
                </a:lnTo>
                <a:lnTo>
                  <a:pt x="142" y="37"/>
                </a:lnTo>
                <a:lnTo>
                  <a:pt x="130" y="32"/>
                </a:lnTo>
                <a:lnTo>
                  <a:pt x="122" y="29"/>
                </a:lnTo>
                <a:lnTo>
                  <a:pt x="104" y="20"/>
                </a:lnTo>
                <a:lnTo>
                  <a:pt x="86" y="13"/>
                </a:lnTo>
                <a:lnTo>
                  <a:pt x="57" y="0"/>
                </a:lnTo>
                <a:lnTo>
                  <a:pt x="48" y="7"/>
                </a:lnTo>
                <a:lnTo>
                  <a:pt x="36" y="40"/>
                </a:lnTo>
                <a:lnTo>
                  <a:pt x="34" y="63"/>
                </a:lnTo>
                <a:lnTo>
                  <a:pt x="21" y="93"/>
                </a:lnTo>
                <a:lnTo>
                  <a:pt x="24" y="90"/>
                </a:lnTo>
                <a:lnTo>
                  <a:pt x="25" y="91"/>
                </a:lnTo>
                <a:lnTo>
                  <a:pt x="21" y="98"/>
                </a:lnTo>
                <a:lnTo>
                  <a:pt x="2" y="129"/>
                </a:lnTo>
                <a:lnTo>
                  <a:pt x="5" y="135"/>
                </a:lnTo>
                <a:lnTo>
                  <a:pt x="22" y="159"/>
                </a:lnTo>
                <a:lnTo>
                  <a:pt x="4" y="202"/>
                </a:lnTo>
                <a:lnTo>
                  <a:pt x="10" y="243"/>
                </a:lnTo>
                <a:lnTo>
                  <a:pt x="12" y="244"/>
                </a:lnTo>
                <a:lnTo>
                  <a:pt x="13" y="247"/>
                </a:lnTo>
                <a:lnTo>
                  <a:pt x="25" y="250"/>
                </a:lnTo>
                <a:lnTo>
                  <a:pt x="66" y="300"/>
                </a:lnTo>
                <a:lnTo>
                  <a:pt x="70" y="308"/>
                </a:lnTo>
                <a:lnTo>
                  <a:pt x="84" y="317"/>
                </a:lnTo>
                <a:lnTo>
                  <a:pt x="93" y="329"/>
                </a:lnTo>
                <a:lnTo>
                  <a:pt x="119" y="354"/>
                </a:lnTo>
                <a:lnTo>
                  <a:pt x="105" y="365"/>
                </a:lnTo>
                <a:lnTo>
                  <a:pt x="96" y="380"/>
                </a:lnTo>
                <a:lnTo>
                  <a:pt x="80" y="395"/>
                </a:lnTo>
                <a:lnTo>
                  <a:pt x="77" y="402"/>
                </a:lnTo>
                <a:lnTo>
                  <a:pt x="69" y="413"/>
                </a:lnTo>
                <a:lnTo>
                  <a:pt x="69" y="416"/>
                </a:lnTo>
                <a:lnTo>
                  <a:pt x="58" y="427"/>
                </a:lnTo>
                <a:lnTo>
                  <a:pt x="61" y="446"/>
                </a:lnTo>
                <a:lnTo>
                  <a:pt x="60" y="450"/>
                </a:lnTo>
                <a:lnTo>
                  <a:pt x="50" y="457"/>
                </a:lnTo>
                <a:lnTo>
                  <a:pt x="49" y="458"/>
                </a:lnTo>
                <a:lnTo>
                  <a:pt x="48" y="460"/>
                </a:lnTo>
                <a:lnTo>
                  <a:pt x="42" y="466"/>
                </a:lnTo>
                <a:lnTo>
                  <a:pt x="22" y="480"/>
                </a:lnTo>
                <a:lnTo>
                  <a:pt x="16" y="488"/>
                </a:lnTo>
                <a:lnTo>
                  <a:pt x="16" y="490"/>
                </a:lnTo>
                <a:lnTo>
                  <a:pt x="13" y="497"/>
                </a:lnTo>
                <a:lnTo>
                  <a:pt x="6" y="522"/>
                </a:lnTo>
                <a:lnTo>
                  <a:pt x="0" y="546"/>
                </a:lnTo>
                <a:lnTo>
                  <a:pt x="4" y="555"/>
                </a:lnTo>
                <a:lnTo>
                  <a:pt x="9" y="585"/>
                </a:lnTo>
                <a:lnTo>
                  <a:pt x="39" y="612"/>
                </a:lnTo>
                <a:lnTo>
                  <a:pt x="64" y="631"/>
                </a:lnTo>
                <a:lnTo>
                  <a:pt x="72" y="629"/>
                </a:lnTo>
                <a:lnTo>
                  <a:pt x="100" y="651"/>
                </a:lnTo>
                <a:lnTo>
                  <a:pt x="101" y="647"/>
                </a:lnTo>
                <a:lnTo>
                  <a:pt x="137" y="646"/>
                </a:lnTo>
                <a:lnTo>
                  <a:pt x="142" y="719"/>
                </a:lnTo>
                <a:lnTo>
                  <a:pt x="158" y="712"/>
                </a:lnTo>
                <a:lnTo>
                  <a:pt x="170" y="690"/>
                </a:lnTo>
                <a:lnTo>
                  <a:pt x="198" y="590"/>
                </a:lnTo>
                <a:lnTo>
                  <a:pt x="198" y="589"/>
                </a:lnTo>
                <a:lnTo>
                  <a:pt x="229" y="527"/>
                </a:lnTo>
                <a:lnTo>
                  <a:pt x="224" y="521"/>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8" name="Freeform 71"/>
          <p:cNvSpPr/>
          <p:nvPr/>
        </p:nvSpPr>
        <p:spPr>
          <a:xfrm>
            <a:off x="5230800" y="3268800"/>
            <a:ext cx="665280" cy="466560"/>
          </a:xfrm>
          <a:custGeom>
            <a:avLst/>
            <a:gdLst>
              <a:gd name="textAreaLeft" fmla="*/ 0 w 665280"/>
              <a:gd name="textAreaRight" fmla="*/ 665640 w 665280"/>
              <a:gd name="textAreaTop" fmla="*/ 0 h 466560"/>
              <a:gd name="textAreaBottom" fmla="*/ 466920 h 466560"/>
            </a:gdLst>
            <a:ahLst/>
            <a:rect l="textAreaLeft" t="textAreaTop" r="textAreaRight" b="textAreaBottom"/>
            <a:pathLst>
              <a:path w="1098" h="891">
                <a:moveTo>
                  <a:pt x="719" y="742"/>
                </a:moveTo>
                <a:lnTo>
                  <a:pt x="732" y="738"/>
                </a:lnTo>
                <a:lnTo>
                  <a:pt x="737" y="736"/>
                </a:lnTo>
                <a:lnTo>
                  <a:pt x="756" y="732"/>
                </a:lnTo>
                <a:lnTo>
                  <a:pt x="767" y="729"/>
                </a:lnTo>
                <a:lnTo>
                  <a:pt x="788" y="722"/>
                </a:lnTo>
                <a:lnTo>
                  <a:pt x="795" y="721"/>
                </a:lnTo>
                <a:lnTo>
                  <a:pt x="804" y="719"/>
                </a:lnTo>
                <a:lnTo>
                  <a:pt x="807" y="718"/>
                </a:lnTo>
                <a:lnTo>
                  <a:pt x="853" y="705"/>
                </a:lnTo>
                <a:lnTo>
                  <a:pt x="855" y="705"/>
                </a:lnTo>
                <a:lnTo>
                  <a:pt x="872" y="701"/>
                </a:lnTo>
                <a:lnTo>
                  <a:pt x="899" y="692"/>
                </a:lnTo>
                <a:lnTo>
                  <a:pt x="917" y="688"/>
                </a:lnTo>
                <a:lnTo>
                  <a:pt x="932" y="684"/>
                </a:lnTo>
                <a:lnTo>
                  <a:pt x="936" y="682"/>
                </a:lnTo>
                <a:lnTo>
                  <a:pt x="937" y="674"/>
                </a:lnTo>
                <a:lnTo>
                  <a:pt x="961" y="640"/>
                </a:lnTo>
                <a:lnTo>
                  <a:pt x="964" y="640"/>
                </a:lnTo>
                <a:lnTo>
                  <a:pt x="978" y="637"/>
                </a:lnTo>
                <a:lnTo>
                  <a:pt x="995" y="641"/>
                </a:lnTo>
                <a:lnTo>
                  <a:pt x="1001" y="633"/>
                </a:lnTo>
                <a:lnTo>
                  <a:pt x="1021" y="619"/>
                </a:lnTo>
                <a:lnTo>
                  <a:pt x="1027" y="613"/>
                </a:lnTo>
                <a:lnTo>
                  <a:pt x="1028" y="611"/>
                </a:lnTo>
                <a:lnTo>
                  <a:pt x="1029" y="610"/>
                </a:lnTo>
                <a:lnTo>
                  <a:pt x="1039" y="603"/>
                </a:lnTo>
                <a:lnTo>
                  <a:pt x="1040" y="599"/>
                </a:lnTo>
                <a:lnTo>
                  <a:pt x="1037" y="580"/>
                </a:lnTo>
                <a:lnTo>
                  <a:pt x="1048" y="569"/>
                </a:lnTo>
                <a:lnTo>
                  <a:pt x="1048" y="566"/>
                </a:lnTo>
                <a:lnTo>
                  <a:pt x="1056" y="555"/>
                </a:lnTo>
                <a:lnTo>
                  <a:pt x="1059" y="548"/>
                </a:lnTo>
                <a:lnTo>
                  <a:pt x="1075" y="533"/>
                </a:lnTo>
                <a:lnTo>
                  <a:pt x="1084" y="518"/>
                </a:lnTo>
                <a:lnTo>
                  <a:pt x="1098" y="507"/>
                </a:lnTo>
                <a:lnTo>
                  <a:pt x="1072" y="482"/>
                </a:lnTo>
                <a:lnTo>
                  <a:pt x="1063" y="470"/>
                </a:lnTo>
                <a:lnTo>
                  <a:pt x="1049" y="461"/>
                </a:lnTo>
                <a:lnTo>
                  <a:pt x="1045" y="453"/>
                </a:lnTo>
                <a:lnTo>
                  <a:pt x="1004" y="403"/>
                </a:lnTo>
                <a:lnTo>
                  <a:pt x="992" y="400"/>
                </a:lnTo>
                <a:lnTo>
                  <a:pt x="991" y="397"/>
                </a:lnTo>
                <a:lnTo>
                  <a:pt x="989" y="396"/>
                </a:lnTo>
                <a:lnTo>
                  <a:pt x="983" y="355"/>
                </a:lnTo>
                <a:lnTo>
                  <a:pt x="1001" y="312"/>
                </a:lnTo>
                <a:lnTo>
                  <a:pt x="984" y="288"/>
                </a:lnTo>
                <a:lnTo>
                  <a:pt x="981" y="282"/>
                </a:lnTo>
                <a:lnTo>
                  <a:pt x="1000" y="251"/>
                </a:lnTo>
                <a:lnTo>
                  <a:pt x="1004" y="244"/>
                </a:lnTo>
                <a:lnTo>
                  <a:pt x="1003" y="243"/>
                </a:lnTo>
                <a:lnTo>
                  <a:pt x="1000" y="246"/>
                </a:lnTo>
                <a:lnTo>
                  <a:pt x="1013" y="216"/>
                </a:lnTo>
                <a:lnTo>
                  <a:pt x="1015" y="193"/>
                </a:lnTo>
                <a:lnTo>
                  <a:pt x="1027" y="160"/>
                </a:lnTo>
                <a:lnTo>
                  <a:pt x="1036" y="153"/>
                </a:lnTo>
                <a:lnTo>
                  <a:pt x="1034" y="149"/>
                </a:lnTo>
                <a:lnTo>
                  <a:pt x="1024" y="136"/>
                </a:lnTo>
                <a:lnTo>
                  <a:pt x="1023" y="138"/>
                </a:lnTo>
                <a:lnTo>
                  <a:pt x="1001" y="138"/>
                </a:lnTo>
                <a:lnTo>
                  <a:pt x="976" y="125"/>
                </a:lnTo>
                <a:lnTo>
                  <a:pt x="959" y="101"/>
                </a:lnTo>
                <a:lnTo>
                  <a:pt x="962" y="94"/>
                </a:lnTo>
                <a:lnTo>
                  <a:pt x="954" y="57"/>
                </a:lnTo>
                <a:lnTo>
                  <a:pt x="932" y="33"/>
                </a:lnTo>
                <a:lnTo>
                  <a:pt x="928" y="29"/>
                </a:lnTo>
                <a:lnTo>
                  <a:pt x="914" y="34"/>
                </a:lnTo>
                <a:lnTo>
                  <a:pt x="888" y="0"/>
                </a:lnTo>
                <a:lnTo>
                  <a:pt x="885" y="0"/>
                </a:lnTo>
                <a:lnTo>
                  <a:pt x="866" y="6"/>
                </a:lnTo>
                <a:lnTo>
                  <a:pt x="812" y="21"/>
                </a:lnTo>
                <a:lnTo>
                  <a:pt x="778" y="31"/>
                </a:lnTo>
                <a:lnTo>
                  <a:pt x="760" y="36"/>
                </a:lnTo>
                <a:lnTo>
                  <a:pt x="756" y="37"/>
                </a:lnTo>
                <a:lnTo>
                  <a:pt x="753" y="38"/>
                </a:lnTo>
                <a:lnTo>
                  <a:pt x="735" y="43"/>
                </a:lnTo>
                <a:lnTo>
                  <a:pt x="713" y="48"/>
                </a:lnTo>
                <a:lnTo>
                  <a:pt x="682" y="57"/>
                </a:lnTo>
                <a:lnTo>
                  <a:pt x="642" y="67"/>
                </a:lnTo>
                <a:lnTo>
                  <a:pt x="627" y="70"/>
                </a:lnTo>
                <a:lnTo>
                  <a:pt x="618" y="73"/>
                </a:lnTo>
                <a:lnTo>
                  <a:pt x="611" y="74"/>
                </a:lnTo>
                <a:lnTo>
                  <a:pt x="592" y="80"/>
                </a:lnTo>
                <a:lnTo>
                  <a:pt x="519" y="99"/>
                </a:lnTo>
                <a:lnTo>
                  <a:pt x="500" y="104"/>
                </a:lnTo>
                <a:lnTo>
                  <a:pt x="498" y="104"/>
                </a:lnTo>
                <a:lnTo>
                  <a:pt x="484" y="108"/>
                </a:lnTo>
                <a:lnTo>
                  <a:pt x="477" y="109"/>
                </a:lnTo>
                <a:lnTo>
                  <a:pt x="450" y="116"/>
                </a:lnTo>
                <a:lnTo>
                  <a:pt x="412" y="125"/>
                </a:lnTo>
                <a:lnTo>
                  <a:pt x="397" y="129"/>
                </a:lnTo>
                <a:lnTo>
                  <a:pt x="390" y="131"/>
                </a:lnTo>
                <a:lnTo>
                  <a:pt x="380" y="133"/>
                </a:lnTo>
                <a:lnTo>
                  <a:pt x="325" y="146"/>
                </a:lnTo>
                <a:lnTo>
                  <a:pt x="285" y="156"/>
                </a:lnTo>
                <a:lnTo>
                  <a:pt x="275" y="159"/>
                </a:lnTo>
                <a:lnTo>
                  <a:pt x="262" y="162"/>
                </a:lnTo>
                <a:lnTo>
                  <a:pt x="261" y="162"/>
                </a:lnTo>
                <a:lnTo>
                  <a:pt x="250" y="165"/>
                </a:lnTo>
                <a:lnTo>
                  <a:pt x="230" y="169"/>
                </a:lnTo>
                <a:lnTo>
                  <a:pt x="179" y="182"/>
                </a:lnTo>
                <a:lnTo>
                  <a:pt x="155" y="187"/>
                </a:lnTo>
                <a:lnTo>
                  <a:pt x="148" y="189"/>
                </a:lnTo>
                <a:lnTo>
                  <a:pt x="130" y="193"/>
                </a:lnTo>
                <a:lnTo>
                  <a:pt x="117" y="114"/>
                </a:lnTo>
                <a:lnTo>
                  <a:pt x="57" y="172"/>
                </a:lnTo>
                <a:lnTo>
                  <a:pt x="10" y="219"/>
                </a:lnTo>
                <a:lnTo>
                  <a:pt x="0" y="227"/>
                </a:lnTo>
                <a:lnTo>
                  <a:pt x="3" y="258"/>
                </a:lnTo>
                <a:lnTo>
                  <a:pt x="4" y="265"/>
                </a:lnTo>
                <a:lnTo>
                  <a:pt x="10" y="305"/>
                </a:lnTo>
                <a:lnTo>
                  <a:pt x="13" y="331"/>
                </a:lnTo>
                <a:lnTo>
                  <a:pt x="19" y="368"/>
                </a:lnTo>
                <a:lnTo>
                  <a:pt x="19" y="372"/>
                </a:lnTo>
                <a:lnTo>
                  <a:pt x="24" y="404"/>
                </a:lnTo>
                <a:lnTo>
                  <a:pt x="27" y="430"/>
                </a:lnTo>
                <a:lnTo>
                  <a:pt x="34" y="475"/>
                </a:lnTo>
                <a:lnTo>
                  <a:pt x="34" y="478"/>
                </a:lnTo>
                <a:lnTo>
                  <a:pt x="40" y="515"/>
                </a:lnTo>
                <a:lnTo>
                  <a:pt x="41" y="522"/>
                </a:lnTo>
                <a:lnTo>
                  <a:pt x="43" y="543"/>
                </a:lnTo>
                <a:lnTo>
                  <a:pt x="44" y="552"/>
                </a:lnTo>
                <a:lnTo>
                  <a:pt x="45" y="558"/>
                </a:lnTo>
                <a:lnTo>
                  <a:pt x="48" y="576"/>
                </a:lnTo>
                <a:lnTo>
                  <a:pt x="51" y="594"/>
                </a:lnTo>
                <a:lnTo>
                  <a:pt x="54" y="621"/>
                </a:lnTo>
                <a:lnTo>
                  <a:pt x="54" y="624"/>
                </a:lnTo>
                <a:lnTo>
                  <a:pt x="57" y="634"/>
                </a:lnTo>
                <a:lnTo>
                  <a:pt x="61" y="668"/>
                </a:lnTo>
                <a:lnTo>
                  <a:pt x="61" y="674"/>
                </a:lnTo>
                <a:lnTo>
                  <a:pt x="62" y="682"/>
                </a:lnTo>
                <a:lnTo>
                  <a:pt x="64" y="691"/>
                </a:lnTo>
                <a:lnTo>
                  <a:pt x="70" y="735"/>
                </a:lnTo>
                <a:lnTo>
                  <a:pt x="70" y="741"/>
                </a:lnTo>
                <a:lnTo>
                  <a:pt x="74" y="762"/>
                </a:lnTo>
                <a:lnTo>
                  <a:pt x="75" y="766"/>
                </a:lnTo>
                <a:lnTo>
                  <a:pt x="78" y="790"/>
                </a:lnTo>
                <a:lnTo>
                  <a:pt x="80" y="803"/>
                </a:lnTo>
                <a:lnTo>
                  <a:pt x="81" y="809"/>
                </a:lnTo>
                <a:lnTo>
                  <a:pt x="82" y="820"/>
                </a:lnTo>
                <a:lnTo>
                  <a:pt x="91" y="882"/>
                </a:lnTo>
                <a:lnTo>
                  <a:pt x="91" y="885"/>
                </a:lnTo>
                <a:lnTo>
                  <a:pt x="92" y="891"/>
                </a:lnTo>
                <a:lnTo>
                  <a:pt x="96" y="889"/>
                </a:lnTo>
                <a:lnTo>
                  <a:pt x="109" y="887"/>
                </a:lnTo>
                <a:lnTo>
                  <a:pt x="115" y="885"/>
                </a:lnTo>
                <a:lnTo>
                  <a:pt x="118" y="885"/>
                </a:lnTo>
                <a:lnTo>
                  <a:pt x="200" y="867"/>
                </a:lnTo>
                <a:lnTo>
                  <a:pt x="208" y="865"/>
                </a:lnTo>
                <a:lnTo>
                  <a:pt x="218" y="862"/>
                </a:lnTo>
                <a:lnTo>
                  <a:pt x="227" y="861"/>
                </a:lnTo>
                <a:lnTo>
                  <a:pt x="259" y="854"/>
                </a:lnTo>
                <a:lnTo>
                  <a:pt x="265" y="853"/>
                </a:lnTo>
                <a:lnTo>
                  <a:pt x="278" y="850"/>
                </a:lnTo>
                <a:lnTo>
                  <a:pt x="284" y="848"/>
                </a:lnTo>
                <a:lnTo>
                  <a:pt x="289" y="847"/>
                </a:lnTo>
                <a:lnTo>
                  <a:pt x="293" y="845"/>
                </a:lnTo>
                <a:lnTo>
                  <a:pt x="348" y="833"/>
                </a:lnTo>
                <a:lnTo>
                  <a:pt x="355" y="831"/>
                </a:lnTo>
                <a:lnTo>
                  <a:pt x="378" y="826"/>
                </a:lnTo>
                <a:lnTo>
                  <a:pt x="385" y="824"/>
                </a:lnTo>
                <a:lnTo>
                  <a:pt x="390" y="823"/>
                </a:lnTo>
                <a:lnTo>
                  <a:pt x="397" y="821"/>
                </a:lnTo>
                <a:lnTo>
                  <a:pt x="445" y="810"/>
                </a:lnTo>
                <a:lnTo>
                  <a:pt x="452" y="807"/>
                </a:lnTo>
                <a:lnTo>
                  <a:pt x="473" y="803"/>
                </a:lnTo>
                <a:lnTo>
                  <a:pt x="474" y="803"/>
                </a:lnTo>
                <a:lnTo>
                  <a:pt x="480" y="802"/>
                </a:lnTo>
                <a:lnTo>
                  <a:pt x="497" y="797"/>
                </a:lnTo>
                <a:lnTo>
                  <a:pt x="523" y="790"/>
                </a:lnTo>
                <a:lnTo>
                  <a:pt x="540" y="786"/>
                </a:lnTo>
                <a:lnTo>
                  <a:pt x="629" y="765"/>
                </a:lnTo>
                <a:lnTo>
                  <a:pt x="635" y="763"/>
                </a:lnTo>
                <a:lnTo>
                  <a:pt x="637" y="763"/>
                </a:lnTo>
                <a:lnTo>
                  <a:pt x="642" y="762"/>
                </a:lnTo>
                <a:lnTo>
                  <a:pt x="661" y="756"/>
                </a:lnTo>
                <a:lnTo>
                  <a:pt x="680" y="752"/>
                </a:lnTo>
                <a:lnTo>
                  <a:pt x="709" y="743"/>
                </a:lnTo>
                <a:lnTo>
                  <a:pt x="719" y="742"/>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9" name="Freeform 72"/>
          <p:cNvSpPr/>
          <p:nvPr/>
        </p:nvSpPr>
        <p:spPr>
          <a:xfrm>
            <a:off x="3452760" y="2414520"/>
            <a:ext cx="754200" cy="906480"/>
          </a:xfrm>
          <a:custGeom>
            <a:avLst/>
            <a:gdLst>
              <a:gd name="textAreaLeft" fmla="*/ 0 w 754200"/>
              <a:gd name="textAreaRight" fmla="*/ 754560 w 754200"/>
              <a:gd name="textAreaTop" fmla="*/ 0 h 906480"/>
              <a:gd name="textAreaBottom" fmla="*/ 906840 h 906480"/>
            </a:gdLst>
            <a:ahLst/>
            <a:rect l="textAreaLeft" t="textAreaTop" r="textAreaRight" b="textAreaBottom"/>
            <a:pathLst>
              <a:path w="1245" h="1732">
                <a:moveTo>
                  <a:pt x="138" y="1346"/>
                </a:moveTo>
                <a:lnTo>
                  <a:pt x="138" y="1295"/>
                </a:lnTo>
                <a:lnTo>
                  <a:pt x="137" y="1209"/>
                </a:lnTo>
                <a:lnTo>
                  <a:pt x="134" y="1191"/>
                </a:lnTo>
                <a:lnTo>
                  <a:pt x="128" y="1182"/>
                </a:lnTo>
                <a:lnTo>
                  <a:pt x="107" y="1169"/>
                </a:lnTo>
                <a:lnTo>
                  <a:pt x="72" y="1116"/>
                </a:lnTo>
                <a:lnTo>
                  <a:pt x="69" y="1105"/>
                </a:lnTo>
                <a:lnTo>
                  <a:pt x="102" y="1068"/>
                </a:lnTo>
                <a:lnTo>
                  <a:pt x="115" y="1013"/>
                </a:lnTo>
                <a:lnTo>
                  <a:pt x="113" y="994"/>
                </a:lnTo>
                <a:lnTo>
                  <a:pt x="113" y="987"/>
                </a:lnTo>
                <a:lnTo>
                  <a:pt x="104" y="892"/>
                </a:lnTo>
                <a:lnTo>
                  <a:pt x="85" y="848"/>
                </a:lnTo>
                <a:lnTo>
                  <a:pt x="78" y="811"/>
                </a:lnTo>
                <a:lnTo>
                  <a:pt x="77" y="810"/>
                </a:lnTo>
                <a:lnTo>
                  <a:pt x="74" y="810"/>
                </a:lnTo>
                <a:lnTo>
                  <a:pt x="78" y="738"/>
                </a:lnTo>
                <a:lnTo>
                  <a:pt x="70" y="701"/>
                </a:lnTo>
                <a:lnTo>
                  <a:pt x="66" y="657"/>
                </a:lnTo>
                <a:lnTo>
                  <a:pt x="67" y="647"/>
                </a:lnTo>
                <a:lnTo>
                  <a:pt x="67" y="631"/>
                </a:lnTo>
                <a:lnTo>
                  <a:pt x="65" y="606"/>
                </a:lnTo>
                <a:lnTo>
                  <a:pt x="67" y="603"/>
                </a:lnTo>
                <a:lnTo>
                  <a:pt x="63" y="594"/>
                </a:lnTo>
                <a:lnTo>
                  <a:pt x="65" y="592"/>
                </a:lnTo>
                <a:lnTo>
                  <a:pt x="64" y="555"/>
                </a:lnTo>
                <a:lnTo>
                  <a:pt x="63" y="555"/>
                </a:lnTo>
                <a:lnTo>
                  <a:pt x="59" y="521"/>
                </a:lnTo>
                <a:lnTo>
                  <a:pt x="57" y="505"/>
                </a:lnTo>
                <a:lnTo>
                  <a:pt x="35" y="445"/>
                </a:lnTo>
                <a:lnTo>
                  <a:pt x="18" y="362"/>
                </a:lnTo>
                <a:lnTo>
                  <a:pt x="14" y="359"/>
                </a:lnTo>
                <a:lnTo>
                  <a:pt x="15" y="353"/>
                </a:lnTo>
                <a:lnTo>
                  <a:pt x="18" y="349"/>
                </a:lnTo>
                <a:lnTo>
                  <a:pt x="16" y="287"/>
                </a:lnTo>
                <a:lnTo>
                  <a:pt x="11" y="251"/>
                </a:lnTo>
                <a:lnTo>
                  <a:pt x="6" y="159"/>
                </a:lnTo>
                <a:lnTo>
                  <a:pt x="8" y="155"/>
                </a:lnTo>
                <a:lnTo>
                  <a:pt x="0" y="119"/>
                </a:lnTo>
                <a:lnTo>
                  <a:pt x="130" y="116"/>
                </a:lnTo>
                <a:lnTo>
                  <a:pt x="303" y="114"/>
                </a:lnTo>
                <a:lnTo>
                  <a:pt x="330" y="112"/>
                </a:lnTo>
                <a:lnTo>
                  <a:pt x="328" y="0"/>
                </a:lnTo>
                <a:lnTo>
                  <a:pt x="359" y="3"/>
                </a:lnTo>
                <a:lnTo>
                  <a:pt x="382" y="17"/>
                </a:lnTo>
                <a:lnTo>
                  <a:pt x="405" y="170"/>
                </a:lnTo>
                <a:lnTo>
                  <a:pt x="423" y="190"/>
                </a:lnTo>
                <a:lnTo>
                  <a:pt x="448" y="194"/>
                </a:lnTo>
                <a:lnTo>
                  <a:pt x="473" y="193"/>
                </a:lnTo>
                <a:lnTo>
                  <a:pt x="478" y="206"/>
                </a:lnTo>
                <a:lnTo>
                  <a:pt x="543" y="210"/>
                </a:lnTo>
                <a:lnTo>
                  <a:pt x="552" y="243"/>
                </a:lnTo>
                <a:lnTo>
                  <a:pt x="591" y="237"/>
                </a:lnTo>
                <a:lnTo>
                  <a:pt x="605" y="226"/>
                </a:lnTo>
                <a:lnTo>
                  <a:pt x="604" y="219"/>
                </a:lnTo>
                <a:lnTo>
                  <a:pt x="645" y="200"/>
                </a:lnTo>
                <a:lnTo>
                  <a:pt x="664" y="204"/>
                </a:lnTo>
                <a:lnTo>
                  <a:pt x="685" y="202"/>
                </a:lnTo>
                <a:lnTo>
                  <a:pt x="722" y="226"/>
                </a:lnTo>
                <a:lnTo>
                  <a:pt x="737" y="224"/>
                </a:lnTo>
                <a:lnTo>
                  <a:pt x="741" y="254"/>
                </a:lnTo>
                <a:lnTo>
                  <a:pt x="760" y="253"/>
                </a:lnTo>
                <a:lnTo>
                  <a:pt x="783" y="314"/>
                </a:lnTo>
                <a:lnTo>
                  <a:pt x="800" y="305"/>
                </a:lnTo>
                <a:lnTo>
                  <a:pt x="796" y="278"/>
                </a:lnTo>
                <a:lnTo>
                  <a:pt x="829" y="271"/>
                </a:lnTo>
                <a:lnTo>
                  <a:pt x="842" y="281"/>
                </a:lnTo>
                <a:lnTo>
                  <a:pt x="846" y="302"/>
                </a:lnTo>
                <a:lnTo>
                  <a:pt x="877" y="314"/>
                </a:lnTo>
                <a:lnTo>
                  <a:pt x="926" y="349"/>
                </a:lnTo>
                <a:lnTo>
                  <a:pt x="962" y="343"/>
                </a:lnTo>
                <a:lnTo>
                  <a:pt x="1000" y="308"/>
                </a:lnTo>
                <a:lnTo>
                  <a:pt x="1029" y="288"/>
                </a:lnTo>
                <a:lnTo>
                  <a:pt x="1047" y="332"/>
                </a:lnTo>
                <a:lnTo>
                  <a:pt x="1066" y="323"/>
                </a:lnTo>
                <a:lnTo>
                  <a:pt x="1112" y="325"/>
                </a:lnTo>
                <a:lnTo>
                  <a:pt x="1143" y="318"/>
                </a:lnTo>
                <a:lnTo>
                  <a:pt x="1190" y="349"/>
                </a:lnTo>
                <a:lnTo>
                  <a:pt x="1209" y="336"/>
                </a:lnTo>
                <a:lnTo>
                  <a:pt x="1245" y="336"/>
                </a:lnTo>
                <a:lnTo>
                  <a:pt x="1173" y="397"/>
                </a:lnTo>
                <a:lnTo>
                  <a:pt x="1094" y="438"/>
                </a:lnTo>
                <a:lnTo>
                  <a:pt x="1055" y="470"/>
                </a:lnTo>
                <a:lnTo>
                  <a:pt x="1013" y="518"/>
                </a:lnTo>
                <a:lnTo>
                  <a:pt x="978" y="573"/>
                </a:lnTo>
                <a:lnTo>
                  <a:pt x="960" y="601"/>
                </a:lnTo>
                <a:lnTo>
                  <a:pt x="895" y="682"/>
                </a:lnTo>
                <a:lnTo>
                  <a:pt x="863" y="714"/>
                </a:lnTo>
                <a:lnTo>
                  <a:pt x="853" y="740"/>
                </a:lnTo>
                <a:lnTo>
                  <a:pt x="863" y="752"/>
                </a:lnTo>
                <a:lnTo>
                  <a:pt x="849" y="740"/>
                </a:lnTo>
                <a:lnTo>
                  <a:pt x="824" y="770"/>
                </a:lnTo>
                <a:lnTo>
                  <a:pt x="817" y="769"/>
                </a:lnTo>
                <a:lnTo>
                  <a:pt x="817" y="780"/>
                </a:lnTo>
                <a:lnTo>
                  <a:pt x="820" y="817"/>
                </a:lnTo>
                <a:lnTo>
                  <a:pt x="821" y="841"/>
                </a:lnTo>
                <a:lnTo>
                  <a:pt x="824" y="916"/>
                </a:lnTo>
                <a:lnTo>
                  <a:pt x="824" y="942"/>
                </a:lnTo>
                <a:lnTo>
                  <a:pt x="752" y="1016"/>
                </a:lnTo>
                <a:lnTo>
                  <a:pt x="738" y="1048"/>
                </a:lnTo>
                <a:lnTo>
                  <a:pt x="737" y="1048"/>
                </a:lnTo>
                <a:lnTo>
                  <a:pt x="732" y="1074"/>
                </a:lnTo>
                <a:lnTo>
                  <a:pt x="756" y="1099"/>
                </a:lnTo>
                <a:lnTo>
                  <a:pt x="764" y="1115"/>
                </a:lnTo>
                <a:lnTo>
                  <a:pt x="759" y="1176"/>
                </a:lnTo>
                <a:lnTo>
                  <a:pt x="758" y="1189"/>
                </a:lnTo>
                <a:lnTo>
                  <a:pt x="759" y="1199"/>
                </a:lnTo>
                <a:lnTo>
                  <a:pt x="758" y="1200"/>
                </a:lnTo>
                <a:lnTo>
                  <a:pt x="761" y="1226"/>
                </a:lnTo>
                <a:lnTo>
                  <a:pt x="759" y="1262"/>
                </a:lnTo>
                <a:lnTo>
                  <a:pt x="760" y="1304"/>
                </a:lnTo>
                <a:lnTo>
                  <a:pt x="757" y="1338"/>
                </a:lnTo>
                <a:lnTo>
                  <a:pt x="769" y="1346"/>
                </a:lnTo>
                <a:lnTo>
                  <a:pt x="775" y="1353"/>
                </a:lnTo>
                <a:lnTo>
                  <a:pt x="810" y="1387"/>
                </a:lnTo>
                <a:lnTo>
                  <a:pt x="841" y="1393"/>
                </a:lnTo>
                <a:lnTo>
                  <a:pt x="842" y="1394"/>
                </a:lnTo>
                <a:lnTo>
                  <a:pt x="845" y="1404"/>
                </a:lnTo>
                <a:lnTo>
                  <a:pt x="855" y="1417"/>
                </a:lnTo>
                <a:lnTo>
                  <a:pt x="860" y="1421"/>
                </a:lnTo>
                <a:lnTo>
                  <a:pt x="874" y="1426"/>
                </a:lnTo>
                <a:lnTo>
                  <a:pt x="882" y="1430"/>
                </a:lnTo>
                <a:lnTo>
                  <a:pt x="897" y="1438"/>
                </a:lnTo>
                <a:lnTo>
                  <a:pt x="918" y="1474"/>
                </a:lnTo>
                <a:lnTo>
                  <a:pt x="924" y="1489"/>
                </a:lnTo>
                <a:lnTo>
                  <a:pt x="950" y="1508"/>
                </a:lnTo>
                <a:lnTo>
                  <a:pt x="966" y="1528"/>
                </a:lnTo>
                <a:lnTo>
                  <a:pt x="977" y="1536"/>
                </a:lnTo>
                <a:lnTo>
                  <a:pt x="988" y="1538"/>
                </a:lnTo>
                <a:lnTo>
                  <a:pt x="999" y="1542"/>
                </a:lnTo>
                <a:lnTo>
                  <a:pt x="1001" y="1546"/>
                </a:lnTo>
                <a:lnTo>
                  <a:pt x="1010" y="1557"/>
                </a:lnTo>
                <a:lnTo>
                  <a:pt x="1025" y="1583"/>
                </a:lnTo>
                <a:lnTo>
                  <a:pt x="1028" y="1584"/>
                </a:lnTo>
                <a:lnTo>
                  <a:pt x="1034" y="1604"/>
                </a:lnTo>
                <a:lnTo>
                  <a:pt x="1034" y="1610"/>
                </a:lnTo>
                <a:lnTo>
                  <a:pt x="1033" y="1620"/>
                </a:lnTo>
                <a:lnTo>
                  <a:pt x="1033" y="1652"/>
                </a:lnTo>
                <a:lnTo>
                  <a:pt x="1040" y="1661"/>
                </a:lnTo>
                <a:lnTo>
                  <a:pt x="1045" y="1686"/>
                </a:lnTo>
                <a:lnTo>
                  <a:pt x="1039" y="1686"/>
                </a:lnTo>
                <a:lnTo>
                  <a:pt x="1026" y="1688"/>
                </a:lnTo>
                <a:lnTo>
                  <a:pt x="976" y="1691"/>
                </a:lnTo>
                <a:lnTo>
                  <a:pt x="974" y="1692"/>
                </a:lnTo>
                <a:lnTo>
                  <a:pt x="956" y="1694"/>
                </a:lnTo>
                <a:lnTo>
                  <a:pt x="896" y="1698"/>
                </a:lnTo>
                <a:lnTo>
                  <a:pt x="832" y="1702"/>
                </a:lnTo>
                <a:lnTo>
                  <a:pt x="815" y="1704"/>
                </a:lnTo>
                <a:lnTo>
                  <a:pt x="737" y="1708"/>
                </a:lnTo>
                <a:lnTo>
                  <a:pt x="734" y="1709"/>
                </a:lnTo>
                <a:lnTo>
                  <a:pt x="729" y="1709"/>
                </a:lnTo>
                <a:lnTo>
                  <a:pt x="673" y="1712"/>
                </a:lnTo>
                <a:lnTo>
                  <a:pt x="669" y="1712"/>
                </a:lnTo>
                <a:lnTo>
                  <a:pt x="653" y="1713"/>
                </a:lnTo>
                <a:lnTo>
                  <a:pt x="626" y="1715"/>
                </a:lnTo>
                <a:lnTo>
                  <a:pt x="591" y="1716"/>
                </a:lnTo>
                <a:lnTo>
                  <a:pt x="588" y="1716"/>
                </a:lnTo>
                <a:lnTo>
                  <a:pt x="570" y="1718"/>
                </a:lnTo>
                <a:lnTo>
                  <a:pt x="569" y="1718"/>
                </a:lnTo>
                <a:lnTo>
                  <a:pt x="566" y="1718"/>
                </a:lnTo>
                <a:lnTo>
                  <a:pt x="522" y="1719"/>
                </a:lnTo>
                <a:lnTo>
                  <a:pt x="501" y="1721"/>
                </a:lnTo>
                <a:lnTo>
                  <a:pt x="489" y="1721"/>
                </a:lnTo>
                <a:lnTo>
                  <a:pt x="453" y="1722"/>
                </a:lnTo>
                <a:lnTo>
                  <a:pt x="437" y="1723"/>
                </a:lnTo>
                <a:lnTo>
                  <a:pt x="418" y="1723"/>
                </a:lnTo>
                <a:lnTo>
                  <a:pt x="415" y="1723"/>
                </a:lnTo>
                <a:lnTo>
                  <a:pt x="408" y="1725"/>
                </a:lnTo>
                <a:lnTo>
                  <a:pt x="372" y="1726"/>
                </a:lnTo>
                <a:lnTo>
                  <a:pt x="350" y="1726"/>
                </a:lnTo>
                <a:lnTo>
                  <a:pt x="327" y="1728"/>
                </a:lnTo>
                <a:lnTo>
                  <a:pt x="316" y="1728"/>
                </a:lnTo>
                <a:lnTo>
                  <a:pt x="270" y="1729"/>
                </a:lnTo>
                <a:lnTo>
                  <a:pt x="264" y="1729"/>
                </a:lnTo>
                <a:lnTo>
                  <a:pt x="245" y="1729"/>
                </a:lnTo>
                <a:lnTo>
                  <a:pt x="232" y="1730"/>
                </a:lnTo>
                <a:lnTo>
                  <a:pt x="221" y="1730"/>
                </a:lnTo>
                <a:lnTo>
                  <a:pt x="211" y="1730"/>
                </a:lnTo>
                <a:lnTo>
                  <a:pt x="178" y="1732"/>
                </a:lnTo>
                <a:lnTo>
                  <a:pt x="157" y="1732"/>
                </a:lnTo>
                <a:lnTo>
                  <a:pt x="143" y="1732"/>
                </a:lnTo>
                <a:lnTo>
                  <a:pt x="143" y="1695"/>
                </a:lnTo>
                <a:lnTo>
                  <a:pt x="142" y="1658"/>
                </a:lnTo>
                <a:lnTo>
                  <a:pt x="142" y="1628"/>
                </a:lnTo>
                <a:lnTo>
                  <a:pt x="142" y="1584"/>
                </a:lnTo>
                <a:lnTo>
                  <a:pt x="141" y="1547"/>
                </a:lnTo>
                <a:lnTo>
                  <a:pt x="141" y="1526"/>
                </a:lnTo>
                <a:lnTo>
                  <a:pt x="139" y="1423"/>
                </a:lnTo>
                <a:lnTo>
                  <a:pt x="139" y="1399"/>
                </a:lnTo>
                <a:lnTo>
                  <a:pt x="139" y="1397"/>
                </a:lnTo>
                <a:lnTo>
                  <a:pt x="138" y="1346"/>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0" name="Freeform 73"/>
          <p:cNvSpPr/>
          <p:nvPr/>
        </p:nvSpPr>
        <p:spPr>
          <a:xfrm>
            <a:off x="5959440" y="3168720"/>
            <a:ext cx="196920" cy="207720"/>
          </a:xfrm>
          <a:custGeom>
            <a:avLst/>
            <a:gdLst>
              <a:gd name="textAreaLeft" fmla="*/ 0 w 196920"/>
              <a:gd name="textAreaRight" fmla="*/ 197280 w 196920"/>
              <a:gd name="textAreaTop" fmla="*/ 0 h 207720"/>
              <a:gd name="textAreaBottom" fmla="*/ 208080 h 207720"/>
            </a:gdLst>
            <a:ahLst/>
            <a:rect l="textAreaLeft" t="textAreaTop" r="textAreaRight" b="textAreaBottom"/>
            <a:pathLst>
              <a:path w="326" h="400">
                <a:moveTo>
                  <a:pt x="118" y="317"/>
                </a:moveTo>
                <a:lnTo>
                  <a:pt x="137" y="286"/>
                </a:lnTo>
                <a:lnTo>
                  <a:pt x="173" y="275"/>
                </a:lnTo>
                <a:lnTo>
                  <a:pt x="194" y="261"/>
                </a:lnTo>
                <a:lnTo>
                  <a:pt x="211" y="262"/>
                </a:lnTo>
                <a:lnTo>
                  <a:pt x="214" y="259"/>
                </a:lnTo>
                <a:lnTo>
                  <a:pt x="243" y="244"/>
                </a:lnTo>
                <a:lnTo>
                  <a:pt x="299" y="215"/>
                </a:lnTo>
                <a:lnTo>
                  <a:pt x="311" y="207"/>
                </a:lnTo>
                <a:lnTo>
                  <a:pt x="315" y="204"/>
                </a:lnTo>
                <a:lnTo>
                  <a:pt x="319" y="205"/>
                </a:lnTo>
                <a:lnTo>
                  <a:pt x="326" y="174"/>
                </a:lnTo>
                <a:lnTo>
                  <a:pt x="317" y="122"/>
                </a:lnTo>
                <a:lnTo>
                  <a:pt x="315" y="113"/>
                </a:lnTo>
                <a:lnTo>
                  <a:pt x="315" y="109"/>
                </a:lnTo>
                <a:lnTo>
                  <a:pt x="314" y="105"/>
                </a:lnTo>
                <a:lnTo>
                  <a:pt x="313" y="100"/>
                </a:lnTo>
                <a:lnTo>
                  <a:pt x="309" y="85"/>
                </a:lnTo>
                <a:lnTo>
                  <a:pt x="307" y="78"/>
                </a:lnTo>
                <a:lnTo>
                  <a:pt x="295" y="25"/>
                </a:lnTo>
                <a:lnTo>
                  <a:pt x="290" y="4"/>
                </a:lnTo>
                <a:lnTo>
                  <a:pt x="289" y="0"/>
                </a:lnTo>
                <a:lnTo>
                  <a:pt x="243" y="12"/>
                </a:lnTo>
                <a:lnTo>
                  <a:pt x="237" y="14"/>
                </a:lnTo>
                <a:lnTo>
                  <a:pt x="236" y="15"/>
                </a:lnTo>
                <a:lnTo>
                  <a:pt x="234" y="15"/>
                </a:lnTo>
                <a:lnTo>
                  <a:pt x="231" y="15"/>
                </a:lnTo>
                <a:lnTo>
                  <a:pt x="199" y="25"/>
                </a:lnTo>
                <a:lnTo>
                  <a:pt x="193" y="28"/>
                </a:lnTo>
                <a:lnTo>
                  <a:pt x="167" y="35"/>
                </a:lnTo>
                <a:lnTo>
                  <a:pt x="117" y="62"/>
                </a:lnTo>
                <a:lnTo>
                  <a:pt x="116" y="51"/>
                </a:lnTo>
                <a:lnTo>
                  <a:pt x="83" y="61"/>
                </a:lnTo>
                <a:lnTo>
                  <a:pt x="75" y="62"/>
                </a:lnTo>
                <a:lnTo>
                  <a:pt x="19" y="76"/>
                </a:lnTo>
                <a:lnTo>
                  <a:pt x="8" y="79"/>
                </a:lnTo>
                <a:lnTo>
                  <a:pt x="0" y="82"/>
                </a:lnTo>
                <a:lnTo>
                  <a:pt x="3" y="98"/>
                </a:lnTo>
                <a:lnTo>
                  <a:pt x="13" y="170"/>
                </a:lnTo>
                <a:lnTo>
                  <a:pt x="16" y="195"/>
                </a:lnTo>
                <a:lnTo>
                  <a:pt x="19" y="207"/>
                </a:lnTo>
                <a:lnTo>
                  <a:pt x="20" y="214"/>
                </a:lnTo>
                <a:lnTo>
                  <a:pt x="22" y="237"/>
                </a:lnTo>
                <a:lnTo>
                  <a:pt x="27" y="264"/>
                </a:lnTo>
                <a:lnTo>
                  <a:pt x="28" y="271"/>
                </a:lnTo>
                <a:lnTo>
                  <a:pt x="30" y="283"/>
                </a:lnTo>
                <a:lnTo>
                  <a:pt x="50" y="324"/>
                </a:lnTo>
                <a:lnTo>
                  <a:pt x="13" y="370"/>
                </a:lnTo>
                <a:lnTo>
                  <a:pt x="32" y="400"/>
                </a:lnTo>
                <a:lnTo>
                  <a:pt x="75" y="363"/>
                </a:lnTo>
                <a:lnTo>
                  <a:pt x="94" y="337"/>
                </a:lnTo>
                <a:lnTo>
                  <a:pt x="118" y="317"/>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1" name="Freeform 74"/>
          <p:cNvSpPr/>
          <p:nvPr/>
        </p:nvSpPr>
        <p:spPr>
          <a:xfrm>
            <a:off x="6086520" y="2268360"/>
            <a:ext cx="420480" cy="711360"/>
          </a:xfrm>
          <a:custGeom>
            <a:avLst/>
            <a:gdLst>
              <a:gd name="textAreaLeft" fmla="*/ 0 w 420480"/>
              <a:gd name="textAreaRight" fmla="*/ 420840 w 420480"/>
              <a:gd name="textAreaTop" fmla="*/ 0 h 711360"/>
              <a:gd name="textAreaBottom" fmla="*/ 711720 h 711360"/>
            </a:gdLst>
            <a:ahLst/>
            <a:rect l="textAreaLeft" t="textAreaTop" r="textAreaRight" b="textAreaBottom"/>
            <a:pathLst>
              <a:path w="696" h="1359">
                <a:moveTo>
                  <a:pt x="105" y="1165"/>
                </a:moveTo>
                <a:lnTo>
                  <a:pt x="91" y="1105"/>
                </a:lnTo>
                <a:lnTo>
                  <a:pt x="73" y="1035"/>
                </a:lnTo>
                <a:lnTo>
                  <a:pt x="71" y="1026"/>
                </a:lnTo>
                <a:lnTo>
                  <a:pt x="37" y="894"/>
                </a:lnTo>
                <a:lnTo>
                  <a:pt x="3" y="767"/>
                </a:lnTo>
                <a:lnTo>
                  <a:pt x="0" y="753"/>
                </a:lnTo>
                <a:lnTo>
                  <a:pt x="5" y="723"/>
                </a:lnTo>
                <a:lnTo>
                  <a:pt x="37" y="746"/>
                </a:lnTo>
                <a:lnTo>
                  <a:pt x="37" y="733"/>
                </a:lnTo>
                <a:lnTo>
                  <a:pt x="41" y="687"/>
                </a:lnTo>
                <a:lnTo>
                  <a:pt x="63" y="687"/>
                </a:lnTo>
                <a:lnTo>
                  <a:pt x="50" y="626"/>
                </a:lnTo>
                <a:lnTo>
                  <a:pt x="58" y="606"/>
                </a:lnTo>
                <a:lnTo>
                  <a:pt x="80" y="573"/>
                </a:lnTo>
                <a:lnTo>
                  <a:pt x="91" y="511"/>
                </a:lnTo>
                <a:lnTo>
                  <a:pt x="77" y="498"/>
                </a:lnTo>
                <a:lnTo>
                  <a:pt x="77" y="461"/>
                </a:lnTo>
                <a:lnTo>
                  <a:pt x="69" y="424"/>
                </a:lnTo>
                <a:lnTo>
                  <a:pt x="90" y="366"/>
                </a:lnTo>
                <a:lnTo>
                  <a:pt x="84" y="321"/>
                </a:lnTo>
                <a:lnTo>
                  <a:pt x="81" y="284"/>
                </a:lnTo>
                <a:lnTo>
                  <a:pt x="153" y="26"/>
                </a:lnTo>
                <a:lnTo>
                  <a:pt x="188" y="63"/>
                </a:lnTo>
                <a:lnTo>
                  <a:pt x="203" y="78"/>
                </a:lnTo>
                <a:lnTo>
                  <a:pt x="264" y="50"/>
                </a:lnTo>
                <a:lnTo>
                  <a:pt x="297" y="4"/>
                </a:lnTo>
                <a:lnTo>
                  <a:pt x="311" y="0"/>
                </a:lnTo>
                <a:lnTo>
                  <a:pt x="371" y="27"/>
                </a:lnTo>
                <a:lnTo>
                  <a:pt x="386" y="47"/>
                </a:lnTo>
                <a:lnTo>
                  <a:pt x="402" y="51"/>
                </a:lnTo>
                <a:lnTo>
                  <a:pt x="498" y="443"/>
                </a:lnTo>
                <a:lnTo>
                  <a:pt x="551" y="451"/>
                </a:lnTo>
                <a:lnTo>
                  <a:pt x="560" y="443"/>
                </a:lnTo>
                <a:lnTo>
                  <a:pt x="583" y="543"/>
                </a:lnTo>
                <a:lnTo>
                  <a:pt x="609" y="569"/>
                </a:lnTo>
                <a:lnTo>
                  <a:pt x="615" y="566"/>
                </a:lnTo>
                <a:lnTo>
                  <a:pt x="615" y="550"/>
                </a:lnTo>
                <a:lnTo>
                  <a:pt x="647" y="556"/>
                </a:lnTo>
                <a:lnTo>
                  <a:pt x="681" y="604"/>
                </a:lnTo>
                <a:lnTo>
                  <a:pt x="696" y="633"/>
                </a:lnTo>
                <a:lnTo>
                  <a:pt x="664" y="706"/>
                </a:lnTo>
                <a:lnTo>
                  <a:pt x="659" y="706"/>
                </a:lnTo>
                <a:lnTo>
                  <a:pt x="660" y="712"/>
                </a:lnTo>
                <a:lnTo>
                  <a:pt x="653" y="709"/>
                </a:lnTo>
                <a:lnTo>
                  <a:pt x="641" y="715"/>
                </a:lnTo>
                <a:lnTo>
                  <a:pt x="644" y="722"/>
                </a:lnTo>
                <a:lnTo>
                  <a:pt x="626" y="742"/>
                </a:lnTo>
                <a:lnTo>
                  <a:pt x="628" y="759"/>
                </a:lnTo>
                <a:lnTo>
                  <a:pt x="617" y="780"/>
                </a:lnTo>
                <a:lnTo>
                  <a:pt x="612" y="767"/>
                </a:lnTo>
                <a:lnTo>
                  <a:pt x="581" y="776"/>
                </a:lnTo>
                <a:lnTo>
                  <a:pt x="576" y="806"/>
                </a:lnTo>
                <a:lnTo>
                  <a:pt x="565" y="811"/>
                </a:lnTo>
                <a:lnTo>
                  <a:pt x="554" y="820"/>
                </a:lnTo>
                <a:lnTo>
                  <a:pt x="556" y="840"/>
                </a:lnTo>
                <a:lnTo>
                  <a:pt x="527" y="878"/>
                </a:lnTo>
                <a:lnTo>
                  <a:pt x="501" y="882"/>
                </a:lnTo>
                <a:lnTo>
                  <a:pt x="473" y="843"/>
                </a:lnTo>
                <a:lnTo>
                  <a:pt x="480" y="868"/>
                </a:lnTo>
                <a:lnTo>
                  <a:pt x="461" y="939"/>
                </a:lnTo>
                <a:lnTo>
                  <a:pt x="428" y="891"/>
                </a:lnTo>
                <a:lnTo>
                  <a:pt x="421" y="836"/>
                </a:lnTo>
                <a:lnTo>
                  <a:pt x="419" y="834"/>
                </a:lnTo>
                <a:lnTo>
                  <a:pt x="411" y="860"/>
                </a:lnTo>
                <a:lnTo>
                  <a:pt x="401" y="881"/>
                </a:lnTo>
                <a:lnTo>
                  <a:pt x="399" y="921"/>
                </a:lnTo>
                <a:lnTo>
                  <a:pt x="399" y="960"/>
                </a:lnTo>
                <a:lnTo>
                  <a:pt x="411" y="993"/>
                </a:lnTo>
                <a:lnTo>
                  <a:pt x="376" y="1044"/>
                </a:lnTo>
                <a:lnTo>
                  <a:pt x="362" y="1041"/>
                </a:lnTo>
                <a:lnTo>
                  <a:pt x="348" y="1054"/>
                </a:lnTo>
                <a:lnTo>
                  <a:pt x="346" y="1068"/>
                </a:lnTo>
                <a:lnTo>
                  <a:pt x="329" y="1082"/>
                </a:lnTo>
                <a:lnTo>
                  <a:pt x="317" y="1084"/>
                </a:lnTo>
                <a:lnTo>
                  <a:pt x="313" y="1106"/>
                </a:lnTo>
                <a:lnTo>
                  <a:pt x="303" y="1126"/>
                </a:lnTo>
                <a:lnTo>
                  <a:pt x="290" y="1115"/>
                </a:lnTo>
                <a:lnTo>
                  <a:pt x="283" y="1111"/>
                </a:lnTo>
                <a:lnTo>
                  <a:pt x="274" y="1131"/>
                </a:lnTo>
                <a:lnTo>
                  <a:pt x="252" y="1145"/>
                </a:lnTo>
                <a:lnTo>
                  <a:pt x="245" y="1167"/>
                </a:lnTo>
                <a:lnTo>
                  <a:pt x="251" y="1184"/>
                </a:lnTo>
                <a:lnTo>
                  <a:pt x="248" y="1194"/>
                </a:lnTo>
                <a:lnTo>
                  <a:pt x="241" y="1192"/>
                </a:lnTo>
                <a:lnTo>
                  <a:pt x="227" y="1201"/>
                </a:lnTo>
                <a:lnTo>
                  <a:pt x="225" y="1214"/>
                </a:lnTo>
                <a:lnTo>
                  <a:pt x="228" y="1224"/>
                </a:lnTo>
                <a:lnTo>
                  <a:pt x="236" y="1223"/>
                </a:lnTo>
                <a:lnTo>
                  <a:pt x="205" y="1298"/>
                </a:lnTo>
                <a:lnTo>
                  <a:pt x="211" y="1321"/>
                </a:lnTo>
                <a:lnTo>
                  <a:pt x="199" y="1359"/>
                </a:lnTo>
                <a:lnTo>
                  <a:pt x="191" y="1355"/>
                </a:lnTo>
                <a:lnTo>
                  <a:pt x="176" y="1346"/>
                </a:lnTo>
                <a:lnTo>
                  <a:pt x="164" y="1311"/>
                </a:lnTo>
                <a:lnTo>
                  <a:pt x="138" y="1292"/>
                </a:lnTo>
                <a:lnTo>
                  <a:pt x="125" y="1235"/>
                </a:lnTo>
                <a:lnTo>
                  <a:pt x="108" y="1176"/>
                </a:lnTo>
                <a:lnTo>
                  <a:pt x="105" y="1165"/>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2" name="Freeform 75"/>
          <p:cNvSpPr/>
          <p:nvPr/>
        </p:nvSpPr>
        <p:spPr>
          <a:xfrm>
            <a:off x="6383160" y="2741760"/>
            <a:ext cx="19080" cy="14040"/>
          </a:xfrm>
          <a:custGeom>
            <a:avLst/>
            <a:gdLst>
              <a:gd name="textAreaLeft" fmla="*/ 0 w 19080"/>
              <a:gd name="textAreaRight" fmla="*/ 19440 w 19080"/>
              <a:gd name="textAreaTop" fmla="*/ 0 h 14040"/>
              <a:gd name="textAreaBottom" fmla="*/ 14400 h 14040"/>
            </a:gdLst>
            <a:ahLst/>
            <a:rect l="textAreaLeft" t="textAreaTop" r="textAreaRight" b="textAreaBottom"/>
            <a:pathLst>
              <a:path w="31" h="25">
                <a:moveTo>
                  <a:pt x="4" y="25"/>
                </a:moveTo>
                <a:lnTo>
                  <a:pt x="31" y="15"/>
                </a:lnTo>
                <a:lnTo>
                  <a:pt x="17" y="0"/>
                </a:lnTo>
                <a:lnTo>
                  <a:pt x="0" y="8"/>
                </a:lnTo>
                <a:lnTo>
                  <a:pt x="4" y="25"/>
                </a:lnTo>
                <a:close/>
              </a:path>
            </a:pathLst>
          </a:custGeom>
          <a:solidFill>
            <a:srgbClr val="808080"/>
          </a:solidFill>
          <a:ln w="0">
            <a:solidFill>
              <a:srgbClr val="000000"/>
            </a:solidFill>
          </a:ln>
        </p:spPr>
        <p:style>
          <a:lnRef idx="0"/>
          <a:fillRef idx="0"/>
          <a:effectRef idx="0"/>
          <a:fontRef idx="minor"/>
        </p:style>
        <p:txBody>
          <a:bodyPr lIns="90000" rIns="90000" tIns="-32400" bIns="-32400" anchor="t">
            <a:noAutofit/>
          </a:bodyPr>
          <a:p>
            <a:endParaRPr b="0" lang="en-US" sz="2800" spc="-1" strike="noStrike">
              <a:solidFill>
                <a:srgbClr val="000000"/>
              </a:solidFill>
              <a:latin typeface="Arial"/>
            </a:endParaRPr>
          </a:p>
        </p:txBody>
      </p:sp>
      <p:sp>
        <p:nvSpPr>
          <p:cNvPr id="183" name="Freeform 76"/>
          <p:cNvSpPr/>
          <p:nvPr/>
        </p:nvSpPr>
        <p:spPr>
          <a:xfrm>
            <a:off x="5956200" y="3011400"/>
            <a:ext cx="384120" cy="222480"/>
          </a:xfrm>
          <a:custGeom>
            <a:avLst/>
            <a:gdLst>
              <a:gd name="textAreaLeft" fmla="*/ 0 w 384120"/>
              <a:gd name="textAreaRight" fmla="*/ 384480 w 384120"/>
              <a:gd name="textAreaTop" fmla="*/ 0 h 222480"/>
              <a:gd name="textAreaBottom" fmla="*/ 222840 h 222480"/>
            </a:gdLst>
            <a:ahLst/>
            <a:rect l="textAreaLeft" t="textAreaTop" r="textAreaRight" b="textAreaBottom"/>
            <a:pathLst>
              <a:path w="633" h="426">
                <a:moveTo>
                  <a:pt x="506" y="331"/>
                </a:moveTo>
                <a:lnTo>
                  <a:pt x="494" y="344"/>
                </a:lnTo>
                <a:lnTo>
                  <a:pt x="483" y="361"/>
                </a:lnTo>
                <a:lnTo>
                  <a:pt x="483" y="362"/>
                </a:lnTo>
                <a:lnTo>
                  <a:pt x="473" y="362"/>
                </a:lnTo>
                <a:lnTo>
                  <a:pt x="470" y="393"/>
                </a:lnTo>
                <a:lnTo>
                  <a:pt x="458" y="412"/>
                </a:lnTo>
                <a:lnTo>
                  <a:pt x="442" y="412"/>
                </a:lnTo>
                <a:lnTo>
                  <a:pt x="434" y="385"/>
                </a:lnTo>
                <a:lnTo>
                  <a:pt x="430" y="366"/>
                </a:lnTo>
                <a:lnTo>
                  <a:pt x="416" y="362"/>
                </a:lnTo>
                <a:lnTo>
                  <a:pt x="406" y="349"/>
                </a:lnTo>
                <a:lnTo>
                  <a:pt x="402" y="347"/>
                </a:lnTo>
                <a:lnTo>
                  <a:pt x="391" y="344"/>
                </a:lnTo>
                <a:lnTo>
                  <a:pt x="380" y="310"/>
                </a:lnTo>
                <a:lnTo>
                  <a:pt x="374" y="312"/>
                </a:lnTo>
                <a:lnTo>
                  <a:pt x="368" y="287"/>
                </a:lnTo>
                <a:lnTo>
                  <a:pt x="366" y="277"/>
                </a:lnTo>
                <a:lnTo>
                  <a:pt x="355" y="281"/>
                </a:lnTo>
                <a:lnTo>
                  <a:pt x="346" y="284"/>
                </a:lnTo>
                <a:lnTo>
                  <a:pt x="339" y="287"/>
                </a:lnTo>
                <a:lnTo>
                  <a:pt x="302" y="301"/>
                </a:lnTo>
                <a:lnTo>
                  <a:pt x="295" y="304"/>
                </a:lnTo>
                <a:lnTo>
                  <a:pt x="294" y="300"/>
                </a:lnTo>
                <a:lnTo>
                  <a:pt x="248" y="312"/>
                </a:lnTo>
                <a:lnTo>
                  <a:pt x="242" y="314"/>
                </a:lnTo>
                <a:lnTo>
                  <a:pt x="241" y="315"/>
                </a:lnTo>
                <a:lnTo>
                  <a:pt x="239" y="315"/>
                </a:lnTo>
                <a:lnTo>
                  <a:pt x="236" y="315"/>
                </a:lnTo>
                <a:lnTo>
                  <a:pt x="204" y="325"/>
                </a:lnTo>
                <a:lnTo>
                  <a:pt x="198" y="328"/>
                </a:lnTo>
                <a:lnTo>
                  <a:pt x="172" y="335"/>
                </a:lnTo>
                <a:lnTo>
                  <a:pt x="122" y="362"/>
                </a:lnTo>
                <a:lnTo>
                  <a:pt x="121" y="351"/>
                </a:lnTo>
                <a:lnTo>
                  <a:pt x="88" y="361"/>
                </a:lnTo>
                <a:lnTo>
                  <a:pt x="80" y="362"/>
                </a:lnTo>
                <a:lnTo>
                  <a:pt x="24" y="376"/>
                </a:lnTo>
                <a:lnTo>
                  <a:pt x="13" y="379"/>
                </a:lnTo>
                <a:lnTo>
                  <a:pt x="5" y="382"/>
                </a:lnTo>
                <a:lnTo>
                  <a:pt x="3" y="383"/>
                </a:lnTo>
                <a:lnTo>
                  <a:pt x="0" y="373"/>
                </a:lnTo>
                <a:lnTo>
                  <a:pt x="0" y="361"/>
                </a:lnTo>
                <a:lnTo>
                  <a:pt x="1" y="243"/>
                </a:lnTo>
                <a:lnTo>
                  <a:pt x="2" y="208"/>
                </a:lnTo>
                <a:lnTo>
                  <a:pt x="2" y="190"/>
                </a:lnTo>
                <a:lnTo>
                  <a:pt x="3" y="171"/>
                </a:lnTo>
                <a:lnTo>
                  <a:pt x="35" y="161"/>
                </a:lnTo>
                <a:lnTo>
                  <a:pt x="41" y="159"/>
                </a:lnTo>
                <a:lnTo>
                  <a:pt x="44" y="159"/>
                </a:lnTo>
                <a:lnTo>
                  <a:pt x="45" y="158"/>
                </a:lnTo>
                <a:lnTo>
                  <a:pt x="48" y="158"/>
                </a:lnTo>
                <a:lnTo>
                  <a:pt x="59" y="155"/>
                </a:lnTo>
                <a:lnTo>
                  <a:pt x="90" y="147"/>
                </a:lnTo>
                <a:lnTo>
                  <a:pt x="132" y="135"/>
                </a:lnTo>
                <a:lnTo>
                  <a:pt x="140" y="132"/>
                </a:lnTo>
                <a:lnTo>
                  <a:pt x="155" y="128"/>
                </a:lnTo>
                <a:lnTo>
                  <a:pt x="159" y="128"/>
                </a:lnTo>
                <a:lnTo>
                  <a:pt x="170" y="125"/>
                </a:lnTo>
                <a:lnTo>
                  <a:pt x="207" y="114"/>
                </a:lnTo>
                <a:lnTo>
                  <a:pt x="224" y="110"/>
                </a:lnTo>
                <a:lnTo>
                  <a:pt x="230" y="108"/>
                </a:lnTo>
                <a:lnTo>
                  <a:pt x="235" y="107"/>
                </a:lnTo>
                <a:lnTo>
                  <a:pt x="338" y="77"/>
                </a:lnTo>
                <a:lnTo>
                  <a:pt x="340" y="67"/>
                </a:lnTo>
                <a:lnTo>
                  <a:pt x="342" y="64"/>
                </a:lnTo>
                <a:lnTo>
                  <a:pt x="343" y="63"/>
                </a:lnTo>
                <a:lnTo>
                  <a:pt x="343" y="61"/>
                </a:lnTo>
                <a:lnTo>
                  <a:pt x="370" y="33"/>
                </a:lnTo>
                <a:lnTo>
                  <a:pt x="372" y="16"/>
                </a:lnTo>
                <a:lnTo>
                  <a:pt x="407" y="0"/>
                </a:lnTo>
                <a:lnTo>
                  <a:pt x="431" y="50"/>
                </a:lnTo>
                <a:lnTo>
                  <a:pt x="452" y="43"/>
                </a:lnTo>
                <a:lnTo>
                  <a:pt x="456" y="64"/>
                </a:lnTo>
                <a:lnTo>
                  <a:pt x="435" y="86"/>
                </a:lnTo>
                <a:lnTo>
                  <a:pt x="416" y="137"/>
                </a:lnTo>
                <a:lnTo>
                  <a:pt x="411" y="131"/>
                </a:lnTo>
                <a:lnTo>
                  <a:pt x="412" y="151"/>
                </a:lnTo>
                <a:lnTo>
                  <a:pt x="425" y="166"/>
                </a:lnTo>
                <a:lnTo>
                  <a:pt x="444" y="175"/>
                </a:lnTo>
                <a:lnTo>
                  <a:pt x="452" y="173"/>
                </a:lnTo>
                <a:lnTo>
                  <a:pt x="499" y="236"/>
                </a:lnTo>
                <a:lnTo>
                  <a:pt x="482" y="244"/>
                </a:lnTo>
                <a:lnTo>
                  <a:pt x="498" y="256"/>
                </a:lnTo>
                <a:lnTo>
                  <a:pt x="505" y="251"/>
                </a:lnTo>
                <a:lnTo>
                  <a:pt x="522" y="288"/>
                </a:lnTo>
                <a:lnTo>
                  <a:pt x="531" y="297"/>
                </a:lnTo>
                <a:lnTo>
                  <a:pt x="577" y="297"/>
                </a:lnTo>
                <a:lnTo>
                  <a:pt x="608" y="267"/>
                </a:lnTo>
                <a:lnTo>
                  <a:pt x="607" y="239"/>
                </a:lnTo>
                <a:lnTo>
                  <a:pt x="596" y="240"/>
                </a:lnTo>
                <a:lnTo>
                  <a:pt x="575" y="189"/>
                </a:lnTo>
                <a:lnTo>
                  <a:pt x="600" y="206"/>
                </a:lnTo>
                <a:lnTo>
                  <a:pt x="633" y="290"/>
                </a:lnTo>
                <a:lnTo>
                  <a:pt x="631" y="332"/>
                </a:lnTo>
                <a:lnTo>
                  <a:pt x="627" y="301"/>
                </a:lnTo>
                <a:lnTo>
                  <a:pt x="622" y="297"/>
                </a:lnTo>
                <a:lnTo>
                  <a:pt x="562" y="335"/>
                </a:lnTo>
                <a:lnTo>
                  <a:pt x="545" y="361"/>
                </a:lnTo>
                <a:lnTo>
                  <a:pt x="524" y="371"/>
                </a:lnTo>
                <a:lnTo>
                  <a:pt x="519" y="381"/>
                </a:lnTo>
                <a:lnTo>
                  <a:pt x="476" y="426"/>
                </a:lnTo>
                <a:lnTo>
                  <a:pt x="480" y="416"/>
                </a:lnTo>
                <a:lnTo>
                  <a:pt x="513" y="379"/>
                </a:lnTo>
                <a:lnTo>
                  <a:pt x="516" y="348"/>
                </a:lnTo>
                <a:lnTo>
                  <a:pt x="508" y="332"/>
                </a:lnTo>
                <a:lnTo>
                  <a:pt x="506" y="331"/>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4" name="Freeform 77"/>
          <p:cNvSpPr/>
          <p:nvPr/>
        </p:nvSpPr>
        <p:spPr>
          <a:xfrm>
            <a:off x="6257880" y="3213000"/>
            <a:ext cx="39600" cy="33480"/>
          </a:xfrm>
          <a:custGeom>
            <a:avLst/>
            <a:gdLst>
              <a:gd name="textAreaLeft" fmla="*/ 0 w 39600"/>
              <a:gd name="textAreaRight" fmla="*/ 39960 w 39600"/>
              <a:gd name="textAreaTop" fmla="*/ 0 h 33480"/>
              <a:gd name="textAreaBottom" fmla="*/ 33840 h 33480"/>
            </a:gdLst>
            <a:ahLst/>
            <a:rect l="textAreaLeft" t="textAreaTop" r="textAreaRight" b="textAreaBottom"/>
            <a:pathLst>
              <a:path w="66" h="63">
                <a:moveTo>
                  <a:pt x="0" y="53"/>
                </a:moveTo>
                <a:lnTo>
                  <a:pt x="13" y="63"/>
                </a:lnTo>
                <a:lnTo>
                  <a:pt x="16" y="53"/>
                </a:lnTo>
                <a:lnTo>
                  <a:pt x="66" y="29"/>
                </a:lnTo>
                <a:lnTo>
                  <a:pt x="59" y="13"/>
                </a:lnTo>
                <a:lnTo>
                  <a:pt x="32" y="0"/>
                </a:lnTo>
                <a:lnTo>
                  <a:pt x="13" y="40"/>
                </a:lnTo>
                <a:lnTo>
                  <a:pt x="0" y="53"/>
                </a:lnTo>
                <a:close/>
              </a:path>
            </a:pathLst>
          </a:custGeom>
          <a:solidFill>
            <a:srgbClr val="3333cc"/>
          </a:solidFill>
          <a:ln w="0">
            <a:solidFill>
              <a:srgbClr val="000000"/>
            </a:solidFill>
          </a:ln>
        </p:spPr>
        <p:style>
          <a:lnRef idx="0"/>
          <a:fillRef idx="0"/>
          <a:effectRef idx="0"/>
          <a:fontRef idx="minor"/>
        </p:style>
        <p:txBody>
          <a:bodyPr lIns="90000" rIns="90000" tIns="-12960" bIns="-12960" anchor="t">
            <a:noAutofit/>
          </a:bodyPr>
          <a:p>
            <a:endParaRPr b="0" lang="en-US" sz="2800" spc="-1" strike="noStrike">
              <a:solidFill>
                <a:srgbClr val="000000"/>
              </a:solidFill>
              <a:latin typeface="Arial"/>
            </a:endParaRPr>
          </a:p>
        </p:txBody>
      </p:sp>
      <p:sp>
        <p:nvSpPr>
          <p:cNvPr id="185" name="Freeform 78"/>
          <p:cNvSpPr/>
          <p:nvPr/>
        </p:nvSpPr>
        <p:spPr>
          <a:xfrm>
            <a:off x="6318360" y="3208320"/>
            <a:ext cx="29880" cy="23760"/>
          </a:xfrm>
          <a:custGeom>
            <a:avLst/>
            <a:gdLst>
              <a:gd name="textAreaLeft" fmla="*/ 0 w 29880"/>
              <a:gd name="textAreaRight" fmla="*/ 30240 w 29880"/>
              <a:gd name="textAreaTop" fmla="*/ 0 h 23760"/>
              <a:gd name="textAreaBottom" fmla="*/ 24120 h 23760"/>
            </a:gdLst>
            <a:ahLst/>
            <a:rect l="textAreaLeft" t="textAreaTop" r="textAreaRight" b="textAreaBottom"/>
            <a:pathLst>
              <a:path w="49" h="44">
                <a:moveTo>
                  <a:pt x="0" y="37"/>
                </a:moveTo>
                <a:lnTo>
                  <a:pt x="2" y="41"/>
                </a:lnTo>
                <a:lnTo>
                  <a:pt x="37" y="44"/>
                </a:lnTo>
                <a:lnTo>
                  <a:pt x="49" y="19"/>
                </a:lnTo>
                <a:lnTo>
                  <a:pt x="45" y="14"/>
                </a:lnTo>
                <a:lnTo>
                  <a:pt x="33" y="0"/>
                </a:lnTo>
                <a:lnTo>
                  <a:pt x="40" y="16"/>
                </a:lnTo>
                <a:lnTo>
                  <a:pt x="33" y="28"/>
                </a:lnTo>
                <a:lnTo>
                  <a:pt x="12" y="38"/>
                </a:lnTo>
                <a:lnTo>
                  <a:pt x="0" y="37"/>
                </a:lnTo>
                <a:close/>
              </a:path>
            </a:pathLst>
          </a:custGeom>
          <a:solidFill>
            <a:srgbClr val="3333cc"/>
          </a:solidFill>
          <a:ln w="0">
            <a:solidFill>
              <a:srgbClr val="000000"/>
            </a:solidFill>
          </a:ln>
        </p:spPr>
        <p:style>
          <a:lnRef idx="0"/>
          <a:fillRef idx="0"/>
          <a:effectRef idx="0"/>
          <a:fontRef idx="minor"/>
        </p:style>
        <p:txBody>
          <a:bodyPr lIns="90000" rIns="90000" tIns="-22680" bIns="-22680" anchor="t">
            <a:noAutofit/>
          </a:bodyPr>
          <a:p>
            <a:endParaRPr b="0" lang="en-US" sz="2800" spc="-1" strike="noStrike">
              <a:solidFill>
                <a:srgbClr val="000000"/>
              </a:solidFill>
              <a:latin typeface="Arial"/>
            </a:endParaRPr>
          </a:p>
        </p:txBody>
      </p:sp>
      <p:sp>
        <p:nvSpPr>
          <p:cNvPr id="186" name="Freeform 79"/>
          <p:cNvSpPr/>
          <p:nvPr/>
        </p:nvSpPr>
        <p:spPr>
          <a:xfrm>
            <a:off x="2333520" y="4398840"/>
            <a:ext cx="1587600" cy="1673280"/>
          </a:xfrm>
          <a:custGeom>
            <a:avLst/>
            <a:gdLst>
              <a:gd name="textAreaLeft" fmla="*/ 0 w 1587600"/>
              <a:gd name="textAreaRight" fmla="*/ 1587960 w 1587600"/>
              <a:gd name="textAreaTop" fmla="*/ 0 h 1673280"/>
              <a:gd name="textAreaBottom" fmla="*/ 1673640 h 1673280"/>
            </a:gdLst>
            <a:ahLst/>
            <a:rect l="textAreaLeft" t="textAreaTop" r="textAreaRight" b="textAreaBottom"/>
            <a:pathLst>
              <a:path w="2624" h="3194">
                <a:moveTo>
                  <a:pt x="1354" y="2641"/>
                </a:moveTo>
                <a:lnTo>
                  <a:pt x="1333" y="2604"/>
                </a:lnTo>
                <a:lnTo>
                  <a:pt x="1307" y="2558"/>
                </a:lnTo>
                <a:lnTo>
                  <a:pt x="1264" y="2499"/>
                </a:lnTo>
                <a:lnTo>
                  <a:pt x="1253" y="2485"/>
                </a:lnTo>
                <a:lnTo>
                  <a:pt x="1235" y="2415"/>
                </a:lnTo>
                <a:lnTo>
                  <a:pt x="1241" y="2409"/>
                </a:lnTo>
                <a:lnTo>
                  <a:pt x="1186" y="2292"/>
                </a:lnTo>
                <a:lnTo>
                  <a:pt x="1175" y="2233"/>
                </a:lnTo>
                <a:lnTo>
                  <a:pt x="1154" y="2208"/>
                </a:lnTo>
                <a:lnTo>
                  <a:pt x="1149" y="2187"/>
                </a:lnTo>
                <a:lnTo>
                  <a:pt x="1105" y="2146"/>
                </a:lnTo>
                <a:lnTo>
                  <a:pt x="1097" y="2120"/>
                </a:lnTo>
                <a:lnTo>
                  <a:pt x="1080" y="2116"/>
                </a:lnTo>
                <a:lnTo>
                  <a:pt x="1074" y="2103"/>
                </a:lnTo>
                <a:lnTo>
                  <a:pt x="1058" y="2100"/>
                </a:lnTo>
                <a:lnTo>
                  <a:pt x="1053" y="2069"/>
                </a:lnTo>
                <a:lnTo>
                  <a:pt x="1047" y="2069"/>
                </a:lnTo>
                <a:lnTo>
                  <a:pt x="1023" y="2029"/>
                </a:lnTo>
                <a:lnTo>
                  <a:pt x="1001" y="2026"/>
                </a:lnTo>
                <a:lnTo>
                  <a:pt x="1001" y="2021"/>
                </a:lnTo>
                <a:lnTo>
                  <a:pt x="956" y="2018"/>
                </a:lnTo>
                <a:lnTo>
                  <a:pt x="911" y="2007"/>
                </a:lnTo>
                <a:lnTo>
                  <a:pt x="909" y="2012"/>
                </a:lnTo>
                <a:lnTo>
                  <a:pt x="898" y="2008"/>
                </a:lnTo>
                <a:lnTo>
                  <a:pt x="896" y="2014"/>
                </a:lnTo>
                <a:lnTo>
                  <a:pt x="842" y="1984"/>
                </a:lnTo>
                <a:lnTo>
                  <a:pt x="795" y="2019"/>
                </a:lnTo>
                <a:lnTo>
                  <a:pt x="783" y="2019"/>
                </a:lnTo>
                <a:lnTo>
                  <a:pt x="747" y="2062"/>
                </a:lnTo>
                <a:lnTo>
                  <a:pt x="717" y="2164"/>
                </a:lnTo>
                <a:lnTo>
                  <a:pt x="674" y="2216"/>
                </a:lnTo>
                <a:lnTo>
                  <a:pt x="660" y="2243"/>
                </a:lnTo>
                <a:lnTo>
                  <a:pt x="616" y="2225"/>
                </a:lnTo>
                <a:lnTo>
                  <a:pt x="586" y="2191"/>
                </a:lnTo>
                <a:lnTo>
                  <a:pt x="540" y="2161"/>
                </a:lnTo>
                <a:lnTo>
                  <a:pt x="532" y="2148"/>
                </a:lnTo>
                <a:lnTo>
                  <a:pt x="491" y="2133"/>
                </a:lnTo>
                <a:lnTo>
                  <a:pt x="467" y="2110"/>
                </a:lnTo>
                <a:lnTo>
                  <a:pt x="442" y="2069"/>
                </a:lnTo>
                <a:lnTo>
                  <a:pt x="393" y="2026"/>
                </a:lnTo>
                <a:lnTo>
                  <a:pt x="360" y="1916"/>
                </a:lnTo>
                <a:lnTo>
                  <a:pt x="357" y="1841"/>
                </a:lnTo>
                <a:lnTo>
                  <a:pt x="329" y="1756"/>
                </a:lnTo>
                <a:lnTo>
                  <a:pt x="312" y="1723"/>
                </a:lnTo>
                <a:lnTo>
                  <a:pt x="307" y="1710"/>
                </a:lnTo>
                <a:lnTo>
                  <a:pt x="235" y="1651"/>
                </a:lnTo>
                <a:lnTo>
                  <a:pt x="189" y="1573"/>
                </a:lnTo>
                <a:lnTo>
                  <a:pt x="163" y="1550"/>
                </a:lnTo>
                <a:lnTo>
                  <a:pt x="120" y="1479"/>
                </a:lnTo>
                <a:lnTo>
                  <a:pt x="94" y="1466"/>
                </a:lnTo>
                <a:lnTo>
                  <a:pt x="76" y="1441"/>
                </a:lnTo>
                <a:lnTo>
                  <a:pt x="43" y="1363"/>
                </a:lnTo>
                <a:lnTo>
                  <a:pt x="26" y="1360"/>
                </a:lnTo>
                <a:lnTo>
                  <a:pt x="21" y="1350"/>
                </a:lnTo>
                <a:lnTo>
                  <a:pt x="0" y="1314"/>
                </a:lnTo>
                <a:lnTo>
                  <a:pt x="8" y="1307"/>
                </a:lnTo>
                <a:lnTo>
                  <a:pt x="3" y="1290"/>
                </a:lnTo>
                <a:lnTo>
                  <a:pt x="8" y="1285"/>
                </a:lnTo>
                <a:lnTo>
                  <a:pt x="56" y="1289"/>
                </a:lnTo>
                <a:lnTo>
                  <a:pt x="81" y="1292"/>
                </a:lnTo>
                <a:lnTo>
                  <a:pt x="106" y="1293"/>
                </a:lnTo>
                <a:lnTo>
                  <a:pt x="131" y="1296"/>
                </a:lnTo>
                <a:lnTo>
                  <a:pt x="254" y="1309"/>
                </a:lnTo>
                <a:lnTo>
                  <a:pt x="310" y="1313"/>
                </a:lnTo>
                <a:lnTo>
                  <a:pt x="346" y="1316"/>
                </a:lnTo>
                <a:lnTo>
                  <a:pt x="360" y="1317"/>
                </a:lnTo>
                <a:lnTo>
                  <a:pt x="458" y="1326"/>
                </a:lnTo>
                <a:lnTo>
                  <a:pt x="476" y="1327"/>
                </a:lnTo>
                <a:lnTo>
                  <a:pt x="524" y="1330"/>
                </a:lnTo>
                <a:lnTo>
                  <a:pt x="533" y="1331"/>
                </a:lnTo>
                <a:lnTo>
                  <a:pt x="579" y="1334"/>
                </a:lnTo>
                <a:lnTo>
                  <a:pt x="581" y="1334"/>
                </a:lnTo>
                <a:lnTo>
                  <a:pt x="584" y="1334"/>
                </a:lnTo>
                <a:lnTo>
                  <a:pt x="603" y="1336"/>
                </a:lnTo>
                <a:lnTo>
                  <a:pt x="656" y="1340"/>
                </a:lnTo>
                <a:lnTo>
                  <a:pt x="663" y="1340"/>
                </a:lnTo>
                <a:lnTo>
                  <a:pt x="704" y="1343"/>
                </a:lnTo>
                <a:lnTo>
                  <a:pt x="715" y="1343"/>
                </a:lnTo>
                <a:lnTo>
                  <a:pt x="716" y="1317"/>
                </a:lnTo>
                <a:lnTo>
                  <a:pt x="719" y="1269"/>
                </a:lnTo>
                <a:lnTo>
                  <a:pt x="721" y="1202"/>
                </a:lnTo>
                <a:lnTo>
                  <a:pt x="722" y="1188"/>
                </a:lnTo>
                <a:lnTo>
                  <a:pt x="723" y="1157"/>
                </a:lnTo>
                <a:lnTo>
                  <a:pt x="725" y="1099"/>
                </a:lnTo>
                <a:lnTo>
                  <a:pt x="727" y="1058"/>
                </a:lnTo>
                <a:lnTo>
                  <a:pt x="729" y="1008"/>
                </a:lnTo>
                <a:lnTo>
                  <a:pt x="733" y="933"/>
                </a:lnTo>
                <a:lnTo>
                  <a:pt x="733" y="930"/>
                </a:lnTo>
                <a:lnTo>
                  <a:pt x="736" y="896"/>
                </a:lnTo>
                <a:lnTo>
                  <a:pt x="736" y="888"/>
                </a:lnTo>
                <a:lnTo>
                  <a:pt x="737" y="875"/>
                </a:lnTo>
                <a:lnTo>
                  <a:pt x="738" y="845"/>
                </a:lnTo>
                <a:lnTo>
                  <a:pt x="739" y="834"/>
                </a:lnTo>
                <a:lnTo>
                  <a:pt x="740" y="800"/>
                </a:lnTo>
                <a:lnTo>
                  <a:pt x="744" y="747"/>
                </a:lnTo>
                <a:lnTo>
                  <a:pt x="746" y="672"/>
                </a:lnTo>
                <a:lnTo>
                  <a:pt x="747" y="656"/>
                </a:lnTo>
                <a:lnTo>
                  <a:pt x="747" y="654"/>
                </a:lnTo>
                <a:lnTo>
                  <a:pt x="748" y="619"/>
                </a:lnTo>
                <a:lnTo>
                  <a:pt x="749" y="598"/>
                </a:lnTo>
                <a:lnTo>
                  <a:pt x="753" y="524"/>
                </a:lnTo>
                <a:lnTo>
                  <a:pt x="754" y="489"/>
                </a:lnTo>
                <a:lnTo>
                  <a:pt x="754" y="486"/>
                </a:lnTo>
                <a:lnTo>
                  <a:pt x="755" y="462"/>
                </a:lnTo>
                <a:lnTo>
                  <a:pt x="755" y="448"/>
                </a:lnTo>
                <a:lnTo>
                  <a:pt x="757" y="411"/>
                </a:lnTo>
                <a:lnTo>
                  <a:pt x="757" y="394"/>
                </a:lnTo>
                <a:lnTo>
                  <a:pt x="759" y="367"/>
                </a:lnTo>
                <a:lnTo>
                  <a:pt x="760" y="350"/>
                </a:lnTo>
                <a:lnTo>
                  <a:pt x="763" y="262"/>
                </a:lnTo>
                <a:lnTo>
                  <a:pt x="764" y="228"/>
                </a:lnTo>
                <a:lnTo>
                  <a:pt x="764" y="224"/>
                </a:lnTo>
                <a:lnTo>
                  <a:pt x="765" y="218"/>
                </a:lnTo>
                <a:lnTo>
                  <a:pt x="769" y="133"/>
                </a:lnTo>
                <a:lnTo>
                  <a:pt x="773" y="0"/>
                </a:lnTo>
                <a:lnTo>
                  <a:pt x="781" y="1"/>
                </a:lnTo>
                <a:lnTo>
                  <a:pt x="853" y="4"/>
                </a:lnTo>
                <a:lnTo>
                  <a:pt x="899" y="7"/>
                </a:lnTo>
                <a:lnTo>
                  <a:pt x="939" y="10"/>
                </a:lnTo>
                <a:lnTo>
                  <a:pt x="947" y="10"/>
                </a:lnTo>
                <a:lnTo>
                  <a:pt x="949" y="10"/>
                </a:lnTo>
                <a:lnTo>
                  <a:pt x="964" y="11"/>
                </a:lnTo>
                <a:lnTo>
                  <a:pt x="989" y="12"/>
                </a:lnTo>
                <a:lnTo>
                  <a:pt x="997" y="12"/>
                </a:lnTo>
                <a:lnTo>
                  <a:pt x="1041" y="14"/>
                </a:lnTo>
                <a:lnTo>
                  <a:pt x="1088" y="17"/>
                </a:lnTo>
                <a:lnTo>
                  <a:pt x="1112" y="17"/>
                </a:lnTo>
                <a:lnTo>
                  <a:pt x="1143" y="18"/>
                </a:lnTo>
                <a:lnTo>
                  <a:pt x="1159" y="20"/>
                </a:lnTo>
                <a:lnTo>
                  <a:pt x="1168" y="20"/>
                </a:lnTo>
                <a:lnTo>
                  <a:pt x="1183" y="20"/>
                </a:lnTo>
                <a:lnTo>
                  <a:pt x="1229" y="21"/>
                </a:lnTo>
                <a:lnTo>
                  <a:pt x="1244" y="22"/>
                </a:lnTo>
                <a:lnTo>
                  <a:pt x="1277" y="22"/>
                </a:lnTo>
                <a:lnTo>
                  <a:pt x="1280" y="24"/>
                </a:lnTo>
                <a:lnTo>
                  <a:pt x="1347" y="25"/>
                </a:lnTo>
                <a:lnTo>
                  <a:pt x="1348" y="25"/>
                </a:lnTo>
                <a:lnTo>
                  <a:pt x="1347" y="62"/>
                </a:lnTo>
                <a:lnTo>
                  <a:pt x="1346" y="157"/>
                </a:lnTo>
                <a:lnTo>
                  <a:pt x="1345" y="174"/>
                </a:lnTo>
                <a:lnTo>
                  <a:pt x="1345" y="200"/>
                </a:lnTo>
                <a:lnTo>
                  <a:pt x="1345" y="211"/>
                </a:lnTo>
                <a:lnTo>
                  <a:pt x="1345" y="227"/>
                </a:lnTo>
                <a:lnTo>
                  <a:pt x="1344" y="249"/>
                </a:lnTo>
                <a:lnTo>
                  <a:pt x="1344" y="289"/>
                </a:lnTo>
                <a:lnTo>
                  <a:pt x="1343" y="324"/>
                </a:lnTo>
                <a:lnTo>
                  <a:pt x="1343" y="333"/>
                </a:lnTo>
                <a:lnTo>
                  <a:pt x="1343" y="347"/>
                </a:lnTo>
                <a:lnTo>
                  <a:pt x="1343" y="387"/>
                </a:lnTo>
                <a:lnTo>
                  <a:pt x="1341" y="398"/>
                </a:lnTo>
                <a:lnTo>
                  <a:pt x="1341" y="419"/>
                </a:lnTo>
                <a:lnTo>
                  <a:pt x="1341" y="437"/>
                </a:lnTo>
                <a:lnTo>
                  <a:pt x="1340" y="465"/>
                </a:lnTo>
                <a:lnTo>
                  <a:pt x="1340" y="510"/>
                </a:lnTo>
                <a:lnTo>
                  <a:pt x="1339" y="530"/>
                </a:lnTo>
                <a:lnTo>
                  <a:pt x="1339" y="549"/>
                </a:lnTo>
                <a:lnTo>
                  <a:pt x="1339" y="605"/>
                </a:lnTo>
                <a:lnTo>
                  <a:pt x="1345" y="602"/>
                </a:lnTo>
                <a:lnTo>
                  <a:pt x="1346" y="602"/>
                </a:lnTo>
                <a:lnTo>
                  <a:pt x="1369" y="621"/>
                </a:lnTo>
                <a:lnTo>
                  <a:pt x="1387" y="649"/>
                </a:lnTo>
                <a:lnTo>
                  <a:pt x="1435" y="654"/>
                </a:lnTo>
                <a:lnTo>
                  <a:pt x="1440" y="658"/>
                </a:lnTo>
                <a:lnTo>
                  <a:pt x="1483" y="668"/>
                </a:lnTo>
                <a:lnTo>
                  <a:pt x="1490" y="676"/>
                </a:lnTo>
                <a:lnTo>
                  <a:pt x="1492" y="710"/>
                </a:lnTo>
                <a:lnTo>
                  <a:pt x="1507" y="719"/>
                </a:lnTo>
                <a:lnTo>
                  <a:pt x="1520" y="716"/>
                </a:lnTo>
                <a:lnTo>
                  <a:pt x="1540" y="719"/>
                </a:lnTo>
                <a:lnTo>
                  <a:pt x="1579" y="741"/>
                </a:lnTo>
                <a:lnTo>
                  <a:pt x="1604" y="730"/>
                </a:lnTo>
                <a:lnTo>
                  <a:pt x="1607" y="732"/>
                </a:lnTo>
                <a:lnTo>
                  <a:pt x="1617" y="740"/>
                </a:lnTo>
                <a:lnTo>
                  <a:pt x="1628" y="754"/>
                </a:lnTo>
                <a:lnTo>
                  <a:pt x="1643" y="756"/>
                </a:lnTo>
                <a:lnTo>
                  <a:pt x="1679" y="740"/>
                </a:lnTo>
                <a:lnTo>
                  <a:pt x="1691" y="743"/>
                </a:lnTo>
                <a:lnTo>
                  <a:pt x="1699" y="737"/>
                </a:lnTo>
                <a:lnTo>
                  <a:pt x="1707" y="736"/>
                </a:lnTo>
                <a:lnTo>
                  <a:pt x="1712" y="777"/>
                </a:lnTo>
                <a:lnTo>
                  <a:pt x="1729" y="777"/>
                </a:lnTo>
                <a:lnTo>
                  <a:pt x="1730" y="811"/>
                </a:lnTo>
                <a:lnTo>
                  <a:pt x="1750" y="822"/>
                </a:lnTo>
                <a:lnTo>
                  <a:pt x="1799" y="785"/>
                </a:lnTo>
                <a:lnTo>
                  <a:pt x="1811" y="808"/>
                </a:lnTo>
                <a:lnTo>
                  <a:pt x="1817" y="804"/>
                </a:lnTo>
                <a:lnTo>
                  <a:pt x="1823" y="802"/>
                </a:lnTo>
                <a:lnTo>
                  <a:pt x="1826" y="802"/>
                </a:lnTo>
                <a:lnTo>
                  <a:pt x="1848" y="831"/>
                </a:lnTo>
                <a:lnTo>
                  <a:pt x="1887" y="814"/>
                </a:lnTo>
                <a:lnTo>
                  <a:pt x="1883" y="849"/>
                </a:lnTo>
                <a:lnTo>
                  <a:pt x="1897" y="861"/>
                </a:lnTo>
                <a:lnTo>
                  <a:pt x="1931" y="791"/>
                </a:lnTo>
                <a:lnTo>
                  <a:pt x="1934" y="790"/>
                </a:lnTo>
                <a:lnTo>
                  <a:pt x="1970" y="828"/>
                </a:lnTo>
                <a:lnTo>
                  <a:pt x="2000" y="807"/>
                </a:lnTo>
                <a:lnTo>
                  <a:pt x="2001" y="807"/>
                </a:lnTo>
                <a:lnTo>
                  <a:pt x="1996" y="814"/>
                </a:lnTo>
                <a:lnTo>
                  <a:pt x="2018" y="842"/>
                </a:lnTo>
                <a:lnTo>
                  <a:pt x="2034" y="842"/>
                </a:lnTo>
                <a:lnTo>
                  <a:pt x="2042" y="856"/>
                </a:lnTo>
                <a:lnTo>
                  <a:pt x="2067" y="845"/>
                </a:lnTo>
                <a:lnTo>
                  <a:pt x="2115" y="811"/>
                </a:lnTo>
                <a:lnTo>
                  <a:pt x="2146" y="819"/>
                </a:lnTo>
                <a:lnTo>
                  <a:pt x="2162" y="810"/>
                </a:lnTo>
                <a:lnTo>
                  <a:pt x="2165" y="802"/>
                </a:lnTo>
                <a:lnTo>
                  <a:pt x="2192" y="795"/>
                </a:lnTo>
                <a:lnTo>
                  <a:pt x="2193" y="788"/>
                </a:lnTo>
                <a:lnTo>
                  <a:pt x="2200" y="790"/>
                </a:lnTo>
                <a:lnTo>
                  <a:pt x="2206" y="802"/>
                </a:lnTo>
                <a:lnTo>
                  <a:pt x="2205" y="804"/>
                </a:lnTo>
                <a:lnTo>
                  <a:pt x="2250" y="805"/>
                </a:lnTo>
                <a:lnTo>
                  <a:pt x="2257" y="805"/>
                </a:lnTo>
                <a:lnTo>
                  <a:pt x="2262" y="788"/>
                </a:lnTo>
                <a:lnTo>
                  <a:pt x="2280" y="787"/>
                </a:lnTo>
                <a:lnTo>
                  <a:pt x="2286" y="787"/>
                </a:lnTo>
                <a:lnTo>
                  <a:pt x="2287" y="795"/>
                </a:lnTo>
                <a:lnTo>
                  <a:pt x="2311" y="808"/>
                </a:lnTo>
                <a:lnTo>
                  <a:pt x="2336" y="841"/>
                </a:lnTo>
                <a:lnTo>
                  <a:pt x="2346" y="845"/>
                </a:lnTo>
                <a:lnTo>
                  <a:pt x="2345" y="835"/>
                </a:lnTo>
                <a:lnTo>
                  <a:pt x="2359" y="839"/>
                </a:lnTo>
                <a:lnTo>
                  <a:pt x="2359" y="851"/>
                </a:lnTo>
                <a:lnTo>
                  <a:pt x="2363" y="849"/>
                </a:lnTo>
                <a:lnTo>
                  <a:pt x="2362" y="853"/>
                </a:lnTo>
                <a:lnTo>
                  <a:pt x="2385" y="859"/>
                </a:lnTo>
                <a:lnTo>
                  <a:pt x="2406" y="878"/>
                </a:lnTo>
                <a:lnTo>
                  <a:pt x="2414" y="871"/>
                </a:lnTo>
                <a:lnTo>
                  <a:pt x="2435" y="897"/>
                </a:lnTo>
                <a:lnTo>
                  <a:pt x="2459" y="883"/>
                </a:lnTo>
                <a:lnTo>
                  <a:pt x="2501" y="893"/>
                </a:lnTo>
                <a:lnTo>
                  <a:pt x="2501" y="902"/>
                </a:lnTo>
                <a:lnTo>
                  <a:pt x="2502" y="946"/>
                </a:lnTo>
                <a:lnTo>
                  <a:pt x="2503" y="977"/>
                </a:lnTo>
                <a:lnTo>
                  <a:pt x="2503" y="983"/>
                </a:lnTo>
                <a:lnTo>
                  <a:pt x="2505" y="1019"/>
                </a:lnTo>
                <a:lnTo>
                  <a:pt x="2505" y="1052"/>
                </a:lnTo>
                <a:lnTo>
                  <a:pt x="2506" y="1058"/>
                </a:lnTo>
                <a:lnTo>
                  <a:pt x="2507" y="1093"/>
                </a:lnTo>
                <a:lnTo>
                  <a:pt x="2509" y="1131"/>
                </a:lnTo>
                <a:lnTo>
                  <a:pt x="2509" y="1136"/>
                </a:lnTo>
                <a:lnTo>
                  <a:pt x="2509" y="1148"/>
                </a:lnTo>
                <a:lnTo>
                  <a:pt x="2510" y="1170"/>
                </a:lnTo>
                <a:lnTo>
                  <a:pt x="2511" y="1207"/>
                </a:lnTo>
                <a:lnTo>
                  <a:pt x="2512" y="1239"/>
                </a:lnTo>
                <a:lnTo>
                  <a:pt x="2512" y="1244"/>
                </a:lnTo>
                <a:lnTo>
                  <a:pt x="2513" y="1282"/>
                </a:lnTo>
                <a:lnTo>
                  <a:pt x="2513" y="1297"/>
                </a:lnTo>
                <a:lnTo>
                  <a:pt x="2515" y="1356"/>
                </a:lnTo>
                <a:lnTo>
                  <a:pt x="2520" y="1358"/>
                </a:lnTo>
                <a:lnTo>
                  <a:pt x="2521" y="1361"/>
                </a:lnTo>
                <a:lnTo>
                  <a:pt x="2522" y="1363"/>
                </a:lnTo>
                <a:lnTo>
                  <a:pt x="2523" y="1367"/>
                </a:lnTo>
                <a:lnTo>
                  <a:pt x="2550" y="1401"/>
                </a:lnTo>
                <a:lnTo>
                  <a:pt x="2549" y="1401"/>
                </a:lnTo>
                <a:lnTo>
                  <a:pt x="2559" y="1428"/>
                </a:lnTo>
                <a:lnTo>
                  <a:pt x="2561" y="1478"/>
                </a:lnTo>
                <a:lnTo>
                  <a:pt x="2584" y="1502"/>
                </a:lnTo>
                <a:lnTo>
                  <a:pt x="2578" y="1506"/>
                </a:lnTo>
                <a:lnTo>
                  <a:pt x="2611" y="1597"/>
                </a:lnTo>
                <a:lnTo>
                  <a:pt x="2622" y="1594"/>
                </a:lnTo>
                <a:lnTo>
                  <a:pt x="2618" y="1649"/>
                </a:lnTo>
                <a:lnTo>
                  <a:pt x="2624" y="1687"/>
                </a:lnTo>
                <a:lnTo>
                  <a:pt x="2615" y="1724"/>
                </a:lnTo>
                <a:lnTo>
                  <a:pt x="2597" y="1799"/>
                </a:lnTo>
                <a:lnTo>
                  <a:pt x="2592" y="1828"/>
                </a:lnTo>
                <a:lnTo>
                  <a:pt x="2590" y="1831"/>
                </a:lnTo>
                <a:lnTo>
                  <a:pt x="2591" y="1853"/>
                </a:lnTo>
                <a:lnTo>
                  <a:pt x="2600" y="1875"/>
                </a:lnTo>
                <a:lnTo>
                  <a:pt x="2602" y="1910"/>
                </a:lnTo>
                <a:lnTo>
                  <a:pt x="2599" y="1933"/>
                </a:lnTo>
                <a:lnTo>
                  <a:pt x="2595" y="1938"/>
                </a:lnTo>
                <a:lnTo>
                  <a:pt x="2590" y="1948"/>
                </a:lnTo>
                <a:lnTo>
                  <a:pt x="2574" y="1990"/>
                </a:lnTo>
                <a:lnTo>
                  <a:pt x="2567" y="1997"/>
                </a:lnTo>
                <a:lnTo>
                  <a:pt x="2570" y="2028"/>
                </a:lnTo>
                <a:lnTo>
                  <a:pt x="2582" y="2055"/>
                </a:lnTo>
                <a:lnTo>
                  <a:pt x="2569" y="2048"/>
                </a:lnTo>
                <a:lnTo>
                  <a:pt x="2537" y="2048"/>
                </a:lnTo>
                <a:lnTo>
                  <a:pt x="2474" y="2085"/>
                </a:lnTo>
                <a:lnTo>
                  <a:pt x="2471" y="2087"/>
                </a:lnTo>
                <a:lnTo>
                  <a:pt x="2398" y="2147"/>
                </a:lnTo>
                <a:lnTo>
                  <a:pt x="2387" y="2144"/>
                </a:lnTo>
                <a:lnTo>
                  <a:pt x="2425" y="2104"/>
                </a:lnTo>
                <a:lnTo>
                  <a:pt x="2445" y="2097"/>
                </a:lnTo>
                <a:lnTo>
                  <a:pt x="2445" y="2092"/>
                </a:lnTo>
                <a:lnTo>
                  <a:pt x="2418" y="2089"/>
                </a:lnTo>
                <a:lnTo>
                  <a:pt x="2393" y="2099"/>
                </a:lnTo>
                <a:lnTo>
                  <a:pt x="2391" y="2024"/>
                </a:lnTo>
                <a:lnTo>
                  <a:pt x="2377" y="2031"/>
                </a:lnTo>
                <a:lnTo>
                  <a:pt x="2367" y="2058"/>
                </a:lnTo>
                <a:lnTo>
                  <a:pt x="2354" y="2056"/>
                </a:lnTo>
                <a:lnTo>
                  <a:pt x="2350" y="2055"/>
                </a:lnTo>
                <a:lnTo>
                  <a:pt x="2347" y="2053"/>
                </a:lnTo>
                <a:lnTo>
                  <a:pt x="2345" y="2056"/>
                </a:lnTo>
                <a:lnTo>
                  <a:pt x="2338" y="2070"/>
                </a:lnTo>
                <a:lnTo>
                  <a:pt x="2342" y="2085"/>
                </a:lnTo>
                <a:lnTo>
                  <a:pt x="2338" y="2092"/>
                </a:lnTo>
                <a:lnTo>
                  <a:pt x="2342" y="2102"/>
                </a:lnTo>
                <a:lnTo>
                  <a:pt x="2361" y="2109"/>
                </a:lnTo>
                <a:lnTo>
                  <a:pt x="2368" y="2141"/>
                </a:lnTo>
                <a:lnTo>
                  <a:pt x="2399" y="2155"/>
                </a:lnTo>
                <a:lnTo>
                  <a:pt x="2320" y="2235"/>
                </a:lnTo>
                <a:lnTo>
                  <a:pt x="2267" y="2297"/>
                </a:lnTo>
                <a:lnTo>
                  <a:pt x="2243" y="2312"/>
                </a:lnTo>
                <a:lnTo>
                  <a:pt x="2242" y="2313"/>
                </a:lnTo>
                <a:lnTo>
                  <a:pt x="2161" y="2374"/>
                </a:lnTo>
                <a:lnTo>
                  <a:pt x="2089" y="2421"/>
                </a:lnTo>
                <a:lnTo>
                  <a:pt x="2063" y="2448"/>
                </a:lnTo>
                <a:lnTo>
                  <a:pt x="2038" y="2476"/>
                </a:lnTo>
                <a:lnTo>
                  <a:pt x="2012" y="2496"/>
                </a:lnTo>
                <a:lnTo>
                  <a:pt x="1966" y="2546"/>
                </a:lnTo>
                <a:lnTo>
                  <a:pt x="1927" y="2605"/>
                </a:lnTo>
                <a:lnTo>
                  <a:pt x="1927" y="2612"/>
                </a:lnTo>
                <a:lnTo>
                  <a:pt x="1928" y="2614"/>
                </a:lnTo>
                <a:lnTo>
                  <a:pt x="1907" y="2645"/>
                </a:lnTo>
                <a:lnTo>
                  <a:pt x="1889" y="2690"/>
                </a:lnTo>
                <a:lnTo>
                  <a:pt x="1863" y="2778"/>
                </a:lnTo>
                <a:lnTo>
                  <a:pt x="1862" y="2787"/>
                </a:lnTo>
                <a:lnTo>
                  <a:pt x="1857" y="2860"/>
                </a:lnTo>
                <a:lnTo>
                  <a:pt x="1876" y="2978"/>
                </a:lnTo>
                <a:lnTo>
                  <a:pt x="1891" y="3035"/>
                </a:lnTo>
                <a:lnTo>
                  <a:pt x="1907" y="3155"/>
                </a:lnTo>
                <a:lnTo>
                  <a:pt x="1863" y="3194"/>
                </a:lnTo>
                <a:lnTo>
                  <a:pt x="1833" y="3187"/>
                </a:lnTo>
                <a:lnTo>
                  <a:pt x="1807" y="3157"/>
                </a:lnTo>
                <a:lnTo>
                  <a:pt x="1755" y="3136"/>
                </a:lnTo>
                <a:lnTo>
                  <a:pt x="1672" y="3136"/>
                </a:lnTo>
                <a:lnTo>
                  <a:pt x="1666" y="3120"/>
                </a:lnTo>
                <a:lnTo>
                  <a:pt x="1656" y="3120"/>
                </a:lnTo>
                <a:lnTo>
                  <a:pt x="1601" y="3080"/>
                </a:lnTo>
                <a:lnTo>
                  <a:pt x="1580" y="3082"/>
                </a:lnTo>
                <a:lnTo>
                  <a:pt x="1566" y="3067"/>
                </a:lnTo>
                <a:lnTo>
                  <a:pt x="1566" y="3058"/>
                </a:lnTo>
                <a:lnTo>
                  <a:pt x="1513" y="3039"/>
                </a:lnTo>
                <a:lnTo>
                  <a:pt x="1478" y="2985"/>
                </a:lnTo>
                <a:lnTo>
                  <a:pt x="1457" y="2907"/>
                </a:lnTo>
                <a:lnTo>
                  <a:pt x="1428" y="2859"/>
                </a:lnTo>
                <a:lnTo>
                  <a:pt x="1419" y="2780"/>
                </a:lnTo>
                <a:lnTo>
                  <a:pt x="1410" y="2710"/>
                </a:lnTo>
                <a:lnTo>
                  <a:pt x="1385" y="2668"/>
                </a:lnTo>
                <a:lnTo>
                  <a:pt x="1359" y="2649"/>
                </a:lnTo>
                <a:lnTo>
                  <a:pt x="1354" y="2641"/>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7" name="Freeform 80"/>
          <p:cNvSpPr/>
          <p:nvPr/>
        </p:nvSpPr>
        <p:spPr>
          <a:xfrm>
            <a:off x="3895560" y="2760840"/>
            <a:ext cx="603360" cy="685800"/>
          </a:xfrm>
          <a:custGeom>
            <a:avLst/>
            <a:gdLst>
              <a:gd name="textAreaLeft" fmla="*/ 0 w 603360"/>
              <a:gd name="textAreaRight" fmla="*/ 603720 w 603360"/>
              <a:gd name="textAreaTop" fmla="*/ 0 h 685800"/>
              <a:gd name="textAreaBottom" fmla="*/ 686160 h 685800"/>
            </a:gdLst>
            <a:ahLst/>
            <a:rect l="textAreaLeft" t="textAreaTop" r="textAreaRight" b="textAreaBottom"/>
            <a:pathLst>
              <a:path w="996" h="1308">
                <a:moveTo>
                  <a:pt x="754" y="1279"/>
                </a:moveTo>
                <a:lnTo>
                  <a:pt x="748" y="1279"/>
                </a:lnTo>
                <a:lnTo>
                  <a:pt x="736" y="1281"/>
                </a:lnTo>
                <a:lnTo>
                  <a:pt x="725" y="1281"/>
                </a:lnTo>
                <a:lnTo>
                  <a:pt x="707" y="1282"/>
                </a:lnTo>
                <a:lnTo>
                  <a:pt x="671" y="1286"/>
                </a:lnTo>
                <a:lnTo>
                  <a:pt x="651" y="1288"/>
                </a:lnTo>
                <a:lnTo>
                  <a:pt x="649" y="1288"/>
                </a:lnTo>
                <a:lnTo>
                  <a:pt x="645" y="1288"/>
                </a:lnTo>
                <a:lnTo>
                  <a:pt x="644" y="1288"/>
                </a:lnTo>
                <a:lnTo>
                  <a:pt x="627" y="1289"/>
                </a:lnTo>
                <a:lnTo>
                  <a:pt x="605" y="1291"/>
                </a:lnTo>
                <a:lnTo>
                  <a:pt x="569" y="1295"/>
                </a:lnTo>
                <a:lnTo>
                  <a:pt x="562" y="1295"/>
                </a:lnTo>
                <a:lnTo>
                  <a:pt x="553" y="1296"/>
                </a:lnTo>
                <a:lnTo>
                  <a:pt x="531" y="1298"/>
                </a:lnTo>
                <a:lnTo>
                  <a:pt x="517" y="1299"/>
                </a:lnTo>
                <a:lnTo>
                  <a:pt x="466" y="1305"/>
                </a:lnTo>
                <a:lnTo>
                  <a:pt x="458" y="1305"/>
                </a:lnTo>
                <a:lnTo>
                  <a:pt x="439" y="1306"/>
                </a:lnTo>
                <a:lnTo>
                  <a:pt x="428" y="1308"/>
                </a:lnTo>
                <a:lnTo>
                  <a:pt x="416" y="1274"/>
                </a:lnTo>
                <a:lnTo>
                  <a:pt x="408" y="1268"/>
                </a:lnTo>
                <a:lnTo>
                  <a:pt x="381" y="1262"/>
                </a:lnTo>
                <a:lnTo>
                  <a:pt x="352" y="1242"/>
                </a:lnTo>
                <a:lnTo>
                  <a:pt x="345" y="1205"/>
                </a:lnTo>
                <a:lnTo>
                  <a:pt x="331" y="1173"/>
                </a:lnTo>
                <a:lnTo>
                  <a:pt x="330" y="1169"/>
                </a:lnTo>
                <a:lnTo>
                  <a:pt x="326" y="1147"/>
                </a:lnTo>
                <a:lnTo>
                  <a:pt x="326" y="1146"/>
                </a:lnTo>
                <a:lnTo>
                  <a:pt x="344" y="1093"/>
                </a:lnTo>
                <a:lnTo>
                  <a:pt x="317" y="1049"/>
                </a:lnTo>
                <a:lnTo>
                  <a:pt x="315" y="1045"/>
                </a:lnTo>
                <a:lnTo>
                  <a:pt x="313" y="1022"/>
                </a:lnTo>
                <a:lnTo>
                  <a:pt x="308" y="997"/>
                </a:lnTo>
                <a:lnTo>
                  <a:pt x="301" y="988"/>
                </a:lnTo>
                <a:lnTo>
                  <a:pt x="301" y="956"/>
                </a:lnTo>
                <a:lnTo>
                  <a:pt x="302" y="946"/>
                </a:lnTo>
                <a:lnTo>
                  <a:pt x="302" y="940"/>
                </a:lnTo>
                <a:lnTo>
                  <a:pt x="296" y="920"/>
                </a:lnTo>
                <a:lnTo>
                  <a:pt x="293" y="919"/>
                </a:lnTo>
                <a:lnTo>
                  <a:pt x="278" y="893"/>
                </a:lnTo>
                <a:lnTo>
                  <a:pt x="269" y="882"/>
                </a:lnTo>
                <a:lnTo>
                  <a:pt x="267" y="878"/>
                </a:lnTo>
                <a:lnTo>
                  <a:pt x="256" y="874"/>
                </a:lnTo>
                <a:lnTo>
                  <a:pt x="245" y="872"/>
                </a:lnTo>
                <a:lnTo>
                  <a:pt x="234" y="864"/>
                </a:lnTo>
                <a:lnTo>
                  <a:pt x="218" y="844"/>
                </a:lnTo>
                <a:lnTo>
                  <a:pt x="192" y="825"/>
                </a:lnTo>
                <a:lnTo>
                  <a:pt x="186" y="810"/>
                </a:lnTo>
                <a:lnTo>
                  <a:pt x="165" y="774"/>
                </a:lnTo>
                <a:lnTo>
                  <a:pt x="150" y="766"/>
                </a:lnTo>
                <a:lnTo>
                  <a:pt x="142" y="762"/>
                </a:lnTo>
                <a:lnTo>
                  <a:pt x="128" y="757"/>
                </a:lnTo>
                <a:lnTo>
                  <a:pt x="123" y="753"/>
                </a:lnTo>
                <a:lnTo>
                  <a:pt x="113" y="740"/>
                </a:lnTo>
                <a:lnTo>
                  <a:pt x="110" y="730"/>
                </a:lnTo>
                <a:lnTo>
                  <a:pt x="109" y="729"/>
                </a:lnTo>
                <a:lnTo>
                  <a:pt x="78" y="723"/>
                </a:lnTo>
                <a:lnTo>
                  <a:pt x="43" y="689"/>
                </a:lnTo>
                <a:lnTo>
                  <a:pt x="37" y="682"/>
                </a:lnTo>
                <a:lnTo>
                  <a:pt x="25" y="674"/>
                </a:lnTo>
                <a:lnTo>
                  <a:pt x="28" y="640"/>
                </a:lnTo>
                <a:lnTo>
                  <a:pt x="27" y="598"/>
                </a:lnTo>
                <a:lnTo>
                  <a:pt x="29" y="562"/>
                </a:lnTo>
                <a:lnTo>
                  <a:pt x="26" y="536"/>
                </a:lnTo>
                <a:lnTo>
                  <a:pt x="27" y="535"/>
                </a:lnTo>
                <a:lnTo>
                  <a:pt x="26" y="525"/>
                </a:lnTo>
                <a:lnTo>
                  <a:pt x="27" y="512"/>
                </a:lnTo>
                <a:lnTo>
                  <a:pt x="32" y="451"/>
                </a:lnTo>
                <a:lnTo>
                  <a:pt x="24" y="435"/>
                </a:lnTo>
                <a:lnTo>
                  <a:pt x="0" y="410"/>
                </a:lnTo>
                <a:lnTo>
                  <a:pt x="5" y="384"/>
                </a:lnTo>
                <a:lnTo>
                  <a:pt x="6" y="384"/>
                </a:lnTo>
                <a:lnTo>
                  <a:pt x="20" y="352"/>
                </a:lnTo>
                <a:lnTo>
                  <a:pt x="92" y="278"/>
                </a:lnTo>
                <a:lnTo>
                  <a:pt x="92" y="252"/>
                </a:lnTo>
                <a:lnTo>
                  <a:pt x="89" y="177"/>
                </a:lnTo>
                <a:lnTo>
                  <a:pt x="88" y="153"/>
                </a:lnTo>
                <a:lnTo>
                  <a:pt x="85" y="116"/>
                </a:lnTo>
                <a:lnTo>
                  <a:pt x="85" y="105"/>
                </a:lnTo>
                <a:lnTo>
                  <a:pt x="92" y="106"/>
                </a:lnTo>
                <a:lnTo>
                  <a:pt x="117" y="76"/>
                </a:lnTo>
                <a:lnTo>
                  <a:pt x="131" y="88"/>
                </a:lnTo>
                <a:lnTo>
                  <a:pt x="132" y="91"/>
                </a:lnTo>
                <a:lnTo>
                  <a:pt x="165" y="91"/>
                </a:lnTo>
                <a:lnTo>
                  <a:pt x="205" y="68"/>
                </a:lnTo>
                <a:lnTo>
                  <a:pt x="234" y="55"/>
                </a:lnTo>
                <a:lnTo>
                  <a:pt x="262" y="28"/>
                </a:lnTo>
                <a:lnTo>
                  <a:pt x="274" y="33"/>
                </a:lnTo>
                <a:lnTo>
                  <a:pt x="314" y="0"/>
                </a:lnTo>
                <a:lnTo>
                  <a:pt x="332" y="23"/>
                </a:lnTo>
                <a:lnTo>
                  <a:pt x="315" y="61"/>
                </a:lnTo>
                <a:lnTo>
                  <a:pt x="318" y="82"/>
                </a:lnTo>
                <a:lnTo>
                  <a:pt x="310" y="98"/>
                </a:lnTo>
                <a:lnTo>
                  <a:pt x="312" y="109"/>
                </a:lnTo>
                <a:lnTo>
                  <a:pt x="332" y="96"/>
                </a:lnTo>
                <a:lnTo>
                  <a:pt x="338" y="74"/>
                </a:lnTo>
                <a:lnTo>
                  <a:pt x="373" y="105"/>
                </a:lnTo>
                <a:lnTo>
                  <a:pt x="381" y="103"/>
                </a:lnTo>
                <a:lnTo>
                  <a:pt x="393" y="109"/>
                </a:lnTo>
                <a:lnTo>
                  <a:pt x="395" y="108"/>
                </a:lnTo>
                <a:lnTo>
                  <a:pt x="429" y="125"/>
                </a:lnTo>
                <a:lnTo>
                  <a:pt x="448" y="162"/>
                </a:lnTo>
                <a:lnTo>
                  <a:pt x="481" y="179"/>
                </a:lnTo>
                <a:lnTo>
                  <a:pt x="493" y="181"/>
                </a:lnTo>
                <a:lnTo>
                  <a:pt x="623" y="211"/>
                </a:lnTo>
                <a:lnTo>
                  <a:pt x="640" y="221"/>
                </a:lnTo>
                <a:lnTo>
                  <a:pt x="650" y="227"/>
                </a:lnTo>
                <a:lnTo>
                  <a:pt x="666" y="237"/>
                </a:lnTo>
                <a:lnTo>
                  <a:pt x="683" y="237"/>
                </a:lnTo>
                <a:lnTo>
                  <a:pt x="692" y="240"/>
                </a:lnTo>
                <a:lnTo>
                  <a:pt x="703" y="247"/>
                </a:lnTo>
                <a:lnTo>
                  <a:pt x="724" y="241"/>
                </a:lnTo>
                <a:lnTo>
                  <a:pt x="765" y="247"/>
                </a:lnTo>
                <a:lnTo>
                  <a:pt x="788" y="255"/>
                </a:lnTo>
                <a:lnTo>
                  <a:pt x="797" y="268"/>
                </a:lnTo>
                <a:lnTo>
                  <a:pt x="789" y="289"/>
                </a:lnTo>
                <a:lnTo>
                  <a:pt x="802" y="296"/>
                </a:lnTo>
                <a:lnTo>
                  <a:pt x="812" y="291"/>
                </a:lnTo>
                <a:lnTo>
                  <a:pt x="813" y="296"/>
                </a:lnTo>
                <a:lnTo>
                  <a:pt x="834" y="301"/>
                </a:lnTo>
                <a:lnTo>
                  <a:pt x="839" y="309"/>
                </a:lnTo>
                <a:lnTo>
                  <a:pt x="881" y="481"/>
                </a:lnTo>
                <a:lnTo>
                  <a:pt x="897" y="486"/>
                </a:lnTo>
                <a:lnTo>
                  <a:pt x="892" y="509"/>
                </a:lnTo>
                <a:lnTo>
                  <a:pt x="892" y="516"/>
                </a:lnTo>
                <a:lnTo>
                  <a:pt x="871" y="529"/>
                </a:lnTo>
                <a:lnTo>
                  <a:pt x="840" y="601"/>
                </a:lnTo>
                <a:lnTo>
                  <a:pt x="839" y="618"/>
                </a:lnTo>
                <a:lnTo>
                  <a:pt x="839" y="637"/>
                </a:lnTo>
                <a:lnTo>
                  <a:pt x="859" y="638"/>
                </a:lnTo>
                <a:lnTo>
                  <a:pt x="877" y="623"/>
                </a:lnTo>
                <a:lnTo>
                  <a:pt x="880" y="620"/>
                </a:lnTo>
                <a:lnTo>
                  <a:pt x="880" y="618"/>
                </a:lnTo>
                <a:lnTo>
                  <a:pt x="882" y="613"/>
                </a:lnTo>
                <a:lnTo>
                  <a:pt x="887" y="591"/>
                </a:lnTo>
                <a:lnTo>
                  <a:pt x="916" y="553"/>
                </a:lnTo>
                <a:lnTo>
                  <a:pt x="948" y="489"/>
                </a:lnTo>
                <a:lnTo>
                  <a:pt x="952" y="469"/>
                </a:lnTo>
                <a:lnTo>
                  <a:pt x="971" y="442"/>
                </a:lnTo>
                <a:lnTo>
                  <a:pt x="972" y="431"/>
                </a:lnTo>
                <a:lnTo>
                  <a:pt x="991" y="414"/>
                </a:lnTo>
                <a:lnTo>
                  <a:pt x="996" y="430"/>
                </a:lnTo>
                <a:lnTo>
                  <a:pt x="943" y="606"/>
                </a:lnTo>
                <a:lnTo>
                  <a:pt x="943" y="607"/>
                </a:lnTo>
                <a:lnTo>
                  <a:pt x="929" y="659"/>
                </a:lnTo>
                <a:lnTo>
                  <a:pt x="923" y="712"/>
                </a:lnTo>
                <a:lnTo>
                  <a:pt x="929" y="735"/>
                </a:lnTo>
                <a:lnTo>
                  <a:pt x="906" y="811"/>
                </a:lnTo>
                <a:lnTo>
                  <a:pt x="901" y="844"/>
                </a:lnTo>
                <a:lnTo>
                  <a:pt x="909" y="886"/>
                </a:lnTo>
                <a:lnTo>
                  <a:pt x="905" y="925"/>
                </a:lnTo>
                <a:lnTo>
                  <a:pt x="899" y="949"/>
                </a:lnTo>
                <a:lnTo>
                  <a:pt x="900" y="961"/>
                </a:lnTo>
                <a:lnTo>
                  <a:pt x="889" y="1000"/>
                </a:lnTo>
                <a:lnTo>
                  <a:pt x="885" y="1037"/>
                </a:lnTo>
                <a:lnTo>
                  <a:pt x="890" y="1054"/>
                </a:lnTo>
                <a:lnTo>
                  <a:pt x="891" y="1074"/>
                </a:lnTo>
                <a:lnTo>
                  <a:pt x="897" y="1110"/>
                </a:lnTo>
                <a:lnTo>
                  <a:pt x="911" y="1156"/>
                </a:lnTo>
                <a:lnTo>
                  <a:pt x="920" y="1183"/>
                </a:lnTo>
                <a:lnTo>
                  <a:pt x="919" y="1207"/>
                </a:lnTo>
                <a:lnTo>
                  <a:pt x="916" y="1220"/>
                </a:lnTo>
                <a:lnTo>
                  <a:pt x="923" y="1258"/>
                </a:lnTo>
                <a:lnTo>
                  <a:pt x="889" y="1262"/>
                </a:lnTo>
                <a:lnTo>
                  <a:pt x="867" y="1265"/>
                </a:lnTo>
                <a:lnTo>
                  <a:pt x="853" y="1266"/>
                </a:lnTo>
                <a:lnTo>
                  <a:pt x="845" y="1268"/>
                </a:lnTo>
                <a:lnTo>
                  <a:pt x="843" y="1268"/>
                </a:lnTo>
                <a:lnTo>
                  <a:pt x="835" y="1269"/>
                </a:lnTo>
                <a:lnTo>
                  <a:pt x="779" y="1275"/>
                </a:lnTo>
                <a:lnTo>
                  <a:pt x="771" y="1276"/>
                </a:lnTo>
                <a:lnTo>
                  <a:pt x="765" y="1278"/>
                </a:lnTo>
                <a:lnTo>
                  <a:pt x="757" y="1278"/>
                </a:lnTo>
                <a:lnTo>
                  <a:pt x="756" y="1279"/>
                </a:lnTo>
                <a:lnTo>
                  <a:pt x="754" y="1279"/>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8" name="Freeform 81"/>
          <p:cNvSpPr/>
          <p:nvPr/>
        </p:nvSpPr>
        <p:spPr>
          <a:xfrm>
            <a:off x="3522600" y="3297240"/>
            <a:ext cx="690480" cy="485640"/>
          </a:xfrm>
          <a:custGeom>
            <a:avLst/>
            <a:gdLst>
              <a:gd name="textAreaLeft" fmla="*/ 0 w 690480"/>
              <a:gd name="textAreaRight" fmla="*/ 690840 w 690480"/>
              <a:gd name="textAreaTop" fmla="*/ 0 h 485640"/>
              <a:gd name="textAreaBottom" fmla="*/ 486000 h 485640"/>
            </a:gdLst>
            <a:ahLst/>
            <a:rect l="textAreaLeft" t="textAreaTop" r="textAreaRight" b="textAreaBottom"/>
            <a:pathLst>
              <a:path w="1142" h="929">
                <a:moveTo>
                  <a:pt x="538" y="27"/>
                </a:moveTo>
                <a:lnTo>
                  <a:pt x="511" y="29"/>
                </a:lnTo>
                <a:lnTo>
                  <a:pt x="476" y="30"/>
                </a:lnTo>
                <a:lnTo>
                  <a:pt x="473" y="30"/>
                </a:lnTo>
                <a:lnTo>
                  <a:pt x="455" y="32"/>
                </a:lnTo>
                <a:lnTo>
                  <a:pt x="454" y="32"/>
                </a:lnTo>
                <a:lnTo>
                  <a:pt x="451" y="32"/>
                </a:lnTo>
                <a:lnTo>
                  <a:pt x="407" y="33"/>
                </a:lnTo>
                <a:lnTo>
                  <a:pt x="386" y="35"/>
                </a:lnTo>
                <a:lnTo>
                  <a:pt x="374" y="35"/>
                </a:lnTo>
                <a:lnTo>
                  <a:pt x="338" y="36"/>
                </a:lnTo>
                <a:lnTo>
                  <a:pt x="322" y="37"/>
                </a:lnTo>
                <a:lnTo>
                  <a:pt x="303" y="37"/>
                </a:lnTo>
                <a:lnTo>
                  <a:pt x="300" y="37"/>
                </a:lnTo>
                <a:lnTo>
                  <a:pt x="293" y="39"/>
                </a:lnTo>
                <a:lnTo>
                  <a:pt x="257" y="40"/>
                </a:lnTo>
                <a:lnTo>
                  <a:pt x="235" y="40"/>
                </a:lnTo>
                <a:lnTo>
                  <a:pt x="212" y="42"/>
                </a:lnTo>
                <a:lnTo>
                  <a:pt x="201" y="42"/>
                </a:lnTo>
                <a:lnTo>
                  <a:pt x="155" y="43"/>
                </a:lnTo>
                <a:lnTo>
                  <a:pt x="149" y="43"/>
                </a:lnTo>
                <a:lnTo>
                  <a:pt x="130" y="43"/>
                </a:lnTo>
                <a:lnTo>
                  <a:pt x="117" y="44"/>
                </a:lnTo>
                <a:lnTo>
                  <a:pt x="106" y="44"/>
                </a:lnTo>
                <a:lnTo>
                  <a:pt x="96" y="44"/>
                </a:lnTo>
                <a:lnTo>
                  <a:pt x="63" y="46"/>
                </a:lnTo>
                <a:lnTo>
                  <a:pt x="42" y="46"/>
                </a:lnTo>
                <a:lnTo>
                  <a:pt x="28" y="46"/>
                </a:lnTo>
                <a:lnTo>
                  <a:pt x="20" y="46"/>
                </a:lnTo>
                <a:lnTo>
                  <a:pt x="3" y="46"/>
                </a:lnTo>
                <a:lnTo>
                  <a:pt x="16" y="83"/>
                </a:lnTo>
                <a:lnTo>
                  <a:pt x="12" y="118"/>
                </a:lnTo>
                <a:lnTo>
                  <a:pt x="21" y="130"/>
                </a:lnTo>
                <a:lnTo>
                  <a:pt x="31" y="158"/>
                </a:lnTo>
                <a:lnTo>
                  <a:pt x="29" y="169"/>
                </a:lnTo>
                <a:lnTo>
                  <a:pt x="21" y="181"/>
                </a:lnTo>
                <a:lnTo>
                  <a:pt x="22" y="208"/>
                </a:lnTo>
                <a:lnTo>
                  <a:pt x="15" y="222"/>
                </a:lnTo>
                <a:lnTo>
                  <a:pt x="0" y="283"/>
                </a:lnTo>
                <a:lnTo>
                  <a:pt x="23" y="315"/>
                </a:lnTo>
                <a:lnTo>
                  <a:pt x="23" y="325"/>
                </a:lnTo>
                <a:lnTo>
                  <a:pt x="28" y="342"/>
                </a:lnTo>
                <a:lnTo>
                  <a:pt x="34" y="347"/>
                </a:lnTo>
                <a:lnTo>
                  <a:pt x="50" y="409"/>
                </a:lnTo>
                <a:lnTo>
                  <a:pt x="54" y="416"/>
                </a:lnTo>
                <a:lnTo>
                  <a:pt x="54" y="419"/>
                </a:lnTo>
                <a:lnTo>
                  <a:pt x="50" y="427"/>
                </a:lnTo>
                <a:lnTo>
                  <a:pt x="63" y="454"/>
                </a:lnTo>
                <a:lnTo>
                  <a:pt x="66" y="477"/>
                </a:lnTo>
                <a:lnTo>
                  <a:pt x="71" y="491"/>
                </a:lnTo>
                <a:lnTo>
                  <a:pt x="80" y="491"/>
                </a:lnTo>
                <a:lnTo>
                  <a:pt x="90" y="530"/>
                </a:lnTo>
                <a:lnTo>
                  <a:pt x="92" y="532"/>
                </a:lnTo>
                <a:lnTo>
                  <a:pt x="98" y="565"/>
                </a:lnTo>
                <a:lnTo>
                  <a:pt x="93" y="585"/>
                </a:lnTo>
                <a:lnTo>
                  <a:pt x="95" y="602"/>
                </a:lnTo>
                <a:lnTo>
                  <a:pt x="116" y="627"/>
                </a:lnTo>
                <a:lnTo>
                  <a:pt x="116" y="636"/>
                </a:lnTo>
                <a:lnTo>
                  <a:pt x="115" y="639"/>
                </a:lnTo>
                <a:lnTo>
                  <a:pt x="116" y="647"/>
                </a:lnTo>
                <a:lnTo>
                  <a:pt x="127" y="670"/>
                </a:lnTo>
                <a:lnTo>
                  <a:pt x="139" y="701"/>
                </a:lnTo>
                <a:lnTo>
                  <a:pt x="132" y="712"/>
                </a:lnTo>
                <a:lnTo>
                  <a:pt x="131" y="731"/>
                </a:lnTo>
                <a:lnTo>
                  <a:pt x="139" y="731"/>
                </a:lnTo>
                <a:lnTo>
                  <a:pt x="141" y="737"/>
                </a:lnTo>
                <a:lnTo>
                  <a:pt x="139" y="739"/>
                </a:lnTo>
                <a:lnTo>
                  <a:pt x="141" y="749"/>
                </a:lnTo>
                <a:lnTo>
                  <a:pt x="139" y="768"/>
                </a:lnTo>
                <a:lnTo>
                  <a:pt x="139" y="771"/>
                </a:lnTo>
                <a:lnTo>
                  <a:pt x="140" y="772"/>
                </a:lnTo>
                <a:lnTo>
                  <a:pt x="142" y="786"/>
                </a:lnTo>
                <a:lnTo>
                  <a:pt x="151" y="816"/>
                </a:lnTo>
                <a:lnTo>
                  <a:pt x="152" y="817"/>
                </a:lnTo>
                <a:lnTo>
                  <a:pt x="150" y="825"/>
                </a:lnTo>
                <a:lnTo>
                  <a:pt x="149" y="851"/>
                </a:lnTo>
                <a:lnTo>
                  <a:pt x="140" y="861"/>
                </a:lnTo>
                <a:lnTo>
                  <a:pt x="165" y="904"/>
                </a:lnTo>
                <a:lnTo>
                  <a:pt x="162" y="910"/>
                </a:lnTo>
                <a:lnTo>
                  <a:pt x="165" y="910"/>
                </a:lnTo>
                <a:lnTo>
                  <a:pt x="210" y="910"/>
                </a:lnTo>
                <a:lnTo>
                  <a:pt x="233" y="910"/>
                </a:lnTo>
                <a:lnTo>
                  <a:pt x="254" y="910"/>
                </a:lnTo>
                <a:lnTo>
                  <a:pt x="262" y="910"/>
                </a:lnTo>
                <a:lnTo>
                  <a:pt x="299" y="908"/>
                </a:lnTo>
                <a:lnTo>
                  <a:pt x="314" y="908"/>
                </a:lnTo>
                <a:lnTo>
                  <a:pt x="343" y="908"/>
                </a:lnTo>
                <a:lnTo>
                  <a:pt x="365" y="907"/>
                </a:lnTo>
                <a:lnTo>
                  <a:pt x="389" y="907"/>
                </a:lnTo>
                <a:lnTo>
                  <a:pt x="394" y="907"/>
                </a:lnTo>
                <a:lnTo>
                  <a:pt x="434" y="904"/>
                </a:lnTo>
                <a:lnTo>
                  <a:pt x="437" y="904"/>
                </a:lnTo>
                <a:lnTo>
                  <a:pt x="475" y="903"/>
                </a:lnTo>
                <a:lnTo>
                  <a:pt x="478" y="901"/>
                </a:lnTo>
                <a:lnTo>
                  <a:pt x="518" y="898"/>
                </a:lnTo>
                <a:lnTo>
                  <a:pt x="519" y="898"/>
                </a:lnTo>
                <a:lnTo>
                  <a:pt x="523" y="898"/>
                </a:lnTo>
                <a:lnTo>
                  <a:pt x="557" y="895"/>
                </a:lnTo>
                <a:lnTo>
                  <a:pt x="567" y="895"/>
                </a:lnTo>
                <a:lnTo>
                  <a:pt x="578" y="894"/>
                </a:lnTo>
                <a:lnTo>
                  <a:pt x="590" y="894"/>
                </a:lnTo>
                <a:lnTo>
                  <a:pt x="612" y="893"/>
                </a:lnTo>
                <a:lnTo>
                  <a:pt x="639" y="890"/>
                </a:lnTo>
                <a:lnTo>
                  <a:pt x="657" y="888"/>
                </a:lnTo>
                <a:lnTo>
                  <a:pt x="702" y="884"/>
                </a:lnTo>
                <a:lnTo>
                  <a:pt x="708" y="883"/>
                </a:lnTo>
                <a:lnTo>
                  <a:pt x="722" y="883"/>
                </a:lnTo>
                <a:lnTo>
                  <a:pt x="747" y="880"/>
                </a:lnTo>
                <a:lnTo>
                  <a:pt x="773" y="877"/>
                </a:lnTo>
                <a:lnTo>
                  <a:pt x="791" y="876"/>
                </a:lnTo>
                <a:lnTo>
                  <a:pt x="794" y="876"/>
                </a:lnTo>
                <a:lnTo>
                  <a:pt x="804" y="874"/>
                </a:lnTo>
                <a:lnTo>
                  <a:pt x="825" y="871"/>
                </a:lnTo>
                <a:lnTo>
                  <a:pt x="831" y="871"/>
                </a:lnTo>
                <a:lnTo>
                  <a:pt x="846" y="870"/>
                </a:lnTo>
                <a:lnTo>
                  <a:pt x="884" y="864"/>
                </a:lnTo>
                <a:lnTo>
                  <a:pt x="886" y="867"/>
                </a:lnTo>
                <a:lnTo>
                  <a:pt x="886" y="868"/>
                </a:lnTo>
                <a:lnTo>
                  <a:pt x="903" y="884"/>
                </a:lnTo>
                <a:lnTo>
                  <a:pt x="927" y="924"/>
                </a:lnTo>
                <a:lnTo>
                  <a:pt x="943" y="929"/>
                </a:lnTo>
                <a:lnTo>
                  <a:pt x="950" y="924"/>
                </a:lnTo>
                <a:lnTo>
                  <a:pt x="948" y="868"/>
                </a:lnTo>
                <a:lnTo>
                  <a:pt x="981" y="849"/>
                </a:lnTo>
                <a:lnTo>
                  <a:pt x="989" y="842"/>
                </a:lnTo>
                <a:lnTo>
                  <a:pt x="992" y="839"/>
                </a:lnTo>
                <a:lnTo>
                  <a:pt x="993" y="830"/>
                </a:lnTo>
                <a:lnTo>
                  <a:pt x="993" y="815"/>
                </a:lnTo>
                <a:lnTo>
                  <a:pt x="1017" y="738"/>
                </a:lnTo>
                <a:lnTo>
                  <a:pt x="1016" y="717"/>
                </a:lnTo>
                <a:lnTo>
                  <a:pt x="1005" y="690"/>
                </a:lnTo>
                <a:lnTo>
                  <a:pt x="984" y="666"/>
                </a:lnTo>
                <a:lnTo>
                  <a:pt x="989" y="640"/>
                </a:lnTo>
                <a:lnTo>
                  <a:pt x="992" y="627"/>
                </a:lnTo>
                <a:lnTo>
                  <a:pt x="1001" y="612"/>
                </a:lnTo>
                <a:lnTo>
                  <a:pt x="1038" y="600"/>
                </a:lnTo>
                <a:lnTo>
                  <a:pt x="1088" y="576"/>
                </a:lnTo>
                <a:lnTo>
                  <a:pt x="1109" y="558"/>
                </a:lnTo>
                <a:lnTo>
                  <a:pt x="1116" y="511"/>
                </a:lnTo>
                <a:lnTo>
                  <a:pt x="1118" y="504"/>
                </a:lnTo>
                <a:lnTo>
                  <a:pt x="1128" y="495"/>
                </a:lnTo>
                <a:lnTo>
                  <a:pt x="1129" y="494"/>
                </a:lnTo>
                <a:lnTo>
                  <a:pt x="1139" y="466"/>
                </a:lnTo>
                <a:lnTo>
                  <a:pt x="1141" y="449"/>
                </a:lnTo>
                <a:lnTo>
                  <a:pt x="1142" y="427"/>
                </a:lnTo>
                <a:lnTo>
                  <a:pt x="1142" y="426"/>
                </a:lnTo>
                <a:lnTo>
                  <a:pt x="1139" y="417"/>
                </a:lnTo>
                <a:lnTo>
                  <a:pt x="1134" y="391"/>
                </a:lnTo>
                <a:lnTo>
                  <a:pt x="1115" y="378"/>
                </a:lnTo>
                <a:lnTo>
                  <a:pt x="1107" y="372"/>
                </a:lnTo>
                <a:lnTo>
                  <a:pt x="1094" y="366"/>
                </a:lnTo>
                <a:lnTo>
                  <a:pt x="1090" y="359"/>
                </a:lnTo>
                <a:lnTo>
                  <a:pt x="1077" y="320"/>
                </a:lnTo>
                <a:lnTo>
                  <a:pt x="1049" y="300"/>
                </a:lnTo>
                <a:lnTo>
                  <a:pt x="1045" y="287"/>
                </a:lnTo>
                <a:lnTo>
                  <a:pt x="1045" y="286"/>
                </a:lnTo>
                <a:lnTo>
                  <a:pt x="1033" y="252"/>
                </a:lnTo>
                <a:lnTo>
                  <a:pt x="1025" y="246"/>
                </a:lnTo>
                <a:lnTo>
                  <a:pt x="998" y="240"/>
                </a:lnTo>
                <a:lnTo>
                  <a:pt x="969" y="220"/>
                </a:lnTo>
                <a:lnTo>
                  <a:pt x="962" y="183"/>
                </a:lnTo>
                <a:lnTo>
                  <a:pt x="948" y="151"/>
                </a:lnTo>
                <a:lnTo>
                  <a:pt x="947" y="147"/>
                </a:lnTo>
                <a:lnTo>
                  <a:pt x="943" y="125"/>
                </a:lnTo>
                <a:lnTo>
                  <a:pt x="943" y="124"/>
                </a:lnTo>
                <a:lnTo>
                  <a:pt x="961" y="71"/>
                </a:lnTo>
                <a:lnTo>
                  <a:pt x="934" y="27"/>
                </a:lnTo>
                <a:lnTo>
                  <a:pt x="932" y="23"/>
                </a:lnTo>
                <a:lnTo>
                  <a:pt x="930" y="0"/>
                </a:lnTo>
                <a:lnTo>
                  <a:pt x="924" y="0"/>
                </a:lnTo>
                <a:lnTo>
                  <a:pt x="911" y="2"/>
                </a:lnTo>
                <a:lnTo>
                  <a:pt x="861" y="5"/>
                </a:lnTo>
                <a:lnTo>
                  <a:pt x="859" y="6"/>
                </a:lnTo>
                <a:lnTo>
                  <a:pt x="841" y="8"/>
                </a:lnTo>
                <a:lnTo>
                  <a:pt x="781" y="12"/>
                </a:lnTo>
                <a:lnTo>
                  <a:pt x="717" y="16"/>
                </a:lnTo>
                <a:lnTo>
                  <a:pt x="700" y="18"/>
                </a:lnTo>
                <a:lnTo>
                  <a:pt x="622" y="22"/>
                </a:lnTo>
                <a:lnTo>
                  <a:pt x="619" y="23"/>
                </a:lnTo>
                <a:lnTo>
                  <a:pt x="614" y="23"/>
                </a:lnTo>
                <a:lnTo>
                  <a:pt x="558" y="26"/>
                </a:lnTo>
                <a:lnTo>
                  <a:pt x="554" y="26"/>
                </a:lnTo>
                <a:lnTo>
                  <a:pt x="538" y="27"/>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89" name="Freeform 82"/>
          <p:cNvSpPr/>
          <p:nvPr/>
        </p:nvSpPr>
        <p:spPr>
          <a:xfrm>
            <a:off x="960480" y="3284640"/>
            <a:ext cx="717480" cy="1195200"/>
          </a:xfrm>
          <a:custGeom>
            <a:avLst/>
            <a:gdLst>
              <a:gd name="textAreaLeft" fmla="*/ 0 w 717480"/>
              <a:gd name="textAreaRight" fmla="*/ 717840 w 717480"/>
              <a:gd name="textAreaTop" fmla="*/ 0 h 1195200"/>
              <a:gd name="textAreaBottom" fmla="*/ 1195560 h 1195200"/>
            </a:gdLst>
            <a:ahLst/>
            <a:rect l="textAreaLeft" t="textAreaTop" r="textAreaRight" b="textAreaBottom"/>
            <a:pathLst>
              <a:path w="1185" h="2284">
                <a:moveTo>
                  <a:pt x="5" y="840"/>
                </a:moveTo>
                <a:lnTo>
                  <a:pt x="3" y="853"/>
                </a:lnTo>
                <a:lnTo>
                  <a:pt x="0" y="873"/>
                </a:lnTo>
                <a:lnTo>
                  <a:pt x="9" y="888"/>
                </a:lnTo>
                <a:lnTo>
                  <a:pt x="15" y="897"/>
                </a:lnTo>
                <a:lnTo>
                  <a:pt x="24" y="914"/>
                </a:lnTo>
                <a:lnTo>
                  <a:pt x="52" y="963"/>
                </a:lnTo>
                <a:lnTo>
                  <a:pt x="60" y="978"/>
                </a:lnTo>
                <a:lnTo>
                  <a:pt x="72" y="999"/>
                </a:lnTo>
                <a:lnTo>
                  <a:pt x="97" y="1041"/>
                </a:lnTo>
                <a:lnTo>
                  <a:pt x="104" y="1054"/>
                </a:lnTo>
                <a:lnTo>
                  <a:pt x="108" y="1061"/>
                </a:lnTo>
                <a:lnTo>
                  <a:pt x="122" y="1085"/>
                </a:lnTo>
                <a:lnTo>
                  <a:pt x="156" y="1144"/>
                </a:lnTo>
                <a:lnTo>
                  <a:pt x="181" y="1187"/>
                </a:lnTo>
                <a:lnTo>
                  <a:pt x="228" y="1271"/>
                </a:lnTo>
                <a:lnTo>
                  <a:pt x="284" y="1369"/>
                </a:lnTo>
                <a:lnTo>
                  <a:pt x="309" y="1412"/>
                </a:lnTo>
                <a:lnTo>
                  <a:pt x="316" y="1424"/>
                </a:lnTo>
                <a:lnTo>
                  <a:pt x="349" y="1483"/>
                </a:lnTo>
                <a:lnTo>
                  <a:pt x="360" y="1501"/>
                </a:lnTo>
                <a:lnTo>
                  <a:pt x="416" y="1599"/>
                </a:lnTo>
                <a:lnTo>
                  <a:pt x="511" y="1765"/>
                </a:lnTo>
                <a:lnTo>
                  <a:pt x="555" y="1843"/>
                </a:lnTo>
                <a:lnTo>
                  <a:pt x="609" y="1938"/>
                </a:lnTo>
                <a:lnTo>
                  <a:pt x="610" y="1939"/>
                </a:lnTo>
                <a:lnTo>
                  <a:pt x="632" y="1977"/>
                </a:lnTo>
                <a:lnTo>
                  <a:pt x="651" y="2010"/>
                </a:lnTo>
                <a:lnTo>
                  <a:pt x="710" y="2114"/>
                </a:lnTo>
                <a:lnTo>
                  <a:pt x="761" y="2203"/>
                </a:lnTo>
                <a:lnTo>
                  <a:pt x="807" y="2284"/>
                </a:lnTo>
                <a:lnTo>
                  <a:pt x="826" y="2213"/>
                </a:lnTo>
                <a:lnTo>
                  <a:pt x="824" y="2060"/>
                </a:lnTo>
                <a:lnTo>
                  <a:pt x="835" y="2024"/>
                </a:lnTo>
                <a:lnTo>
                  <a:pt x="828" y="1958"/>
                </a:lnTo>
                <a:lnTo>
                  <a:pt x="876" y="1952"/>
                </a:lnTo>
                <a:lnTo>
                  <a:pt x="919" y="1997"/>
                </a:lnTo>
                <a:lnTo>
                  <a:pt x="962" y="1955"/>
                </a:lnTo>
                <a:lnTo>
                  <a:pt x="987" y="1762"/>
                </a:lnTo>
                <a:lnTo>
                  <a:pt x="994" y="1715"/>
                </a:lnTo>
                <a:lnTo>
                  <a:pt x="998" y="1685"/>
                </a:lnTo>
                <a:lnTo>
                  <a:pt x="1010" y="1589"/>
                </a:lnTo>
                <a:lnTo>
                  <a:pt x="1016" y="1536"/>
                </a:lnTo>
                <a:lnTo>
                  <a:pt x="1022" y="1494"/>
                </a:lnTo>
                <a:lnTo>
                  <a:pt x="1023" y="1488"/>
                </a:lnTo>
                <a:lnTo>
                  <a:pt x="1038" y="1376"/>
                </a:lnTo>
                <a:lnTo>
                  <a:pt x="1043" y="1334"/>
                </a:lnTo>
                <a:lnTo>
                  <a:pt x="1050" y="1273"/>
                </a:lnTo>
                <a:lnTo>
                  <a:pt x="1054" y="1251"/>
                </a:lnTo>
                <a:lnTo>
                  <a:pt x="1056" y="1236"/>
                </a:lnTo>
                <a:lnTo>
                  <a:pt x="1057" y="1220"/>
                </a:lnTo>
                <a:lnTo>
                  <a:pt x="1065" y="1166"/>
                </a:lnTo>
                <a:lnTo>
                  <a:pt x="1089" y="978"/>
                </a:lnTo>
                <a:lnTo>
                  <a:pt x="1090" y="965"/>
                </a:lnTo>
                <a:lnTo>
                  <a:pt x="1098" y="904"/>
                </a:lnTo>
                <a:lnTo>
                  <a:pt x="1105" y="858"/>
                </a:lnTo>
                <a:lnTo>
                  <a:pt x="1108" y="830"/>
                </a:lnTo>
                <a:lnTo>
                  <a:pt x="1113" y="796"/>
                </a:lnTo>
                <a:lnTo>
                  <a:pt x="1121" y="728"/>
                </a:lnTo>
                <a:lnTo>
                  <a:pt x="1132" y="646"/>
                </a:lnTo>
                <a:lnTo>
                  <a:pt x="1147" y="536"/>
                </a:lnTo>
                <a:lnTo>
                  <a:pt x="1160" y="440"/>
                </a:lnTo>
                <a:lnTo>
                  <a:pt x="1180" y="276"/>
                </a:lnTo>
                <a:lnTo>
                  <a:pt x="1185" y="244"/>
                </a:lnTo>
                <a:lnTo>
                  <a:pt x="1151" y="237"/>
                </a:lnTo>
                <a:lnTo>
                  <a:pt x="1148" y="236"/>
                </a:lnTo>
                <a:lnTo>
                  <a:pt x="1143" y="236"/>
                </a:lnTo>
                <a:lnTo>
                  <a:pt x="1088" y="224"/>
                </a:lnTo>
                <a:lnTo>
                  <a:pt x="1062" y="217"/>
                </a:lnTo>
                <a:lnTo>
                  <a:pt x="1012" y="207"/>
                </a:lnTo>
                <a:lnTo>
                  <a:pt x="836" y="169"/>
                </a:lnTo>
                <a:lnTo>
                  <a:pt x="678" y="132"/>
                </a:lnTo>
                <a:lnTo>
                  <a:pt x="668" y="129"/>
                </a:lnTo>
                <a:lnTo>
                  <a:pt x="628" y="121"/>
                </a:lnTo>
                <a:lnTo>
                  <a:pt x="620" y="118"/>
                </a:lnTo>
                <a:lnTo>
                  <a:pt x="466" y="81"/>
                </a:lnTo>
                <a:lnTo>
                  <a:pt x="413" y="68"/>
                </a:lnTo>
                <a:lnTo>
                  <a:pt x="379" y="61"/>
                </a:lnTo>
                <a:lnTo>
                  <a:pt x="272" y="33"/>
                </a:lnTo>
                <a:lnTo>
                  <a:pt x="265" y="30"/>
                </a:lnTo>
                <a:lnTo>
                  <a:pt x="241" y="24"/>
                </a:lnTo>
                <a:lnTo>
                  <a:pt x="177" y="6"/>
                </a:lnTo>
                <a:lnTo>
                  <a:pt x="155" y="0"/>
                </a:lnTo>
                <a:lnTo>
                  <a:pt x="144" y="67"/>
                </a:lnTo>
                <a:lnTo>
                  <a:pt x="122" y="189"/>
                </a:lnTo>
                <a:lnTo>
                  <a:pt x="114" y="237"/>
                </a:lnTo>
                <a:lnTo>
                  <a:pt x="79" y="436"/>
                </a:lnTo>
                <a:lnTo>
                  <a:pt x="50" y="595"/>
                </a:lnTo>
                <a:lnTo>
                  <a:pt x="37" y="663"/>
                </a:lnTo>
                <a:lnTo>
                  <a:pt x="33" y="691"/>
                </a:lnTo>
                <a:lnTo>
                  <a:pt x="26" y="728"/>
                </a:lnTo>
                <a:lnTo>
                  <a:pt x="23" y="744"/>
                </a:lnTo>
                <a:lnTo>
                  <a:pt x="19" y="763"/>
                </a:lnTo>
                <a:lnTo>
                  <a:pt x="16" y="780"/>
                </a:lnTo>
                <a:lnTo>
                  <a:pt x="12" y="800"/>
                </a:lnTo>
                <a:lnTo>
                  <a:pt x="8" y="824"/>
                </a:lnTo>
                <a:lnTo>
                  <a:pt x="7" y="837"/>
                </a:lnTo>
                <a:lnTo>
                  <a:pt x="5" y="840"/>
                </a:lnTo>
                <a:close/>
              </a:path>
            </a:pathLst>
          </a:custGeom>
          <a:solidFill>
            <a:srgbClr val="3333cc"/>
          </a:solidFill>
          <a:ln w="0">
            <a:solidFill>
              <a:srgbClr val="000000"/>
            </a:solid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90" name="Rectangle 83"/>
          <p:cNvSpPr/>
          <p:nvPr/>
        </p:nvSpPr>
        <p:spPr>
          <a:xfrm>
            <a:off x="4433040" y="2549520"/>
            <a:ext cx="1110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 2.2% by 2011</a:t>
            </a:r>
            <a:endParaRPr b="0" lang="en-US" sz="1100" spc="-1" strike="noStrike">
              <a:solidFill>
                <a:srgbClr val="000000"/>
              </a:solidFill>
              <a:latin typeface="Arial"/>
            </a:endParaRPr>
          </a:p>
        </p:txBody>
      </p:sp>
      <p:sp>
        <p:nvSpPr>
          <p:cNvPr id="191" name="Rectangle 84"/>
          <p:cNvSpPr/>
          <p:nvPr/>
        </p:nvSpPr>
        <p:spPr>
          <a:xfrm>
            <a:off x="3119760" y="3886200"/>
            <a:ext cx="953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A: 2% by 1999</a:t>
            </a:r>
            <a:endParaRPr b="0" lang="en-US" sz="1100" spc="-1" strike="noStrike">
              <a:solidFill>
                <a:srgbClr val="000000"/>
              </a:solidFill>
              <a:latin typeface="Arial"/>
            </a:endParaRPr>
          </a:p>
        </p:txBody>
      </p:sp>
      <p:sp>
        <p:nvSpPr>
          <p:cNvPr id="192" name="Rectangle 85"/>
          <p:cNvSpPr/>
          <p:nvPr/>
        </p:nvSpPr>
        <p:spPr>
          <a:xfrm>
            <a:off x="2864520" y="2184480"/>
            <a:ext cx="1116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N: 19% by 2015</a:t>
            </a:r>
            <a:endParaRPr b="0" lang="en-US" sz="1100" spc="-1" strike="noStrike">
              <a:solidFill>
                <a:srgbClr val="000000"/>
              </a:solidFill>
              <a:latin typeface="Arial"/>
            </a:endParaRPr>
          </a:p>
        </p:txBody>
      </p:sp>
      <p:sp>
        <p:nvSpPr>
          <p:cNvPr id="193" name="Rectangle 86"/>
          <p:cNvSpPr/>
          <p:nvPr/>
        </p:nvSpPr>
        <p:spPr>
          <a:xfrm>
            <a:off x="1214640" y="3429000"/>
            <a:ext cx="1192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V: 15% by 2013</a:t>
            </a:r>
            <a:endParaRPr b="0" lang="en-US" sz="1200" spc="-1" strike="noStrike">
              <a:solidFill>
                <a:srgbClr val="000000"/>
              </a:solidFill>
              <a:latin typeface="Arial"/>
            </a:endParaRPr>
          </a:p>
        </p:txBody>
      </p:sp>
      <p:sp>
        <p:nvSpPr>
          <p:cNvPr id="194" name="Rectangle 87"/>
          <p:cNvSpPr/>
          <p:nvPr/>
        </p:nvSpPr>
        <p:spPr>
          <a:xfrm>
            <a:off x="1901160" y="5638680"/>
            <a:ext cx="1116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X: 2.7% by 2009</a:t>
            </a:r>
            <a:endParaRPr b="0" lang="en-US" sz="1100" spc="-1" strike="noStrike">
              <a:solidFill>
                <a:srgbClr val="000000"/>
              </a:solidFill>
              <a:latin typeface="Arial"/>
            </a:endParaRPr>
          </a:p>
        </p:txBody>
      </p:sp>
      <p:sp>
        <p:nvSpPr>
          <p:cNvPr id="195" name="Rectangle 88"/>
          <p:cNvSpPr/>
          <p:nvPr/>
        </p:nvSpPr>
        <p:spPr>
          <a:xfrm>
            <a:off x="6010200" y="3790800"/>
            <a:ext cx="1006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 8% by 2020</a:t>
            </a:r>
            <a:endParaRPr b="0" lang="en-US" sz="1100" spc="-1" strike="noStrike">
              <a:solidFill>
                <a:srgbClr val="000000"/>
              </a:solidFill>
              <a:latin typeface="Arial"/>
            </a:endParaRPr>
          </a:p>
        </p:txBody>
      </p:sp>
      <p:sp>
        <p:nvSpPr>
          <p:cNvPr id="196" name="Rectangle 89"/>
          <p:cNvSpPr/>
          <p:nvPr/>
        </p:nvSpPr>
        <p:spPr>
          <a:xfrm>
            <a:off x="6096600" y="3565440"/>
            <a:ext cx="1108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J: 6.5% by 2012</a:t>
            </a:r>
            <a:endParaRPr b="0" lang="en-US" sz="1100" spc="-1" strike="noStrike">
              <a:solidFill>
                <a:srgbClr val="000000"/>
              </a:solidFill>
              <a:latin typeface="Arial"/>
            </a:endParaRPr>
          </a:p>
        </p:txBody>
      </p:sp>
      <p:sp>
        <p:nvSpPr>
          <p:cNvPr id="197" name="Rectangle 90"/>
          <p:cNvSpPr/>
          <p:nvPr/>
        </p:nvSpPr>
        <p:spPr>
          <a:xfrm>
            <a:off x="6184800" y="3336840"/>
            <a:ext cx="1084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T: 10% by 2010</a:t>
            </a:r>
            <a:endParaRPr b="0" lang="en-US" sz="1100" spc="-1" strike="noStrike">
              <a:solidFill>
                <a:srgbClr val="000000"/>
              </a:solidFill>
              <a:latin typeface="Arial"/>
            </a:endParaRPr>
          </a:p>
        </p:txBody>
      </p:sp>
      <p:sp>
        <p:nvSpPr>
          <p:cNvPr id="198" name="Rectangle 91"/>
          <p:cNvSpPr/>
          <p:nvPr/>
        </p:nvSpPr>
        <p:spPr>
          <a:xfrm>
            <a:off x="6275520" y="2886120"/>
            <a:ext cx="126828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 4% by 2009</a:t>
            </a:r>
            <a:endParaRPr b="0" lang="en-US" sz="1100" spc="-1" strike="noStrike">
              <a:solidFill>
                <a:srgbClr val="000000"/>
              </a:solidFill>
              <a:latin typeface="Arial"/>
            </a:endParaRPr>
          </a:p>
        </p:txBody>
      </p:sp>
      <p:sp>
        <p:nvSpPr>
          <p:cNvPr id="199" name="Rectangle 92"/>
          <p:cNvSpPr/>
          <p:nvPr/>
        </p:nvSpPr>
        <p:spPr>
          <a:xfrm>
            <a:off x="6096600" y="2057400"/>
            <a:ext cx="1108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E: 30% by 2000</a:t>
            </a:r>
            <a:endParaRPr b="0" lang="en-US" sz="1100" spc="-1" strike="noStrike">
              <a:solidFill>
                <a:srgbClr val="000000"/>
              </a:solidFill>
              <a:latin typeface="Arial"/>
            </a:endParaRPr>
          </a:p>
        </p:txBody>
      </p:sp>
      <p:sp>
        <p:nvSpPr>
          <p:cNvPr id="200" name="Text Box 93"/>
          <p:cNvSpPr/>
          <p:nvPr/>
        </p:nvSpPr>
        <p:spPr>
          <a:xfrm>
            <a:off x="609480" y="5334120"/>
            <a:ext cx="174312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M: 10% by 2011</a:t>
            </a:r>
            <a:endParaRPr b="0" lang="en-US" sz="1100" spc="-1" strike="noStrike">
              <a:solidFill>
                <a:srgbClr val="000000"/>
              </a:solidFill>
              <a:latin typeface="Arial"/>
            </a:endParaRPr>
          </a:p>
        </p:txBody>
      </p:sp>
      <p:sp>
        <p:nvSpPr>
          <p:cNvPr id="201" name="Text Box 94"/>
          <p:cNvSpPr/>
          <p:nvPr/>
        </p:nvSpPr>
        <p:spPr>
          <a:xfrm>
            <a:off x="228600" y="5105520"/>
            <a:ext cx="2092320" cy="261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Z: 1.1%  by 2007, 60% solar</a:t>
            </a:r>
            <a:endParaRPr b="0" lang="en-US" sz="1100" spc="-1" strike="noStrike">
              <a:solidFill>
                <a:srgbClr val="000000"/>
              </a:solidFill>
              <a:latin typeface="Arial"/>
            </a:endParaRPr>
          </a:p>
        </p:txBody>
      </p:sp>
      <p:sp>
        <p:nvSpPr>
          <p:cNvPr id="202" name="Rectangle 95"/>
          <p:cNvSpPr/>
          <p:nvPr/>
        </p:nvSpPr>
        <p:spPr>
          <a:xfrm>
            <a:off x="0" y="4997520"/>
            <a:ext cx="1917720" cy="226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Rectangle 96"/>
          <p:cNvSpPr/>
          <p:nvPr/>
        </p:nvSpPr>
        <p:spPr>
          <a:xfrm>
            <a:off x="609480" y="5299200"/>
            <a:ext cx="1568520" cy="226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Text Box 97"/>
          <p:cNvSpPr/>
          <p:nvPr/>
        </p:nvSpPr>
        <p:spPr>
          <a:xfrm>
            <a:off x="304920" y="762120"/>
            <a:ext cx="8458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newable Energy Standards</a:t>
            </a:r>
            <a:endParaRPr b="0" lang="en-US" sz="4400" spc="-1" strike="noStrike">
              <a:solidFill>
                <a:srgbClr val="000000"/>
              </a:solidFill>
              <a:latin typeface="Arial"/>
            </a:endParaRPr>
          </a:p>
        </p:txBody>
      </p:sp>
      <p:sp>
        <p:nvSpPr>
          <p:cNvPr id="205" name="Text Box 98"/>
          <p:cNvSpPr/>
          <p:nvPr/>
        </p:nvSpPr>
        <p:spPr>
          <a:xfrm>
            <a:off x="136440" y="3851280"/>
            <a:ext cx="1463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 20% by 2017</a:t>
            </a:r>
            <a:endParaRPr b="0" lang="en-US" sz="1200" spc="-1" strike="noStrike">
              <a:solidFill>
                <a:srgbClr val="000000"/>
              </a:solidFill>
              <a:latin typeface="Arial"/>
            </a:endParaRPr>
          </a:p>
        </p:txBody>
      </p:sp>
      <p:sp>
        <p:nvSpPr>
          <p:cNvPr id="206" name="Text Box 99"/>
          <p:cNvSpPr/>
          <p:nvPr/>
        </p:nvSpPr>
        <p:spPr>
          <a:xfrm>
            <a:off x="6382440" y="3005280"/>
            <a:ext cx="1372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Y: 25% by 2013</a:t>
            </a:r>
            <a:endParaRPr b="0" lang="en-US" sz="1200" spc="-1" strike="noStrike">
              <a:solidFill>
                <a:srgbClr val="000000"/>
              </a:solidFill>
              <a:latin typeface="Arial"/>
            </a:endParaRPr>
          </a:p>
        </p:txBody>
      </p:sp>
      <p:sp>
        <p:nvSpPr>
          <p:cNvPr id="207" name="Text Box 100"/>
          <p:cNvSpPr/>
          <p:nvPr/>
        </p:nvSpPr>
        <p:spPr>
          <a:xfrm>
            <a:off x="7147800" y="3767040"/>
            <a:ext cx="121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D: 7.5% by 2014</a:t>
            </a:r>
            <a:endParaRPr b="0" lang="en-US" sz="1200" spc="-1" strike="noStrike">
              <a:solidFill>
                <a:srgbClr val="000000"/>
              </a:solidFill>
              <a:latin typeface="Arial"/>
            </a:endParaRPr>
          </a:p>
        </p:txBody>
      </p:sp>
      <p:sp>
        <p:nvSpPr>
          <p:cNvPr id="208" name="Text Box 101"/>
          <p:cNvSpPr/>
          <p:nvPr/>
        </p:nvSpPr>
        <p:spPr>
          <a:xfrm>
            <a:off x="6629760" y="2514600"/>
            <a:ext cx="111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I: 16% by 2019</a:t>
            </a:r>
            <a:endParaRPr b="0" lang="en-US" sz="1200" spc="-1" strike="noStrike">
              <a:solidFill>
                <a:srgbClr val="000000"/>
              </a:solidFill>
              <a:latin typeface="Arial"/>
            </a:endParaRPr>
          </a:p>
        </p:txBody>
      </p:sp>
      <p:sp>
        <p:nvSpPr>
          <p:cNvPr id="209" name="Text Box 102"/>
          <p:cNvSpPr/>
          <p:nvPr/>
        </p:nvSpPr>
        <p:spPr>
          <a:xfrm>
            <a:off x="360" y="4648320"/>
            <a:ext cx="111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HI: 20% by 2020</a:t>
            </a:r>
            <a:endParaRPr b="0" lang="en-US" sz="1200" spc="-1" strike="noStrike">
              <a:solidFill>
                <a:srgbClr val="000000"/>
              </a:solidFill>
              <a:latin typeface="Arial"/>
            </a:endParaRPr>
          </a:p>
        </p:txBody>
      </p:sp>
      <p:sp>
        <p:nvSpPr>
          <p:cNvPr id="210" name="Text Box 103"/>
          <p:cNvSpPr/>
          <p:nvPr/>
        </p:nvSpPr>
        <p:spPr>
          <a:xfrm>
            <a:off x="1965240" y="3843360"/>
            <a:ext cx="1172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 10% by 2015</a:t>
            </a:r>
            <a:endParaRPr b="0" lang="en-US" sz="1200" spc="-1" strike="noStrike">
              <a:solidFill>
                <a:srgbClr val="000000"/>
              </a:solidFill>
              <a:latin typeface="Arial"/>
            </a:endParaRPr>
          </a:p>
        </p:txBody>
      </p:sp>
      <p:sp>
        <p:nvSpPr>
          <p:cNvPr id="211" name="Text Box 104"/>
          <p:cNvSpPr/>
          <p:nvPr/>
        </p:nvSpPr>
        <p:spPr>
          <a:xfrm>
            <a:off x="1582560" y="2014560"/>
            <a:ext cx="1380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 15% by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8377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Wind Insures Against Fuel Price Risk</a:t>
            </a:r>
            <a:endParaRPr b="0" lang="en-US" sz="4000" spc="-1" strike="noStrike">
              <a:solidFill>
                <a:srgbClr val="000000"/>
              </a:solidFill>
              <a:latin typeface="Arial Unicode MS"/>
            </a:endParaRPr>
          </a:p>
        </p:txBody>
      </p:sp>
      <p:sp>
        <p:nvSpPr>
          <p:cNvPr id="213" name="PlaceHolder 2"/>
          <p:cNvSpPr>
            <a:spLocks noGrp="1"/>
          </p:cNvSpPr>
          <p:nvPr>
            <p:ph/>
          </p:nvPr>
        </p:nvSpPr>
        <p:spPr>
          <a:xfrm>
            <a:off x="228600" y="1980720"/>
            <a:ext cx="5486400" cy="3886200"/>
          </a:xfrm>
          <a:prstGeom prst="rect">
            <a:avLst/>
          </a:prstGeom>
          <a:noFill/>
          <a:ln w="0">
            <a:noFill/>
          </a:ln>
        </p:spPr>
        <p:txBody>
          <a:bodyPr anchor="t">
            <a:normAutofit fontScale="98000"/>
          </a:bodyPr>
          <a:p>
            <a:pPr marL="335880" indent="-335880">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Platts “conservatively estimates that generating electricity from renewable sources can ultimately save consumers more than $5/MWh by eliminating fuel price risk”* </a:t>
            </a:r>
            <a:endParaRPr b="0" lang="en-US" sz="2800" spc="-1" strike="noStrike">
              <a:solidFill>
                <a:srgbClr val="993300"/>
              </a:solidFill>
              <a:latin typeface="Arial Unicode MS"/>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3300"/>
              </a:solidFill>
              <a:latin typeface="Arial Unicode MS"/>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Arial Unicode MS"/>
              </a:rPr>
              <a:t>*4/8/03 announcement re “Power Price Stability:  What’s it Worth?”</a:t>
            </a:r>
            <a:endParaRPr b="0" lang="en-US" sz="1600" spc="-1" strike="noStrike">
              <a:solidFill>
                <a:srgbClr val="993300"/>
              </a:solidFill>
              <a:latin typeface="Arial Unicode MS"/>
            </a:endParaRPr>
          </a:p>
        </p:txBody>
      </p:sp>
      <p:pic>
        <p:nvPicPr>
          <p:cNvPr id="214" name="Picture 4" descr="Uptowerlook1"/>
          <p:cNvPicPr/>
          <p:nvPr/>
        </p:nvPicPr>
        <p:blipFill>
          <a:blip r:embed="rId1"/>
          <a:stretch/>
        </p:blipFill>
        <p:spPr>
          <a:xfrm>
            <a:off x="5638680" y="1676520"/>
            <a:ext cx="2982960" cy="3733560"/>
          </a:xfrm>
          <a:prstGeom prst="rect">
            <a:avLst/>
          </a:prstGeom>
          <a:ln w="0">
            <a:noFill/>
          </a:ln>
        </p:spPr>
      </p:pic>
      <p:sp>
        <p:nvSpPr>
          <p:cNvPr id="215" name="Text Box 5"/>
          <p:cNvSpPr/>
          <p:nvPr/>
        </p:nvSpPr>
        <p:spPr>
          <a:xfrm>
            <a:off x="5926680" y="5443560"/>
            <a:ext cx="1488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River Energ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83772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Different Ways to Buy Renewable Energy</a:t>
            </a:r>
            <a:endParaRPr b="0" lang="en-US" sz="3600" spc="-1" strike="noStrike">
              <a:solidFill>
                <a:srgbClr val="000000"/>
              </a:solidFill>
              <a:latin typeface="Arial Unicode MS"/>
            </a:endParaRPr>
          </a:p>
        </p:txBody>
      </p:sp>
      <p:sp>
        <p:nvSpPr>
          <p:cNvPr id="217" name="PlaceHolder 2"/>
          <p:cNvSpPr>
            <a:spLocks noGrp="1"/>
          </p:cNvSpPr>
          <p:nvPr>
            <p:ph/>
          </p:nvPr>
        </p:nvSpPr>
        <p:spPr>
          <a:xfrm>
            <a:off x="533520" y="1600200"/>
            <a:ext cx="7772400" cy="3200400"/>
          </a:xfrm>
          <a:prstGeom prst="rect">
            <a:avLst/>
          </a:prstGeom>
          <a:noFill/>
          <a:ln w="0">
            <a:noFill/>
          </a:ln>
        </p:spPr>
        <p:txBody>
          <a:bodyPr anchor="t">
            <a:normAutofit fontScale="85000"/>
          </a:bodyPr>
          <a:p>
            <a:pPr marL="291600" indent="-291600">
              <a:lnSpc>
                <a:spcPct val="90000"/>
              </a:lnSpc>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ea typeface="Tahoma"/>
              </a:rPr>
              <a:t>Rate Based as Part of Utility Portfolio</a:t>
            </a:r>
            <a:endParaRPr b="0" lang="en-US" sz="2800" spc="-1" strike="noStrike">
              <a:solidFill>
                <a:srgbClr val="993300"/>
              </a:solidFill>
              <a:latin typeface="Arial Unicode MS"/>
            </a:endParaRPr>
          </a:p>
          <a:p>
            <a:pPr marL="291600" indent="-291600">
              <a:lnSpc>
                <a:spcPct val="90000"/>
              </a:lnSpc>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ea typeface="Tahoma"/>
              </a:rPr>
              <a:t>Green Pricing</a:t>
            </a:r>
            <a:endParaRPr b="0" lang="en-US" sz="2800" spc="-1" strike="noStrike">
              <a:solidFill>
                <a:srgbClr val="993300"/>
              </a:solidFill>
              <a:latin typeface="Arial Unicode MS"/>
            </a:endParaRPr>
          </a:p>
          <a:p>
            <a:pPr lvl="1" marL="631440" indent="-242640">
              <a:lnSpc>
                <a:spcPct val="90000"/>
              </a:lnSpc>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ea typeface="Tahoma"/>
              </a:rPr>
              <a:t>No competition, monopoly utility offers customers choice of supporting wind power construction.</a:t>
            </a:r>
            <a:r>
              <a:rPr b="0" lang="en-US" sz="2400" spc="-1" strike="noStrike">
                <a:solidFill>
                  <a:srgbClr val="993300"/>
                </a:solidFill>
                <a:latin typeface="Arial Unicode MS"/>
              </a:rPr>
              <a:t> </a:t>
            </a:r>
            <a:endParaRPr b="0" lang="en-US" sz="2400" spc="-1" strike="noStrike">
              <a:solidFill>
                <a:srgbClr val="993300"/>
              </a:solidFill>
              <a:latin typeface="Arial Unicode MS"/>
            </a:endParaRPr>
          </a:p>
          <a:p>
            <a:pPr marL="291600" indent="-291600">
              <a:lnSpc>
                <a:spcPct val="90000"/>
              </a:lnSpc>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Green Marketing</a:t>
            </a:r>
            <a:endParaRPr b="0" lang="en-US" sz="2800" spc="-1" strike="noStrike">
              <a:solidFill>
                <a:srgbClr val="993300"/>
              </a:solidFill>
              <a:latin typeface="Arial Unicode MS"/>
            </a:endParaRPr>
          </a:p>
          <a:p>
            <a:pPr lvl="1" marL="631440" indent="-242640">
              <a:lnSpc>
                <a:spcPct val="90000"/>
              </a:lnSpc>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In competitive market, customers empowered to choose service providers that contract to purchase renewables</a:t>
            </a:r>
            <a:endParaRPr b="0" lang="en-US" sz="2400" spc="-1" strike="noStrike">
              <a:solidFill>
                <a:srgbClr val="993300"/>
              </a:solidFill>
              <a:latin typeface="Arial Unicode MS"/>
            </a:endParaRPr>
          </a:p>
          <a:p>
            <a:pPr marL="291600" indent="-291600">
              <a:lnSpc>
                <a:spcPct val="90000"/>
              </a:lnSpc>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Green Tags</a:t>
            </a:r>
            <a:endParaRPr b="0" lang="en-US" sz="2800" spc="-1" strike="noStrike">
              <a:solidFill>
                <a:srgbClr val="993300"/>
              </a:solidFill>
              <a:latin typeface="Arial Unicode MS"/>
            </a:endParaRPr>
          </a:p>
          <a:p>
            <a:pPr lvl="1" marL="631440" indent="-242640">
              <a:lnSpc>
                <a:spcPct val="90000"/>
              </a:lnSpc>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Environmental attributes divorced from energy</a:t>
            </a:r>
            <a:endParaRPr b="0" lang="en-US" sz="2400" spc="-1" strike="noStrike">
              <a:solidFill>
                <a:srgbClr val="993300"/>
              </a:solidFill>
              <a:latin typeface="Arial Unicode MS"/>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33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837720"/>
            <a:ext cx="91440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 Energy is the Star of the Green Market!</a:t>
            </a:r>
            <a:endParaRPr b="0" lang="en-US" sz="3200" spc="-1" strike="noStrike">
              <a:solidFill>
                <a:srgbClr val="000000"/>
              </a:solidFill>
              <a:latin typeface="Arial Unicode MS"/>
            </a:endParaRPr>
          </a:p>
        </p:txBody>
      </p:sp>
      <p:sp>
        <p:nvSpPr>
          <p:cNvPr id="219" name="PlaceHolder 2"/>
          <p:cNvSpPr>
            <a:spLocks noGrp="1"/>
          </p:cNvSpPr>
          <p:nvPr>
            <p:ph/>
          </p:nvPr>
        </p:nvSpPr>
        <p:spPr>
          <a:xfrm>
            <a:off x="152280" y="2286000"/>
            <a:ext cx="4191120" cy="4114800"/>
          </a:xfrm>
          <a:prstGeom prst="rect">
            <a:avLst/>
          </a:prstGeom>
          <a:noFill/>
          <a:ln w="0">
            <a:noFill/>
          </a:ln>
        </p:spPr>
        <p:txBody>
          <a:bodyPr anchor="t">
            <a:normAutofit/>
          </a:bodyPr>
          <a:p>
            <a:pPr marL="343080" indent="-343080">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Environmental Benefit</a:t>
            </a:r>
            <a:endParaRPr b="0" lang="en-US" sz="2400" spc="-1" strike="noStrike">
              <a:solidFill>
                <a:srgbClr val="993300"/>
              </a:solidFill>
              <a:latin typeface="Arial Unicode MS"/>
            </a:endParaRPr>
          </a:p>
          <a:p>
            <a:pPr marL="343080" indent="-343080">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Cost-Competitive</a:t>
            </a:r>
            <a:endParaRPr b="0" lang="en-US" sz="2400" spc="-1" strike="noStrike">
              <a:solidFill>
                <a:srgbClr val="993300"/>
              </a:solidFill>
              <a:latin typeface="Arial Unicode MS"/>
            </a:endParaRPr>
          </a:p>
          <a:p>
            <a:pPr marL="343080" indent="-343080">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Popular</a:t>
            </a:r>
            <a:endParaRPr b="0" lang="en-US" sz="2400" spc="-1" strike="noStrike">
              <a:solidFill>
                <a:srgbClr val="993300"/>
              </a:solidFill>
              <a:latin typeface="Arial Unicode MS"/>
            </a:endParaRPr>
          </a:p>
          <a:p>
            <a:pPr marL="343080" indent="-343080">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Visual Appeal</a:t>
            </a:r>
            <a:endParaRPr b="0" lang="en-US" sz="2400" spc="-1" strike="noStrike">
              <a:solidFill>
                <a:srgbClr val="993300"/>
              </a:solidFill>
              <a:latin typeface="Arial Unicode MS"/>
            </a:endParaRPr>
          </a:p>
          <a:p>
            <a:pPr marL="343080" indent="-343080">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Hydro and Gas Resources Complementary </a:t>
            </a:r>
            <a:endParaRPr b="0" lang="en-US" sz="2400" spc="-1" strike="noStrike">
              <a:solidFill>
                <a:srgbClr val="993300"/>
              </a:solidFill>
              <a:latin typeface="Arial Unicode MS"/>
            </a:endParaRPr>
          </a:p>
        </p:txBody>
      </p:sp>
      <p:pic>
        <p:nvPicPr>
          <p:cNvPr id="220" name="Picture 4" descr="vanCycWin"/>
          <p:cNvPicPr/>
          <p:nvPr/>
        </p:nvPicPr>
        <p:blipFill>
          <a:blip r:embed="rId1"/>
          <a:stretch/>
        </p:blipFill>
        <p:spPr>
          <a:xfrm>
            <a:off x="4648320" y="2209680"/>
            <a:ext cx="3200400" cy="3168720"/>
          </a:xfrm>
          <a:prstGeom prst="rect">
            <a:avLst/>
          </a:prstGeom>
          <a:ln w="0">
            <a:noFill/>
          </a:ln>
        </p:spPr>
      </p:pic>
      <p:sp>
        <p:nvSpPr>
          <p:cNvPr id="221" name="Text Box 5"/>
          <p:cNvSpPr/>
          <p:nvPr/>
        </p:nvSpPr>
        <p:spPr>
          <a:xfrm>
            <a:off x="900720" y="1512720"/>
            <a:ext cx="7599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Represents 93.8%* of Green Power in the U.S.</a:t>
            </a:r>
            <a:endParaRPr b="0" lang="en-US" sz="2800" spc="-1" strike="noStrike">
              <a:solidFill>
                <a:srgbClr val="000000"/>
              </a:solidFill>
              <a:latin typeface="Arial"/>
            </a:endParaRPr>
          </a:p>
        </p:txBody>
      </p:sp>
      <p:sp>
        <p:nvSpPr>
          <p:cNvPr id="222" name="Text Box 6"/>
          <p:cNvSpPr/>
          <p:nvPr/>
        </p:nvSpPr>
        <p:spPr>
          <a:xfrm>
            <a:off x="216000" y="5218200"/>
            <a:ext cx="295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 NREL, Sept.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EARTH"/>
          <p:cNvPicPr/>
          <p:nvPr/>
        </p:nvPicPr>
        <p:blipFill>
          <a:blip r:embed="rId1"/>
          <a:stretch/>
        </p:blipFill>
        <p:spPr>
          <a:xfrm>
            <a:off x="228600" y="228600"/>
            <a:ext cx="2035080" cy="2971800"/>
          </a:xfrm>
          <a:prstGeom prst="rect">
            <a:avLst/>
          </a:prstGeom>
          <a:ln w="0">
            <a:noFill/>
          </a:ln>
        </p:spPr>
      </p:pic>
      <p:sp>
        <p:nvSpPr>
          <p:cNvPr id="224" name="Rectangle 3"/>
          <p:cNvSpPr/>
          <p:nvPr/>
        </p:nvSpPr>
        <p:spPr>
          <a:xfrm>
            <a:off x="992160" y="608040"/>
            <a:ext cx="715968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Rectangle 4"/>
          <p:cNvSpPr/>
          <p:nvPr/>
        </p:nvSpPr>
        <p:spPr>
          <a:xfrm>
            <a:off x="992160" y="1979640"/>
            <a:ext cx="7159680" cy="4116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Rectangle 5"/>
          <p:cNvSpPr/>
          <p:nvPr/>
        </p:nvSpPr>
        <p:spPr>
          <a:xfrm>
            <a:off x="1984320" y="762120"/>
            <a:ext cx="7159680" cy="1143000"/>
          </a:xfrm>
          <a:prstGeom prst="rect">
            <a:avLst/>
          </a:prstGeom>
          <a:noFill/>
          <a:ln w="0">
            <a:noFill/>
          </a:ln>
        </p:spPr>
        <p:style>
          <a:lnRef idx="0"/>
          <a:fillRef idx="0"/>
          <a:effectRef idx="0"/>
          <a:fontRef idx="minor"/>
        </p:style>
        <p:txBody>
          <a:bodyPr lIns="84240" rIns="84240" tIns="44280" bIns="44280" anchor="ctr">
            <a:noAutofit/>
          </a:bodyPr>
          <a:p>
            <a:pPr algn="ctr">
              <a:lnSpc>
                <a:spcPct val="9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4800" spc="-1" strike="noStrike">
                <a:solidFill>
                  <a:srgbClr val="000000"/>
                </a:solidFill>
                <a:latin typeface="Arial"/>
              </a:rPr>
              <a:t>Benefits of Wind:</a:t>
            </a:r>
            <a:r>
              <a:rPr b="1" lang="en-US" sz="4800" spc="-1" strike="noStrike">
                <a:solidFill>
                  <a:srgbClr val="000000"/>
                </a:solidFill>
                <a:latin typeface="Arial"/>
              </a:rPr>
              <a:t> </a:t>
            </a:r>
            <a:endParaRPr b="0" lang="en-US" sz="4800" spc="-1" strike="noStrike">
              <a:solidFill>
                <a:srgbClr val="000000"/>
              </a:solidFill>
              <a:latin typeface="Arial"/>
            </a:endParaRPr>
          </a:p>
          <a:p>
            <a:pPr algn="ctr">
              <a:lnSpc>
                <a:spcPct val="9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i="1" lang="en-US" sz="3200" spc="-1" strike="noStrike">
                <a:solidFill>
                  <a:srgbClr val="000000"/>
                </a:solidFill>
                <a:latin typeface="Arial"/>
              </a:rPr>
              <a:t>Environmental</a:t>
            </a:r>
            <a:endParaRPr b="0" lang="en-US" sz="3200" spc="-1" strike="noStrike">
              <a:solidFill>
                <a:srgbClr val="000000"/>
              </a:solidFill>
              <a:latin typeface="Arial"/>
            </a:endParaRPr>
          </a:p>
        </p:txBody>
      </p:sp>
      <p:sp>
        <p:nvSpPr>
          <p:cNvPr id="227" name="PlaceHolder 1"/>
          <p:cNvSpPr>
            <a:spLocks noGrp="1"/>
          </p:cNvSpPr>
          <p:nvPr>
            <p:ph/>
          </p:nvPr>
        </p:nvSpPr>
        <p:spPr>
          <a:xfrm>
            <a:off x="1980720" y="2057040"/>
            <a:ext cx="7162920" cy="2303640"/>
          </a:xfrm>
          <a:prstGeom prst="rect">
            <a:avLst/>
          </a:prstGeom>
          <a:noFill/>
          <a:ln w="0">
            <a:noFill/>
          </a:ln>
        </p:spPr>
        <p:txBody>
          <a:bodyPr lIns="90360" rIns="90360" tIns="44280" bIns="44280" anchor="t">
            <a:normAutofit fontScale="81000"/>
          </a:bodyPr>
          <a:p>
            <a:pPr marL="277560" indent="-277560">
              <a:lnSpc>
                <a:spcPct val="90000"/>
              </a:lnSpc>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3300"/>
                </a:solidFill>
                <a:latin typeface="Arial Unicode MS"/>
              </a:rPr>
              <a:t> </a:t>
            </a:r>
            <a:r>
              <a:rPr b="1" i="1" lang="en-US" sz="2800" spc="-1" strike="noStrike">
                <a:solidFill>
                  <a:srgbClr val="993300"/>
                </a:solidFill>
                <a:latin typeface="Arial"/>
              </a:rPr>
              <a:t>Reduced Greenhouse Gas Emissions</a:t>
            </a:r>
            <a:endParaRPr b="0" lang="en-US" sz="2800" spc="-1" strike="noStrike">
              <a:solidFill>
                <a:srgbClr val="993300"/>
              </a:solidFill>
              <a:latin typeface="Arial Unicode MS"/>
            </a:endParaRPr>
          </a:p>
          <a:p>
            <a:pPr marL="277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Arial Unicode MS"/>
              </a:rPr>
              <a:t>	</a:t>
            </a:r>
            <a:r>
              <a:rPr b="0" lang="en-US" sz="1600" spc="-1" strike="noStrike">
                <a:solidFill>
                  <a:srgbClr val="993300"/>
                </a:solidFill>
                <a:latin typeface="Arial Unicode MS"/>
              </a:rPr>
              <a:t>   </a:t>
            </a:r>
            <a:r>
              <a:rPr b="0" lang="en-US" sz="1800" spc="-1" strike="noStrike">
                <a:solidFill>
                  <a:srgbClr val="00cc99"/>
                </a:solidFill>
                <a:latin typeface="Arial"/>
              </a:rPr>
              <a:t>30,000 MW of wind energy in U.S. = 100 MMT/year cut in CO2 emissions</a:t>
            </a:r>
            <a:endParaRPr b="0" lang="en-US" sz="1800" spc="-1" strike="noStrike">
              <a:solidFill>
                <a:srgbClr val="993300"/>
              </a:solidFill>
              <a:latin typeface="Arial Unicode MS"/>
            </a:endParaRPr>
          </a:p>
          <a:p>
            <a:pPr marL="277560" indent="-277560">
              <a:lnSpc>
                <a:spcPct val="90000"/>
              </a:lnSpc>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3300"/>
                </a:solidFill>
                <a:latin typeface="Arial Unicode MS"/>
              </a:rPr>
              <a:t> </a:t>
            </a:r>
            <a:r>
              <a:rPr b="1" i="1" lang="en-US" sz="2800" spc="-1" strike="noStrike">
                <a:solidFill>
                  <a:srgbClr val="993300"/>
                </a:solidFill>
                <a:latin typeface="Arial"/>
              </a:rPr>
              <a:t>Reduced Air Pollution</a:t>
            </a:r>
            <a:r>
              <a:rPr b="1" i="1" lang="en-US" sz="3200" spc="-1" strike="noStrike">
                <a:solidFill>
                  <a:srgbClr val="993300"/>
                </a:solidFill>
                <a:latin typeface="Arial Unicode MS"/>
              </a:rPr>
              <a:t> </a:t>
            </a:r>
            <a:endParaRPr b="0" lang="en-US" sz="3200" spc="-1" strike="noStrike">
              <a:solidFill>
                <a:srgbClr val="993300"/>
              </a:solidFill>
              <a:latin typeface="Arial Unicode MS"/>
            </a:endParaRPr>
          </a:p>
          <a:p>
            <a:pPr marL="277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        </a:t>
            </a:r>
            <a:r>
              <a:rPr b="0" lang="en-US" sz="1800" spc="-1" strike="noStrike">
                <a:solidFill>
                  <a:srgbClr val="00cc99"/>
                </a:solidFill>
                <a:latin typeface="Arial"/>
              </a:rPr>
              <a:t>30,000 MW of wind energy in U.S. = 250,000 tons/year cut in NOx emissions</a:t>
            </a:r>
            <a:endParaRPr b="0" lang="en-US" sz="1800" spc="-1" strike="noStrike">
              <a:solidFill>
                <a:srgbClr val="993300"/>
              </a:solidFill>
              <a:latin typeface="Arial Unicode MS"/>
            </a:endParaRPr>
          </a:p>
          <a:p>
            <a:pPr marL="277560" indent="-277560">
              <a:lnSpc>
                <a:spcPct val="90000"/>
              </a:lnSpc>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3300"/>
                </a:solidFill>
                <a:latin typeface="Arial Unicode MS"/>
              </a:rPr>
              <a:t> </a:t>
            </a:r>
            <a:r>
              <a:rPr b="1" i="1" lang="en-US" sz="2800" spc="-1" strike="noStrike">
                <a:solidFill>
                  <a:srgbClr val="993300"/>
                </a:solidFill>
                <a:latin typeface="Arial"/>
              </a:rPr>
              <a:t>Reduced Water Pollution</a:t>
            </a:r>
            <a:r>
              <a:rPr b="0" i="1" lang="en-US" sz="3200" spc="-1" strike="noStrike">
                <a:solidFill>
                  <a:srgbClr val="993300"/>
                </a:solidFill>
                <a:latin typeface="Arial Unicode MS"/>
              </a:rPr>
              <a:t> </a:t>
            </a:r>
            <a:endParaRPr b="0" lang="en-US" sz="3200" spc="-1" strike="noStrike">
              <a:solidFill>
                <a:srgbClr val="993300"/>
              </a:solidFill>
              <a:latin typeface="Arial Unicode MS"/>
            </a:endParaRPr>
          </a:p>
          <a:p>
            <a:pPr marL="277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Flareserif821 BT"/>
              </a:rPr>
              <a:t>            </a:t>
            </a:r>
            <a:r>
              <a:rPr b="0" lang="en-US" sz="1800" spc="-1" strike="noStrike">
                <a:solidFill>
                  <a:srgbClr val="00cc99"/>
                </a:solidFill>
                <a:latin typeface="Arial"/>
              </a:rPr>
              <a:t>U.S. wind capacity at 30,000 MW = reduced mercury emissions and healthier water for all Americans</a:t>
            </a:r>
            <a:endParaRPr b="0" lang="en-US" sz="1800" spc="-1" strike="noStrike">
              <a:solidFill>
                <a:srgbClr val="993300"/>
              </a:solidFill>
              <a:latin typeface="Arial Unicode MS"/>
            </a:endParaRPr>
          </a:p>
          <a:p>
            <a:pPr marL="277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00"/>
              </a:solidFill>
              <a:latin typeface="Arial Unicode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28240" y="5331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hat is Wind’s Market Potential?</a:t>
            </a:r>
            <a:endParaRPr b="0" lang="en-US" sz="4400" spc="-1" strike="noStrike">
              <a:solidFill>
                <a:srgbClr val="000000"/>
              </a:solidFill>
              <a:latin typeface="Arial Unicode MS"/>
            </a:endParaRPr>
          </a:p>
        </p:txBody>
      </p:sp>
      <p:sp>
        <p:nvSpPr>
          <p:cNvPr id="229" name="PlaceHolder 2"/>
          <p:cNvSpPr>
            <a:spLocks noGrp="1"/>
          </p:cNvSpPr>
          <p:nvPr>
            <p:ph/>
          </p:nvPr>
        </p:nvSpPr>
        <p:spPr>
          <a:xfrm>
            <a:off x="-360" y="1676160"/>
            <a:ext cx="6248520" cy="2819160"/>
          </a:xfrm>
          <a:prstGeom prst="rect">
            <a:avLst/>
          </a:prstGeom>
          <a:noFill/>
          <a:ln w="0">
            <a:noFill/>
          </a:ln>
        </p:spPr>
        <p:txBody>
          <a:bodyPr anchor="t">
            <a:normAutofit/>
          </a:bodyPr>
          <a:p>
            <a:pPr marL="343080" indent="-34308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At least 20,000 MW total installed by 2010 in U.S.</a:t>
            </a:r>
            <a:endParaRPr b="0" lang="en-US" sz="3200" spc="-1" strike="noStrike">
              <a:solidFill>
                <a:srgbClr val="993300"/>
              </a:solidFill>
              <a:latin typeface="Arial Unicode MS"/>
            </a:endParaRPr>
          </a:p>
          <a:p>
            <a:pPr marL="343080" indent="-34308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6% of electricity supply by 2020</a:t>
            </a:r>
            <a:endParaRPr b="0" lang="en-US" sz="3200" spc="-1" strike="noStrike">
              <a:solidFill>
                <a:srgbClr val="993300"/>
              </a:solidFill>
              <a:latin typeface="Arial Unicode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230" name="AutoShape 4"/>
          <p:cNvSpPr/>
          <p:nvPr/>
        </p:nvSpPr>
        <p:spPr>
          <a:xfrm>
            <a:off x="228600" y="3809880"/>
            <a:ext cx="1066680" cy="304920"/>
          </a:xfrm>
          <a:prstGeom prst="rightArrow">
            <a:avLst>
              <a:gd name="adj1" fmla="val 50000"/>
              <a:gd name="adj2" fmla="val 8745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Text Box 5"/>
          <p:cNvSpPr/>
          <p:nvPr/>
        </p:nvSpPr>
        <p:spPr>
          <a:xfrm>
            <a:off x="1447920" y="3581280"/>
            <a:ext cx="5105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Unicode MS"/>
              </a:rPr>
              <a:t>= 100,000 MW of wind power installed by 2020</a:t>
            </a:r>
            <a:endParaRPr b="0" lang="en-US" sz="3200" spc="-1" strike="noStrike">
              <a:solidFill>
                <a:srgbClr val="000000"/>
              </a:solidFill>
              <a:latin typeface="Arial"/>
            </a:endParaRPr>
          </a:p>
        </p:txBody>
      </p:sp>
      <p:pic>
        <p:nvPicPr>
          <p:cNvPr id="232" name="Picture 6" descr="nm03L109"/>
          <p:cNvPicPr/>
          <p:nvPr/>
        </p:nvPicPr>
        <p:blipFill>
          <a:blip r:embed="rId1"/>
          <a:stretch/>
        </p:blipFill>
        <p:spPr>
          <a:xfrm>
            <a:off x="6222960" y="1676520"/>
            <a:ext cx="2481480" cy="3733560"/>
          </a:xfrm>
          <a:prstGeom prst="rect">
            <a:avLst/>
          </a:prstGeom>
          <a:ln w="0">
            <a:noFill/>
          </a:ln>
        </p:spPr>
      </p:pic>
      <p:sp>
        <p:nvSpPr>
          <p:cNvPr id="233" name="Text Box 7"/>
          <p:cNvSpPr/>
          <p:nvPr/>
        </p:nvSpPr>
        <p:spPr>
          <a:xfrm>
            <a:off x="441000" y="4691160"/>
            <a:ext cx="4921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 $150 billion mark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8377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American Wind Energy Association</a:t>
            </a:r>
            <a:endParaRPr b="0" lang="en-US" sz="4000" spc="-1" strike="noStrike">
              <a:solidFill>
                <a:srgbClr val="000000"/>
              </a:solidFill>
              <a:latin typeface="Arial Unicode MS"/>
            </a:endParaRPr>
          </a:p>
        </p:txBody>
      </p:sp>
      <p:sp>
        <p:nvSpPr>
          <p:cNvPr id="54" name="PlaceHolder 2"/>
          <p:cNvSpPr>
            <a:spLocks noGrp="1"/>
          </p:cNvSpPr>
          <p:nvPr>
            <p:ph/>
          </p:nvPr>
        </p:nvSpPr>
        <p:spPr>
          <a:xfrm>
            <a:off x="228600" y="1981080"/>
            <a:ext cx="8686800" cy="3353040"/>
          </a:xfrm>
          <a:prstGeom prst="rect">
            <a:avLst/>
          </a:prstGeom>
          <a:noFill/>
          <a:ln w="0">
            <a:noFill/>
          </a:ln>
        </p:spPr>
        <p:txBody>
          <a:bodyPr anchor="t">
            <a:normAutofit/>
          </a:bodyPr>
          <a:p>
            <a:pPr marL="343080" indent="-343080">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The National Trade Association representing the Wind Industry in the U.S.</a:t>
            </a:r>
            <a:endParaRPr b="0" lang="en-US" sz="2800" spc="-1" strike="noStrike">
              <a:solidFill>
                <a:srgbClr val="993300"/>
              </a:solidFill>
              <a:latin typeface="Arial Unicode MS"/>
            </a:endParaRPr>
          </a:p>
          <a:p>
            <a:pPr lvl="1" marL="743040" indent="-285840">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Over 700 Business Members, including:</a:t>
            </a:r>
            <a:endParaRPr b="0" lang="en-US" sz="2400" spc="-1" strike="noStrike">
              <a:solidFill>
                <a:srgbClr val="993300"/>
              </a:solidFill>
              <a:latin typeface="Arial Unicode MS"/>
            </a:endParaRPr>
          </a:p>
          <a:p>
            <a:pPr lvl="2" marL="1143000" indent="-228600">
              <a:spcBef>
                <a:spcPts val="499"/>
              </a:spcBef>
              <a:buClr>
                <a:srgbClr val="9933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Unicode MS"/>
              </a:rPr>
              <a:t>Turbine Manufacturers</a:t>
            </a:r>
            <a:endParaRPr b="0" lang="en-US" sz="2000" spc="-1" strike="noStrike">
              <a:solidFill>
                <a:srgbClr val="993300"/>
              </a:solidFill>
              <a:latin typeface="Arial Unicode MS"/>
            </a:endParaRPr>
          </a:p>
          <a:p>
            <a:pPr lvl="2" marL="1143000" indent="-228600">
              <a:spcBef>
                <a:spcPts val="499"/>
              </a:spcBef>
              <a:buClr>
                <a:srgbClr val="9933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Unicode MS"/>
              </a:rPr>
              <a:t>Component Suppliers </a:t>
            </a:r>
            <a:endParaRPr b="0" lang="en-US" sz="2000" spc="-1" strike="noStrike">
              <a:solidFill>
                <a:srgbClr val="993300"/>
              </a:solidFill>
              <a:latin typeface="Arial Unicode MS"/>
            </a:endParaRPr>
          </a:p>
          <a:p>
            <a:pPr lvl="2" marL="1143000" indent="-228600">
              <a:spcBef>
                <a:spcPts val="499"/>
              </a:spcBef>
              <a:buClr>
                <a:srgbClr val="9933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Unicode MS"/>
              </a:rPr>
              <a:t>Project Developers</a:t>
            </a:r>
            <a:endParaRPr b="0" lang="en-US" sz="2000" spc="-1" strike="noStrike">
              <a:solidFill>
                <a:srgbClr val="993300"/>
              </a:solidFill>
              <a:latin typeface="Arial Unicode MS"/>
            </a:endParaRPr>
          </a:p>
          <a:p>
            <a:pPr lvl="2" marL="1143000" indent="-228600">
              <a:spcBef>
                <a:spcPts val="499"/>
              </a:spcBef>
              <a:buClr>
                <a:srgbClr val="9933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Unicode MS"/>
              </a:rPr>
              <a:t>Electric Utilities</a:t>
            </a:r>
            <a:endParaRPr b="0" lang="en-US" sz="2000" spc="-1" strike="noStrike">
              <a:solidFill>
                <a:srgbClr val="993300"/>
              </a:solidFill>
              <a:latin typeface="Arial Unicode MS"/>
            </a:endParaRPr>
          </a:p>
          <a:p>
            <a:pPr lvl="2" marL="1143000" indent="-228600">
              <a:spcBef>
                <a:spcPts val="499"/>
              </a:spcBef>
              <a:buClr>
                <a:srgbClr val="993300"/>
              </a:buClr>
              <a:buFont typeface="Arial Unicode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Arial Unicode MS"/>
              </a:rPr>
              <a:t>Lawyers, Consultants, Investors, etc.</a:t>
            </a:r>
            <a:endParaRPr b="0" lang="en-US" sz="2000" spc="-1" strike="noStrike">
              <a:solidFill>
                <a:srgbClr val="993300"/>
              </a:solidFill>
              <a:latin typeface="Arial Unicode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8377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What are the Barriers to a </a:t>
            </a:r>
            <a:br>
              <a:rPr sz="4000"/>
            </a:br>
            <a:r>
              <a:rPr b="0" lang="en-US" sz="4000" spc="-1" strike="noStrike">
                <a:solidFill>
                  <a:srgbClr val="000000"/>
                </a:solidFill>
                <a:latin typeface="Arial Unicode MS"/>
              </a:rPr>
              <a:t>$150 Billion U.S. Wind Market?</a:t>
            </a:r>
            <a:endParaRPr b="0" lang="en-US" sz="4000" spc="-1" strike="noStrike">
              <a:solidFill>
                <a:srgbClr val="000000"/>
              </a:solidFill>
              <a:latin typeface="Arial Unicode MS"/>
            </a:endParaRPr>
          </a:p>
        </p:txBody>
      </p:sp>
      <p:sp>
        <p:nvSpPr>
          <p:cNvPr id="235" name="PlaceHolder 2"/>
          <p:cNvSpPr>
            <a:spLocks noGrp="1"/>
          </p:cNvSpPr>
          <p:nvPr>
            <p:ph/>
          </p:nvPr>
        </p:nvSpPr>
        <p:spPr>
          <a:xfrm>
            <a:off x="0" y="2133360"/>
            <a:ext cx="4114800" cy="3429000"/>
          </a:xfrm>
          <a:prstGeom prst="rect">
            <a:avLst/>
          </a:prstGeom>
          <a:noFill/>
          <a:ln w="0">
            <a:noFill/>
          </a:ln>
        </p:spPr>
        <p:txBody>
          <a:bodyPr anchor="t">
            <a:normAutofit/>
          </a:bodyPr>
          <a:p>
            <a:pPr marL="343080" indent="-34308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Inconsistent Policy</a:t>
            </a:r>
            <a:endParaRPr b="0" lang="en-US" sz="3200" spc="-1" strike="noStrike">
              <a:solidFill>
                <a:srgbClr val="993300"/>
              </a:solidFill>
              <a:latin typeface="Arial Unicode MS"/>
            </a:endParaRPr>
          </a:p>
          <a:p>
            <a:pPr marL="343080" indent="-34308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Transmission constraints</a:t>
            </a:r>
            <a:endParaRPr b="0" lang="en-US" sz="3200" spc="-1" strike="noStrike">
              <a:solidFill>
                <a:srgbClr val="993300"/>
              </a:solidFill>
              <a:latin typeface="Arial Unicode MS"/>
            </a:endParaRPr>
          </a:p>
          <a:p>
            <a:pPr marL="343080" indent="-34308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Electric Industry Operational Rules</a:t>
            </a:r>
            <a:endParaRPr b="0" lang="en-US" sz="3200" spc="-1" strike="noStrike">
              <a:solidFill>
                <a:srgbClr val="993300"/>
              </a:solidFill>
              <a:latin typeface="Arial Unicode MS"/>
            </a:endParaRPr>
          </a:p>
          <a:p>
            <a:pPr marL="343080" indent="-34308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Siting</a:t>
            </a:r>
            <a:endParaRPr b="0" lang="en-US" sz="3200" spc="-1" strike="noStrike">
              <a:solidFill>
                <a:srgbClr val="993300"/>
              </a:solidFill>
              <a:latin typeface="Arial Unicode MS"/>
            </a:endParaRPr>
          </a:p>
        </p:txBody>
      </p:sp>
      <p:pic>
        <p:nvPicPr>
          <p:cNvPr id="236" name="Picture 6" descr=""/>
          <p:cNvPicPr/>
          <p:nvPr/>
        </p:nvPicPr>
        <p:blipFill>
          <a:blip r:embed="rId1"/>
          <a:stretch/>
        </p:blipFill>
        <p:spPr>
          <a:xfrm>
            <a:off x="4191120" y="2286000"/>
            <a:ext cx="4952880" cy="302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51920" y="8377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Wind Development in the Mid-Atlantic</a:t>
            </a:r>
            <a:endParaRPr b="0" lang="en-US" sz="4000" spc="-1" strike="noStrike">
              <a:solidFill>
                <a:srgbClr val="000000"/>
              </a:solidFill>
              <a:latin typeface="Arial Unicode MS"/>
            </a:endParaRPr>
          </a:p>
        </p:txBody>
      </p:sp>
      <p:sp>
        <p:nvSpPr>
          <p:cNvPr id="238" name="PlaceHolder 2"/>
          <p:cNvSpPr>
            <a:spLocks noGrp="1"/>
          </p:cNvSpPr>
          <p:nvPr>
            <p:ph/>
          </p:nvPr>
        </p:nvSpPr>
        <p:spPr>
          <a:xfrm>
            <a:off x="151920" y="1981080"/>
            <a:ext cx="4953240" cy="3353040"/>
          </a:xfrm>
          <a:prstGeom prst="rect">
            <a:avLst/>
          </a:prstGeom>
          <a:noFill/>
          <a:ln w="0">
            <a:noFill/>
          </a:ln>
        </p:spPr>
        <p:txBody>
          <a:bodyPr anchor="t">
            <a:normAutofit fontScale="93000"/>
          </a:bodyPr>
          <a:p>
            <a:pPr marL="318960" indent="-31896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Siting often challenging</a:t>
            </a:r>
            <a:endParaRPr b="0" lang="en-US" sz="3200" spc="-1" strike="noStrike">
              <a:solidFill>
                <a:srgbClr val="993300"/>
              </a:solidFill>
              <a:latin typeface="Arial Unicode MS"/>
            </a:endParaRPr>
          </a:p>
          <a:p>
            <a:pPr marL="318960" indent="-31896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Projects often smaller</a:t>
            </a:r>
            <a:endParaRPr b="0" lang="en-US" sz="3200" spc="-1" strike="noStrike">
              <a:solidFill>
                <a:srgbClr val="993300"/>
              </a:solidFill>
              <a:latin typeface="Arial Unicode MS"/>
            </a:endParaRPr>
          </a:p>
          <a:p>
            <a:pPr marL="318960" indent="-31896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Wind speeds lower than Great Plains</a:t>
            </a:r>
            <a:endParaRPr b="0" lang="en-US" sz="3200" spc="-1" strike="noStrike">
              <a:solidFill>
                <a:srgbClr val="993300"/>
              </a:solidFill>
              <a:latin typeface="Arial Unicode MS"/>
            </a:endParaRPr>
          </a:p>
          <a:p>
            <a:pPr marL="318960" indent="-31896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Green Market Important</a:t>
            </a:r>
            <a:endParaRPr b="0" lang="en-US" sz="3200" spc="-1" strike="noStrike">
              <a:solidFill>
                <a:srgbClr val="993300"/>
              </a:solidFill>
              <a:latin typeface="Arial Unicode MS"/>
            </a:endParaRPr>
          </a:p>
        </p:txBody>
      </p:sp>
      <p:pic>
        <p:nvPicPr>
          <p:cNvPr id="239" name="Picture 4" descr="VERMONT"/>
          <p:cNvPicPr/>
          <p:nvPr/>
        </p:nvPicPr>
        <p:blipFill>
          <a:blip r:embed="rId1">
            <a:lum bright="12000"/>
          </a:blip>
          <a:stretch/>
        </p:blipFill>
        <p:spPr>
          <a:xfrm>
            <a:off x="5105520" y="1905120"/>
            <a:ext cx="3352680" cy="31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21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Mid-Atlantic Wind Issues:</a:t>
            </a:r>
            <a:br>
              <a:rPr sz="4000"/>
            </a:br>
            <a:r>
              <a:rPr b="0" lang="en-US" sz="3200" spc="-1" strike="noStrike">
                <a:solidFill>
                  <a:srgbClr val="000000"/>
                </a:solidFill>
                <a:latin typeface="Arial Unicode MS"/>
              </a:rPr>
              <a:t>Regional Collaboration is Essential</a:t>
            </a:r>
            <a:endParaRPr b="0" lang="en-US" sz="3200" spc="-1" strike="noStrike">
              <a:solidFill>
                <a:srgbClr val="000000"/>
              </a:solidFill>
              <a:latin typeface="Arial Unicode MS"/>
            </a:endParaRPr>
          </a:p>
        </p:txBody>
      </p:sp>
      <p:sp>
        <p:nvSpPr>
          <p:cNvPr id="241" name="PlaceHolder 2"/>
          <p:cNvSpPr>
            <a:spLocks noGrp="1"/>
          </p:cNvSpPr>
          <p:nvPr>
            <p:ph/>
          </p:nvPr>
        </p:nvSpPr>
        <p:spPr>
          <a:xfrm>
            <a:off x="609120" y="1752480"/>
            <a:ext cx="8534520" cy="2819520"/>
          </a:xfrm>
          <a:prstGeom prst="rect">
            <a:avLst/>
          </a:prstGeom>
          <a:noFill/>
          <a:ln w="0">
            <a:noFill/>
          </a:ln>
        </p:spPr>
        <p:txBody>
          <a:bodyPr anchor="t">
            <a:normAutofit fontScale="70000"/>
          </a:bodyPr>
          <a:p>
            <a:pPr marL="240120" indent="-240120">
              <a:lnSpc>
                <a:spcPct val="90000"/>
              </a:lnSpc>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Unicode MS"/>
                <a:ea typeface="Times New Roman"/>
              </a:rPr>
              <a:t>A Working Green Market in PJM Region</a:t>
            </a:r>
            <a:endParaRPr b="0" lang="en-US" sz="2800" spc="-1" strike="noStrike">
              <a:solidFill>
                <a:srgbClr val="993300"/>
              </a:solidFill>
              <a:latin typeface="Arial Unicode MS"/>
            </a:endParaRPr>
          </a:p>
          <a:p>
            <a:pPr lvl="1" marL="519840" indent="-199800">
              <a:lnSpc>
                <a:spcPct val="90000"/>
              </a:lnSpc>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ea typeface="Times New Roman"/>
              </a:rPr>
              <a:t>Implement a certificates-based energy tracking system</a:t>
            </a:r>
            <a:r>
              <a:rPr b="0" lang="en-US" sz="2400" spc="-1" strike="noStrike">
                <a:solidFill>
                  <a:srgbClr val="993300"/>
                </a:solidFill>
                <a:latin typeface="Arial Unicode MS"/>
              </a:rPr>
              <a:t> </a:t>
            </a:r>
            <a:endParaRPr b="0" lang="en-US" sz="2400" spc="-1" strike="noStrike">
              <a:solidFill>
                <a:srgbClr val="993300"/>
              </a:solidFill>
              <a:latin typeface="Arial Unicode MS"/>
            </a:endParaRPr>
          </a:p>
          <a:p>
            <a:pPr lvl="1" marL="519840" indent="-199800">
              <a:lnSpc>
                <a:spcPct val="90000"/>
              </a:lnSpc>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Green Power Standard Offer Service </a:t>
            </a:r>
            <a:endParaRPr b="0" lang="en-US" sz="2400" spc="-1" strike="noStrike">
              <a:solidFill>
                <a:srgbClr val="993300"/>
              </a:solidFill>
              <a:latin typeface="Arial Unicode MS"/>
            </a:endParaRPr>
          </a:p>
          <a:p>
            <a:pPr marL="240120" indent="-240120">
              <a:lnSpc>
                <a:spcPct val="90000"/>
              </a:lnSpc>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Unicode MS"/>
              </a:rPr>
              <a:t>Coherent Regional Policy</a:t>
            </a:r>
            <a:endParaRPr b="0" lang="en-US" sz="2800" spc="-1" strike="noStrike">
              <a:solidFill>
                <a:srgbClr val="993300"/>
              </a:solidFill>
              <a:latin typeface="Arial Unicode MS"/>
            </a:endParaRPr>
          </a:p>
          <a:p>
            <a:pPr lvl="1" marL="519840" indent="-199800">
              <a:lnSpc>
                <a:spcPct val="90000"/>
              </a:lnSpc>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Regional RPS </a:t>
            </a:r>
            <a:endParaRPr b="0" lang="en-US" sz="2400" spc="-1" strike="noStrike">
              <a:solidFill>
                <a:srgbClr val="993300"/>
              </a:solidFill>
              <a:latin typeface="Arial Unicode MS"/>
            </a:endParaRPr>
          </a:p>
          <a:p>
            <a:pPr lvl="1" marL="519840" indent="-199800">
              <a:lnSpc>
                <a:spcPct val="90000"/>
              </a:lnSpc>
              <a:spcBef>
                <a:spcPts val="601"/>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Regional CO2 cap &amp; trade</a:t>
            </a:r>
            <a:endParaRPr b="0" lang="en-US" sz="2400" spc="-1" strike="noStrike">
              <a:solidFill>
                <a:srgbClr val="993300"/>
              </a:solidFill>
              <a:latin typeface="Arial Unicode MS"/>
            </a:endParaRPr>
          </a:p>
          <a:p>
            <a:pPr marL="240120" indent="-240120">
              <a:lnSpc>
                <a:spcPct val="90000"/>
              </a:lnSpc>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Clean Air credits/allowances for renewables</a:t>
            </a:r>
            <a:endParaRPr b="0" lang="en-US" sz="2800" spc="-1" strike="noStrike">
              <a:solidFill>
                <a:srgbClr val="993300"/>
              </a:solidFill>
              <a:latin typeface="Arial Unicode MS"/>
            </a:endParaRPr>
          </a:p>
          <a:p>
            <a:pPr marL="240120" indent="-240120">
              <a:lnSpc>
                <a:spcPct val="90000"/>
              </a:lnSpc>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Transmission expansion and rules</a:t>
            </a:r>
            <a:endParaRPr b="0" lang="en-US" sz="2800" spc="-1" strike="noStrike">
              <a:solidFill>
                <a:srgbClr val="993300"/>
              </a:solidFill>
              <a:latin typeface="Arial Unicode MS"/>
            </a:endParaRPr>
          </a:p>
          <a:p>
            <a:pPr marL="240120" indent="-240120">
              <a:lnSpc>
                <a:spcPct val="90000"/>
              </a:lnSpc>
              <a:spcBef>
                <a:spcPts val="700"/>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Thanks for leadership</a:t>
            </a:r>
            <a:endParaRPr b="0" lang="en-US" sz="2800" spc="-1" strike="noStrike">
              <a:solidFill>
                <a:srgbClr val="993300"/>
              </a:solidFill>
              <a:latin typeface="Arial Unicode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61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ontact AWEA</a:t>
            </a:r>
            <a:endParaRPr b="0" lang="en-US" sz="4400" spc="-1" strike="noStrike">
              <a:solidFill>
                <a:srgbClr val="000000"/>
              </a:solidFill>
              <a:latin typeface="Arial Unicode MS"/>
            </a:endParaRPr>
          </a:p>
        </p:txBody>
      </p:sp>
      <p:sp>
        <p:nvSpPr>
          <p:cNvPr id="243" name="PlaceHolder 2"/>
          <p:cNvSpPr>
            <a:spLocks noGrp="1"/>
          </p:cNvSpPr>
          <p:nvPr>
            <p:ph/>
          </p:nvPr>
        </p:nvSpPr>
        <p:spPr>
          <a:xfrm>
            <a:off x="914400" y="27432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	</a:t>
            </a:r>
            <a:r>
              <a:rPr b="0" lang="en-US" sz="2400" spc="-1" strike="noStrike">
                <a:solidFill>
                  <a:srgbClr val="993300"/>
                </a:solidFill>
                <a:latin typeface="Arial Unicode MS"/>
              </a:rPr>
              <a:t>	</a:t>
            </a:r>
            <a:r>
              <a:rPr b="1" lang="en-US" sz="2800" spc="-1" strike="noStrike">
                <a:solidFill>
                  <a:srgbClr val="993300"/>
                </a:solidFill>
                <a:latin typeface="Arial Unicode MS"/>
              </a:rPr>
              <a:t>www.AWEA.org</a:t>
            </a:r>
            <a:endParaRPr b="0" lang="en-US" sz="2800" spc="-1" strike="noStrike">
              <a:solidFill>
                <a:srgbClr val="993300"/>
              </a:solidFill>
              <a:latin typeface="Arial Unicode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Arial Unicode MS"/>
              </a:rPr>
              <a:t>	</a:t>
            </a:r>
            <a:r>
              <a:rPr b="0" lang="en-US" sz="2800" spc="-1" strike="noStrike">
                <a:solidFill>
                  <a:srgbClr val="993300"/>
                </a:solidFill>
                <a:latin typeface="Arial Unicode MS"/>
              </a:rPr>
              <a:t>	</a:t>
            </a:r>
            <a:r>
              <a:rPr b="0" lang="en-US" sz="2800" spc="-1" strike="noStrike">
                <a:solidFill>
                  <a:srgbClr val="993300"/>
                </a:solidFill>
                <a:latin typeface="Arial Unicode MS"/>
              </a:rPr>
              <a:t>RSwisher</a:t>
            </a:r>
            <a:r>
              <a:rPr b="1" lang="en-US" sz="2800" spc="-1" strike="noStrike">
                <a:solidFill>
                  <a:srgbClr val="993300"/>
                </a:solidFill>
                <a:latin typeface="Arial Unicode MS"/>
              </a:rPr>
              <a:t>@awea.org</a:t>
            </a:r>
            <a:endParaRPr b="0" lang="en-US" sz="2800" spc="-1" strike="noStrike">
              <a:solidFill>
                <a:srgbClr val="9933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	</a:t>
            </a:r>
            <a:r>
              <a:rPr b="0" lang="en-US" sz="2400" spc="-1" strike="noStrike">
                <a:solidFill>
                  <a:srgbClr val="993300"/>
                </a:solidFill>
                <a:latin typeface="Arial Unicode MS"/>
              </a:rPr>
              <a:t>	</a:t>
            </a:r>
            <a:r>
              <a:rPr b="0" lang="en-US" sz="2400" spc="-1" strike="noStrike">
                <a:solidFill>
                  <a:srgbClr val="993300"/>
                </a:solidFill>
                <a:latin typeface="Arial Unicode MS"/>
              </a:rPr>
              <a:t>Or write to</a:t>
            </a:r>
            <a:endParaRPr b="0" lang="en-US" sz="2400" spc="-1" strike="noStrike">
              <a:solidFill>
                <a:srgbClr val="9933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	</a:t>
            </a:r>
            <a:r>
              <a:rPr b="0" lang="en-US" sz="2400" spc="-1" strike="noStrike">
                <a:solidFill>
                  <a:srgbClr val="993300"/>
                </a:solidFill>
                <a:latin typeface="Arial Unicode MS"/>
              </a:rPr>
              <a:t>	</a:t>
            </a:r>
            <a:r>
              <a:rPr b="0" lang="en-US" sz="2400" spc="-1" strike="noStrike">
                <a:solidFill>
                  <a:srgbClr val="993300"/>
                </a:solidFill>
                <a:latin typeface="Arial Unicode MS"/>
              </a:rPr>
              <a:t>American Wind Energy Association</a:t>
            </a:r>
            <a:endParaRPr b="0" lang="en-US" sz="2400" spc="-1" strike="noStrike">
              <a:solidFill>
                <a:srgbClr val="9933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	</a:t>
            </a:r>
            <a:r>
              <a:rPr b="0" lang="en-US" sz="2400" spc="-1" strike="noStrike">
                <a:solidFill>
                  <a:srgbClr val="993300"/>
                </a:solidFill>
                <a:latin typeface="Arial Unicode MS"/>
              </a:rPr>
              <a:t>	</a:t>
            </a:r>
            <a:r>
              <a:rPr b="0" lang="en-US" sz="2400" spc="-1" strike="noStrike">
                <a:solidFill>
                  <a:srgbClr val="993300"/>
                </a:solidFill>
                <a:latin typeface="Arial Unicode MS"/>
              </a:rPr>
              <a:t>1101 14</a:t>
            </a:r>
            <a:r>
              <a:rPr b="0" lang="en-US" sz="2400" spc="-1" strike="noStrike" baseline="30000">
                <a:solidFill>
                  <a:srgbClr val="993300"/>
                </a:solidFill>
                <a:latin typeface="Arial Unicode MS"/>
              </a:rPr>
              <a:t>th</a:t>
            </a:r>
            <a:r>
              <a:rPr b="0" lang="en-US" sz="2400" spc="-1" strike="noStrike">
                <a:solidFill>
                  <a:srgbClr val="993300"/>
                </a:solidFill>
                <a:latin typeface="Arial Unicode MS"/>
              </a:rPr>
              <a:t> Street NW, 12</a:t>
            </a:r>
            <a:r>
              <a:rPr b="0" lang="en-US" sz="2400" spc="-1" strike="noStrike" baseline="30000">
                <a:solidFill>
                  <a:srgbClr val="993300"/>
                </a:solidFill>
                <a:latin typeface="Arial Unicode MS"/>
              </a:rPr>
              <a:t>th</a:t>
            </a:r>
            <a:r>
              <a:rPr b="0" lang="en-US" sz="2400" spc="-1" strike="noStrike">
                <a:solidFill>
                  <a:srgbClr val="993300"/>
                </a:solidFill>
                <a:latin typeface="Arial Unicode MS"/>
              </a:rPr>
              <a:t> Floor</a:t>
            </a:r>
            <a:endParaRPr b="0" lang="en-US" sz="2400" spc="-1" strike="noStrike">
              <a:solidFill>
                <a:srgbClr val="9933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Unicode MS"/>
              </a:rPr>
              <a:t>	</a:t>
            </a:r>
            <a:r>
              <a:rPr b="0" lang="en-US" sz="2400" spc="-1" strike="noStrike">
                <a:solidFill>
                  <a:srgbClr val="993300"/>
                </a:solidFill>
                <a:latin typeface="Arial Unicode MS"/>
              </a:rPr>
              <a:t>	</a:t>
            </a:r>
            <a:r>
              <a:rPr b="0" lang="en-US" sz="2400" spc="-1" strike="noStrike">
                <a:solidFill>
                  <a:srgbClr val="993300"/>
                </a:solidFill>
                <a:latin typeface="Arial Unicode MS"/>
              </a:rPr>
              <a:t>Washington, DC 20005</a:t>
            </a:r>
            <a:endParaRPr b="0" lang="en-US" sz="2400" spc="-1" strike="noStrike">
              <a:solidFill>
                <a:srgbClr val="993300"/>
              </a:solidFill>
              <a:latin typeface="Arial Unicode MS"/>
            </a:endParaRPr>
          </a:p>
        </p:txBody>
      </p:sp>
      <p:sp>
        <p:nvSpPr>
          <p:cNvPr id="244" name="Line 4"/>
          <p:cNvSpPr/>
          <p:nvPr/>
        </p:nvSpPr>
        <p:spPr>
          <a:xfrm>
            <a:off x="1295280" y="2362320"/>
            <a:ext cx="640080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45" name="Line 5"/>
          <p:cNvSpPr/>
          <p:nvPr/>
        </p:nvSpPr>
        <p:spPr>
          <a:xfrm>
            <a:off x="1752480" y="2590920"/>
            <a:ext cx="640080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Benefits of Renewables</a:t>
            </a:r>
            <a:endParaRPr b="0" lang="en-US" sz="4400" spc="-1" strike="noStrike">
              <a:solidFill>
                <a:srgbClr val="000000"/>
              </a:solidFill>
              <a:latin typeface="Arial Unicode MS"/>
            </a:endParaRPr>
          </a:p>
        </p:txBody>
      </p:sp>
      <p:sp>
        <p:nvSpPr>
          <p:cNvPr id="56" name="PlaceHolder 2"/>
          <p:cNvSpPr>
            <a:spLocks noGrp="1"/>
          </p:cNvSpPr>
          <p:nvPr>
            <p:ph/>
          </p:nvPr>
        </p:nvSpPr>
        <p:spPr>
          <a:xfrm>
            <a:off x="380520" y="1980720"/>
            <a:ext cx="5257800" cy="3429000"/>
          </a:xfrm>
          <a:prstGeom prst="rect">
            <a:avLst/>
          </a:prstGeom>
          <a:noFill/>
          <a:ln w="0">
            <a:noFill/>
          </a:ln>
        </p:spPr>
        <p:txBody>
          <a:bodyPr anchor="t">
            <a:normAutofit/>
          </a:bodyPr>
          <a:p>
            <a:pPr marL="343080" indent="-34308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Economic Development</a:t>
            </a:r>
            <a:endParaRPr b="0" lang="en-US" sz="3200" spc="-1" strike="noStrike">
              <a:solidFill>
                <a:srgbClr val="993300"/>
              </a:solidFill>
              <a:latin typeface="Arial Unicode MS"/>
            </a:endParaRPr>
          </a:p>
          <a:p>
            <a:pPr marL="343080" indent="-34308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Energy Cost Stability</a:t>
            </a:r>
            <a:endParaRPr b="0" lang="en-US" sz="3200" spc="-1" strike="noStrike">
              <a:solidFill>
                <a:srgbClr val="993300"/>
              </a:solidFill>
              <a:latin typeface="Arial Unicode MS"/>
            </a:endParaRPr>
          </a:p>
          <a:p>
            <a:pPr marL="343080" indent="-34308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Resource Diversity &amp; Conservation</a:t>
            </a:r>
            <a:endParaRPr b="0" lang="en-US" sz="3200" spc="-1" strike="noStrike">
              <a:solidFill>
                <a:srgbClr val="993300"/>
              </a:solidFill>
              <a:latin typeface="Arial Unicode MS"/>
            </a:endParaRPr>
          </a:p>
          <a:p>
            <a:pPr marL="343080" indent="-343080">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Environmental</a:t>
            </a:r>
            <a:endParaRPr b="0" lang="en-US" sz="3200" spc="-1" strike="noStrike">
              <a:solidFill>
                <a:srgbClr val="993300"/>
              </a:solidFill>
              <a:latin typeface="Arial Unicode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pic>
        <p:nvPicPr>
          <p:cNvPr id="57" name="Picture 4" descr="DANIELS_01"/>
          <p:cNvPicPr/>
          <p:nvPr/>
        </p:nvPicPr>
        <p:blipFill>
          <a:blip r:embed="rId1">
            <a:lum contrast="-30000"/>
          </a:blip>
          <a:stretch/>
        </p:blipFill>
        <p:spPr>
          <a:xfrm>
            <a:off x="5715000" y="1905120"/>
            <a:ext cx="2387520" cy="358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8377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newable Technologies </a:t>
            </a:r>
            <a:br>
              <a:rPr sz="4000"/>
            </a:br>
            <a:r>
              <a:rPr b="0" lang="en-US" sz="4000" spc="-1" strike="noStrike">
                <a:solidFill>
                  <a:srgbClr val="000000"/>
                </a:solidFill>
                <a:latin typeface="Arial"/>
              </a:rPr>
              <a:t>Aren’t All the Same</a:t>
            </a:r>
            <a:endParaRPr b="0" lang="en-US" sz="4000" spc="-1" strike="noStrike">
              <a:solidFill>
                <a:srgbClr val="000000"/>
              </a:solidFill>
              <a:latin typeface="Arial Unicode MS"/>
            </a:endParaRPr>
          </a:p>
        </p:txBody>
      </p:sp>
      <p:pic>
        <p:nvPicPr>
          <p:cNvPr id="59" name="Picture 3" descr="bigpic_renewable"/>
          <p:cNvPicPr/>
          <p:nvPr/>
        </p:nvPicPr>
        <p:blipFill>
          <a:blip r:embed="rId1"/>
          <a:stretch/>
        </p:blipFill>
        <p:spPr>
          <a:xfrm>
            <a:off x="1295280" y="2057400"/>
            <a:ext cx="6651720" cy="1325520"/>
          </a:xfrm>
          <a:prstGeom prst="rect">
            <a:avLst/>
          </a:prstGeom>
          <a:ln w="0">
            <a:noFill/>
          </a:ln>
        </p:spPr>
      </p:pic>
      <p:sp>
        <p:nvSpPr>
          <p:cNvPr id="60" name="Text Box 4"/>
          <p:cNvSpPr/>
          <p:nvPr/>
        </p:nvSpPr>
        <p:spPr>
          <a:xfrm>
            <a:off x="1828800" y="3657600"/>
            <a:ext cx="5654520" cy="1556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 are Different</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s are Different</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Barriers are Differ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304920" y="1447920"/>
            <a:ext cx="1563480" cy="2286000"/>
          </a:xfrm>
          <a:prstGeom prst="rect">
            <a:avLst/>
          </a:prstGeom>
          <a:ln w="0">
            <a:noFill/>
          </a:ln>
        </p:spPr>
      </p:pic>
      <p:sp>
        <p:nvSpPr>
          <p:cNvPr id="62" name="Rectangle 3"/>
          <p:cNvSpPr/>
          <p:nvPr/>
        </p:nvSpPr>
        <p:spPr>
          <a:xfrm>
            <a:off x="99000" y="762120"/>
            <a:ext cx="872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Turbines:  Different Sizes and Applications</a:t>
            </a:r>
            <a:endParaRPr b="0" lang="en-US" sz="3200" spc="-1" strike="noStrike">
              <a:solidFill>
                <a:srgbClr val="000000"/>
              </a:solidFill>
              <a:latin typeface="Arial"/>
            </a:endParaRPr>
          </a:p>
        </p:txBody>
      </p:sp>
      <p:sp>
        <p:nvSpPr>
          <p:cNvPr id="63" name="Rectangle 4"/>
          <p:cNvSpPr/>
          <p:nvPr/>
        </p:nvSpPr>
        <p:spPr>
          <a:xfrm>
            <a:off x="1981080" y="1523880"/>
            <a:ext cx="3276720" cy="1894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a:t>
            </a:r>
            <a:r>
              <a:rPr b="0"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Symbol"/>
                <a:ea typeface="Symbol"/>
              </a:rPr>
              <a:t></a:t>
            </a:r>
            <a:r>
              <a:rPr b="1" lang="en-US" sz="2400" spc="-1" strike="noStrike">
                <a:solidFill>
                  <a:srgbClr val="000000"/>
                </a:solidFill>
                <a:latin typeface="Arial"/>
              </a:rPr>
              <a:t>10 kW)</a:t>
            </a:r>
            <a:endParaRPr b="0" lang="en-US" sz="2400" spc="-1" strike="noStrike">
              <a:solidFill>
                <a:srgbClr val="000000"/>
              </a:solidFill>
              <a:latin typeface="Arial"/>
            </a:endParaRPr>
          </a:p>
          <a:p>
            <a:pPr>
              <a:lnSpc>
                <a:spcPct val="5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mes (Grid-connected)</a:t>
            </a:r>
            <a:endParaRPr b="0" lang="en-US" sz="2000" spc="-1" strike="noStrike">
              <a:solidFill>
                <a:srgbClr val="000000"/>
              </a:solidFill>
              <a:latin typeface="Arial"/>
            </a:endParaRPr>
          </a:p>
          <a:p>
            <a:pPr>
              <a:lnSpc>
                <a:spcPct val="5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rms</a:t>
            </a:r>
            <a:endParaRPr b="0" lang="en-US" sz="2000" spc="-1" strike="noStrike">
              <a:solidFill>
                <a:srgbClr val="000000"/>
              </a:solidFill>
              <a:latin typeface="Arial"/>
            </a:endParaRPr>
          </a:p>
          <a:p>
            <a:pPr>
              <a:lnSpc>
                <a:spcPct val="4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mote Applications</a:t>
            </a:r>
            <a:endParaRPr b="0" lang="en-US" sz="20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e.g. battery changing, water pumping, telecom sites)</a:t>
            </a:r>
            <a:endParaRPr b="0" lang="en-US" sz="1800" spc="-1" strike="noStrike">
              <a:solidFill>
                <a:srgbClr val="000000"/>
              </a:solidFill>
              <a:latin typeface="Arial"/>
            </a:endParaRPr>
          </a:p>
        </p:txBody>
      </p:sp>
      <p:pic>
        <p:nvPicPr>
          <p:cNvPr id="64" name="Picture 5" descr=""/>
          <p:cNvPicPr/>
          <p:nvPr/>
        </p:nvPicPr>
        <p:blipFill>
          <a:blip r:embed="rId2"/>
          <a:stretch/>
        </p:blipFill>
        <p:spPr>
          <a:xfrm>
            <a:off x="5257800" y="1447920"/>
            <a:ext cx="1562040" cy="2286000"/>
          </a:xfrm>
          <a:prstGeom prst="rect">
            <a:avLst/>
          </a:prstGeom>
          <a:ln w="0">
            <a:noFill/>
          </a:ln>
        </p:spPr>
      </p:pic>
      <p:sp>
        <p:nvSpPr>
          <p:cNvPr id="65" name="Rectangle 6"/>
          <p:cNvSpPr/>
          <p:nvPr/>
        </p:nvSpPr>
        <p:spPr>
          <a:xfrm>
            <a:off x="6858000" y="1752480"/>
            <a:ext cx="4572000" cy="20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mediate</a:t>
            </a:r>
            <a:endParaRPr b="0"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10-500 kW)</a:t>
            </a:r>
            <a:endParaRPr b="0" lang="en-US" sz="2400" spc="-1" strike="noStrike">
              <a:solidFill>
                <a:srgbClr val="000000"/>
              </a:solidFill>
              <a:latin typeface="Arial"/>
            </a:endParaRPr>
          </a:p>
          <a:p>
            <a:pPr>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illage Power</a:t>
            </a:r>
            <a:endParaRPr b="0" lang="en-US" sz="2000" spc="-1" strike="noStrike">
              <a:solidFill>
                <a:srgbClr val="000000"/>
              </a:solidFill>
              <a:latin typeface="Arial"/>
            </a:endParaRPr>
          </a:p>
          <a:p>
            <a:pPr>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ybrid Systems</a:t>
            </a:r>
            <a:endParaRPr b="0" lang="en-US" sz="2000" spc="-1" strike="noStrike">
              <a:solidFill>
                <a:srgbClr val="000000"/>
              </a:solidFill>
              <a:latin typeface="Arial"/>
            </a:endParaRPr>
          </a:p>
          <a:p>
            <a:pPr>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tributed Power</a:t>
            </a:r>
            <a:endParaRPr b="0" lang="en-US" sz="2000" spc="-1" strike="noStrike">
              <a:solidFill>
                <a:srgbClr val="000000"/>
              </a:solidFill>
              <a:latin typeface="Arial"/>
            </a:endParaRPr>
          </a:p>
        </p:txBody>
      </p:sp>
      <p:pic>
        <p:nvPicPr>
          <p:cNvPr id="66" name="Picture 7" descr="SW Mesa SUNRISE"/>
          <p:cNvPicPr/>
          <p:nvPr/>
        </p:nvPicPr>
        <p:blipFill>
          <a:blip r:embed="rId3">
            <a:lum bright="18000"/>
          </a:blip>
          <a:stretch/>
        </p:blipFill>
        <p:spPr>
          <a:xfrm>
            <a:off x="380880" y="3886200"/>
            <a:ext cx="4267440" cy="1476360"/>
          </a:xfrm>
          <a:prstGeom prst="rect">
            <a:avLst/>
          </a:prstGeom>
          <a:ln w="0">
            <a:noFill/>
          </a:ln>
        </p:spPr>
      </p:pic>
      <p:sp>
        <p:nvSpPr>
          <p:cNvPr id="67" name="Rectangle 8"/>
          <p:cNvSpPr/>
          <p:nvPr/>
        </p:nvSpPr>
        <p:spPr>
          <a:xfrm>
            <a:off x="5257800" y="3809880"/>
            <a:ext cx="4572000" cy="1569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 (500 kW – 5 MW)</a:t>
            </a:r>
            <a:endParaRPr b="0" lang="en-US" sz="2400" spc="-1" strike="noStrike">
              <a:solidFill>
                <a:srgbClr val="000000"/>
              </a:solidFill>
              <a:latin typeface="Arial"/>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entral Station Wind Farms</a:t>
            </a:r>
            <a:endParaRPr b="0" lang="en-US" sz="2000" spc="-1" strike="noStrike">
              <a:solidFill>
                <a:srgbClr val="000000"/>
              </a:solidFill>
              <a:latin typeface="Arial"/>
            </a:endParaRPr>
          </a:p>
          <a:p>
            <a:pPr>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tributed Power</a:t>
            </a:r>
            <a:endParaRPr b="0" lang="en-US" sz="2000" spc="-1" strike="noStrike">
              <a:solidFill>
                <a:srgbClr val="000000"/>
              </a:solidFill>
              <a:latin typeface="Arial"/>
            </a:endParaRPr>
          </a:p>
          <a:p>
            <a:pPr>
              <a:lnSpc>
                <a:spcPct val="6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ffshore Win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228600" y="914400"/>
            <a:ext cx="8686800" cy="6984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erent Types of Wind Power: Large</a:t>
            </a:r>
            <a:endParaRPr b="0" lang="en-US" sz="4000" spc="-1" strike="noStrike">
              <a:solidFill>
                <a:srgbClr val="000000"/>
              </a:solidFill>
              <a:latin typeface="Arial"/>
            </a:endParaRPr>
          </a:p>
        </p:txBody>
      </p:sp>
      <p:sp>
        <p:nvSpPr>
          <p:cNvPr id="69" name="Text Box 6"/>
          <p:cNvSpPr/>
          <p:nvPr/>
        </p:nvSpPr>
        <p:spPr>
          <a:xfrm>
            <a:off x="1371600" y="4800600"/>
            <a:ext cx="3048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Rectangle 8"/>
          <p:cNvSpPr/>
          <p:nvPr/>
        </p:nvSpPr>
        <p:spPr>
          <a:xfrm>
            <a:off x="4266360" y="4648320"/>
            <a:ext cx="201024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ngle Lar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urbine</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Picture 9" descr="image1"/>
          <p:cNvPicPr/>
          <p:nvPr/>
        </p:nvPicPr>
        <p:blipFill>
          <a:blip r:embed="rId1"/>
          <a:stretch/>
        </p:blipFill>
        <p:spPr>
          <a:xfrm>
            <a:off x="380880" y="2666880"/>
            <a:ext cx="3353040" cy="2341800"/>
          </a:xfrm>
          <a:prstGeom prst="rect">
            <a:avLst/>
          </a:prstGeom>
          <a:ln w="0">
            <a:noFill/>
          </a:ln>
        </p:spPr>
      </p:pic>
      <p:sp>
        <p:nvSpPr>
          <p:cNvPr id="72" name="Rectangle 10"/>
          <p:cNvSpPr/>
          <p:nvPr/>
        </p:nvSpPr>
        <p:spPr>
          <a:xfrm>
            <a:off x="1217880" y="5105520"/>
            <a:ext cx="175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 Farm</a:t>
            </a:r>
            <a:endParaRPr b="0" lang="en-US" sz="2400" spc="-1" strike="noStrike">
              <a:solidFill>
                <a:srgbClr val="000000"/>
              </a:solidFill>
              <a:latin typeface="Arial"/>
            </a:endParaRPr>
          </a:p>
        </p:txBody>
      </p:sp>
      <p:sp>
        <p:nvSpPr>
          <p:cNvPr id="73" name="Rectangle 12"/>
          <p:cNvSpPr/>
          <p:nvPr/>
        </p:nvSpPr>
        <p:spPr>
          <a:xfrm>
            <a:off x="4724280" y="5105520"/>
            <a:ext cx="44197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ish Offshore Wind Farm</a:t>
            </a:r>
            <a:endParaRPr b="0" lang="en-US" sz="2400" spc="-1" strike="noStrike">
              <a:solidFill>
                <a:srgbClr val="000000"/>
              </a:solidFill>
              <a:latin typeface="Arial"/>
            </a:endParaRPr>
          </a:p>
        </p:txBody>
      </p:sp>
      <p:pic>
        <p:nvPicPr>
          <p:cNvPr id="74" name="Picture 13" descr="offshore20moller"/>
          <p:cNvPicPr/>
          <p:nvPr/>
        </p:nvPicPr>
        <p:blipFill>
          <a:blip r:embed="rId2"/>
          <a:stretch/>
        </p:blipFill>
        <p:spPr>
          <a:xfrm>
            <a:off x="4724280" y="2666880"/>
            <a:ext cx="4038840" cy="2287800"/>
          </a:xfrm>
          <a:prstGeom prst="rect">
            <a:avLst/>
          </a:prstGeom>
          <a:ln w="0">
            <a:noFill/>
          </a:ln>
        </p:spPr>
      </p:pic>
      <p:sp>
        <p:nvSpPr>
          <p:cNvPr id="75" name="Text Box 14"/>
          <p:cNvSpPr/>
          <p:nvPr/>
        </p:nvSpPr>
        <p:spPr>
          <a:xfrm>
            <a:off x="2745360" y="1676520"/>
            <a:ext cx="324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ty Power Plants</a:t>
            </a:r>
            <a:endParaRPr b="0" lang="en-US" sz="2800" spc="-1" strike="noStrike">
              <a:solidFill>
                <a:srgbClr val="000000"/>
              </a:solidFill>
              <a:latin typeface="Arial"/>
            </a:endParaRPr>
          </a:p>
        </p:txBody>
      </p:sp>
      <p:sp>
        <p:nvSpPr>
          <p:cNvPr id="76" name="Text Box 15"/>
          <p:cNvSpPr/>
          <p:nvPr/>
        </p:nvSpPr>
        <p:spPr>
          <a:xfrm>
            <a:off x="686880" y="510552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mont Wind Far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533520"/>
            <a:ext cx="89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Different Types of Wind Power: Small</a:t>
            </a:r>
            <a:endParaRPr b="0" lang="en-US" sz="4000" spc="-1" strike="noStrike">
              <a:solidFill>
                <a:srgbClr val="000000"/>
              </a:solidFill>
              <a:latin typeface="Arial Unicode MS"/>
            </a:endParaRPr>
          </a:p>
        </p:txBody>
      </p:sp>
      <p:pic>
        <p:nvPicPr>
          <p:cNvPr id="78" name="Picture 4" descr="Wtrpump2"/>
          <p:cNvPicPr/>
          <p:nvPr/>
        </p:nvPicPr>
        <p:blipFill>
          <a:blip r:embed="rId1"/>
          <a:stretch/>
        </p:blipFill>
        <p:spPr>
          <a:xfrm>
            <a:off x="762120" y="1828800"/>
            <a:ext cx="1844640" cy="3124080"/>
          </a:xfrm>
          <a:prstGeom prst="rect">
            <a:avLst/>
          </a:prstGeom>
          <a:ln w="0">
            <a:noFill/>
          </a:ln>
        </p:spPr>
      </p:pic>
      <p:sp>
        <p:nvSpPr>
          <p:cNvPr id="79" name="Rectangle 5"/>
          <p:cNvSpPr/>
          <p:nvPr/>
        </p:nvSpPr>
        <p:spPr>
          <a:xfrm>
            <a:off x="383400" y="4952880"/>
            <a:ext cx="259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ter Pumper</a:t>
            </a:r>
            <a:endParaRPr b="0" lang="en-US" sz="2800" spc="-1" strike="noStrike">
              <a:solidFill>
                <a:srgbClr val="000000"/>
              </a:solidFill>
              <a:latin typeface="Arial"/>
            </a:endParaRPr>
          </a:p>
        </p:txBody>
      </p:sp>
      <p:pic>
        <p:nvPicPr>
          <p:cNvPr id="80" name="Picture 6" descr="Tinker"/>
          <p:cNvPicPr/>
          <p:nvPr/>
        </p:nvPicPr>
        <p:blipFill>
          <a:blip r:embed="rId2"/>
          <a:stretch/>
        </p:blipFill>
        <p:spPr>
          <a:xfrm>
            <a:off x="5405400" y="1828800"/>
            <a:ext cx="1909800" cy="3124080"/>
          </a:xfrm>
          <a:prstGeom prst="rect">
            <a:avLst/>
          </a:prstGeom>
          <a:ln w="0">
            <a:noFill/>
          </a:ln>
        </p:spPr>
      </p:pic>
      <p:sp>
        <p:nvSpPr>
          <p:cNvPr id="81" name="Rectangle 8"/>
          <p:cNvSpPr/>
          <p:nvPr/>
        </p:nvSpPr>
        <p:spPr>
          <a:xfrm>
            <a:off x="3152160" y="5029200"/>
            <a:ext cx="5985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stomer-Owned Small Generator</a:t>
            </a:r>
            <a:endParaRPr b="0" lang="en-US" sz="2800" spc="-1" strike="noStrike">
              <a:solidFill>
                <a:srgbClr val="000000"/>
              </a:solidFill>
              <a:latin typeface="Arial"/>
            </a:endParaRPr>
          </a:p>
        </p:txBody>
      </p:sp>
      <p:sp>
        <p:nvSpPr>
          <p:cNvPr id="82" name="Text Box 9"/>
          <p:cNvSpPr/>
          <p:nvPr/>
        </p:nvSpPr>
        <p:spPr>
          <a:xfrm>
            <a:off x="994680" y="1219320"/>
            <a:ext cx="700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Turbines Serve Individual Custom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5335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Different Types of Wind Power</a:t>
            </a:r>
            <a:endParaRPr b="0" lang="en-US" sz="4400" spc="-1" strike="noStrike">
              <a:solidFill>
                <a:srgbClr val="000000"/>
              </a:solidFill>
              <a:latin typeface="Arial Unicode MS"/>
            </a:endParaRPr>
          </a:p>
        </p:txBody>
      </p:sp>
      <p:pic>
        <p:nvPicPr>
          <p:cNvPr id="84" name="Picture 4" descr=""/>
          <p:cNvPicPr/>
          <p:nvPr/>
        </p:nvPicPr>
        <p:blipFill>
          <a:blip r:embed="rId1"/>
          <a:stretch/>
        </p:blipFill>
        <p:spPr>
          <a:xfrm>
            <a:off x="380880" y="1981080"/>
            <a:ext cx="4953240" cy="3238560"/>
          </a:xfrm>
          <a:prstGeom prst="rect">
            <a:avLst/>
          </a:prstGeom>
          <a:ln w="0">
            <a:noFill/>
          </a:ln>
        </p:spPr>
      </p:pic>
      <p:sp>
        <p:nvSpPr>
          <p:cNvPr id="85" name="Text Box 5"/>
          <p:cNvSpPr/>
          <p:nvPr/>
        </p:nvSpPr>
        <p:spPr>
          <a:xfrm>
            <a:off x="842040" y="1295280"/>
            <a:ext cx="742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Large Turbines for Municipal Needs</a:t>
            </a:r>
            <a:endParaRPr b="0" lang="en-US" sz="2800" spc="-1" strike="noStrike">
              <a:solidFill>
                <a:srgbClr val="000000"/>
              </a:solidFill>
              <a:latin typeface="Arial"/>
            </a:endParaRPr>
          </a:p>
        </p:txBody>
      </p:sp>
      <p:pic>
        <p:nvPicPr>
          <p:cNvPr id="86" name="Picture 6" descr="Traversjpg"/>
          <p:cNvPicPr/>
          <p:nvPr/>
        </p:nvPicPr>
        <p:blipFill>
          <a:blip r:embed="rId2"/>
          <a:stretch/>
        </p:blipFill>
        <p:spPr>
          <a:xfrm>
            <a:off x="6629400" y="1905120"/>
            <a:ext cx="2133720" cy="3200400"/>
          </a:xfrm>
          <a:prstGeom prst="rect">
            <a:avLst/>
          </a:prstGeom>
          <a:ln w="0">
            <a:noFill/>
          </a:ln>
        </p:spPr>
      </p:pic>
      <p:sp>
        <p:nvSpPr>
          <p:cNvPr id="87" name="Rectangle 7"/>
          <p:cNvSpPr/>
          <p:nvPr/>
        </p:nvSpPr>
        <p:spPr>
          <a:xfrm>
            <a:off x="613440" y="5232240"/>
            <a:ext cx="36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rit Lake Schools, Iowa</a:t>
            </a:r>
            <a:endParaRPr b="0" lang="en-US" sz="2400" spc="-1" strike="noStrike">
              <a:solidFill>
                <a:srgbClr val="000000"/>
              </a:solidFill>
              <a:latin typeface="Arial"/>
            </a:endParaRPr>
          </a:p>
        </p:txBody>
      </p:sp>
      <p:sp>
        <p:nvSpPr>
          <p:cNvPr id="88" name="Text Box 8"/>
          <p:cNvSpPr/>
          <p:nvPr/>
        </p:nvSpPr>
        <p:spPr>
          <a:xfrm>
            <a:off x="5487840" y="5232240"/>
            <a:ext cx="372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erse City, Mich. Ut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8380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ind Power Isn’t Perfect</a:t>
            </a:r>
            <a:endParaRPr b="0" lang="en-US" sz="4400" spc="-1" strike="noStrike">
              <a:solidFill>
                <a:srgbClr val="000000"/>
              </a:solidFill>
              <a:latin typeface="Arial Unicode MS"/>
            </a:endParaRPr>
          </a:p>
        </p:txBody>
      </p:sp>
      <p:sp>
        <p:nvSpPr>
          <p:cNvPr id="90" name="PlaceHolder 2"/>
          <p:cNvSpPr>
            <a:spLocks noGrp="1"/>
          </p:cNvSpPr>
          <p:nvPr>
            <p:ph/>
          </p:nvPr>
        </p:nvSpPr>
        <p:spPr>
          <a:xfrm>
            <a:off x="304920" y="1828800"/>
            <a:ext cx="8534160" cy="2819520"/>
          </a:xfrm>
          <a:prstGeom prst="rect">
            <a:avLst/>
          </a:prstGeom>
          <a:noFill/>
          <a:ln w="0">
            <a:noFill/>
          </a:ln>
        </p:spPr>
        <p:txBody>
          <a:bodyPr anchor="t">
            <a:normAutofit fontScale="94000"/>
          </a:bodyPr>
          <a:p>
            <a:pPr marL="322200" indent="-322200">
              <a:lnSpc>
                <a:spcPct val="90000"/>
              </a:lnSpc>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Wind Power output varies over time</a:t>
            </a:r>
            <a:endParaRPr b="0" lang="en-US" sz="3200" spc="-1" strike="noStrike">
              <a:solidFill>
                <a:srgbClr val="993300"/>
              </a:solidFill>
              <a:latin typeface="Arial Unicode MS"/>
            </a:endParaRPr>
          </a:p>
          <a:p>
            <a:pPr marL="322200" indent="-322200">
              <a:lnSpc>
                <a:spcPct val="90000"/>
              </a:lnSpc>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Wind Power can only meet part of your load</a:t>
            </a:r>
            <a:endParaRPr b="0" lang="en-US" sz="3200" spc="-1" strike="noStrike">
              <a:solidFill>
                <a:srgbClr val="993300"/>
              </a:solidFill>
              <a:latin typeface="Arial Unicode MS"/>
            </a:endParaRPr>
          </a:p>
          <a:p>
            <a:pPr marL="322200" indent="-322200">
              <a:lnSpc>
                <a:spcPct val="90000"/>
              </a:lnSpc>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Wind Power is location-dependent</a:t>
            </a:r>
            <a:endParaRPr b="0" lang="en-US" sz="3200" spc="-1" strike="noStrike">
              <a:solidFill>
                <a:srgbClr val="993300"/>
              </a:solidFill>
              <a:latin typeface="Arial Unicode MS"/>
            </a:endParaRPr>
          </a:p>
          <a:p>
            <a:pPr marL="322200" indent="-322200">
              <a:lnSpc>
                <a:spcPct val="90000"/>
              </a:lnSpc>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Wind Power is transmission-dependent </a:t>
            </a:r>
            <a:endParaRPr b="0" lang="en-US" sz="3200" spc="-1" strike="noStrike">
              <a:solidFill>
                <a:srgbClr val="993300"/>
              </a:solidFill>
              <a:latin typeface="Arial Unicode MS"/>
            </a:endParaRPr>
          </a:p>
          <a:p>
            <a:pPr marL="322200" indent="-322200">
              <a:lnSpc>
                <a:spcPct val="90000"/>
              </a:lnSpc>
              <a:spcBef>
                <a:spcPts val="799"/>
              </a:spcBef>
              <a:buClr>
                <a:srgbClr val="9933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Unicode MS"/>
              </a:rPr>
              <a:t>Wind Power has environmental impacts</a:t>
            </a:r>
            <a:endParaRPr b="0" lang="en-US" sz="3200" spc="-1" strike="noStrike">
              <a:solidFill>
                <a:srgbClr val="993300"/>
              </a:solidFill>
              <a:latin typeface="Arial Unicode MS"/>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3300"/>
              </a:solidFill>
              <a:latin typeface="Arial Unicode MS"/>
            </a:endParaRPr>
          </a:p>
        </p:txBody>
      </p:sp>
      <p:sp>
        <p:nvSpPr>
          <p:cNvPr id="91" name="Text Box 4"/>
          <p:cNvSpPr/>
          <p:nvPr/>
        </p:nvSpPr>
        <p:spPr>
          <a:xfrm>
            <a:off x="1522080" y="4622760"/>
            <a:ext cx="7404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 . But Wind Power has a Great Fu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1T22:07:34Z</dcterms:created>
  <dc:creator>Kathy Belyeu</dc:creator>
  <dc:description/>
  <dc:language>en-US</dc:language>
  <cp:lastModifiedBy>dr.a</cp:lastModifiedBy>
  <dcterms:modified xsi:type="dcterms:W3CDTF">2012-09-09T18:20:38Z</dcterms:modified>
  <cp:revision>160</cp:revision>
  <dc:subject/>
  <dc:title>PowerPoint Presentation</dc:title>
</cp:coreProperties>
</file>