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right 2005, Journal of Young Investigators, Inc.</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B897-1363-424A-A2A8-12D3A1D863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63E3-0511-43C0-AF12-E8FCE0AA91D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3129-D2F9-4002-85FD-FB13A72DC7A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pyright 2005, Journal of Young Investigators, Inc.</a:t>
            </a:r>
            <a:endParaRPr b="0" lang="en-US" sz="1200" spc="-1" strike="noStrike">
              <a:solidFill>
                <a:srgbClr val="ffffff"/>
              </a:solidFill>
              <a:latin typeface="Arial"/>
            </a:endParaRPr>
          </a:p>
        </p:txBody>
      </p:sp>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9C7F-B06E-4C32-AF7B-B61C887671A9}"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7D8AA-7253-4899-BECA-BAC458149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32197-C70A-403D-9A07-1B233C9E0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57F25-CCC0-4243-8801-C608B7906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3A379-0CDF-4562-BFAB-4452CD34A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8CA38-EE42-45AB-AA67-F3D24EF19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7C68F-FFD3-4F71-9DE4-B1BB75C6D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55F0-568D-48DB-9308-472A1ED35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EADB1-752B-4EAC-866E-79E03E14D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2348C-2ADE-4F7C-9AE1-E371F8CA1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4391F-A7EA-4DDA-884A-AF2DB3A9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CB98C-AA6A-4C19-AEC7-FE6F64628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E858B-D79A-4CE5-8739-CE9476739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3E30-36A0-4F69-AEF1-F8FD52EA579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130120"/>
            <a:ext cx="8496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3ebf1"/>
                </a:solidFill>
                <a:latin typeface="Verdana"/>
              </a:rPr>
              <a:t>Writing Scientific Manuscripts</a:t>
            </a:r>
            <a:br>
              <a:rPr sz="3600"/>
            </a:br>
            <a:br>
              <a:rPr sz="3600"/>
            </a:br>
            <a:endParaRPr b="0" lang="en-US" sz="36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entific Misconduct</a:t>
            </a:r>
            <a:endParaRPr b="0" lang="en-US"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ft Authorship</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ndant Publ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giar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br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lsifi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 of Inte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Part II: Writing a Scientific Manuscript</a:t>
            </a:r>
            <a:endParaRPr b="0" lang="en-US" sz="4000" spc="-1" strike="noStrike">
              <a:solidFill>
                <a:srgbClr val="e3ebf1"/>
              </a:solidFill>
              <a:latin typeface="Arial"/>
            </a:endParaRPr>
          </a:p>
        </p:txBody>
      </p:sp>
      <p:pic>
        <p:nvPicPr>
          <p:cNvPr id="71" name="Picture 8" descr=""/>
          <p:cNvPicPr/>
          <p:nvPr/>
        </p:nvPicPr>
        <p:blipFill>
          <a:blip r:embed="rId1"/>
          <a:stretch/>
        </p:blipFill>
        <p:spPr>
          <a:xfrm>
            <a:off x="1187280" y="1989000"/>
            <a:ext cx="3867480" cy="396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Writing Style and Audience</a:t>
            </a:r>
            <a:endParaRPr b="0" lang="en-US" sz="4400" spc="-1" strike="noStrike">
              <a:solidFill>
                <a:srgbClr val="e3ebf1"/>
              </a:solidFill>
              <a:latin typeface="Arial"/>
            </a:endParaRPr>
          </a:p>
        </p:txBody>
      </p:sp>
      <p:sp>
        <p:nvSpPr>
          <p:cNvPr id="73"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list:</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oid of anecdotes or stori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ports facts not outlandish conclusion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misspelling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ammatical accuracy</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ets formatting guideline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voids using the first person</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s the audience?</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for your target audience</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ord Choice</a:t>
            </a:r>
            <a:endParaRPr b="0" lang="en-US" sz="4400" spc="-1" strike="noStrike">
              <a:solidFill>
                <a:srgbClr val="e3ebf1"/>
              </a:solidFill>
              <a:latin typeface="Arial"/>
            </a:endParaRPr>
          </a:p>
        </p:txBody>
      </p:sp>
      <p:sp>
        <p:nvSpPr>
          <p:cNvPr id="76" name="PlaceHolder 2"/>
          <p:cNvSpPr>
            <a:spLocks noGrp="1"/>
          </p:cNvSpPr>
          <p:nvPr>
            <p:ph/>
          </p:nvPr>
        </p:nvSpPr>
        <p:spPr>
          <a:xfrm>
            <a:off x="457200" y="149544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vs. Analyze </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to gain knowledge vs. Describing the analysis of that knowledge</a:t>
            </a: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m’s Taxonomy</a:t>
            </a:r>
            <a:endParaRPr b="0" lang="en-US" sz="32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rehens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hesi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ord Choice</a:t>
            </a:r>
            <a:endParaRPr b="0" lang="en-US" sz="4400" spc="-1" strike="noStrike">
              <a:solidFill>
                <a:srgbClr val="e3ebf1"/>
              </a:solidFill>
              <a:latin typeface="Arial"/>
            </a:endParaRPr>
          </a:p>
        </p:txBody>
      </p:sp>
      <p:sp>
        <p:nvSpPr>
          <p:cNvPr id="78" name="PlaceHolder 2"/>
          <p:cNvSpPr>
            <a:spLocks noGrp="1"/>
          </p:cNvSpPr>
          <p:nvPr>
            <p:ph/>
          </p:nvPr>
        </p:nvSpPr>
        <p:spPr>
          <a:xfrm>
            <a:off x="457200" y="1269720"/>
            <a:ext cx="8229600" cy="5111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m’s Taxonomy</a:t>
            </a:r>
            <a:endParaRPr b="0" lang="en-US" sz="2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ledge</a:t>
            </a:r>
            <a:r>
              <a:rPr b="0" lang="en-US" sz="2000" spc="-1" strike="noStrike">
                <a:solidFill>
                  <a:srgbClr val="ffffff"/>
                </a:solidFill>
                <a:latin typeface="Arial"/>
              </a:rPr>
              <a:t>: Recitation of fact</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identified, labele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rehension</a:t>
            </a:r>
            <a:r>
              <a:rPr b="0" lang="en-US" sz="2000" spc="-1" strike="noStrike">
                <a:solidFill>
                  <a:srgbClr val="ffffff"/>
                </a:solidFill>
                <a:latin typeface="Arial"/>
              </a:rPr>
              <a:t>: State a problem or interpret fact</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predict, compar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r>
              <a:rPr b="0" lang="en-US" sz="2000" spc="-1" strike="noStrike">
                <a:solidFill>
                  <a:srgbClr val="ffffff"/>
                </a:solidFill>
                <a:latin typeface="Arial"/>
              </a:rPr>
              <a:t>: Apply old information to solve new problem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ve, show, examine, classify</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ysis</a:t>
            </a:r>
            <a:r>
              <a:rPr b="0" lang="en-US" sz="2000" spc="-1" strike="noStrike">
                <a:solidFill>
                  <a:srgbClr val="ffffff"/>
                </a:solidFill>
                <a:latin typeface="Arial"/>
              </a:rPr>
              <a:t>: Used to explain patterns or meaning</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ze, investigate, compare, contrast </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thesis</a:t>
            </a:r>
            <a:r>
              <a:rPr b="0" lang="en-US" sz="2000" spc="-1" strike="noStrike">
                <a:solidFill>
                  <a:srgbClr val="ffffff"/>
                </a:solidFill>
                <a:latin typeface="Arial"/>
              </a:rPr>
              <a:t>: Making predictions or discussing possibilitie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dict, plan, devise, propose</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aluation</a:t>
            </a:r>
            <a:r>
              <a:rPr b="0" lang="en-US" sz="2000" spc="-1" strike="noStrike">
                <a:solidFill>
                  <a:srgbClr val="ffffff"/>
                </a:solidFill>
                <a:latin typeface="Arial"/>
              </a:rPr>
              <a:t>: Drawing conclusions, making recommendation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fy, verify, argue, recommend, determ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nuscript Structure </a:t>
            </a:r>
            <a:endParaRPr b="0" lang="en-US" sz="44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of Articl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ion and Conclusi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knowledgemen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gures and Tabl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bstract</a:t>
            </a: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Manuscript (200-300 Words)</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 investigated</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Research</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bstract</a:t>
            </a: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background or methods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or im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ences to other literature, figures or imag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breviations or acrony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6"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ad information on topic</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research</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rrower background information</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for study</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f paper</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hesis</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problem (selling poi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300-500 wor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much or not enough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clear purpos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ng structur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Person anecdotes</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ble of Contents</a:t>
            </a:r>
            <a:endParaRPr b="0" lang="en-US" sz="4400" spc="-1" strike="noStrike">
              <a:solidFill>
                <a:srgbClr val="e3ebf1"/>
              </a:solidFill>
              <a:latin typeface="Arial"/>
            </a:endParaRPr>
          </a:p>
        </p:txBody>
      </p:sp>
      <p:sp>
        <p:nvSpPr>
          <p:cNvPr id="51" name="PlaceHolder 2"/>
          <p:cNvSpPr>
            <a:spLocks noGrp="1"/>
          </p:cNvSpPr>
          <p:nvPr>
            <p:ph/>
          </p:nvPr>
        </p:nvSpPr>
        <p:spPr>
          <a:xfrm>
            <a:off x="1042920" y="1628280"/>
            <a:ext cx="710568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troduc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 I: Publication &amp; Peer Review</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ciding to Publish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mitting Your Pap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ter Submiss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view of Peer Review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rpose of Peer Review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It Wor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ole of Editor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mitations and Iss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hods and Materials</a:t>
            </a:r>
            <a:endParaRPr b="0" lang="en-US" sz="4400" spc="-1" strike="noStrike">
              <a:solidFill>
                <a:srgbClr val="e3ebf1"/>
              </a:solidFill>
              <a:latin typeface="Arial"/>
            </a:endParaRPr>
          </a:p>
        </p:txBody>
      </p:sp>
      <p:sp>
        <p:nvSpPr>
          <p:cNvPr id="91"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instruction on exactly how to repeat experiment</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jec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preparation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orig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site descrip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llection protoc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analysis techniqu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computer programs us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equipment and its 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thods and Materials</a:t>
            </a:r>
            <a:endParaRPr b="0" lang="en-US" sz="4400" spc="-1" strike="noStrike">
              <a:solidFill>
                <a:srgbClr val="e3ebf1"/>
              </a:solidFill>
              <a:latin typeface="Arial"/>
            </a:endParaRPr>
          </a:p>
        </p:txBody>
      </p:sp>
      <p:sp>
        <p:nvSpPr>
          <p:cNvPr id="9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o little inform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from Introdu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bos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sources of error re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sults </a:t>
            </a:r>
            <a:endParaRPr b="0" lang="en-US" sz="4400" spc="-1" strike="noStrike">
              <a:solidFill>
                <a:srgbClr val="e3ebf1"/>
              </a:solidFill>
              <a:latin typeface="Arial"/>
            </a:endParaRPr>
          </a:p>
        </p:txBody>
      </p:sp>
      <p:sp>
        <p:nvSpPr>
          <p:cNvPr id="95"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jective presentation of experiment results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ary of data</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 Discuss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sults </a:t>
            </a:r>
            <a:endParaRPr b="0" lang="en-US" sz="4400" spc="-1" strike="noStrike">
              <a:solidFill>
                <a:srgbClr val="e3ebf1"/>
              </a:solidFill>
              <a:latin typeface="Arial"/>
            </a:endParaRPr>
          </a:p>
        </p:txBody>
      </p:sp>
      <p:sp>
        <p:nvSpPr>
          <p:cNvPr id="97"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ndanc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ion and interpretation of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igures or table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ods/materials repor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iscussion</a:t>
            </a:r>
            <a:endParaRPr b="0" lang="en-US" sz="4400" spc="-1" strike="noStrike">
              <a:solidFill>
                <a:srgbClr val="e3ebf1"/>
              </a:solidFill>
              <a:latin typeface="Arial"/>
            </a:endParaRPr>
          </a:p>
        </p:txBody>
      </p:sp>
      <p:sp>
        <p:nvSpPr>
          <p:cNvPr id="99" name="PlaceHolder 2"/>
          <p:cNvSpPr>
            <a:spLocks noGrp="1"/>
          </p:cNvSpPr>
          <p:nvPr>
            <p:ph/>
          </p:nvPr>
        </p:nvSpPr>
        <p:spPr>
          <a:xfrm>
            <a:off x="0" y="105264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 results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study confirm/deny the hypothesi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did the results provide an alternative hypothesis? What interpretation can be ma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results agree with other research? Sources of error/anomalous da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ications of study for fie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gestions for improvement and future research?</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e to previous research</a:t>
            </a:r>
            <a:endParaRPr b="0"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iscussion</a:t>
            </a:r>
            <a:endParaRPr b="0" lang="en-US" sz="4400" spc="-1" strike="noStrike">
              <a:solidFill>
                <a:srgbClr val="e3ebf1"/>
              </a:solidFill>
              <a:latin typeface="Arial"/>
            </a:endParaRPr>
          </a:p>
        </p:txBody>
      </p:sp>
      <p:sp>
        <p:nvSpPr>
          <p:cNvPr id="101"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d with Resul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results discussed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stat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rectly discussing inconclusive resul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biguous data sourc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ng information</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gures and Tables </a:t>
            </a:r>
            <a:endParaRPr b="0" lang="en-US" sz="4400" spc="-1" strike="noStrike">
              <a:solidFill>
                <a:srgbClr val="e3ebf1"/>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les</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s lists of numbers/ text in column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Visual representation of results or illustration of concepts/methods (graphs, images, diagrams, etc.)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stand-al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Figures and Tables </a:t>
            </a: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elines for Figures and Tabl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solu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t, legible labe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early format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 erro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captions </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ferences </a:t>
            </a:r>
            <a:endParaRPr b="0" lang="en-US" sz="4400" spc="-1" strike="noStrike">
              <a:solidFill>
                <a:srgbClr val="e3ebf1"/>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specific referencing style of journ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reference:</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reviewed journal articles, abstracts, book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not referenc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peer-reviewed works, textbooks, personal commun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ferences </a:t>
            </a:r>
            <a:endParaRPr b="0" lang="en-US" sz="4400" spc="-1" strike="noStrike">
              <a:solidFill>
                <a:srgbClr val="e3ebf1"/>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Mistak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t, Format, Format</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gures &amp; Tables, Equations, and Reference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ndant Informatio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Figures, Tables, and Caption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Refer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ble of Contents Cont’d</a:t>
            </a:r>
            <a:endParaRPr b="0" lang="en-US" sz="4400" spc="-1" strike="noStrike">
              <a:solidFill>
                <a:srgbClr val="e3ebf1"/>
              </a:solidFill>
              <a:latin typeface="Arial"/>
            </a:endParaRPr>
          </a:p>
        </p:txBody>
      </p:sp>
      <p:sp>
        <p:nvSpPr>
          <p:cNvPr id="53" name="PlaceHolder 2"/>
          <p:cNvSpPr>
            <a:spLocks noGrp="1"/>
          </p:cNvSpPr>
          <p:nvPr>
            <p:ph/>
          </p:nvPr>
        </p:nvSpPr>
        <p:spPr>
          <a:xfrm>
            <a:off x="468360" y="1412640"/>
            <a:ext cx="8291520" cy="49244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 II: Writing a Scientific Manuscript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cientific Manu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rd Cho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bstrac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rodu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ethods &amp; Materials Sec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Results Se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Discussion Section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gures, Tables, Equations, and Reference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e3ebf1"/>
              </a:solidFill>
              <a:latin typeface="Arial"/>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pyright 2005, Journal of Young Investigators, Inc.</a:t>
            </a:r>
            <a:endParaRPr b="0" lang="en-US" sz="1400" spc="-1" strike="noStrike">
              <a:solidFill>
                <a:srgbClr val="ffffff"/>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56" name="PlaceHolder 2"/>
          <p:cNvSpPr>
            <a:spLocks noGrp="1"/>
          </p:cNvSpPr>
          <p:nvPr>
            <p:ph/>
          </p:nvPr>
        </p:nvSpPr>
        <p:spPr>
          <a:xfrm>
            <a:off x="0" y="1600200"/>
            <a:ext cx="9144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Welcome to JYI’s Guide to Reporting Scientific Research! This is a free presentation (based off the guidebook), written and distributed by the Journal of Young Investigators, an international science research journal run entirely by undergraduates, for undergradu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0"/>
            <a:ext cx="80280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Part I: Publication &amp; Peer Review:</a:t>
            </a:r>
            <a:br>
              <a:rPr sz="4400"/>
            </a:b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Deciding to Publish and</a:t>
            </a:r>
            <a:br>
              <a:rPr sz="4000"/>
            </a:br>
            <a:r>
              <a:rPr b="1" lang="en-GB" sz="4000" spc="-1" strike="noStrike">
                <a:solidFill>
                  <a:srgbClr val="e3ebf1"/>
                </a:solidFill>
                <a:latin typeface="Arial"/>
              </a:rPr>
              <a:t>Submitting Your Paper</a:t>
            </a:r>
            <a:endParaRPr b="0" lang="en-US" sz="4000" spc="-1" strike="noStrike">
              <a:solidFill>
                <a:srgbClr val="e3ebf1"/>
              </a:solidFill>
              <a:latin typeface="Arial"/>
            </a:endParaRPr>
          </a:p>
        </p:txBody>
      </p:sp>
      <p:sp>
        <p:nvSpPr>
          <p:cNvPr id="59" name="PlaceHolder 2"/>
          <p:cNvSpPr>
            <a:spLocks noGrp="1"/>
          </p:cNvSpPr>
          <p:nvPr>
            <p:ph/>
          </p:nvPr>
        </p:nvSpPr>
        <p:spPr>
          <a:xfrm>
            <a:off x="826920" y="1844280"/>
            <a:ext cx="7632720" cy="4537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o publish?</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 vs. full report</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oosing your forum </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type of journal is best for you?</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udience are you targeting?</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the journal</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ation guidelin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sty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After Submission</a:t>
            </a: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ation Procedure (6-12 months)</a:t>
            </a:r>
            <a:endParaRPr b="0" lang="en-US" sz="2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uthor submi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ditor is assigned to manuscrip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or assigns reviewers (associate editors) to inspect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rs decide on whether to review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veral reviewers inspect and edi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itor decides on accuracy of revisions and whether to accept pap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ccepted, editor sends paper back to author with revision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or revises paper and sends it bac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ility of second review proces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ation!</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bf1"/>
                </a:solidFill>
                <a:latin typeface="Arial"/>
              </a:rPr>
              <a:t>What is Peer Review?</a:t>
            </a:r>
            <a:endParaRPr b="0" lang="en-US" sz="4400" spc="-1" strike="noStrike">
              <a:solidFill>
                <a:srgbClr val="e3ebf1"/>
              </a:solidFill>
              <a:latin typeface="Arial"/>
            </a:endParaRPr>
          </a:p>
        </p:txBody>
      </p:sp>
      <p:sp>
        <p:nvSpPr>
          <p:cNvPr id="63" name="PlaceHolder 2"/>
          <p:cNvSpPr>
            <a:spLocks noGrp="1"/>
          </p:cNvSpPr>
          <p:nvPr>
            <p:ph/>
          </p:nvPr>
        </p:nvSpPr>
        <p:spPr>
          <a:xfrm>
            <a:off x="323640" y="1700280"/>
            <a:ext cx="7427880" cy="4060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rocess for scientists by scientis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ilter what is published as “scie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provide researchers with perspective</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s peer review us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publicat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nt review</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ure promo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95280" y="1844640"/>
            <a:ext cx="4897440" cy="3672000"/>
          </a:xfrm>
          <a:prstGeom prst="rect">
            <a:avLst/>
          </a:prstGeom>
          <a:noFill/>
          <a:ln w="0">
            <a:noFill/>
          </a:ln>
        </p:spPr>
        <p:txBody>
          <a:bodyPr anchor="t">
            <a:normAutofit/>
          </a:bodyPr>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a:t>
            </a: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licting views</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ronting theory bia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 views</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vs. personal edits</a:t>
            </a:r>
            <a:endParaRPr b="0" lang="en-US" sz="2400" spc="-1" strike="noStrike">
              <a:solidFill>
                <a:srgbClr val="ffffff"/>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ud </a:t>
            </a:r>
            <a:endParaRPr b="0" lang="en-US" sz="32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manipulation and invention</a:t>
            </a:r>
            <a:endParaRPr b="0" lang="en-US" sz="2400" spc="-1" strike="noStrike">
              <a:solidFill>
                <a:srgbClr val="ffffff"/>
              </a:solidFill>
              <a:latin typeface="Arial"/>
            </a:endParaRPr>
          </a:p>
        </p:txBody>
      </p:sp>
      <p:sp>
        <p:nvSpPr>
          <p:cNvPr id="65" name="Text Box 4"/>
          <p:cNvSpPr/>
          <p:nvPr/>
        </p:nvSpPr>
        <p:spPr>
          <a:xfrm>
            <a:off x="5435640" y="1841400"/>
            <a:ext cx="3708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a:t>
            </a:r>
            <a:r>
              <a:rPr b="0" i="1" lang="en-GB" sz="1800" spc="-1" strike="noStrike">
                <a:solidFill>
                  <a:srgbClr val="ffffff"/>
                </a:solidFill>
                <a:latin typeface="Arial"/>
              </a:rPr>
              <a:t>Editors and scientists portray peer review as a quasi-sacred process that helps to make science our most objective truth teller. But we know that the system of peer review is biased, unjust, unaccountable, incomplete, easily fixed, often insulting, usually ignorant, occasionally foolish, and frequently wro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 Richard Horton, editor of </a:t>
            </a:r>
            <a:r>
              <a:rPr b="0" lang="en-GB" sz="1800" spc="-1" strike="noStrike">
                <a:solidFill>
                  <a:srgbClr val="ffffff"/>
                </a:solidFill>
                <a:latin typeface="Arial"/>
              </a:rPr>
              <a:t>The Lancet</a:t>
            </a:r>
            <a:r>
              <a:rPr b="0" i="1" lang="en-GB" sz="1800" spc="-1" strike="noStrike">
                <a:solidFill>
                  <a:srgbClr val="ffffff"/>
                </a:solidFill>
                <a:latin typeface="Arial"/>
              </a:rPr>
              <a:t>,</a:t>
            </a:r>
            <a:endParaRPr b="0" lang="en-US" sz="1800" spc="-1" strike="noStrike">
              <a:solidFill>
                <a:srgbClr val="ffffff"/>
              </a:solidFill>
              <a:latin typeface="Arial"/>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bf1"/>
                </a:solidFill>
                <a:latin typeface="Arial"/>
              </a:rPr>
              <a:t>Constraints of Peer Review</a:t>
            </a:r>
            <a:endParaRPr b="0" lang="en-US" sz="40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3:29:55Z</dcterms:created>
  <dc:creator>UCT Libraries</dc:creator>
  <dc:description/>
  <dc:language>en-US</dc:language>
  <cp:lastModifiedBy>ksu</cp:lastModifiedBy>
  <dcterms:modified xsi:type="dcterms:W3CDTF">2011-10-13T08:18:03Z</dcterms:modified>
  <cp:revision>149</cp:revision>
  <dc:subject/>
  <dc:title>Writing Scientific Manuscripts</dc:title>
</cp:coreProperties>
</file>