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right 2005, Journal of Young Investigators, Inc.</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F432-457E-47C8-AADB-58AFCE8C08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1B60-A9BC-4D51-BEED-BFEA5A48D56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ECF7-1152-48EB-BEE8-FF5ADA58434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3858-D10A-4951-865C-7105577A105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8955D-C9E8-4D7E-BF21-72C59E4C4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9CECD-738D-4BB7-948B-89B76A774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CFC6D-44A5-4D8C-B485-D232A0E6D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0B419-1F93-4103-82E7-F40F93EAD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FD73-7CEA-484E-B40B-43C3996C3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AEF2-E46E-47AA-BD02-428E0268A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8B314-1519-43C7-9814-2D3C170A2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867A8-1D5B-4FCD-90FF-61B124A36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7E0F9-9EB7-4F7D-B59F-73DCC372C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9DE44-122F-4FBD-A735-AE2E4B10F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D15C-3440-4544-9069-9E2B6158C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C2F3A-BF13-4887-9FF3-05FFD431D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1AC9-8C77-45DE-A808-8D83BA914C8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130120"/>
            <a:ext cx="8496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3ebf1"/>
                </a:solidFill>
                <a:latin typeface="Verdana"/>
              </a:rPr>
              <a:t>Writing Scientific Manuscripts</a:t>
            </a:r>
            <a:br>
              <a:rPr sz="3600"/>
            </a:br>
            <a:br>
              <a:rPr sz="3600"/>
            </a:br>
            <a:endParaRPr b="0" lang="en-US" sz="36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entific Misconduct</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ft Auth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ndant Pub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giar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br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if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 of Inte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Part II: Writing a Scientific Manuscript</a:t>
            </a:r>
            <a:endParaRPr b="0" lang="en-US" sz="4000" spc="-1" strike="noStrike">
              <a:solidFill>
                <a:srgbClr val="e3ebf1"/>
              </a:solidFill>
              <a:latin typeface="Arial"/>
            </a:endParaRPr>
          </a:p>
        </p:txBody>
      </p:sp>
      <p:pic>
        <p:nvPicPr>
          <p:cNvPr id="71" name="Picture 8" descr=""/>
          <p:cNvPicPr/>
          <p:nvPr/>
        </p:nvPicPr>
        <p:blipFill>
          <a:blip r:embed="rId1"/>
          <a:stretch/>
        </p:blipFill>
        <p:spPr>
          <a:xfrm>
            <a:off x="1187280" y="1989000"/>
            <a:ext cx="3867480" cy="39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Writing Style and Audience</a:t>
            </a:r>
            <a:endParaRPr b="0" lang="en-US" sz="4400" spc="-1" strike="noStrike">
              <a:solidFill>
                <a:srgbClr val="e3ebf1"/>
              </a:solidFill>
              <a:latin typeface="Arial"/>
            </a:endParaRPr>
          </a:p>
        </p:txBody>
      </p:sp>
      <p:sp>
        <p:nvSpPr>
          <p:cNvPr id="73"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list:</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oid of anecdotes or stori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ports facts not outlandish conclusio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misspelling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ammatical accurac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ets formatting guidelin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voids using the first person</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 the audience?</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for your target audienc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6" name="PlaceHolder 2"/>
          <p:cNvSpPr>
            <a:spLocks noGrp="1"/>
          </p:cNvSpPr>
          <p:nvPr>
            <p:ph/>
          </p:nvPr>
        </p:nvSpPr>
        <p:spPr>
          <a:xfrm>
            <a:off x="457200" y="149544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vs. Analyze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to gain knowledge vs. Describing the analysis of that knowledge</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m’s Taxonomy</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he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8" name="PlaceHolder 2"/>
          <p:cNvSpPr>
            <a:spLocks noGrp="1"/>
          </p:cNvSpPr>
          <p:nvPr>
            <p:ph/>
          </p:nvPr>
        </p:nvSpPr>
        <p:spPr>
          <a:xfrm>
            <a:off x="457200" y="1269720"/>
            <a:ext cx="8229600" cy="5111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m’s Taxonomy</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ledge</a:t>
            </a:r>
            <a:r>
              <a:rPr b="0" lang="en-US" sz="2000" spc="-1" strike="noStrike">
                <a:solidFill>
                  <a:srgbClr val="ffffff"/>
                </a:solidFill>
                <a:latin typeface="Arial"/>
              </a:rPr>
              <a:t>: Recitation of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identified, labele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rehension</a:t>
            </a:r>
            <a:r>
              <a:rPr b="0" lang="en-US" sz="2000" spc="-1" strike="noStrike">
                <a:solidFill>
                  <a:srgbClr val="ffffff"/>
                </a:solidFill>
                <a:latin typeface="Arial"/>
              </a:rPr>
              <a:t>: State a problem or interpret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edict, compar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r>
              <a:rPr b="0" lang="en-US" sz="2000" spc="-1" strike="noStrike">
                <a:solidFill>
                  <a:srgbClr val="ffffff"/>
                </a:solidFill>
                <a:latin typeface="Arial"/>
              </a:rPr>
              <a:t>: Apply old information to solve new problem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ve, show, examine, classify</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sis</a:t>
            </a:r>
            <a:r>
              <a:rPr b="0" lang="en-US" sz="2000" spc="-1" strike="noStrike">
                <a:solidFill>
                  <a:srgbClr val="ffffff"/>
                </a:solidFill>
                <a:latin typeface="Arial"/>
              </a:rPr>
              <a:t>: Used to explain patterns or meaning</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 investigate, compare, contrast </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thesis</a:t>
            </a:r>
            <a:r>
              <a:rPr b="0" lang="en-US" sz="2000" spc="-1" strike="noStrike">
                <a:solidFill>
                  <a:srgbClr val="ffffff"/>
                </a:solidFill>
                <a:latin typeface="Arial"/>
              </a:rPr>
              <a:t>: Making predictions or discussing possibili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 plan, devise, propos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on</a:t>
            </a:r>
            <a:r>
              <a:rPr b="0" lang="en-US" sz="2000" spc="-1" strike="noStrike">
                <a:solidFill>
                  <a:srgbClr val="ffffff"/>
                </a:solidFill>
                <a:latin typeface="Arial"/>
              </a:rPr>
              <a:t>: Drawing conclusions, making recommendation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fy, verify, argue, recommend, determ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nuscript Structure </a:t>
            </a:r>
            <a:endParaRPr b="0" lang="en-US" sz="44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of Artic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and Conclus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knowledgemen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es and Tab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Manuscript (200-300 Word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investigated</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Research</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background or methods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s to other literature, 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breviations or acrony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6"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 information on topic</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ower background information</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study</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f paper</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esis</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problem (selling po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300-500 wo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or not enough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purpo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ng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Person anecdot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a:t>
            </a:r>
            <a:endParaRPr b="0" lang="en-US" sz="4400" spc="-1" strike="noStrike">
              <a:solidFill>
                <a:srgbClr val="e3ebf1"/>
              </a:solidFill>
              <a:latin typeface="Arial"/>
            </a:endParaRPr>
          </a:p>
        </p:txBody>
      </p:sp>
      <p:sp>
        <p:nvSpPr>
          <p:cNvPr id="51" name="PlaceHolder 2"/>
          <p:cNvSpPr>
            <a:spLocks noGrp="1"/>
          </p:cNvSpPr>
          <p:nvPr>
            <p:ph/>
          </p:nvPr>
        </p:nvSpPr>
        <p:spPr>
          <a:xfrm>
            <a:off x="1042920" y="1628280"/>
            <a:ext cx="71056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troduc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 Publication &amp; Peer Review</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iding to Publish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mitting Your Pap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Submiss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view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rpose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It Wor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ole of Editor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ations an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instruction on exactly how to repeat experiment</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preparation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orig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site descrip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llection protoc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nalysis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computer programs us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equipment and its 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littl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from Introdu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os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sources of error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5"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presentation of experimen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data</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Discus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7"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and interpretation of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igures or tabl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materials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99" name="PlaceHolder 2"/>
          <p:cNvSpPr>
            <a:spLocks noGrp="1"/>
          </p:cNvSpPr>
          <p:nvPr>
            <p:ph/>
          </p:nvPr>
        </p:nvSpPr>
        <p:spPr>
          <a:xfrm>
            <a:off x="0" y="105264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study confirm/deny the hypothe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did the results provide an alternative hypothesis? What interpretation can be ma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results agree with other research? Sources of error/anomalous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of study for fie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gestions for improvement and future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 to previous research</a:t>
            </a: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with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sults discussed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stat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ly discussing inconclusive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iguous data 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informat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s lists of numbers/ text in column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Visual representation of results or illustration of concepts/methods (graphs, images, diagrams, etc.)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stand-al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Figures and Tabl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t, legible lab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format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 err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captions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specific referencing style of jour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referenc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reviewed journal articles, abstracts, book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not refere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eer-reviewed works, textbooks, personal commun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 Format, Forma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amp; Tables, Equations, and Reference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ndant Informatio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Figures, Tables, and Cap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Re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 Cont’d</a:t>
            </a:r>
            <a:endParaRPr b="0" lang="en-US" sz="4400" spc="-1" strike="noStrike">
              <a:solidFill>
                <a:srgbClr val="e3ebf1"/>
              </a:solidFill>
              <a:latin typeface="Arial"/>
            </a:endParaRPr>
          </a:p>
        </p:txBody>
      </p:sp>
      <p:sp>
        <p:nvSpPr>
          <p:cNvPr id="53" name="PlaceHolder 2"/>
          <p:cNvSpPr>
            <a:spLocks noGrp="1"/>
          </p:cNvSpPr>
          <p:nvPr>
            <p:ph/>
          </p:nvPr>
        </p:nvSpPr>
        <p:spPr>
          <a:xfrm>
            <a:off x="468360" y="1412640"/>
            <a:ext cx="8291520" cy="4924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I: Writing a Scientific Manuscrip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cientific Manu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rd Cho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bstra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rodu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ethods &amp; Materials S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esults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Discussion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gures, Tables, Equations, and Referenc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e3ebf1"/>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56" name="PlaceHolder 2"/>
          <p:cNvSpPr>
            <a:spLocks noGrp="1"/>
          </p:cNvSpPr>
          <p:nvPr>
            <p:ph/>
          </p:nvPr>
        </p:nvSpPr>
        <p:spPr>
          <a:xfrm>
            <a:off x="0" y="160020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Welcome to JYI’s Guide to Reporting Scientific Research! This is a free presentation (based off the guidebook), written and distributed by the Journal of Young Investigators, an international science research journal run entirely by undergraduates, for undergradu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0"/>
            <a:ext cx="80280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Part I: Publication &amp; Peer Review:</a:t>
            </a:r>
            <a:br>
              <a:rPr sz="4400"/>
            </a:b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Deciding to Publish and</a:t>
            </a:r>
            <a:br>
              <a:rPr sz="4000"/>
            </a:br>
            <a:r>
              <a:rPr b="1" lang="en-GB" sz="4000" spc="-1" strike="noStrike">
                <a:solidFill>
                  <a:srgbClr val="e3ebf1"/>
                </a:solidFill>
                <a:latin typeface="Arial"/>
              </a:rPr>
              <a:t>Submitting Your Paper</a:t>
            </a:r>
            <a:endParaRPr b="0" lang="en-US" sz="4000" spc="-1" strike="noStrike">
              <a:solidFill>
                <a:srgbClr val="e3ebf1"/>
              </a:solidFill>
              <a:latin typeface="Arial"/>
            </a:endParaRPr>
          </a:p>
        </p:txBody>
      </p:sp>
      <p:sp>
        <p:nvSpPr>
          <p:cNvPr id="59" name="PlaceHolder 2"/>
          <p:cNvSpPr>
            <a:spLocks noGrp="1"/>
          </p:cNvSpPr>
          <p:nvPr>
            <p:ph/>
          </p:nvPr>
        </p:nvSpPr>
        <p:spPr>
          <a:xfrm>
            <a:off x="826920" y="1844280"/>
            <a:ext cx="7632720" cy="453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o publish?</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 vs. full repor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oosing your forum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type of journal is best for you?</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udience are you targeting?</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the journal</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ation guide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sty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After Submission</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tion Procedure (6-12 month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uthor submi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ditor is assigned to manuscrip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assigns reviewers (associate editors) to inspec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rs decide on whether to review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veral reviewers inspect and edi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decides on accuracy of revisions and whether to accept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ccepted, editor sends paper back to author with rev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 revises paper and sends it bac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ility of second review proc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ation!</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What is Peer Review?</a:t>
            </a:r>
            <a:endParaRPr b="0" lang="en-US" sz="4400" spc="-1" strike="noStrike">
              <a:solidFill>
                <a:srgbClr val="e3ebf1"/>
              </a:solidFill>
              <a:latin typeface="Arial"/>
            </a:endParaRPr>
          </a:p>
        </p:txBody>
      </p:sp>
      <p:sp>
        <p:nvSpPr>
          <p:cNvPr id="63" name="PlaceHolder 2"/>
          <p:cNvSpPr>
            <a:spLocks noGrp="1"/>
          </p:cNvSpPr>
          <p:nvPr>
            <p:ph/>
          </p:nvPr>
        </p:nvSpPr>
        <p:spPr>
          <a:xfrm>
            <a:off x="323640" y="1700280"/>
            <a:ext cx="7427880" cy="406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rocess for scientists by scienti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ilter what is published as “sci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researchers with perspectiv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peer review u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pub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 re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ure promo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95280" y="1844640"/>
            <a:ext cx="4897440" cy="367200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ing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ronting theory bia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vs. personal edit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anipulation and invention</a:t>
            </a:r>
            <a:endParaRPr b="0" lang="en-US" sz="2400" spc="-1" strike="noStrike">
              <a:solidFill>
                <a:srgbClr val="ffffff"/>
              </a:solidFill>
              <a:latin typeface="Arial"/>
            </a:endParaRPr>
          </a:p>
        </p:txBody>
      </p:sp>
      <p:sp>
        <p:nvSpPr>
          <p:cNvPr id="65" name="Text Box 4"/>
          <p:cNvSpPr/>
          <p:nvPr/>
        </p:nvSpPr>
        <p:spPr>
          <a:xfrm>
            <a:off x="5435640" y="1841400"/>
            <a:ext cx="370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Editors and scientists portray peer review as a quasi-sacred process that helps to make science our most objective truth teller. But we know that the system of peer review is biased, unjust, unaccountable, incomplete, easily fixed, often insulting, usually ignorant, occasionally foolish, and frequently wro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Richard Horton, editor of </a:t>
            </a:r>
            <a:r>
              <a:rPr b="0" lang="en-GB" sz="1800" spc="-1" strike="noStrike">
                <a:solidFill>
                  <a:srgbClr val="ffffff"/>
                </a:solidFill>
                <a:latin typeface="Arial"/>
              </a:rPr>
              <a:t>The Lancet</a:t>
            </a:r>
            <a:r>
              <a:rPr b="0" i="1" lang="en-GB" sz="1800" spc="-1" strike="noStrike">
                <a:solidFill>
                  <a:srgbClr val="ffffff"/>
                </a:solidFill>
                <a:latin typeface="Arial"/>
              </a:rPr>
              <a:t>,</a:t>
            </a:r>
            <a:endParaRPr b="0" lang="en-US" sz="18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Constraints of Peer Review</a:t>
            </a:r>
            <a:endParaRPr b="0" lang="en-US" sz="4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3:29:55Z</dcterms:created>
  <dc:creator>UCT Libraries</dc:creator>
  <dc:description/>
  <dc:language>en-US</dc:language>
  <cp:lastModifiedBy>ksu</cp:lastModifiedBy>
  <dcterms:modified xsi:type="dcterms:W3CDTF">2011-10-13T08:18:03Z</dcterms:modified>
  <cp:revision>149</cp:revision>
  <dc:subject/>
  <dc:title>Writing Scientific Manuscripts</dc:title>
</cp:coreProperties>
</file>