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84BD-29C4-4D21-A225-942F4DFDF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3C51-C067-4415-884B-0DB2EAE35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5445-3883-44C8-8026-63CC45AE47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837-6F84-4943-956F-44840E8DA8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4332-AA42-4F12-8A72-9277255937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E95C-1084-44AC-91B0-18C61E1683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494C-6942-4B61-9E81-D8B794B49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7FC-31FF-4759-9A65-AB798D62F1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7C86-4F7D-4A8C-B112-8D7B5B861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C9BC-0092-43F2-8D7B-E495E37CC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128C-E473-4AFB-935D-A667D9D202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6F23-07B1-4533-9141-21142A1A8E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381C-A156-4F20-A8B8-6E7B287BC0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5E9A-2A8F-43E3-AF25-B99EEE9184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63DC-02EC-45AB-8622-7DB85F8F4E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62FF-987B-4D2E-9D51-D66C87EF75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3351-C2AE-4B19-BED2-D9E7B9E0FC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E33A-0A70-4B0B-9520-E97CA9A3E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F2A-636C-4843-9479-F4880B55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F3B-15E4-4E1E-974A-3C55A77F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22D-F0BF-4607-85F2-4F713EF0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A40-D70B-4FAD-A91F-8587A6BF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CEEC-312D-46F1-B682-24AA930D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7298-530E-46DD-A6EE-471E3E82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0994-E6AD-443E-AB30-517016F3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688D-BE8B-41C7-AE92-1DC15BC4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FFA2-074C-4366-8420-A369BCA0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92C7-1EF8-468A-9B31-67A284A2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F51A-8BF4-49ED-B1ED-8C325BF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340-E8D3-42DF-B286-55D8547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BCF5-4A2E-49EE-97F5-2733C13F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871D-B8B1-400F-B2D0-5240B61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FC74-23AC-4ECB-B0FE-7AD5A1C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B2ED-3852-40C1-B486-CECAD787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5CDB-1F36-4A1D-8A60-9927D33A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6D8-F2F8-4EB7-9E7D-55335F4D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D60-9EAC-4390-AE27-0ABDCDB5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CD1-E0C5-4B6A-8EFD-4C896438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980-93EB-47EA-A3E3-32F9189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48C-2098-43F4-A620-F82F705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186-3B94-429C-9362-7B29E15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D86-2E8A-4601-BBE1-DCD950D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6D7-F913-4F27-B4B6-DFE8CC4E69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231C-33EE-40DE-AD99-772564628B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okabo.co.jp/sp_e/optical/labo/refref/030695.jpg&amp;imgrefurl=http://shokabo.co.jp/sp_e/optical/labo/refref/refref.htm&amp;h=600&amp;w=800&amp;sz=62&amp;hl=en&amp;start=30&amp;um=1&amp;tbnid=KVR6wezGKRWVRM:&amp;tbnh=107&amp;tbnw=143&amp;prev=/images%3Fq%3Ddiffraction%26start%3D20%26ndsp%3D20%26svnum%3D10%26um%3D1%26hl%3Den%26rls%3Dcom.microsoft:en-us:IE-SearchBox%26rlz%3D1I7GGLJ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gsir.netfirms.com/applets/diffraction/2X/Diffractio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7766474@N04/2724969808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X-Ray Diffraction and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X-Ray Crystallograph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8" descr="400px-Loi_de_bragg"/>
          <p:cNvPicPr/>
          <p:nvPr/>
        </p:nvPicPr>
        <p:blipFill>
          <a:blip r:embed="rId1"/>
          <a:stretch/>
        </p:blipFill>
        <p:spPr>
          <a:xfrm>
            <a:off x="452520" y="1935000"/>
            <a:ext cx="8254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384120" y="1482840"/>
            <a:ext cx="8373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agg’s L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5" descr="bragglaw"/>
          <p:cNvPicPr/>
          <p:nvPr/>
        </p:nvPicPr>
        <p:blipFill>
          <a:blip r:embed="rId1"/>
          <a:stretch/>
        </p:blipFill>
        <p:spPr>
          <a:xfrm>
            <a:off x="628560" y="1697040"/>
            <a:ext cx="7961400" cy="3786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00600" y="591336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-outreach.phy.cam.ac.uk/camphy/xraydiffraction/xraydiffraction_exp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e d-Spacin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10" descr="d-spacings"/>
          <p:cNvPicPr/>
          <p:nvPr/>
        </p:nvPicPr>
        <p:blipFill>
          <a:blip r:embed="rId1"/>
          <a:stretch/>
        </p:blipFill>
        <p:spPr>
          <a:xfrm>
            <a:off x="2220840" y="1693800"/>
            <a:ext cx="4700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o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14" descr="XRDF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o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xrdschem"/>
          <p:cNvPicPr/>
          <p:nvPr/>
        </p:nvPicPr>
        <p:blipFill>
          <a:blip r:embed="rId1"/>
          <a:stretch/>
        </p:blipFill>
        <p:spPr>
          <a:xfrm>
            <a:off x="2343240" y="1658880"/>
            <a:ext cx="447192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 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quartz"/>
          <p:cNvPicPr/>
          <p:nvPr/>
        </p:nvPicPr>
        <p:blipFill>
          <a:blip r:embed="rId1"/>
          <a:stretch/>
        </p:blipFill>
        <p:spPr>
          <a:xfrm>
            <a:off x="1371600" y="1339920"/>
            <a:ext cx="6300720" cy="2625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alcite"/>
          <p:cNvPicPr/>
          <p:nvPr/>
        </p:nvPicPr>
        <p:blipFill>
          <a:blip r:embed="rId2"/>
          <a:stretch/>
        </p:blipFill>
        <p:spPr>
          <a:xfrm>
            <a:off x="1387440" y="4051440"/>
            <a:ext cx="6281640" cy="2617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507000" y="156204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502320" y="42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 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507000" y="156204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502320" y="42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1" descr="fig216"/>
          <p:cNvPicPr/>
          <p:nvPr/>
        </p:nvPicPr>
        <p:blipFill>
          <a:blip r:embed="rId1"/>
          <a:stretch/>
        </p:blipFill>
        <p:spPr>
          <a:xfrm>
            <a:off x="511200" y="1692360"/>
            <a:ext cx="814536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19840" y="330120"/>
            <a:ext cx="2046240" cy="300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8" descr="Antigorite_XRD"/>
          <p:cNvPicPr/>
          <p:nvPr/>
        </p:nvPicPr>
        <p:blipFill>
          <a:blip r:embed="rId1"/>
          <a:stretch/>
        </p:blipFill>
        <p:spPr>
          <a:xfrm>
            <a:off x="555480" y="843120"/>
            <a:ext cx="5923080" cy="2452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Lizardite_XRD"/>
          <p:cNvPicPr/>
          <p:nvPr/>
        </p:nvPicPr>
        <p:blipFill>
          <a:blip r:embed="rId2"/>
          <a:stretch/>
        </p:blipFill>
        <p:spPr>
          <a:xfrm>
            <a:off x="1430280" y="3336840"/>
            <a:ext cx="5032440" cy="2892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2934720" y="357012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pen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. Lizard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421800" y="13399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penti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. Antigo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Diffrac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the various phenomena that are associated with wave propagation (e.g., bending and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interferenc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waves) when the wave passes by an object that disrupts the wa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030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4127400"/>
            <a:ext cx="1708200" cy="228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300px-Wave_Diffraction_4Lambda_Slit"/>
          <p:cNvPicPr/>
          <p:nvPr/>
        </p:nvPicPr>
        <p:blipFill>
          <a:blip r:embed="rId3"/>
          <a:stretch/>
        </p:blipFill>
        <p:spPr>
          <a:xfrm>
            <a:off x="5754600" y="4114800"/>
            <a:ext cx="285768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iffraction"/>
          <p:cNvPicPr/>
          <p:nvPr/>
        </p:nvPicPr>
        <p:blipFill>
          <a:blip r:embed="rId4"/>
          <a:stretch/>
        </p:blipFill>
        <p:spPr>
          <a:xfrm>
            <a:off x="2509920" y="4103640"/>
            <a:ext cx="31176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lex patterns of a diffracted wave result from interference between different rays that traveled to the observer along different pa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Story3_Fig1b_410px"/>
          <p:cNvPicPr/>
          <p:nvPr/>
        </p:nvPicPr>
        <p:blipFill>
          <a:blip r:embed="rId1"/>
          <a:stretch/>
        </p:blipFill>
        <p:spPr>
          <a:xfrm>
            <a:off x="4091040" y="3492360"/>
            <a:ext cx="3905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raction effects are most noticeable when the wavelength of waves is similar to the size of the diffracting objects or apertur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ngsir.netfirms.com/applets/diffraction/2X/Diffra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 of Visible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7828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 is diffracted by slits/objects that are spaced at ~ 500 nm (0.5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2724969808_da8d6df0d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040" y="1589040"/>
            <a:ext cx="317160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ultra-visible"/>
          <p:cNvPicPr/>
          <p:nvPr/>
        </p:nvPicPr>
        <p:blipFill>
          <a:blip r:embed="rId3"/>
          <a:stretch/>
        </p:blipFill>
        <p:spPr>
          <a:xfrm>
            <a:off x="423720" y="3976560"/>
            <a:ext cx="5207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26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s of x-rays are around 10 to 0.01 nanometers, approximately one thousand times shorter than the wavelength of visible l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rays should be diffracted by slits/objects ~ 0.1 n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Angstr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wavelength_figure"/>
          <p:cNvPicPr/>
          <p:nvPr/>
        </p:nvPicPr>
        <p:blipFill>
          <a:blip r:embed="rId1"/>
          <a:stretch/>
        </p:blipFill>
        <p:spPr>
          <a:xfrm>
            <a:off x="4951440" y="1465200"/>
            <a:ext cx="37512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00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ing of atoms in a crystal lattice are in the order of 0.1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 have wavelengths in the order of 0.1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 are diffracted by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Anvils3"/>
          <p:cNvPicPr/>
          <p:nvPr/>
        </p:nvPicPr>
        <p:blipFill>
          <a:blip r:embed="rId1"/>
          <a:stretch/>
        </p:blipFill>
        <p:spPr>
          <a:xfrm>
            <a:off x="5059440" y="1670040"/>
            <a:ext cx="3692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5" descr="FG11_039"/>
          <p:cNvPicPr/>
          <p:nvPr/>
        </p:nvPicPr>
        <p:blipFill>
          <a:blip r:embed="rId1"/>
          <a:stretch/>
        </p:blipFill>
        <p:spPr>
          <a:xfrm>
            <a:off x="995400" y="1562040"/>
            <a:ext cx="70930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19 A.W. Hull noted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rystalline substance can produce an x-ray diffraction patter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substance always gives the same patter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xture of substances each produces its pattern independently of the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raction pattern of a pure substance is like a fingerprint of the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s can be identified by their diffraction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3:55Z</dcterms:modified>
  <cp:revision>167</cp:revision>
  <dc:subject/>
  <dc:title>Chapter 8: Major Elements</dc:title>
</cp:coreProperties>
</file>