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D44B-0CAA-4D22-9DAB-711DE7C83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79C-C9A8-4AF1-83FA-726485A2F3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249D-1917-4049-A748-7DF97C26BD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F9A-0174-4D93-892C-B56F2BEEF2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25A0-44CA-4148-BFF9-976897AB71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4508-FF45-44F2-A1A8-727DDB38B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2B52-9A3E-44F9-B38C-CC6FA31EFD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7C9-44DA-4E4D-AD7C-360D485D48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F440-D808-4906-A9D4-6036427040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5E6B-AD13-45A4-BE0D-41F4F007FB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8ED3-0CF5-4BF5-B48D-C05611791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8D5-B0B3-4071-A742-128FC20560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30B1-648F-4455-826A-408C424E1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72E1-BE98-432D-9973-488231D4B3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666-2BDE-4EF0-AC3B-C97C24756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28EB-DF6D-47D3-B62C-8E1E5337C4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19E-8534-4D73-80EB-BE2038D5E9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1923-2B86-46AA-9F64-F2A3E9B5EA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FF7-4A74-443A-BBA2-CA7DD466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C5C-7404-4AD1-A43C-A19BB0D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4F9-56D7-4B78-99C0-A4F02919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FF6-0452-4105-AF30-5BC0F1AB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95C5-3E7C-45A1-99E6-BF32DDB0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9748-88A1-4050-988C-246D7221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FFB0-F56F-41AE-BA89-7436AB6A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B749-B4D8-404F-AFBB-90E21662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E71F-1924-43CA-892A-4797AEE9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370E-794A-4E5F-BF5A-EABE7EF3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82C-A2BB-49D9-B49C-600456D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B1E-16EA-4586-9C96-602BCC9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ECC1-BEE4-4838-A1FB-3F76D70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BA9B-0221-45C8-A47F-1C0F0066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110-E1F1-41FE-9E4C-A2B357B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AF88-0DD6-4BB6-9AA8-0C387E5E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DB4C-C41D-4615-81C9-F9854EE3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2CC-F96B-4B1C-8153-208C0F1E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C58-E5C3-4E7F-A31A-92BC9C85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50B-2447-4FC3-952E-6C2D80F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66F-817F-41C7-A13D-8767F6D8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708-D201-41F3-AA4C-4243A29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FCC-2A03-471D-AA56-E3938D8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1B4-C6E7-4C48-9D39-BDFB7A8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7C70-9AF7-4AB4-92F4-8A57C3CE2C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6E9-EDED-46A9-8267-6727FB3297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okabo.co.jp/sp_e/optical/labo/refref/030695.jpg&amp;imgrefurl=http://shokabo.co.jp/sp_e/optical/labo/refref/refref.htm&amp;h=600&amp;w=800&amp;sz=62&amp;hl=en&amp;start=30&amp;um=1&amp;tbnid=KVR6wezGKRWVRM:&amp;tbnh=107&amp;tbnw=143&amp;prev=/images%3Fq%3Ddiffraction%26start%3D20%26ndsp%3D20%26svnum%3D10%26um%3D1%26hl%3Den%26rls%3Dcom.microsoft:en-us:IE-SearchBox%26rlz%3D1I7GGLJ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applets/diffraction/2X/Diffractio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766474@N04/2724969808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Diffraction and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Crystallograph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8" descr="400px-Loi_de_bragg"/>
          <p:cNvPicPr/>
          <p:nvPr/>
        </p:nvPicPr>
        <p:blipFill>
          <a:blip r:embed="rId1"/>
          <a:stretch/>
        </p:blipFill>
        <p:spPr>
          <a:xfrm>
            <a:off x="452520" y="1935000"/>
            <a:ext cx="8254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4120" y="1482840"/>
            <a:ext cx="8373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gg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bragglaw"/>
          <p:cNvPicPr/>
          <p:nvPr/>
        </p:nvPicPr>
        <p:blipFill>
          <a:blip r:embed="rId1"/>
          <a:stretch/>
        </p:blipFill>
        <p:spPr>
          <a:xfrm>
            <a:off x="628560" y="1697040"/>
            <a:ext cx="7961400" cy="3786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00600" y="59133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outreach.phy.cam.ac.uk/camphy/xraydiffraction/xraydiffraction_exp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e d-Spac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10" descr="d-spacings"/>
          <p:cNvPicPr/>
          <p:nvPr/>
        </p:nvPicPr>
        <p:blipFill>
          <a:blip r:embed="rId1"/>
          <a:stretch/>
        </p:blipFill>
        <p:spPr>
          <a:xfrm>
            <a:off x="2220840" y="1693800"/>
            <a:ext cx="470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4" descr="XRDF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xrdschem"/>
          <p:cNvPicPr/>
          <p:nvPr/>
        </p:nvPicPr>
        <p:blipFill>
          <a:blip r:embed="rId1"/>
          <a:stretch/>
        </p:blipFill>
        <p:spPr>
          <a:xfrm>
            <a:off x="2343240" y="1658880"/>
            <a:ext cx="44719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quartz"/>
          <p:cNvPicPr/>
          <p:nvPr/>
        </p:nvPicPr>
        <p:blipFill>
          <a:blip r:embed="rId1"/>
          <a:stretch/>
        </p:blipFill>
        <p:spPr>
          <a:xfrm>
            <a:off x="1371600" y="1339920"/>
            <a:ext cx="6300720" cy="2625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alcite"/>
          <p:cNvPicPr/>
          <p:nvPr/>
        </p:nvPicPr>
        <p:blipFill>
          <a:blip r:embed="rId2"/>
          <a:stretch/>
        </p:blipFill>
        <p:spPr>
          <a:xfrm>
            <a:off x="1387440" y="4051440"/>
            <a:ext cx="6281640" cy="2617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fig216"/>
          <p:cNvPicPr/>
          <p:nvPr/>
        </p:nvPicPr>
        <p:blipFill>
          <a:blip r:embed="rId1"/>
          <a:stretch/>
        </p:blipFill>
        <p:spPr>
          <a:xfrm>
            <a:off x="511200" y="1692360"/>
            <a:ext cx="81453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19840" y="330120"/>
            <a:ext cx="2046240" cy="30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8" descr="Antigorite_XRD"/>
          <p:cNvPicPr/>
          <p:nvPr/>
        </p:nvPicPr>
        <p:blipFill>
          <a:blip r:embed="rId1"/>
          <a:stretch/>
        </p:blipFill>
        <p:spPr>
          <a:xfrm>
            <a:off x="555480" y="843120"/>
            <a:ext cx="5923080" cy="2452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Lizardite_XRD"/>
          <p:cNvPicPr/>
          <p:nvPr/>
        </p:nvPicPr>
        <p:blipFill>
          <a:blip r:embed="rId2"/>
          <a:stretch/>
        </p:blipFill>
        <p:spPr>
          <a:xfrm>
            <a:off x="1430280" y="3336840"/>
            <a:ext cx="5032440" cy="289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934720" y="357012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Lizard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21800" y="13399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Antigo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iffrac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the various phenomena that are associated with wave propagation (e.g., bending and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interfere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waves) when the wave passes by an object that disrupts the wa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030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4127400"/>
            <a:ext cx="170820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300px-Wave_Diffraction_4Lambda_Slit"/>
          <p:cNvPicPr/>
          <p:nvPr/>
        </p:nvPicPr>
        <p:blipFill>
          <a:blip r:embed="rId3"/>
          <a:stretch/>
        </p:blipFill>
        <p:spPr>
          <a:xfrm>
            <a:off x="5754600" y="411480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iffraction"/>
          <p:cNvPicPr/>
          <p:nvPr/>
        </p:nvPicPr>
        <p:blipFill>
          <a:blip r:embed="rId4"/>
          <a:stretch/>
        </p:blipFill>
        <p:spPr>
          <a:xfrm>
            <a:off x="2509920" y="4103640"/>
            <a:ext cx="31176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patterns of a diffracted wave result from interference between different rays that traveled to the observer along different pa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Story3_Fig1b_410px"/>
          <p:cNvPicPr/>
          <p:nvPr/>
        </p:nvPicPr>
        <p:blipFill>
          <a:blip r:embed="rId1"/>
          <a:stretch/>
        </p:blipFill>
        <p:spPr>
          <a:xfrm>
            <a:off x="4091040" y="3492360"/>
            <a:ext cx="3905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raction effects are most noticeable when the wavelength of waves is similar to the size of the diffracting objects or apertur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gsir.netfirms.com/applets/diffraction/2X/Diffra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 of Visible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82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diffracted by slits/objects that are spaced at ~ 500 nm (0.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2724969808_da8d6df0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040" y="1589040"/>
            <a:ext cx="317160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ultra-visible"/>
          <p:cNvPicPr/>
          <p:nvPr/>
        </p:nvPicPr>
        <p:blipFill>
          <a:blip r:embed="rId3"/>
          <a:stretch/>
        </p:blipFill>
        <p:spPr>
          <a:xfrm>
            <a:off x="423720" y="3976560"/>
            <a:ext cx="5207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6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s of x-rays are around 10 to 0.01 nanometers, approximately one thousand times shorter than the wavelength of visible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s should be diffracted by slits/objects ~ 0.1 n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Angstr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wavelength_figure"/>
          <p:cNvPicPr/>
          <p:nvPr/>
        </p:nvPicPr>
        <p:blipFill>
          <a:blip r:embed="rId1"/>
          <a:stretch/>
        </p:blipFill>
        <p:spPr>
          <a:xfrm>
            <a:off x="4951440" y="1465200"/>
            <a:ext cx="3751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00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ing of atoms in a crystal lattice are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have wavelengths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are diffracted by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Anvils3"/>
          <p:cNvPicPr/>
          <p:nvPr/>
        </p:nvPicPr>
        <p:blipFill>
          <a:blip r:embed="rId1"/>
          <a:stretch/>
        </p:blipFill>
        <p:spPr>
          <a:xfrm>
            <a:off x="5059440" y="1670040"/>
            <a:ext cx="3692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FG11_039"/>
          <p:cNvPicPr/>
          <p:nvPr/>
        </p:nvPicPr>
        <p:blipFill>
          <a:blip r:embed="rId1"/>
          <a:stretch/>
        </p:blipFill>
        <p:spPr>
          <a:xfrm>
            <a:off x="995400" y="1562040"/>
            <a:ext cx="70930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9 A.W. Hull not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rystalline substance can produce an x-ray diffraction patte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substance always gives the same patter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substances each produces its pattern independently of the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raction pattern of a pure substance is like a fingerpri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s can be identified by their diffraction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3:55Z</dcterms:modified>
  <cp:revision>167</cp:revision>
  <dc:subject/>
  <dc:title>Chapter 8: Major Elements</dc:title>
</cp:coreProperties>
</file>