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3CD7-A2E1-4068-8977-6F6F3D4C8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C16F-1FAC-4204-99CC-CAC07B0E51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A201-D2B5-443E-A8C0-287D0E98B7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43F3-4947-4932-990A-84B3B1CD3C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0DBF-74AF-434A-85F5-F0945B4DD0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AF2C-BD91-4B8E-B2B2-21A42B4ED4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A5F6-B193-492D-8055-BDA6B5F66A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8286-96E3-47EF-99AF-CC465528C4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9083-6D0A-4F11-9620-26EA7ADAA0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49B6-326B-4639-886A-F8124BCCDE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8054-139D-49CD-BE7C-27A13FEAAE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02F3-D0DA-498B-9FAB-A82864CABF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F41D-B824-4DDE-9EB5-B43E8AE3E5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96D0-CAAF-4D97-A767-80CD95183F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E8C8-B683-46B8-A3B3-C8698F92EF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4478-F802-4B0A-A1B2-DD263ABAE6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6042-333E-4477-A34A-BF40E82CF6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3D38-8869-47D6-A6BE-5F78CCBFB5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F9A4-0DAD-4B8A-BA8B-BC4555CF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197-084A-4D1F-8E1F-9FEEEA0E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CA1-3214-456A-8559-0AD2B2FD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8229-CF8B-4241-B95E-F4DF26CF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917A-E37F-47E2-B713-EC478195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5291-4155-43B6-BBC3-1208CA7C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46DF-CB25-4E95-9893-BC725337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50B1-C0ED-4F7E-9671-AF0570C8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C829-A730-4C3A-A54E-AB077D38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8936-F3D0-476E-8D19-D61C96BE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1080-18A4-4414-B157-4BD74520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6FD1-05E4-4234-88C4-A209E26C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2B62-D309-40D5-BF9B-BBC743CE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F136-CC91-4CEA-8E53-FA1EEA71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9C6A-0BD9-42AB-B1CE-25A67ACF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3842-7201-4213-9907-EA78EE3F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EC30-DC01-4F0A-BA55-12CDCDEE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E08-112A-4E9F-8720-F650586E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DE59-CF69-4BB6-8707-9CD90060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56B5-0B7E-42F6-932C-18705689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C549-EB4A-4739-B000-F85179EA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C79-E253-4766-B737-7855E2AB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988-E50A-4893-8D00-941747D9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35B-B377-4BFF-A3F4-94F0CC79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CEEA-606A-4246-AC83-5C82E4EAC3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C10F-5A89-496E-9234-478276B3F3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okabo.co.jp/sp_e/optical/labo/refref/030695.jpg&amp;imgrefurl=http://shokabo.co.jp/sp_e/optical/labo/refref/refref.htm&amp;h=600&amp;w=800&amp;sz=62&amp;hl=en&amp;start=30&amp;um=1&amp;tbnid=KVR6wezGKRWVRM:&amp;tbnh=107&amp;tbnw=143&amp;prev=/images%3Fq%3Ddiffraction%26start%3D20%26ndsp%3D20%26svnum%3D10%26um%3D1%26hl%3Den%26rls%3Dcom.microsoft:en-us:IE-SearchBox%26rlz%3D1I7GGLJ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gsir.netfirms.com/applets/diffraction/2X/Diffraction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lickr.com/photos/7766474@N04/2724969808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X-Ray Diffraction and 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X-Ray Crystallograph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 Diffra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Picture 8" descr="400px-Loi_de_bragg"/>
          <p:cNvPicPr/>
          <p:nvPr/>
        </p:nvPicPr>
        <p:blipFill>
          <a:blip r:embed="rId1"/>
          <a:stretch/>
        </p:blipFill>
        <p:spPr>
          <a:xfrm>
            <a:off x="452520" y="1935000"/>
            <a:ext cx="82548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384120" y="1482840"/>
            <a:ext cx="8373960" cy="40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ragg’s La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Picture 5" descr="bragglaw"/>
          <p:cNvPicPr/>
          <p:nvPr/>
        </p:nvPicPr>
        <p:blipFill>
          <a:blip r:embed="rId1"/>
          <a:stretch/>
        </p:blipFill>
        <p:spPr>
          <a:xfrm>
            <a:off x="628560" y="1697040"/>
            <a:ext cx="7961400" cy="37861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300600" y="5913360"/>
            <a:ext cx="85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-outreach.phy.cam.ac.uk/camphy/xraydiffraction/xraydiffraction_exp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ultiple d-Spacing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7" name="Picture 10" descr="d-spacings"/>
          <p:cNvPicPr/>
          <p:nvPr/>
        </p:nvPicPr>
        <p:blipFill>
          <a:blip r:embed="rId1"/>
          <a:stretch/>
        </p:blipFill>
        <p:spPr>
          <a:xfrm>
            <a:off x="2220840" y="1693800"/>
            <a:ext cx="4700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 Diffractome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Picture 14" descr="XRDF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 Diffractome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5" descr="xrdschem"/>
          <p:cNvPicPr/>
          <p:nvPr/>
        </p:nvPicPr>
        <p:blipFill>
          <a:blip r:embed="rId1"/>
          <a:stretch/>
        </p:blipFill>
        <p:spPr>
          <a:xfrm>
            <a:off x="2343240" y="1658880"/>
            <a:ext cx="447192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RD Patter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3" descr="quartz"/>
          <p:cNvPicPr/>
          <p:nvPr/>
        </p:nvPicPr>
        <p:blipFill>
          <a:blip r:embed="rId1"/>
          <a:stretch/>
        </p:blipFill>
        <p:spPr>
          <a:xfrm>
            <a:off x="1371600" y="1339920"/>
            <a:ext cx="6300720" cy="2625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alcite"/>
          <p:cNvPicPr/>
          <p:nvPr/>
        </p:nvPicPr>
        <p:blipFill>
          <a:blip r:embed="rId2"/>
          <a:stretch/>
        </p:blipFill>
        <p:spPr>
          <a:xfrm>
            <a:off x="1387440" y="4051440"/>
            <a:ext cx="6281640" cy="2617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6507000" y="156204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6502320" y="4257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RD Patter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507000" y="156204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6502320" y="4257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1" descr="fig216"/>
          <p:cNvPicPr/>
          <p:nvPr/>
        </p:nvPicPr>
        <p:blipFill>
          <a:blip r:embed="rId1"/>
          <a:stretch/>
        </p:blipFill>
        <p:spPr>
          <a:xfrm>
            <a:off x="511200" y="1692360"/>
            <a:ext cx="814536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19840" y="330120"/>
            <a:ext cx="2046240" cy="300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RD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ay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Picture 8" descr="Antigorite_XRD"/>
          <p:cNvPicPr/>
          <p:nvPr/>
        </p:nvPicPr>
        <p:blipFill>
          <a:blip r:embed="rId1"/>
          <a:stretch/>
        </p:blipFill>
        <p:spPr>
          <a:xfrm>
            <a:off x="555480" y="843120"/>
            <a:ext cx="5923080" cy="2452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Lizardite_XRD"/>
          <p:cNvPicPr/>
          <p:nvPr/>
        </p:nvPicPr>
        <p:blipFill>
          <a:blip r:embed="rId2"/>
          <a:stretch/>
        </p:blipFill>
        <p:spPr>
          <a:xfrm>
            <a:off x="1430280" y="3336840"/>
            <a:ext cx="5032440" cy="28926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1"/>
          <p:cNvSpPr/>
          <p:nvPr/>
        </p:nvSpPr>
        <p:spPr>
          <a:xfrm>
            <a:off x="2934720" y="357012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pentin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. Lizard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3421800" y="133992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pentin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. Antigor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5692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66"/>
                </a:solidFill>
                <a:latin typeface="Arial"/>
              </a:rPr>
              <a:t>Diffract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the various phenomena that are associated with wave propagation (e.g., bending and </a:t>
            </a: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interferenc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waves) when the wave passes by an object that disrupts the wav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0306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4127400"/>
            <a:ext cx="1708200" cy="2282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300px-Wave_Diffraction_4Lambda_Slit"/>
          <p:cNvPicPr/>
          <p:nvPr/>
        </p:nvPicPr>
        <p:blipFill>
          <a:blip r:embed="rId3"/>
          <a:stretch/>
        </p:blipFill>
        <p:spPr>
          <a:xfrm>
            <a:off x="5754600" y="4114800"/>
            <a:ext cx="2857680" cy="230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diffraction"/>
          <p:cNvPicPr/>
          <p:nvPr/>
        </p:nvPicPr>
        <p:blipFill>
          <a:blip r:embed="rId4"/>
          <a:stretch/>
        </p:blipFill>
        <p:spPr>
          <a:xfrm>
            <a:off x="2509920" y="4103640"/>
            <a:ext cx="311760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plex patterns of a diffracted wave result from interference between different rays that traveled to the observer along different path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Story3_Fig1b_410px"/>
          <p:cNvPicPr/>
          <p:nvPr/>
        </p:nvPicPr>
        <p:blipFill>
          <a:blip r:embed="rId1"/>
          <a:stretch/>
        </p:blipFill>
        <p:spPr>
          <a:xfrm>
            <a:off x="4091040" y="3492360"/>
            <a:ext cx="3905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raction effects are most noticeable when the wavelength of waves is similar to the size of the diffracting objects or aperture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ngsir.netfirms.com/applets/diffraction/2X/Diffraction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iffraction of Visible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78280" cy="21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ble light is diffracted by slits/objects that are spaced at ~ 500 nm (0.5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2724969808_da8d6df0d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040" y="1589040"/>
            <a:ext cx="3171600" cy="4762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ultra-visible"/>
          <p:cNvPicPr/>
          <p:nvPr/>
        </p:nvPicPr>
        <p:blipFill>
          <a:blip r:embed="rId3"/>
          <a:stretch/>
        </p:blipFill>
        <p:spPr>
          <a:xfrm>
            <a:off x="423720" y="3976560"/>
            <a:ext cx="52070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s and Cryst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26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lengths of x-rays are around 10 to 0.01 nanometers, approximately one thousand times shorter than the wavelength of visible ligh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-rays should be diffracted by slits/objects ~ 0.1 n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 Angstr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wavelength_figure"/>
          <p:cNvPicPr/>
          <p:nvPr/>
        </p:nvPicPr>
        <p:blipFill>
          <a:blip r:embed="rId1"/>
          <a:stretch/>
        </p:blipFill>
        <p:spPr>
          <a:xfrm>
            <a:off x="4951440" y="1465200"/>
            <a:ext cx="37512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s and Cryst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00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cing of atoms in a crystal lattice are in the order of 0.1 n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-rays have wavelengths in the order of 0.1 n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-rays are diffracted by crys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6" descr="Anvils3"/>
          <p:cNvPicPr/>
          <p:nvPr/>
        </p:nvPicPr>
        <p:blipFill>
          <a:blip r:embed="rId1"/>
          <a:stretch/>
        </p:blipFill>
        <p:spPr>
          <a:xfrm>
            <a:off x="5059440" y="1670040"/>
            <a:ext cx="36925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s and Cryst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5" descr="FG11_039"/>
          <p:cNvPicPr/>
          <p:nvPr/>
        </p:nvPicPr>
        <p:blipFill>
          <a:blip r:embed="rId1"/>
          <a:stretch/>
        </p:blipFill>
        <p:spPr>
          <a:xfrm>
            <a:off x="995400" y="1562040"/>
            <a:ext cx="709308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X-Rays and Cryst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19 A.W. Hull noted the follow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crystalline substance can produce an x-ray diffraction patter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ame substance always gives the same patter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ixture of substances each produces its pattern independently of the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ffraction pattern of a pure substance is like a fingerprint of the sub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s can be identified by their diffraction patt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ksu</cp:lastModifiedBy>
  <dcterms:modified xsi:type="dcterms:W3CDTF">2011-10-27T13:53:55Z</dcterms:modified>
  <cp:revision>167</cp:revision>
  <dc:subject/>
  <dc:title>Chapter 8: Major Elements</dc:title>
</cp:coreProperties>
</file>