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6240-E1C8-4692-99FE-F7A38DBA4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F011-B0C4-426C-A658-EAB4E96EB4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9854-09CE-4987-B99D-FBD86EA6E8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B49B-08BC-481A-8F93-6684DEEB20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5F88-C128-49CF-8266-4CF6653FBE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1478-948C-4107-83BD-4061B08CC1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C38D-C58D-4FB2-A9C1-BA4138C526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B965-D5E0-4000-81C3-1F350A8BD0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7C30-4342-4C9D-B388-D13CB35168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59D4-3BE1-4D27-AA05-1A14D13338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7B7E-E76C-410C-B548-8287352370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C797-FFE1-4F22-B70C-708E4AB10E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C3C5-DF2D-4CD2-84DF-8262F60018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5F74-0068-490B-BE03-DED5B14862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82C6-FE91-4EA8-A259-5005BA0AE1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8336-83AB-467E-96B6-F3AC61E63D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CBAF-D5BC-466B-9412-C9F4E2D53B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7BC2-3ED8-4992-AD9B-D0012863CB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F42-E6AD-4046-BA39-1EF18CE8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0267-8AB7-4821-B3C9-4DB6ACE0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2F5-6E77-4D0A-9F49-E9312A77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FDE-A4F1-4BD6-9C6E-EC0C0DC6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AB7B-D400-46B1-BFBD-52390307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A2B6-6FAC-446E-9800-14364830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5971-EE65-4080-BA7D-B8014A03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AAF9-486F-4988-ADA4-654B93E3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C186-171E-47BD-B0A7-A3485918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489D-4BBA-4AA5-9F56-35C9C149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5C86-56DA-454A-8812-9A12118F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22A-0937-47A6-A442-339AE1BC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0729-71D2-4870-8216-BB81F425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2E1F-0E0E-448A-8AE7-F5DEA5D1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957E-CFF8-429B-A02C-E7927D9C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DAFE-2D82-4265-8189-0F6E6AB3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85E5-24C4-44A8-B489-95AABDC2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C97-79B9-4BE0-A59B-24D1216E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7BF-77D6-4D59-B317-3E83B861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FF7-4028-46EC-9CD4-C8424CA3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B59-DBAE-4FB5-B904-E4050408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0EC-F037-4661-BDEE-380FE605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C04-B1A1-4751-9204-DCFF6C91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3DD-227A-4C13-9965-5F30E2C8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CD25-C05A-436E-85B5-2CBB5875A0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D511-0AEF-4929-B3B8-E05A98C236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okabo.co.jp/sp_e/optical/labo/refref/030695.jpg&amp;imgrefurl=http://shokabo.co.jp/sp_e/optical/labo/refref/refref.htm&amp;h=600&amp;w=800&amp;sz=62&amp;hl=en&amp;start=30&amp;um=1&amp;tbnid=KVR6wezGKRWVRM:&amp;tbnh=107&amp;tbnw=143&amp;prev=/images%3Fq%3Ddiffraction%26start%3D20%26ndsp%3D20%26svnum%3D10%26um%3D1%26hl%3Den%26rls%3Dcom.microsoft:en-us:IE-SearchBox%26rlz%3D1I7GGLJ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gsir.netfirms.com/applets/diffraction/2X/Diffraction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ickr.com/photos/7766474@N04/2724969808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X-Ray Diffraction and 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X-Ray Crystallograph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 Dif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8" descr="400px-Loi_de_bragg"/>
          <p:cNvPicPr/>
          <p:nvPr/>
        </p:nvPicPr>
        <p:blipFill>
          <a:blip r:embed="rId1"/>
          <a:stretch/>
        </p:blipFill>
        <p:spPr>
          <a:xfrm>
            <a:off x="452520" y="1935000"/>
            <a:ext cx="82548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384120" y="1482840"/>
            <a:ext cx="8373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ragg’s La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Picture 5" descr="bragglaw"/>
          <p:cNvPicPr/>
          <p:nvPr/>
        </p:nvPicPr>
        <p:blipFill>
          <a:blip r:embed="rId1"/>
          <a:stretch/>
        </p:blipFill>
        <p:spPr>
          <a:xfrm>
            <a:off x="628560" y="1697040"/>
            <a:ext cx="7961400" cy="37861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300600" y="591336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-outreach.phy.cam.ac.uk/camphy/xraydiffraction/xraydiffraction_exp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ultiple d-Spacing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7" name="Picture 10" descr="d-spacings"/>
          <p:cNvPicPr/>
          <p:nvPr/>
        </p:nvPicPr>
        <p:blipFill>
          <a:blip r:embed="rId1"/>
          <a:stretch/>
        </p:blipFill>
        <p:spPr>
          <a:xfrm>
            <a:off x="2220840" y="1693800"/>
            <a:ext cx="4700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 Diffractome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14" descr="XRDF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 Diffractome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5" descr="xrdschem"/>
          <p:cNvPicPr/>
          <p:nvPr/>
        </p:nvPicPr>
        <p:blipFill>
          <a:blip r:embed="rId1"/>
          <a:stretch/>
        </p:blipFill>
        <p:spPr>
          <a:xfrm>
            <a:off x="2343240" y="1658880"/>
            <a:ext cx="447192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RD Patter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3" descr="quartz"/>
          <p:cNvPicPr/>
          <p:nvPr/>
        </p:nvPicPr>
        <p:blipFill>
          <a:blip r:embed="rId1"/>
          <a:stretch/>
        </p:blipFill>
        <p:spPr>
          <a:xfrm>
            <a:off x="1371600" y="1339920"/>
            <a:ext cx="6300720" cy="2625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alcite"/>
          <p:cNvPicPr/>
          <p:nvPr/>
        </p:nvPicPr>
        <p:blipFill>
          <a:blip r:embed="rId2"/>
          <a:stretch/>
        </p:blipFill>
        <p:spPr>
          <a:xfrm>
            <a:off x="1387440" y="4051440"/>
            <a:ext cx="6281640" cy="2617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507000" y="156204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502320" y="42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RD Patter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507000" y="156204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6502320" y="42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1" descr="fig216"/>
          <p:cNvPicPr/>
          <p:nvPr/>
        </p:nvPicPr>
        <p:blipFill>
          <a:blip r:embed="rId1"/>
          <a:stretch/>
        </p:blipFill>
        <p:spPr>
          <a:xfrm>
            <a:off x="511200" y="1692360"/>
            <a:ext cx="814536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19840" y="330120"/>
            <a:ext cx="2046240" cy="300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RD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y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8" descr="Antigorite_XRD"/>
          <p:cNvPicPr/>
          <p:nvPr/>
        </p:nvPicPr>
        <p:blipFill>
          <a:blip r:embed="rId1"/>
          <a:stretch/>
        </p:blipFill>
        <p:spPr>
          <a:xfrm>
            <a:off x="555480" y="843120"/>
            <a:ext cx="5923080" cy="2452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Lizardite_XRD"/>
          <p:cNvPicPr/>
          <p:nvPr/>
        </p:nvPicPr>
        <p:blipFill>
          <a:blip r:embed="rId2"/>
          <a:stretch/>
        </p:blipFill>
        <p:spPr>
          <a:xfrm>
            <a:off x="1430280" y="3336840"/>
            <a:ext cx="5032440" cy="2892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1"/>
          <p:cNvSpPr/>
          <p:nvPr/>
        </p:nvSpPr>
        <p:spPr>
          <a:xfrm>
            <a:off x="2934720" y="357012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pentin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. Lizard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421800" y="133992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pentin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. Antigor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</a:rPr>
              <a:t>Diffract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the various phenomena that are associated with wave propagation (e.g., bending and </a:t>
            </a: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interferenc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waves) when the wave passes by an object that disrupts the wav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0306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4127400"/>
            <a:ext cx="1708200" cy="2282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300px-Wave_Diffraction_4Lambda_Slit"/>
          <p:cNvPicPr/>
          <p:nvPr/>
        </p:nvPicPr>
        <p:blipFill>
          <a:blip r:embed="rId3"/>
          <a:stretch/>
        </p:blipFill>
        <p:spPr>
          <a:xfrm>
            <a:off x="5754600" y="4114800"/>
            <a:ext cx="2857680" cy="23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diffraction"/>
          <p:cNvPicPr/>
          <p:nvPr/>
        </p:nvPicPr>
        <p:blipFill>
          <a:blip r:embed="rId4"/>
          <a:stretch/>
        </p:blipFill>
        <p:spPr>
          <a:xfrm>
            <a:off x="2509920" y="4103640"/>
            <a:ext cx="31176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plex patterns of a diffracted wave result from interference between different rays that traveled to the observer along different path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Story3_Fig1b_410px"/>
          <p:cNvPicPr/>
          <p:nvPr/>
        </p:nvPicPr>
        <p:blipFill>
          <a:blip r:embed="rId1"/>
          <a:stretch/>
        </p:blipFill>
        <p:spPr>
          <a:xfrm>
            <a:off x="4091040" y="3492360"/>
            <a:ext cx="3905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raction effects are most noticeable when the wavelength of waves is similar to the size of the diffracting objects or apertur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ngsir.netfirms.com/applets/diffraction/2X/Diffraction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raction of Visible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7828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ble light is diffracted by slits/objects that are spaced at ~ 500 nm (0.5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2724969808_da8d6df0d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040" y="1589040"/>
            <a:ext cx="3171600" cy="4762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ultra-visible"/>
          <p:cNvPicPr/>
          <p:nvPr/>
        </p:nvPicPr>
        <p:blipFill>
          <a:blip r:embed="rId3"/>
          <a:stretch/>
        </p:blipFill>
        <p:spPr>
          <a:xfrm>
            <a:off x="423720" y="3976560"/>
            <a:ext cx="52070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s and Crys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26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lengths of x-rays are around 10 to 0.01 nanometers, approximately one thousand times shorter than the wavelength of visible ligh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-rays should be diffracted by slits/objects ~ 0.1 n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 Angstr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wavelength_figure"/>
          <p:cNvPicPr/>
          <p:nvPr/>
        </p:nvPicPr>
        <p:blipFill>
          <a:blip r:embed="rId1"/>
          <a:stretch/>
        </p:blipFill>
        <p:spPr>
          <a:xfrm>
            <a:off x="4951440" y="1465200"/>
            <a:ext cx="37512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s and Crys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00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ing of atoms in a crystal lattice are in the order of 0.1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-rays have wavelengths in the order of 0.1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-rays are diffracted by crys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Anvils3"/>
          <p:cNvPicPr/>
          <p:nvPr/>
        </p:nvPicPr>
        <p:blipFill>
          <a:blip r:embed="rId1"/>
          <a:stretch/>
        </p:blipFill>
        <p:spPr>
          <a:xfrm>
            <a:off x="5059440" y="1670040"/>
            <a:ext cx="36925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s and Crys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5" descr="FG11_039"/>
          <p:cNvPicPr/>
          <p:nvPr/>
        </p:nvPicPr>
        <p:blipFill>
          <a:blip r:embed="rId1"/>
          <a:stretch/>
        </p:blipFill>
        <p:spPr>
          <a:xfrm>
            <a:off x="995400" y="1562040"/>
            <a:ext cx="70930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s and Crys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19 A.W. Hull noted the follow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crystalline substance can produce an x-ray diffraction patter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ame substance always gives the same patter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ixture of substances each produces its pattern independently of the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ffraction pattern of a pure substance is like a fingerprint of the sub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s can be identified by their diffraction pat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ksu</cp:lastModifiedBy>
  <dcterms:modified xsi:type="dcterms:W3CDTF">2011-10-27T13:53:55Z</dcterms:modified>
  <cp:revision>167</cp:revision>
  <dc:subject/>
  <dc:title>Chapter 8: Major Elements</dc:title>
</cp:coreProperties>
</file>