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7BF-7F19-41E3-AAF3-3269B2AC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72A-EB5A-49FD-9C41-2ADE5B01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BA1-AC5F-421B-BB4C-50AC0033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4B2-D5C8-4DDA-B517-07E0C028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EF0-725F-41FD-913F-7CB4EAC1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3F7-D74D-449D-B162-BDC02EA3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55F-60A8-4985-8247-257B5A1A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C2DE-29F2-49C8-99FC-55C5FBE5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D64-E85F-46D4-BFB0-B34702E8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5EB-7B1B-408B-960D-F9A8BF6C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506-E247-430D-A6BD-8744C3FD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1561-86CD-460C-9E76-A4D85044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45EC-5BE9-465F-8C64-00B3887D9F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49760" y="476280"/>
            <a:ext cx="977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أيضاً يأتي في مجده ليدين الأحياء والأمو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لذي ليس لملكه انقضا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نعم نؤمن بالروح القدس الرب المحي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لمنبثق من الآب ,نسجد له 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نمجده مع الآب والابن الناطق في الأنبيا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بكنيسة واحد مقدسة جامعة رسولي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نعترف بمعمودية واحدة لمغفرة الخطاي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ننتظر قيامة الأموات وحياة الدهر الآ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الكنائس الثلاثة اليوم: تؤمن بهذا القان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cc"/>
                </a:solidFill>
                <a:latin typeface="Arial"/>
              </a:rPr>
              <a:t> وتعتبره أساس عقيدتها .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50920" y="1628640"/>
          <a:ext cx="8642160" cy="3867120"/>
        </p:xfrm>
        <a:graphic>
          <a:graphicData uri="http://schemas.openxmlformats.org/drawingml/2006/table">
            <a:tbl>
              <a:tblPr/>
              <a:tblGrid>
                <a:gridCol w="2318400"/>
                <a:gridCol w="2108880"/>
                <a:gridCol w="2107440"/>
                <a:gridCol w="2107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البابليون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الهندو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المصريون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الفينيقيون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له السماء والأرض والبح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رهما ( الخالق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زير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-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يل( أيالقد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له الشمس والقمر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شنو ( الرازق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زي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-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شموز( أي السيد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له العدالة والتشري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شيفا ( المدمر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هودس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3</a:t>
                      </a:r>
                      <a:r>
                        <a:rPr b="1" lang="ar-SA" sz="2800" spc="-1" strike="noStrike">
                          <a:solidFill>
                            <a:srgbClr val="f78629"/>
                          </a:solidFill>
                          <a:latin typeface="Arial"/>
                        </a:rPr>
                        <a:t>-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ولم ( أي الأزلي )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2342160" y="201600"/>
            <a:ext cx="45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78629"/>
                </a:solidFill>
                <a:latin typeface="Arial"/>
              </a:rPr>
              <a:t>التثليث عند الوتث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419640" y="476280"/>
            <a:ext cx="4895640" cy="19224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:: التثليث عند قدم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مصريي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: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2160000" y="2997360"/>
            <a:ext cx="1327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تثليث عقيدة معروفة عند قدماء المصريين تدل عليه آثاره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ثالوث الفرعوني يتكون من ثلاثة آلهة أو ثلاثة أقانيم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هي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قنوم الأو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: الإله أو زيريس ويسمى الأ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إعتقاد عنه أنه الإله الأكبر العظيم علة ولادة الاقنوم الث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هو خالق المخلوقات ورب الاربا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قنوم الثاني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: الإله ( هورس ) ويسمى الابن أو الكل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هو ابن الإله ،وهو اله النطق والكلام . و يحمل ذنوب وخطايا العا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-1728360" y="2205000"/>
            <a:ext cx="12572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الأقنوم الثالث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:- الإله ( ايزيس ) وتسمى الأم أو الوالدة 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الاعتقادعنها أنها ملكة السماء , وأنها أم الاقنوم الثا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ذا هو الثالوث المصري بأقانيمه الثلاثة لا يكاد يختل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عن الثالوث النصراني شيئ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يقول الأستاذ فريد كامل ( إن المسيحية التي نعرفها اليو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هي في الواقع المسيحية التي صورت وطورت في مص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32600" y="1341360"/>
            <a:ext cx="6606000" cy="8251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:: </a:t>
            </a:r>
            <a:r>
              <a:rPr b="1" lang="hi-IN" sz="4800" spc="-1" strike="noStrike">
                <a:solidFill>
                  <a:srgbClr val="ffffff"/>
                </a:solidFill>
                <a:latin typeface="Arial"/>
              </a:rPr>
              <a:t>الثالوث عند الهنود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 :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888560" y="2874960"/>
            <a:ext cx="13107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عرف الهنود بكثرة آلهتهم وتعدد دياناتهم وقد اعتقدو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بثالوث إلهي مكون من ثلاثة اقانيم هي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الإله ( براهما ) في صورة الخالق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والإله ( فشنو) في صورة الحافظ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والإله ( سيفا ) في صورة الهاد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1952280" y="60480"/>
            <a:ext cx="129427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ccff"/>
                </a:solidFill>
                <a:latin typeface="Arial"/>
              </a:rPr>
              <a:t>التثليث عند الأمم الأخرى :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كان الرومانيون الوثنيون القدماء يعتقدون بالتثليث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وهو أولاً الله ثم الكلمة ثم الروح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وكذلك الفرس : يعبدون إلهاً مثلث الأقان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وهم ( أورمزد , ومتراث وأهرمان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فأورمزد الخلاق ,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متراث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ابن الله المخلص والوسيط 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وأهرمان المهلك . والثالوث الصيني يتكون م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تي ين : أو الإله المجهول غير المنظو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تي سز: الشمس والكواكب السيا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تشانح : أرواح الآباء والحكماء والملوك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76280"/>
            <a:ext cx="9144000" cy="10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ccff"/>
                </a:solidFill>
                <a:latin typeface="Arial"/>
              </a:rPr>
              <a:t>اثر الفلسفة في انحراف النصرانية عن التوحيد :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رى الباحثون  أن التثليث في المسيحية من نتائج تفكير الأفلاطو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حديثة , وذلك أن أفلاطون زعيم مدرسة الإسكندرية يرى فيم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يتعلق بالكون ومنشئه أن الله هو منشئ الأشياء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لا يتصف بوصف من أوصاف الحوادث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ليس بجوهر ولا عرض وإن أول شيء صدر من هذا المنشى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و (( العقل )) ومن العقل انبثقت (( الروح )) التي هي وحدة الأرواح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من هذا الثالوث يصدر كل شيء ومنه يتولد كل ش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هكذا نرى أنه لا فرق بين هذا الاعتقاد الفلسفي وبين عقي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ثالوث النصرانيةالتي أقرتها مجامع النصارى يقول ليون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جوتيه 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ن المسيحية تشريت كثيراً من الأراء والأفكار الفلسفية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يونان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252360" y="174600"/>
            <a:ext cx="939636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كيفية انتقال التثليث إلى المسيحية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عندما دخل بولس المسيحية وكان ملماً بالفلسفة الإغر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التي كانت تمثلها مدرسة الإسكندرية , واغتنم وض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المسيحيين وحالتهم المؤلمة أوجد لهم أفكاراً ونظريات جديد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و لقد استطاع بولس أن يكون مسيحية جدي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على حساب عيسى عليه السلام واستطاع أن ينشئ لها عقي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لا تمت لعقيدة المسيح عليه السلام بصلة وبولس هو يهود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النشأة , رواقي الثقافة , روماني الفكرة احتل مكانة في المسيح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وأصبح قديساً يغير ويبدل كيفما شاء رغم انه ليس من تلامي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المسيح ولا من حوارييه .واستطاع بكل دهاء وحيلة أن يوج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في المجتمع عقيدة جديدة تناهض عقيدة التوحيد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اختلاف النصارى في تفسير الثالوث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: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لكانية يفسرون الأقانيم بالصفات , فالآب يفسرونه بصفة الوجود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ابن بالعلم والروح القدس بالحياة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قد صرحت الملكانية بإثبات ثلاثة آله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قد رد القران على ما ذهب إليه الملكانيه وما سارت عليه الكاثوليكية والبروتستانتية ولقد كفرهم الله بقولهم هذ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قال تعالى : ( لقد كفر الذين قالوا إن الله ثالث ثلاثة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تقول اليعقوبية " بالأقانيم الثلاثة , وتقول أن الكلمة انقلبت لحماً ودماً فصار الإله هو المسيح , وهو الظاهر بجسده, بل هو هو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لقد أخبرنا عنهم القرآن الكريم , قال تعالى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( لقد كفر الذين قالوا إن الله هو المسيح ابن مريم 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كنيسة الارثوذوكسية اليوم امتداد في رأيها لما ذهبت إليه هذه الفرق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33360" y="0"/>
            <a:ext cx="881064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أدلة النصارى على التثليث وبيان بطلانها :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يستدلون بورود إله أو صفة من صفات الله سبحانه وتعالى ثلاث مرا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كما ورد في سفر الخروج : " وقال الله أيضاً لموسى هكذا تقول لبني إسرائ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هوه إله أبائكم , إله إبراهيم , وإله إسحاق , وإله يعقوب أرسلني إليكم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رد عليهم يقال هنا : إن لفظة  " إله آبائكم  " في النص أريد بها الألفاظ الثلاثة التي جاءت بعدها أي إن الآباء هم إبراهيم وإسحاق ويعقوب . أي إن ما سبق إجماله في الكلمة الأولى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تم تفصيلة وبيانه بعد ذلك بقوله : إله إبراهيم وإله إسحاق , وإله يعقوب . أي أن الآباء هم هؤلاء الثلاثة , وإن هؤلاء الثلاثة لهم إله واحد : </a:t>
            </a:r>
            <a:r>
              <a:rPr b="1" lang="ar-SA" sz="3200" spc="-1" strike="noStrike">
                <a:solidFill>
                  <a:srgbClr val="cc0066"/>
                </a:solidFill>
                <a:latin typeface="Arial"/>
              </a:rPr>
              <a:t>( إله  آبائ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كم ) 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2349360"/>
            <a:ext cx="4716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تثليث عند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نصار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981000"/>
            <a:ext cx="9144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SA" sz="4000" spc="-1" strike="noStrike">
                <a:solidFill>
                  <a:srgbClr val="bbe0e3"/>
                </a:solidFill>
                <a:latin typeface="Arial"/>
              </a:rPr>
              <a:t> يستدلون أن الله عزوجل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bbe0e3"/>
                </a:solidFill>
                <a:latin typeface="Arial"/>
              </a:rPr>
              <a:t>استخدم صيغة الجمع ف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bbe0e3"/>
                </a:solidFill>
                <a:latin typeface="Arial"/>
              </a:rPr>
              <a:t>التحدث عن نفسه في مث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bbe0e3"/>
                </a:solidFill>
                <a:latin typeface="Arial"/>
              </a:rPr>
              <a:t>ما ورد في سفر التكوين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Arial"/>
              </a:rPr>
              <a:t>وقال الله نعمل الإنسان 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Arial"/>
              </a:rPr>
              <a:t>الرد عليهم أما ما ورد في سفر التكو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Arial"/>
              </a:rPr>
              <a:t> وهو قول ”( وقال الله نعمل الإنسان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99"/>
                </a:solidFill>
                <a:latin typeface="Arial"/>
              </a:rPr>
              <a:t>فلا يعني أكثر من أنها وردت على صيغة التعظيم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-2530440" y="549360"/>
            <a:ext cx="1408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ستدلون بألفاظ الصورة الموضوعة للمعمو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" فاذهبوا وتلمذوا جميع الأمم وعم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هم باسم الأب والابن والروح القد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رد عليهم: هذه العبارة ( على فرض ورودها حقيقة عن المسيح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فإنها لا تفيد أدنى دلالة على فهم النصارى من أن الله الواحد الأ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فرد هو ثلاثة أقانيم بل هي  صريحة في أن كل واحد من هذه الثلا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و غير الآخر تماماً لأن العطف يقتضي المغاي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المقصود من التعميد باسم الثلا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و التبرك بذكر اسم الله , واسم عيسى , واسم جبريل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أول لإلوهيته , والثاني لنبوته , والثالث لكونه الواسطة بين الإ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الرسول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31960" y="476280"/>
            <a:ext cx="651204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يستدلون بأن القرآن الكريم كالإنجيل ورد فيه الله وكلمته وروح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قال تعالى ( قل نزله روح القد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ن ربك بالحق ليثب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ذين امنوا وهدى وبشرى للمسلمي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رد عليهم : ورد في القرآن الكري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ن المسيح عليه السلام كلمة الل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لكن المقصود من الكلمة هي كلمة   التكوين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كن فيكون : التي يخلق الله بها جميع الخل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-2244600" y="1052640"/>
            <a:ext cx="13544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cc"/>
                </a:solidFill>
                <a:latin typeface="Arial"/>
              </a:rPr>
              <a:t>دحض عقيدة التثليث على ضوء نصوص القرآن الكريم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القرآن الكريم وضح عبودية عيسى – عليه السلام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لله عز وجل الدالة على بشريته 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وأنه عبد لله كسائر الأنبياء – عليهم السلام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وليس إلها قالى تعالى ( لن يستنكف المسيح أن يكون عبدا لل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وضح القرآن الكريم أيضاً أنه رسول ونبي من رب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</a:rPr>
              <a:t>مبلغ رسالة التوحيد , وليس إله , ولا ابن إل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قال تعالى ( إنما المسيح عيسى ابن مريم رسول الله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2520720" y="404640"/>
            <a:ext cx="140889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صفات التي أطلقها القرآن الكري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على الروح القدس – عليه السلام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صف القرآن الكريم عامة الملائكة بالعبود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الروح القدس ملك من الملائكة مرسل من رب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فتشمله صفة العبودية لله عزوجل قال تعالى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(لن يستنكف المسيح أن يكون عبداً لله ولا الملائكة المقربون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صفهم القرآن الكريم بأنهم رسل الله ولم يقل بأنهم آلهة م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لله قال تعالى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( الحمد لله فاطر السموات والأرض جاعل الملائكة رسلاً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صفهم بأنواع العبادة . كالتسبيح والسجود قال تعالى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( فسجد الملائكة كلهم أجمعو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2211840" y="692280"/>
            <a:ext cx="13474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دحض عقيدة التثليث بنصوص من أسفار العهد القديم والجديد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لقد وردت نصوص في أسفار العهد القديم والجديد تنف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عقيدة التثليث ومن هذه النصو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ما ورد في سفر التثنية " إنك قد أريت لتعلم أن الرب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و الإله ليس آخر سوا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في سفر الخروج : أنا الرب إلهك الذي أخرجك من أر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مصر من بيت العبودية , لا يكن لك ألهة أخرى أمام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في سفر التثنية " اسمع يا إسرائيل الرب إلهنا رب </a:t>
            </a:r>
            <a:r>
              <a:rPr b="1" lang="ar-SA" sz="3600" spc="-1" strike="noStrike">
                <a:solidFill>
                  <a:srgbClr val="99cc00"/>
                </a:solidFill>
                <a:latin typeface="Arial"/>
              </a:rPr>
              <a:t>واح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2147040" y="1628640"/>
            <a:ext cx="13522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قد ورد في انجيل يوحنا : قول عيسى عليه السلا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هذه هي الحياة الأبدية أن يعرفوك أنت الإله الحق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حدك ويسوع المسيح الذي أرسلته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يروى متى عن عيسى عليه السلام قوله : إن أباكم واح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الذي في السموا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- وفي إنجيل متى : قال له يسوع اذهب يا شيطا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لأنه مكتوب للرب إلهك تسجد واياه تعب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-2336400" y="476280"/>
            <a:ext cx="13796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إبطال عقيد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ثليث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 بالدليل العقلي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ن اتحاد ثلاثة أقاينم مختلفة الاشخاص أمر غير منط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ولا يستطيع العقل فهمه وإدراكه فكيف يمكن اتحاد ملا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و جبريل مع إنسان وهو عيسى عليه السلام مع إله ليكونو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ثالوث النصرا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أن عيسى عليه السلام قال أنه ليس إله , ونفى الألوه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عن نفسه يترتب عليه ,بطلان الثالوث لأن أحد أركان الثالو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هوعيسى عليه السلام وعيسى يقول إنه إنسان وليس إل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أن عقيدة التثليث عقيدة اجتهادية بحتة مصدرها فهم بع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رؤساء الدين ولا يصح في منطق العقل أو الشرع أن تكو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أمور العقائد من وضع البشر المنقطعين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عن الوح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1974960" y="907920"/>
            <a:ext cx="1305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be0e3"/>
                </a:solidFill>
                <a:latin typeface="Arial"/>
              </a:rPr>
              <a:t>تقويم فكرة المسيح الإله من خلال بحوث المسيحيي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bbe0e3"/>
                </a:solidFill>
                <a:latin typeface="Arial"/>
              </a:rPr>
              <a:t>المعاصرين :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هناك دلائل واضحة تنبئ عن أفول نجم الثالوث المسيح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بزوغ شمس التوحيد مرة أخرى , وذلك من خلال أقو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مفكري المسيح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يقول راشد ل كاريل : إن قراءة الكتاب المقدس أظهرت ل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ن عيسى ليس بإله ولم يدع المسيح الألوهية , ولم يناد بها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2162160" y="260280"/>
            <a:ext cx="13436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ويستخف المؤرخ الأوربي الشهير مستر ولز المسيح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بمن يبعد عن التوحيد في المسيحية ويعتنق عقيدة الثالو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فيقول : من الكفر ومن السخف أن يعتقد الإنسان بنظر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ثالوث وبما أحاط بالمسيح وأمه مريم من خرافات أصبح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راسخة في الدين المسيحي على أن المسي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لم يذكر شيئاً من هذا , وفي لندن تنشط الأبحا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 والدراسات الأكادمية ضد فكرة التألية والتثليث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 ومن هذه الدراسات والأبحاث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كتاب " أسطورة تجسد الإله في المسيح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وقد وجد هذا الكتاب اهتماماً كبيراً لدى الأوساط المسيحية 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Arial"/>
              </a:rPr>
              <a:t> انجلترا لكونه قد اشترك في تأليفه سبعة من علماء اللاهوت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24000" y="1984320"/>
            <a:ext cx="733896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قال تعالى : (لَّقَدْ كَفَرَ الَّذِينَ قَالُواْ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إِنَّ اللّهَ ثَالِثُ ثَلاَثَة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وَمَا مِنْ إِلَـهٍ إِلاَّ إِلَـهٌ وَاحِد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وَإِن لَّمْ يَنتَهُواْ عَمَّا يَقُولُون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لَيَمَسَّنَّ الَّذِينَ كَفَرُواْ مِنْهُمْ عَذَابٌ أَلِيمٌ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[ المائدة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e6e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9973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مفهوم التثليث في اللغة </a:t>
            </a: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من ثلث الاثنين يثلثهما ثلثاً </a:t>
            </a: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:-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صار لهما ثالثا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</a:rPr>
              <a:t>وفي التهذيب </a:t>
            </a: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ثلثت القوم أثلثهم إذا كنت ثالثهم </a:t>
            </a:r>
            <a:r>
              <a:rPr b="1" lang="en-US" sz="48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5000" y="692280"/>
            <a:ext cx="90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: </a:t>
            </a:r>
            <a:r>
              <a:rPr b="1" lang="hi-IN" sz="4400" spc="-1" strike="noStrike">
                <a:solidFill>
                  <a:srgbClr val="bbe0e3"/>
                </a:solidFill>
                <a:latin typeface="Arial"/>
              </a:rPr>
              <a:t>مفهوم التثليث لغة واصطلاحا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: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1690560" y="1052640"/>
            <a:ext cx="12592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bbe0e3"/>
                </a:solidFill>
                <a:latin typeface="Arial"/>
              </a:rPr>
              <a:t>في الاصطلاح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:- جاء في قاموس الكتاب المقد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نؤمن بإله واحد ,الأب ,والابن ,والروح ,القدس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إله واحد جوهر واحد متساويين في القدرة والمج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قال الدكتور بوست في تاريخ الكتاب المقدس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" طبيعة الله عبارة عن ثلاثة أقانيم متساوية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له الأب ,والله الابن ,والله الروح القدس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فالى الأب ينتمي الخلق بواسطة الابن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إلى الإبن الفداء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إلى الروح القدس التطهير 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غير أن الثلاثة الأقانيم تتقاسم جميع الأعمال الإلهية على السو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260280"/>
            <a:ext cx="7788240" cy="9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يزعم النصارى بأن الله ذو 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ثلاثة أقانيم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- الأب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: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ويراد بالأب عندهم : الذات الإلهية مجردة من الاب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الروح القدس وهو بمنزلة الأصل والمبدأ لوجود الاب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الابن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: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وهو كلمة الله المتجسدة وهو المسيح عليه السل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يزعمون أن الابن مساو للأب في الوجود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أن الأب خلق العالم بواسطة الابن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أنه الذي نزل إلى الأرض بالصورة البشرية فداء للبشر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فهو الذي خلص العالم من الخطيئه بقتله على الصلي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- الروح</a:t>
            </a:r>
            <a:r>
              <a:rPr b="1" lang="ar-SA" sz="3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e56d09"/>
                </a:solidFill>
                <a:latin typeface="Arial"/>
              </a:rPr>
              <a:t>القدس :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وهو عندهم مساو للأ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والابن في الذات والجوهر والطب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وهو روح الله الذي يتولى تأييد أتباع المسيح وتطهير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1442520" y="1628640"/>
            <a:ext cx="12398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قد صرح كثير منهم بعدم معقولية التثلي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أنها قضية لا يفهمها العقل ولا يقبلها فمن ذل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قول القس ( توفيق جيد ) : إن الثالوث سر يصعب فهمه وإدراكه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إن من يحاول إدراك سر الثالوث تمام الإدرا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كمن يحاول وضع مياه المحيط كلها في كفه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يقول باسيليوس اسحاق " في كتابه ( الحق 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أجل إن هذا التعليم عن التثليث فوق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دراكن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ولكن عدم إدراكه لا يبط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042920" y="0"/>
            <a:ext cx="705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: </a:t>
            </a:r>
            <a:r>
              <a:rPr b="1" lang="hi-IN" sz="4400" spc="-1" strike="noStrike">
                <a:solidFill>
                  <a:srgbClr val="000099"/>
                </a:solidFill>
                <a:latin typeface="Arial"/>
              </a:rPr>
              <a:t>توضيح معنى التثليث النصران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: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42920" y="836640"/>
            <a:ext cx="7201080" cy="2879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16000" y="3841920"/>
            <a:ext cx="684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لو نظرنا إلى الرسم سنجده يقول 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آب هو الله ، الإبن هو الله ، الروح القدس هو الل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وأيضاً: الآب ليس الإبن ولا الروح القدس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إبن ليس الاب ولا الروح القدس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روح القدس ليس الآب ولا الإب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ذا الجوهر واحد ولكن الشخوصات مختلفة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32480" y="382680"/>
            <a:ext cx="789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: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قانون الإيمان المسيح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: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324000" y="1557360"/>
            <a:ext cx="9468000" cy="83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" نؤمن بإله واحد , وآب ضابط الكل , خالق السموات والأر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ا يرى وما لا يرى , نؤمن برب واحد , يسوع المسيح ابن الله الوح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مولود من الأب قبل كل الدهور , نور من نور , إله حق من إله حق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ولود غير مخلوق مساو للآب في الجوهر , الذي به كان كل شيء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هذا هو الذي من أجلنا نحن البشر ,ومن أجل خلاص نفوسن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نزل من السماء , وتجسد من الروح القدس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ومن مريم العذراء وتأنس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وصلب عنا على عهد بيلاطس النبطي وتألم وقبر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وقام من بين الأموات في اليوم الثالث كما في الكتب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وصعد إلى السموات , وجلس عن يمين أبيه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8:51:43Z</dcterms:created>
  <dc:creator>momd</dc:creator>
  <dc:description/>
  <dc:language>en-US</dc:language>
  <cp:lastModifiedBy>Fahad</cp:lastModifiedBy>
  <dcterms:modified xsi:type="dcterms:W3CDTF">2008-04-26T06:23:23Z</dcterms:modified>
  <cp:revision>5</cp:revision>
  <dc:subject/>
  <dc:title>الشريحة 1</dc:title>
</cp:coreProperties>
</file>