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D819-E3E4-4A20-BE1A-08C2A91C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909-0E71-4494-88D6-89B37C5F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A5D-EFDA-43B4-8E1F-5404BEB9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C6C-E07F-416C-9DFC-F2A29AF0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26E7-5BDA-4CBD-B438-6E0E47B7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BE8-F379-4E3C-8252-2E09A90D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8201-F6F9-4C54-BB62-F8095851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7A1-A88C-45F2-8C1A-81B45D9C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9FC-2A41-4512-9747-B527F564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BA4-1E5A-41A4-88B0-E0C2B534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593-714C-4B23-9A46-E414B68C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713-A285-4D76-B3CE-F50115E1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4C8B-34E3-465C-83CE-69C493A449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149760" y="476280"/>
            <a:ext cx="9779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وأيضاً يأتي في مجده ليدين الأحياء والأمو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الذي ليس لملكه انقضا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نعم نؤمن بالروح القدس الرب المحي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المنبثق من الآب ,نسجد له 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نمجده مع الآب والابن الناطق في الأنبيا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بكنيسة واحد مقدسة جامعة رسول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ونعترف بمعمودية واحدة لمغفرة الخطاي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ننتظر قيامة الأموات وحياة الدهر الآ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والكنائس الثلاثة اليوم: تؤمن بهذا القانو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 وتعتبره أساس عقيدتها .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250920" y="1628640"/>
          <a:ext cx="8642160" cy="3867120"/>
        </p:xfrm>
        <a:graphic>
          <a:graphicData uri="http://schemas.openxmlformats.org/drawingml/2006/table">
            <a:tbl>
              <a:tblPr/>
              <a:tblGrid>
                <a:gridCol w="2318400"/>
                <a:gridCol w="2108880"/>
                <a:gridCol w="2107440"/>
                <a:gridCol w="2107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78629"/>
                          </a:solidFill>
                          <a:latin typeface="Arial"/>
                        </a:rPr>
                        <a:t>البابليون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78629"/>
                          </a:solidFill>
                          <a:latin typeface="Arial"/>
                        </a:rPr>
                        <a:t>الهندوس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78629"/>
                          </a:solidFill>
                          <a:latin typeface="Arial"/>
                        </a:rPr>
                        <a:t>المصريون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ar-SA" sz="2800" spc="-1" strike="noStrike">
                          <a:solidFill>
                            <a:srgbClr val="f78629"/>
                          </a:solidFill>
                          <a:latin typeface="Arial"/>
                        </a:rPr>
                        <a:t>الفينيقيون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له السماء والأرض والبح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رهما ( الخالق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وزيرس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78629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2800" spc="-1" strike="noStrike">
                          <a:solidFill>
                            <a:srgbClr val="f78629"/>
                          </a:solidFill>
                          <a:latin typeface="Arial"/>
                        </a:rPr>
                        <a:t>-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يل( أيالقد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له الشمس والقمر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شنو ( الرازق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زيس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78629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2800" spc="-1" strike="noStrike">
                          <a:solidFill>
                            <a:srgbClr val="f78629"/>
                          </a:solidFill>
                          <a:latin typeface="Arial"/>
                        </a:rPr>
                        <a:t>-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شموز( أي السيد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له العدالة والتشري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يفا ( المدمر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دس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78629"/>
                          </a:solidFill>
                          <a:latin typeface="Arial"/>
                        </a:rPr>
                        <a:t>3</a:t>
                      </a:r>
                      <a:r>
                        <a:rPr b="1" lang="ar-SA" sz="2800" spc="-1" strike="noStrike">
                          <a:solidFill>
                            <a:srgbClr val="f78629"/>
                          </a:solidFill>
                          <a:latin typeface="Arial"/>
                        </a:rPr>
                        <a:t>-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ولم ( أي الأزلي )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2342160" y="201600"/>
            <a:ext cx="45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78629"/>
                </a:solidFill>
                <a:latin typeface="Arial"/>
              </a:rPr>
              <a:t>التثليث عند الوتثي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419640" y="476280"/>
            <a:ext cx="4895640" cy="19224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:: التثليث عند قدم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مصريي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: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160000" y="2997360"/>
            <a:ext cx="13273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تثليث عقيدة معروفة عند قدماء المصريين تدل عليه آثار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الثالوث الفرعوني يتكون من ثلاثة آلهة أو ثلاثة أقانيم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وهي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الأقنوم الأول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: الإله أو زيريس ويسمى الأ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الإعتقاد عنه أنه الإله الأكبر العظيم علة ولادة الاقنوم الثان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هو خالق المخلوقات ورب الارباب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الأقنوم الثاني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: الإله ( هورس ) ويسمى الابن أو الكل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هو ابن الإله ،وهو اله النطق والكلام . و يحمل ذنوب وخطايا العال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1728360" y="2205000"/>
            <a:ext cx="12572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الأقنوم الثالث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:- الإله ( ايزيس ) وتسمى الأم أو الوالدة 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الاعتقادعنها أنها ملكة السماء , وأنها أم الاقنوم الثان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هذا هو الثالوث المصري بأقانيمه الثلاثة لا يكاد يختل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عن الثالوث النصراني شيئ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يقول الأستاذ فريد كامل ( إن المسيحية التي نعرفها اليو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هي في الواقع المسيحية التي صورت وطورت في مص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32600" y="1341360"/>
            <a:ext cx="6606000" cy="8251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:: </a:t>
            </a: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الثالوث عند الهنود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 :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1888560" y="2874960"/>
            <a:ext cx="13107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عرف الهنود بكثرة آلهتهم وتعدد دياناتهم وقد اعتقدو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بثالوث إلهي مكون من ثلاثة اقانيم هي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 الإله ( براهما ) في صورة الخالق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والإله ( فشنو) في صورة الحافظ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والإله ( سيفا ) في صورة الهادم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-1952280" y="60480"/>
            <a:ext cx="129427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ccff"/>
                </a:solidFill>
                <a:latin typeface="Arial"/>
              </a:rPr>
              <a:t>التثليث عند الأمم الأخرى :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كان الرومانيون الوثنيون القدماء يعتقدون بالتثليث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وهو أولاً الله ثم الكلمة ثم الروح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وكذلك الفرس : يعبدون إلهاً مثلث الأقان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 وهم ( أورمزد , ومتراث وأهرمان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فأورمزد الخلاق ,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ومتراث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 ابن الله المخلص والوسيط 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 وأهرمان المهلك . والثالوث الصيني يتكون م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 تي ين : أو الإله المجهول غير المنظو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 تي سز: الشمس والكواكب السيار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تشانح : أرواح الآباء والحكماء والملوك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476280"/>
            <a:ext cx="9144000" cy="10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ccff"/>
                </a:solidFill>
                <a:latin typeface="Arial"/>
              </a:rPr>
              <a:t>اثر الفلسفة في انحراف النصرانية عن التوحيد :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رى الباحثون  أن التثليث في المسيحية من نتائج تفكير الأفلاطون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حديثة , وذلك أن أفلاطون زعيم مدرسة الإسكندرية يرى فيم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يتعلق بالكون ومنشئه أن الله هو منشئ الأشياء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لا يتصف بوصف من أوصاف الحوادث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فليس بجوهر ولا عرض وإن أول شيء صدر من هذا المنشى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هو (( العقل )) ومن العقل انبثقت (( الروح )) التي هي وحدة الأرواح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من هذا الثالوث يصدر كل شيء ومنه يتولد كل ش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هكذا نرى أنه لا فرق بين هذا الاعتقاد الفلسفي وبين عق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ثالوث النصرانيةالتي أقرتها مجامع النصارى يقول ليو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جوتيه 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إن المسيحية تشريت كثيراً من الأراء والأفكار الفلسفية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يونان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252360" y="174600"/>
            <a:ext cx="9396360" cy="116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كيفية انتقال التثليث إلى المسيحية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: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cc"/>
                </a:solidFill>
                <a:latin typeface="Arial"/>
              </a:rPr>
              <a:t>عندما دخل بولس المسيحية وكان ملماً بالفلسفة الإغريق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التي كانت تمثلها مدرسة الإسكندرية , واغتنم وض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المسيحيين وحالتهم المؤلمة أوجد لهم أفكاراً ونظريات جديد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cc"/>
                </a:solidFill>
                <a:latin typeface="Arial"/>
              </a:rPr>
              <a:t>و لقد استطاع بولس أن يكون مسيحية جدي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cc"/>
                </a:solidFill>
                <a:latin typeface="Arial"/>
              </a:rPr>
              <a:t>على حساب عيسى عليه السلام واستطاع أن ينشئ لها عقي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cc"/>
                </a:solidFill>
                <a:latin typeface="Arial"/>
              </a:rPr>
              <a:t>لا تمت لعقيدة المسيح عليه السلام بصلة وبولس هو يهود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cc"/>
                </a:solidFill>
                <a:latin typeface="Arial"/>
              </a:rPr>
              <a:t>النشأة , رواقي الثقافة , روماني الفكرة احتل مكانة في المسيح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cc"/>
                </a:solidFill>
                <a:latin typeface="Arial"/>
              </a:rPr>
              <a:t>وأصبح قديساً يغير ويبدل كيفما شاء رغم انه ليس من تلامي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cc"/>
                </a:solidFill>
                <a:latin typeface="Arial"/>
              </a:rPr>
              <a:t>المسيح ولا من حوارييه .واستطاع بكل دهاء وحيلة أن يوج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cc"/>
                </a:solidFill>
                <a:latin typeface="Arial"/>
              </a:rPr>
              <a:t>في المجتمع عقيدة جديدة تناهض عقيدة التوحيد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66"/>
                </a:solidFill>
                <a:latin typeface="Arial"/>
              </a:rPr>
              <a:t>اختلاف النصارى في تفسير الثالوث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: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ملكانية يفسرون الأقانيم بالصفات , فالآب يفسرونه بصفة الوجود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الابن بالعلم والروح القدس بالحياة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قد صرحت الملكانية بإثبات ثلاثة آله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قد رد القران على ما ذهب إليه الملكانيه وما سارت عليه الكاثوليكية والبروتستانتية ولقد كفرهم الله بقولهم هذا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قال تعالى : ( لقد كفر الذين قالوا إن الله ثالث ثلاثة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تقول اليعقوبية " بالأقانيم الثلاثة , وتقول أن الكلمة انقلبت لحماً ودماً فصار الإله هو المسيح , وهو الظاهر بجسده, بل هو هو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لقد أخبرنا عنهم القرآن الكريم , قال تعالى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( لقد كفر الذين قالوا إن الله هو المسيح ابن مريم 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الكنيسة الارثوذوكسية اليوم امتداد في رأيها لما ذهبت إليه هذه الفرق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33360" y="0"/>
            <a:ext cx="881064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أدلة النصارى على التثليث وبيان بطلانها :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يستدلون بورود إله أو صفة من صفات الله سبحانه وتعالى ثلاث مرات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كما ورد في سفر الخروج : " وقال الله أيضاً لموسى هكذا تقول لبني إسرائ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هوه إله أبائكم , إله إبراهيم , وإله إسحاق , وإله يعقوب أرسلني إليكم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رد عليهم يقال هنا : إن لفظة  " إله آبائكم  " في النص أريد بها الألفاظ الثلاثة التي جاءت بعدها أي إن الآباء هم إبراهيم وإسحاق ويعقوب . أي إن ما سبق إجماله في الكلمة الأولى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تم تفصيلة وبيانه بعد ذلك بقوله : إله إبراهيم وإله إسحاق , وإله يعقوب . أي أن الآباء هم هؤلاء الثلاثة , وإن هؤلاء الثلاثة لهم إله واحد : </a:t>
            </a:r>
            <a:r>
              <a:rPr b="1" lang="ar-SA" sz="3200" spc="-1" strike="noStrike">
                <a:solidFill>
                  <a:srgbClr val="cc0066"/>
                </a:solidFill>
                <a:latin typeface="Arial"/>
              </a:rPr>
              <a:t>( إله  آبائ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كم ) 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27640" y="2349360"/>
            <a:ext cx="4716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0000"/>
                </a:solidFill>
                <a:latin typeface="Arial"/>
              </a:rPr>
              <a:t>التثليث عن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0000"/>
                </a:solidFill>
                <a:latin typeface="Arial"/>
              </a:rPr>
              <a:t>النصار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98100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4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A" sz="4000" spc="-1" strike="noStrike">
                <a:solidFill>
                  <a:srgbClr val="bbe0e3"/>
                </a:solidFill>
                <a:latin typeface="Arial"/>
              </a:rPr>
              <a:t> يستدلون أن الله عزوجل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bbe0e3"/>
                </a:solidFill>
                <a:latin typeface="Arial"/>
              </a:rPr>
              <a:t>استخدم صيغة الجمع ف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bbe0e3"/>
                </a:solidFill>
                <a:latin typeface="Arial"/>
              </a:rPr>
              <a:t>التحدث عن نفسه في مث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bbe0e3"/>
                </a:solidFill>
                <a:latin typeface="Arial"/>
              </a:rPr>
              <a:t>ما ورد في سفر التكوين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Arial"/>
              </a:rPr>
              <a:t>وقال الله نعمل الإنسان 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Arial"/>
              </a:rPr>
              <a:t>الرد عليهم أما ما ورد في سفر التكو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Arial"/>
              </a:rPr>
              <a:t> وهو قول ”( وقال الله نعمل الإنسان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Arial"/>
              </a:rPr>
              <a:t>فلا يعني أكثر من أنها وردت على صيغة التعظيم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-2530440" y="549360"/>
            <a:ext cx="14086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ستدلون بألفاظ الصورة الموضوعة للمعمود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" فاذهبوا وتلمذوا جميع الأمم وعم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هم باسم الأب والابن والروح القد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رد عليهم: هذه العبارة ( على فرض ورودها حقيقة عن المسيح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فإنها لا تفيد أدنى دلالة على فهم النصارى من أن الله الواحد الأح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فرد هو ثلاثة أقانيم بل هي  صريحة في أن كل واحد من هذه الثلاث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هو غير الآخر تماماً لأن العطف يقتضي المغاير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المقصود من التعميد باسم الثلاث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هو التبرك بذكر اسم الله , واسم عيسى , واسم جبريل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أول لإلوهيته , والثاني لنبوته , والثالث لكونه الواسطة بين الإل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الرسول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631960" y="476280"/>
            <a:ext cx="651204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- ويستدلون بأن القرآن الكريم كالإنجيل ورد فيه الله وكلمته وروح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قال تعالى ( قل نزله روح القد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ن ربك بالحق ليثب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ذين امنوا وهدى وبشرى للمسلمي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رد عليهم : ورد في القرآن الكري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ن المسيح عليه السلام كلمة الل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لكن المقصود من الكلمة هي كلمة   التكوين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كن فيكون : التي يخلق الله بها جميع الخل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2244600" y="1052640"/>
            <a:ext cx="13544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cc"/>
                </a:solidFill>
                <a:latin typeface="Arial"/>
              </a:rPr>
              <a:t>دحض عقيدة التثليث على ضوء نصوص القرآن الكريم :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القرآن الكريم وضح عبودية عيسى – عليه السلام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لله عز وجل الدالة على بشريته 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وأنه عبد لله كسائر الأنبياء – عليهم السلام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وليس إلها قالى تعالى ( لن يستنكف المسيح أن يكون عبدا لله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وضح القرآن الكريم أيضاً أنه رسول ونبي من رب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مبلغ رسالة التوحيد , وليس إله , ولا ابن إل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قال تعالى ( إنما المسيح عيسى ابن مريم رسول الله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-2520720" y="404640"/>
            <a:ext cx="14088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صفات التي أطلقها القرآن الكري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على الروح القدس – عليه السلام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وصف القرآن الكريم عامة الملائكة بالعبود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والروح القدس ملك من الملائكة مرسل من رب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فتشمله صفة العبودية لله عزوجل قال تعالى :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(لن يستنكف المسيح أن يكون عبداً لله ولا الملائكة المقربون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وصفهم القرآن الكريم بأنهم رسل الله ولم يقل بأنهم آلهة م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الله قال تعالى :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( الحمد لله فاطر السموات والأرض جاعل الملائكة رسلاً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وصفهم بأنواع العبادة . كالتسبيح والسجود قال تعالى :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( فسجد الملائكة كلهم أجمعون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-2211840" y="692280"/>
            <a:ext cx="13474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دحض عقيدة التثليث بنصوص من أسفار العهد القديم والجديد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لقد وردت نصوص في أسفار العهد القديم والجديد تنف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عقيدة التثليث ومن هذه النصو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- ما ورد في سفر التثنية " إنك قد أريت لتعلم أن الر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هو الإله ليس آخر سوا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- وفي سفر الخروج : أنا الرب إلهك الذي أخرجك من أر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صر من بيت العبودية , لا يكن لك ألهة أخرى أمام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- وفي سفر التثنية " اسمع يا إسرائيل الرب إلهنا رب </a:t>
            </a:r>
            <a:r>
              <a:rPr b="1" lang="ar-SA" sz="3600" spc="-1" strike="noStrike">
                <a:solidFill>
                  <a:srgbClr val="99cc00"/>
                </a:solidFill>
                <a:latin typeface="Arial"/>
              </a:rPr>
              <a:t>واح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2147040" y="1628640"/>
            <a:ext cx="13522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- وقد ورد في انجيل يوحنا : قول عيسى عليه السلا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هذه هي الحياة الأبدية أن يعرفوك أنت الإله الحقيق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وحدك ويسوع المسيح الذي أرسلته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- ويروى متى عن عيسى عليه السلام قوله : إن أباكم 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الذي في السموا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- وفي إنجيل متى : قال له يسوع اذهب يا شيطان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لأنه مكتوب للرب إلهك تسجد واياه تعب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-2336400" y="476280"/>
            <a:ext cx="13796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إبطال عقيدة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ثليث</a:t>
            </a: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 بالدليل العقلي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ن اتحاد ثلاثة أقاينم مختلفة الاشخاص أمر غير منطق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ولا يستطيع العقل فهمه وإدراكه فكيف يمكن اتحاد ملا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هو جبريل مع إنسان وهو عيسى عليه السلام مع إله ليكونو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ثالوث النصران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أن عيسى عليه السلام قال أنه ليس إله , ونفى الألوه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عن نفسه يترتب عليه ,بطلان الثالوث لأن أحد أركان الثالو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هوعيسى عليه السلام وعيسى يقول إنه إنسان وليس إ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أن عقيدة التثليث عقيدة اجتهادية بحتة مصدرها فهم بع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رؤساء الدين ولا يصح في منطق العقل أو الشرع أن تكو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مور العقائد من وضع البشر المنقطعين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عن الوح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1974960" y="907920"/>
            <a:ext cx="1305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be0e3"/>
                </a:solidFill>
                <a:latin typeface="Arial"/>
              </a:rPr>
              <a:t>تقويم فكرة المسيح الإله من خلال بحوث المسيحيي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be0e3"/>
                </a:solidFill>
                <a:latin typeface="Arial"/>
              </a:rPr>
              <a:t>المعاصرين :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هناك دلائل واضحة تنبئ عن أفول نجم الثالوث المسيح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وبزوغ شمس التوحيد مرة أخرى , وذلك من خلال أقو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مفكري المسيح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يقول راشد ل كاريل : إن قراءة الكتاب المقدس أظهرت ل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ن عيسى ليس بإله ولم يدع المسيح الألوهية , ولم يناد بها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2162160" y="260280"/>
            <a:ext cx="13436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يستخف المؤرخ الأوربي الشهير مستر ولز المسيح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بمن يبعد عن التوحيد في المسيحية ويعتنق عقيدة الثالو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فيقول : من الكفر ومن السخف أن يعتقد الإنسان بنظر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ثالوث وبما أحاط بالمسيح وأمه مريم من خرافات أصبح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راسخة في الدين المسيحي على أن المسي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لم يذكر شيئاً من هذا , وفي لندن تنشط الأبحا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 والدراسات الأكادمية ضد فكرة التألية والتثليث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 ومن هذه الدراسات والأبحا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كتاب " أسطورة تجسد الإله في المسيح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وقد وجد هذا الكتاب اهتماماً كبيراً لدى الأوساط المسيحية ف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 انجلترا لكونه قد اشترك في تأليفه سبعة من علماء اللاهو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24000" y="1984320"/>
            <a:ext cx="733896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قال تعالى : (لَّقَدْ كَفَرَ الَّذِينَ قَالُواْ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إِنَّ اللّهَ ثَالِثُ ثَلاَثَة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وَمَا مِنْ إِلَـهٍ إِلاَّ إِلَـهٌ وَاحِد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وَإِن لَّمْ يَنتَهُواْ عَمَّا يَقُولُون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لَيَمَسَّنَّ الَّذِينَ كَفَرُواْ مِنْهُمْ عَذَابٌ أَلِيمٌ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[ المائدة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e6e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99736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مفهوم التثليث في اللغة </a:t>
            </a:r>
            <a:r>
              <a:rPr b="1" lang="en-US" sz="4800" spc="-1" strike="noStrike">
                <a:solidFill>
                  <a:srgbClr val="bbe0e3"/>
                </a:solidFill>
                <a:latin typeface="Arial"/>
              </a:rPr>
              <a:t>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من ثلث الاثنين يثلثهما ثلثاً </a:t>
            </a:r>
            <a:r>
              <a:rPr b="1" lang="en-US" sz="4800" spc="-1" strike="noStrike">
                <a:solidFill>
                  <a:srgbClr val="bbe0e3"/>
                </a:solidFill>
                <a:latin typeface="Arial"/>
              </a:rPr>
              <a:t>:-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صار لهما ثالثا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وفي التهذيب </a:t>
            </a:r>
            <a:r>
              <a:rPr b="1" lang="en-US" sz="4800" spc="-1" strike="noStrike">
                <a:solidFill>
                  <a:srgbClr val="bbe0e3"/>
                </a:solidFill>
                <a:latin typeface="Arial"/>
              </a:rPr>
              <a:t>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ثلثت القوم أثلثهم إذا كنت ثالثهم </a:t>
            </a:r>
            <a:r>
              <a:rPr b="1" lang="en-US" sz="48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5000" y="692280"/>
            <a:ext cx="906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: </a:t>
            </a:r>
            <a:r>
              <a:rPr b="1" lang="hi-IN" sz="4400" spc="-1" strike="noStrike">
                <a:solidFill>
                  <a:srgbClr val="bbe0e3"/>
                </a:solidFill>
                <a:latin typeface="Arial"/>
              </a:rPr>
              <a:t>مفهوم التثليث لغة واصطلاحا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: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1690560" y="1052640"/>
            <a:ext cx="12592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bbe0e3"/>
                </a:solidFill>
                <a:latin typeface="Arial"/>
              </a:rPr>
              <a:t>في الاصطلاح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:- جاء في قاموس الكتاب المقدس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نؤمن بإله واحد ,الأب ,والابن ,والروح ,القدس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إله واحد جوهر واحد متساويين في القدرة والمج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قال الدكتور بوست في تاريخ الكتاب المقدس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" طبيعة الله عبارة عن ثلاثة أقانيم متساوية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له الأب ,والله الابن ,والله الروح القدس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فالى الأب ينتمي الخلق بواسطة الابن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إلى الإبن الفداء 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إلى الروح القدس التطهير 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غير أن الثلاثة الأقانيم تتقاسم جميع الأعمال الإلهية على السو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4360" y="260280"/>
            <a:ext cx="7788240" cy="9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ويزعم النصارى بأن الله ذو </a:t>
            </a:r>
            <a:r>
              <a:rPr b="1" lang="ar-SA" sz="3200" spc="-1" strike="noStrike">
                <a:solidFill>
                  <a:srgbClr val="e56d09"/>
                </a:solidFill>
                <a:latin typeface="Arial"/>
              </a:rPr>
              <a:t>ثلاثة أقانيم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56d09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e56d09"/>
                </a:solidFill>
                <a:latin typeface="Arial"/>
              </a:rPr>
              <a:t>- الأب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e56d09"/>
                </a:solidFill>
                <a:latin typeface="Arial"/>
              </a:rPr>
              <a:t>: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ويراد بالأب عندهم : الذات الإلهية مجردة من الاب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والروح القدس وهو بمنزلة الأصل والمبدأ لوجود الاب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56d09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e56d09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e56d09"/>
                </a:solidFill>
                <a:latin typeface="Arial"/>
              </a:rPr>
              <a:t>الابن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e56d09"/>
                </a:solidFill>
                <a:latin typeface="Arial"/>
              </a:rPr>
              <a:t>: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وهو كلمة الله المتجسدة وهو المسيح عليه السل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ويزعمون أن الابن مساو للأب في الوجود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وأن الأب خلق العالم بواسطة الابن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وأنه الذي نزل إلى الأرض بالصورة البشرية فداء للبشر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فهو الذي خلص العالم من الخطيئه بقتله على الصلي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56d09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e56d09"/>
                </a:solidFill>
                <a:latin typeface="Arial"/>
              </a:rPr>
              <a:t>- الروح</a:t>
            </a:r>
            <a:r>
              <a:rPr b="1" lang="ar-SA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e56d09"/>
                </a:solidFill>
                <a:latin typeface="Arial"/>
              </a:rPr>
              <a:t>القدس :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وهو عندهم مساو للأ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والابن في الذات والجوهر والطب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وهو روح الله الذي يتولى تأييد أتباع المسيح وتطهير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1442520" y="1628640"/>
            <a:ext cx="12398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قد صرح كثير منهم بعدم معقولية التثلي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أنها قضية لا يفهمها العقل ولا يقبلها فمن ذ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قول القس ( توفيق جيد ) : إن الثالوث سر يصعب فهمه وإدراكه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إن من يحاول إدراك سر الثالوث تمام الإدرا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كمن يحاول وضع مياه المحيط كلها في كفه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يقول باسيليوس اسحاق " في كتابه ( الحق 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أجل إن هذا التعليم عن التثليث فوق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دراكنا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لكن عدم إدراكه لا يبط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42920" y="0"/>
            <a:ext cx="705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: </a:t>
            </a:r>
            <a:r>
              <a:rPr b="1" lang="hi-IN" sz="4400" spc="-1" strike="noStrike">
                <a:solidFill>
                  <a:srgbClr val="000099"/>
                </a:solidFill>
                <a:latin typeface="Arial"/>
              </a:rPr>
              <a:t>توضيح معنى التثليث النصراني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: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42920" y="836640"/>
            <a:ext cx="7201080" cy="2879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16000" y="3841920"/>
            <a:ext cx="6840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و نظرنا إلى الرسم سنجده يقول التا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آب هو الله ، الإبن هو الله ، الروح القدس هو الل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وأيضاً: الآب ليس الإبن ولا الروح القدس 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إبن ليس الاب ولا الروح القدس 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روح القدس ليس الآب ولا الإب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إذا الجوهر واحد ولكن الشخوصات مختلفة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32480" y="382680"/>
            <a:ext cx="789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: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قانون الإيمان المسيحي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 :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324000" y="1557360"/>
            <a:ext cx="9468000" cy="83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" نؤمن بإله واحد , وآب ضابط الكل , خالق السموات والأر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ا يرى وما لا يرى , نؤمن برب واحد , يسوع المسيح ابن الله الوح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مولود من الأب قبل كل الدهور , نور من نور , إله حق من إله حق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ولود غير مخلوق مساو للآب في الجوهر , الذي به كان كل شيء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هذا هو الذي من أجلنا نحن البشر ,ومن أجل خلاص نفوسنا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نزل من السماء , وتجسد من الروح القدس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ومن مريم العذراء وتأنس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وصلب عنا على عهد بيلاطس النبطي وتألم وقبر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وقام من بين الأموات في اليوم الثالث كما في الكتب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وصعد إلى السموات , وجلس عن يمين أبيه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8:51:43Z</dcterms:created>
  <dc:creator>momd</dc:creator>
  <dc:description/>
  <dc:language>en-US</dc:language>
  <cp:lastModifiedBy>Fahad</cp:lastModifiedBy>
  <dcterms:modified xsi:type="dcterms:W3CDTF">2008-04-26T06:23:23Z</dcterms:modified>
  <cp:revision>5</cp:revision>
  <dc:subject/>
  <dc:title>الشريحة 1</dc:title>
</cp:coreProperties>
</file>