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88A-1A96-4DA3-9A6E-FF8D261D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547-784E-4E1F-A310-F47F10FD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2BF-4A8C-4718-9913-DF5ECF00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131-5E44-4FBB-A281-B91F549E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0F9F1-A9A0-44CA-A538-25D55DF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F6B55-839B-4395-98CA-5A8F4D4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D0377-1E3D-42E1-9A9D-586DB89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1A37-A14B-4FDA-BD49-07E0782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69294-4363-447A-91DA-2518426C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41159-15C1-4A4B-B4AB-F0B669C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8E4D5-0270-4004-BEC1-3260CD2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502-3E06-4272-81FA-D8A4FDE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7F57-2097-414F-AB8C-016F8D1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A97AC-53EB-4252-A6CB-C297004C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6A60E-3622-4FDE-BA61-6A9313B0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9FC5C-7835-4FFD-BB74-4C2B08E7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DF243-883C-47F0-9C30-6CD2BB3D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CDC5-2365-4C9C-9750-2F157CC9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5920-3517-4CAC-ABC9-402E241A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3E97-118A-4CD7-AC06-6B81E56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B539-48DE-4618-AEFA-2AFC6D2A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FCD1-8435-4485-AFA9-0397F6A6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2F5-08BA-42F7-B01B-CD1532EA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D81D-B123-4C17-8AC7-B0275B6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49DD-A765-4744-821D-7B6866E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6031-F0A3-4702-901C-4A08CD5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9FE6-FDA8-4BFC-B3C2-383BD25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B527-7B76-4D04-960A-663722C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45EB-10D5-46E9-9CAE-B4F5480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B1D0-0C11-40EA-9ACC-523EB24D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0483F-62D1-4D07-9CDD-1D9D7DC1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A0933-5E95-4B3C-824B-C2269F8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3052A-E841-4405-9A7D-08430CE3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B55-46C6-4558-84CD-5F843B10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2AE02-BB47-424C-B07C-ABB3B698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14649-0F06-499C-B29D-BC0078F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6DB865-BD87-4CF6-8F92-84AF4CA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C8891-CDCD-458D-AC3A-09D10AD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F0B7A-AE05-4C51-8663-F0EB5EE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3FE759-0BF1-4CA4-A7EC-CC847D8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BD266-179E-48B1-B632-6E7CF28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623CF-9F5C-4CAF-90CF-AF456B79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AB99D-ED0D-4721-BA44-F5EDCC8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7604F-4779-44CB-9B73-A8D58CE9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C21-C54B-421D-A05F-99389D6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29653-A1BC-4E20-B159-E40DE1D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EF455-BC4F-4472-BD11-C1626E00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1C7C1-BA56-403B-A176-6EAA8B5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71A2D-ADC4-4495-BA36-1C427DA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DE611-4E17-417B-A000-5C0E7C5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EB488-9809-43F5-9C71-3B654B24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25AF4-3BA5-4237-8629-E3FC60A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7EAC0-A82E-4276-A9FD-7992F38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BC6F7-45C4-49EF-B22B-4A0BAA3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5A087-FC34-44C0-8D6F-F3C0B0AF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939-791E-449A-B30F-DA5B286F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310A6-FC15-4629-BCB6-1A07BFF3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E4E46-7DE0-4ACD-94C9-A09ED9BE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30528-6546-4F14-A7C6-4A85CD2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08B62-A61A-46B0-92F9-DDD7F3AA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694E2-A9E1-46FE-8F99-4226CF76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00DFF-7E95-4FFA-BDA4-ACC7576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0F830-D6FA-46FF-8A51-8958CFCA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24569-E54D-4A3E-A7CC-DF176BD0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EC57F-B5A1-4E12-BD23-8FB20FF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88E61-683F-4736-A88A-0A47B7B0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77A-E47D-4A22-81A4-9464225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B4878-CE00-4180-A03E-3C31B61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50C53-44E7-4AF3-BDCF-C6D1F981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EFF23-58EB-4A22-8203-4A0306B3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19C-7738-45DF-BCF3-AD3403E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FE0-5CF1-47EE-86BF-33B83EB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CE69-62D6-4A08-AC2D-4CBC5AE9DC30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255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E882-88FC-4752-9D9A-1B55CE9474A1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3973-2662-4FF9-B412-44F9EA47F0B2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F90-1A27-48FB-9C9D-5F421F234C4D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32E-64DF-4192-BF1D-7175426A89E3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AE96-84DB-4977-A1E1-C27D1B360A63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571;&#1585;&#1608;&#1593;%20&#1604;&#1581;&#1592;&#1575;&#1578;%20&#1575;&#1604;&#1588;&#1610;&#1582;%20&#1571;&#1581;&#1605;&#1583;%20&#1583;&#1610;&#1583;&#1575;&#1578;%20-%20&#1575;&#1604;&#1578;&#1579;&#1604;&#1610;&#1579;%20&#1601;&#1610;%203%20&#1583;&#1602;&#1575;&#1574;&#1602;%20-%20YouTube.fl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ربع نص 1"/>
          <p:cNvSpPr/>
          <p:nvPr/>
        </p:nvSpPr>
        <p:spPr>
          <a:xfrm>
            <a:off x="-123480" y="2741760"/>
            <a:ext cx="93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</a:rPr>
              <a:t>عـقيـدة التـثـليث عنـد النصـارى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مستطيل 1"/>
          <p:cNvGrpSpPr/>
          <p:nvPr/>
        </p:nvGrpSpPr>
        <p:grpSpPr>
          <a:xfrm>
            <a:off x="1146600" y="414360"/>
            <a:ext cx="6971760" cy="841320"/>
            <a:chOff x="1146600" y="414360"/>
            <a:chExt cx="6971760" cy="841320"/>
          </a:xfrm>
        </p:grpSpPr>
        <p:pic>
          <p:nvPicPr>
            <p:cNvPr id="282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987560" y="414360"/>
              <a:ext cx="529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46600" y="571680"/>
              <a:ext cx="69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    المطلب الثاني :أصل عقيدة التثليث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4" name="Rectangle 1"/>
          <p:cNvSpPr/>
          <p:nvPr/>
        </p:nvSpPr>
        <p:spPr>
          <a:xfrm>
            <a:off x="500040" y="1872720"/>
            <a:ext cx="82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عقيدة التثليث أدخلها بولس على الديانة المسيحية متأثرا بآلهة المصريين الثلاثة إذ أنه عاش وتعلم في الإسكندرية. وهي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. أوزيروس "الأب"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حوريس"الأبن".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إيزيس.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لكنه حولها إلى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الأب.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 الإبن .      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 روح القد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Arial"/>
              </a:rPr>
              <a:t>كما أنه قد يكون تأثر بعقيدة البرهميين الذين يزعمون التثليث ويسمونه (تري مورتي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مستطيل 1"/>
          <p:cNvGrpSpPr/>
          <p:nvPr/>
        </p:nvGrpSpPr>
        <p:grpSpPr>
          <a:xfrm>
            <a:off x="92520" y="480960"/>
            <a:ext cx="9030600" cy="841320"/>
            <a:chOff x="92520" y="480960"/>
            <a:chExt cx="9030600" cy="841320"/>
          </a:xfrm>
        </p:grpSpPr>
        <p:pic>
          <p:nvPicPr>
            <p:cNvPr id="286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268280" y="480960"/>
              <a:ext cx="6675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92520" y="642960"/>
              <a:ext cx="903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المطلب الثالث :عجز النصارى عن فهم بدعة التثليث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8" name="Rectangle 1"/>
          <p:cNvSpPr/>
          <p:nvPr/>
        </p:nvSpPr>
        <p:spPr>
          <a:xfrm>
            <a:off x="785880" y="20102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حتارى النصارى في فهم عقيدة التثليث لأنها أصلا تنافي العقل ، فها هو بولس يقول عن التثليث : "الكلمة والروح صادران من الله أزلا"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يقول آموري : "الأقانيم الثلاثة ليست هي الله بل هي كائنات سامية ، خلقها الله أولا ... لتقوم بتنفيذ أغراضه"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C:\Users\dgl\Desktop\CA6N3Q5XCAGNEXYUCAA76VVXCA0ONF2ICAF4V3JXCAP2C3GVCARFXKNSCAA70WPWCAC7JPJPCA3LN6EOCAWGFLPXCARM8RLXCAZ26XMZCAE3CD41CAIWD1HICAUBY76RCAYGD7R0CAXLRLC7CAV3XTC7CAC5A29J.jpg"/>
          <p:cNvPicPr/>
          <p:nvPr/>
        </p:nvPicPr>
        <p:blipFill>
          <a:blip r:embed="rId1"/>
          <a:stretch/>
        </p:blipFill>
        <p:spPr>
          <a:xfrm>
            <a:off x="1494000" y="706320"/>
            <a:ext cx="6297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مستطيل 1"/>
          <p:cNvGrpSpPr/>
          <p:nvPr/>
        </p:nvGrpSpPr>
        <p:grpSpPr>
          <a:xfrm>
            <a:off x="928080" y="414360"/>
            <a:ext cx="7305480" cy="1268280"/>
            <a:chOff x="928080" y="414360"/>
            <a:chExt cx="7305480" cy="1268280"/>
          </a:xfrm>
        </p:grpSpPr>
        <p:pic>
          <p:nvPicPr>
            <p:cNvPr id="291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700280" y="414360"/>
              <a:ext cx="57610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928080" y="571680"/>
              <a:ext cx="7305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fffff"/>
                  </a:solidFill>
                  <a:uFillTx/>
                  <a:latin typeface="Constantia"/>
                </a:rPr>
                <a:t>      المبحث الثالث : دحض عقيدة التثليث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 المطلب الأول : إبطال التثليث بأقوال المسيح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3" name="Rectangle 1"/>
          <p:cNvSpPr/>
          <p:nvPr/>
        </p:nvSpPr>
        <p:spPr>
          <a:xfrm>
            <a:off x="1143000" y="2156400"/>
            <a:ext cx="70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مثال على ذلك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رد في الإصحاح السابع عشر من إنجيل يوحنا قول المسيح : "وهذه حياة الأبد أن يعرفوك أنت الإله الحق وحدك والذي أرسلته يسوع المسيح" فبين هنا أن الحياة الأبدية هي معرفة الله بأنه هو الواحد الحق وأنه ليس سوى رسولا له . ولم يذكر الأقانيم بشيء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مستطيل 1"/>
          <p:cNvGrpSpPr/>
          <p:nvPr/>
        </p:nvGrpSpPr>
        <p:grpSpPr>
          <a:xfrm>
            <a:off x="350280" y="463680"/>
            <a:ext cx="8294400" cy="834840"/>
            <a:chOff x="350280" y="463680"/>
            <a:chExt cx="8294400" cy="834840"/>
          </a:xfrm>
        </p:grpSpPr>
        <p:pic>
          <p:nvPicPr>
            <p:cNvPr id="295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487520" y="463680"/>
              <a:ext cx="60228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50280" y="619200"/>
              <a:ext cx="82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   المطلب الثاني : نكران العقل لعقيدة التثليث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7" name="Rectangle 1"/>
          <p:cNvSpPr/>
          <p:nvPr/>
        </p:nvSpPr>
        <p:spPr>
          <a:xfrm>
            <a:off x="571680" y="144756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تقسيمهم للأقانيم الثلاثة يوضح لنا أنهم جعلوا لكل منهم وظيفة يختص بها عن غيره ، وأنه إذا تفرد أحد هذه الأقانيم بنفسه لا تكون له الألوهية، فلابد من اجتماع الثلاثة لتحصل هذه الألوهية ، كما أن التركيب في ذات الله سبحانه محال لأن المركب بحاجة لجميع أجزائه إذن فهو حادث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Arial"/>
              </a:rPr>
              <a:t>وعلى زعمهم يكون الأب مكون الكائنات فقط والابن المخلص وروح القدس الذي يبحث الحياة وكل منهما عاجز عن فعل غيره فيكف يتكون الله تعالى من أقانيم عاجزة ؟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مربع نص 1"/>
          <p:cNvGrpSpPr/>
          <p:nvPr/>
        </p:nvGrpSpPr>
        <p:grpSpPr>
          <a:xfrm>
            <a:off x="2963160" y="1268280"/>
            <a:ext cx="3344760" cy="1024200"/>
            <a:chOff x="2963160" y="1268280"/>
            <a:chExt cx="3344760" cy="1024200"/>
          </a:xfrm>
        </p:grpSpPr>
        <p:pic>
          <p:nvPicPr>
            <p:cNvPr id="299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114720" y="1268280"/>
              <a:ext cx="3041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963160" y="1428840"/>
              <a:ext cx="334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Constantia"/>
                </a:rPr>
                <a:t>   </a:t>
              </a:r>
              <a:r>
                <a:rPr b="0" lang="ar-SA" sz="4000" spc="-1" strike="noStrike" u="sng">
                  <a:solidFill>
                    <a:srgbClr val="f0d7eb"/>
                  </a:solidFill>
                  <a:uFillTx/>
                  <a:latin typeface="Constantia"/>
                  <a:hlinkClick r:id="rId2"/>
                </a:rPr>
                <a:t>مقطع</a:t>
              </a:r>
              <a:r>
                <a:rPr b="0" lang="ar-SA" sz="4000" spc="-1" strike="noStrike">
                  <a:solidFill>
                    <a:srgbClr val="ffffff"/>
                  </a:solidFill>
                  <a:latin typeface="Constantia"/>
                </a:rPr>
                <a:t> فيديو   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مربع نص 1"/>
          <p:cNvSpPr/>
          <p:nvPr/>
        </p:nvSpPr>
        <p:spPr>
          <a:xfrm>
            <a:off x="910800" y="2444760"/>
            <a:ext cx="738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onstantia"/>
              </a:rPr>
              <a:t>تعالى الله عما يقولون علواً كبيرا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مربع نص 2"/>
          <p:cNvSpPr/>
          <p:nvPr/>
        </p:nvSpPr>
        <p:spPr>
          <a:xfrm>
            <a:off x="247680" y="56815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إعداد الطالبة /أشواق الحربي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714240" y="1270440"/>
            <a:ext cx="77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L-Mohanad"/>
                <a:cs typeface="Calibri"/>
              </a:rPr>
              <a:t>أنزل الله عز وجل الإنجيل على عيسى عليه السلام ،فجاءت شريعته مكملة لشريعة نبي الله موسى عليه السلام ، والنصرانية كغيرها من الديانات نالها التحريف والتبديل الذي نتج عنه الكثير من العقائد الفاسدة ومنها التثليث وسوف نوضحه في هذا البحث بإذن الله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Rectangle 1"/>
          <p:cNvGrpSpPr/>
          <p:nvPr/>
        </p:nvGrpSpPr>
        <p:grpSpPr>
          <a:xfrm>
            <a:off x="914400" y="176760"/>
            <a:ext cx="7029360" cy="1191240"/>
            <a:chOff x="914400" y="176760"/>
            <a:chExt cx="7029360" cy="1191240"/>
          </a:xfrm>
        </p:grpSpPr>
        <p:pic>
          <p:nvPicPr>
            <p:cNvPr id="255" name="Rectangle 1" descr=""/>
            <p:cNvPicPr/>
            <p:nvPr/>
          </p:nvPicPr>
          <p:blipFill>
            <a:blip r:embed="rId1"/>
            <a:stretch/>
          </p:blipFill>
          <p:spPr>
            <a:xfrm>
              <a:off x="914400" y="201600"/>
              <a:ext cx="7029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71720" y="17676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ffffff"/>
                  </a:solidFill>
                  <a:uFillTx/>
                  <a:latin typeface="AL-Mohanad"/>
                  <a:cs typeface="Calibri"/>
                </a:rPr>
                <a:t>المبحث الأول : التثليث وما يتضمنه عند النصارى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أول : لمحة موجزة عن التثليث :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1143000" y="1733400"/>
            <a:ext cx="7143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قيل أن مرادهم من التثليث هو زعم أن الله تعالى جوهر واحد بثلاثة أقانيم أٌقنوم الأب ، وأقنوم الابن، وأقنوم روح القدس ، وأنهم يقصدون بالأول الذات أو الوجود ، وبالثاني العلم أي الكلمة ، وبالثالث الحيا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 وأكثر فرقهم يقولون في صلواتهم لمريم العذراء "يا خطيبة الله يا ملكة السماء التي جميع الملائكة يسجدون لها وكل شيء يسبحها ، يا أم الله ، يا ابنة الله يا سيدتنا أرحمينا ، لك نسجد ، لك نرتل تسابيح من صميم قلوبنا"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714240" y="147852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حدانية الله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لاهوت الأب والأبن والروح القد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الأب والابن والروح القدس أقانيم يمتاز كل منهم عن الآخر منذ الأزل وإلى الأبد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م واحد في الجوهر متساوون في القدرة والمج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بين أقانيم الثالوث تمييزا أيضا في الوظائف والعمل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بعض أعمال اللاهوت تنسب في الكتاب المقدس إلى الأب والأبن وروح القدس بشكل عام وبعضها بشكل خاص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9" name="مستطيل 2"/>
          <p:cNvGrpSpPr/>
          <p:nvPr/>
        </p:nvGrpSpPr>
        <p:grpSpPr>
          <a:xfrm>
            <a:off x="6480" y="426960"/>
            <a:ext cx="9240840" cy="768600"/>
            <a:chOff x="6480" y="426960"/>
            <a:chExt cx="9240840" cy="768600"/>
          </a:xfrm>
        </p:grpSpPr>
        <p:pic>
          <p:nvPicPr>
            <p:cNvPr id="260" name="مستطيل 2" descr=""/>
            <p:cNvPicPr/>
            <p:nvPr/>
          </p:nvPicPr>
          <p:blipFill>
            <a:blip r:embed="rId1"/>
            <a:stretch/>
          </p:blipFill>
          <p:spPr>
            <a:xfrm>
              <a:off x="1238400" y="426960"/>
              <a:ext cx="6778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480" y="547560"/>
              <a:ext cx="924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ثاني : ما تضمنته عقيدة التثليث عند النصارى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571680" y="20808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م يزعمون إقرارهم بوحدانية الله سبحانه ، وفي الوقت نفسه يقرون بتثليثه    فهو واحد حقيقي وكذلك ثلاثة حقيقة وكل واحد منهم له أعماله الخاصة ، وهم في نفس الوقت في مجموعون في ذات واحدة ، ويتساوون في المجد والقدر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3" name="مستطيل 2"/>
          <p:cNvGrpSpPr/>
          <p:nvPr/>
        </p:nvGrpSpPr>
        <p:grpSpPr>
          <a:xfrm>
            <a:off x="-353160" y="676440"/>
            <a:ext cx="9952560" cy="841320"/>
            <a:chOff x="-353160" y="676440"/>
            <a:chExt cx="9952560" cy="841320"/>
          </a:xfrm>
        </p:grpSpPr>
        <p:pic>
          <p:nvPicPr>
            <p:cNvPr id="264" name="مستطيل 2" descr=""/>
            <p:cNvPicPr/>
            <p:nvPr/>
          </p:nvPicPr>
          <p:blipFill>
            <a:blip r:embed="rId1"/>
            <a:stretch/>
          </p:blipFill>
          <p:spPr>
            <a:xfrm>
              <a:off x="914400" y="676440"/>
              <a:ext cx="7418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-353160" y="833400"/>
              <a:ext cx="9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ثالث : ملخص عقيدتهم في التثليث وأدلتهم عليه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ربع نص 1"/>
          <p:cNvGrpSpPr/>
          <p:nvPr/>
        </p:nvGrpSpPr>
        <p:grpSpPr>
          <a:xfrm>
            <a:off x="2052360" y="554040"/>
            <a:ext cx="5145840" cy="841320"/>
            <a:chOff x="2052360" y="554040"/>
            <a:chExt cx="5145840" cy="841320"/>
          </a:xfrm>
        </p:grpSpPr>
        <p:pic>
          <p:nvPicPr>
            <p:cNvPr id="267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2200320" y="554040"/>
              <a:ext cx="4852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052360" y="714240"/>
              <a:ext cx="514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            أدلتهم على التثليث        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69" name="Rectangle 1"/>
          <p:cNvGrpSpPr/>
          <p:nvPr/>
        </p:nvGrpSpPr>
        <p:grpSpPr>
          <a:xfrm>
            <a:off x="706320" y="2121480"/>
            <a:ext cx="7877160" cy="3080160"/>
            <a:chOff x="706320" y="2121480"/>
            <a:chExt cx="7877160" cy="3080160"/>
          </a:xfrm>
        </p:grpSpPr>
        <p:pic>
          <p:nvPicPr>
            <p:cNvPr id="270" name="Rectangle 1" descr=""/>
            <p:cNvPicPr/>
            <p:nvPr/>
          </p:nvPicPr>
          <p:blipFill>
            <a:blip r:embed="rId2"/>
            <a:stretch/>
          </p:blipFill>
          <p:spPr>
            <a:xfrm>
              <a:off x="706320" y="2170080"/>
              <a:ext cx="787716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57160" y="2121480"/>
              <a:ext cx="75726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210c1d"/>
                  </a:solidFill>
                  <a:latin typeface="AL-Mohanad"/>
                  <a:cs typeface="Calibri"/>
                </a:rPr>
                <a:t>دليل نقلي 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: إن جميع الأناجيل تحث على التوحيد الحقيقي إلا أن هناك قولا في يوحنا وقد أختلف فيه ، لكن بعضهم يعتمد عليهم كدليل على التثليث، ورد في يوحنا (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7:5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) قوله (فإن الذين يشهدون في السماء هم ثلاثة الأب والكلمة والروح القدس وهؤلاء ثلاثة هم واحد والذين يشهدون في الأرض هم ثلاثة الروح والماء والدم والثلاثة هم في واحد)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785880" y="1661760"/>
            <a:ext cx="7556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هذه العبارة لم توجد النسخ اليونانية التي كتبت قبل القرن السادس عشر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النسخ القديمة المعتمدة لديهم والتي طبعت بدق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جميع التراجم القديمة عدى اللاتيني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معظم النسخ القديمة اللاتيني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إنها لم يعتمد عليها ولا يعتقد بها أحد من القدماء ومؤرخي الكنيس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إن علماء البروتستانت أسقطوها من كتبهم ، كما وضع البعض عليها علامة الش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3" name="مربع نص 2"/>
          <p:cNvGrpSpPr/>
          <p:nvPr/>
        </p:nvGrpSpPr>
        <p:grpSpPr>
          <a:xfrm>
            <a:off x="1974600" y="530280"/>
            <a:ext cx="5145840" cy="841320"/>
            <a:chOff x="1974600" y="530280"/>
            <a:chExt cx="5145840" cy="841320"/>
          </a:xfrm>
        </p:grpSpPr>
        <p:pic>
          <p:nvPicPr>
            <p:cNvPr id="274" name="مربع نص 2" descr=""/>
            <p:cNvPicPr/>
            <p:nvPr/>
          </p:nvPicPr>
          <p:blipFill>
            <a:blip r:embed="rId1"/>
            <a:stretch/>
          </p:blipFill>
          <p:spPr>
            <a:xfrm>
              <a:off x="2127240" y="530280"/>
              <a:ext cx="4840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974600" y="690480"/>
              <a:ext cx="514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onstantia"/>
                </a:rPr>
                <a:t>                </a:t>
              </a: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الرد على هذا الدليل        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214280" y="179208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10c1d"/>
                </a:solidFill>
                <a:latin typeface="AL-Mohanad"/>
                <a:cs typeface="Calibri"/>
              </a:rPr>
              <a:t>دليل عقلي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:"أنهم نظروا فوجدوا الله محدثا للمخلوقات فقالوا : إنه شيء لا كالأشياء المخلوقة حتى ينفوا عنه العدم ورأوا الأشياء قسمين إما حي وإما غير حي ، فوصفوه بأجلّهما وهي الحي ، ورأوا الحي ينقسم قسمين : إما ناطق أو غير ناطق ، فقالوا : إنه "ناطق" لينفوا الجهل عنه"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Rectangle 1"/>
          <p:cNvGrpSpPr/>
          <p:nvPr/>
        </p:nvGrpSpPr>
        <p:grpSpPr>
          <a:xfrm>
            <a:off x="731880" y="193320"/>
            <a:ext cx="7570800" cy="1373760"/>
            <a:chOff x="731880" y="193320"/>
            <a:chExt cx="7570800" cy="1373760"/>
          </a:xfrm>
        </p:grpSpPr>
        <p:pic>
          <p:nvPicPr>
            <p:cNvPr id="278" name="Rectangle 1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75708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892080" y="193320"/>
              <a:ext cx="72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fffff"/>
                  </a:solidFill>
                  <a:uFillTx/>
                  <a:latin typeface="AL-Mohanad"/>
                  <a:cs typeface="Calibri"/>
                </a:rPr>
                <a:t>المبحث الثاني :مجمع نيقية وأصل عقيدة التثليث عند النصارى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</a:rPr>
                <a:t>المطلب الأول التعريف بمجمع نيقية ونتائجة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428760" y="173520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 عقد هذا المجمع في عام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25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ميلادي ، وقد أنقسم أعضاؤه إلى قسمين : القسم الأول برئاسة (آريوس) ومعتقدة أن المسيح عبد الله ونصوص التثليث محرفة ، والقسم الثاني برئاسة (أثاناثيوس) الذي يرى أن المسيح إله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ونشب بين الطرفين خلاف انتهى إلى القول بثلاثة نتائج اعتبروها مبادئ للنصرانية وهي 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لإشراك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عبادة الصور والتماثيل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لأفخارستيا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8:18:24Z</dcterms:created>
  <dc:creator>dgl</dc:creator>
  <dc:description/>
  <dc:language>en-US</dc:language>
  <cp:lastModifiedBy>Suleman</cp:lastModifiedBy>
  <dcterms:modified xsi:type="dcterms:W3CDTF">2013-05-24T14:23:57Z</dcterms:modified>
  <cp:revision>12</cp:revision>
  <dc:subject/>
  <dc:title>الشريحة 1</dc:title>
</cp:coreProperties>
</file>