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0C6-7A46-48D0-A466-5ACEBB78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906-D526-4FAD-BBB0-6D784BF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C50-C928-4D2D-B79B-6407A484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D2B-0454-4B59-A08F-29A3C683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399B4-EC13-4FF6-B96F-614804DD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9848C-BF1F-4772-85C0-955ED1D4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B89DB-5108-453E-B5B0-F2670EF0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8A2C2-09BA-4BB7-B86E-F647EB45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B91BF-3176-463B-9757-2FB46FC9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BF835-166B-427E-8080-5E7D8A23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4F33B-F591-49CE-A250-53C7107C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9F4-7167-4591-ADFD-1DED635B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DD1F8-8A4C-4A85-9E3E-58C3E4DE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093B3-4E14-48C6-9629-253A13AC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261E0-54BC-4FF4-97C8-76A95FD2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D585C-FDDA-4191-AEDA-229567FE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715A8-B237-4D47-80AD-472C90D2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2512D-37BF-4AFB-8D0F-E4EB5278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46366-C0BF-45CF-9171-F1AD60C0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207A0-E042-4CA2-BDEC-3503B692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5D9D-B57D-4D10-A908-70DC7569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80E60-F7CE-44AB-BC10-32F03126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47C-14E1-4294-9783-09C3253A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78AA-8292-48D8-AF1C-8B865370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63A8-6CCE-4DE9-9472-3AEB3FAB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5C553-C53D-4419-A2B4-9C6A012E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B577-C4B1-46F6-B833-EB4486DC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359FB-ACA2-4069-8849-6F4E64C1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41E02-CD9A-4E4D-907E-E3BC5E1C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5E404-BD5A-47C0-9485-CE4478B5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1C7EF-70B2-4962-B903-64B2267F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57FF5-3C38-4E82-AD1C-3D188E27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B66C3-9DAF-430F-9D53-68C7EF8A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FA5-B466-4B77-945F-8AD6F620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F86DB-891F-4F14-9DAD-97647018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D0ADA-D0C5-4214-B29B-5BEADC96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5282E1-DDF3-4EA0-B8B1-CF266936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3C02D1-318C-4786-94E1-FAD9004F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1AB07-CFE3-44B8-ABD6-5473DD9A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43A302-0C1F-4832-A7B7-308ABA54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EA1FE-5B20-4F1D-9075-5F77716A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3BA6D9-7E67-4C38-A63D-2271CC08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DBCA42-506F-4CC8-8BB3-139D9129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77686-F1CD-4835-8EE6-EF58677A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F58-AAA5-43C9-9268-F78F7A95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511DC-23E5-4166-B7BA-1247BD0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8390D-8ADC-4EF4-9235-F11C8050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3DA85-7555-4C50-AD23-809DA8C1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F73AE-FF72-4D32-AFF4-23DEACEA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E4C81-87B4-4494-9F70-7DE310CE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B17D3-947D-4080-BF9C-B20065B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03307-6D26-4F41-A0D0-B01126E6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3653F-8DD5-4090-B730-A4B7D3D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96EC9-A976-4EF0-A7AB-F077CAC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74CBF-DCB2-4DAF-B45D-78A9608B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F75-C797-401E-A749-51BCB92B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529D9-73DD-4B07-AC95-2D0ED11D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BA401A-8378-4308-A71E-0945EF62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9680D1-0AA7-494D-97DB-11E805C0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D959B7-6124-457B-B78C-168E205B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3CB7F-DA7C-494D-BF11-CB01B4AB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57413-CEC3-4DC5-AA85-685DE555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3A56C-8E83-4144-8810-80765260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7D7E3-38A6-4F83-9C31-D162818F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74BD0D-CCBB-41ED-945D-B4DBF0A3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BC9E0-4066-432F-BBBB-8122800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B71-B752-4D9F-8C8D-CD767FD9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5A0BD6-F563-4C57-9EB2-55163261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1FC68-FE02-4156-8862-4F201114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8EB40C-B8D7-418C-A555-E24B79EF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082-C3A3-40B6-A0C4-1EB41CA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A0D-BE44-4C87-84CC-49B8630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77B2-037D-40D9-B6DB-32BBCDB05E07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رابط مستقيم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رابط مستقيم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شكل بيضاوي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255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04F5-9F13-4965-AE0E-62CF6B838D9E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رابط مستقيم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3DB-4576-4CAF-8656-A6303F6A5145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رابط مستقيم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رابط مستقيم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4295-3EF4-4749-BD79-BE3D92FE7BA5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1E39-0884-4D06-BF2E-85FA638A0E1B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7d498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9759a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Constanti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36A3-0FE6-4F85-9769-BB39AFEBE2D4}" type="slidenum">
              <a:rPr b="0" lang="ar-SA" sz="1600" spc="-1" strike="noStrike">
                <a:solidFill>
                  <a:srgbClr val="f4e7ed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&#1571;&#1585;&#1608;&#1593;%20&#1604;&#1581;&#1592;&#1575;&#1578;%20&#1575;&#1604;&#1588;&#1610;&#1582;%20&#1571;&#1581;&#1605;&#1583;%20&#1583;&#1610;&#1583;&#1575;&#1578;%20-%20&#1575;&#1604;&#1578;&#1579;&#1604;&#1610;&#1579;%20&#1601;&#1610;%203%20&#1583;&#1602;&#1575;&#1574;&#1602;%20-%20YouTube.flv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مربع نص 1"/>
          <p:cNvSpPr/>
          <p:nvPr/>
        </p:nvSpPr>
        <p:spPr>
          <a:xfrm>
            <a:off x="-123480" y="2741760"/>
            <a:ext cx="93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Constantia"/>
              </a:rPr>
              <a:t>عـقيـدة التـثـليث عنـد النصـارى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مستطيل 1"/>
          <p:cNvGrpSpPr/>
          <p:nvPr/>
        </p:nvGrpSpPr>
        <p:grpSpPr>
          <a:xfrm>
            <a:off x="1146600" y="414360"/>
            <a:ext cx="6971760" cy="841320"/>
            <a:chOff x="1146600" y="414360"/>
            <a:chExt cx="6971760" cy="841320"/>
          </a:xfrm>
        </p:grpSpPr>
        <p:pic>
          <p:nvPicPr>
            <p:cNvPr id="282" name="مستطيل 1" descr=""/>
            <p:cNvPicPr/>
            <p:nvPr/>
          </p:nvPicPr>
          <p:blipFill>
            <a:blip r:embed="rId1"/>
            <a:stretch/>
          </p:blipFill>
          <p:spPr>
            <a:xfrm>
              <a:off x="1987560" y="414360"/>
              <a:ext cx="5291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46600" y="571680"/>
              <a:ext cx="69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Constantia"/>
                </a:rPr>
                <a:t>     المطلب الثاني :أصل عقيدة التثليث 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84" name="Rectangle 1"/>
          <p:cNvSpPr/>
          <p:nvPr/>
        </p:nvSpPr>
        <p:spPr>
          <a:xfrm>
            <a:off x="500040" y="1872720"/>
            <a:ext cx="8215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عقيدة التثليث أدخلها بولس على الديانة المسيحية متأثرا بآلهة المصريين الثلاثة إذ أنه عاش وتعلم في الإسكندرية. وهي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. أوزيروس "الأب"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حوريس"الأبن".      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إيزيس.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ولكنه حولها إلى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الأب.                  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 الإبن .            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- روح القد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Arial"/>
              </a:rPr>
              <a:t>كما أنه قد يكون تأثر بعقيدة البرهميين الذين يزعمون التثليث ويسمونه (تري مورتي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مستطيل 1"/>
          <p:cNvGrpSpPr/>
          <p:nvPr/>
        </p:nvGrpSpPr>
        <p:grpSpPr>
          <a:xfrm>
            <a:off x="92520" y="480960"/>
            <a:ext cx="9030600" cy="841320"/>
            <a:chOff x="92520" y="480960"/>
            <a:chExt cx="9030600" cy="841320"/>
          </a:xfrm>
        </p:grpSpPr>
        <p:pic>
          <p:nvPicPr>
            <p:cNvPr id="286" name="مستطيل 1" descr=""/>
            <p:cNvPicPr/>
            <p:nvPr/>
          </p:nvPicPr>
          <p:blipFill>
            <a:blip r:embed="rId1"/>
            <a:stretch/>
          </p:blipFill>
          <p:spPr>
            <a:xfrm>
              <a:off x="1268280" y="480960"/>
              <a:ext cx="6675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92520" y="642960"/>
              <a:ext cx="903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Constantia"/>
                </a:rPr>
                <a:t> المطلب الثالث :عجز النصارى عن فهم بدعة التثليث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88" name="Rectangle 1"/>
          <p:cNvSpPr/>
          <p:nvPr/>
        </p:nvSpPr>
        <p:spPr>
          <a:xfrm>
            <a:off x="785880" y="20102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احتارى النصارى في فهم عقيدة التثليث لأنها أصلا تنافي العقل ، فها هو بولس يقول عن التثليث : "الكلمة والروح صادران من الله أزلا"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ويقول آموري : "الأقانيم الثلاثة ليست هي الله بل هي كائنات سامية ، خلقها الله أولا ... لتقوم بتنفيذ أغراضه"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" descr="C:\Users\dgl\Desktop\CA6N3Q5XCAGNEXYUCAA76VVXCA0ONF2ICAF4V3JXCAP2C3GVCARFXKNSCAA70WPWCAC7JPJPCA3LN6EOCAWGFLPXCARM8RLXCAZ26XMZCAE3CD41CAIWD1HICAUBY76RCAYGD7R0CAXLRLC7CAV3XTC7CAC5A29J.jpg"/>
          <p:cNvPicPr/>
          <p:nvPr/>
        </p:nvPicPr>
        <p:blipFill>
          <a:blip r:embed="rId1"/>
          <a:stretch/>
        </p:blipFill>
        <p:spPr>
          <a:xfrm>
            <a:off x="1494000" y="706320"/>
            <a:ext cx="62974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مستطيل 1"/>
          <p:cNvGrpSpPr/>
          <p:nvPr/>
        </p:nvGrpSpPr>
        <p:grpSpPr>
          <a:xfrm>
            <a:off x="928080" y="414360"/>
            <a:ext cx="7305480" cy="1268280"/>
            <a:chOff x="928080" y="414360"/>
            <a:chExt cx="7305480" cy="1268280"/>
          </a:xfrm>
        </p:grpSpPr>
        <p:pic>
          <p:nvPicPr>
            <p:cNvPr id="291" name="مستطيل 1" descr=""/>
            <p:cNvPicPr/>
            <p:nvPr/>
          </p:nvPicPr>
          <p:blipFill>
            <a:blip r:embed="rId1"/>
            <a:stretch/>
          </p:blipFill>
          <p:spPr>
            <a:xfrm>
              <a:off x="1700280" y="414360"/>
              <a:ext cx="57610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928080" y="571680"/>
              <a:ext cx="7305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u="sng">
                  <a:solidFill>
                    <a:srgbClr val="ffffff"/>
                  </a:solidFill>
                  <a:uFillTx/>
                  <a:latin typeface="Constantia"/>
                </a:rPr>
                <a:t>      المبحث الثالث : دحض عقيدة التثليث  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ffffff"/>
                  </a:solidFill>
                  <a:latin typeface="Constantia"/>
                </a:rPr>
                <a:t> المطلب الأول : إبطال التثليث بأقوال المسيح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3" name="Rectangle 1"/>
          <p:cNvSpPr/>
          <p:nvPr/>
        </p:nvSpPr>
        <p:spPr>
          <a:xfrm>
            <a:off x="1143000" y="2156400"/>
            <a:ext cx="707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مثال على ذلك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ورد في الإصحاح السابع عشر من إنجيل يوحنا قول المسيح : "وهذه حياة الأبد أن يعرفوك أنت الإله الحق وحدك والذي أرسلته يسوع المسيح" فبين هنا أن الحياة الأبدية هي معرفة الله بأنه هو الواحد الحق وأنه ليس سوى رسولا له . ولم يذكر الأقانيم بشيء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مستطيل 1"/>
          <p:cNvGrpSpPr/>
          <p:nvPr/>
        </p:nvGrpSpPr>
        <p:grpSpPr>
          <a:xfrm>
            <a:off x="350280" y="463680"/>
            <a:ext cx="8294400" cy="834840"/>
            <a:chOff x="350280" y="463680"/>
            <a:chExt cx="8294400" cy="834840"/>
          </a:xfrm>
        </p:grpSpPr>
        <p:pic>
          <p:nvPicPr>
            <p:cNvPr id="295" name="مستطيل 1" descr=""/>
            <p:cNvPicPr/>
            <p:nvPr/>
          </p:nvPicPr>
          <p:blipFill>
            <a:blip r:embed="rId1"/>
            <a:stretch/>
          </p:blipFill>
          <p:spPr>
            <a:xfrm>
              <a:off x="1487520" y="463680"/>
              <a:ext cx="60228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50280" y="619200"/>
              <a:ext cx="829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Constantia"/>
                </a:rPr>
                <a:t>    المطلب الثاني : نكران العقل لعقيدة التثليث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7" name="Rectangle 1"/>
          <p:cNvSpPr/>
          <p:nvPr/>
        </p:nvSpPr>
        <p:spPr>
          <a:xfrm>
            <a:off x="571680" y="144756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تقسيمهم للأقانيم الثلاثة يوضح لنا أنهم جعلوا لكل منهم وظيفة يختص بها عن غيره ، وأنه إذا تفرد أحد هذه الأقانيم بنفسه لا تكون له الألوهية، فلابد من اجتماع الثلاثة لتحصل هذه الألوهية ، كما أن التركيب في ذات الله سبحانه محال لأن المركب بحاجة لجميع أجزائه إذن فهو حادث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Arial"/>
              </a:rPr>
              <a:t>وعلى زعمهم يكون الأب مكون الكائنات فقط والابن المخلص وروح القدس الذي يبحث الحياة وكل منهما عاجز عن فعل غيره فيكف يتكون الله تعالى من أقانيم عاجزة ؟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مربع نص 1"/>
          <p:cNvGrpSpPr/>
          <p:nvPr/>
        </p:nvGrpSpPr>
        <p:grpSpPr>
          <a:xfrm>
            <a:off x="2963160" y="1268280"/>
            <a:ext cx="3344760" cy="1024200"/>
            <a:chOff x="2963160" y="1268280"/>
            <a:chExt cx="3344760" cy="1024200"/>
          </a:xfrm>
        </p:grpSpPr>
        <p:pic>
          <p:nvPicPr>
            <p:cNvPr id="299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3114720" y="1268280"/>
              <a:ext cx="30416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963160" y="1428840"/>
              <a:ext cx="334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ff"/>
                  </a:solidFill>
                  <a:latin typeface="Constantia"/>
                </a:rPr>
                <a:t>   </a:t>
              </a:r>
              <a:r>
                <a:rPr b="0" lang="ar-SA" sz="4000" spc="-1" strike="noStrike" u="sng">
                  <a:solidFill>
                    <a:srgbClr val="f0d7eb"/>
                  </a:solidFill>
                  <a:uFillTx/>
                  <a:latin typeface="Constantia"/>
                  <a:hlinkClick r:id="rId2"/>
                </a:rPr>
                <a:t>مقطع</a:t>
              </a:r>
              <a:r>
                <a:rPr b="0" lang="ar-SA" sz="4000" spc="-1" strike="noStrike">
                  <a:solidFill>
                    <a:srgbClr val="ffffff"/>
                  </a:solidFill>
                  <a:latin typeface="Constantia"/>
                </a:rPr>
                <a:t> فيديو   </a:t>
              </a:r>
              <a:endParaRPr b="0" lang="en-US" sz="4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مربع نص 1"/>
          <p:cNvSpPr/>
          <p:nvPr/>
        </p:nvSpPr>
        <p:spPr>
          <a:xfrm>
            <a:off x="910800" y="2444760"/>
            <a:ext cx="738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onstantia"/>
              </a:rPr>
              <a:t>تعالى الله عما يقولون علواً كبيرا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مربع نص 2"/>
          <p:cNvSpPr/>
          <p:nvPr/>
        </p:nvSpPr>
        <p:spPr>
          <a:xfrm>
            <a:off x="247680" y="5681520"/>
            <a:ext cx="37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إعداد الطالبة /أشواق الحربي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714240" y="1270440"/>
            <a:ext cx="77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L-Mohanad"/>
                <a:cs typeface="Calibri"/>
              </a:rPr>
              <a:t>أنزل الله عز وجل الإنجيل على عيسى عليه السلام ،فجاءت شريعته مكملة لشريعة نبي الله موسى عليه السلام ، والنصرانية كغيرها من الديانات نالها التحريف والتبديل الذي نتج عنه الكثير من العقائد الفاسدة ومنها التثليث وسوف نوضحه في هذا البحث بإذن الله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Rectangle 1"/>
          <p:cNvGrpSpPr/>
          <p:nvPr/>
        </p:nvGrpSpPr>
        <p:grpSpPr>
          <a:xfrm>
            <a:off x="914400" y="176760"/>
            <a:ext cx="7029360" cy="1191240"/>
            <a:chOff x="914400" y="176760"/>
            <a:chExt cx="7029360" cy="1191240"/>
          </a:xfrm>
        </p:grpSpPr>
        <p:pic>
          <p:nvPicPr>
            <p:cNvPr id="255" name="Rectangle 1" descr=""/>
            <p:cNvPicPr/>
            <p:nvPr/>
          </p:nvPicPr>
          <p:blipFill>
            <a:blip r:embed="rId1"/>
            <a:stretch/>
          </p:blipFill>
          <p:spPr>
            <a:xfrm>
              <a:off x="914400" y="201600"/>
              <a:ext cx="70293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071720" y="176760"/>
              <a:ext cx="671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 u="sng">
                  <a:solidFill>
                    <a:srgbClr val="ffffff"/>
                  </a:solidFill>
                  <a:uFillTx/>
                  <a:latin typeface="AL-Mohanad"/>
                  <a:cs typeface="Calibri"/>
                </a:rPr>
                <a:t>المبحث الأول : التثليث وما يتضمنه عند النصارى 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L-Mohanad"/>
                  <a:cs typeface="Calibri"/>
                </a:rPr>
                <a:t>المطلب الأول : لمحة موجزة عن التثليث :</a:t>
              </a:r>
              <a:endParaRPr b="0" lang="en-US" sz="24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57" name="Rectangle 2"/>
          <p:cNvSpPr/>
          <p:nvPr/>
        </p:nvSpPr>
        <p:spPr>
          <a:xfrm>
            <a:off x="1143000" y="1733400"/>
            <a:ext cx="7143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قيل أن مرادهم من التثليث هو زعم أن الله تعالى جوهر واحد بثلاثة أقانيم أٌقنوم الأب ، وأقنوم الابن، وأقنوم روح القدس ، وأنهم يقصدون بالأول الذات أو الوجود ، وبالثاني العلم أي الكلمة ، وبالثالث الحياة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   وأكثر فرقهم يقولون في صلواتهم لمريم العذراء "يا خطيبة الله يا ملكة السماء التي جميع الملائكة يسجدون لها وكل شيء يسبحها ، يا أم الله ، يا ابنة الله يا سيدتنا أرحمينا ، لك نسجد ، لك نرتل تسابيح من صميم قلوبنا"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714240" y="1478520"/>
            <a:ext cx="8001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وحدانية الله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لاهوت الأب والأبن والروح القدس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الأب والابن والروح القدس أقانيم يمتاز كل منهم عن الآخر منذ الأزل وإلى الأبد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م واحد في الجوهر متساوون في القدرة والمجد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بين أقانيم الثالوث تمييزا أيضا في الوظائف والعمل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بعض أعمال اللاهوت تنسب في الكتاب المقدس إلى الأب والأبن وروح القدس بشكل عام وبعضها بشكل خاص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59" name="مستطيل 2"/>
          <p:cNvGrpSpPr/>
          <p:nvPr/>
        </p:nvGrpSpPr>
        <p:grpSpPr>
          <a:xfrm>
            <a:off x="6480" y="426960"/>
            <a:ext cx="9240840" cy="768600"/>
            <a:chOff x="6480" y="426960"/>
            <a:chExt cx="9240840" cy="768600"/>
          </a:xfrm>
        </p:grpSpPr>
        <p:pic>
          <p:nvPicPr>
            <p:cNvPr id="260" name="مستطيل 2" descr=""/>
            <p:cNvPicPr/>
            <p:nvPr/>
          </p:nvPicPr>
          <p:blipFill>
            <a:blip r:embed="rId1"/>
            <a:stretch/>
          </p:blipFill>
          <p:spPr>
            <a:xfrm>
              <a:off x="1238400" y="426960"/>
              <a:ext cx="67784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480" y="547560"/>
              <a:ext cx="924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L-Mohanad"/>
                  <a:cs typeface="Calibri"/>
                </a:rPr>
                <a:t>المطلب الثاني : ما تضمنته عقيدة التثليث عند النصارى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571680" y="208080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م يزعمون إقرارهم بوحدانية الله سبحانه ، وفي الوقت نفسه يقرون بتثليثه    فهو واحد حقيقي وكذلك ثلاثة حقيقة وكل واحد منهم له أعماله الخاصة ، وهم في نفس الوقت في مجموعون في ذات واحدة ، ويتساوون في المجد والقدرة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63" name="مستطيل 2"/>
          <p:cNvGrpSpPr/>
          <p:nvPr/>
        </p:nvGrpSpPr>
        <p:grpSpPr>
          <a:xfrm>
            <a:off x="-353160" y="676440"/>
            <a:ext cx="9952560" cy="841320"/>
            <a:chOff x="-353160" y="676440"/>
            <a:chExt cx="9952560" cy="841320"/>
          </a:xfrm>
        </p:grpSpPr>
        <p:pic>
          <p:nvPicPr>
            <p:cNvPr id="264" name="مستطيل 2" descr=""/>
            <p:cNvPicPr/>
            <p:nvPr/>
          </p:nvPicPr>
          <p:blipFill>
            <a:blip r:embed="rId1"/>
            <a:stretch/>
          </p:blipFill>
          <p:spPr>
            <a:xfrm>
              <a:off x="914400" y="676440"/>
              <a:ext cx="7418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-353160" y="833400"/>
              <a:ext cx="99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ffffff"/>
                  </a:solidFill>
                  <a:latin typeface="AL-Mohanad"/>
                  <a:cs typeface="Calibri"/>
                </a:rPr>
                <a:t>المطلب الثالث : ملخص عقيدتهم في التثليث وأدلتهم عليه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مربع نص 1"/>
          <p:cNvGrpSpPr/>
          <p:nvPr/>
        </p:nvGrpSpPr>
        <p:grpSpPr>
          <a:xfrm>
            <a:off x="2052360" y="554040"/>
            <a:ext cx="5145840" cy="841320"/>
            <a:chOff x="2052360" y="554040"/>
            <a:chExt cx="5145840" cy="841320"/>
          </a:xfrm>
        </p:grpSpPr>
        <p:pic>
          <p:nvPicPr>
            <p:cNvPr id="267" name="مربع نص 1" descr=""/>
            <p:cNvPicPr/>
            <p:nvPr/>
          </p:nvPicPr>
          <p:blipFill>
            <a:blip r:embed="rId1"/>
            <a:stretch/>
          </p:blipFill>
          <p:spPr>
            <a:xfrm>
              <a:off x="2200320" y="554040"/>
              <a:ext cx="48528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052360" y="714240"/>
              <a:ext cx="514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ffffff"/>
                  </a:solidFill>
                  <a:latin typeface="Constantia"/>
                </a:rPr>
                <a:t>            أدلتهم على التثليث          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69" name="Rectangle 1"/>
          <p:cNvGrpSpPr/>
          <p:nvPr/>
        </p:nvGrpSpPr>
        <p:grpSpPr>
          <a:xfrm>
            <a:off x="706320" y="2121480"/>
            <a:ext cx="7877160" cy="3080160"/>
            <a:chOff x="706320" y="2121480"/>
            <a:chExt cx="7877160" cy="3080160"/>
          </a:xfrm>
        </p:grpSpPr>
        <p:pic>
          <p:nvPicPr>
            <p:cNvPr id="270" name="Rectangle 1" descr=""/>
            <p:cNvPicPr/>
            <p:nvPr/>
          </p:nvPicPr>
          <p:blipFill>
            <a:blip r:embed="rId2"/>
            <a:stretch/>
          </p:blipFill>
          <p:spPr>
            <a:xfrm>
              <a:off x="706320" y="2170080"/>
              <a:ext cx="787716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57160" y="2121480"/>
              <a:ext cx="757260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210c1d"/>
                  </a:solidFill>
                  <a:latin typeface="AL-Mohanad"/>
                  <a:cs typeface="Calibri"/>
                </a:rPr>
                <a:t>دليل نقلي </a:t>
              </a:r>
              <a:r>
                <a:rPr b="0" lang="ar-SA" sz="2800" spc="-1" strike="noStrike">
                  <a:solidFill>
                    <a:srgbClr val="ffffff"/>
                  </a:solidFill>
                  <a:latin typeface="AL-Mohanad"/>
                  <a:ea typeface="Calibri"/>
                </a:rPr>
                <a:t>: إن جميع الأناجيل تحث على التوحيد الحقيقي إلا أن هناك قولا في يوحنا وقد أختلف فيه ، لكن بعضهم يعتمد عليهم كدليل على التثليث، ورد في يوحنا (</a:t>
              </a:r>
              <a:r>
                <a:rPr b="0" lang="ar-SA" sz="2800" spc="-1" strike="noStrike">
                  <a:solidFill>
                    <a:srgbClr val="ffffff"/>
                  </a:solidFill>
                  <a:latin typeface="AL-Mohanad"/>
                  <a:ea typeface="Calibri"/>
                </a:rPr>
                <a:t>7:5</a:t>
              </a:r>
              <a:r>
                <a:rPr b="0" lang="ar-SA" sz="2800" spc="-1" strike="noStrike">
                  <a:solidFill>
                    <a:srgbClr val="ffffff"/>
                  </a:solidFill>
                  <a:latin typeface="AL-Mohanad"/>
                  <a:ea typeface="Calibri"/>
                </a:rPr>
                <a:t>) قوله (فإن الذين يشهدون في السماء هم ثلاثة الأب والكلمة والروح القدس وهؤلاء ثلاثة هم واحد والذين يشهدون في الأرض هم ثلاثة الروح والماء والدم والثلاثة هم في واحد)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"/>
          <p:cNvSpPr/>
          <p:nvPr/>
        </p:nvSpPr>
        <p:spPr>
          <a:xfrm>
            <a:off x="785880" y="1661760"/>
            <a:ext cx="7556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 هذه العبارة لم توجد النسخ اليونانية التي كتبت قبل القرن السادس عشر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ا لا توجد في النسخ القديمة المعتمدة لديهم والتي طبعت بدقة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ا لا توجد في جميع التراجم القديمة عدى اللاتينية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أنها لا توجد في معظم النسخ القديمة اللاتينية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إنها لم يعتمد عليها ولا يعتقد بها أحد من القدماء ومؤرخي الكنيسة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إن علماء البروتستانت أسقطوها من كتبهم ، كما وضع البعض عليها علامة الشك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73" name="مربع نص 2"/>
          <p:cNvGrpSpPr/>
          <p:nvPr/>
        </p:nvGrpSpPr>
        <p:grpSpPr>
          <a:xfrm>
            <a:off x="1974600" y="530280"/>
            <a:ext cx="5145840" cy="841320"/>
            <a:chOff x="1974600" y="530280"/>
            <a:chExt cx="5145840" cy="841320"/>
          </a:xfrm>
        </p:grpSpPr>
        <p:pic>
          <p:nvPicPr>
            <p:cNvPr id="274" name="مربع نص 2" descr=""/>
            <p:cNvPicPr/>
            <p:nvPr/>
          </p:nvPicPr>
          <p:blipFill>
            <a:blip r:embed="rId1"/>
            <a:stretch/>
          </p:blipFill>
          <p:spPr>
            <a:xfrm>
              <a:off x="2127240" y="530280"/>
              <a:ext cx="4840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974600" y="690480"/>
              <a:ext cx="514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Constantia"/>
                </a:rPr>
                <a:t>                </a:t>
              </a:r>
              <a:r>
                <a:rPr b="0" lang="ar-SA" sz="2800" spc="-1" strike="noStrike">
                  <a:solidFill>
                    <a:srgbClr val="ffffff"/>
                  </a:solidFill>
                  <a:latin typeface="Constantia"/>
                </a:rPr>
                <a:t>الرد على هذا الدليل             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214280" y="1792080"/>
            <a:ext cx="685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10c1d"/>
                </a:solidFill>
                <a:latin typeface="AL-Mohanad"/>
                <a:cs typeface="Calibri"/>
              </a:rPr>
              <a:t>دليل عقلي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:"أنهم نظروا فوجدوا الله محدثا للمخلوقات فقالوا : إنه شيء لا كالأشياء المخلوقة حتى ينفوا عنه العدم ورأوا الأشياء قسمين إما حي وإما غير حي ، فوصفوه بأجلّهما وهي الحي ، ورأوا الحي ينقسم قسمين : إما ناطق أو غير ناطق ، فقالوا : إنه "ناطق" لينفوا الجهل عنه"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Rectangle 1"/>
          <p:cNvGrpSpPr/>
          <p:nvPr/>
        </p:nvGrpSpPr>
        <p:grpSpPr>
          <a:xfrm>
            <a:off x="731880" y="193320"/>
            <a:ext cx="7570800" cy="1373760"/>
            <a:chOff x="731880" y="193320"/>
            <a:chExt cx="7570800" cy="1373760"/>
          </a:xfrm>
        </p:grpSpPr>
        <p:pic>
          <p:nvPicPr>
            <p:cNvPr id="278" name="Rectangle 1" descr=""/>
            <p:cNvPicPr/>
            <p:nvPr/>
          </p:nvPicPr>
          <p:blipFill>
            <a:blip r:embed="rId1"/>
            <a:stretch/>
          </p:blipFill>
          <p:spPr>
            <a:xfrm>
              <a:off x="731880" y="244440"/>
              <a:ext cx="757080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892080" y="193320"/>
              <a:ext cx="7251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u="sng">
                  <a:solidFill>
                    <a:srgbClr val="ffffff"/>
                  </a:solidFill>
                  <a:uFillTx/>
                  <a:latin typeface="AL-Mohanad"/>
                  <a:cs typeface="Calibri"/>
                </a:rPr>
                <a:t>المبحث الثاني :مجمع نيقية وأصل عقيدة التثليث عند النصارى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ffffff"/>
                  </a:solidFill>
                  <a:latin typeface="AL-Mohanad"/>
                </a:rPr>
                <a:t>المطلب الأول التعريف بمجمع نيقية ونتائجة </a:t>
              </a:r>
              <a:endParaRPr b="0" lang="en-US" sz="2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80" name="Rectangle 2"/>
          <p:cNvSpPr/>
          <p:nvPr/>
        </p:nvSpPr>
        <p:spPr>
          <a:xfrm>
            <a:off x="428760" y="1735200"/>
            <a:ext cx="8429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   عقد هذا المجمع في عام 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325</a:t>
            </a: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 ميلادي ، وقد أنقسم أعضاؤه إلى قسمين : القسم الأول برئاسة (آريوس) ومعتقدة أن المسيح عبد الله ونصوص التثليث محرفة ، والقسم الثاني برئاسة (أثاناثيوس) الذي يرى أن المسيح إله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ea typeface="Calibri"/>
              </a:rPr>
              <a:t>  ونشب بين الطرفين خلاف انتهى إلى القول بثلاثة نتائج اعتبروها مبادئ للنصرانية وهي :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الإشراك 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عبادة الصور والتماثيل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AL-Mohana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L-Mohanad"/>
                <a:cs typeface="Calibri"/>
              </a:rPr>
              <a:t>الأفخارستيا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8:18:24Z</dcterms:created>
  <dc:creator>dgl</dc:creator>
  <dc:description/>
  <dc:language>en-US</dc:language>
  <cp:lastModifiedBy>Suleman</cp:lastModifiedBy>
  <dcterms:modified xsi:type="dcterms:W3CDTF">2013-05-24T14:23:57Z</dcterms:modified>
  <cp:revision>12</cp:revision>
  <dc:subject/>
  <dc:title>الشريحة 1</dc:title>
</cp:coreProperties>
</file>