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A49-3C3A-4548-8B54-764E6F14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90B-06B6-446F-90D0-27E35C5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FC3-7BE6-4BCE-8EEC-F9B87A6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FC7-4E50-4A3C-87B5-5E898935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C8F-A26D-40B8-A667-A8F793BF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E3B-34CE-40FA-94CC-CA5FD16A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16F-6B52-4AF0-858B-6D9EF6B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99F-3350-48B6-ACD2-BAF45724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CE1-A339-4C22-A50F-A1A691AC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9B2-220D-438D-9A61-39736C7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62E-B8E9-4EC0-8862-80F642BB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55F-8F61-4F7F-AEEC-9142679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7A96-9DB6-4B5A-B94C-A00543E8C0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836640"/>
            <a:ext cx="777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מִי אֲנִ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Arial"/>
                <a:cs typeface="FrankRuehl"/>
              </a:rPr>
              <a:t>שְׁמִי ....................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אֲנִי גָּר בְּרִיָאד,  אֲבָל אֲנִי רוֹצֶה לָגוּר בְּדַמָא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996600"/>
                </a:solidFill>
                <a:latin typeface="Arial"/>
                <a:cs typeface="FrankRuehl"/>
              </a:rPr>
              <a:t>אֲנִי לֹא עוֹבֵד , אֲנִי רַק לוֹמֵד בָּאוּנִיבֶרְסִיטָה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990099"/>
                </a:solidFill>
                <a:latin typeface="Arial"/>
                <a:cs typeface="FrankRuehl"/>
              </a:rPr>
              <a:t>אֲנִי סְטוּדֶנְט בַּחוּג לַשָּׂפָה הָעִבְרִי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00"/>
                </a:solidFill>
                <a:latin typeface="Arial"/>
                <a:cs typeface="FrankRuehl"/>
              </a:rPr>
              <a:t>אֲנִי עִבְרִית בְּרָמָה א' . אֲנִי מְדַבֵּר עֲרָבִית  וְלוֹמֵד עִבְרִי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3366"/>
                </a:solidFill>
                <a:latin typeface="Arial"/>
                <a:cs typeface="FrankRuehl"/>
              </a:rPr>
              <a:t>אַבָּא פָּקִיד בְּבַּנְק . בַּמִּשְׂרָד שֶׁל אַבָּא יֵשׁ טֶלֶפוֹן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57:08Z</dcterms:created>
  <dc:creator>aa</dc:creator>
  <dc:description/>
  <dc:language>en-US</dc:language>
  <cp:lastModifiedBy>aa</cp:lastModifiedBy>
  <dcterms:modified xsi:type="dcterms:W3CDTF">2009-04-07T07:57:38Z</dcterms:modified>
  <cp:revision>1</cp:revision>
  <dc:subject/>
  <dc:title>الشريحة 1</dc:title>
</cp:coreProperties>
</file>