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972-1330-4AB9-B5CA-FAF5D09C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FD4-7910-4305-96D2-55E666C2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A38-DDEA-416A-A834-CE1888F1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03B-2013-4CAC-9CB7-F0FCBD38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BA4-DBA4-483F-B7C6-EDEADC0A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765-36D5-4AB0-81BC-848B0489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1B3-E64C-4178-905D-00C6E9B0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039-DF72-4476-90DC-13765733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F26-5B3B-41D9-97EE-40C1ADEF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58E-3220-4054-BEB5-BD627BC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294-DE96-4BC2-A4DB-87471A88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4F0-89B4-4B3E-A140-4A938DB0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2070-2B5E-42A0-8721-1DB419DBF9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836640"/>
            <a:ext cx="777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מִי אֲנִ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Arial"/>
                <a:cs typeface="FrankRuehl"/>
              </a:rPr>
              <a:t>שְׁמִי ....................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00cc"/>
                </a:solidFill>
                <a:latin typeface="Arial"/>
                <a:cs typeface="FrankRuehl"/>
              </a:rPr>
              <a:t>אֲנִי גָּר בְּרִיָאד,  אֲבָל אֲנִי רוֹצֶה לָגוּר בְּדַמָאם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996600"/>
                </a:solidFill>
                <a:latin typeface="Arial"/>
                <a:cs typeface="FrankRuehl"/>
              </a:rPr>
              <a:t>אֲנִי לֹא עוֹבֵד , אֲנִי רַק לוֹמֵד בָּאוּנִיבֶרְסִיטָה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990099"/>
                </a:solidFill>
                <a:latin typeface="Arial"/>
                <a:cs typeface="FrankRuehl"/>
              </a:rPr>
              <a:t>אֲנִי סְטוּדֶנְט בַּחוּג לַשָּׂפָה הָעִבְרִית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6600"/>
                </a:solidFill>
                <a:latin typeface="Arial"/>
                <a:cs typeface="FrankRuehl"/>
              </a:rPr>
              <a:t>אֲנִי עִבְרִית בְּרָמָה א' . אֲנִי מְדַבֵּר עֲרָבִית  וְלוֹמֵד עִבְרִית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3366"/>
                </a:solidFill>
                <a:latin typeface="Arial"/>
                <a:cs typeface="FrankRuehl"/>
              </a:rPr>
              <a:t>אַבָּא פָּקִיד בְּבַּנְק . בַּמִּשְׂרָד שֶׁל אַבָּא יֵשׁ טֶלֶפוֹן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57:08Z</dcterms:created>
  <dc:creator>aa</dc:creator>
  <dc:description/>
  <dc:language>en-US</dc:language>
  <cp:lastModifiedBy>aa</cp:lastModifiedBy>
  <dcterms:modified xsi:type="dcterms:W3CDTF">2009-04-07T07:57:38Z</dcterms:modified>
  <cp:revision>1</cp:revision>
  <dc:subject/>
  <dc:title>الشريحة 1</dc:title>
</cp:coreProperties>
</file>