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B922-F541-42A7-8BA8-AB7922AC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85B6-329A-408A-93F9-18CDF7A0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1FC7-C2F3-4FBB-84D7-0E43D656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CD9-4A5B-45E8-915F-6AF47088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8DB9-4DD4-4453-8852-B9CD2AB9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E52D-D591-442D-82B8-EF20C8DF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EF02-B7F1-4580-A43D-B9C75011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AB45-DC2C-437A-9E17-E74D8B10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0CC1-A21A-46B7-8E3D-BFF532DC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A5B2-9327-4426-9506-C2303AB9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FF45-59C8-4B80-A485-A81B8072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CB23-9526-495A-AFFE-01570046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CA37-2857-4538-B89A-DBA87D69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3EA6-D7E7-42BF-AEB3-47D66650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28A9-E5C1-4AF2-B4BF-6AA138C2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D743-FC93-41FF-B7F1-E21D5EDA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B8E2-069E-493E-8FCF-F848F2E6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4BA7C-A486-4B9C-9D07-15E9200E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E71D6-A6E3-478B-933F-1491B810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BDED7-092C-4A7B-9AC8-4346E311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4D618-A335-4053-8C55-C60B6136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23D28-FBE0-488C-81B0-9A8FD5CA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BC96-1ABA-457A-9975-BC5B7A9F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476AD-5F85-4DF7-A412-03BD7B9A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F7B51-2CAA-4416-9155-4B928BCC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EA4DD-1EE3-47C2-8E1E-3D3C709A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79337-01A1-49AE-9DFF-044879C4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79668-1ED6-45E7-9B02-1596CC9A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349DB-D457-4614-9D6A-B99EA634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9063F-9C9F-459E-AC3B-5AAD63A5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4E138-4696-4226-B973-E11B03FD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76304-9010-409C-B561-5B408B00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82E5C-E2D3-40FC-A839-77BAAAD0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AF4E-1E07-4FC9-859A-A86F15F6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27EF7-8440-43C8-A29E-061C7989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13A36-FC96-4EDB-9225-93CFB924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107FE-0846-45CA-9979-0430CE34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5BB71-93D4-4DEB-AAD2-A1DF1E1E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6BDB6-80D1-4C06-B56C-E802B9E5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190E5-1AD8-4F84-8AFE-4E7E1EEB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2C5CF-5013-440C-992D-396ABA45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FB8CE-3D53-45E0-BCA9-D4864DD3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51339-3A13-4045-8738-572DD3C7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AA43-1138-4A7A-B53D-87512D05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607C-333C-4E02-9B15-821B172B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5EC-BF7F-4E22-BA0F-10DB7053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C3A9-1283-4617-8141-2C1FA608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7049-BFAE-4EE1-8782-33307019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04E9-557D-4D5A-9485-88A7A843650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7110-FD18-4CCB-BFDA-B463FFD9DBB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1D13-2F1B-4980-92C9-C02C4DD3992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EF19-414F-4994-AA60-4CE86076BCC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onstantia"/>
                <a:cs typeface="Majalla UI"/>
              </a:rPr>
              <a:t>نوف مهدي اليامي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مربع نص 2"/>
          <p:cNvSpPr/>
          <p:nvPr/>
        </p:nvSpPr>
        <p:spPr>
          <a:xfrm>
            <a:off x="3714840" y="357120"/>
            <a:ext cx="4357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رسم تخطيطي 7" descr=""/>
          <p:cNvPicPr/>
          <p:nvPr/>
        </p:nvPicPr>
        <p:blipFill>
          <a:blip r:embed="rId1"/>
          <a:stretch/>
        </p:blipFill>
        <p:spPr>
          <a:xfrm>
            <a:off x="231840" y="407880"/>
            <a:ext cx="8704080" cy="6456600"/>
          </a:xfrm>
          <a:prstGeom prst="rect">
            <a:avLst/>
          </a:prstGeom>
          <a:ln w="0">
            <a:noFill/>
          </a:ln>
        </p:spPr>
      </p:pic>
      <p:sp>
        <p:nvSpPr>
          <p:cNvPr id="199" name="مربع نص 8"/>
          <p:cNvSpPr/>
          <p:nvPr/>
        </p:nvSpPr>
        <p:spPr>
          <a:xfrm>
            <a:off x="285840" y="6286680"/>
            <a:ext cx="1928880" cy="276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onstantia"/>
                <a:cs typeface="Majalla UI"/>
              </a:rPr>
              <a:t>إعداد: أ. نوف اليامي</a:t>
            </a:r>
            <a:r>
              <a:rPr b="1" lang="ar-SA" sz="12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مربع نص 2"/>
          <p:cNvSpPr/>
          <p:nvPr/>
        </p:nvSpPr>
        <p:spPr>
          <a:xfrm>
            <a:off x="3714840" y="357120"/>
            <a:ext cx="4357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رسم تخطيطي 7" descr=""/>
          <p:cNvPicPr/>
          <p:nvPr/>
        </p:nvPicPr>
        <p:blipFill>
          <a:blip r:embed="rId1"/>
          <a:stretch/>
        </p:blipFill>
        <p:spPr>
          <a:xfrm>
            <a:off x="244440" y="407880"/>
            <a:ext cx="8691480" cy="6456600"/>
          </a:xfrm>
          <a:prstGeom prst="rect">
            <a:avLst/>
          </a:prstGeom>
          <a:ln w="0">
            <a:noFill/>
          </a:ln>
        </p:spPr>
      </p:pic>
      <p:sp>
        <p:nvSpPr>
          <p:cNvPr id="202" name="مربع نص 8"/>
          <p:cNvSpPr/>
          <p:nvPr/>
        </p:nvSpPr>
        <p:spPr>
          <a:xfrm>
            <a:off x="285840" y="6286680"/>
            <a:ext cx="1928880" cy="276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onstantia"/>
                <a:cs typeface="Majalla UI"/>
              </a:rPr>
              <a:t>إعداد: أ. نوف اليامي</a:t>
            </a:r>
            <a:r>
              <a:rPr b="1" lang="ar-SA" sz="12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مربع نص 2"/>
          <p:cNvSpPr/>
          <p:nvPr/>
        </p:nvSpPr>
        <p:spPr>
          <a:xfrm>
            <a:off x="3714840" y="357120"/>
            <a:ext cx="4357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رسم تخطيطي 7" descr=""/>
          <p:cNvPicPr/>
          <p:nvPr/>
        </p:nvPicPr>
        <p:blipFill>
          <a:blip r:embed="rId1"/>
          <a:stretch/>
        </p:blipFill>
        <p:spPr>
          <a:xfrm>
            <a:off x="378000" y="42840"/>
            <a:ext cx="8650080" cy="6443640"/>
          </a:xfrm>
          <a:prstGeom prst="rect">
            <a:avLst/>
          </a:prstGeom>
          <a:ln w="0">
            <a:noFill/>
          </a:ln>
        </p:spPr>
      </p:pic>
      <p:sp>
        <p:nvSpPr>
          <p:cNvPr id="205" name="مربع نص 8"/>
          <p:cNvSpPr/>
          <p:nvPr/>
        </p:nvSpPr>
        <p:spPr>
          <a:xfrm>
            <a:off x="285840" y="6286680"/>
            <a:ext cx="1928880" cy="276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onstantia"/>
                <a:cs typeface="Majalla UI"/>
              </a:rPr>
              <a:t>إعداد: أ. نوف اليامي</a:t>
            </a:r>
            <a:r>
              <a:rPr b="1" lang="ar-SA" sz="12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7:29:26Z</dcterms:created>
  <dc:creator>Nouf</dc:creator>
  <dc:description/>
  <dc:language>en-US</dc:language>
  <cp:lastModifiedBy>Vista</cp:lastModifiedBy>
  <dcterms:modified xsi:type="dcterms:W3CDTF">2012-08-16T05:35:29Z</dcterms:modified>
  <cp:revision>12</cp:revision>
  <dc:subject/>
  <dc:title>Slide 1</dc:title>
</cp:coreProperties>
</file>