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1FD-B37F-4404-BFEC-A89164A3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6F0-9E7E-42A3-9F67-E760287A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AA0-1ACA-4B43-8E26-4AFB58A3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8DB-50D5-4131-8465-0AEB06E2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770A-4783-427C-95FD-F9900877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5DBD-0539-4CDB-8746-0478D12E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3AC5-F0EE-4977-B341-EBE19ED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38BC-7639-45BF-9908-659F5046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E513-9195-4104-8A44-9B1F382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E9E4-A1CF-4A90-AD48-F8CB39C1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DA7D-D9C7-4919-A532-8DF0167C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53D-54D8-4542-8731-3ABBC8F8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F9E5-AAFB-47C3-9695-D0E31E6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6598-A65D-43AD-A9F8-BB8AADF2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1FC4-7CB0-4AE4-B242-2A6DFD3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F1C0-45B4-42E9-B4AE-2FA4D96D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D928-4B3B-4B42-A46E-82D90B06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7D37-EC5E-42A1-BE52-C4FDD1F5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5A6A-8608-4772-A3C4-14CCA3F2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F1D6-DF80-4AC9-8825-88B78634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B9CD-EBB9-47A7-B0A6-B7C42A09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D491-F41F-47A3-B89B-DCBECCBB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E7C-D6B0-457B-A89A-2E2CEEFE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D1FD-9925-45C6-942F-38FBC2BF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9B97-FF0C-45B5-B881-EBDB653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D697-81F7-4EB8-8BAF-D53009FF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68B2-473C-4B5E-9F3D-A6CA3407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AC60-B4B3-41BF-80BC-662740C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6CA3-F622-4D19-B17B-7EC587F2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6CA0-2683-412C-BA9E-B0D34CA9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DA381-277E-40FF-BF0C-5FBE7DE7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E20A-78DC-4545-8A70-76FB684B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ADEE4-1166-4672-89FD-BEC307A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98F-72AD-4EFE-B786-198F4C6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2FBCF-CFBB-4580-90BF-4129E37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89D2-08EA-4336-92BD-77A56D4F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ACD5-6D2C-430C-AB28-0ACCB7A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C113-A06A-4EC1-843F-27234AF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23FF-A739-44B9-9170-8D0441E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C57C-1786-4807-80EB-2EA8C71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F884-DB49-45EA-AF6E-6456AAE7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F392-BF60-44D8-9895-28E6C6E6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A4BE8-0377-44D6-8CB9-33CAB887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735-76FC-4A1B-955B-14A335C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8857-7880-4D21-927F-11C1542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CD2-B7F3-4A26-9929-DEAD346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F77-FED0-45E6-A2C4-954CC547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41A-6237-44B2-A152-4935B6F7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4D2-A9CC-496B-8A85-266030FCEFB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AADF-76E7-4411-BD7F-E3535959556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CED5-2FE9-4240-A357-7E443574088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C7C3-5B00-415F-AEF2-ACA2E18B46A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  <a:cs typeface="Majalla UI"/>
              </a:rPr>
              <a:t>نوف مهدي اليامي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مربع نص 2"/>
          <p:cNvSpPr/>
          <p:nvPr/>
        </p:nvSpPr>
        <p:spPr>
          <a:xfrm>
            <a:off x="3714840" y="357120"/>
            <a:ext cx="435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رسم تخطيطي 7" descr=""/>
          <p:cNvPicPr/>
          <p:nvPr/>
        </p:nvPicPr>
        <p:blipFill>
          <a:blip r:embed="rId1"/>
          <a:stretch/>
        </p:blipFill>
        <p:spPr>
          <a:xfrm>
            <a:off x="231840" y="407880"/>
            <a:ext cx="8704080" cy="6456600"/>
          </a:xfrm>
          <a:prstGeom prst="rect">
            <a:avLst/>
          </a:prstGeom>
          <a:ln w="0">
            <a:noFill/>
          </a:ln>
        </p:spPr>
      </p:pic>
      <p:sp>
        <p:nvSpPr>
          <p:cNvPr id="199" name="مربع نص 8"/>
          <p:cNvSpPr/>
          <p:nvPr/>
        </p:nvSpPr>
        <p:spPr>
          <a:xfrm>
            <a:off x="285840" y="6286680"/>
            <a:ext cx="19288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onstantia"/>
                <a:cs typeface="Majalla UI"/>
              </a:rPr>
              <a:t>إعداد: أ. نوف اليامي</a:t>
            </a:r>
            <a:r>
              <a:rPr b="1" lang="ar-SA" sz="12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مربع نص 2"/>
          <p:cNvSpPr/>
          <p:nvPr/>
        </p:nvSpPr>
        <p:spPr>
          <a:xfrm>
            <a:off x="3714840" y="357120"/>
            <a:ext cx="435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رسم تخطيطي 7" descr=""/>
          <p:cNvPicPr/>
          <p:nvPr/>
        </p:nvPicPr>
        <p:blipFill>
          <a:blip r:embed="rId1"/>
          <a:stretch/>
        </p:blipFill>
        <p:spPr>
          <a:xfrm>
            <a:off x="244440" y="407880"/>
            <a:ext cx="8691480" cy="6456600"/>
          </a:xfrm>
          <a:prstGeom prst="rect">
            <a:avLst/>
          </a:prstGeom>
          <a:ln w="0">
            <a:noFill/>
          </a:ln>
        </p:spPr>
      </p:pic>
      <p:sp>
        <p:nvSpPr>
          <p:cNvPr id="202" name="مربع نص 8"/>
          <p:cNvSpPr/>
          <p:nvPr/>
        </p:nvSpPr>
        <p:spPr>
          <a:xfrm>
            <a:off x="285840" y="6286680"/>
            <a:ext cx="19288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onstantia"/>
                <a:cs typeface="Majalla UI"/>
              </a:rPr>
              <a:t>إعداد: أ. نوف اليامي</a:t>
            </a:r>
            <a:r>
              <a:rPr b="1" lang="ar-SA" sz="12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مربع نص 2"/>
          <p:cNvSpPr/>
          <p:nvPr/>
        </p:nvSpPr>
        <p:spPr>
          <a:xfrm>
            <a:off x="3714840" y="357120"/>
            <a:ext cx="4357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رسم تخطيطي 7" descr=""/>
          <p:cNvPicPr/>
          <p:nvPr/>
        </p:nvPicPr>
        <p:blipFill>
          <a:blip r:embed="rId1"/>
          <a:stretch/>
        </p:blipFill>
        <p:spPr>
          <a:xfrm>
            <a:off x="378000" y="42840"/>
            <a:ext cx="8650080" cy="6443640"/>
          </a:xfrm>
          <a:prstGeom prst="rect">
            <a:avLst/>
          </a:prstGeom>
          <a:ln w="0">
            <a:noFill/>
          </a:ln>
        </p:spPr>
      </p:pic>
      <p:sp>
        <p:nvSpPr>
          <p:cNvPr id="205" name="مربع نص 8"/>
          <p:cNvSpPr/>
          <p:nvPr/>
        </p:nvSpPr>
        <p:spPr>
          <a:xfrm>
            <a:off x="285840" y="6286680"/>
            <a:ext cx="192888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Constantia"/>
                <a:cs typeface="Majalla UI"/>
              </a:rPr>
              <a:t>إعداد: أ. نوف اليامي</a:t>
            </a:r>
            <a:r>
              <a:rPr b="1" lang="ar-SA" sz="1200" spc="-1" strike="noStrike">
                <a:solidFill>
                  <a:srgbClr val="000000"/>
                </a:solidFill>
                <a:latin typeface="Constantia"/>
                <a:ea typeface="Majalla U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7:29:26Z</dcterms:created>
  <dc:creator>Nouf</dc:creator>
  <dc:description/>
  <dc:language>en-US</dc:language>
  <cp:lastModifiedBy>Vista</cp:lastModifiedBy>
  <dcterms:modified xsi:type="dcterms:W3CDTF">2012-08-16T05:35:29Z</dcterms:modified>
  <cp:revision>12</cp:revision>
  <dc:subject/>
  <dc:title>Slide 1</dc:title>
</cp:coreProperties>
</file>