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A82F-972A-4ECE-92DD-7D1DB2C5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1C42-117F-4320-B0FA-ADC9C628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BAF9-1DCC-4918-BAF7-1F10BFFF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CCF3-EA30-421D-9B9A-831CB07A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6D08-549F-498E-94A0-691203D3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6198-0275-47E7-9526-347AB2F6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7F15-6180-4A8A-ACFF-359D6B2F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6904-2FCC-4AFD-A54C-61ADCC7D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9168-A3E0-463B-9D7E-D82DD58D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6982-A092-4057-8179-D362CDF1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F231-A9C2-4680-A5DC-BB1A53A9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8E8F-EF9F-48F5-965D-FFE5F82F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3D6B-9C56-4CDC-83FC-C08A5629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9A6E-E235-4C64-955D-FE663572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0326-F700-41C3-A169-BCDA13DD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EFE1-0F2A-48C1-87CB-AF8A57C3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4189-0EDD-447B-96D2-32A3185E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1AE1E-3934-4E4D-A303-3273B9EC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8C2F0-9816-4CE6-A496-C92D165D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4D74B-F1C5-427E-A99D-5A785D0A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9B521-3638-4579-8322-E00292C1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FED0C-6977-432A-8D60-5A07A0B9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11A7-EE03-422E-B885-B6EB9D60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C0ED6-F5C6-4AFF-B05D-64371429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08E3B-F285-4DE6-B4A5-9FC0BE19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16E16-0738-41CD-A94A-07B77D9E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ECEE7-D443-4FCB-B231-8E2E4A7C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B4805-1BD8-4E88-A892-EB1A40FF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5DBEF-3D1C-407A-A5A6-36C06374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2556A-C821-4882-A397-6B950F43C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FA27F-9E5D-4177-869F-870AB14C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25EDB-BB13-42FF-BD5A-D7BBB3D4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3B915-CAD8-4E7B-AA08-CA5BBC3A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7161-C235-4BFE-B6EA-43BD7FA8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E88E8-78EC-4AA0-8647-7F397213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6FA7E-594A-49C3-8102-B549AD15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3FF46-3A04-49C8-9646-DFE07E1E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51023-E4FA-4CAB-B61F-9CCB2546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041C6-48FA-4063-95E1-656EA9EB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72121-FA60-45B1-8AA6-908AA121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4CA7C-17FF-4327-8075-92CD9911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10911-F04F-484E-A411-46396E8B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C50D4-29E2-451B-97F4-EEEC207A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D910-5F9D-47D2-B50A-EEA328A2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8510-D7A9-4606-A6E6-68C478A8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6BAF-FD4E-4D15-9905-09ACDD3B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B011-F01E-4580-901B-5C69D885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9DCA-03FA-49E7-A03D-448441A5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3109-37CE-4758-B5DA-5FC935DD476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41B8-F6E9-4DAE-9F7A-68DF8F0F379A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7D30-B0BF-435D-A7E4-CE912A739F8A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6574-A21A-41D6-8DBB-47B5EBF9D7B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4"/>
          <p:cNvSpPr/>
          <p:nvPr/>
        </p:nvSpPr>
        <p:spPr>
          <a:xfrm>
            <a:off x="1295280" y="990720"/>
            <a:ext cx="6477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صنيف لمقرر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0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حين عم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عداد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وف اليام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شراف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.د.ماجده سن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مستطيل مخدوش من كلا الطرفين 2"/>
          <p:cNvSpPr/>
          <p:nvPr/>
        </p:nvSpPr>
        <p:spPr>
          <a:xfrm>
            <a:off x="1752480" y="1143000"/>
            <a:ext cx="5639040" cy="3048120"/>
          </a:xfrm>
          <a:custGeom>
            <a:avLst/>
            <a:gdLst>
              <a:gd name="textAreaLeft" fmla="*/ 253800 w 5639040"/>
              <a:gd name="textAreaRight" fmla="*/ 5385240 w 5639040"/>
              <a:gd name="textAreaTop" fmla="*/ 253800 h 3048120"/>
              <a:gd name="textAreaBottom" fmla="*/ 3048120 h 3048120"/>
            </a:gdLst>
            <a:ahLst/>
            <a:rect l="textAreaLeft" t="textAreaTop" r="textAreaRight" b="textAreaBottom"/>
            <a:pathLst>
              <a:path w="5638800" h="3048000">
                <a:moveTo>
                  <a:pt x="508010" y="0"/>
                </a:moveTo>
                <a:lnTo>
                  <a:pt x="5130790" y="0"/>
                </a:lnTo>
                <a:lnTo>
                  <a:pt x="5638800" y="508010"/>
                </a:lnTo>
                <a:lnTo>
                  <a:pt x="5638800" y="3048000"/>
                </a:lnTo>
                <a:lnTo>
                  <a:pt x="5638800" y="3048000"/>
                </a:lnTo>
                <a:lnTo>
                  <a:pt x="0" y="3048000"/>
                </a:lnTo>
                <a:lnTo>
                  <a:pt x="0" y="3048000"/>
                </a:lnTo>
                <a:lnTo>
                  <a:pt x="0" y="508010"/>
                </a:lnTo>
                <a:close/>
              </a:path>
            </a:pathLst>
          </a:custGeom>
          <a:solidFill>
            <a:srgbClr val="b3eaf2">
              <a:alpha val="33000"/>
            </a:srgbClr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0"/>
            <a:ext cx="822960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abic Transparent"/>
              </a:rPr>
              <a:t>مملكة الحيوان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Kingdom: Animalia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abic Transparent"/>
              </a:rPr>
              <a:t>تحت مملكة البعديات الحيوانيه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Subkingdom: Metazo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abic Transparent"/>
              </a:rPr>
              <a:t>شعبة المفلطحات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Phylum: Platyhelminthes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abic Transparent"/>
              </a:rPr>
              <a:t>طائفة تريماتودا (ثنائية العائل)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Class: Trematoda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abic Transparent"/>
              </a:rPr>
              <a:t>رتبة ثنائية العائل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Subclass: Digene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Order: Strigeifor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Family: schistosomidae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abic Transparent"/>
              </a:rPr>
              <a:t>جنس الشيستوسوما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Genus: schistosom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1- Species: haematobi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                                        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abic Transparent"/>
              </a:rPr>
              <a:t>الإسم العلمي: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Arabic Transparent"/>
              </a:rPr>
              <a:t>شيستوسوما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Arabic Transparent"/>
              </a:rPr>
              <a:t>هيماتوبيو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  <a:ea typeface="Arabic Transparent"/>
              </a:rPr>
              <a:t>Schistosom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  <a:ea typeface="Arabic Transparent"/>
              </a:rPr>
              <a:t>haematobi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2- Species: manson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                                                 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abic Transparent"/>
              </a:rPr>
              <a:t>الإسم العلمي: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Arabic Transparent"/>
              </a:rPr>
              <a:t>شيستوسوما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Arabic Transparent"/>
              </a:rPr>
              <a:t>مانسوني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  <a:ea typeface="Arabic Transparent"/>
              </a:rPr>
              <a:t>Schistosom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  <a:ea typeface="Arabic Transparent"/>
              </a:rPr>
              <a:t>mansoni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1187280" y="260280"/>
            <a:ext cx="64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مملكة الحيوانية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ingdom: Animali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طائفة البعديات الحقيقية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kingdom: Metazo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شعبة الديدان الاسطوانية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hylum: Nemathelminthes                      Class: Rhaldit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rder: Ascari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amily: Ascariida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جنس الاسكارس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us: Ascari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نوع لمبريكويدس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ecies: Lumbricoide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اسم العلمي: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</a:rPr>
              <a:t>اسكارس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</a:rPr>
              <a:t>لمبريكويدس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scaris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Lumbricide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1447920" y="3276720"/>
            <a:ext cx="61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مملكة الحيوانية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ingdom: Animali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طائفة البعديات الحقيقية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kingdom: Metazo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perPhylum:Eurochog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شعبة الحلقيات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hylum: Annelid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طائفة قليلات الأشواك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ass: Oligochaet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rder:Opisthop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جنس دودة الأرض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us: Allolobophor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نوع كاليجينوزا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ecies: caliginos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اسم العلمي: اللولوبوفورا كاليجينوزا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llolobophora caliginos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1332000" y="692280"/>
            <a:ext cx="633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مملكة الحيوانية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ingdom: Animali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طائفة البعديات الحقيقية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kingdom: Metazo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شعبة الحلقيات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hylum: Annelid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طائفة العلقيات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ass: Hirudine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rder:Gnathold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جنس العلق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us: Hirudo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نوع ميديسيناليس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ecies: medicinali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اسم العلمي: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</a:rPr>
              <a:t>العلق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</a:rPr>
              <a:t>الطبي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Hirudo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medicinali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1371600" y="3429000"/>
            <a:ext cx="662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مملكة الحيوانية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ingdom: Animali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طائفة البعديات الحقيقية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kingdom: Metazo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شعبة الرخويات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hylum: Mollusc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طائفة رأسيات القدم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ass: Cephalopod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der:Sepi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جنس الحبار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us: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e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6"/>
          <p:cNvSpPr/>
          <p:nvPr/>
        </p:nvSpPr>
        <p:spPr>
          <a:xfrm>
            <a:off x="1476360" y="333360"/>
            <a:ext cx="60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مملكة الحيوانية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ingdom: Animali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طائفة البعديات الحقيقية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kingdom: Metazo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شعبة مفصليات الأرجل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hylum: Arthropod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طائفة الحشرات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ass: Insect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amily:Acridid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رتبة الحشرات مستقيمة الأجنحة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rder: Orthopter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جنس الجراد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us: Schistocerc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نوع الجراد الصحراوي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ecies: gregari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اسم العلمي: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</a:rPr>
              <a:t>الجراد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</a:rPr>
              <a:t>الصحراوي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chistocerc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gregari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600200" y="3581280"/>
            <a:ext cx="640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مملكة الحيوانية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ingdom: Animali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طائفة البعديات الحقيقية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kingdom: Eumetazo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شعبة الشوكجلديات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hylum: Echinodermat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طائفة النجميات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ass: Asteroide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rder:Poxillos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جنس نجم البحر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us: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stropecten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3124080" y="0"/>
            <a:ext cx="4672080" cy="56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مملكة الطلائعيات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Kingdom: Prot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تحت مملكة الاوليات الحيوانية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ubkingdom: Protozo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شعبة السوطيات و اللحميات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arcomastigophora     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hy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شعيبة اللحميات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ubphylum: Sarcodin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طائفة ذوات الاقدام الكاذبة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lass: Lobosea  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rder: Amoebid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amily: Amoebid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enus: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Amo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990720" y="38862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Family: Endamoebid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304920" y="4419720"/>
            <a:ext cx="50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جنس الانتاميبا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us: Entamoeb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ecies: coli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       الإسم العلمي: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</a:rPr>
              <a:t>انتاميبا كولاي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Entamoeb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li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1" i="1" lang="ar-SA" sz="18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41400" y="5257800"/>
            <a:ext cx="529272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ecies: histolytic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الإسم العلمي: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</a:rPr>
              <a:t>انتاميبا هستوليتيكا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Entamoeb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histoly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"/>
          <p:cNvSpPr/>
          <p:nvPr/>
        </p:nvSpPr>
        <p:spPr>
          <a:xfrm>
            <a:off x="577800" y="1285920"/>
            <a:ext cx="813744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مملكة الطلائعيات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ingdom: Prot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تحت مملكة الاوليات الحيوانية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bkingdom: Protozo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شعبة السوطيات و اللحميات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rcomastigophora     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yl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شعيبةالسوطيات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bphylum: Mastigophor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طائفة السوطيات الشبيه بالنباتات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ass: Phytomastigophora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der: Euglen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mily: Euglenide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جنس اليوجلينا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nus: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uglen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مستطيل 2"/>
          <p:cNvSpPr/>
          <p:nvPr/>
        </p:nvSpPr>
        <p:spPr>
          <a:xfrm>
            <a:off x="3904200" y="500040"/>
            <a:ext cx="20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اليوجلين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1214280" y="1214280"/>
            <a:ext cx="722952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مملكة الطلائعيات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Kingdom: Prot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حت مملكة الاوليات الحيوانية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ubkingdom: Protozo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شعبة الهدبيات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hylum: Ciliophor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lass:Nassopho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rder: Paramecui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amily:Paramecuiid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جنس براميسيوم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enus: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Paramecium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مستطيل 2"/>
          <p:cNvSpPr/>
          <p:nvPr/>
        </p:nvSpPr>
        <p:spPr>
          <a:xfrm>
            <a:off x="4019760" y="571680"/>
            <a:ext cx="253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براميسي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500040" y="785880"/>
            <a:ext cx="82090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مملكة الطلائعيات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ingdom: Prot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تحت مملكة الاوليات الحيوانية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bkingdom: Protozo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شعبة ذوات المركب القمي البوغيات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ylum: Apicomplex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طائفة البوغيات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ass: Sporoz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der: Eucoccidi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mily: Plasmodiid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جنس بلازموديوم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nus: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lasmodi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"/>
          <p:cNvSpPr/>
          <p:nvPr/>
        </p:nvSpPr>
        <p:spPr>
          <a:xfrm>
            <a:off x="4429080" y="21420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بلازموديو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1219320" y="260280"/>
            <a:ext cx="743904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مملكة الحيوا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ingdom: Animali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ظائر البعديات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bkingdom: Parazoa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شعبة المساميات (المثقبات)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ylum: Porifer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الطراز الأسكوني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- Asconoid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                 ليوكوسولينا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eucosolenia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ب- الطراز السيكوني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- Syconoid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br>
              <a:rPr sz="2000"/>
            </a:b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سيكون    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ycon</a:t>
            </a:r>
            <a:br>
              <a:rPr sz="2400"/>
            </a:b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ج- الطراز الليوكوني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- Leuconoid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                  يوسبونجيا  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uspon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457200" y="98100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مملكة الحيوا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ingdom: Animalia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بعديات الحقيقية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bkingdom: Eumetazo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شعبة اللاسعات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ylum: Cnidaria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طائفة الحيوانات الهيدرية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ass: Hydrozo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der: Amthomedas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جنس الهيدرا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nus: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y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457200" y="404640"/>
            <a:ext cx="84358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مملكة الحيوان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ingdom: Animali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بعديات الحقيقية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bkingdom:Eumetazo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شعبة المفلطحات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ylum: Platyhelminthes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طائفة السستودا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ass: Cestoide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der: Cyclophyll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mily: Taeniid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جنس التينيا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nus: Ta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es: saginat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الإسم العلمي: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تينيا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ساجيناتا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aeni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ginat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- Species: soli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الإسم العلمي: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تينيا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سو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aeni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o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4"/>
          <p:cNvSpPr/>
          <p:nvPr/>
        </p:nvSpPr>
        <p:spPr>
          <a:xfrm>
            <a:off x="324000" y="431640"/>
            <a:ext cx="8229600" cy="51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abic Transparent"/>
              </a:rPr>
              <a:t>مملكة الحيوان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Kingdom: Animalia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abic Transparent"/>
              </a:rPr>
              <a:t>تحت مملكة البعديات الحيوانيه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Subkingdom: Metazo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abic Transparent"/>
              </a:rPr>
              <a:t>شعبة المفلطحات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Phylum: Platyhelminthes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abic Transparent"/>
              </a:rPr>
              <a:t>طائفة تريماتودا (ثنائية العائل)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Class: Trematoda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abic Transparent"/>
              </a:rPr>
              <a:t>رتبة ثنائية العائل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Subclass: Digene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Order: Echinostomifor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Family:Fasciolid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Genus:Fasci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abic Transparent"/>
              </a:rPr>
              <a:t>نوع جيجانتيكا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Species: Hepatica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abic Transparent"/>
              </a:rPr>
              <a:t>الإسم العلمي: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Arabic Transparent"/>
              </a:rPr>
              <a:t>فاشيولا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Arabic Transparent"/>
              </a:rPr>
              <a:t>جيجانتيكا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  <a:ea typeface="Arabic Transparent"/>
              </a:rPr>
              <a:t>Fasciol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  <a:ea typeface="Arabic Transparent"/>
              </a:rPr>
              <a:t>gigantica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6:27:32Z</dcterms:created>
  <dc:creator>Nouf</dc:creator>
  <dc:description/>
  <dc:language>en-US</dc:language>
  <cp:lastModifiedBy>Vista</cp:lastModifiedBy>
  <dcterms:modified xsi:type="dcterms:W3CDTF">2012-08-16T05:33:38Z</dcterms:modified>
  <cp:revision>5</cp:revision>
  <dc:subject/>
  <dc:title>Slide 1</dc:title>
</cp:coreProperties>
</file>