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0A7-41B5-4412-9459-37C16F31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D4B-292E-4A5D-BAF1-55FE930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543-603B-438F-A8E8-C1E5F072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73C-5E51-45F7-94DE-3F4EA14B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B115-E5CE-4D52-A6F4-EF885AC3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567C-EB9C-4946-B4C4-797D8E23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B2C-C7C9-47AF-83D0-8E42AA85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6272-B852-450A-A047-6623CD6D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844-8C0F-4684-AE05-9B9C136B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F99E-A61F-42BE-8229-4F4228CC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9CAD-9E09-4D94-A4AF-7EC0549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4D0-5C65-4A91-8AD0-DF51C0F2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7621-9DD1-48A7-82DE-C3D1C06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200E-27A6-4AA2-8129-434A1E0F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9B2C-C316-416B-BA5E-30D501B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6C2-99B5-4C4B-A90F-B39EA53E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304B-EE3C-4BE5-9A19-05EA7DE9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5223-5FE4-41C4-841D-578E19A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CC40-461F-4F6B-A39E-FBA869A5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F8F4F-4793-4F0A-9BCC-CB29747F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8E1E-0A62-44F4-9241-64839E0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230D-39A1-4412-A392-6307A7DF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721-B885-442E-8F95-F9AC059F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4D3F-0CC5-48EF-9EF4-58B235F3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1E32-540D-4B2A-A294-34938438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5289-8C90-4582-8545-07C1A80C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51D6A-4608-44A2-A8D2-27A50AEE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02E9-2419-4C54-8D0E-699B1BD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2950-1F02-4B4B-865B-80D71D0A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AA63-495C-47BF-AEE2-32AE92BB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BE3E-9334-476F-A2DC-518CFB56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C4448-3D65-41F2-9C04-08381136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33A7-A304-4399-A805-31B704B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BCA-64C0-434D-BAC4-E34F837B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3A06-D04D-4C7B-BB8A-EAB5FE79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0A69-CFE1-4025-8AED-4F175194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2D33-8EF7-4EED-A263-9B9A0D0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E772C-2385-4BD8-B715-08D59A8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BF0A-26B1-4834-9563-35175C9F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63C8-F70E-4429-B3E0-D39E0FD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31D3-4D33-4CF4-9590-3C320303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826B-833A-4922-A6DF-84900326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8F747-80E9-45BE-A84E-5EE359F1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0AD-0DE3-4881-9CB7-2CD35AA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310-1225-4271-B6AA-D292139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487-977E-45CB-8298-562F9CF4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DBE-25A6-417C-BBE7-50B80CC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980-8F0F-469F-8F0D-A6F2E85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FEA3-1C9E-4657-860E-918D0CDEF5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3F1-0DDC-47EF-8EB1-3585A3F890A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C49-3F09-45CC-A58C-590812C8A81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6A8E-3EBF-479C-8087-1C2772F479E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4"/>
          <p:cNvSpPr/>
          <p:nvPr/>
        </p:nvSpPr>
        <p:spPr>
          <a:xfrm>
            <a:off x="1295280" y="990720"/>
            <a:ext cx="6477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صنيف لمقرر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حين عم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عداد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ف اليا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شرا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.د.ماجده س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مستطيل مخدوش من كلا الطرفين 2"/>
          <p:cNvSpPr/>
          <p:nvPr/>
        </p:nvSpPr>
        <p:spPr>
          <a:xfrm>
            <a:off x="1752480" y="1143000"/>
            <a:ext cx="5639040" cy="3048120"/>
          </a:xfrm>
          <a:custGeom>
            <a:avLst/>
            <a:gdLst>
              <a:gd name="textAreaLeft" fmla="*/ 253800 w 5639040"/>
              <a:gd name="textAreaRight" fmla="*/ 5385240 w 5639040"/>
              <a:gd name="textAreaTop" fmla="*/ 253800 h 3048120"/>
              <a:gd name="textAreaBottom" fmla="*/ 3048120 h 3048120"/>
            </a:gdLst>
            <a:ahLst/>
            <a:rect l="textAreaLeft" t="textAreaTop" r="textAreaRight" b="textAreaBottom"/>
            <a:pathLst>
              <a:path w="5638800" h="3048000">
                <a:moveTo>
                  <a:pt x="508010" y="0"/>
                </a:moveTo>
                <a:lnTo>
                  <a:pt x="5130790" y="0"/>
                </a:lnTo>
                <a:lnTo>
                  <a:pt x="5638800" y="508010"/>
                </a:lnTo>
                <a:lnTo>
                  <a:pt x="5638800" y="3048000"/>
                </a:lnTo>
                <a:lnTo>
                  <a:pt x="5638800" y="3048000"/>
                </a:lnTo>
                <a:lnTo>
                  <a:pt x="0" y="3048000"/>
                </a:lnTo>
                <a:lnTo>
                  <a:pt x="0" y="3048000"/>
                </a:lnTo>
                <a:lnTo>
                  <a:pt x="0" y="508010"/>
                </a:lnTo>
                <a:close/>
              </a:path>
            </a:pathLst>
          </a:custGeom>
          <a:solidFill>
            <a:srgbClr val="b3eaf2">
              <a:alpha val="33000"/>
            </a:srgbClr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مملكة الحيوان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تحت مملكة البعديات الحيوانيه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kingdom: 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شعبة المفلطحات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طائفة تريماتودا (ثنائية العائل)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Class: Trematod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رتبة ثنائية العائل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class: Digen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Order: Strigei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Family: schistosomidae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جنس الشيستوسوما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Genus: schistoso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1- Species: haematob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شيستوسوم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هيماتوبيو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Schistoso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haematob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2- Species: manson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        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شيستوسوم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مانسوني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Schistosom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mansoni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87280" y="260280"/>
            <a:ext cx="64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ديدان الاسطوانية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Nemathelminthes                      Class: Rhaldi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 Ascari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mily: Ascariida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اسكارس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Ascar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لمبريكويدس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Lumbricoid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سكارس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لمبريكويدس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scaris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umbricide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447920" y="3276720"/>
            <a:ext cx="61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perPhylum:Eurochog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حلقيات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nneli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قليلات الأشواك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Oligochae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Opisthop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دودة الأرض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Allolobophor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كاليجينوزا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caliginos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اللولوبوفورا كاليجينوزا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llolobophora caliginos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332000" y="692280"/>
            <a:ext cx="633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حلقيات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nneli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علقيات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Hirud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Gnathold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علق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Hirud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ميديسيناليس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medicinal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علق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طب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irud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edicinal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371600" y="3429000"/>
            <a:ext cx="66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رخويات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Mollus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رأسيات القدم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Cephalopo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der:Sepi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حبا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6"/>
          <p:cNvSpPr/>
          <p:nvPr/>
        </p:nvSpPr>
        <p:spPr>
          <a:xfrm>
            <a:off x="1476360" y="333360"/>
            <a:ext cx="60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مفصليات الأرجل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Arthropod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حشرات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Insec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mily:Acridi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رتبة الحشرات مستقيمة الأجنحة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 Orthopter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جراد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Schistocer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نوع الجراد الصحراوي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gregar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ا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جراد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لصحراو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histocer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regar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00200" y="3581280"/>
            <a:ext cx="64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مملكة الحيوانية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بعديات الحقيقية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kingdom: Eumetazo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شعبة الشوكجلديات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hylum: Echinodermat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ائفة النجميات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ass: Asteroid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der:Poxillos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نجم البحر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stropecten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3124080" y="0"/>
            <a:ext cx="4672080" cy="56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شعبة السوطيات و اللحميا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arcomastigophora    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شعيبة اللحميات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ubphylum: Sarcodin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طائفة ذوات الاقدام الكاذبة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ass: Lobosea  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der: Amoebid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amily: Amoebid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mo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9907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amily: Endamoebi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04920" y="441972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جنس الانتاميبا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us: 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col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 الإ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نتاميبا كولاي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li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1400" y="5257800"/>
            <a:ext cx="529272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ecies: histolyt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انتاميبا هستوليتيكا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ntamoeb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istoly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77800" y="1285920"/>
            <a:ext cx="8137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سوطيات و اللحمي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rcomastigophora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يبةالسوطيا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phylum: Mastigophor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سوطيات الشبيه بالنباتات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Phytomastigophora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Euglen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Euglenide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يوجلينا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uglen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ستطيل 2"/>
          <p:cNvSpPr/>
          <p:nvPr/>
        </p:nvSpPr>
        <p:spPr>
          <a:xfrm>
            <a:off x="3904200" y="500040"/>
            <a:ext cx="20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اليوجلين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214280" y="1214280"/>
            <a:ext cx="72295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شعبة الهدبيات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hylum: Ciliophora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ass:Nassoph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rder: Paramecui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amily:Paramecu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  <a:cs typeface="Majalla UI"/>
              </a:rPr>
              <a:t>جنس براميسيوم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aramecium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مستطيل 2"/>
          <p:cNvSpPr/>
          <p:nvPr/>
        </p:nvSpPr>
        <p:spPr>
          <a:xfrm>
            <a:off x="4019760" y="571680"/>
            <a:ext cx="25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راميس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00040" y="785880"/>
            <a:ext cx="820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طلائعيات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حت مملكة الاوليات الحيوانية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roto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ذوات المركب القمي البوغيات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Apicomple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بوغيات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Sporoz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Eucoccidi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Plasmod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بلازموديوم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lasmod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4429080" y="21420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219320" y="260280"/>
            <a:ext cx="743904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ظائر البعديات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Parazo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مساميات (المثقبات)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Porifer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راز الأسكوني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- As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ليوكوسولينا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ucosolen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- الطراز السيكوني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- Sy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br>
              <a:rPr sz="20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سيكون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con</a:t>
            </a:r>
            <a:br>
              <a:rPr sz="2400"/>
            </a:b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ج- الطراز الليوكوني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- Leuconoid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يوسبونجيا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uspon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457200" y="981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بعديات الحقيقية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 Eu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لاسعات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Cnidar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حيوانات الهيدرية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Hydrozo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Amthomeda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هيدرا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y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404640"/>
            <a:ext cx="84358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مملكة الحيوان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gdom: Animal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بعديات الحقيقية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bkingdom:Eu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شعبة المفلطحات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طائفة السستودا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: Cestoi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der: Cyclophyll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: Taeni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جنس التينيا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nus: Ta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es: saginat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يني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ساجينات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en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agi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 Species: so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تيني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سو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aen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o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324000" y="431640"/>
            <a:ext cx="82296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مملكة الحيوان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Kingdom: Animali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تحت مملكة البعديات الحيوانيه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kingdom: Metazo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شعبة المفلطحات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Phylum: Platyhelminthes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طائفة تريماتودا (ثنائية العائل)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Class: Trematod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رتبة ثنائية العائل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ubclass: Digen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Order: Echinostomifo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Family:Fascio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Genus:Fasci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نوع جيجانتيكا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Species: Hepatica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abic Transparent"/>
              </a:rPr>
              <a:t>الإسم العلمي: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فاشيول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abic Transparent"/>
              </a:rPr>
              <a:t>جيجانتيكا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Fascio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  <a:ea typeface="Arabic Transparent"/>
              </a:rPr>
              <a:t>gigantica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27:32Z</dcterms:created>
  <dc:creator>Nouf</dc:creator>
  <dc:description/>
  <dc:language>en-US</dc:language>
  <cp:lastModifiedBy>Vista</cp:lastModifiedBy>
  <dcterms:modified xsi:type="dcterms:W3CDTF">2012-08-16T05:33:38Z</dcterms:modified>
  <cp:revision>5</cp:revision>
  <dc:subject/>
  <dc:title>Slide 1</dc:title>
</cp:coreProperties>
</file>