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projctor.wav" ContentType="audio/x-wav"/>
  <Override PartName="/ppt/media/chimes.wav" ContentType="audio/x-wav"/>
  <Override PartName="/ppt/media/image8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typ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fc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B54F-706E-4064-A013-F065B7488AE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A271-E9D1-4980-B1E8-A19B6724D302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5177-FF71-4E4C-BED0-37AD3C485DF0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709F-7EF5-4BA1-BF59-366ECA610FD3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48CA-4235-47D2-9F34-145B06F0A229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AD46-5854-4AE5-87DD-D4435B73F5DE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6F16-2AA6-4E99-9C19-ADD860ED0EDE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8D7C-64E7-4160-BF56-E746C1CC606F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2529-3921-4789-ADA8-1DC76B2BF2C1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D242-E269-4233-849A-A920179EF622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B60F-6CCD-4206-9D10-202F3D9870EE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F0F8-986B-453D-A06B-B2992360A6BB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EC6D-AD35-481E-9779-78C4421837A5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B0F3-9433-4FD5-9CCF-74B376585870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9F2B-60C1-44C6-AD85-12909E595329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7FAE-B3AB-49BB-9442-7CC30272484A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72C3-A144-4C3D-A4A9-4A630E351561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798E-D877-42E6-87B5-FEAE9585D26D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0631-1899-4931-98F2-88385A00721F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7B35-168D-42B1-8916-1BCCFDBEA3D0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DD9-9799-4810-A3C7-AAF86F30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E62-B647-402C-A0F8-8848821D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A26-C7D6-4764-B6B3-2FF16E8E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6AD-FA85-4D95-9DC3-9E349635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3042-E0AF-4F50-B714-65852FA8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8AF2-AB98-4CFF-8D92-6DA65D24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5CC2-9E74-486C-98D7-D82B017C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33AC-9B62-427B-B209-BB268073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8B7C-22BB-448B-953C-7CABE4D4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905120" y="457200"/>
            <a:ext cx="6858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D247-F344-4015-8F5A-AB98AA95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F7E9-DBA7-46C2-ABC7-AA4C496A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334-B07C-4BCD-B94B-C42DF64C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E53B-CD86-401C-BA5D-B4CD09D7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4F00-AD0B-41B9-8A2E-334F5BFF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6A23-943A-49CC-A41C-699A095C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F7AE-6B5F-4D4A-A7CD-8BE7FB1F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E7BC-97C4-4BE9-8584-15B1D577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BB5-859C-4A10-9499-21C56163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DD7-949D-47B0-9C6D-9EF0C829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92CC-1066-4FE8-A84E-F1630BCA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905120" y="457200"/>
            <a:ext cx="6858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ADC-CDCA-4EF8-8EB6-73F06EAE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AEB-F874-4F77-889D-D4BA102A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526-D140-46E3-BFC6-F641E62A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CEC-5E7F-4548-BEA8-A5F8E432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23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16335e"/>
                </a:gs>
                <a:gs pos="100000">
                  <a:srgbClr val="306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2" name="Rectangle 24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3" name="Rectangle 25"/>
            <p:cNvSpPr/>
            <p:nvPr/>
          </p:nvSpPr>
          <p:spPr>
            <a:xfrm>
              <a:off x="8839080" y="228600"/>
              <a:ext cx="304920" cy="6477120"/>
            </a:xfrm>
            <a:prstGeom prst="rect">
              <a:avLst/>
            </a:prstGeom>
            <a:solidFill>
              <a:srgbClr val="306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4" name="Rectangle 29"/>
            <p:cNvSpPr/>
            <p:nvPr/>
          </p:nvSpPr>
          <p:spPr>
            <a:xfrm>
              <a:off x="1752480" y="380880"/>
              <a:ext cx="70866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grpSp>
          <p:nvGrpSpPr>
            <p:cNvPr id="5" name="Group 26"/>
            <p:cNvGrpSpPr/>
            <p:nvPr/>
          </p:nvGrpSpPr>
          <p:grpSpPr>
            <a:xfrm>
              <a:off x="0" y="1041480"/>
              <a:ext cx="9144000" cy="152280"/>
              <a:chOff x="0" y="1041480"/>
              <a:chExt cx="9144000" cy="152280"/>
            </a:xfrm>
          </p:grpSpPr>
          <p:sp>
            <p:nvSpPr>
              <p:cNvPr id="6" name="Line 27"/>
              <p:cNvSpPr/>
              <p:nvPr/>
            </p:nvSpPr>
            <p:spPr>
              <a:xfrm>
                <a:off x="0" y="1041480"/>
                <a:ext cx="9144000" cy="0"/>
              </a:xfrm>
              <a:prstGeom prst="line">
                <a:avLst/>
              </a:prstGeom>
              <a:ln w="28440">
                <a:solidFill>
                  <a:srgbClr val="25a2a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  <p:sp>
            <p:nvSpPr>
              <p:cNvPr id="7" name="Rectangle 28"/>
              <p:cNvSpPr/>
              <p:nvPr/>
            </p:nvSpPr>
            <p:spPr>
              <a:xfrm>
                <a:off x="0" y="1041480"/>
                <a:ext cx="1752480" cy="152280"/>
              </a:xfrm>
              <a:prstGeom prst="rect">
                <a:avLst/>
              </a:prstGeom>
              <a:solidFill>
                <a:srgbClr val="25a2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e3f96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e3f96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06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A88E-37AC-4801-B919-CFBEB54DA737}" type="datetime">
              <a:rPr b="0" lang="ar-SA" sz="1400" spc="-1" strike="noStrike">
                <a:solidFill>
                  <a:srgbClr val="306fcc"/>
                </a:solidFill>
                <a:latin typeface="Times New Roman"/>
              </a:rPr>
              <a:t>١٤٤٨/٠٢/١٦</a:t>
            </a:fld>
            <a:r>
              <a:rPr b="0" lang="ar-SA" sz="1400" spc="-1" strike="noStrike">
                <a:solidFill>
                  <a:srgbClr val="306fcc"/>
                </a:solidFill>
                <a:latin typeface="Times New Roman"/>
              </a:rPr>
              <a:t> </a:t>
            </a:r>
            <a:fld id="{0A69DDD4-EFA2-411E-9518-435E8FD9C418}" type="datetime10">
              <a:rPr b="0" lang="ar-SA" sz="1400" spc="-1" strike="noStrike">
                <a:solidFill>
                  <a:srgbClr val="306fcc"/>
                </a:solidFill>
                <a:latin typeface="Times New Roman"/>
              </a:rPr>
              <a:t>1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06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9059-170D-410C-85AB-409BEA11E00C}" type="slidenum">
              <a:rPr b="0" lang="ar-SA" sz="1400" spc="-1" strike="noStrike">
                <a:solidFill>
                  <a:srgbClr val="306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31"/>
          <p:cNvSpPr/>
          <p:nvPr/>
        </p:nvSpPr>
        <p:spPr>
          <a:xfrm>
            <a:off x="305280" y="25704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1"/>
          <p:cNvSpPr/>
          <p:nvPr/>
        </p:nvSpPr>
        <p:spPr>
          <a:xfrm>
            <a:off x="0" y="476280"/>
            <a:ext cx="9147240" cy="6381720"/>
          </a:xfrm>
          <a:prstGeom prst="rect">
            <a:avLst/>
          </a:prstGeom>
          <a:gradFill rotWithShape="0">
            <a:gsLst>
              <a:gs pos="0">
                <a:srgbClr val="306fcc"/>
              </a:gs>
              <a:gs pos="100000">
                <a:srgbClr val="437cd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51" name="Rectangle 3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142f56"/>
              </a:gs>
              <a:gs pos="100000">
                <a:srgbClr val="306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52" name="Rectangle 36"/>
          <p:cNvSpPr/>
          <p:nvPr/>
        </p:nvSpPr>
        <p:spPr>
          <a:xfrm flipV="1">
            <a:off x="304920" y="685440"/>
            <a:ext cx="5257800" cy="6019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53" name="Rectangle 37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grpSp>
        <p:nvGrpSpPr>
          <p:cNvPr id="54" name="Group 38"/>
          <p:cNvGrpSpPr/>
          <p:nvPr/>
        </p:nvGrpSpPr>
        <p:grpSpPr>
          <a:xfrm>
            <a:off x="1143000" y="2133720"/>
            <a:ext cx="8001000" cy="4723920"/>
            <a:chOff x="1143000" y="2133720"/>
            <a:chExt cx="8001000" cy="4723920"/>
          </a:xfrm>
        </p:grpSpPr>
        <p:sp>
          <p:nvSpPr>
            <p:cNvPr id="55" name="Rectangle 39"/>
            <p:cNvSpPr/>
            <p:nvPr/>
          </p:nvSpPr>
          <p:spPr>
            <a:xfrm>
              <a:off x="1638360" y="2135160"/>
              <a:ext cx="7505640" cy="47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grpSp>
          <p:nvGrpSpPr>
            <p:cNvPr id="56" name="Group 40"/>
            <p:cNvGrpSpPr/>
            <p:nvPr/>
          </p:nvGrpSpPr>
          <p:grpSpPr>
            <a:xfrm>
              <a:off x="1143000" y="2133720"/>
              <a:ext cx="990360" cy="4719240"/>
              <a:chOff x="1143000" y="2133720"/>
              <a:chExt cx="990360" cy="4719240"/>
            </a:xfrm>
          </p:grpSpPr>
          <p:sp>
            <p:nvSpPr>
              <p:cNvPr id="57" name="Oval 41"/>
              <p:cNvSpPr/>
              <p:nvPr/>
            </p:nvSpPr>
            <p:spPr>
              <a:xfrm>
                <a:off x="1143000" y="2133720"/>
                <a:ext cx="99036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  <p:sp>
            <p:nvSpPr>
              <p:cNvPr id="58" name="Rectangle 42"/>
              <p:cNvSpPr/>
              <p:nvPr/>
            </p:nvSpPr>
            <p:spPr>
              <a:xfrm>
                <a:off x="1143000" y="2626560"/>
                <a:ext cx="914400" cy="422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</p:grpSp>
      </p:grpSp>
      <p:sp>
        <p:nvSpPr>
          <p:cNvPr id="59" name="Rectangle 43"/>
          <p:cNvSpPr/>
          <p:nvPr/>
        </p:nvSpPr>
        <p:spPr>
          <a:xfrm>
            <a:off x="533520" y="6553080"/>
            <a:ext cx="861048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0" name="Rectangle 44"/>
          <p:cNvSpPr/>
          <p:nvPr/>
        </p:nvSpPr>
        <p:spPr>
          <a:xfrm>
            <a:off x="2124000" y="1860480"/>
            <a:ext cx="6791400" cy="501840"/>
          </a:xfrm>
          <a:prstGeom prst="rect">
            <a:avLst/>
          </a:prstGeom>
          <a:solidFill>
            <a:srgbClr val="25a2a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4267800" y="525780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3f96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e3f96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0e3f96"/>
              </a:solidFill>
              <a:latin typeface="Arial"/>
            </a:endParaRPr>
          </a:p>
        </p:txBody>
      </p:sp>
      <p:pic>
        <p:nvPicPr>
          <p:cNvPr id="62" name="Picture 48" descr=""/>
          <p:cNvPicPr/>
          <p:nvPr/>
        </p:nvPicPr>
        <p:blipFill>
          <a:blip r:embed="rId2"/>
          <a:stretch/>
        </p:blipFill>
        <p:spPr>
          <a:xfrm>
            <a:off x="5940360" y="692280"/>
            <a:ext cx="673200" cy="81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Picture 49" descr=""/>
          <p:cNvPicPr/>
          <p:nvPr/>
        </p:nvPicPr>
        <p:blipFill>
          <a:blip r:embed="rId3"/>
          <a:stretch/>
        </p:blipFill>
        <p:spPr>
          <a:xfrm>
            <a:off x="6948360" y="692280"/>
            <a:ext cx="708120" cy="81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4" name="Picture 50" descr=""/>
          <p:cNvPicPr/>
          <p:nvPr/>
        </p:nvPicPr>
        <p:blipFill>
          <a:blip r:embed="rId4"/>
          <a:stretch/>
        </p:blipFill>
        <p:spPr>
          <a:xfrm>
            <a:off x="8072280" y="692280"/>
            <a:ext cx="676440" cy="81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e3f96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e3f96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C9C0-4038-445D-AF2F-5FE91D78CF31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٦</a:t>
            </a:fld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867626D-CCEE-4D53-A5F9-2B130C445D85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C17F-A2FE-475D-ACB7-419327D1080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0200" y="32000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باب العاشر</a:t>
            </a:r>
            <a:endParaRPr b="0" lang="en-US" sz="44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62320" y="1871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إنترنت والتعليم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367E-98FE-47ED-80B5-7CEE86FBB86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685800" y="1981080"/>
            <a:ext cx="7391520" cy="703440"/>
          </a:xfrm>
          <a:prstGeom prst="rect">
            <a:avLst/>
          </a:prstGeom>
          <a:solidFill>
            <a:srgbClr val="306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http://www.yahoo.com</a:t>
            </a:r>
            <a:endParaRPr b="0" lang="en-US" sz="40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85800" y="3124080"/>
            <a:ext cx="7391520" cy="703440"/>
          </a:xfrm>
          <a:prstGeom prst="rect">
            <a:avLst/>
          </a:prstGeom>
          <a:solidFill>
            <a:srgbClr val="306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http://www.ksu.edu.sa</a:t>
            </a:r>
            <a:endParaRPr b="0" lang="en-US" sz="4000" spc="-1" strike="noStrike">
              <a:solidFill>
                <a:srgbClr val="0e3f96"/>
              </a:solidFill>
              <a:latin typeface="Arial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685800" y="2666880"/>
            <a:ext cx="7467480" cy="3629520"/>
            <a:chOff x="685800" y="2666880"/>
            <a:chExt cx="7467480" cy="3629520"/>
          </a:xfrm>
        </p:grpSpPr>
        <p:sp>
          <p:nvSpPr>
            <p:cNvPr id="151" name="Text Box 13"/>
            <p:cNvSpPr/>
            <p:nvPr/>
          </p:nvSpPr>
          <p:spPr>
            <a:xfrm>
              <a:off x="685800" y="5105160"/>
              <a:ext cx="7467480" cy="11912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e3f96"/>
                  </a:solidFill>
                  <a:latin typeface="Times New Roman"/>
                  <a:cs typeface="Times New Roman"/>
                </a:rPr>
                <a:t>اختصار لاسم  البرنامج او البروتكول المستخدم</a:t>
              </a:r>
              <a:endParaRPr b="0" lang="en-US" sz="36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152" name="Line 14"/>
            <p:cNvSpPr/>
            <p:nvPr/>
          </p:nvSpPr>
          <p:spPr>
            <a:xfrm flipV="1">
              <a:off x="2590560" y="388584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 flipV="1">
              <a:off x="2819160" y="2666880"/>
              <a:ext cx="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</p:grpSp>
      <p:grpSp>
        <p:nvGrpSpPr>
          <p:cNvPr id="154" name="Group 16"/>
          <p:cNvGrpSpPr/>
          <p:nvPr/>
        </p:nvGrpSpPr>
        <p:grpSpPr>
          <a:xfrm>
            <a:off x="228600" y="2666520"/>
            <a:ext cx="9144000" cy="3629880"/>
            <a:chOff x="228600" y="2666520"/>
            <a:chExt cx="9144000" cy="3629880"/>
          </a:xfrm>
        </p:grpSpPr>
        <p:sp>
          <p:nvSpPr>
            <p:cNvPr id="155" name="Text Box 17"/>
            <p:cNvSpPr/>
            <p:nvPr/>
          </p:nvSpPr>
          <p:spPr>
            <a:xfrm>
              <a:off x="228600" y="5105160"/>
              <a:ext cx="9144000" cy="11912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e3f96"/>
                  </a:solidFill>
                  <a:latin typeface="Times New Roman"/>
                  <a:cs typeface="Times New Roman"/>
                </a:rPr>
                <a:t>اختصار للشبكة العالمية العنكبوتية</a:t>
              </a:r>
              <a:r>
                <a:rPr b="0" lang="ar-SA" sz="3600" spc="-1" strike="noStrike">
                  <a:solidFill>
                    <a:srgbClr val="0e3f9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600" spc="-1" strike="noStrike">
                  <a:solidFill>
                    <a:srgbClr val="0e3f96"/>
                  </a:solidFill>
                  <a:latin typeface="Times New Roman"/>
                  <a:ea typeface="Times New Roman"/>
                </a:rPr>
                <a:t>World Wide Web</a:t>
              </a:r>
              <a:endParaRPr b="0" lang="en-US" sz="36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 flipV="1">
              <a:off x="3733920" y="388548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 flipV="1">
              <a:off x="4114800" y="2666520"/>
              <a:ext cx="0" cy="2361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</p:grpSp>
      <p:sp>
        <p:nvSpPr>
          <p:cNvPr id="158" name="Rectangle 19"/>
          <p:cNvSpPr/>
          <p:nvPr/>
        </p:nvSpPr>
        <p:spPr>
          <a:xfrm>
            <a:off x="1655280" y="533520"/>
            <a:ext cx="68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مثال على عنوان لموقع على الشبكة العالمية العنكبوتية</a:t>
            </a:r>
            <a:endParaRPr b="0" lang="en-US" sz="24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2139480" y="114300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Arial"/>
              </a:rPr>
              <a:t>URL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grpSp>
        <p:nvGrpSpPr>
          <p:cNvPr id="160" name="Group 24"/>
          <p:cNvGrpSpPr/>
          <p:nvPr/>
        </p:nvGrpSpPr>
        <p:grpSpPr>
          <a:xfrm>
            <a:off x="2057400" y="1905120"/>
            <a:ext cx="5257800" cy="4239000"/>
            <a:chOff x="2057400" y="1905120"/>
            <a:chExt cx="5257800" cy="4239000"/>
          </a:xfrm>
        </p:grpSpPr>
        <p:grpSp>
          <p:nvGrpSpPr>
            <p:cNvPr id="161" name="Group 5"/>
            <p:cNvGrpSpPr/>
            <p:nvPr/>
          </p:nvGrpSpPr>
          <p:grpSpPr>
            <a:xfrm>
              <a:off x="4343400" y="1905120"/>
              <a:ext cx="1447560" cy="1980720"/>
              <a:chOff x="4343400" y="1905120"/>
              <a:chExt cx="1447560" cy="1980720"/>
            </a:xfrm>
          </p:grpSpPr>
          <p:sp>
            <p:nvSpPr>
              <p:cNvPr id="162" name="Oval 6"/>
              <p:cNvSpPr/>
              <p:nvPr/>
            </p:nvSpPr>
            <p:spPr>
              <a:xfrm>
                <a:off x="4343400" y="1905120"/>
                <a:ext cx="1447560" cy="83808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  <p:sp>
            <p:nvSpPr>
              <p:cNvPr id="163" name="Oval 7"/>
              <p:cNvSpPr/>
              <p:nvPr/>
            </p:nvSpPr>
            <p:spPr>
              <a:xfrm>
                <a:off x="4419360" y="3047760"/>
                <a:ext cx="914040" cy="83808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</p:grpSp>
        <p:sp>
          <p:nvSpPr>
            <p:cNvPr id="164" name="Line 19"/>
            <p:cNvSpPr/>
            <p:nvPr/>
          </p:nvSpPr>
          <p:spPr>
            <a:xfrm flipV="1">
              <a:off x="5105520" y="2590200"/>
              <a:ext cx="0" cy="2285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V="1">
              <a:off x="4800600" y="3657600"/>
              <a:ext cx="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2057400" y="4952880"/>
              <a:ext cx="5257800" cy="11912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e3f96"/>
                  </a:solidFill>
                  <a:latin typeface="Times New Roman"/>
                  <a:cs typeface="Times New Roman"/>
                </a:rPr>
                <a:t>العنوان المميز للموقع (الاسم )</a:t>
              </a:r>
              <a:endParaRPr b="0" lang="en-US" sz="3600" spc="-1" strike="noStrike">
                <a:solidFill>
                  <a:srgbClr val="0e3f96"/>
                </a:solidFill>
                <a:latin typeface="Arial"/>
              </a:endParaRPr>
            </a:p>
          </p:txBody>
        </p:sp>
      </p:grpSp>
      <p:grpSp>
        <p:nvGrpSpPr>
          <p:cNvPr id="167" name="Group 28"/>
          <p:cNvGrpSpPr/>
          <p:nvPr/>
        </p:nvGrpSpPr>
        <p:grpSpPr>
          <a:xfrm>
            <a:off x="2895480" y="1905120"/>
            <a:ext cx="5257800" cy="3842640"/>
            <a:chOff x="2895480" y="1905120"/>
            <a:chExt cx="5257800" cy="3842640"/>
          </a:xfrm>
        </p:grpSpPr>
        <p:grpSp>
          <p:nvGrpSpPr>
            <p:cNvPr id="168" name="Group 8"/>
            <p:cNvGrpSpPr/>
            <p:nvPr/>
          </p:nvGrpSpPr>
          <p:grpSpPr>
            <a:xfrm>
              <a:off x="5181480" y="1905120"/>
              <a:ext cx="1675800" cy="1980720"/>
              <a:chOff x="5181480" y="1905120"/>
              <a:chExt cx="1675800" cy="1980720"/>
            </a:xfrm>
          </p:grpSpPr>
          <p:sp>
            <p:nvSpPr>
              <p:cNvPr id="169" name="Oval 9"/>
              <p:cNvSpPr/>
              <p:nvPr/>
            </p:nvSpPr>
            <p:spPr>
              <a:xfrm>
                <a:off x="5181480" y="2971800"/>
                <a:ext cx="1599840" cy="91404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  <p:sp>
            <p:nvSpPr>
              <p:cNvPr id="170" name="Oval 10"/>
              <p:cNvSpPr/>
              <p:nvPr/>
            </p:nvSpPr>
            <p:spPr>
              <a:xfrm>
                <a:off x="5714640" y="1905120"/>
                <a:ext cx="1142640" cy="83808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</p:grpSp>
        <p:sp>
          <p:nvSpPr>
            <p:cNvPr id="171" name="Line 15"/>
            <p:cNvSpPr/>
            <p:nvPr/>
          </p:nvSpPr>
          <p:spPr>
            <a:xfrm flipV="1">
              <a:off x="6858000" y="2742840"/>
              <a:ext cx="0" cy="2361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 flipV="1">
              <a:off x="5867280" y="3733200"/>
              <a:ext cx="0" cy="1371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173" name="Text Box 17"/>
            <p:cNvSpPr/>
            <p:nvPr/>
          </p:nvSpPr>
          <p:spPr>
            <a:xfrm>
              <a:off x="2895480" y="5105160"/>
              <a:ext cx="5257800" cy="64260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e3f96"/>
                  </a:solidFill>
                  <a:latin typeface="Times New Roman"/>
                  <a:cs typeface="Times New Roman"/>
                </a:rPr>
                <a:t>اختصار نوع الموقع</a:t>
              </a:r>
              <a:r>
                <a:rPr b="0" lang="ar-SA" sz="3600" spc="-1" strike="noStrike">
                  <a:solidFill>
                    <a:srgbClr val="0e3f96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e3f96"/>
                </a:solidFill>
                <a:latin typeface="Arial"/>
              </a:endParaRPr>
            </a:p>
          </p:txBody>
        </p:sp>
      </p:grpSp>
      <p:sp>
        <p:nvSpPr>
          <p:cNvPr id="174" name="Slide Number Placeholder 29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A4B8-C84E-4ABE-8481-8DD0C4C2FF47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9900"/>
                </a:solidFill>
                <a:latin typeface="Times New Roman"/>
                <a:cs typeface="Times New Roman"/>
              </a:rPr>
              <a:t>اختصارات نوع الموقع والبلد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60f"/>
                </a:solidFill>
                <a:latin typeface="Times New Roman"/>
                <a:ea typeface="Times New Roman"/>
              </a:rPr>
              <a:t>Edu , Com , Gov, Net, Org, Int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60f"/>
                </a:solidFill>
                <a:latin typeface="Times New Roman"/>
                <a:ea typeface="Times New Roman"/>
              </a:rPr>
              <a:t>Sa,uk, ua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A3E7-E3A0-431E-ABCC-B62B9DA0D1AD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imes New Roman"/>
                <a:cs typeface="Times New Roman"/>
              </a:rPr>
              <a:t>البحث</a:t>
            </a:r>
            <a:r>
              <a:rPr b="0" lang="ar-SA" sz="4000" spc="-1" strike="noStrike">
                <a:solidFill>
                  <a:srgbClr val="306fcc"/>
                </a:solidFill>
                <a:latin typeface="Times New Roman"/>
                <a:ea typeface="Times New Roman"/>
              </a:rPr>
              <a:t> </a:t>
            </a:r>
            <a:r>
              <a:rPr b="0" lang="ar-SA" sz="4000" spc="-1" strike="noStrike">
                <a:solidFill>
                  <a:srgbClr val="006600"/>
                </a:solidFill>
                <a:latin typeface="Times New Roman"/>
                <a:cs typeface="Times New Roman"/>
              </a:rPr>
              <a:t>عبر الانترنت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تصفح ياهو و</a:t>
            </a: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msn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حركات البحث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Google,Yahoo, Hotbot, Altavista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حركات بحث ذات واجهة عربية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ِ</a:t>
            </a: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Ayna, Nassej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ستخدام (و ، أو ، + ، -)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واقع الأسئلة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1FEF-EB0A-40E8-B511-D2CB6D3BADF9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06fcc"/>
                </a:solidFill>
                <a:latin typeface="Times New Roman"/>
                <a:cs typeface="Times New Roman"/>
              </a:rPr>
              <a:t>فوائد الانترنت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الاستعانة بالإنترنت لكتابة البحوث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بعض عناصر البحث : 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تحديد نوع المعلومه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مصادر المعلومه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اسماء اشخاص كتبوا في مجال البحث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المعلومه ليست سرية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تحديد لغة البحث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5D92-A6F6-41A2-AD7C-19C28A266A0E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905120" y="533520"/>
            <a:ext cx="5410080" cy="916920"/>
          </a:xfrm>
          <a:prstGeom prst="rect">
            <a:avLst/>
          </a:prstGeom>
          <a:solidFill>
            <a:srgbClr val="6666ff"/>
          </a:solidFill>
          <a:ln w="9360">
            <a:solidFill>
              <a:srgbClr val="25a2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خدمات الانترنت</a:t>
            </a:r>
            <a:endParaRPr b="0" lang="en-US" sz="54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4800600" y="1828800"/>
            <a:ext cx="3886200" cy="6426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cc66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 البريد الالكتروني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86" name="Text Box 4">
            <a:hlinkClick r:id="rId1" action="ppaction://hlinksldjump"/>
          </p:cNvPr>
          <p:cNvSpPr/>
          <p:nvPr/>
        </p:nvSpPr>
        <p:spPr>
          <a:xfrm>
            <a:off x="1676520" y="1828800"/>
            <a:ext cx="3124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E- Mail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657600" y="2590920"/>
            <a:ext cx="5029200" cy="11912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cc66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  </a:t>
            </a: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المعلومات (مواقع الويب)</a:t>
            </a: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3200400"/>
            <a:ext cx="4800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Information</a:t>
            </a: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(Web Site)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724280" y="4876920"/>
            <a:ext cx="3886200" cy="6426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cc66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 تنزيل البرامج 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600200" y="4876920"/>
            <a:ext cx="3124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Downloading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2666880" y="5638680"/>
            <a:ext cx="6019920" cy="6426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cc66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 الدردشة و المنتديات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179280" y="5624640"/>
            <a:ext cx="424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Chat room &amp; Forum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4724280" y="4038480"/>
            <a:ext cx="3886200" cy="6426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cc66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 محركات البحث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1600200" y="4038480"/>
            <a:ext cx="3124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Search Engine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5" name="Slide Number Placeholder 12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2D38-FAB5-436B-9113-FAAC5D6DAA96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905120" y="533520"/>
            <a:ext cx="5410080" cy="916920"/>
          </a:xfrm>
          <a:prstGeom prst="rect">
            <a:avLst/>
          </a:prstGeom>
          <a:solidFill>
            <a:srgbClr val="6666ff"/>
          </a:solidFill>
          <a:ln w="9360">
            <a:solidFill>
              <a:srgbClr val="25a2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خدمات الانترنت</a:t>
            </a:r>
            <a:endParaRPr b="0" lang="en-US" sz="54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800600" y="2209680"/>
            <a:ext cx="3886200" cy="11912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cc66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مجموعات البريدية</a:t>
            </a: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676520" y="2209680"/>
            <a:ext cx="3124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Mail Groups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95680" y="4343400"/>
            <a:ext cx="4191120" cy="11912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cc66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تسوق من خلال الشبكة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04920" y="4343400"/>
            <a:ext cx="4190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Electronic Commerce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800600" y="3276720"/>
            <a:ext cx="3886200" cy="6426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cc66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 </a:t>
            </a:r>
            <a:r>
              <a:rPr b="0" lang="ar-SA" sz="36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تسلية و الترفيه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1676520" y="3286080"/>
            <a:ext cx="3124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Internet Games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03" name="Slide Number Placeholder 8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1826-3580-4177-9DD9-A6CCD77B4388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imes New Roman"/>
                <a:cs typeface="Times New Roman"/>
              </a:rPr>
              <a:t>خدمات توفرها شبكة الانترنت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عمل من المنزل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(مؤسسات وشركات اتصالات ، تصميم مواقع ، طباعة بحوث )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تعليم عن بعد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توفير التعليم للجميع بغض النظر عن الزمان والمكان.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4F93-A2C7-47E5-8E36-7245F0523D61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600200" y="380880"/>
            <a:ext cx="5791320" cy="1312920"/>
          </a:xfrm>
          <a:prstGeom prst="rect">
            <a:avLst/>
          </a:prstGeom>
          <a:solidFill>
            <a:srgbClr val="306fcc"/>
          </a:solidFill>
          <a:ln w="19080">
            <a:solidFill>
              <a:srgbClr val="25a2af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ثال على عنوان لبريد الكتروني</a:t>
            </a:r>
            <a:endParaRPr b="0" lang="en-US" sz="40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685800" y="1981080"/>
            <a:ext cx="7391520" cy="703440"/>
          </a:xfrm>
          <a:prstGeom prst="rect">
            <a:avLst/>
          </a:prstGeom>
          <a:solidFill>
            <a:srgbClr val="306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mdahashksu@hotmail.com</a:t>
            </a:r>
            <a:endParaRPr b="0" lang="en-US" sz="40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85800" y="2819520"/>
            <a:ext cx="7391520" cy="703440"/>
          </a:xfrm>
          <a:prstGeom prst="rect">
            <a:avLst/>
          </a:prstGeom>
          <a:solidFill>
            <a:srgbClr val="306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mdahash@ksu.edu.sa</a:t>
            </a:r>
            <a:endParaRPr b="0" lang="en-US" sz="4000" spc="-1" strike="noStrike">
              <a:solidFill>
                <a:srgbClr val="0e3f96"/>
              </a:solidFill>
              <a:latin typeface="Arial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3581280" y="2362320"/>
            <a:ext cx="2133720" cy="3446280"/>
            <a:chOff x="3581280" y="2362320"/>
            <a:chExt cx="2133720" cy="3446280"/>
          </a:xfrm>
        </p:grpSpPr>
        <p:sp>
          <p:nvSpPr>
            <p:cNvPr id="211" name="Line 6"/>
            <p:cNvSpPr/>
            <p:nvPr/>
          </p:nvSpPr>
          <p:spPr>
            <a:xfrm flipV="1">
              <a:off x="4572000" y="3504960"/>
              <a:ext cx="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212" name="Text Box 7"/>
            <p:cNvSpPr/>
            <p:nvPr/>
          </p:nvSpPr>
          <p:spPr>
            <a:xfrm>
              <a:off x="3581280" y="4495680"/>
              <a:ext cx="2133720" cy="131292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0e3f96"/>
                  </a:solidFill>
                  <a:latin typeface="Times New Roman"/>
                  <a:cs typeface="Times New Roman"/>
                </a:rPr>
                <a:t>المؤسسة</a:t>
              </a:r>
              <a:endParaRPr b="0" lang="en-US" sz="40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 flipV="1">
              <a:off x="4876920" y="2362320"/>
              <a:ext cx="304560" cy="2133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</p:grpSp>
      <p:grpSp>
        <p:nvGrpSpPr>
          <p:cNvPr id="214" name="Group 9"/>
          <p:cNvGrpSpPr/>
          <p:nvPr/>
        </p:nvGrpSpPr>
        <p:grpSpPr>
          <a:xfrm>
            <a:off x="5790960" y="1143000"/>
            <a:ext cx="2667240" cy="1905120"/>
            <a:chOff x="5790960" y="1143000"/>
            <a:chExt cx="2667240" cy="1905120"/>
          </a:xfrm>
        </p:grpSpPr>
        <p:sp>
          <p:nvSpPr>
            <p:cNvPr id="215" name="Line 10"/>
            <p:cNvSpPr/>
            <p:nvPr/>
          </p:nvSpPr>
          <p:spPr>
            <a:xfrm flipH="1">
              <a:off x="6781680" y="1828800"/>
              <a:ext cx="45720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216" name="Line 11"/>
            <p:cNvSpPr/>
            <p:nvPr/>
          </p:nvSpPr>
          <p:spPr>
            <a:xfrm flipH="1">
              <a:off x="5790960" y="1828800"/>
              <a:ext cx="2057400" cy="1219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6324480" y="1143000"/>
              <a:ext cx="2133720" cy="7034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0e3f96"/>
                  </a:solidFill>
                  <a:latin typeface="Times New Roman"/>
                  <a:cs typeface="Times New Roman"/>
                </a:rPr>
                <a:t>المجال</a:t>
              </a:r>
              <a:endParaRPr b="0" lang="en-US" sz="4000" spc="-1" strike="noStrike">
                <a:solidFill>
                  <a:srgbClr val="0e3f96"/>
                </a:solidFill>
                <a:latin typeface="Arial"/>
              </a:endParaRPr>
            </a:p>
          </p:txBody>
        </p:sp>
      </p:grpSp>
      <p:grpSp>
        <p:nvGrpSpPr>
          <p:cNvPr id="218" name="Group 13"/>
          <p:cNvGrpSpPr/>
          <p:nvPr/>
        </p:nvGrpSpPr>
        <p:grpSpPr>
          <a:xfrm>
            <a:off x="6324480" y="3352680"/>
            <a:ext cx="2210040" cy="1770480"/>
            <a:chOff x="6324480" y="3352680"/>
            <a:chExt cx="2210040" cy="1770480"/>
          </a:xfrm>
        </p:grpSpPr>
        <p:sp>
          <p:nvSpPr>
            <p:cNvPr id="219" name="Line 14"/>
            <p:cNvSpPr/>
            <p:nvPr/>
          </p:nvSpPr>
          <p:spPr>
            <a:xfrm flipH="1" flipV="1">
              <a:off x="6400800" y="3352680"/>
              <a:ext cx="838080" cy="1067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6324480" y="4419720"/>
              <a:ext cx="2210040" cy="7034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0e3f96"/>
                  </a:solidFill>
                  <a:latin typeface="Times New Roman"/>
                  <a:cs typeface="Times New Roman"/>
                </a:rPr>
                <a:t>رمز البلد</a:t>
              </a:r>
              <a:endParaRPr b="0" lang="en-US" sz="4000" spc="-1" strike="noStrike">
                <a:solidFill>
                  <a:srgbClr val="0e3f96"/>
                </a:solidFill>
                <a:latin typeface="Arial"/>
              </a:endParaRPr>
            </a:p>
          </p:txBody>
        </p:sp>
      </p:grpSp>
      <p:sp>
        <p:nvSpPr>
          <p:cNvPr id="221" name="AutoShape 16">
            <a:hlinkClick r:id="rId1" action="ppaction://hlinksldjump"/>
          </p:cNvPr>
          <p:cNvSpPr/>
          <p:nvPr/>
        </p:nvSpPr>
        <p:spPr>
          <a:xfrm>
            <a:off x="7696080" y="56386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7493"/>
                </a:moveTo>
                <a:lnTo>
                  <a:pt x="8202" y="7493"/>
                </a:lnTo>
                <a:lnTo>
                  <a:pt x="8202" y="12828"/>
                </a:lnTo>
                <a:cubicBezTo>
                  <a:pt x="8202" y="13751"/>
                  <a:pt x="9003" y="14482"/>
                  <a:pt x="10039" y="14482"/>
                </a:cubicBezTo>
                <a:lnTo>
                  <a:pt x="11701" y="14482"/>
                </a:lnTo>
                <a:cubicBezTo>
                  <a:pt x="12737" y="14482"/>
                  <a:pt x="13538" y="13751"/>
                  <a:pt x="13538" y="12828"/>
                </a:cubicBezTo>
                <a:lnTo>
                  <a:pt x="13538" y="7493"/>
                </a:lnTo>
                <a:lnTo>
                  <a:pt x="11701" y="7493"/>
                </a:lnTo>
                <a:lnTo>
                  <a:pt x="15209" y="3985"/>
                </a:lnTo>
                <a:lnTo>
                  <a:pt x="18882" y="7493"/>
                </a:lnTo>
                <a:lnTo>
                  <a:pt x="17045" y="7493"/>
                </a:lnTo>
                <a:lnTo>
                  <a:pt x="17045" y="12828"/>
                </a:lnTo>
                <a:cubicBezTo>
                  <a:pt x="17045" y="15596"/>
                  <a:pt x="14469" y="18155"/>
                  <a:pt x="11701" y="18155"/>
                </a:cubicBezTo>
                <a:lnTo>
                  <a:pt x="10039" y="18155"/>
                </a:lnTo>
                <a:cubicBezTo>
                  <a:pt x="7271" y="18155"/>
                  <a:pt x="4695" y="15596"/>
                  <a:pt x="4695" y="12828"/>
                </a:cubicBezTo>
                <a:close/>
              </a:path>
            </a:pathLst>
          </a:custGeom>
          <a:solidFill>
            <a:srgbClr val="6666ff"/>
          </a:solidFill>
          <a:ln w="9360">
            <a:solidFill>
              <a:srgbClr val="0e3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22" name="Slide Number Placeholder 16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2901-1DDD-494B-BD03-58E5AB0B53A7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9900"/>
                </a:solidFill>
                <a:latin typeface="Times New Roman"/>
                <a:cs typeface="Times New Roman"/>
              </a:rPr>
              <a:t>هل تعليم الانترنت ضروري؟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انترنت جزء لا يتجزأ من عالم التقنية اليوم.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انترنت أكبر مكتبة معلومات ، أكبر مركز اتصال في العالم ، مصدر للتعامل التجاري.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سهولة النشر والاعلان بواسطتها ” اخبار غير صحيحة“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وسيلة سريعة ، لاتعترف بالمسافات.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FA68-C027-4D62-80EC-1E7104009AD5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CB2E-F4CF-4E14-93D5-F77887C8F996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428840" y="5716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9900"/>
                </a:solidFill>
                <a:latin typeface="Perpetua"/>
                <a:cs typeface="Times New Roman"/>
              </a:rPr>
              <a:t>الانترنت والتعليم</a:t>
            </a:r>
            <a:endParaRPr b="0" lang="en-US" sz="40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000160" y="1143000"/>
            <a:ext cx="6143760" cy="65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Arial"/>
              </a:rPr>
              <a:t> ثقافة الانترنت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  <a:cs typeface="Arial"/>
              </a:rPr>
              <a:t>القدره على استخدام الانترنت للبحث عن المعلومات والتاكد من صحتها واستخدامها والاستفاده منها بالطريقه  الصحيحه 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Arial"/>
              </a:rPr>
              <a:t>هل من الضروري تعليم الانترنت ؟ ولماذا ؟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174ec"/>
                </a:solidFill>
                <a:latin typeface="Arial"/>
              </a:rPr>
              <a:t>نعم ! لانه اصبح جزء مهم من العالم اليوم ( اكبر مكتبة معلومات -  سهولة النشر والا علان – سهولة التواصل )</a:t>
            </a:r>
            <a:endParaRPr b="0" lang="en-US" sz="24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Arial"/>
              </a:rPr>
              <a:t>الانترنت في المدارس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  <a:cs typeface="Arial"/>
              </a:rPr>
              <a:t>الهدف من ادخال الانترنت في المدارس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  <a:cs typeface="Arial"/>
              </a:rPr>
              <a:t>الاشراف على مواقع الانترنت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  <a:cs typeface="Arial"/>
              </a:rPr>
              <a:t>تحديد مستخدمي الانترنت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  <a:cs typeface="Arial"/>
              </a:rPr>
              <a:t>تضمينه داخل المنهج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  <a:cs typeface="Arial"/>
              </a:rPr>
              <a:t>الصيانه والتدريب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9900"/>
                </a:solidFill>
                <a:latin typeface="Times New Roman"/>
                <a:cs typeface="Times New Roman"/>
              </a:rPr>
              <a:t>الانترنت والتعليم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imes New Roman"/>
                <a:cs typeface="Times New Roman"/>
              </a:rPr>
              <a:t>ماهي شبكة الانترنت؟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جموعة من الاف الشبكات المتصلة ببعضها عن طريق كابلات وخطوط هواتف واقمار صناعية ، بطريقة تسمح لها بمشاركة المعلومات على مستوى العالم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434C-3202-4FFE-A775-4AC35411CC39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FF8D-BEB3-4604-AD51-303A51BB7D58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428840" y="5716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9900"/>
                </a:solidFill>
                <a:latin typeface="Perpetua"/>
                <a:cs typeface="Times New Roman"/>
              </a:rPr>
              <a:t>الانترنت والمناهج الدراسيه</a:t>
            </a:r>
            <a:endParaRPr b="0" lang="en-US" sz="40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000160" y="1143000"/>
            <a:ext cx="614376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رياضات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علوم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لغه العربيه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جغرافيا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لغه الانجليزيه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تربيه الفنيه والتربيه النسويه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تعليم الخاص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علوم الدينيه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اطفال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2BE2-546F-40A8-85D1-7C1FA8AF67E2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428840" y="5716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9900"/>
                </a:solidFill>
                <a:latin typeface="Perpetua"/>
                <a:cs typeface="Times New Roman"/>
              </a:rPr>
              <a:t>فوائد استخدام الانترنت</a:t>
            </a:r>
            <a:endParaRPr b="0" lang="en-US" sz="40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000160" y="1357200"/>
            <a:ext cx="61437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تبادل البيانات بين الناس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ارسال واستلام المعلومات لاي مكان بالعالم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تبادل الصور والرسومات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التعرف على العالم من حولنا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تحميل الملفات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استخدام البريد الالكتروني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التعلم عن بعد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سؤال الخبراء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نشر المعلومات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الاشتراك بالمنتديات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المحادثه مع الاصدقاء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9900"/>
                </a:solidFill>
                <a:latin typeface="Times New Roman"/>
                <a:cs typeface="Times New Roman"/>
              </a:rPr>
              <a:t>من يملك الانترنت؟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انترنت ليست حكرا لأحد ، لكن خدمة الاتصال بها تقدم من قبل مؤسسات حكومية او خاصة تتحكم بتكلفة الانترنت المقدمة للمستخدم.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4568-5F67-4CA4-9F85-34FDD97C61A1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06fcc"/>
                </a:solidFill>
                <a:latin typeface="Times New Roman"/>
                <a:cs typeface="Times New Roman"/>
              </a:rPr>
              <a:t>بروتكول الشبكه 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تستخدم الشبكه بروتوكول التحكم بالنقل/التحكم بالانترنت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CP/IP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ransmission Control Protocol /Internet Protocol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برنامج كتب لغرض ربط الشبكات المتباعدة جغرافيا عن بعضها فهو يسمح لجميع اجهزة الحاسب بالتخاطب وتبادل المعلومات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كسر حاجز (بيئة النظام )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E06F-F566-4745-B530-430BA827CE31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06fcc"/>
                </a:solidFill>
                <a:latin typeface="Times New Roman"/>
                <a:cs typeface="Times New Roman"/>
              </a:rPr>
              <a:t>ماذا نعني بمزودي الشبكة </a:t>
            </a:r>
            <a:r>
              <a:rPr b="0" lang="en-US" sz="4000" spc="-1" strike="noStrike">
                <a:solidFill>
                  <a:srgbClr val="306fcc"/>
                </a:solidFill>
                <a:latin typeface="Times New Roman"/>
                <a:ea typeface="Times New Roman"/>
              </a:rPr>
              <a:t>Isp</a:t>
            </a:r>
            <a:r>
              <a:rPr b="0" lang="ar-SA" sz="4000" spc="-1" strike="noStrike">
                <a:solidFill>
                  <a:srgbClr val="306fcc"/>
                </a:solidFill>
                <a:latin typeface="Times New Roman"/>
                <a:cs typeface="Times New Roman"/>
              </a:rPr>
              <a:t>؟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9360">
            <a:solidFill>
              <a:srgbClr val="306f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Internet Service Provider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هي الشركات او المؤسسات التي لها اتصال بقنوات الاتصال المباشره التي تربط الشبكات مع بعضها .</a:t>
            </a:r>
            <a:endParaRPr b="0" lang="en-US" sz="24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تتحكم برسوم الاتصال مقابل توفير الخدمه .</a:t>
            </a:r>
            <a:endParaRPr b="0" lang="en-US" sz="24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108A-9631-4946-A105-52F1C2F5B871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62120" y="129528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WW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286000" y="533520"/>
            <a:ext cx="6324480" cy="1434600"/>
          </a:xfrm>
          <a:prstGeom prst="rect">
            <a:avLst/>
          </a:prstGeom>
          <a:solidFill>
            <a:srgbClr val="6666ff"/>
          </a:solidFill>
          <a:ln w="9360">
            <a:solidFill>
              <a:srgbClr val="25a2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اهي الشبكة العالمية العنكبوتية؟</a:t>
            </a:r>
            <a:endParaRPr b="0" lang="en-US" sz="4400" spc="-1" strike="noStrike">
              <a:solidFill>
                <a:srgbClr val="0e3f96"/>
              </a:solidFill>
              <a:latin typeface="Arial"/>
            </a:endParaRPr>
          </a:p>
        </p:txBody>
      </p:sp>
      <p:pic>
        <p:nvPicPr>
          <p:cNvPr id="130" name="Picture 6" descr="bd05045_"/>
          <p:cNvPicPr/>
          <p:nvPr/>
        </p:nvPicPr>
        <p:blipFill>
          <a:blip r:embed="rId1"/>
          <a:stretch/>
        </p:blipFill>
        <p:spPr>
          <a:xfrm>
            <a:off x="0" y="4662360"/>
            <a:ext cx="2362320" cy="2195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2209680" y="1295280"/>
            <a:ext cx="3733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orld Wide Web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657600" y="4419720"/>
            <a:ext cx="2438280" cy="6426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age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-136800" y="2057400"/>
            <a:ext cx="969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60f"/>
                </a:solidFill>
                <a:latin typeface="Times New Roman"/>
                <a:ea typeface="Times New Roman"/>
              </a:rPr>
              <a:t> جزء من شبكة الانترنت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60f"/>
                </a:solidFill>
                <a:latin typeface="Times New Roman"/>
                <a:ea typeface="Times New Roman"/>
              </a:rPr>
              <a:t> تشتمل على عدد ضخم من الوثائق المتصلة ببعضها البعض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عن طريق الوصلات التشعبية </a:t>
            </a:r>
            <a:r>
              <a:rPr b="0" lang="en-US" sz="3200" spc="-1" strike="noStrike">
                <a:solidFill>
                  <a:srgbClr val="01060f"/>
                </a:solidFill>
                <a:latin typeface="Times New Roman"/>
                <a:ea typeface="Times New Roman"/>
              </a:rPr>
              <a:t>Hyperlink</a:t>
            </a:r>
            <a:r>
              <a:rPr b="0" lang="ar-SA" sz="3200" spc="-1" strike="noStrike">
                <a:solidFill>
                  <a:srgbClr val="01060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60f"/>
                </a:solidFill>
                <a:latin typeface="Times New Roman"/>
                <a:ea typeface="Times New Roman"/>
              </a:rPr>
              <a:t> كل وثيقة على هذه الشبكة تسمى الصفحة العنكبوتية 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34" name="Slide Number Placeholder 10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E842-917B-405F-AFF5-00D8D052D9BA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9900"/>
                </a:solidFill>
                <a:latin typeface="Times New Roman"/>
                <a:cs typeface="Times New Roman"/>
              </a:rPr>
              <a:t>مصطلحات الانترنت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برامج الاتصال (المتصفحات  - </a:t>
            </a: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browsers</a:t>
            </a:r>
            <a:r>
              <a:rPr b="0" lang="ar-SA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)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ثل انترنت اكسبلورر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فاير فوكس </a:t>
            </a: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FireFox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قوقل كروم  </a:t>
            </a: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chrome</a:t>
            </a:r>
            <a:r>
              <a:rPr b="0" lang="ar-SA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وبرا     </a:t>
            </a: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opera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pic>
        <p:nvPicPr>
          <p:cNvPr id="137" name="Picture 4" descr="Internet Explorer 8 beta 2.jpg"/>
          <p:cNvPicPr/>
          <p:nvPr/>
        </p:nvPicPr>
        <p:blipFill>
          <a:blip r:embed="rId1"/>
          <a:stretch/>
        </p:blipFill>
        <p:spPr>
          <a:xfrm>
            <a:off x="4419720" y="18288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3733920" y="2819520"/>
            <a:ext cx="1066680" cy="102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4267080" y="3886200"/>
            <a:ext cx="1200240" cy="1200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4"/>
          <a:stretch/>
        </p:blipFill>
        <p:spPr>
          <a:xfrm>
            <a:off x="4267080" y="510552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11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CD10-018C-49CF-8FC8-2047C94099BF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موقع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ite</a:t>
            </a:r>
            <a:r>
              <a:rPr b="0" lang="ar-SA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	</a:t>
            </a:r>
            <a:r>
              <a:rPr b="0" lang="ar-SA" sz="28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مكان الذي توضع به المعلومات ، ويحدد له عنوان يميزه.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صفحة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age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مواضيع تكتب في الصفحات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وصلة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ink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شاره الى معلومات صفحه او موقع اخر تسهل على التنقل من موقع لاخر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عنوان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RL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كل موقع يحمل عنوان مميز وخاص فيه يمكن من الدخول المباشر اليه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DD39-5293-419B-84E9-515E1F55F65E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06fcc"/>
                </a:solidFill>
                <a:latin typeface="Times New Roman"/>
                <a:cs typeface="Times New Roman"/>
              </a:rPr>
              <a:t>التنقل عبر صفحات الإنترنت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الوصلات الحية 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inks</a:t>
            </a:r>
            <a:r>
              <a:rPr b="0" lang="ar-S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: </a:t>
            </a: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ننتقل من صفحة الى اخرى بالنقر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برامج المتصفحات 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ortal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: </a:t>
            </a: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وسيله للتجول والتصفح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أدلة : </a:t>
            </a: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جموعة مواقع تم تصنيفها حسب الموضوع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731A-46B5-44D7-9FD2-0A5415BE109B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9:44:02Z</dcterms:created>
  <dc:creator>Sumayah</dc:creator>
  <dc:description/>
  <dc:language>en-US</dc:language>
  <cp:lastModifiedBy>NOUF</cp:lastModifiedBy>
  <dcterms:modified xsi:type="dcterms:W3CDTF">2012-03-04T18:52:13Z</dcterms:modified>
  <cp:revision>9</cp:revision>
  <dc:subject/>
  <dc:title>الباب العا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47C96D480B04534AADAA8DC90E730F87</vt:lpwstr>
  </property>
</Properties>
</file>