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projctor.wav" ContentType="audio/x-wav"/>
  <Override PartName="/ppt/media/chimes.wav" ContentType="audio/x-wav"/>
  <Override PartName="/ppt/media/image8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typ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fc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C6B3-40B5-43B0-9223-B8EE4B11BE5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05F0-6C79-4B2B-8D64-ACFD421CCE26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5469-C50A-4956-B9F1-8D8E4FA21EAE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4D82-BA5A-44C0-AA57-995B5E40D447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7F8E-BD9C-432E-AADB-6148E133E8DD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8F3A-62FD-4592-A49E-3464428DD349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FA39-C2A2-41D0-A28C-7931A604754C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58DD-6779-478E-91DD-75A23A4867E2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80AD-D823-44B7-9936-7CE9918F775E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0B07-48CA-4B20-8040-79D743161FF5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DE07-4930-4080-9EC5-4994018686CC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5AF7-1CEB-4CB4-81E5-C0FC597CC359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3C08-0E34-4DBC-B109-CA37335B444F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1542-D175-4BA1-A396-B4C833DE1F5B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520A-720C-4596-89AB-166F985B985E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8B1C-3A03-4A6A-8CD3-15297B48EBDF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CB2D-2603-431B-BAAC-8B9980FF0866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914B-5DD3-4A34-B299-9AC170A26AAE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6EED-EDFB-4230-8183-DF698258B7DA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E217-A14B-42F3-AC47-DB194A42A638}" type="slidenum">
              <a:rPr b="0" lang="ar-SA" sz="1200" spc="-1" strike="noStrike">
                <a:solidFill>
                  <a:srgbClr val="0e3f9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152-52B4-4FB0-9C2C-D18FDE9D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6D4-C955-48AB-BD17-30430704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100-D356-489A-8D59-D439B5FF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EC5-0E51-41EA-89C3-36DAC20E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0C89-224F-463A-8A78-2A15E6A9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A95B-FEC1-40CC-B603-3F8CDE48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AAE8-BDFB-4105-8985-F9FD8BAD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958A-E4EF-45B6-AF1A-DFCCF4B1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9133-CDDE-4118-BD2B-F2EC82B9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905120" y="457200"/>
            <a:ext cx="6858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F589-B8A6-4C4E-AED0-595A68E2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5171-40BD-4077-BB7C-78137361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1DC-6A94-4745-84A8-6D60695A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81FB-2523-4D84-90B6-E68B2A52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A978-E7A8-48C7-8182-606E071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8B76-F7EB-4013-BDBC-CE750B35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A340-018F-414F-86E9-9607DCFF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9672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D2D6-E789-4753-B6DD-893BC28D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142-9D1D-44D8-9B68-FBC07CC0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F54-D982-492E-A736-5BD61F7F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851-D873-4928-AFD9-A8DC5908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905120" y="457200"/>
            <a:ext cx="6858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581-F482-495E-AF75-8076DDE1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855-286C-4EFB-A1FD-1D7905DB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9672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987-78B2-4AA5-8989-0F3C2B59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6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66E-276B-4E33-AAD7-D946928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23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16335e"/>
                </a:gs>
                <a:gs pos="100000">
                  <a:srgbClr val="306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2" name="Rectangle 24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3" name="Rectangle 25"/>
            <p:cNvSpPr/>
            <p:nvPr/>
          </p:nvSpPr>
          <p:spPr>
            <a:xfrm>
              <a:off x="8839080" y="228600"/>
              <a:ext cx="304920" cy="6477120"/>
            </a:xfrm>
            <a:prstGeom prst="rect">
              <a:avLst/>
            </a:prstGeom>
            <a:solidFill>
              <a:srgbClr val="306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4" name="Rectangle 29"/>
            <p:cNvSpPr/>
            <p:nvPr/>
          </p:nvSpPr>
          <p:spPr>
            <a:xfrm>
              <a:off x="1752480" y="380880"/>
              <a:ext cx="70866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grpSp>
          <p:nvGrpSpPr>
            <p:cNvPr id="5" name="Group 26"/>
            <p:cNvGrpSpPr/>
            <p:nvPr/>
          </p:nvGrpSpPr>
          <p:grpSpPr>
            <a:xfrm>
              <a:off x="0" y="1041480"/>
              <a:ext cx="9144000" cy="152280"/>
              <a:chOff x="0" y="1041480"/>
              <a:chExt cx="9144000" cy="152280"/>
            </a:xfrm>
          </p:grpSpPr>
          <p:sp>
            <p:nvSpPr>
              <p:cNvPr id="6" name="Line 27"/>
              <p:cNvSpPr/>
              <p:nvPr/>
            </p:nvSpPr>
            <p:spPr>
              <a:xfrm>
                <a:off x="0" y="1041480"/>
                <a:ext cx="9144000" cy="0"/>
              </a:xfrm>
              <a:prstGeom prst="line">
                <a:avLst/>
              </a:prstGeom>
              <a:ln w="28440">
                <a:solidFill>
                  <a:srgbClr val="25a2a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  <p:sp>
            <p:nvSpPr>
              <p:cNvPr id="7" name="Rectangle 28"/>
              <p:cNvSpPr/>
              <p:nvPr/>
            </p:nvSpPr>
            <p:spPr>
              <a:xfrm>
                <a:off x="0" y="1041480"/>
                <a:ext cx="1752480" cy="152280"/>
              </a:xfrm>
              <a:prstGeom prst="rect">
                <a:avLst/>
              </a:prstGeom>
              <a:solidFill>
                <a:srgbClr val="25a2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e3f96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e3f96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06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7749-3F61-4495-A51F-EBDDF022F8EF}" type="datetime">
              <a:rPr b="0" lang="ar-SA" sz="1400" spc="-1" strike="noStrike">
                <a:solidFill>
                  <a:srgbClr val="306fcc"/>
                </a:solidFill>
                <a:latin typeface="Times New Roman"/>
              </a:rPr>
              <a:t>١٤٤٨/٠٢/١٥</a:t>
            </a:fld>
            <a:r>
              <a:rPr b="0" lang="ar-SA" sz="1400" spc="-1" strike="noStrike">
                <a:solidFill>
                  <a:srgbClr val="306fcc"/>
                </a:solidFill>
                <a:latin typeface="Times New Roman"/>
              </a:rPr>
              <a:t> </a:t>
            </a:r>
            <a:fld id="{65AEFE7C-6F8F-4EDF-9ECC-E6C78976B82D}" type="datetime10">
              <a:rPr b="0" lang="ar-SA" sz="1400" spc="-1" strike="noStrike">
                <a:solidFill>
                  <a:srgbClr val="306fcc"/>
                </a:solidFill>
                <a:latin typeface="Times New Roman"/>
              </a:rPr>
              <a:t>04:0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06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B706-066E-4FCB-8894-3993B248174D}" type="slidenum">
              <a:rPr b="0" lang="ar-SA" sz="1400" spc="-1" strike="noStrike">
                <a:solidFill>
                  <a:srgbClr val="306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Text Box 31"/>
          <p:cNvSpPr/>
          <p:nvPr/>
        </p:nvSpPr>
        <p:spPr>
          <a:xfrm>
            <a:off x="305280" y="25704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1"/>
          <p:cNvSpPr/>
          <p:nvPr/>
        </p:nvSpPr>
        <p:spPr>
          <a:xfrm>
            <a:off x="0" y="476280"/>
            <a:ext cx="9147240" cy="6381720"/>
          </a:xfrm>
          <a:prstGeom prst="rect">
            <a:avLst/>
          </a:prstGeom>
          <a:gradFill rotWithShape="0">
            <a:gsLst>
              <a:gs pos="0">
                <a:srgbClr val="306fcc"/>
              </a:gs>
              <a:gs pos="100000">
                <a:srgbClr val="437cd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1" name="Rectangle 3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142f56"/>
              </a:gs>
              <a:gs pos="100000">
                <a:srgbClr val="306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2" name="Rectangle 36"/>
          <p:cNvSpPr/>
          <p:nvPr/>
        </p:nvSpPr>
        <p:spPr>
          <a:xfrm flipV="1">
            <a:off x="304920" y="685440"/>
            <a:ext cx="5257800" cy="6019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53" name="Rectangle 37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grpSp>
        <p:nvGrpSpPr>
          <p:cNvPr id="54" name="Group 38"/>
          <p:cNvGrpSpPr/>
          <p:nvPr/>
        </p:nvGrpSpPr>
        <p:grpSpPr>
          <a:xfrm>
            <a:off x="1143000" y="2133720"/>
            <a:ext cx="8001000" cy="4723920"/>
            <a:chOff x="1143000" y="2133720"/>
            <a:chExt cx="8001000" cy="4723920"/>
          </a:xfrm>
        </p:grpSpPr>
        <p:sp>
          <p:nvSpPr>
            <p:cNvPr id="55" name="Rectangle 39"/>
            <p:cNvSpPr/>
            <p:nvPr/>
          </p:nvSpPr>
          <p:spPr>
            <a:xfrm>
              <a:off x="1638360" y="2135160"/>
              <a:ext cx="7505640" cy="47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grpSp>
          <p:nvGrpSpPr>
            <p:cNvPr id="56" name="Group 40"/>
            <p:cNvGrpSpPr/>
            <p:nvPr/>
          </p:nvGrpSpPr>
          <p:grpSpPr>
            <a:xfrm>
              <a:off x="1143000" y="2133720"/>
              <a:ext cx="990360" cy="4719240"/>
              <a:chOff x="1143000" y="2133720"/>
              <a:chExt cx="990360" cy="4719240"/>
            </a:xfrm>
          </p:grpSpPr>
          <p:sp>
            <p:nvSpPr>
              <p:cNvPr id="57" name="Oval 41"/>
              <p:cNvSpPr/>
              <p:nvPr/>
            </p:nvSpPr>
            <p:spPr>
              <a:xfrm>
                <a:off x="1143000" y="2133720"/>
                <a:ext cx="99036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  <p:sp>
            <p:nvSpPr>
              <p:cNvPr id="58" name="Rectangle 42"/>
              <p:cNvSpPr/>
              <p:nvPr/>
            </p:nvSpPr>
            <p:spPr>
              <a:xfrm>
                <a:off x="1143000" y="2626560"/>
                <a:ext cx="914400" cy="422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</p:grpSp>
      </p:grpSp>
      <p:sp>
        <p:nvSpPr>
          <p:cNvPr id="59" name="Rectangle 43"/>
          <p:cNvSpPr/>
          <p:nvPr/>
        </p:nvSpPr>
        <p:spPr>
          <a:xfrm>
            <a:off x="533520" y="6553080"/>
            <a:ext cx="861048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0" name="Rectangle 44"/>
          <p:cNvSpPr/>
          <p:nvPr/>
        </p:nvSpPr>
        <p:spPr>
          <a:xfrm>
            <a:off x="2124000" y="1860480"/>
            <a:ext cx="6791400" cy="501840"/>
          </a:xfrm>
          <a:prstGeom prst="rect">
            <a:avLst/>
          </a:prstGeom>
          <a:solidFill>
            <a:srgbClr val="25a2a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4267800" y="525780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3f96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e3f96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0e3f96"/>
              </a:solidFill>
              <a:latin typeface="Arial"/>
            </a:endParaRPr>
          </a:p>
        </p:txBody>
      </p:sp>
      <p:pic>
        <p:nvPicPr>
          <p:cNvPr id="62" name="Picture 48" descr=""/>
          <p:cNvPicPr/>
          <p:nvPr/>
        </p:nvPicPr>
        <p:blipFill>
          <a:blip r:embed="rId2"/>
          <a:stretch/>
        </p:blipFill>
        <p:spPr>
          <a:xfrm>
            <a:off x="5940360" y="692280"/>
            <a:ext cx="673200" cy="81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Picture 49" descr=""/>
          <p:cNvPicPr/>
          <p:nvPr/>
        </p:nvPicPr>
        <p:blipFill>
          <a:blip r:embed="rId3"/>
          <a:stretch/>
        </p:blipFill>
        <p:spPr>
          <a:xfrm>
            <a:off x="6948360" y="692280"/>
            <a:ext cx="708120" cy="81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4" name="Picture 50" descr=""/>
          <p:cNvPicPr/>
          <p:nvPr/>
        </p:nvPicPr>
        <p:blipFill>
          <a:blip r:embed="rId4"/>
          <a:stretch/>
        </p:blipFill>
        <p:spPr>
          <a:xfrm>
            <a:off x="8072280" y="692280"/>
            <a:ext cx="676440" cy="81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e3f96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e3f96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CA4B-9718-47A8-8D6C-D74D5ADE8086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592ACE4-41C8-4EB5-9D4A-E419F9FC0C71}" type="datetime10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04:0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A812-5BC2-41A1-A10B-E6FDD680BFE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0200" y="32000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باب العاشر</a:t>
            </a:r>
            <a:endParaRPr b="0" lang="en-US" sz="44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62320" y="1871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إنترنت والتعليم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5EB3-2F06-448D-B8CD-B7711FE2BC1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685800" y="1981080"/>
            <a:ext cx="7391520" cy="703440"/>
          </a:xfrm>
          <a:prstGeom prst="rect">
            <a:avLst/>
          </a:prstGeom>
          <a:solidFill>
            <a:srgbClr val="306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http://www.yahoo.com</a:t>
            </a:r>
            <a:endParaRPr b="0" lang="en-US" sz="40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85800" y="3124080"/>
            <a:ext cx="7391520" cy="703440"/>
          </a:xfrm>
          <a:prstGeom prst="rect">
            <a:avLst/>
          </a:prstGeom>
          <a:solidFill>
            <a:srgbClr val="306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http://www.ksu.edu.sa</a:t>
            </a:r>
            <a:endParaRPr b="0" lang="en-US" sz="4000" spc="-1" strike="noStrike">
              <a:solidFill>
                <a:srgbClr val="0e3f96"/>
              </a:solidFill>
              <a:latin typeface="Arial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685800" y="2666880"/>
            <a:ext cx="7467480" cy="3629520"/>
            <a:chOff x="685800" y="2666880"/>
            <a:chExt cx="7467480" cy="3629520"/>
          </a:xfrm>
        </p:grpSpPr>
        <p:sp>
          <p:nvSpPr>
            <p:cNvPr id="151" name="Text Box 13"/>
            <p:cNvSpPr/>
            <p:nvPr/>
          </p:nvSpPr>
          <p:spPr>
            <a:xfrm>
              <a:off x="685800" y="5105160"/>
              <a:ext cx="7467480" cy="11912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e3f96"/>
                  </a:solidFill>
                  <a:latin typeface="Times New Roman"/>
                  <a:cs typeface="Times New Roman"/>
                </a:rPr>
                <a:t>اختصار لاسم  البرنامج او البروتكول المستخدم</a:t>
              </a:r>
              <a:endParaRPr b="0" lang="en-US" sz="36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 flipV="1">
              <a:off x="2590560" y="388584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 flipV="1">
              <a:off x="2819160" y="2666880"/>
              <a:ext cx="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</p:grpSp>
      <p:grpSp>
        <p:nvGrpSpPr>
          <p:cNvPr id="154" name="Group 16"/>
          <p:cNvGrpSpPr/>
          <p:nvPr/>
        </p:nvGrpSpPr>
        <p:grpSpPr>
          <a:xfrm>
            <a:off x="228600" y="2666520"/>
            <a:ext cx="9144000" cy="3629880"/>
            <a:chOff x="228600" y="2666520"/>
            <a:chExt cx="9144000" cy="3629880"/>
          </a:xfrm>
        </p:grpSpPr>
        <p:sp>
          <p:nvSpPr>
            <p:cNvPr id="155" name="Text Box 17"/>
            <p:cNvSpPr/>
            <p:nvPr/>
          </p:nvSpPr>
          <p:spPr>
            <a:xfrm>
              <a:off x="228600" y="5105160"/>
              <a:ext cx="9144000" cy="11912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e3f96"/>
                  </a:solidFill>
                  <a:latin typeface="Times New Roman"/>
                  <a:cs typeface="Times New Roman"/>
                </a:rPr>
                <a:t>اختصار للشبكة العالمية العنكبوتية</a:t>
              </a:r>
              <a:r>
                <a:rPr b="0" lang="ar-SA" sz="3600" spc="-1" strike="noStrike">
                  <a:solidFill>
                    <a:srgbClr val="0e3f9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600" spc="-1" strike="noStrike">
                  <a:solidFill>
                    <a:srgbClr val="0e3f96"/>
                  </a:solidFill>
                  <a:latin typeface="Times New Roman"/>
                  <a:ea typeface="Times New Roman"/>
                </a:rPr>
                <a:t>World Wide Web</a:t>
              </a:r>
              <a:endParaRPr b="0" lang="en-US" sz="36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 flipV="1">
              <a:off x="3733920" y="388548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 flipV="1">
              <a:off x="4114800" y="2666520"/>
              <a:ext cx="0" cy="2361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</p:grpSp>
      <p:sp>
        <p:nvSpPr>
          <p:cNvPr id="158" name="Rectangle 19"/>
          <p:cNvSpPr/>
          <p:nvPr/>
        </p:nvSpPr>
        <p:spPr>
          <a:xfrm>
            <a:off x="1655280" y="533520"/>
            <a:ext cx="68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مثال على عنوان لموقع على الشبكة العالمية العنكبوتية</a:t>
            </a:r>
            <a:endParaRPr b="0" lang="en-US" sz="24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2139480" y="114300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Arial"/>
              </a:rPr>
              <a:t>URL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grpSp>
        <p:nvGrpSpPr>
          <p:cNvPr id="160" name="Group 24"/>
          <p:cNvGrpSpPr/>
          <p:nvPr/>
        </p:nvGrpSpPr>
        <p:grpSpPr>
          <a:xfrm>
            <a:off x="2057400" y="1905120"/>
            <a:ext cx="5257800" cy="4239000"/>
            <a:chOff x="2057400" y="1905120"/>
            <a:chExt cx="5257800" cy="4239000"/>
          </a:xfrm>
        </p:grpSpPr>
        <p:grpSp>
          <p:nvGrpSpPr>
            <p:cNvPr id="161" name="Group 5"/>
            <p:cNvGrpSpPr/>
            <p:nvPr/>
          </p:nvGrpSpPr>
          <p:grpSpPr>
            <a:xfrm>
              <a:off x="4343400" y="1905120"/>
              <a:ext cx="1447560" cy="1980720"/>
              <a:chOff x="4343400" y="1905120"/>
              <a:chExt cx="1447560" cy="1980720"/>
            </a:xfrm>
          </p:grpSpPr>
          <p:sp>
            <p:nvSpPr>
              <p:cNvPr id="162" name="Oval 6"/>
              <p:cNvSpPr/>
              <p:nvPr/>
            </p:nvSpPr>
            <p:spPr>
              <a:xfrm>
                <a:off x="4343400" y="1905120"/>
                <a:ext cx="1447560" cy="83808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  <p:sp>
            <p:nvSpPr>
              <p:cNvPr id="163" name="Oval 7"/>
              <p:cNvSpPr/>
              <p:nvPr/>
            </p:nvSpPr>
            <p:spPr>
              <a:xfrm>
                <a:off x="4419360" y="3047760"/>
                <a:ext cx="914040" cy="83808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</p:grpSp>
        <p:sp>
          <p:nvSpPr>
            <p:cNvPr id="164" name="Line 19"/>
            <p:cNvSpPr/>
            <p:nvPr/>
          </p:nvSpPr>
          <p:spPr>
            <a:xfrm flipV="1">
              <a:off x="5105520" y="2590200"/>
              <a:ext cx="0" cy="2285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V="1">
              <a:off x="4800600" y="3657600"/>
              <a:ext cx="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66" name="Text Box 17"/>
            <p:cNvSpPr/>
            <p:nvPr/>
          </p:nvSpPr>
          <p:spPr>
            <a:xfrm>
              <a:off x="2057400" y="4952880"/>
              <a:ext cx="5257800" cy="11912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e3f96"/>
                  </a:solidFill>
                  <a:latin typeface="Times New Roman"/>
                  <a:cs typeface="Times New Roman"/>
                </a:rPr>
                <a:t>العنوان المميز للموقع (الاسم )</a:t>
              </a:r>
              <a:endParaRPr b="0" lang="en-US" sz="3600" spc="-1" strike="noStrike">
                <a:solidFill>
                  <a:srgbClr val="0e3f96"/>
                </a:solidFill>
                <a:latin typeface="Arial"/>
              </a:endParaRPr>
            </a:p>
          </p:txBody>
        </p:sp>
      </p:grpSp>
      <p:grpSp>
        <p:nvGrpSpPr>
          <p:cNvPr id="167" name="Group 28"/>
          <p:cNvGrpSpPr/>
          <p:nvPr/>
        </p:nvGrpSpPr>
        <p:grpSpPr>
          <a:xfrm>
            <a:off x="2895480" y="1905120"/>
            <a:ext cx="5257800" cy="3842640"/>
            <a:chOff x="2895480" y="1905120"/>
            <a:chExt cx="5257800" cy="3842640"/>
          </a:xfrm>
        </p:grpSpPr>
        <p:grpSp>
          <p:nvGrpSpPr>
            <p:cNvPr id="168" name="Group 8"/>
            <p:cNvGrpSpPr/>
            <p:nvPr/>
          </p:nvGrpSpPr>
          <p:grpSpPr>
            <a:xfrm>
              <a:off x="5181480" y="1905120"/>
              <a:ext cx="1675800" cy="1980720"/>
              <a:chOff x="5181480" y="1905120"/>
              <a:chExt cx="1675800" cy="1980720"/>
            </a:xfrm>
          </p:grpSpPr>
          <p:sp>
            <p:nvSpPr>
              <p:cNvPr id="169" name="Oval 9"/>
              <p:cNvSpPr/>
              <p:nvPr/>
            </p:nvSpPr>
            <p:spPr>
              <a:xfrm>
                <a:off x="5181480" y="2971800"/>
                <a:ext cx="1599840" cy="91404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  <p:sp>
            <p:nvSpPr>
              <p:cNvPr id="170" name="Oval 10"/>
              <p:cNvSpPr/>
              <p:nvPr/>
            </p:nvSpPr>
            <p:spPr>
              <a:xfrm>
                <a:off x="5714640" y="1905120"/>
                <a:ext cx="1142640" cy="83808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e3f96"/>
                  </a:solidFill>
                  <a:latin typeface="Arial"/>
                </a:endParaRPr>
              </a:p>
            </p:txBody>
          </p:sp>
        </p:grpSp>
        <p:sp>
          <p:nvSpPr>
            <p:cNvPr id="171" name="Line 15"/>
            <p:cNvSpPr/>
            <p:nvPr/>
          </p:nvSpPr>
          <p:spPr>
            <a:xfrm flipV="1">
              <a:off x="6858000" y="2742840"/>
              <a:ext cx="0" cy="2361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 flipV="1">
              <a:off x="5867280" y="3733200"/>
              <a:ext cx="0" cy="1371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173" name="Text Box 17"/>
            <p:cNvSpPr/>
            <p:nvPr/>
          </p:nvSpPr>
          <p:spPr>
            <a:xfrm>
              <a:off x="2895480" y="5105160"/>
              <a:ext cx="5257800" cy="64260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e3f96"/>
                  </a:solidFill>
                  <a:latin typeface="Times New Roman"/>
                  <a:cs typeface="Times New Roman"/>
                </a:rPr>
                <a:t>اختصار نوع الموقع</a:t>
              </a:r>
              <a:r>
                <a:rPr b="0" lang="ar-SA" sz="3600" spc="-1" strike="noStrike">
                  <a:solidFill>
                    <a:srgbClr val="0e3f96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e3f96"/>
                </a:solidFill>
                <a:latin typeface="Arial"/>
              </a:endParaRPr>
            </a:p>
          </p:txBody>
        </p:sp>
      </p:grpSp>
      <p:sp>
        <p:nvSpPr>
          <p:cNvPr id="174" name="Slide Number Placeholder 29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0FB4-08E4-4371-AE45-B193084338D5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9900"/>
                </a:solidFill>
                <a:latin typeface="Times New Roman"/>
                <a:cs typeface="Times New Roman"/>
              </a:rPr>
              <a:t>اختصارات نوع الموقع والبلد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60f"/>
                </a:solidFill>
                <a:latin typeface="Times New Roman"/>
                <a:ea typeface="Times New Roman"/>
              </a:rPr>
              <a:t>Edu , Com , Gov, Net, Org, Int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60f"/>
                </a:solidFill>
                <a:latin typeface="Times New Roman"/>
                <a:ea typeface="Times New Roman"/>
              </a:rPr>
              <a:t>Sa,uk, ua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0469-72CF-4BBC-8123-39469AC5454A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imes New Roman"/>
                <a:cs typeface="Times New Roman"/>
              </a:rPr>
              <a:t>البحث</a:t>
            </a:r>
            <a:r>
              <a:rPr b="0" lang="ar-SA" sz="4000" spc="-1" strike="noStrike">
                <a:solidFill>
                  <a:srgbClr val="306fcc"/>
                </a:solidFill>
                <a:latin typeface="Times New Roman"/>
                <a:ea typeface="Times New Roman"/>
              </a:rPr>
              <a:t> </a:t>
            </a:r>
            <a:r>
              <a:rPr b="0" lang="ar-SA" sz="4000" spc="-1" strike="noStrike">
                <a:solidFill>
                  <a:srgbClr val="006600"/>
                </a:solidFill>
                <a:latin typeface="Times New Roman"/>
                <a:cs typeface="Times New Roman"/>
              </a:rPr>
              <a:t>عبر الانترنت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تصفح ياهو و</a:t>
            </a: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msn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حركات البحث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Google,Yahoo, Hotbot, Altavista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حركات بحث ذات واجهة عربية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ِ</a:t>
            </a: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Ayna, Nassej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ستخدام (و ، أو ، + ، -)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واقع الأسئلة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81D5-C474-4E94-970D-ED841E59C56B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06fcc"/>
                </a:solidFill>
                <a:latin typeface="Times New Roman"/>
                <a:cs typeface="Times New Roman"/>
              </a:rPr>
              <a:t>فوائد الانترنت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الاستعانة بالإنترنت لكتابة البحوث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بعض عناصر البحث : 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تحديد نوع المعلومه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مصادر المعلومه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اسماء اشخاص كتبوا في مجال البحث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المعلومه ليست سرية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تحديد لغة البحث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AE1E-DCA4-4480-AA86-501FA5B2A3FD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905120" y="533520"/>
            <a:ext cx="5410080" cy="916920"/>
          </a:xfrm>
          <a:prstGeom prst="rect">
            <a:avLst/>
          </a:prstGeom>
          <a:solidFill>
            <a:srgbClr val="6666ff"/>
          </a:solidFill>
          <a:ln w="9360">
            <a:solidFill>
              <a:srgbClr val="25a2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خدمات الانترنت</a:t>
            </a:r>
            <a:endParaRPr b="0" lang="en-US" sz="54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4800600" y="1828800"/>
            <a:ext cx="3886200" cy="6426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cc66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 البريد الالكتروني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86" name="Text Box 4">
            <a:hlinkClick r:id="rId1" action="ppaction://hlinksldjump"/>
          </p:cNvPr>
          <p:cNvSpPr/>
          <p:nvPr/>
        </p:nvSpPr>
        <p:spPr>
          <a:xfrm>
            <a:off x="1676520" y="1828800"/>
            <a:ext cx="3124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E- Mail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657600" y="2590920"/>
            <a:ext cx="5029200" cy="11912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cc66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  </a:t>
            </a: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المعلومات (مواقع الويب)</a:t>
            </a: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3200400"/>
            <a:ext cx="4800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Information</a:t>
            </a: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(Web Site)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4724280" y="4876920"/>
            <a:ext cx="3886200" cy="6426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cc66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 تنزيل البرامج 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600200" y="4876920"/>
            <a:ext cx="3124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Downloading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2666880" y="5638680"/>
            <a:ext cx="6019920" cy="6426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cc66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 الدردشة و المنتديات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179280" y="5624640"/>
            <a:ext cx="424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Chat room &amp; Forum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4724280" y="4038480"/>
            <a:ext cx="3886200" cy="6426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cc66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 محركات البحث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1600200" y="4038480"/>
            <a:ext cx="3124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Search Engine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5" name="Slide Number Placeholder 12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EBD7-4710-4469-927D-A4DB4A9803B6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905120" y="533520"/>
            <a:ext cx="5410080" cy="916920"/>
          </a:xfrm>
          <a:prstGeom prst="rect">
            <a:avLst/>
          </a:prstGeom>
          <a:solidFill>
            <a:srgbClr val="6666ff"/>
          </a:solidFill>
          <a:ln w="9360">
            <a:solidFill>
              <a:srgbClr val="25a2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خدمات الانترنت</a:t>
            </a:r>
            <a:endParaRPr b="0" lang="en-US" sz="54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800600" y="2209680"/>
            <a:ext cx="3886200" cy="11912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cc66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مجموعات البريدية</a:t>
            </a: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676520" y="2209680"/>
            <a:ext cx="3124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Mail Groups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95680" y="4343400"/>
            <a:ext cx="4191120" cy="11912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cc66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تسوق من خلال الشبكة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04920" y="4343400"/>
            <a:ext cx="4190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Electronic Commerce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800600" y="3276720"/>
            <a:ext cx="3886200" cy="6426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cc66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 </a:t>
            </a:r>
            <a:r>
              <a:rPr b="0" lang="ar-SA" sz="36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تسلية و الترفيه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676520" y="3286080"/>
            <a:ext cx="3124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Internet Games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03" name="Slide Number Placeholder 8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9D67-80F2-477D-86B0-A4C1D16D6A50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imes New Roman"/>
                <a:cs typeface="Times New Roman"/>
              </a:rPr>
              <a:t>خدمات توفرها شبكة الانترنت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عمل من المنزل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(مؤسسات وشركات اتصالات ، تصميم مواقع ، طباعة بحوث )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تعليم عن بعد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توفير التعليم للجميع بغض النظر عن الزمان والمكان.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4480-5AE6-47AE-B5FB-1910AF4A5704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600200" y="380880"/>
            <a:ext cx="5791320" cy="1312920"/>
          </a:xfrm>
          <a:prstGeom prst="rect">
            <a:avLst/>
          </a:prstGeom>
          <a:solidFill>
            <a:srgbClr val="306fcc"/>
          </a:solidFill>
          <a:ln w="19080">
            <a:solidFill>
              <a:srgbClr val="25a2af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ثال على عنوان لبريد الكتروني</a:t>
            </a:r>
            <a:endParaRPr b="0" lang="en-US" sz="40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685800" y="1981080"/>
            <a:ext cx="7391520" cy="703440"/>
          </a:xfrm>
          <a:prstGeom prst="rect">
            <a:avLst/>
          </a:prstGeom>
          <a:solidFill>
            <a:srgbClr val="306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mdahashksu@hotmail.com</a:t>
            </a:r>
            <a:endParaRPr b="0" lang="en-US" sz="40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85800" y="2819520"/>
            <a:ext cx="7391520" cy="703440"/>
          </a:xfrm>
          <a:prstGeom prst="rect">
            <a:avLst/>
          </a:prstGeom>
          <a:solidFill>
            <a:srgbClr val="306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mdahash@ksu.edu.sa</a:t>
            </a:r>
            <a:endParaRPr b="0" lang="en-US" sz="4000" spc="-1" strike="noStrike">
              <a:solidFill>
                <a:srgbClr val="0e3f96"/>
              </a:solidFill>
              <a:latin typeface="Arial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3581280" y="2362320"/>
            <a:ext cx="2133720" cy="3446280"/>
            <a:chOff x="3581280" y="2362320"/>
            <a:chExt cx="2133720" cy="3446280"/>
          </a:xfrm>
        </p:grpSpPr>
        <p:sp>
          <p:nvSpPr>
            <p:cNvPr id="211" name="Line 6"/>
            <p:cNvSpPr/>
            <p:nvPr/>
          </p:nvSpPr>
          <p:spPr>
            <a:xfrm flipV="1">
              <a:off x="4572000" y="3504960"/>
              <a:ext cx="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212" name="Text Box 7"/>
            <p:cNvSpPr/>
            <p:nvPr/>
          </p:nvSpPr>
          <p:spPr>
            <a:xfrm>
              <a:off x="3581280" y="4495680"/>
              <a:ext cx="2133720" cy="131292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0e3f96"/>
                  </a:solidFill>
                  <a:latin typeface="Times New Roman"/>
                  <a:cs typeface="Times New Roman"/>
                </a:rPr>
                <a:t>المؤسسة</a:t>
              </a:r>
              <a:endParaRPr b="0" lang="en-US" sz="40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 flipV="1">
              <a:off x="4876920" y="2362320"/>
              <a:ext cx="304560" cy="2133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</p:grpSp>
      <p:grpSp>
        <p:nvGrpSpPr>
          <p:cNvPr id="214" name="Group 9"/>
          <p:cNvGrpSpPr/>
          <p:nvPr/>
        </p:nvGrpSpPr>
        <p:grpSpPr>
          <a:xfrm>
            <a:off x="5790960" y="1143000"/>
            <a:ext cx="2667240" cy="1905120"/>
            <a:chOff x="5790960" y="1143000"/>
            <a:chExt cx="2667240" cy="1905120"/>
          </a:xfrm>
        </p:grpSpPr>
        <p:sp>
          <p:nvSpPr>
            <p:cNvPr id="215" name="Line 10"/>
            <p:cNvSpPr/>
            <p:nvPr/>
          </p:nvSpPr>
          <p:spPr>
            <a:xfrm flipH="1">
              <a:off x="6781680" y="1828800"/>
              <a:ext cx="45720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 flipH="1">
              <a:off x="5790960" y="1828800"/>
              <a:ext cx="2057400" cy="1219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6324480" y="1143000"/>
              <a:ext cx="2133720" cy="7034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0e3f96"/>
                  </a:solidFill>
                  <a:latin typeface="Times New Roman"/>
                  <a:cs typeface="Times New Roman"/>
                </a:rPr>
                <a:t>المجال</a:t>
              </a:r>
              <a:endParaRPr b="0" lang="en-US" sz="4000" spc="-1" strike="noStrike">
                <a:solidFill>
                  <a:srgbClr val="0e3f96"/>
                </a:solidFill>
                <a:latin typeface="Arial"/>
              </a:endParaRPr>
            </a:p>
          </p:txBody>
        </p:sp>
      </p:grpSp>
      <p:grpSp>
        <p:nvGrpSpPr>
          <p:cNvPr id="218" name="Group 13"/>
          <p:cNvGrpSpPr/>
          <p:nvPr/>
        </p:nvGrpSpPr>
        <p:grpSpPr>
          <a:xfrm>
            <a:off x="6324480" y="3352680"/>
            <a:ext cx="2210040" cy="1770480"/>
            <a:chOff x="6324480" y="3352680"/>
            <a:chExt cx="2210040" cy="1770480"/>
          </a:xfrm>
        </p:grpSpPr>
        <p:sp>
          <p:nvSpPr>
            <p:cNvPr id="219" name="Line 14"/>
            <p:cNvSpPr/>
            <p:nvPr/>
          </p:nvSpPr>
          <p:spPr>
            <a:xfrm flipH="1" flipV="1">
              <a:off x="6400800" y="3352680"/>
              <a:ext cx="838080" cy="1067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f96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6324480" y="4419720"/>
              <a:ext cx="2210040" cy="7034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0e3f96"/>
                  </a:solidFill>
                  <a:latin typeface="Times New Roman"/>
                  <a:cs typeface="Times New Roman"/>
                </a:rPr>
                <a:t>رمز البلد</a:t>
              </a:r>
              <a:endParaRPr b="0" lang="en-US" sz="4000" spc="-1" strike="noStrike">
                <a:solidFill>
                  <a:srgbClr val="0e3f96"/>
                </a:solidFill>
                <a:latin typeface="Arial"/>
              </a:endParaRPr>
            </a:p>
          </p:txBody>
        </p:sp>
      </p:grpSp>
      <p:sp>
        <p:nvSpPr>
          <p:cNvPr id="221" name="AutoShape 16">
            <a:hlinkClick r:id="rId1" action="ppaction://hlinksldjump"/>
          </p:cNvPr>
          <p:cNvSpPr/>
          <p:nvPr/>
        </p:nvSpPr>
        <p:spPr>
          <a:xfrm>
            <a:off x="7696080" y="56386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7493"/>
                </a:moveTo>
                <a:lnTo>
                  <a:pt x="8202" y="7493"/>
                </a:lnTo>
                <a:lnTo>
                  <a:pt x="8202" y="12828"/>
                </a:lnTo>
                <a:cubicBezTo>
                  <a:pt x="8202" y="13751"/>
                  <a:pt x="9003" y="14482"/>
                  <a:pt x="10039" y="14482"/>
                </a:cubicBezTo>
                <a:lnTo>
                  <a:pt x="11701" y="14482"/>
                </a:lnTo>
                <a:cubicBezTo>
                  <a:pt x="12737" y="14482"/>
                  <a:pt x="13538" y="13751"/>
                  <a:pt x="13538" y="12828"/>
                </a:cubicBezTo>
                <a:lnTo>
                  <a:pt x="13538" y="7493"/>
                </a:lnTo>
                <a:lnTo>
                  <a:pt x="11701" y="7493"/>
                </a:lnTo>
                <a:lnTo>
                  <a:pt x="15209" y="3985"/>
                </a:lnTo>
                <a:lnTo>
                  <a:pt x="18882" y="7493"/>
                </a:lnTo>
                <a:lnTo>
                  <a:pt x="17045" y="7493"/>
                </a:lnTo>
                <a:lnTo>
                  <a:pt x="17045" y="12828"/>
                </a:lnTo>
                <a:cubicBezTo>
                  <a:pt x="17045" y="15596"/>
                  <a:pt x="14469" y="18155"/>
                  <a:pt x="11701" y="18155"/>
                </a:cubicBezTo>
                <a:lnTo>
                  <a:pt x="10039" y="18155"/>
                </a:lnTo>
                <a:cubicBezTo>
                  <a:pt x="7271" y="18155"/>
                  <a:pt x="4695" y="15596"/>
                  <a:pt x="4695" y="12828"/>
                </a:cubicBezTo>
                <a:close/>
              </a:path>
            </a:pathLst>
          </a:custGeom>
          <a:solidFill>
            <a:srgbClr val="6666ff"/>
          </a:solidFill>
          <a:ln w="9360">
            <a:solidFill>
              <a:srgbClr val="0e3f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22" name="Slide Number Placeholder 16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EC0F-9D45-4D40-AB2C-D173F9DE65A5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9900"/>
                </a:solidFill>
                <a:latin typeface="Times New Roman"/>
                <a:cs typeface="Times New Roman"/>
              </a:rPr>
              <a:t>هل تعليم الانترنت ضروري؟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انترنت جزء لا يتجزأ من عالم التقنية اليوم.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انترنت أكبر مكتبة معلومات ، أكبر مركز اتصال في العالم ، مصدر للتعامل التجاري.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سهولة النشر والاعلان بواسطتها ” اخبار غير صحيحة“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وسيلة سريعة ، لاتعترف بالمسافات.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3CDB-7E48-4D8A-9F42-E6230E5AAABE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DC48-2D57-4275-881F-486D37AFE1BD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428840" y="5716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9900"/>
                </a:solidFill>
                <a:latin typeface="Perpetua"/>
                <a:cs typeface="Times New Roman"/>
              </a:rPr>
              <a:t>الانترنت والتعليم</a:t>
            </a:r>
            <a:endParaRPr b="0" lang="en-US" sz="40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000160" y="1143000"/>
            <a:ext cx="6143760" cy="65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Arial"/>
              </a:rPr>
              <a:t> ثقافة الانترنت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  <a:cs typeface="Arial"/>
              </a:rPr>
              <a:t>القدره على استخدام الانترنت للبحث عن المعلومات والتاكد من صحتها واستخدامها والاستفاده منها بالطريقه  الصحيحه 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Arial"/>
              </a:rPr>
              <a:t>هل من الضروري تعليم الانترنت ؟ ولماذا ؟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174ec"/>
                </a:solidFill>
                <a:latin typeface="Arial"/>
              </a:rPr>
              <a:t>نعم ! لانه اصبح جزء مهم من العالم اليوم ( اكبر مكتبة معلومات -  سهولة النشر والا علان – سهولة التواصل )</a:t>
            </a:r>
            <a:endParaRPr b="0" lang="en-US" sz="24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Arial"/>
              </a:rPr>
              <a:t>الانترنت في المدارس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  <a:cs typeface="Arial"/>
              </a:rPr>
              <a:t>الهدف من ادخال الانترنت في المدارس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  <a:cs typeface="Arial"/>
              </a:rPr>
              <a:t>الاشراف على مواقع الانترنت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  <a:cs typeface="Arial"/>
              </a:rPr>
              <a:t>تحديد مستخدمي الانترنت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  <a:cs typeface="Arial"/>
              </a:rPr>
              <a:t>تضمينه داخل المنهج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  <a:cs typeface="Arial"/>
              </a:rPr>
              <a:t>الصيانه والتدريب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9900"/>
                </a:solidFill>
                <a:latin typeface="Times New Roman"/>
                <a:cs typeface="Times New Roman"/>
              </a:rPr>
              <a:t>الانترنت والتعليم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imes New Roman"/>
                <a:cs typeface="Times New Roman"/>
              </a:rPr>
              <a:t>ماهي شبكة الانترنت؟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جموعة من الاف الشبكات المتصلة ببعضها عن طريق كابلات وخطوط هواتف واقمار صناعية ، بطريقة تسمح لها بمشاركة المعلومات على مستوى العالم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1EA7-7561-4B91-85F3-2D0F9F56D065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9DC2-A3DB-458B-808F-11478FD8164A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428840" y="5716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9900"/>
                </a:solidFill>
                <a:latin typeface="Perpetua"/>
                <a:cs typeface="Times New Roman"/>
              </a:rPr>
              <a:t>الانترنت والمناهج الدراسيه</a:t>
            </a:r>
            <a:endParaRPr b="0" lang="en-US" sz="40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000160" y="1143000"/>
            <a:ext cx="614376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رياضات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علوم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لغه العربيه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جغرافيا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لغه الانجليزيه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تربيه الفنيه والتربيه النسويه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تعليم الخاص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علوم الدينيه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مناهج الاطفال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754C-48DB-4AF3-A4F2-82B657827E97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428840" y="5716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9900"/>
                </a:solidFill>
                <a:latin typeface="Perpetua"/>
                <a:cs typeface="Times New Roman"/>
              </a:rPr>
              <a:t>فوائد استخدام الانترنت</a:t>
            </a:r>
            <a:endParaRPr b="0" lang="en-US" sz="40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000160" y="1357200"/>
            <a:ext cx="61437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 تبادل البيانات بين الناس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ارسال واستلام المعلومات لاي مكان بالعالم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تبادل الصور والرسومات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التعرف على العالم من حولنا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تحميل الملفات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استخدام البريد الالكتروني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التعلم عن بعد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سؤال الخبراء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نشر المعلومات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الاشتراك بالمنتديات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buClr>
                <a:srgbClr val="3174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174ec"/>
                </a:solidFill>
                <a:latin typeface="Arial"/>
              </a:rPr>
              <a:t>المحادثه مع الاصدقاء</a:t>
            </a:r>
            <a:endParaRPr b="0" lang="en-US" sz="18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9900"/>
                </a:solidFill>
                <a:latin typeface="Times New Roman"/>
                <a:cs typeface="Times New Roman"/>
              </a:rPr>
              <a:t>من يملك الانترنت؟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انترنت ليست حكرا لأحد ، لكن خدمة الاتصال بها تقدم من قبل مؤسسات حكومية او خاصة تتحكم بتكلفة الانترنت المقدمة للمستخدم.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1931-4D57-4E65-9A3D-CA2BBB6E4C72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06fcc"/>
                </a:solidFill>
                <a:latin typeface="Times New Roman"/>
                <a:cs typeface="Times New Roman"/>
              </a:rPr>
              <a:t>بروتكول الشبكه 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تستخدم الشبكه بروتوكول التحكم بالنقل/التحكم بالانترنت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CP/IP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ransmission Control Protocol /Internet Protocol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برنامج كتب لغرض ربط الشبكات المتباعدة جغرافيا عن بعضها فهو يسمح لجميع اجهزة الحاسب بالتخاطب وتبادل المعلومات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كسر حاجز (بيئة النظام )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4BD7-2152-4315-AF88-D97771E24370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06fcc"/>
                </a:solidFill>
                <a:latin typeface="Times New Roman"/>
                <a:cs typeface="Times New Roman"/>
              </a:rPr>
              <a:t>ماذا نعني بمزودي الشبكة </a:t>
            </a:r>
            <a:r>
              <a:rPr b="0" lang="en-US" sz="4000" spc="-1" strike="noStrike">
                <a:solidFill>
                  <a:srgbClr val="306fcc"/>
                </a:solidFill>
                <a:latin typeface="Times New Roman"/>
                <a:ea typeface="Times New Roman"/>
              </a:rPr>
              <a:t>Isp</a:t>
            </a:r>
            <a:r>
              <a:rPr b="0" lang="ar-SA" sz="4000" spc="-1" strike="noStrike">
                <a:solidFill>
                  <a:srgbClr val="306fcc"/>
                </a:solidFill>
                <a:latin typeface="Times New Roman"/>
                <a:cs typeface="Times New Roman"/>
              </a:rPr>
              <a:t>؟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9360">
            <a:solidFill>
              <a:srgbClr val="306f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Internet Service Provider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هي الشركات او المؤسسات التي لها اتصال بقنوات الاتصال المباشره التي تربط الشبكات مع بعضها .</a:t>
            </a:r>
            <a:endParaRPr b="0" lang="en-US" sz="24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106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تتحكم برسوم الاتصال مقابل توفير الخدمه .</a:t>
            </a:r>
            <a:endParaRPr b="0" lang="en-US" sz="24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4834-9006-427C-841C-948EBA086B42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62120" y="129528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WW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86000" y="533520"/>
            <a:ext cx="6324480" cy="1434600"/>
          </a:xfrm>
          <a:prstGeom prst="rect">
            <a:avLst/>
          </a:prstGeom>
          <a:solidFill>
            <a:srgbClr val="6666ff"/>
          </a:solidFill>
          <a:ln w="9360">
            <a:solidFill>
              <a:srgbClr val="25a2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اهي الشبكة العالمية العنكبوتية؟</a:t>
            </a:r>
            <a:endParaRPr b="0" lang="en-US" sz="4400" spc="-1" strike="noStrike">
              <a:solidFill>
                <a:srgbClr val="0e3f96"/>
              </a:solidFill>
              <a:latin typeface="Arial"/>
            </a:endParaRPr>
          </a:p>
        </p:txBody>
      </p:sp>
      <p:pic>
        <p:nvPicPr>
          <p:cNvPr id="130" name="Picture 6" descr="bd05045_"/>
          <p:cNvPicPr/>
          <p:nvPr/>
        </p:nvPicPr>
        <p:blipFill>
          <a:blip r:embed="rId1"/>
          <a:stretch/>
        </p:blipFill>
        <p:spPr>
          <a:xfrm>
            <a:off x="0" y="4662360"/>
            <a:ext cx="2362320" cy="2195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2209680" y="1295280"/>
            <a:ext cx="3733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orld Wide Web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657600" y="4419720"/>
            <a:ext cx="2438280" cy="6426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age</a:t>
            </a:r>
            <a:endParaRPr b="0" lang="en-US" sz="36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-136800" y="2057400"/>
            <a:ext cx="969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60f"/>
                </a:solidFill>
                <a:latin typeface="Times New Roman"/>
                <a:ea typeface="Times New Roman"/>
              </a:rPr>
              <a:t> جزء من شبكة الانترنت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60f"/>
                </a:solidFill>
                <a:latin typeface="Times New Roman"/>
                <a:ea typeface="Times New Roman"/>
              </a:rPr>
              <a:t> تشتمل على عدد ضخم من الوثائق المتصلة ببعضها البعض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60f"/>
                </a:solidFill>
                <a:latin typeface="Times New Roman"/>
                <a:cs typeface="Times New Roman"/>
              </a:rPr>
              <a:t>عن طريق الوصلات التشعبية </a:t>
            </a:r>
            <a:r>
              <a:rPr b="0" lang="en-US" sz="3200" spc="-1" strike="noStrike">
                <a:solidFill>
                  <a:srgbClr val="01060f"/>
                </a:solidFill>
                <a:latin typeface="Times New Roman"/>
                <a:ea typeface="Times New Roman"/>
              </a:rPr>
              <a:t>Hyperlink</a:t>
            </a:r>
            <a:r>
              <a:rPr b="0" lang="ar-SA" sz="3200" spc="-1" strike="noStrike">
                <a:solidFill>
                  <a:srgbClr val="01060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1060f"/>
                </a:solidFill>
                <a:latin typeface="Times New Roman"/>
                <a:ea typeface="Times New Roman"/>
              </a:rPr>
              <a:t> كل وثيقة على هذه الشبكة تسمى الصفحة العنكبوتية 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34" name="Slide Number Placeholder 10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D237-EA23-4E91-B601-E0AD4B2DBE73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9900"/>
                </a:solidFill>
                <a:latin typeface="Times New Roman"/>
                <a:cs typeface="Times New Roman"/>
              </a:rPr>
              <a:t>مصطلحات الانترنت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برامج الاتصال (المتصفحات  - </a:t>
            </a: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browsers</a:t>
            </a:r>
            <a:r>
              <a:rPr b="0" lang="ar-SA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)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ثل انترنت اكسبلورر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فاير فوكس </a:t>
            </a: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FireFox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قوقل كروم  </a:t>
            </a: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chrome</a:t>
            </a:r>
            <a:r>
              <a:rPr b="0" lang="ar-SA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وبرا     </a:t>
            </a:r>
            <a:r>
              <a:rPr b="0" lang="en-US" sz="32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opera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pic>
        <p:nvPicPr>
          <p:cNvPr id="137" name="Picture 4" descr="Internet Explorer 8 beta 2.jpg"/>
          <p:cNvPicPr/>
          <p:nvPr/>
        </p:nvPicPr>
        <p:blipFill>
          <a:blip r:embed="rId1"/>
          <a:stretch/>
        </p:blipFill>
        <p:spPr>
          <a:xfrm>
            <a:off x="4419720" y="18288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3733920" y="2819520"/>
            <a:ext cx="1066680" cy="102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4267080" y="3886200"/>
            <a:ext cx="1200240" cy="1200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4"/>
          <a:stretch/>
        </p:blipFill>
        <p:spPr>
          <a:xfrm>
            <a:off x="4267080" y="510552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11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EE7E-82E7-425D-9D5D-ED2318A803E8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5120" y="372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موقع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ite</a:t>
            </a:r>
            <a:r>
              <a:rPr b="0" lang="ar-SA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e3f96"/>
                </a:solidFill>
                <a:latin typeface="Times New Roman"/>
                <a:ea typeface="Times New Roman"/>
              </a:rPr>
              <a:t>	</a:t>
            </a:r>
            <a:r>
              <a:rPr b="0" lang="ar-SA" sz="28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مكان الذي توضع به المعلومات ، ويحدد له عنوان يميزه.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صفحة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age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لمواضيع تكتب في الصفحات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وصلة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ink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اشاره الى معلومات صفحه او موقع اخر تسهل على التنقل من موقع لاخر 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عنوان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RL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كل موقع يحمل عنوان مميز وخاص فيه يمكن من الدخول المباشر اليه</a:t>
            </a:r>
            <a:endParaRPr b="0" lang="en-US" sz="28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DD35-645B-486E-96F7-CA60E0BBC685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06fcc"/>
                </a:solidFill>
                <a:latin typeface="Times New Roman"/>
                <a:cs typeface="Times New Roman"/>
              </a:rPr>
              <a:t>التنقل عبر صفحات الإنترنت</a:t>
            </a:r>
            <a:endParaRPr b="0" lang="en-US" sz="4000" spc="-1" strike="noStrike">
              <a:solidFill>
                <a:srgbClr val="306fcc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712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e3f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الوصلات الحية 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inks</a:t>
            </a:r>
            <a:r>
              <a:rPr b="0" lang="ar-S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: </a:t>
            </a: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ننتقل من صفحة الى اخرى بالنقر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برامج المتصفحات 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ortal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: </a:t>
            </a: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وسيله للتجول والتصفح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أدلة : </a:t>
            </a:r>
            <a:r>
              <a:rPr b="0" lang="ar-SA" sz="3200" spc="-1" strike="noStrike">
                <a:solidFill>
                  <a:srgbClr val="0e3f96"/>
                </a:solidFill>
                <a:latin typeface="Times New Roman"/>
                <a:cs typeface="Times New Roman"/>
              </a:rPr>
              <a:t>مجموعة مواقع تم تصنيفها حسب الموضوع </a:t>
            </a:r>
            <a:endParaRPr b="0" lang="en-US" sz="3200" spc="-1" strike="noStrike">
              <a:solidFill>
                <a:srgbClr val="0e3f96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521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8142-0FE8-4F7F-90BE-D8A6480BA70E}" type="slidenum">
              <a:rPr b="0" lang="ar-SA" sz="1400" spc="-1" strike="noStrike">
                <a:solidFill>
                  <a:srgbClr val="306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e3f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9:44:02Z</dcterms:created>
  <dc:creator>Sumayah</dc:creator>
  <dc:description/>
  <dc:language>en-US</dc:language>
  <cp:lastModifiedBy>NOUF</cp:lastModifiedBy>
  <dcterms:modified xsi:type="dcterms:W3CDTF">2012-03-04T18:52:13Z</dcterms:modified>
  <cp:revision>9</cp:revision>
  <dc:subject/>
  <dc:title>الباب العاش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47C96D480B04534AADAA8DC90E730F87</vt:lpwstr>
  </property>
</Properties>
</file>