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0F28-2265-4C22-BF01-1F280494DDE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074-44B1-49E1-A783-CFF210014D1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6AD-BE23-4B2A-9045-79A59904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98E-DAE9-4A5B-9769-52DBD42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CBF-E183-4EE2-8412-A911B70E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08C-1619-4DE4-9FDB-5E852678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723-166E-4FEA-9CE4-2E1AD5B7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2ED-1D3C-43C3-9C45-085DFFB7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C3E-A718-494C-A6E6-8D64AF6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974-C1CA-4CE9-AFD6-3D967B1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F1C-BC2F-4F18-90ED-FBCA386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640-0D66-475B-9D2C-4E8B293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B49-4B99-465B-85FA-A1786E1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46A-68F2-4900-9C7C-C09686B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956D-E37E-4A9C-9D97-6ED6EAE0A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حاد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عمل التطوعي</a:t>
            </a:r>
            <a:r>
              <a:rPr b="0" lang="ar-SA" sz="6000" spc="-1" strike="noStrike">
                <a:solidFill>
                  <a:srgbClr val="00b0f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ثان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اتصال الالكترون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وظائف الإنترنت : ـ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تحدثنا عن استخدامات شبكة الإنترنت في الوقت الحاضر ، فلن نستطيع حصرها ، فهي كثيرة ، ومتشعبة للغاية ، ولكننا نستطيع ذكر بعض الأستخدامات الشائعة لتلك الشبكة وهي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9698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أتصالات الهاتفية الدولية بالأصدقاء والأقارب حول العالم ،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تصال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قوائم البريد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ling li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إرسال واستقبال البريد الإلكتروني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Mail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إرفاق الوثائق والملفات المختلفة ب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ريد الإلكترون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فرصة عمل من خلال المواقع المختصة بذلك والتي تقوم بدور الوسيط بين أصحاب الشركات ، والمؤسسات وراغبي العم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ستعراض مواقع الوي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الإطلاع على أحدث الأخبار المحلية والعالمي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المعلومات والأبحاث والوثائق .. إلخ ، داخل محتوى الشبكة العنكبوتية العالم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Wide Web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محركات البحث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 Engin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نتشرة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عرفة فروق التوقيت بين الدول والمدن المختلفة عبر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تستخدم شبكة الإنترنت لنشر المجلات والكتب ، إضافة إلى عرض الصحف ؛ ونظراً لأن المعلومات على شبكة الإنترنت في شكل إلكتروني ، فإن ذلك سيوفر كلفة الورق والطباعة والتوزيع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نشر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شراء والتسوق الإلكتروني عبر الإنترنت م خلال المواقع المتخصصة في 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يع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دعاية الإلكترونية لمنتجك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إعلان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سديد الأشتراكات والرسوم الحكومية من خلال خدمات التسديد الإلكتروني ــ عبر الإنترنت ــ المتوفرة بالمواقع الحكومية بالعديد من الدول حول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أسعار الأسهم العالمية للشركات وأخبار البور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سعر شراء وبيع العملات العالمية من خلال المواقع الأقتصادية والإخبارية المتخص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ات المالية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الإنترنت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969840"/>
          <a:ext cx="8229600" cy="493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حوار الحي المباشر أو ما يعرف بالدردشة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tting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، بين شخصين أو أكثر عبر الإنترنت ، بصرف النظر عن تباعد المسافة بينه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خاط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وكافة الملفات الأخرى ... إلخ ، من مواقع الإنترنت وحفظها على جهاز الكمبيوتر الخاص بالمستخد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رف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، وكفاة الملفات الأخرى ... إلخ ، من جهاز الكمبيوتر الخاص بالمستخدم إلى مواقع الويب ، ليتمكن الآخرون من تحميلها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ي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صور والألعاب وكافة البرامج الخاصة بهاتفك ال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المواقع والمنتديات المختصة بذلك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لع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أنضمام إلى برامج التعليم الإلكتروني ، أو ما يعرف بالتعليم عن بعد ، وذلك من خلال مؤسسات وجامعات تعمل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لم عن بع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قل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 Transfer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ين جهازي كمبيوتر متصلين بشبكة الإنترنت بصرف النظر عن بعد المسافة بين الجهاز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بادل المعلومات والتقارير والوثائق بين المؤسسات والشركات ، بشكل سري وخاص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نقاش حول موضوع أو قضية معينة مع عدة أشخاص حول العالم وذلك من خلال المجموعات الإخبار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group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شارك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لفات والبرامج بين المستخدمين عبر الإنترنت من خلال برامج مشاركة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to P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أو برامج بروتوكول الـ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rent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قل وتبادل ومشاركة الآراء والمعلومات والملفات والبرام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إرسال رسائ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لأي هاتف 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ول العالم ، من خلال برامج ومواقع توفر تلك الخدمة لمستخدمي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سائ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مشاهدة أي رقعة بالعالم من خلال الأقمار الصناعية عبر الإنترنت ، وذلك بواسطة برامج ومواقع مختصة ب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مواقع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ناياً : البريد الإلكتروني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دامات البريد الإلكتر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371600"/>
          <a:ext cx="8229600" cy="4389480"/>
        </p:xfrm>
        <a:graphic>
          <a:graphicData uri="http://schemas.openxmlformats.org/drawingml/2006/table">
            <a:tbl>
              <a:tblPr/>
              <a:tblGrid>
                <a:gridCol w="7264440"/>
                <a:gridCol w="96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عد البريد الإلكتروني مزدوج الأتجاه ، إذ يمكنك تلقي رسائل من أي شخص يعرف عنوان البريد الإلكتروني الخاص بك ، ثم قراءة تلك الرسائل والرد علي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ملفات وتلقيها ، بالإضافة إلى النص ، يمكنك تقريباً إرسال أي نوع من أنواع الملفات مرفق برسالة بريد إلكتروني ، ويشمل ذلك المستندات ، والصور ، ومقاطع الفيديو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رسائل إلى مجموعات من النا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إعادة توجيه الرسائل عند تلقي رسالة بريد إلكتروني ، يمكنك إعادة توجيهها إلى الآخرين بدون إعادة كتابت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رسائل في أي وقت من النهار أو بالل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فير بيئة مجانية ، على خلاف إرسال الخطابات العا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أن يحصل على الرسالة في الوقت الذي يناسب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إرسال عدة رسائل إلى جهات مختلفة في الوقت نفس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ـ أهم تطبيقات البريد الإلكتروني في العملية التعليمية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طبيقات البريد الإلكتروني في العملية التعليم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83808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شعار الخا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وص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سم الموق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عتبر من أشهر المواقع الأجتماعي على الإنترنت ، أسسه طالبه في جامعة هارفرد عام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والآن تخطى عدد مستخدميه ال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، تقدر قيمته ب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ا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ن أوسائل الشبكات الأجتماعي وأكبرها ، يعد ثاني أكثر الشبكات الأجتماعية شهرة بعد الفيس بوك ، يعمل على تقديم خدمات كثيرة للمستخدم مثل مشاركة الصورة والملفات ، يقع مقر الشركة في كاليفورنيا بالولايات المتحدة الأمريكية ، لدى ماي سبيس الآن أكثر من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في جميع أنحاء العالم 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شبكة اجتماعية مختصة بالعمل والتجارة ، تضم حوالي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حترف ومحترفة في العديد من المجالات ، يتشاركون في مجموعة اهتماما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l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وقع شبكات اجتماعية يقدم خدمات تدوين مصغر والتي تسمح لمستخدميه بإرسال تحديثات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eet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عن حالتهم بحد أقصى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0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رف للرسالة الواحدة ، وذلك مباشرة عن طريق إرسال رسالة نصية قصير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أو برامج المحادثة الفورية ، أو التطبيقات التي يقدمها المطورون مثل : الفيس  بو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fox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rl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 terrific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4" name="صورة 7" descr="facebook-logo-0309-lg-59377844[1].jpg"/>
          <p:cNvPicPr/>
          <p:nvPr/>
        </p:nvPicPr>
        <p:blipFill>
          <a:blip r:embed="rId1"/>
          <a:stretch/>
        </p:blipFill>
        <p:spPr>
          <a:xfrm>
            <a:off x="1143000" y="121932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صورة 8" descr="myspace-logo[1].png"/>
          <p:cNvPicPr/>
          <p:nvPr/>
        </p:nvPicPr>
        <p:blipFill>
          <a:blip r:embed="rId2"/>
          <a:stretch/>
        </p:blipFill>
        <p:spPr>
          <a:xfrm>
            <a:off x="990720" y="22096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9" descr="LinkedIn-Logo[1].png"/>
          <p:cNvPicPr/>
          <p:nvPr/>
        </p:nvPicPr>
        <p:blipFill>
          <a:blip r:embed="rId3"/>
          <a:stretch/>
        </p:blipFill>
        <p:spPr>
          <a:xfrm>
            <a:off x="762120" y="3886200"/>
            <a:ext cx="215712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صورة 10" descr="twitter-logo1[1].png"/>
          <p:cNvPicPr/>
          <p:nvPr/>
        </p:nvPicPr>
        <p:blipFill>
          <a:blip r:embed="rId4"/>
          <a:stretch/>
        </p:blipFill>
        <p:spPr>
          <a:xfrm>
            <a:off x="838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تي تقدمها مواقع التواصل الا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شترك أغلب الشبكات الأجتماعية فيما بينها بالعديد من الخدمات ، التي تقدمها للمستخدمين ، ولكنها تختلف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بعض المميزات التي يختص بها كل موقع عن الآخر ومن أبرز هذه الخدمات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خدمات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هي صفحة خاصة بكل مشترك تحتوي على معلومات أساسية عنه ، مثل : ( العمر ، ومكان الميلاد ، وأبرز الهوايات ) ، من خلال زيارة هذه الصفحة يمكن مشاهدة نشاطات الشخص ، وأيضاً التعرف على قائمة أصدقائ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لفات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م الأشخاص الذين يقوم المستخدم بالتعرف عليهم وإضافتهم لقائمته ؛ لغرض معين . وتختلف تسمية الأصدقاء من موقع لآخر ، فهنك بعض المواقع تطلق على الصديق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 اتصال : علاقة )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صدق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عبارة عن مجموعة بمسمى محدد تنشأ لغرض معين يكون لأعضائها نفس الأهتمامات ، توفر هذه المجموعات منتدى لحوار مصغر بين أعضاء هذه المجموعة ، ويستطيع منظموها تنسيق اجتماعات عن طريق الأحدا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كما أنهم يستطيعون دعوة أعضاء آخرين للأنضمام لمجموعتهم ، ويوجد العديد من الخدمات الأخرى ، مثل : ـ ألبومات الصور ، والرسائل الفورية التي تكتب على جدار الأعضاء ، والصفحات الإعلانية التي تستخدم تجارياً لعرض المنتجات والفعاليات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 نتواصل بإيجابية عبر مواقع التواصل الأ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تصال الإيجابي في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676520"/>
          <a:ext cx="8229600" cy="399240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أكتب ما يسرك أن تراه في صحيفة أعمالك يوم القيامة فالكلمة مسؤول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اصل فقط مع من تثق بدينه وفكره وأخلاق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افظ على خصوصية معلوماتك ، فلا تنشر غلا ما يعكس الصورة الإيجابية عن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ختر الوقت المناسب لتواصلك مع الآخرين ، والدخول والخروج على الشبكة العنكوتية، حتى لا تقع ضحية الإدمان للإنترنت فيعيك عن تطوير قدراتك وإنجاز مهامك الأكثر أهمية وتحقيق طموحات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رص على التحلي بآداب الحديث والتواصل الفاعل الإيجابي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ذر الإتصال بالعناوين الغريبة ، فقد تقودك إلى موضوعات أو أفكار أو اتجاهات سلب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م التقنية في كل ما يساهم في تطوير قدراتك وتنمية مواهبك وتحقيق التواصل البنّاء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لث : مخاطر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362240"/>
          <a:ext cx="8229600" cy="45813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واقع اللا أخلاقية ، التي تكثر وتتكاثر في الإنترنت ، والتي يتم نشرها بأساليب عديدة في محاولة لأجتذاب الأطفال ، والمراهقين إلى سلوكيات منحرفة ، ومنافية للأخلاق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رف لعمليات أحتيال ، ونصب ، وتهديد ، وابتزاز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أفكار غريبة مناقضة لديننا ولقيمنا ومفاهيمنا ، والتي تعرض بأساليب تبهر المراهقين مثل : عبادة الشيطان والعلاقات الغريبة الشاذ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لأنتحار والتشجيع له من خلال بعض المواقع وغرف الدردش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غماس في استخدام برامج الأختراق الهاكرز ، والتسلل لإزعاج الآخرين وإرسال الفيروسات التخريبية والمزعج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كلة إدمان الإنترنت ، والأمراض النفسية التي تنجم عن سوء استخدام الإنترنت مثل : الأكتئاب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حياة في الخيال وقصص الحب الوهمية والصداقة الخيالية مع شخصيات مجهولة وهمية ، أغلبها تتخفى بأقنعة وأسماء مستعارة ، وما يترتب على مثل هذه القصص من عواقب خطير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ام الأسماء المستعارة ، وتقمص شخصيات غير شخصياتهم في غرف الدردشة ، وما يتبعه ذلك من أعتياد ارتكاب الأخطاء والحماقات ، واستخدام الألفاظ النابي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بع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274760"/>
          <a:ext cx="8229600" cy="521172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مارسة الشراء الإلكتروني دون رقابة ، من خلال استخدام البطاقات الأئتمانية الخاصة بأحد الوالد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لقمار والتي تنتشر مواقعها ويتم الترويج لها بكل الوسائل عبر ال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شهير بالأفراد والشركات ونشر الإشاعات المغرضة عبر نشرها بالمواقع ، أو من خلال غرف الدردشة أو البريد الإلكتروني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نتهاك حقوق الملكية ، بوضع نسخ للكتب والأبحاث على سبيل المثال في مواقعهم ، أو تداولها فيما بينهم م خلال أجهزتهم مباشر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أجهزة الكمبيوتر للتلف والخبرات بتأثير الفيروسات التي تصل عبر الإيميل والمواقع وملفات التحم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خصوصية المعلومات التي في الأجهزة للأختراق من قبل المخترقين المحترفين وهواة الأختراق وبرامج التجس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ب الجسدي والإرهاق والأضرار الصحية ، والتي يسببها الأستخدام الطويل للكمبيوتر والإنترنت ، مثل : ضرر العيون ، والعمود الفقري ، والمفاصل ، والأعصاب ، وزيادة الوزن ، أو نقصان الوزن ، وغيرها من المخاطر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صحية الجس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خصائص مدمني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فات الأفراد مدمني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274760"/>
          <a:ext cx="8229600" cy="41655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فضلون العزل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زيادة عدد الساعات أمام الإنترنت بشكل مطرد تتجاوز الفرات التي حددها الفرد لنفس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همال الواجبات الأجتماعية ، والأسرية ، والوظيفية بسبب استعمال الشبك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رار استعمال الشبكة ( الإنترنت ) مع وجود بعض المشكلات مثل : فقدان العلاقات الاجتماعية ، والتأخر في العم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شوقون لجلسة 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وتر والقلق الشديدين في حالة وجود أي عائق للأتصال بالشبكة ( الإنترنت ) قد تصل إلى حد الأكتئاب إذا ما طالت فترة الأبتعاد عن الدخول ، والإحساس بسعادة بالغة وراحة نفسية حين يرجع إلى إستخدام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ذبون حول المواقع التي يستخدمون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فقدون الشعور بالوق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وقع من الطالب في نهاية الجلسة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إيجابية ، و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سمات السلوك الا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بيق سمات الشخصيى الايجابية في مواقف حياتية يوم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ظيف أساليب السلوك الايجابي في خدمة المجتم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ثل مهارات الاتصال المختلفة عند قيامه ب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اج إدمان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249200"/>
          <a:ext cx="8229600" cy="4754880"/>
        </p:xfrm>
        <a:graphic>
          <a:graphicData uri="http://schemas.openxmlformats.org/drawingml/2006/table">
            <a:tbl>
              <a:tblPr/>
              <a:tblGrid>
                <a:gridCol w="6453360"/>
                <a:gridCol w="1377720"/>
                <a:gridCol w="398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فإذا اعتماد المريض استخدام الإنترنت طيلة أيام الأسبوع ، نطلب منه الأنتظار حتى يستخدمه في يوم الإجازة الأسبوعية ، وإذا كان يفتح البريد الإلكتروني أول شيء حين يستيقظ من النوم ، نطلب منه أن ينتظر حتى يفطر ، ويشاهد أخبار الصباح ، وإذا كان المريض يستخدم الكمبيوتر في حجرة النوم نطلب منه أن يضعه في حجرة المعيشة .. وهكذ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عمل العك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ضبط منبه قبل بداية دخوله الإنترنت بحيث ينوي الدخول على الإنترنت ساعة واحدة قبل نزوله للعمل مثلاً ؛ حتى لا يندمج في الإنترنت بحيث يتناسى موعد نزوله للعمل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جاد موانع خارج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طلب من المريض تقليل وتنظيم ساعات استخدامه ، بحيث إذا كان مثلاً يدخل على الإنترنت لمدة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نطلب منه التقليل إلى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وتنظيم تذلك الساعات بتوزيعها على أيام الأسبوع في ساعات محددة في اليوم ، بحيث لا يتعدى الجدول المحدد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وقت الأستخدا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ما ذكرنا فإن إدمان بعض المرضى يتعلق بمجال محدد من مجالات استخدام الإنترنت ، فإذا كان المريض مدمناً لحجرات الحوارات الحية ، نطلب منه الأمتناع عن تلك الوسيلة امتناعاً تاماً ، في حين نترك له حرية استخدام الوسائل الأخرى الموجودة على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متناع الت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إعداد بطاقات يكتب عليها خمساً من أهم المشاكل الناجمة عن إسرافه في استخدام الإنترنت ، كإهماله لأسرته ، وتقصيره في أداء عمله مثلاً ، ويكتب عليها أيضاً خمساً من الفوائد التي ستنتج عن إقلاعه عن إدمانه ، مثل إصلاحه لمشاكله الأسرية ، وزيادة اهتمامه بعمله ، ويضع المريض تلك البطاقات في جيبه أو حقيبته حيثما يذهب ، بحيث إذا وجد نفسه مندمجاً في استخدام الإنترنت ، يخرج البطاقات ليذكر نفسه بالمشاكل الناجمة عن ذلك الإندماج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داد بطاقات من أجل التذك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أن يفكر في الأنشطة التي كان يقوم بها قبل إدمانه للإنترنت : ليعرف ماذا خسر بإدمانه مثل : قراءة القرآن ، والرياضة ، وقضاء الوقت بالنادي مع الأسرة ، والقيام بزيارات اجتماعية وهكذا .. نطلب من المريض أن يعاود ممارسة تلك الأنشطة لعله يتذكر طعم الحياة الحقيقية وحلاوته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ادة توزيع الوق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زيادة رقعة حياته الأجتماعية الحقيقية بالأنضمام إلى فريق الكرة بالنادي مثلاً ، أو إلى درس لتعليم الخياطة ، أو الذهاب إلى دروس المسجد ؛ ليكوّن حوله مجموعة من الأصدقاء الحقيقي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ضمام إلى مجموعات التأي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ي بعض الأحيان تحتاج الأسرة بأكملها إلى تلقي علاج أسري بسبب المشاكل الأسرية التي يحدثها إدمان الإنترنت ، بحيث يساعد الطبيب الأسرة على استعادة النقاش والحوار فيما بينها ولتقتنع الأسرة بمدى أهميتها في إعانة المريض ؛ ليقلع عن إدمان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لجة الأسر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: التعرف على السلوك الايجابي ضمن أنواع السلو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1697040"/>
          <a:ext cx="7238880" cy="749772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طبيق حيات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صف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نوع 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بشير طالب مجتهد ويسعى للتفوق ، ودائما يحدث زملاءه بذلك ويشجعهم على المذاكرة وبذل الجهد لتحقيق النجاح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درة الشخص على التعبير عن حاجته، وافكاره ، ومشاعره بأمانه ، وبشكل مباشر، ودون انتهاك لحقوق الاخرين مع إعطائهم نفس الحقو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يكون المبداء ( أكسب وأساعد الاخرين على الكسب ). وذلك إنطلاقا من القاعدة أن الانسان حر ما لم يضر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ؤاد طالب مشاغب داخل القاعة الدراسية ، فهو لا يريد الاستماع لشرحالمدرب بحجة أنه يعرف هذا الكلام ولا يريد لزملاءه الاستفادة ، ويخاطب المدرب والزملاء باسلوب غير لائ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الفرد بوضع حاجاته وحقوقه فوق تلك الخاصة بالاخرين . ومن ثم فهو يتهك حقوق الاخرون حيث يتعامل بمداء ( أنا أكسب ويجب أن يخسر الاخرين )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ذلك من مبداء إلحاق الاذى با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عدو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ام سالم بانجاز الجزء النظري في مشروع مقرر مهارات الاتصال بمفرده وذلك نيابه عن زملائه الذين لم يريدوا مشاركته في العمل ، وعندما سال المدرب عمن انجز العمل اخبره سالم بان الكل ساهم فيه وأنه جهد جماعي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فيه الفرد بجعل رغبات وافكار الاخرين أكثر اهمية من حاجاته الخاصة بمبداء ( اخسر ودع الاخرين يكسبون ) . لان في نهاية المطاف يشعر هذا الفرد بانه ضحية ل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خانع ( المساير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: سمات السلوك الإيجاب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تفائ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اثق في نفس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ف بأن لديه ثقة عالية جدأً في مواجهة مشاكل الحياة ومنفتح تماماً على الآخرين ولديه اتجاه إيجابي نحو الحيا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لديه مشكلة في تأكيد ذاته ، والثقة بنفسه ، وليس قلقاً عما لدى الآخرين من انطباعات عنه ، وليس له مشاعر بالدو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ست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حري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وفقاً لرغباته ولا يهتم بما يتوقعه الآخرون منه ، كما أنه لا يسايرهم ولا يعتمد عليهم في أي تصرف من تصرفات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على استعداد للقيام بمغامرات من أية نوع ، وينشد دائماً الأمان وخاصة في التعامل مع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كم اجتماع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ثار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قدرة إصدار الأحكام على الآخرين من خلال استخلاص طبيعة المظهر الخارجي للفرد ، وتعبيرات الوجه ، والصو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جعل مصالحه الشخصية آخر شيء يفكر فيه أو يعمل له ، بل لديه شعور بالمسؤولية ، والواجب ، والتعاطف ، والأستعداد للتضحية ، ونجدة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مو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حم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زداد إحساسه بقيمته من خلال إنجازاته ويميل إلى كسب الأعتراف به وأحترام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قدرة كبيرة على التحمل وعدم الأنزعاج ، ولديه قدرة على تحمل آراء الآخرين وتقبلها بعقلية منفتحة ، لذا فهو يتحكم في انفعالاته ويصعب إحراج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ني : العمل التطوع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533520" y="2971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مفهوم العمل التطوع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 العمل التطوعي ظاهرة اجتماعية تحقق الترابط ، والتآلف ، والتآخي بين أفراد المجتمع ، حتى نكون كما وصفنا الرسول صلى الله عليه وسلم ( كالجسد الواحد ) ، ما من مجتمع إلا وفيه المحتاج ، والجاهل ، والمريض والمعاق ، ومن يحتاج إلى المال ، أو المسكن أو الملبس ، أو الزواج ، وغيره فعمل الخير باب واسع بشرط أن يكون العمل خالص لوجه الل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على ذلك يمكن تعريف العمل التطوعي بأنه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قوم به الفرد طوعاً من ذات نفسه ، ولا يحتاج لأنه يلزمه أحد أو يشوبه تربُح مادي أو اجتماع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ً : العمل التطوعي من منظور إسلامي : ـ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حث الدين الإسلامي الحنيف على التطوع ، وجعله واجباً دينياً ، كما ورد في القرآن الكريم كثيراً من الآيات ، التي تحت على التطوع في فعل الخير ، وتؤكد على ضرورة التعاون ، والتكافل والتآلف بين الناس وتقررها ومن هذه الآيات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 { فمن تطوع خيراً فهو خيرٌ له ، وأن تصوموا خيرٌ لكم إن كنتم تعلم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84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بقرة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: { وجعلنهم أئمة يهدون بأمرنا وأوحينا إليهم فعل الخيرت وإقام الصلوة وإيتاء الزكوة وكانوا لنا عبدي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الأنبياء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عز وجل : { يأيها الذين ءامنوا اركعوا واسجدوا واعبدوا ربكم وافعلوا الخير لعلكم تفلح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7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حج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كما ذكرت السنة النبوية المطهرة أحاديث كثيرة أيضاً تدعونا إلى فعل الخير ، والسعي في قضاء حوائج الناس ، ونفعهم حتى ننال الأجر العظيم من الله عز وج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عبد الله ابن عمر ــ رضي الله عنهما ــ قال : قال رسول الله صلى الله عليه وسلم : (( أحب الناس إلى الله أنفعهم ، وأحب الأعمال إلى الله ــ عز وجل ــ سرور تدخله على مسلم ، أو تكشف عنه كربة ، أو تقضي عنه ديناً ، أو تطرد عنه جوعاً ، ولأن أمشي مع أخي المسلم في حاجة أحب إليّ من أن أعتكف في المسجد شهراً ، ومن كف غضبه ستر الله عورته ، ومن كظم غيظاً ولو شاء أن يمضيه أمضاه ، ملأ الله قلبه رضاً يوم القيامة ، ومن مشى مع أخيه المسلم فيحاجته حتى يثبتها له أثبت ــ الله تعالى ــ قدمه يوم تزل الأقدام ، وإن سوء الخلق ، ليفسد العملكما يفسد الخل العسل )) . ( صحيح الجامع : رقم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هكذا كانت الأنشطة التطوعية منبثقة من تعاليم الإسلام ، ومواكبة الإتجاه العالمي المشجع على التطوع في الخدمات الإنسان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آثار التطوع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كسب الأجر والثواب في الدنيا والآخرة لتحقيق التآلف والتحاب بين الناس ومعالجة النظرة العدا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 التشاؤمية تجاه الآخرين والحيا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تكافل والتعاون بين أفراد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زيادة من قدرة الإنسان على التفاعل ، والتواصل مع الآخرين ، والحد من النزوع إلى الفردية ، وتنمية الحس الأجتماع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تهذيب الشخصية ، ورفع عقلية الشح ، وتحويلها إلى عقلية الوفرة والكسب الأعظم ، الذي هو الأجر عند الل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عمل التطوعي يتيح للإنسان تعلم مهارات جديدة ، أو تحسين مهارات يمتلك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زيادة وتحقيق الشعور بالرضا عن الذات ، والتخلص من الأكتئاب ، وتهذيب النفس ، والإحساس بتأدية دور إيجابي في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شغل وقت الفراغ بما يعود بالفائدة والمنفعة على الفرد ، و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مساعدة 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يز المتطوع الجاد بعدة مهارات ، هي :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ً : مهارات المتطوع الجاد : ـ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كون لديه المهارات القيادة اللازمة لتوجيه الآخرين نحو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ياد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توفر لديه مهارات التعامل مع الآخرين ، مثل الإلقاء ، والحوار والإقناع ، والتفاوض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 مع الآخر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متعاوناً ولديه الرغبة في مشاركة الآخرين في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ون والمشارك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القدرة على تنظيم الوقت ، وإدارته ، واستثماره فيما يفي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دارة الوق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القدرة للعمل كجزء من فريق ، بحيث يكون له دور محد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مل ضمن فري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درة على تحديد الأهداف والأولويات والأعتماد عليه في القيام بذلك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أهدا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ً : ـ معوقات العمل التطوع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229600" cy="557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دافعية نحو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خوف بعض المتطوعين من الألتزام ، وتحمل المسؤول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تأهيل المهني للمتطوع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عدم توفر الوقت الكافي لممارسة العمل التطوعي، أو تعارضه مع العمل أو الدراس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المشكلات الصح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ولاً : ـ المعوقات الشخ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درة البرامج التي ترسخ ثقافة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فاعل وسائل الإعلام مع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رسي ثقافة العمل التطوعي من خلال الدرام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نياً : المعوقات الإعلامية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دخل المادي بصورة عام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فر البيئة المجهزة لممارسة العمل التطوعي باحترافي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لثاً : المعوقات الأقتصاد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يروقراطية والمركزية التي تقف صخرة منيعة أمام تنفيذ بعض البرامج التطوعية ، أو تأخير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إدارات الواعية برسالتها ، وأهداف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كفاية المشرفين على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تشريعات القانونية التي تنظم العمل التطوعي ، أو عجزها عن مواكبة التطو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ابعاً : ـ المعوقات الإدارية والقانون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الوعي بأهمية العمل التطوعي ، ودوره في رقي المجتمع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مصادر المعلومات عن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غرس ثقافة العمل التطوعي في نفوس الناشئ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قدوات والنماذج الرشيدة التي تؤسس للعمل التطوع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ضع مناهج دراسية متخصصة ب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معتقدات السلبية ، كالأعتقاد بأنه لا يقوم بالعمل التطوعي إلا كبار السن ، أو المتفرغين ، أو المؤسسات ، أو أنه مضيعة للوق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خامساً : ـ المعوقات الثقاف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NNY</dc:creator>
  <dc:description/>
  <dc:language>en-US</dc:language>
  <cp:lastModifiedBy>admin</cp:lastModifiedBy>
  <dcterms:modified xsi:type="dcterms:W3CDTF">2011-10-02T10:57:12Z</dcterms:modified>
  <cp:revision>29</cp:revision>
  <dc:subject/>
  <dc:title>الجلسة الحادية عشرة</dc:title>
</cp:coreProperties>
</file>