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971A-2E35-4810-A4B8-C9770DF839C4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9143-62E8-4868-8F3C-9F545AE971D2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EE36-9DC7-48E3-97FF-6AFA7A678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2D04-4325-46EF-A7D6-A84813BD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61BA-E4CC-45D1-B10C-A21872BF6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3A0D-0ADF-4CD3-83E4-0F027340E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3517-06A6-46F3-B107-C71D4127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B8A3-70F6-4E37-9EA1-8A014156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E8C0-4533-47E0-9FF6-0E6C655C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DB15-1B5C-4D2A-90F8-C6C13F3D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F788-BAC1-43FE-816D-736BEE91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C4DF-70C1-4E7C-95C2-8F90BD0C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270C-11A1-4CFA-BA1C-7B6464C1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154A-5CE6-4F02-88C3-1473C08A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3E43-6374-4959-AAF0-6DDEFC47DF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17375e"/>
                </a:solidFill>
                <a:uFillTx/>
                <a:latin typeface="Calibri"/>
                <a:cs typeface="Times New Roman"/>
              </a:rPr>
              <a:t>الجلسة الحادية عشر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b0f0"/>
                </a:solidFill>
                <a:latin typeface="Calibri"/>
                <a:cs typeface="Arial"/>
              </a:rPr>
              <a:t>مهارات العمل التطوعي</a:t>
            </a:r>
            <a:r>
              <a:rPr b="0" lang="ar-SA" sz="6000" spc="-1" strike="noStrike">
                <a:solidFill>
                  <a:srgbClr val="00b0f0"/>
                </a:solidFill>
                <a:latin typeface="Calibri"/>
                <a:ea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17375e"/>
                </a:solidFill>
                <a:uFillTx/>
                <a:latin typeface="Calibri"/>
                <a:cs typeface="Times New Roman"/>
              </a:rPr>
              <a:t>الجلسة الثانية عشر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b0f0"/>
                </a:solidFill>
                <a:latin typeface="Calibri"/>
                <a:cs typeface="Arial"/>
              </a:rPr>
              <a:t>مهارات الاتصال الالكترون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أولاً : ـ وظائف الإنترنت : ـ 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Times New Roman"/>
              </a:rPr>
              <a:t>إذا تحدثنا عن استخدامات شبكة الإنترنت في الوقت الحاضر ، فلن نستطيع حصرها ، فهي كثيرة ، ومتشعبة للغاية ، ولكننا نستطيع ذكر بعض الأستخدامات الشائعة لتلك الشبكة وهي : ـ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80880" y="969840"/>
          <a:ext cx="8229600" cy="5126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ــ إجراء الأتصالات الهاتفية الدولية بالأصدقاء والأقارب حول العالم ، من خلال شبكة الإنترنت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أتصالات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الأشتراك في القوائم البريدية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ling lis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إرسال واستقبال البريد الإلكتروني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ctronic Mail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، وإرفاق الوثائق والملفات المختلفة به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بريد الإلكتروني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-Mail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91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البحث عن فرصة عمل من خلال المواقع المختصة بذلك والتي تقوم بدور الوسيط بين أصحاب الشركات ، والمؤسسات وراغبي العمل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استعراض مواقع الويب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bsite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، والإطلاع على أحدث الأخبار المحلية والعالمية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البحث عن المعلومات والأبحاث والوثائق .. إلخ ، داخل محتوى الشبكة العنكبوتية العالمية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ld Wide Web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وذلك من خلال محركات البحث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arch Engine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المنتشرة عبر الإنترنت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معرفة فروق التوقيت بين الدول والمدن المختلفة عبر العالم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بحث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ــ تستخدم شبكة الإنترنت لنشر المجلات والكتب ، إضافة إلى عرض الصحف ؛ ونظراً لأن المعلومات على شبكة الإنترنت في شكل إلكتروني ، فإن ذلك سيوفر كلفة الورق والطباعة والتوزيع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نشر : 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ــ الشراء والتسوق الإلكتروني عبر الإنترنت م خلال المواقع المتخصصة في ذلك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بيعات : 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ــ الدعاية الإلكترونية لمنتجك عبر الإنترنت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إعلانات : 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تسديد الأشتراكات والرسوم الحكومية من خلال خدمات التسديد الإلكتروني ــ عبر الإنترنت ــ المتوفرة بالمواقع الحكومية بالعديد من الدول حول العالم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التعرف على أسعار الأسهم العالمية للشركات وأخبار البورصة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التعرف على سعر شراء وبيع العملات العالمية من خلال المواقع الأقتصادية والإخبارية المتخصصة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تعاملات المالية : 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وظائف الإنترنت : ـ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80880" y="969840"/>
          <a:ext cx="8229600" cy="4938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ــ إجراء الحوار الحي المباشر أو ما يعرف بالدردشة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hatting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ar-SA" sz="12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 ، بين شخصين أو أكثر عبر الإنترنت ، بصرف النظر عن تباعد المسافة بينهم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تخاطب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91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تحم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wnload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البرامج والألعاب ومقاطع الصوتيات والمرئيات والوثائق وكافة الملفات الأخرى ... إلخ ، من مواقع الإنترنت وحفظها على جهاز الكمبيوتر الخاص بالمستخدم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رفع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load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البرامج والألعاب ومقاطع الصوتيات والمرئيات والوثائق ، وكفاة الملفات الأخرى ... إلخ ، من جهاز الكمبيوتر الخاص بالمستخدم إلى مواقع الويب ، ليتمكن الآخرون من تحميلها عبر الإنترنت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تحمي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wnloa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الصور والألعاب وكافة البرامج الخاصة بهاتفك المحمو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bile phone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وذلك من خلال المواقع والمنتديات المختصة بذلك 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ألعاب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ــ الأنضمام إلى برامج التعليم الإلكتروني ، أو ما يعرف بالتعليم عن بعد ، وذلك من خلال مؤسسات وجامعات تعمل من خلال شبكة الإنترنت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تعلم عن بعد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1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نقل الملفات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le Transfer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بين جهازي كمبيوتر متصلين بشبكة الإنترنت بصرف النظر عن بعد المسافة بين الجهازين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تبادل المعلومات والتقارير والوثائق بين المؤسسات والشركات ، بشكل سري وخاص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الأشتراك في النقاش حول موضوع أو قضية معينة مع عدة أشخاص حول العالم وذلك من خلال المجموعات الإخبارية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sgroups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مشاركة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are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الملفات والبرامج بين المستخدمين عبر الإنترنت من خلال برامج مشاركة الملفات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er to Pe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أو برامج بروتوكول الــ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rrent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نقل وتبادل ومشاركة الآراء والمعلومات والملفات والبرامج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ــ إرسال رسائ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S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لأي هاتف محمو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bile phon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حول العالم ، من خلال برامج ومواقع توفر تلك الخدمة لمستخدمي الإنترنت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سائل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ــ مشاهدة أي رقعة بالعالم من خلال الأقمار الصناعية عبر الإنترنت ، وذلك بواسطة برامج ومواقع مختصة بذلك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تحديد المواقع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gle Ea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ثناياً : البريد الإلكتروني : ـ 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ستخدامات البريد الإلكتروني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80880" y="1371600"/>
          <a:ext cx="8229600" cy="4389480"/>
        </p:xfrm>
        <a:graphic>
          <a:graphicData uri="http://schemas.openxmlformats.org/drawingml/2006/table">
            <a:tbl>
              <a:tblPr/>
              <a:tblGrid>
                <a:gridCol w="7264440"/>
                <a:gridCol w="9651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يعد البريد الإلكتروني مزدوج الأتجاه ، إذ يمكنك تلقي رسائل من أي شخص يعرف عنوان البريد الإلكتروني الخاص بك ، ثم قراءة تلك الرسائل والرد عليها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إرسال الملفات وتلقيها ، بالإضافة إلى النص ، يمكنك تقريباً إرسال أي نوع من أنواع الملفات مرفق برسالة بريد إلكتروني ، ويشمل ذلك المستندات ، والصور ، ومقاطع الفيديو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إرسال رسائل إلى مجموعات من الناس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إعادة توجيه الرسائل عند تلقي رسالة بريد إلكتروني ، يمكنك إعادة توجيهها إلى الآخرين بدون إعادة كتابتها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إرسال الرسائل في أي وقت من النهار أو بالليل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توفير بيئة مجانية ، على خلاف إرسال الخطابات العادية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يستطيع المستفيد أن يحصل على الرسالة في الوقت الذي يناسبه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يستطيع المستفيد إرسال عدة رسائل إلى جهات مختلفة في الوقت نفسه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ثالثاً : ـ أهم تطبيقات البريد الإلكتروني في العملية التعليمية : ـ </a:t>
            </a: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طبيقات البريد الإلكتروني في العملية التعليمية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7200" y="838080"/>
          <a:ext cx="8229600" cy="5857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الشعار الخا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الوص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اسم الموق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يعتبر من أشهر المواقع الأجتماعي على الإنترنت ، أسسه طالبه في جامعة هارفرد عام 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004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، والآن تخطى عدد مستخدميه الــ 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5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مليون مستخدم ، تقدر قيمته بــ 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5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مليار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e bo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2516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هو من أوسائل الشبكات الأجتماعي وأكبرها ، يعد ثاني أكثر الشبكات الأجتماعية شهرة بعد الفيس بوك ، يعمل على تقديم خدمات كثيرة للمستخدم مثل مشاركة الصورة والملفات ، يقع مقر الشركة في كاليفورنيا بالولايات المتحدة الأمريكية ، لدى ماي سبيس الآن أكثر من 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15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مليون مستخدم في جميع أنحاء العالم 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sp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هي شبكة اجتماعية مختصة بالعمل والتجارة ، تضم حوالي 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9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مليون محترف ومحترفة في العديد من المجالات ، يتشاركون في مجموعة اهتمامات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edl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382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هو موقع شبكات اجتماعية يقدم خدمات تدوين مصغر والتي تسمح لمستخدميه بإرسال تحديثات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weets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عن حالتهم بحد أقصى 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40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حرف للرسالة الواحدة ، وذلك مباشرة عن طريق إرسال رسالة نصية قصيرة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S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، أو برامج المحادثة الفورية ، أو التطبيقات التي يقدمها المطورون مثل : الفيس  بوك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و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wit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witter fox 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,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wirl 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،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wit terrific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،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rd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witt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74" name="صورة 7" descr="facebook-logo-0309-lg-59377844[1].jpg"/>
          <p:cNvPicPr/>
          <p:nvPr/>
        </p:nvPicPr>
        <p:blipFill>
          <a:blip r:embed="rId1"/>
          <a:stretch/>
        </p:blipFill>
        <p:spPr>
          <a:xfrm>
            <a:off x="1143000" y="1219320"/>
            <a:ext cx="1193760" cy="895320"/>
          </a:xfrm>
          <a:prstGeom prst="rect">
            <a:avLst/>
          </a:prstGeom>
          <a:ln w="0">
            <a:noFill/>
          </a:ln>
        </p:spPr>
      </p:pic>
      <p:pic>
        <p:nvPicPr>
          <p:cNvPr id="75" name="صورة 8" descr="myspace-logo[1].png"/>
          <p:cNvPicPr/>
          <p:nvPr/>
        </p:nvPicPr>
        <p:blipFill>
          <a:blip r:embed="rId2"/>
          <a:stretch/>
        </p:blipFill>
        <p:spPr>
          <a:xfrm>
            <a:off x="990720" y="2209680"/>
            <a:ext cx="1447560" cy="1447920"/>
          </a:xfrm>
          <a:prstGeom prst="rect">
            <a:avLst/>
          </a:prstGeom>
          <a:ln w="0">
            <a:noFill/>
          </a:ln>
        </p:spPr>
      </p:pic>
      <p:pic>
        <p:nvPicPr>
          <p:cNvPr id="76" name="صورة 9" descr="LinkedIn-Logo[1].png"/>
          <p:cNvPicPr/>
          <p:nvPr/>
        </p:nvPicPr>
        <p:blipFill>
          <a:blip r:embed="rId3"/>
          <a:stretch/>
        </p:blipFill>
        <p:spPr>
          <a:xfrm>
            <a:off x="762120" y="3886200"/>
            <a:ext cx="2157120" cy="609480"/>
          </a:xfrm>
          <a:prstGeom prst="rect">
            <a:avLst/>
          </a:prstGeom>
          <a:ln w="0">
            <a:noFill/>
          </a:ln>
        </p:spPr>
      </p:pic>
      <p:pic>
        <p:nvPicPr>
          <p:cNvPr id="77" name="صورة 10" descr="twitter-logo1[1].png"/>
          <p:cNvPicPr/>
          <p:nvPr/>
        </p:nvPicPr>
        <p:blipFill>
          <a:blip r:embed="rId4"/>
          <a:stretch/>
        </p:blipFill>
        <p:spPr>
          <a:xfrm>
            <a:off x="838080" y="46483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خدمات التي تقدمها مواقع التواصل الاجتماعي : ـ </a:t>
            </a: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شترك أغلب الشبكات الأجتماعية فيما بينها بالعديد من الخدمات ، التي تقدمها للمستخدمين ، ولكنها تختلف </a:t>
            </a: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ببعض المميزات التي يختص بها كل موقع عن الآخر ومن أبرز هذه الخدمات : ـ </a:t>
            </a: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خدمات الشبكات الأجتماعية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80880" y="1676520"/>
          <a:ext cx="8229600" cy="3932280"/>
        </p:xfrm>
        <a:graphic>
          <a:graphicData uri="http://schemas.openxmlformats.org/drawingml/2006/table">
            <a:tbl>
              <a:tblPr/>
              <a:tblGrid>
                <a:gridCol w="6999480"/>
                <a:gridCol w="123012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وهي صفحة خاصة بكل مشترك تحتوي على معلومات أساسية عنه ، مثل : ( العمر ، ومكان الميلاد ، وأبرز الهوايات ) ، من خلال زيارة هذه الصفحة يمكن مشاهدة نشاطات الشخص ، وأيضاً التعرف على قائمة أصدقائه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لفات الشخص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هم الأشخاص الذين يقوم المستخدم بالتعرف عليهم وإضافتهم لقائمته ؛ لغرض معين . وتختلف تسمية الأصدقاء من موقع لآخر ، فهنك بعض المواقع تطلق على الصديق </a:t>
                      </a:r>
                      <a:br>
                        <a:rPr sz="2000"/>
                      </a:b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 اتصال : علاقة )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أصدقاء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5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هي عبارة عن مجموعة بمسمى محدد تنشأ لغرض معين يكون لأعضائها نفس الأهتمامات ، توفر هذه المجموعات منتدى لحوار مصغر بين أعضاء هذه المجموعة ، ويستطيع منظموها تنسيق اجتماعات عن طريق الأحداث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ents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، وكما أنهم يستطيعون دعوة أعضاء آخرين للأنضمام لمجموعتهم ، ويوجد العديد من الخدمات الأخرى ، مثل : ـ ألبومات الصور ، والرسائل الفورية التي تكتب على جدار الأعضاء ، والصفحات الإعلانية التي تستخدم تجارياً لعرض المنتجات والفعاليات .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جموع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كيف نتواصل بإيجابية عبر مواقع التواصل الأجتماعي : ـ </a:t>
            </a: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أتصال الإيجابي في الشبكات الأجتماعية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80880" y="1676520"/>
          <a:ext cx="8229600" cy="3992400"/>
        </p:xfrm>
        <a:graphic>
          <a:graphicData uri="http://schemas.openxmlformats.org/drawingml/2006/table">
            <a:tbl>
              <a:tblPr/>
              <a:tblGrid>
                <a:gridCol w="6999480"/>
                <a:gridCol w="123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أكتب ما يسرك أن تراه في صحيفة أعمالك يوم القيامة فالكلمة مسؤولية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تواصل فقط مع من تثق بدينه وفكره وأخلاقه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حافظ على خصوصية معلوماتك ، فلا تنشر غلا ما يعكس الصورة الإيجابية عنك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أختر الوقت المناسب لتواصلك مع الآخرين ، والدخول والخروج على الشبكة العنكوتية، حتى لا تقع ضحية الإدمان للإنترنت فيعيك عن تطوير قدراتك وإنجاز مهامك الأكثر أهمية وتحقيق طموحاتك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أحرص على التحلي بآداب الحديث والتواصل الفاعل الإيجابي مع الآخرين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أحذر الإتصال بالعناوين الغريبة ، فقد تقودك إلى موضوعات أو أفكار أو اتجاهات سلبية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ستخدم التقنية في كل ما يساهم في تطوير قدراتك وتنمية مواهبك وتحقيق التواصل البنّاء مع الآخرين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حور الثالث : مخاطر الإنترنت : ـ 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أولاً : سلبيات الإنترنت : ـ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80880" y="1362240"/>
          <a:ext cx="8229600" cy="4581360"/>
        </p:xfrm>
        <a:graphic>
          <a:graphicData uri="http://schemas.openxmlformats.org/drawingml/2006/table">
            <a:tbl>
              <a:tblPr/>
              <a:tblGrid>
                <a:gridCol w="6999480"/>
                <a:gridCol w="12301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المواقع اللا أخلاقية ، التي تكثر وتتكاثر في الإنترنت ، والتي يتم نشرها بأساليب عديدة في محاولة لأجتذاب الأطفال ، والمراهقين إلى سلوكيات منحرفة ، ومنافية للأخلاق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تعرف لعمليات أحتيال ، ونصب ، وتهديد ، وابتزاز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دعوة لأفكار غريبة مناقضة لديننا ولقيمنا ومفاهيمنا ، والتي تعرض بأساليب تبهر المراهقين مثل : عبادة الشيطان والعلاقات الغريبة الشاذة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دعوة للأنتحار والتشجيع له من خلال بعض المواقع وغرف الدردشة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أنغماس في استخدام برامج الأختراق الهاكرز ، والتسلل لإزعاج الآخرين وإرسال الفيروسات التخريبية والمزعجة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مشكلة إدمان الإنترنت ، والأمراض النفسية التي تنجم عن سوء استخدام الإنترنت مثل : الأكتئاب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حياة في الخيال وقصص الحب الوهمية والصداقة الخيالية مع شخصيات مجهولة وهمية ، أغلبها تتخفى بأقنعة وأسماء مستعارة ، وما يترتب على مثل هذه القصص من عواقب خطيرة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ستخدام الأسماء المستعارة ، وتقمص شخصيات غير شخصياتهم في غرف الدردشة ، وما يتبعه ذلك من أعتياد ارتكاب الأخطاء والحماقات ، واستخدام الألفاظ النابية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ابع : سلبيات الإنترنت : ـ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80880" y="1274760"/>
          <a:ext cx="8229600" cy="5211720"/>
        </p:xfrm>
        <a:graphic>
          <a:graphicData uri="http://schemas.openxmlformats.org/drawingml/2006/table">
            <a:tbl>
              <a:tblPr/>
              <a:tblGrid>
                <a:gridCol w="6999480"/>
                <a:gridCol w="123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ممارسة الشراء الإلكتروني دون رقابة ، من خلال استخدام البطاقات الأئتمانية الخاصة بأحد الوالدين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ممارسة القمار والتي تنتشر مواقعها ويتم الترويج لها بكل الوسائل عبر الإنترنت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تشهير بالأفراد والشركات ونشر الإشاعات المغرضة عبر نشرها بالمواقع ، أو من خلال غرف الدردشة أو البريد الإلكتروني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ممارسة انتهاك حقوق الملكية ، بوضع نسخ للكتب والأبحاث على سبيل المثال في مواقعهم ، أو تداولها فيما بينهم م خلال أجهزتهم مباشرة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تعرض أجهزة الكمبيوتر للتلف والخبرات بتأثير الفيروسات التي تصل عبر الإيميل والمواقع وملفات التحميل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تعرض خصوصية المعلومات التي في الأجهزة للأختراق من قبل المخترقين المحترفين وهواة الأختراق وبرامج التجسس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تعب الجسدي والإرهاق والأضرار الصحية ، والتي يسببها الأستخدام الطويل للكمبيوتر والإنترنت ، مثل : ضرر العيون ، والعمود الفقري ، والمفاصل ، والأعصاب ، وزيادة الوزن ، أو نقصان الوزن ، وغيرها من المخاطر </a:t>
                      </a:r>
                      <a:br>
                        <a:rPr sz="2000"/>
                      </a:b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صحية الجسدية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ثالثاً : خصائص مدمني الإنترنت : ـ 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صفات الأفراد مدمني الإنترنت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80880" y="1274760"/>
          <a:ext cx="8229600" cy="4165560"/>
        </p:xfrm>
        <a:graphic>
          <a:graphicData uri="http://schemas.openxmlformats.org/drawingml/2006/table">
            <a:tbl>
              <a:tblPr/>
              <a:tblGrid>
                <a:gridCol w="6999480"/>
                <a:gridCol w="123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يفضلون العزلة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زيادة عدد الساعات أمام الإنترنت بشكل مطرد تتجاوز الفرات التي حددها الفرد لنفسه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إهمال الواجبات الأجتماعية ، والأسرية ، والوظيفية بسبب استعمال الشبكة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ستمرار استعمال الشبكة ( الإنترنت ) مع وجود بعض المشكلات مثل : فقدان العلاقات الاجتماعية ، والتأخر في العمل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يتشوقون لجلسة إنترنت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توتر والقلق الشديدين في حالة وجود أي عائق للأتصال بالشبكة ( الإنترنت ) قد تصل إلى حد الأكتئاب إذا ما طالت فترة الأبتعاد عن الدخول ، والإحساس بسعادة بالغة وراحة نفسية حين يرجع إلى إستخدامه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يكذبون حول المواقع التي يستخدمونها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يفقدون الشعور بالوقت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يتوقع من الطالب في نهاية الجلسة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1/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عريف الإيجابية ، والعمل التطوعي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2/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حديد سمات السلوك الايجابي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3/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طبيق سمات الشخصيى الايجابية في مواقف حياتية يومية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4/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وظيف أساليب السلوك الايجابي في خدمة المجتمع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5/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مثل مهارات الاتصال المختلفة عند قيامه بالعمل التطوعي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علاج إدمان الإنترنت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80880" y="1249200"/>
          <a:ext cx="8229600" cy="4754880"/>
        </p:xfrm>
        <a:graphic>
          <a:graphicData uri="http://schemas.openxmlformats.org/drawingml/2006/table">
            <a:tbl>
              <a:tblPr/>
              <a:tblGrid>
                <a:gridCol w="6453360"/>
                <a:gridCol w="1377720"/>
                <a:gridCol w="39852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فإذا اعتماد المريض استخدام الإنترنت طيلة أيام الأسبوع ، نطلب منه الأنتظار حتى يستخدمه في يوم الإجازة الأسبوعية ، وإذا كان يفتح البريد الإلكتروني أول شيء حين يستيقظ من النوم ، نطلب منه أن ينتظر حتى يفطر ، ويشاهد أخبار الصباح ، وإذا كان المريض يستخدم الكمبيوتر في حجرة النوم نطلب منه أن يضعه في حجرة المعيشة .. وهكذا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عمل العكس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نطلب من المريض ضبط منبه قبل بداية دخوله الإنترنت بحيث ينوي الدخول على الإنترنت ساعة واحدة قبل نزوله للعمل مثلاً ؛ حتى لا يندمج في الإنترنت بحيث يتناسى موعد نزوله للعمل 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إيجاد موانع خارجية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يطلب من المريض تقليل وتنظيم ساعات استخدامه ، بحيث إذا كان مثلاً يدخل على الإنترنت لمدة 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0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ساعة أسبوعياً ، نطلب منه التقليل إلى 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0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ساعة أسبوعياً ، وتنظيم تذلك الساعات بتوزيعها على أيام الأسبوع في ساعات محددة في اليوم ، بحيث لا يتعدى الجدول المحدد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تحديد وقت الأستخدا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كما ذكرنا فإن إدمان بعض المرضى يتعلق بمجال محدد من مجالات استخدام الإنترنت ، فإذا كان المريض مدمناً لحجرات الحوارات الحية ، نطلب منه الأمتناع عن تلك الوسيلة امتناعاً تاماً ، في حين نترك له حرية استخدام الوسائل الأخرى الموجودة على الإنترنت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أمتناع التا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نطلب من المريض إعداد بطاقات يكتب عليها خمساً من أهم المشاكل الناجمة عن إسرافه في استخدام الإنترنت ، كإهماله لأسرته ، وتقصيره في أداء عمله مثلاً ، ويكتب عليها أيضاً خمساً من الفوائد التي ستنتج عن إقلاعه عن إدمانه ، مثل إصلاحه لمشاكله الأسرية ، وزيادة اهتمامه بعمله ، ويضع المريض تلك البطاقات في جيبه أو حقيبته حيثما يذهب ، بحيث إذا وجد نفسه مندمجاً في استخدام الإنترنت ، يخرج البطاقات ليذكر نفسه بالمشاكل الناجمة عن ذلك الإندماج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إعداد بطاقات من أجل التذكير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نطلب من المريض أن يفكر في الأنشطة التي كان يقوم بها قبل إدمانه للإنترنت : ليعرف ماذا خسر بإدمانه مثل : قراءة القرآن ، والرياضة ، وقضاء الوقت بالنادي مع الأسرة ، والقيام بزيارات اجتماعية وهكذا .. نطلب من المريض أن يعاود ممارسة تلك الأنشطة لعله يتذكر طعم الحياة الحقيقية وحلاوتها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إعادة توزيع الوق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نطلب من المريض زيادة رقعة حياته الأجتماعية الحقيقية بالأنضمام إلى فريق الكرة بالنادي مثلاً ، أو إلى درس لتعليم الخياطة ، أو الذهاب إلى دروس المسجد ؛ ليكوّن حوله مجموعة من الأصدقاء الحقيقيين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أنضمام إلى مجموعات التأييد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في بعض الأحيان تحتاج الأسرة بأكملها إلى تلقي علاج أسري بسبب المشاكل الأسرية التي يحدثها إدمان الإنترنت ، بحيث يساعد الطبيب الأسرة على استعادة النقاش والحوار فيما بينها ولتقتنع الأسرة بمدى أهميتها في إعانة المريض ؛ ليقلع عن إدمانه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عالجة الأسرية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"/>
                <a:cs typeface="Times New Roman"/>
              </a:rPr>
              <a:t>أولاً: التعرف على السلوك الايجابي ضمن أنواع السلو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447920" y="1697040"/>
          <a:ext cx="7238880" cy="7497720"/>
        </p:xfrm>
        <a:graphic>
          <a:graphicData uri="http://schemas.openxmlformats.org/drawingml/2006/table">
            <a:tbl>
              <a:tblPr/>
              <a:tblGrid>
                <a:gridCol w="2412720"/>
                <a:gridCol w="2413080"/>
                <a:gridCol w="2413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تطبيق حيات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وصف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نوع السلو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بشير طالب مجتهد ويسعى للتفوق ، ودائما يحدث زملاءه بذلك ويشجعهم على المذاكرة وبذل الجهد لتحقيق النجاح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قدرة الشخص على التعبير عن حاجته، وافكاره ، ومشاعره بأمانه ، وبشكل مباشر، ودون انتهاك لحقوق الاخرين مع إعطائهم نفس الحقوق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 يكون المبداء ( أكسب وأساعد الاخرين على الكسب ). وذلك إنطلاقا من القاعدة أن الانسان حر ما لم يضر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سلوك الايجاب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فؤاد طالب مشاغب داخل القاعة الدراسية ، فهو لا يريد الاستماع لشرحالمدرب بحجة أنه يعرف هذا الكلام ولا يريد لزملاءه الاستفادة ، ويخاطب المدرب والزملاء باسلوب غير لائق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يتصرف الفرد بوضع حاجاته وحقوقه فوق تلك الخاصة بالاخرين . ومن ثم فهو يتهك حقوق الاخرون حيث يتعامل بمداء ( أنا أكسب ويجب أن يخسر الاخرين )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وذلك من مبداء إلحاق الاذى بالاخرين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سلوك العدواني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قام سالم بانجاز الجزء النظري في مشروع مقرر مهارات الاتصال بمفرده وذلك نيابه عن زملائه الذين لم يريدوا مشاركته في العمل ، وعندما سال المدرب عمن انجز العمل اخبره سالم بان الكل ساهم فيه وأنه جهد جماعي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يتصرف فيه الفرد بجعل رغبات وافكار الاخرين أكثر اهمية من حاجاته الخاصة بمبداء ( اخسر ودع الاخرين يكسبون ) . لان في نهاية المطاف يشعر هذا الفرد بانه ضحية للاخرين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سلوك الخانع ( المساير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ثانيا : سمات السلوك الإيجابي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00200"/>
          <a:ext cx="8229600" cy="3983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متفائل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واثق في نفسه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يتصف بأن لديه ثقة عالية جدأً في مواجهة مشاكل الحياة ومنفتح تماماً على الآخرين ولديه اتجاه إيجابي نحو الحياة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ليس لديه مشكلة في تأكيد ذاته ، والثقة بنفسه ، وليس قلقاً عما لدى الآخرين من انطباعات عنه ، وليس له مشاعر بالدونية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مستق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حري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يتصرف وفقاً لرغباته ولا يهتم بما يتوقعه الآخرون منه ، كما أنه لا يسايرهم ولا يعتمد عليهم في أي تصرف من تصرفاته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ليس على استعداد للقيام بمغامرات من أية نوع ، وينشد دائماً الأمان وخاصة في التعامل مع الآخرين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حكم اجتماعي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إيثاري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يكون لديه قدرة إصدار الأحكام على الآخرين من خلال استخلاص طبيعة المظهر الخارجي للفرد ، وتعبيرات الوجه ، والصوت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يجعل مصالحه الشخصية آخر شيء يفكر فيه أو يعمل له ، بل لديه شعور بالمسؤولية ، والواجب ، والتعاطف ، والأستعداد للتضحية ، ونجدة الآخرين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طموح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متحمل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يزداد إحساسه بقيمته من خلال إنجازاته ويميل إلى كسب الأعتراف به وأحترام الآخرين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لديه قدرة كبيرة على التحمل وعدم الأنزعاج ، ولديه قدرة على تحمل آراء الآخرين وتقبلها بعقلية منفتحة ، لذا فهو يتحكم في انفعالاته ويصعب إحراجه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حور الثاني : العمل التطوعي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itle 1"/>
          <p:cNvSpPr/>
          <p:nvPr/>
        </p:nvSpPr>
        <p:spPr>
          <a:xfrm>
            <a:off x="533520" y="29718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Times New Roman"/>
              </a:rPr>
              <a:t>أولاً : ـ مفهوم العمل التطوعي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Times New Roman"/>
              </a:rPr>
              <a:t>إن العمل التطوعي ظاهرة اجتماعية تحقق الترابط ، والتآلف ، والتآخي بين أفراد المجتمع ، حتى نكون كما وصفنا الرسول صلى الله عليه وسلم ( كالجسد الواحد ) ، ما من مجتمع إلا وفيه المحتاج ، والجاهل ، والمريض والمعاق ، ومن يحتاج إلى المال ، أو المسكن أو الملبس ، أو الزواج ، وغيره فعمل الخير باب واسع بشرط أن يكون العمل خالص لوجه الله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Times New Roman"/>
              </a:rPr>
              <a:t>وعلى ذلك يمكن تعريف العمل التطوعي بأنه : ـ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يقوم به الفرد طوعاً من ذات نفسه ، ولا يحتاج لأنه يلزمه أحد أو يشوبه تربُح مادي أو اجتماعي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Times New Roman"/>
              </a:rPr>
              <a:t>ثانياً : العمل التطوعي من منظور إسلامي : ـ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Times New Roman"/>
              </a:rPr>
              <a:t>حث الدين الإسلامي الحنيف على التطوع ، وجعله واجباً دينياً ، كما ورد في القرآن الكريم كثيراً من الآيات ، التي تحت على التطوع في فعل الخير ، وتؤكد على ضرورة التعاون ، والتكافل والتآلف بين الناس وتقررها ومن هذه الآيات : ـ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Times New Roman"/>
              </a:rPr>
              <a:t>قوله تعالى : { فمن تطوع خيراً فهو خيرٌ له ، وأن تصوموا خيرٌ لكم إن كنتم تعلمون (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184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) } ( البقرة )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Times New Roman"/>
              </a:rPr>
              <a:t>وقوله : { وجعلنهم أئمة يهدون بأمرنا وأوحينا إليهم فعل الخيرت وإقام الصلوة وإيتاء الزكوة وكانوا لنا عبدين (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73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) } (الأنبياء 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Times New Roman"/>
              </a:rPr>
              <a:t>وقوله عز وجل : { يأيها الذين ءامنوا اركعوا واسجدوا واعبدوا ربكم وافعلوا الخير لعلكم تفلحون (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77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) } ( الحج )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itle 1"/>
          <p:cNvSpPr/>
          <p:nvPr/>
        </p:nvSpPr>
        <p:spPr>
          <a:xfrm>
            <a:off x="533520" y="32004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كما ذكرت السنة النبوية المطهرة أحاديث كثيرة أيضاً تدعونا إلى فعل الخير ، والسعي في قضاء حوائج الناس ، ونفعهم حتى ننال الأجر العظيم من الله عز وجل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عن عبد الله ابن عمر ــ رضي الله عنهما ــ قال : قال رسول الله صلى الله عليه وسلم : (( أحب الناس إلى الله أنفعهم ، وأحب الأعمال إلى الله ــ عز وجل ــ سرور تدخله على مسلم ، أو تكشف عنه كربة ، أو تقضي عنه ديناً ، أو تطرد عنه جوعاً ، ولأن أمشي مع أخي المسلم في حاجة أحب إليّ من أن أعتكف في المسجد شهراً ، ومن كف غضبه ستر الله عورته ، ومن كظم غيظاً ولو شاء أن يمضيه أمضاه ، ملأ الله قلبه رضاً يوم القيامة ، ومن مشى مع أخيه المسلم فيحاجته حتى يثبتها له أثبت ــ الله تعالى ــ قدمه يوم تزل الأقدام ، وإن سوء الخلق ، ليفسد العملكما يفسد الخل العسل )) . ( صحيح الجامع : رقم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76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وهكذا كانت الأنشطة التطوعية منبثقة من تعاليم الإسلام ، ومواكبة الإتجاه العالمي المشجع على التطوع في الخدمات الإنساني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tle 1"/>
          <p:cNvSpPr/>
          <p:nvPr/>
        </p:nvSpPr>
        <p:spPr>
          <a:xfrm>
            <a:off x="533520" y="32004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ثالثاً : آثار التطوع : ـ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ــ كسب الأجر والثواب في الدنيا والآخرة لتحقيق التآلف والتحاب بين الناس ومعالجة النظرة العدائي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أو التشاؤمية تجاه الآخرين والحيا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ــ التكافل والتعاون بين أفراد المجتمع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ــ الزيادة من قدرة الإنسان على التفاعل ، والتواصل مع الآخرين ، والحد من النزوع إلى الفردية ، وتنمية الحس الأجتماعي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4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ــ تهذيب الشخصية ، ورفع عقلية الشح ، وتحويلها إلى عقلية الوفرة والكسب الأعظم ، الذي هو الأجر عند الله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5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ــ العمل التطوعي يتيح للإنسان تعلم مهارات جديدة ، أو تحسين مهارات يمتلكها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6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ــ زيادة وتحقيق الشعور بالرضا عن الذات ، والتخلص من الأكتئاب ، وتهذيب النفس ، والإحساس بتأدية دور إيجابي في المجتمع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7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ــ شغل وقت الفراغ بما يعود بالفائدة والمنفعة على الفرد ، والآخرين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8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ــ مساعدة الآخرين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يتميز المتطوع الجاد بعدة مهارات ، هي : 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رابعاً : مهارات المتطوع الجاد : ـ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3840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يكون لديه المهارات القيادة اللازمة لتوجيه الآخرين نحو العمل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القياد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تتوفر لديه مهارات التعامل مع الآخرين ، مثل الإلقاء ، والحوار والإقناع ، والتفاوض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تعامل مع الآخرين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يكون متعاوناً ولديه الرغبة في مشاركة الآخرين في العمل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تعاون والمشاركة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يكون لديه القدرة على تنظيم الوقت ، وإدارته ، واستثماره فيما يفيد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إدارة الوق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لديه القدرة للعمل كجزء من فريق ، بحيث يكون له دور محدد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عمل ضمن فري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قدرة على تحديد الأهداف والأولويات والأعتماد عليه في القيام بذلك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تحديد الأهدا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خامساً : ـ معوقات العمل التطوعي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685800"/>
          <a:ext cx="8229600" cy="5578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1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 ــ ضعف الدافعية نحو العمل التطوعي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 ــ خوف بعض المتطوعين من الألتزام ، وتحمل المسؤولية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3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 ــ ضعف التأهيل المهني للمتطوعين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4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 ــ عدم توفر الوقت الكافي لممارسة العمل التطوعي، أو تعارضه مع العمل أو الدراسة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5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 ــ المشكلات الصحية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أولاً : ـ المعوقات الشخية : 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ندرة البرامج التي ترسخ ثقافة العمل التطوعي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عدم تفاعل وسائل الإعلام مع البرامج التطوعية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عدم ترسي ثقافة العمل التطوعي من خلال الدراما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ثانياً : المعوقات الإعلامية 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عدم توافر الدخل المادي بصورة عامة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عدم توفر البيئة المجهزة لممارسة العمل التطوعي باحترافيه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ثالثاً : المعوقات الأقتصادية : 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البيروقراطية والمركزية التي تقف صخرة منيعة أمام تنفيذ بعض البرامج التطوعية ، أو تأخيرها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عدم وجود الإدارات الواعية برسالتها ، وأهدافها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عدم كفاية المشرفين على العمل التطوعي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عدم توافر التشريعات القانونية التي تنظم العمل التطوعي ، أو عجزها عن مواكبة التطور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ابعاً : ـ المعوقات الإدارية والقانونية : 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65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قلة الوعي بأهمية العمل التطوعي ، ودوره في رقي المجتمعات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قلة مصادر المعلومات عن البرامج التطوعية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عدم غرس ثقافة العمل التطوعي في نفوس الناشئة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عدم وجود القدوات والنماذج الرشيدة التي تؤسس للعمل التطوعي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عدم وضع مناهج دراسية متخصصة بالعمل التطوعي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المعتقدات السلبية ، كالأعتقاد بأنه لا يقوم بالعمل التطوعي إلا كبار السن ، أو المتفرغين ، أو المؤسسات ، أو أنه مضيعة للوقت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خامساً : ـ المعوقات الثقافية : 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ENNY</dc:creator>
  <dc:description/>
  <dc:language>en-US</dc:language>
  <cp:lastModifiedBy>admin</cp:lastModifiedBy>
  <dcterms:modified xsi:type="dcterms:W3CDTF">2011-10-02T10:57:12Z</dcterms:modified>
  <cp:revision>29</cp:revision>
  <dc:subject/>
  <dc:title>الجلسة الحادية عشرة</dc:title>
</cp:coreProperties>
</file>