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833-78AC-4E17-841E-067C41B0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23A-47F3-4304-969B-57BA5753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A0ECD-FCF5-4100-A0E8-043A40DF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72DD6-6CFF-4112-BA68-9EAB0D37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FFD58-454B-4831-AACC-CD46881A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19DA5-5930-4573-8C1A-E8859BC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3D02B-A3BF-47A9-AE3B-C64CE27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C94F4-3D15-46B4-AA36-B0F7204F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17947-B1F0-419A-A5D5-3B590BE9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FD2D7-CDF0-4D8F-B698-E601836E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3C8C1-B052-4B9D-A0C1-7C87AA74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F7F-AED3-49C0-96F7-6685692C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5DE-E28D-40E7-A204-6D50FE97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714A-2313-4659-9B0C-84C11E6B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014F-45A1-421F-81B0-4E04756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BA4E-0CBF-4E23-A150-836DE406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187A-D014-44C9-B914-87F8C812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D83C-DCE1-4C93-85D0-526A97EC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2213-91F0-4E79-A9B9-4F6C7DA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4B18-D0D7-4D44-86D1-E73923A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649-3AB0-4D00-97DE-92532A8D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5969-776D-4DDD-8859-3BC4F53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C44D-20E0-4618-B33D-5BFC5563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D44C-9DF2-46EA-92B3-818AFD0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37B0-89AC-4DBB-B56E-35D65992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1E8D-A3E2-4EF2-B81A-F8AE25DF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522D-70A2-44FE-A6E2-DA9F445D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9E8F-2C4F-4D60-B7AF-A3200639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D4B5-8B80-477A-85DC-BE52AF64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F8B7-320E-4CEE-85C1-0067B1BD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9CB7-587C-4E78-94BC-DF8FA2F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35A-6755-44D8-82BD-362BD90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B523-0857-4252-B3A8-FBBF5725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0C87-6912-4717-B4BB-939FB77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6766-05A1-4A37-9B0C-EEA7128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B1AC-0074-4F21-8875-5982563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6A26-8D3B-40B1-9FCC-8F464DE5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7AAD-F1C2-4E1C-AB6C-0B47CC1E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0A2E-CEBD-4A78-9F67-B8C4D19E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ED67A-1323-4CEC-B026-2D367E99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BC0B-3121-485C-B183-231B8F1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B766-22BC-4E47-A220-C559A7B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EF6-CAA5-4AB7-BD98-AB90A6F5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0B1E-2EBF-4E07-9949-EFD240EA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6FF6-B520-4234-B2FC-3464EA76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E507-49B9-4536-A9EE-06B48855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CE1F-474C-43CC-80A6-C440803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AF6D-5A31-49BD-88FE-A2361C1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E5D4-1730-49C7-A647-2979CAAF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3D69-A374-418D-9F76-C74F52EE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F42B-0B11-4E0A-8611-060FA3B3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3FB3-B99B-496C-98C1-A5B5F8AA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D7FD-EFA9-46A6-ADFE-789C8FCF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93A-18CA-4F3C-9A3D-0600C69F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A4886-0DC6-437A-A1F0-467E823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A766-D2D8-4780-B710-C48F904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8765-F2C3-4639-9067-C0AA62AC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E96E-B42D-459F-8D31-19B7D64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77D1-C358-4D27-B32B-61288620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5B7F-39C9-499C-BC68-3B74F87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8D574-73C5-448C-A7FE-B506157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54804-8544-4717-9724-75CAC9B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1C4C-A76F-498B-9986-09A31962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F4F0-011A-4BAB-B9A9-E30221E8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BA0-96EF-4886-B155-6661C30A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4424E-E649-43C9-B8FD-111BCCE9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3BF8-8224-4097-B024-058DF6EA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281B5-08A8-4DFA-AFCB-C11033B3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D333-4698-48AF-AB74-7CD8768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6D9C-02D5-4323-9994-18DEFEF3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553D-B10A-4B75-A369-C5B2E4D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0970-D0D2-45FB-AE58-CF76E020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65D2-676A-457D-8CBB-6BD7A61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129E-33F3-4C91-A3F7-1266544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7C7A-3925-4823-8768-1F29B16D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40C-97B3-4743-9D34-D0788464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0C70A-CE9D-4E27-AF4A-61184326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4443-8B3D-4B8A-A43F-E1F02D8E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B5081-3A19-487D-85C7-4153CE9D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C394-EA6F-4016-B55B-47BEA818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BDB0E-0B85-42B2-88D6-591D6F1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018D-75CC-4815-8894-0DACF6E3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5BBAB-3D96-4C2B-ACD0-D2FA7AB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7AAC-F1D1-41C1-83CF-3C296E4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BD8B2-2F8E-40EE-96CC-08831CA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F87A1-5F30-4A48-AA03-D6C1D49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180-8E4E-4DB1-9C34-A8B0E9F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EECB-7DCA-4D25-B3A3-8899641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620D0-D205-481C-A3AE-FE8AA66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7E95-2E6C-48F3-A426-88EB3149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9BB52-90A0-4CEB-9761-ADB303BC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86EEC-39A0-416D-BFC3-58B29447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D42AD-E544-4C2C-9C06-948CDE3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A9AF1-55DB-4A7D-B1E7-9FAD443A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39762-4CBB-4467-B14F-8D31AA48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BA2D6-F2D2-4D09-AE9B-E95B07BA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D976-D13C-4A11-89D1-A10A89A1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994-52C8-4E3C-9D22-12C193E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0500A-0F70-4816-972A-53D3E4E9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10C96-BC02-43BE-B3CE-11F8653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8817-2C4F-489A-A62D-9E36C10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68576-DDC3-4429-BED0-73AADAF2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B0B7D-41D7-4006-A6C1-AF22AC4F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388C8-7C67-4DF6-904B-8719A998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D13F-5D6B-406B-AA3F-58FADE83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4D290-9C88-44D7-97F9-1D22BE23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7AD65-87BE-4BF3-B35A-86AB1E8F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2C585-B4C2-4BDF-8BCF-9AC89A68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460-F920-4E45-9DD4-2AACFC3F356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رابط مستقيم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800F-4539-40F8-91B8-7A8886141D4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5A8F-AFE8-4D5A-AEDB-4BAC24602B72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رابط مستقيم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6A8F-497C-45C9-BE34-5CA3E1694742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رابط مستقيم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22C5-7583-4B7A-ABAB-C6C2DE0B9649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EC9-C5F2-4AEB-90E0-7439BF5A874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رابط مستقيم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1999-57ED-4FEB-B16E-974FF629305B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78AD-9B84-4C6A-BF81-713D298C7AF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68B-E2DD-444E-82E1-D8DA1168CFC2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عنوان 1" descr=""/>
          <p:cNvPicPr/>
          <p:nvPr/>
        </p:nvPicPr>
        <p:blipFill>
          <a:blip r:embed="rId2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تعريف الاتجاه ، انواعه ، مكوناته ، اهداف دراسته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الاتجاه الواقعي \ كومينو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عنوان 1" descr=""/>
          <p:cNvPicPr/>
          <p:nvPr/>
        </p:nvPicPr>
        <p:blipFill>
          <a:blip r:embed="rId2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تم بالطفول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هبه من الله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نسان خير بالفطر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خير نموذج يحتذى لتربية الاطفال هو الطبيع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كبذرة النبات – كالطائر الصغير – الربيع يمثل مرحلة الطفو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كتشاف الطبي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دريب العمل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نهج الباناسوف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هتمام بالمدار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سلم التعليمي منظ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دريب 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لغة الام ، المعرفة لاتصل العقل الا باستخدام الحواس ، التحلي بالفضيلة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م فكرتين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قليد الطبيعة في الترب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عرفة الشام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نظام التعليم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درس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درسة الاول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رحلة الثانوي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ام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ناهج الدراسة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علو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لغات الاجنبية + لغ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طريقة التدريس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صفات المعلم الجي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ستثارة رغبة المتعلمي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وائ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رايه في العقاب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الفهم يسبق الحف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عدم فصل الموا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ختصرا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ربية البنات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حو الام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عليم المهني والحرف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عنوان 1" descr=""/>
          <p:cNvPicPr/>
          <p:nvPr/>
        </p:nvPicPr>
        <p:blipFill>
          <a:blip r:embed="rId2"/>
          <a:stretch/>
        </p:blipFill>
        <p:spPr>
          <a:xfrm>
            <a:off x="-36360" y="450720"/>
            <a:ext cx="9034200" cy="1170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لحواس ثم الذاكرة ثم الفكر ثم الملكة الناقد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تنمية الحواس ( من 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-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6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 سنوات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كتاب ( عالم الصور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ستغلال المواهب الطبيعية : الحواس والعقل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صول طريقة التدريس عند كومينوس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لعلوم التي يجب ان يبدا اهتمام الطفل بها منذ سنوات حياته المبكر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 قواعد التربية الخلق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كيف نساعد الاباء في تربية اطفالهم قبل المدرسة الاول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افوائد الكتاب المصور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تعريف الاتجاه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عرف "كامبل" الاتجاه تعريفا اجرائيا بانه (محصلة دائمة من الاستجابات المتماثلة نحو من المواقف الاجتماعي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الحالة الوجدانية القائمة وراء راي الشخص واعتقاده فيما يتعلق بموضوع معين من حيث رفضه او قبوله ودرجة الرفض والقبول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توجه ثابت بمكونات ثلاثية معرفية ، وجدانية ، سلوك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وعرفت الاتجاهات الوالدية بانها ( مايراه الابوان ومايتمسكان به من اساليب في معاملة الطفل في مواقف الحياة المختلف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انواع الاتجاهات 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فردية وجماع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موجبة وسالب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خاصة وعام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سرية ومعلن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99972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ثالثا : مكونات الاتجاه</a:t>
            </a: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عاطفي ( شعور عام يؤثر في استجابة الفرد : قبول موضوع الاتجاه او رفضه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معرفي ( ينطوي على وجهة نظرالفرد ذات العلاقة بموقفه من موضوع الاتجاه وتتكون من خلال المعلومات والحقائق المتوفرة حول موضوع الاتجاه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سلوكي (نزعة للسلوك من انماط محدد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رابعا : اهداف دراسة الاتجاهات الحديثة في تربية الطفل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فهم الاتجاهات الحديثة والمعاصرة في تربية الطفل في المجالات المختلف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مهمة في تاثيرها على السلوك التعليمي والتربوي لمعلمات رياض الاطفال والمربيات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الاستفادة من تلك الاتجاهات في وضع برامج ومناهج رياض الاطفال وتجديدها لمواكبة المسيرة الحديثة في التربي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اد الاتجاه الواقعي اوروبا منذ عصر النهضة أي بعد العصور الوسطى ( عصور الظلام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ميت التربية في عصر النهضة =</a:t>
            </a:r>
            <a:r>
              <a:rPr b="0" lang="ar-SA" sz="3200" spc="-1" strike="noStrike">
                <a:solidFill>
                  <a:srgbClr val="ff0000"/>
                </a:solidFill>
                <a:latin typeface="Franklin Gothic Book"/>
              </a:rPr>
              <a:t> التربية الحديث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عنوان 1" descr=""/>
          <p:cNvPicPr/>
          <p:nvPr/>
        </p:nvPicPr>
        <p:blipFill>
          <a:blip r:embed="rId2"/>
          <a:stretch/>
        </p:blipFill>
        <p:spPr>
          <a:xfrm>
            <a:off x="-42840" y="450720"/>
            <a:ext cx="9040680" cy="1176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c4c2c"/>
                </a:solidFill>
                <a:latin typeface="Franklin Gothic Book"/>
              </a:rPr>
              <a:t>التربية ف عصر النهضة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دريب الجس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حرير العقل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واقع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27242"/>
                </a:solidFill>
                <a:latin typeface="Franklin Gothic Book"/>
              </a:rPr>
              <a:t>التربية في العصور الوسط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قسوة – قهر الجسد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ضييق الحرية في التفكير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لفظية والجدل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سياسة .....  ظهرت القوميات واستعاد الملوك قوتهم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دين ... ضعفت سلطة الكنيسة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مجتمع ... ثورة الفلاحين ، التجار ، الصناع ( تطور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اقتصاد ... التجارة ، الصناعة ، البنوك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فكر .. الاهتمام بالفرد ( ظهر الاتجاه الانسا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        انتقاد الكنيسة ( ظهرت حركة الاصلاح الدي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حركة الاصلاح الديني      و     الحركة الانسا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               </a:t>
            </a: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اصيبت بالجموووووو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          اصبحت مدارسهم شكلية تهتم باللغة اللاتي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ـــــــــــاذا نتـــــــــــــــج عن ذلــــــــــــــــــــــك ؟؟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عنوان 1" descr=""/>
          <p:cNvPicPr/>
          <p:nvPr/>
        </p:nvPicPr>
        <p:blipFill>
          <a:blip r:embed="rId2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24139"/>
                </a:solidFill>
                <a:latin typeface="Franklin Gothic Book"/>
              </a:rPr>
              <a:t>على ماذا ركز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فكير – تسييد قيم العقل – نبذ السلطات على العقل سواء دينية او سياسية او اجتماعية – الانسان ذو عقل ناق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 الواقعية اللفظية ( الانسان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اجتماع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حسية ( العلم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8:45:04Z</dcterms:created>
  <dc:creator>ام يزيد</dc:creator>
  <dc:description/>
  <dc:language>en-US</dc:language>
  <cp:lastModifiedBy>DELL</cp:lastModifiedBy>
  <dcterms:modified xsi:type="dcterms:W3CDTF">2011-12-11T17:24:05Z</dcterms:modified>
  <cp:revision>19</cp:revision>
  <dc:subject/>
  <dc:title>المحاضرة الاولى</dc:title>
</cp:coreProperties>
</file>