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D45-225D-478C-AD7E-D877C964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98B-8277-46F2-AF06-D81B2CAC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C7F9-4328-47AC-902A-8E8688B7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268D2-D0B8-4E1F-98F8-E6E1E02D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1C86C-2D22-46C5-81A2-EE3F8515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A6355-38E8-46B8-9CB5-DFF8A63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8621-253E-4371-84BA-EAD2BD7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58026-2E91-440A-8636-504A6B2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8DED4-E97B-49B2-9F09-B9D28B9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A2157-6FAE-4111-BB36-551A48E5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D36A4-8D72-4931-B5C2-849848D1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82E-C167-4D82-9AF3-7ED81F6C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B56-E105-405D-878C-B5DCFD0D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ACAA-7741-4B11-9E93-A1A8961C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621-0DAC-4C5E-99DF-17309932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7A60-34EB-4F10-BCE6-4724F64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04C7-43F2-4D54-98F7-B37C1836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5146-983E-412D-B67F-BD84FCE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30F4-717E-46F7-BB3A-94AF3AA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0DBA-136D-4D32-87D4-018BAC3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B7D-AF9A-4647-9D29-3B11E9DD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7B4B-91A0-4EEB-87B4-86067AA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623E-1C70-4AD4-AC86-8A4C670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6FC9-7BCB-4A88-B97C-D5104AF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E1B6-814D-4282-85E5-DF1209F3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7C1-3B6E-43B6-8085-5146A7E1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4306-5148-49F2-BDC0-17383628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2A83-ACDB-4E5F-90ED-5D2C6744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E028-50BB-485F-B49C-3F83003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A465-378C-4384-8B08-28EB19CD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7D091-D75E-454E-9B01-8D0E89A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155-479C-426E-8CA9-0F89E6C3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3EE7-B840-4E26-A9F4-281510C3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6353-A523-4896-8DE5-0DF886D3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EC0E-EEEF-44E8-A36C-372596F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E97A-2832-419E-B178-20EFB5C1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2448-EE93-423C-B15E-61F6786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F5AD-A2C9-4B8A-AE78-12621C94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F5B8-0CD8-4C7F-96D7-22B7BC65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78588-6784-4BBC-B324-13340127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6E3FF-FEE7-4AA3-8B6D-7CCAA786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2708-3EC1-442F-A320-A13F0B55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A2A-2105-42D1-990B-F14AB9BA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F360-43E4-4F6A-97B2-BE9D7D20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B807-1F64-40A7-90FA-B730B6B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DFDB-B55D-4444-9188-0155AC0D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9744-8C4F-493E-B1E3-32155C4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5E41-7430-4DD0-99B8-B8BFC9C4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4392-ABCB-44E8-AC8D-14B2FDE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2B5E-8E0A-42C6-BC2A-7363A2D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7316-D718-4003-AB1C-F6A09D97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5E5B-6B51-4337-8070-09EAD610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79C2-0F76-4944-82B7-1EE92BA2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5AB-F05A-4B6F-B42B-F600D095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ECE1-8004-4F19-8066-C4D2999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9F05-85A2-4AB3-B6E6-4E72AA93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4B811-E20F-4443-A93B-53D82E9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CDA6-4B9F-4283-B584-E3C3DC9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6952-1568-4CED-831F-2E5197D3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8BFD-12C2-46B4-AC53-CAAAF387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95B5-8C3E-4526-B8FF-447437C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E0C44-8CA0-4F6B-B3BD-745E816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1EB9-7077-4CC9-85A5-51D7672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85C7-E02F-465D-AB35-9FF70AE3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3EF-D9E0-48B2-A9F0-4DE31FBE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6CFD-5926-4294-AC54-FD248C22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6FF3-090C-4CA1-8C49-E67BF267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3964-0B46-4086-81D1-E9BAEB6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70385-9778-46B2-80C5-432F060B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F4AD-BF05-4AC3-87B8-759BF17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AAC5-1E85-430B-A1F6-E478A8B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87C28-407E-4CBA-BE3D-6AC84AF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180DA-81E8-4E5F-BE4B-F06F1C7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EDAD7-3531-4910-821F-FDE0316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4068-D07A-4B21-8730-B6BD65D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E25-2E00-4999-8FF3-C33C450F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B939B-CDCB-4199-9B7B-0249619A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D68F6-C03F-4A1D-9CE4-AD30DC4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F2D4-3625-4BD5-83FE-C6DFF02F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5E6F7-32EB-437E-B17E-E8EE0F21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AC201-333C-4FB2-910C-89027DD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059B4-683A-4F19-8F37-51521ED9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09EDE-3195-42A4-92E7-905EF1C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1D729-AC4C-4CDA-A235-6A57B0E0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BF16-00A7-463F-83D9-BFC09277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45898-12DC-4F66-9B63-4AAA74F6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424-A7B7-41C9-A664-8C2C42A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BBCAF-3D91-4731-A7DF-0BDDE46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4E532-6FF1-4DCE-83EA-00B1D38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8703-2907-4731-BB35-0EA37E08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D577-5E25-4AB6-AD55-CBAEC882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884E-DE6B-4F10-A3BC-8F54DEA2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4914E-2079-4619-9078-174E7A55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71A39-093F-4CEF-9284-24CACA8F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87F99-4D1E-4D62-8F5A-929B1568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45905-48B9-441D-8FE8-B47F7E04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25A2-B359-4758-B653-4B652528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572-430F-4742-ACF8-49E7264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56D70-D60E-418C-8EC8-83475325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4F9D-E461-47AA-A500-E6DB5E3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7C55-B0E8-4A35-A950-3458F90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213A4-A330-4D55-BEE7-6892F9A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65E6-3FCF-4558-9775-BDF46C02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E3B28-ED11-4A50-9033-1DE8CA03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022B6-576D-4D80-B362-14E7DD97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A91A7-7590-4397-88DB-85B967C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C69A1-6FD6-4F85-9051-79479DE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B1F07-627E-4E83-AE3F-E34CD24F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8991-2A01-4B0B-BBB2-15390CE12DC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رابط مستقيم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FCE3-384C-4E7C-BDD6-9494770E770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7A25-84B2-4419-89D9-516F133DF6D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رابط مستقيم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8711-7C06-48CC-AE8A-0CB11ABE9927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رابط مستقيم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91B-BB2F-460A-ADEE-AFC385C05DE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6B2-0AC6-4DE2-B311-71C3FA9D6542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رابط مستقيم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450-7E81-4C07-9AB6-59F4AD3858C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35FD-098F-4DFB-8CB8-1A5D61B6CE15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599D-0313-46A3-B40E-F36E8FDFD21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عنوان 1" descr=""/>
          <p:cNvPicPr/>
          <p:nvPr/>
        </p:nvPicPr>
        <p:blipFill>
          <a:blip r:embed="rId2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تعريف الاتجاه ، انواعه ، مكوناته ، اهداف دراسته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الاتجاه الواقعي \ كومينو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عنوان 1" descr=""/>
          <p:cNvPicPr/>
          <p:nvPr/>
        </p:nvPicPr>
        <p:blipFill>
          <a:blip r:embed="rId2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تم بالطفول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هبه من الله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نسان خير بالفطر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خير نموذج يحتذى لتربية الاطفال هو الطبيع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كبذرة النبات – كالطائر الصغير – الربيع يمثل مرحلة الطفو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كتشاف الطبي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دريب العمل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نهج الباناسوف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هتمام بالمدار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سلم التعليمي منظ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دريب 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لغة الام ، المعرفة لاتصل العقل الا باستخدام الحواس ، التحلي بالفضيلة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م فكرتين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قليد الطبيعة في الترب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عرفة الشام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نظام التعليم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درس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درسة الاول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رحلة الثانوي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ام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ناهج الدراسة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علو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لغات الاجنبية + لغ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طريقة التدريس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صفات المعلم الجي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ستثارة رغبة المتعلمي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وائ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رايه في العقاب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الفهم يسبق الحف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عدم فصل الموا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ختصرا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ربية البنا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حو الام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عليم المهني والحرف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عنوان 1" descr=""/>
          <p:cNvPicPr/>
          <p:nvPr/>
        </p:nvPicPr>
        <p:blipFill>
          <a:blip r:embed="rId2"/>
          <a:stretch/>
        </p:blipFill>
        <p:spPr>
          <a:xfrm>
            <a:off x="-36360" y="450720"/>
            <a:ext cx="9034200" cy="1170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لحواس ثم الذاكرة ثم الفكر ثم الملكة الناقد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تنمية الحواس ( من 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-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6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 سنوات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كتاب ( عالم الصور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ستغلال المواهب الطبيعية : الحواس والعقل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صول طريقة التدريس عند كومينوس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لعلوم التي يجب ان يبدا اهتمام الطفل بها منذ سنوات حياته المبكر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 قواعد التربية الخلق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كيف نساعد الاباء في تربية اطفالهم قبل المدرسة الاول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افوائد الكتاب المصور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تعريف الاتجاه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عرف "كامبل" الاتجاه تعريفا اجرائيا بانه (محصلة دائمة من الاستجابات المتماثلة نحو من المواقف الاجتماعي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الحالة الوجدانية القائمة وراء راي الشخص واعتقاده فيما يتعلق بموضوع معين من حيث رفضه او قبوله ودرجة الرفض والقبول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توجه ثابت بمكونات ثلاثية معرفية ، وجدانية ، سلوك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وعرفت الاتجاهات الوالدية بانها ( مايراه الابوان ومايتمسكان به من اساليب في معاملة الطفل في مواقف الحياة المختلف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انواع الاتجاهات 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فردية وجماع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موجبة وسالب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خاصة وعام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سرية ومعلن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99972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ثالثا : مكونات الاتجاه</a:t>
            </a: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عاطفي ( شعور عام يؤثر في استجابة الفرد : قبول موضوع الاتجاه او رفضه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معرفي ( ينطوي على وجهة نظرالفرد ذات العلاقة بموقفه من موضوع الاتجاه وتتكون من خلال المعلومات والحقائق المتوفرة حول موضوع الاتجاه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سلوكي (نزعة للسلوك من انماط محدد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رابعا : اهداف دراسة الاتجاهات الحديثة في تربية الطفل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فهم الاتجاهات الحديثة والمعاصرة في تربية الطفل في المجالات المختلف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مهمة في تاثيرها على السلوك التعليمي والتربوي لمعلمات رياض الاطفال والمربيات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الاستفادة من تلك الاتجاهات في وضع برامج ومناهج رياض الاطفال وتجديدها لمواكبة المسيرة الحديثة في التربي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اد الاتجاه الواقعي اوروبا منذ عصر النهضة أي بعد العصور الوسطى ( عصور الظلام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ميت التربية في عصر النهضة =</a:t>
            </a:r>
            <a:r>
              <a:rPr b="0" lang="ar-SA" sz="3200" spc="-1" strike="noStrike">
                <a:solidFill>
                  <a:srgbClr val="ff0000"/>
                </a:solidFill>
                <a:latin typeface="Franklin Gothic Book"/>
              </a:rPr>
              <a:t> التربية الحديث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عنوان 1" descr=""/>
          <p:cNvPicPr/>
          <p:nvPr/>
        </p:nvPicPr>
        <p:blipFill>
          <a:blip r:embed="rId2"/>
          <a:stretch/>
        </p:blipFill>
        <p:spPr>
          <a:xfrm>
            <a:off x="-42840" y="450720"/>
            <a:ext cx="9040680" cy="1176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c4c2c"/>
                </a:solidFill>
                <a:latin typeface="Franklin Gothic Book"/>
              </a:rPr>
              <a:t>التربية ف عصر النهضة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دريب الجس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حرير العقل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واقع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27242"/>
                </a:solidFill>
                <a:latin typeface="Franklin Gothic Book"/>
              </a:rPr>
              <a:t>التربية في العصور الوسط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قسوة – قهر الجس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ضييق الحرية في التفكير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لفظية والجدل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سياسة .....  ظهرت القوميات واستعاد الملوك قوتهم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دين ... ضعفت سلطة الكنيسة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مجتمع ... ثورة الفلاحين ، التجار ، الصناع ( تطور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اقتصاد ... التجارة ، الصناعة ، البنوك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فكر .. الاهتمام بالفرد ( ظهر الاتجاه الانسا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        انتقاد الكنيسة ( ظهرت حركة الاصلاح الدي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حركة الاصلاح الديني      و     الحركة الانسا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اصيبت بالجمووووو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          اصبحت مدارسهم شكلية تهتم باللغة اللاتي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ـــــــــــاذا نتـــــــــــــــج عن ذلــــــــــــــــــــــك ؟؟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عنوان 1" descr=""/>
          <p:cNvPicPr/>
          <p:nvPr/>
        </p:nvPicPr>
        <p:blipFill>
          <a:blip r:embed="rId2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24139"/>
                </a:solidFill>
                <a:latin typeface="Franklin Gothic Book"/>
              </a:rPr>
              <a:t>على ماذا ركز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فكير – تسييد قيم العقل – نبذ السلطات على العقل سواء دينية او سياسية او اجتماعية – الانسان ذو عقل ناق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وان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 الواقعية اللفظية ( الانسان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اجتماع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حسية ( العلم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8:45:04Z</dcterms:created>
  <dc:creator>ام يزيد</dc:creator>
  <dc:description/>
  <dc:language>en-US</dc:language>
  <cp:lastModifiedBy>DELL</cp:lastModifiedBy>
  <dcterms:modified xsi:type="dcterms:W3CDTF">2011-12-11T17:24:05Z</dcterms:modified>
  <cp:revision>19</cp:revision>
  <dc:subject/>
  <dc:title>المحاضرة الاولى</dc:title>
</cp:coreProperties>
</file>