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651A-0732-4774-AC65-09CA27D0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968-A824-4EF7-BB8F-01BD3FE4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2AD-0918-4E60-9265-140F32BA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032-98C6-4DC2-90DB-C366C740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6D11-3DEF-44FB-A5AE-FAD4D32A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7EB9-5246-4774-A28E-5E9D83DE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386F-3619-44CA-93B1-7EC777CB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19B9-C834-48B4-A638-AE451AF2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47C-1494-47C3-9015-EC2769D6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2235-5254-46BC-A61A-C6A524DE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3BA-332B-4D05-BB77-372CBDB2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F12-8E3B-4183-861D-DFE09F9B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4ab9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7863-ED4E-481A-A4DD-DF31C107BA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4ab9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56000" y="620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cc3300"/>
                </a:solidFill>
                <a:latin typeface="Arial"/>
              </a:rPr>
              <a:t>הַחֶדֶר שֶׁלּ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1484280"/>
            <a:ext cx="691380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400" spc="-1" strike="noStrike">
                <a:solidFill>
                  <a:srgbClr val="0000cc"/>
                </a:solidFill>
                <a:latin typeface="Arial"/>
                <a:cs typeface="FrankRuehl"/>
              </a:rPr>
              <a:t>אֲנִי גָּר בְּדִירָה גְּדוֹלָה</a:t>
            </a:r>
            <a:r>
              <a:rPr b="0" lang="he-IL" sz="34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400" spc="-1" strike="noStrike">
                <a:solidFill>
                  <a:srgbClr val="ff0000"/>
                </a:solidFill>
                <a:latin typeface="Arial"/>
                <a:ea typeface="FrankRuehl"/>
              </a:rPr>
              <a:t>. הֲדִירָה בְּבִנְיָן גָּדוֹל</a:t>
            </a:r>
            <a:r>
              <a:rPr b="1" lang="he-IL" sz="3400" spc="-1" strike="noStrike">
                <a:solidFill>
                  <a:srgbClr val="ff0000"/>
                </a:solidFill>
                <a:latin typeface="Arial"/>
                <a:ea typeface="FrankRuehl"/>
              </a:rPr>
              <a:t> </a:t>
            </a:r>
            <a:r>
              <a:rPr b="0" lang="he-IL" sz="3400" spc="-1" strike="noStrike">
                <a:solidFill>
                  <a:srgbClr val="ff0000"/>
                </a:solidFill>
                <a:latin typeface="Arial"/>
                <a:ea typeface="FrankRuehl"/>
              </a:rPr>
              <a:t>. בַּדִּירָה יֵשׁ חֲדָרִים יָפִים .</a:t>
            </a:r>
            <a:r>
              <a:rPr b="0" lang="he-IL" sz="34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400" spc="-1" strike="noStrike">
                <a:solidFill>
                  <a:srgbClr val="800080"/>
                </a:solidFill>
                <a:latin typeface="Arial"/>
                <a:cs typeface="FrankRuehl"/>
              </a:rPr>
              <a:t>יֵשׁ גַּם </a:t>
            </a:r>
            <a:r>
              <a:rPr b="0" lang="ar-SA" sz="3400" spc="-1" strike="noStrike">
                <a:solidFill>
                  <a:srgbClr val="800080"/>
                </a:solidFill>
                <a:latin typeface="Arial"/>
                <a:ea typeface="FrankRuehl"/>
              </a:rPr>
              <a:t> </a:t>
            </a:r>
            <a:r>
              <a:rPr b="0" lang="he-IL" sz="3400" spc="-1" strike="noStrike">
                <a:solidFill>
                  <a:srgbClr val="800080"/>
                </a:solidFill>
                <a:latin typeface="Arial"/>
                <a:cs typeface="FrankRuehl"/>
              </a:rPr>
              <a:t>מִטְבָּח גָּדוֹל, שֵׁרוּתִים וּמִקְלַחַת .</a:t>
            </a:r>
            <a:r>
              <a:rPr b="0" lang="he-IL" sz="3400" spc="-1" strike="noStrike">
                <a:solidFill>
                  <a:srgbClr val="000000"/>
                </a:solidFill>
                <a:latin typeface="Arial"/>
                <a:ea typeface="FrankRuehl"/>
              </a:rPr>
              <a:t> </a:t>
            </a:r>
            <a:r>
              <a:rPr b="0" lang="he-IL" sz="3400" spc="-1" strike="noStrike">
                <a:solidFill>
                  <a:srgbClr val="800000"/>
                </a:solidFill>
                <a:latin typeface="Arial"/>
                <a:cs typeface="FrankRuehl"/>
              </a:rPr>
              <a:t>בַּחֶדֶר שֶׁלּי יֵשׁ טֶלֶוִיזְיָה, מִטָּה  גְּדוֹלָה , אָרוֹן , כִּסֵּא  וְשׁוּלְחָן כְּתִיבָה קָטָן , עַל הַשּׁוּלְחָן יֵשׁ טֶלֶפוֹן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4ab9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4:46:38Z</dcterms:created>
  <dc:creator>aa</dc:creator>
  <dc:description/>
  <dc:language>en-US</dc:language>
  <cp:lastModifiedBy>aa</cp:lastModifiedBy>
  <dcterms:modified xsi:type="dcterms:W3CDTF">2009-04-17T14:47:06Z</dcterms:modified>
  <cp:revision>1</cp:revision>
  <dc:subject/>
  <dc:title>الشريحة 1</dc:title>
</cp:coreProperties>
</file>