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87F-5D6D-450F-A609-696136E1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F53-219E-4A00-9C07-C696B2F0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EF8-2731-40F7-A7B5-DAB30D75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DCA-8D2B-4438-AE4E-7E830134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41A-5F5B-4AE6-9883-8D1C68AC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DAE-075A-4715-ACC5-ADE55002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B3F-96D4-4802-9747-54A5D3F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F1B-814F-40B9-AFC4-6A2A392A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492-49A1-4FD5-9DB7-CD095EF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B29-B2C2-4ED1-BF99-498F256A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795-ED3D-4B43-97D0-9CE2BD20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7B1-BC5D-42FA-8D5B-4CBDDFE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4ab9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05B-E6B6-46F4-9917-638FC5F161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4ab9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c3300"/>
                </a:solidFill>
                <a:latin typeface="Arial"/>
              </a:rPr>
              <a:t>הַחֶדֶר שֶׁלּ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84280"/>
            <a:ext cx="6913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400" spc="-1" strike="noStrike">
                <a:solidFill>
                  <a:srgbClr val="0000cc"/>
                </a:solidFill>
                <a:latin typeface="Arial"/>
                <a:cs typeface="FrankRuehl"/>
              </a:rPr>
              <a:t>אֲנִי גָּר בְּדִירָה גְּדוֹלָה</a:t>
            </a:r>
            <a:r>
              <a:rPr b="0" lang="he-IL" sz="34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ff0000"/>
                </a:solidFill>
                <a:latin typeface="Arial"/>
                <a:ea typeface="FrankRuehl"/>
              </a:rPr>
              <a:t>. הֲדִירָה בְּבִנְיָן גָּדוֹל</a:t>
            </a:r>
            <a:r>
              <a:rPr b="1" lang="he-IL" sz="3400" spc="-1" strike="noStrike">
                <a:solidFill>
                  <a:srgbClr val="ff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ff0000"/>
                </a:solidFill>
                <a:latin typeface="Arial"/>
                <a:ea typeface="FrankRuehl"/>
              </a:rPr>
              <a:t>. בַּדִּירָה יֵשׁ חֲדָרִים יָפִים .</a:t>
            </a:r>
            <a:r>
              <a:rPr b="0" lang="he-IL" sz="34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800080"/>
                </a:solidFill>
                <a:latin typeface="Arial"/>
                <a:cs typeface="FrankRuehl"/>
              </a:rPr>
              <a:t>יֵשׁ גַּם </a:t>
            </a:r>
            <a:r>
              <a:rPr b="0" lang="ar-SA" sz="3400" spc="-1" strike="noStrike">
                <a:solidFill>
                  <a:srgbClr val="800080"/>
                </a:solidFill>
                <a:latin typeface="Arial"/>
                <a:ea typeface="FrankRuehl"/>
              </a:rPr>
              <a:t> </a:t>
            </a:r>
            <a:r>
              <a:rPr b="0" lang="he-IL" sz="3400" spc="-1" strike="noStrike">
                <a:solidFill>
                  <a:srgbClr val="800080"/>
                </a:solidFill>
                <a:latin typeface="Arial"/>
                <a:cs typeface="FrankRuehl"/>
              </a:rPr>
              <a:t>מִטְבָּח גָּדוֹל, שֵׁרוּתִים וּמִקְלַחַת .</a:t>
            </a:r>
            <a:r>
              <a:rPr b="0" lang="he-IL" sz="34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800000"/>
                </a:solidFill>
                <a:latin typeface="Arial"/>
                <a:cs typeface="FrankRuehl"/>
              </a:rPr>
              <a:t>בַּחֶדֶר שֶׁלּי יֵשׁ טֶלֶוִיזְיָה, מִטָּה  גְּדוֹלָה , אָרוֹן , כִּסֵּא  וְשׁוּלְחָן כְּתִיבָה קָטָן , עַל הַשּׁוּלְחָן יֵשׁ טֶלֶפוֹן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4ab9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46:38Z</dcterms:created>
  <dc:creator>aa</dc:creator>
  <dc:description/>
  <dc:language>en-US</dc:language>
  <cp:lastModifiedBy>aa</cp:lastModifiedBy>
  <dcterms:modified xsi:type="dcterms:W3CDTF">2009-04-17T14:47:06Z</dcterms:modified>
  <cp:revision>1</cp:revision>
  <dc:subject/>
  <dc:title>الشريحة 1</dc:title>
</cp:coreProperties>
</file>