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B5B-2A77-457C-9798-9835C6A5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1D5-D406-41F4-9500-38E25D99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B4E-FEAA-46C7-9007-479FF2F6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778-5F43-4E12-9C50-ABE4B954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92E2-CC33-4182-8B24-22EB7186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03F7-6E80-49B7-9764-82F2F52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6DAC-4B9C-4844-9FD8-B6754F01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9C8B-4710-419A-A877-4881BFAC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DF95-8BFD-4CAD-90EE-EFF81025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0036-95E6-45ED-AB3A-DF755F7A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FD49-964E-403F-8F42-4DBC1C9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43A-57E2-425E-9552-CE753DA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16F-4EE5-414F-9940-A53F3AC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7A86-6F6E-4C52-9132-8FE835E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C3F-D37C-40D6-8813-78BD1DB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E25B-098C-47B8-9A7E-A735B3D8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A9E6-5F30-4E5E-AF72-2EBA5011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D79-516B-404A-B672-F87FD71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095-C3F9-458E-AD65-30434185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46A-0DB2-437F-8827-D54B865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032-1F84-49E4-8D7B-3B9418B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F66-6875-4336-94D1-28AB3C5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FE0-8D31-4A6B-8C92-63D9434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15A-D1A1-43C0-A850-A3C3749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5DB-804E-4197-B444-3BC1CC266F8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057B-B95E-45D8-9F8E-FAF4D4EEC7F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8C5-B8B7-4B84-A072-6589AA51718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سلام عليكن و رحمة الله و بركاته و الصلاة و السلام علي رسول الله  ختام الانبياء و المرسلين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زهرة 4"/>
          <p:cNvPicPr/>
          <p:nvPr/>
        </p:nvPicPr>
        <p:blipFill>
          <a:blip r:embed="rId1"/>
          <a:stretch/>
        </p:blipFill>
        <p:spPr>
          <a:xfrm>
            <a:off x="1066680" y="3276720"/>
            <a:ext cx="67057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E42A-FA6F-4E7A-B668-FBE4A88BB76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نظم المعلومات المحاسبية </a:t>
            </a:r>
            <a:br>
              <a:rPr sz="3800"/>
            </a:b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المفاهيم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نظم المعلومات المحاسبية ؟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م تفسير لنظم المعلومات المحاسب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F44-A2B0-4B38-BB89-92A318C00B9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همية  نظم المعلومات المحاس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ية نظم المعلومات المحاسبية  هي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– توفير – توفير – توفير – توف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حاسبية نظام معلومات </a:t>
            </a:r>
            <a:r>
              <a:rPr b="0" lang="ar-SA" sz="3200" spc="-1" strike="noStrike">
                <a:solidFill>
                  <a:srgbClr val="996666"/>
                </a:solidFill>
                <a:latin typeface="Arial"/>
              </a:rPr>
              <a:t>فرع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اخل المنظمة   اشرح مع الرسم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فق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107C-D5AC-43C4-8B66-76E8DDCEE70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نظم المعلومات المحاسبية اكبر و اهم نظام فرعي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ا علاقة نظم المعلومات المحاسبية  بنظم المعلومات الادارية  ؟ اخر ص 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– مع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    و ضح بالرس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84C-1E10-4895-B6A9-75ACF8B49A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نواع نظم المعلومات المحاس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ا انواع نظم المعلومات  المحاسبية الاساسية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ح بذكر النوع ووظيفة المحاسب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CB1F-DD70-4F17-8E89-5C3AC557AB4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تابع انواع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لفرق ب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الية  و الادارية :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ومات – درجة التفصيل – درجة الالزامية – يحكم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لموضوعية – الارتباط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DCC-091B-431F-BD4A-571342F0558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4</a:t>
            </a:r>
            <a:r>
              <a:rPr b="0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 اثر التكنولوجيا علي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ا اثر التكنولوجيا عل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(  كيف تؤثر ) 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نظم المحاسبة الم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تكاليف  - محاسبة المسئولية – الموازنات – التحليل المالي -  دراسة النظم (المحاسب الاداري اصبح ...........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المراج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A24A-0182-4678-A140-D1533343FD4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مكونات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ما تتكون نظم المعلومات المحاسبية كموارد مالية  استثمارية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ال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ام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A6B-6ABC-47F7-8C14-5222D8BF02B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5-6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 نظم المعلومات المحاسبية و الحاسب الالي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زهرة 6"/>
          <p:cNvPicPr/>
          <p:nvPr/>
        </p:nvPicPr>
        <p:blipFill>
          <a:blip r:embed="rId1"/>
          <a:stretch/>
        </p:blipFill>
        <p:spPr>
          <a:xfrm>
            <a:off x="1066680" y="2409840"/>
            <a:ext cx="632484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5708-9751-4B90-BEA7-C32AB92C276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خصائص  المعلومات المحاسبية المفيدة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خصائص  المعلومات المحاسبية من الرس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ا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ثان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تبطة بالمستف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ح بالرسم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EF29-A0CA-4328-9333-C67DFEAC047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قيمة 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وامل التي تؤثر علي قيمة المعلومات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راءة حرة حول قيمة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EB8F-96FC-4DCD-B4B0-BC7AD20C309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Diagram 6"/>
          <p:cNvGrpSpPr/>
          <p:nvPr/>
        </p:nvGrpSpPr>
        <p:grpSpPr>
          <a:xfrm>
            <a:off x="747720" y="452520"/>
            <a:ext cx="7232760" cy="4278240"/>
            <a:chOff x="747720" y="452520"/>
            <a:chExt cx="7232760" cy="4278240"/>
          </a:xfrm>
        </p:grpSpPr>
        <p:sp>
          <p:nvSpPr>
            <p:cNvPr id="97" name="_s1028"/>
            <p:cNvSpPr/>
            <p:nvPr/>
          </p:nvSpPr>
          <p:spPr>
            <a:xfrm>
              <a:off x="3278160" y="1211400"/>
              <a:ext cx="2171880" cy="21715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46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3478320" y="452520"/>
              <a:ext cx="1773000" cy="542880"/>
            </a:xfrm>
            <a:prstGeom prst="rect">
              <a:avLst/>
            </a:prstGeom>
            <a:solidFill>
              <a:srgbClr val="6666cc"/>
            </a:solidFill>
            <a:ln w="0">
              <a:noFill/>
            </a:ln>
            <a:effectLst>
              <a:outerShdw dist="53966" dir="189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</a:rPr>
                <a:t>تكنولوجيا المعلوم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0"/>
            <p:cNvSpPr/>
            <p:nvPr/>
          </p:nvSpPr>
          <p:spPr>
            <a:xfrm>
              <a:off x="3994200" y="2451240"/>
              <a:ext cx="2171520" cy="2171520"/>
            </a:xfrm>
            <a:prstGeom prst="ellipse">
              <a:avLst/>
            </a:prstGeom>
            <a:solidFill>
              <a:srgbClr val="996666">
                <a:alpha val="50000"/>
              </a:srgbClr>
            </a:solidFill>
            <a:ln w="4680">
              <a:solidFill>
                <a:srgbClr val="99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6207120" y="4187880"/>
              <a:ext cx="1773360" cy="542880"/>
            </a:xfrm>
            <a:prstGeom prst="rect">
              <a:avLst/>
            </a:prstGeom>
            <a:solidFill>
              <a:srgbClr val="6666cc"/>
            </a:solidFill>
            <a:ln w="0">
              <a:noFill/>
            </a:ln>
            <a:effectLst>
              <a:outerShdw dist="53966" dir="189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</a:rPr>
                <a:t>التأهيل العلمي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>
              <a:off x="2562120" y="2451240"/>
              <a:ext cx="2171880" cy="2171520"/>
            </a:xfrm>
            <a:prstGeom prst="ellipse">
              <a:avLst/>
            </a:prstGeom>
            <a:solidFill>
              <a:srgbClr val="6666cc">
                <a:alpha val="50000"/>
              </a:srgbClr>
            </a:solidFill>
            <a:ln w="468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747720" y="4187880"/>
              <a:ext cx="1773360" cy="542880"/>
            </a:xfrm>
            <a:prstGeom prst="rect">
              <a:avLst/>
            </a:prstGeom>
            <a:solidFill>
              <a:srgbClr val="6666cc"/>
            </a:solidFill>
            <a:ln w="0">
              <a:noFill/>
            </a:ln>
            <a:effectLst>
              <a:outerShdw dist="53966" dir="189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</a:rPr>
                <a:t>التدريب الكافي المستم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3652560" y="17161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طو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395600" y="3011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572560" y="30877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حاس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7A7E-884A-4C83-B4CE-FC9D3525915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تحاور مع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ية اسئلة  او استفسارات طالباتي العزيز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ية مقترحات نستفيد من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نرجع مرة اخر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تصار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صطلحات باللغة الانجليز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ابة الاسئ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زهرة 7"/>
          <p:cNvPicPr/>
          <p:nvPr/>
        </p:nvPicPr>
        <p:blipFill>
          <a:blip r:embed="rId1"/>
          <a:stretch/>
        </p:blipFill>
        <p:spPr>
          <a:xfrm>
            <a:off x="838080" y="22096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F77-D201-43C9-B3DB-E218B1ACFB4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ذكرك بأهم النقاط ”الاهداف التعليمية“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66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عريف النظام ، تعريف نظم المعلومات ، تعري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اه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يف أثر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لي كل الجوانب المحاسب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غير الذي طرا علي التقارير الما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فرص المتاحة للمحاسبي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956-3793-4533-8C58-6309C5A9D60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</a:t>
            </a:r>
            <a:fld id="{00FC8F0D-BD27-41FC-9572-3030428A78FB}" type="slidenum">
              <a:rPr b="0" lang="ar-SA" sz="4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ي اللقاء مع اجابة الفصل الا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976320" y="3143160"/>
            <a:ext cx="7191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مع تمنياتي لكي بالنجاح و التوفيق طالبتي العزيز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خير او ليس اخر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BC8A-073F-48A6-8689-DB993B52082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433680" y="1600200"/>
            <a:ext cx="47959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شكراو الي لقاء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EBD4-24C1-42E0-824B-07F3F8603EA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ما النتيجة   ؟ ؟ في المقدمة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لعب نظم المعلومات المحاسبية دورا مهما و رئيسيا في نجاح المنظمة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حاسبية  تهيمن و تسيطر علي نظم المعلومات الفرعية في المنشاة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حاسبية توفر فرص مهن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5BB3-A153-4E62-B9BA-4357410006F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مرحبا   : الفصل الاول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طار العام لنظم المعلومات المحا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C3EC-784A-4BA4-8601-29BECB8B137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–مفاهيم حول  نظم المعلومات  و اهميته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كون النظام من 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واع النظم هي :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كون نظام المعلومات من </a:t>
            </a:r>
            <a:r>
              <a:rPr b="0" lang="ar-SA" sz="3200" spc="-1" strike="noStrike">
                <a:solidFill>
                  <a:srgbClr val="996666"/>
                </a:solidFill>
                <a:latin typeface="Arial"/>
              </a:rPr>
              <a:t>خمسة اجز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مدخلات – المخرجات- المعالجة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بيانات (طلب الشراء – طلب البيع) – المعلومات (تقرير المشتريات)(فواتير العملاء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ؤال ما اهمية نظم المعلومات  هي  ص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18C-7164-471F-8F29-0403E097CB5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علاقة – المفاهيم الاخري –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لاقة بين نظم المعلومات و الحاسبات الالكترونية ؟ قد توجد علاقة او قد لا توجد علاقة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مفاهيم الاخري لنظم المعلومات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0A5E-C360-4DE9-8103-F05F4C9A84E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منهج النظم و المحاسبة  و المحاسب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هج النظم يقوم علي دعامتين اساسيت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الية التي يعمل بها النظام  اربعة خطوات  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منهج العلمي لحل المشك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حاسبة نظام للمعلومات  فسر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حاسب منتج – مقيم – مصمم نظم معلومات فس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195-A320-4D2B-93EC-E287D2E44C9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التخطيط الاستراتيجي لتقنية المعلوم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معني التخطيط الاستراتيجي ؟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اهداف التخطيط الاستراتيجي ؟ التكامل – التنمية – الاستخدام – التحسين – الترشيد – النم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همية التخطيط الاستراتيجي ؟ الاستخدام الا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A7B-AF46-4A6C-A498-E1F13E21C64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تخطيط الاستراتيجي لتقنية المعلوم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رغب في بناء مشروعي الاستراتيجي لتقنية المعلومات  ما هي الامور التي افكر فيها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مراحل البناء  الاستراتيجي لتقنية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629400" y="41911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6248520" y="39625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5410080" y="42670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029200" y="472428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5105520" y="46483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0:37Z</dcterms:created>
  <dc:creator>HOME</dc:creator>
  <dc:description/>
  <dc:language>en-US</dc:language>
  <cp:lastModifiedBy>Goodluck</cp:lastModifiedBy>
  <dcterms:modified xsi:type="dcterms:W3CDTF">2013-09-06T08:12:33Z</dcterms:modified>
  <cp:revision>19</cp:revision>
  <dc:subject/>
  <dc:title>المحاضرة 2</dc:title>
</cp:coreProperties>
</file>