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A9B-8B87-4BC8-AF9E-6929E0DF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84C-E5C5-4B73-B880-8E083D30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A50-7FC8-4CC6-A2D6-83FA6F90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F2E-539D-41CB-A4D4-AC3B7E6A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D142-5C38-4F03-B601-7493A003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402D-05C6-42D0-8BD5-862633BB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731E-160C-48E3-8C98-E0497EA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1AC7-054C-4228-8D50-8446A50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94D7-49E7-4638-8D74-5A1325A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C34-2DBA-47C4-92A9-0BDBB25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62BE-0BF8-4D02-A22B-EFEFD00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A57-B96D-45C8-AAB3-D73E19C5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6243-7D09-430E-B719-F12A2E0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9D4-EEC2-4452-BEB7-3580920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86A3-C779-434E-8FE6-3B9C057C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D44E-87C6-4324-BDEF-3CF98EB8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6078-5299-49E7-89CB-FD2D36D0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D01-8A4C-420E-8452-32F5CE6A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99D-3C14-4FA3-A16D-00466FF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AEB-E556-477B-A460-28EDB83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198-E83D-4306-B6F2-9EEE9F4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EA4-1C67-4122-AC7A-5258284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3C5-86A6-4673-968C-2ED130D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F1E-9632-4E90-9E73-D977E87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C64E-AE41-4723-9930-A0728D60D49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F2D-D4C8-4B2B-8422-6B2F9764DFB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D713-6465-4990-98E9-DCDD5FCA99D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سلام عليكن و رحمة الله و بركاته و الصلاة و السلام علي رسول الله  ختام الانبياء و المرسلين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زهرة 4"/>
          <p:cNvPicPr/>
          <p:nvPr/>
        </p:nvPicPr>
        <p:blipFill>
          <a:blip r:embed="rId1"/>
          <a:stretch/>
        </p:blipFill>
        <p:spPr>
          <a:xfrm>
            <a:off x="1066680" y="3276720"/>
            <a:ext cx="67057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6B53-7384-4EAF-AFF5-BF0E56049C7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نظم المعلومات المحاسبية </a:t>
            </a:r>
            <a:br>
              <a:rPr sz="3800"/>
            </a:b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المفاهيم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نظم المعلومات المحاسبية ؟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م تفسير لنظم المعلومات المحاسب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954D-92D9-40D8-A359-2C08AAE99FC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همية  نظم المعلومات المحاس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ية نظم المعلومات المحاسبية  هي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– توفير – توفير – توفير – توف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حاسبية نظام معلومات </a:t>
            </a:r>
            <a:r>
              <a:rPr b="0" lang="ar-SA" sz="3200" spc="-1" strike="noStrike">
                <a:solidFill>
                  <a:srgbClr val="996666"/>
                </a:solidFill>
                <a:latin typeface="Arial"/>
              </a:rPr>
              <a:t>فرع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اخل المنظمة   اشرح مع الرسم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فق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3EF-BCE3-471A-9804-0042C7E7F0B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نظم المعلومات المحاسبية اكبر و اهم نظام فرعي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ا علاقة نظم المعلومات المحاسبية  بنظم المعلومات الادارية  ؟ اخر ص 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– مع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    و ضح بالرس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FEFE-D4EF-460C-8615-34DD9B0C12A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نواع نظم المعلومات المحاس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ا انواع نظم المعلومات  المحاسبية الاساسية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ح بذكر النوع ووظيفة المحاسب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603F-C9C8-4828-B01C-7C93C11EFB2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تابع انواع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لفرق ب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الية  و الادارية :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ومات – درجة التفصيل – درجة الالزامية – يحكم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لموضوعية – الارتباط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C783-51D6-48F6-A310-5543F7BBB5E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4</a:t>
            </a:r>
            <a:r>
              <a:rPr b="0" lang="ar-SA" sz="4200" spc="-1" strike="noStrike" u="sng">
                <a:solidFill>
                  <a:srgbClr val="ffffff"/>
                </a:solidFill>
                <a:uFillTx/>
                <a:latin typeface="Arial"/>
              </a:rPr>
              <a:t> اثر التكنولوجيا علي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ا اثر التكنولوجيا عل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(  كيف تؤثر ) 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نظم المحاسبة الم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تكاليف  - محاسبة المسئولية – الموازنات – التحليل المالي -  دراسة النظم (المحاسب الاداري اصبح ...........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المراج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8D3-E9DD-4CCD-982E-A3D41CAD930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مكونات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ما تتكون نظم المعلومات المحاسبية كموارد مالية  استثمارية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ال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ام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26F3-CB75-438B-B5B6-6A992A0CDE9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5-6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 نظم المعلومات المحاسبية و الحاسب الالي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زهرة 6"/>
          <p:cNvPicPr/>
          <p:nvPr/>
        </p:nvPicPr>
        <p:blipFill>
          <a:blip r:embed="rId1"/>
          <a:stretch/>
        </p:blipFill>
        <p:spPr>
          <a:xfrm>
            <a:off x="1066680" y="2409840"/>
            <a:ext cx="632484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F24-B23E-4C36-A42F-0B0030AF1B3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-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خصائص  المعلومات المحاسبية المفيدة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خصائص  المعلومات المحاسبية من الرس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ا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ثان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تبطة بالمستف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ح بالرسم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62C-E58A-4544-95F3-6152BE5741C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قيمة 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وامل التي تؤثر علي قيمة المعلومات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راءة حرة حول قيمة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C5B-C3C0-4BBF-9858-726A62A23FC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Diagram 6"/>
          <p:cNvGrpSpPr/>
          <p:nvPr/>
        </p:nvGrpSpPr>
        <p:grpSpPr>
          <a:xfrm>
            <a:off x="747720" y="452520"/>
            <a:ext cx="7232760" cy="4278240"/>
            <a:chOff x="747720" y="452520"/>
            <a:chExt cx="7232760" cy="4278240"/>
          </a:xfrm>
        </p:grpSpPr>
        <p:sp>
          <p:nvSpPr>
            <p:cNvPr id="97" name="_s1028"/>
            <p:cNvSpPr/>
            <p:nvPr/>
          </p:nvSpPr>
          <p:spPr>
            <a:xfrm>
              <a:off x="3278160" y="1211400"/>
              <a:ext cx="2171880" cy="21715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46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3478320" y="452520"/>
              <a:ext cx="1773000" cy="542880"/>
            </a:xfrm>
            <a:prstGeom prst="rect">
              <a:avLst/>
            </a:prstGeom>
            <a:solidFill>
              <a:srgbClr val="6666cc"/>
            </a:solidFill>
            <a:ln w="0">
              <a:noFill/>
            </a:ln>
            <a:effectLst>
              <a:outerShdw dist="53966" dir="189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</a:rPr>
                <a:t>تكنولوجيا المعلوم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0"/>
            <p:cNvSpPr/>
            <p:nvPr/>
          </p:nvSpPr>
          <p:spPr>
            <a:xfrm>
              <a:off x="3994200" y="2451240"/>
              <a:ext cx="2171520" cy="2171520"/>
            </a:xfrm>
            <a:prstGeom prst="ellipse">
              <a:avLst/>
            </a:prstGeom>
            <a:solidFill>
              <a:srgbClr val="996666">
                <a:alpha val="50000"/>
              </a:srgbClr>
            </a:solidFill>
            <a:ln w="4680">
              <a:solidFill>
                <a:srgbClr val="99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6207120" y="4187880"/>
              <a:ext cx="1773360" cy="542880"/>
            </a:xfrm>
            <a:prstGeom prst="rect">
              <a:avLst/>
            </a:prstGeom>
            <a:solidFill>
              <a:srgbClr val="6666cc"/>
            </a:solidFill>
            <a:ln w="0">
              <a:noFill/>
            </a:ln>
            <a:effectLst>
              <a:outerShdw dist="53966" dir="189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</a:rPr>
                <a:t>التأهيل العلمي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>
              <a:off x="2562120" y="2451240"/>
              <a:ext cx="2171880" cy="2171520"/>
            </a:xfrm>
            <a:prstGeom prst="ellipse">
              <a:avLst/>
            </a:prstGeom>
            <a:solidFill>
              <a:srgbClr val="6666cc">
                <a:alpha val="50000"/>
              </a:srgbClr>
            </a:solidFill>
            <a:ln w="468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747720" y="4187880"/>
              <a:ext cx="1773360" cy="542880"/>
            </a:xfrm>
            <a:prstGeom prst="rect">
              <a:avLst/>
            </a:prstGeom>
            <a:solidFill>
              <a:srgbClr val="6666cc"/>
            </a:solidFill>
            <a:ln w="0">
              <a:noFill/>
            </a:ln>
            <a:effectLst>
              <a:outerShdw dist="53966" dir="189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</a:rPr>
                <a:t>التدريب الكافي المستم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3652560" y="17161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طو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395600" y="3011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572560" y="30877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حاس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6D90-899F-45AE-9F52-1FC08F1D5A9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تحاور مع نظم المعلومات المحاسب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ية اسئلة  او استفسارات طالباتي العزيز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ية مقترحات نستفيد من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نرجع مرة اخر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تصار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صطلحات باللغة الانجليز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ابة الاسئ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زهرة 7"/>
          <p:cNvPicPr/>
          <p:nvPr/>
        </p:nvPicPr>
        <p:blipFill>
          <a:blip r:embed="rId1"/>
          <a:stretch/>
        </p:blipFill>
        <p:spPr>
          <a:xfrm>
            <a:off x="838080" y="22096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C16-C802-4AD9-BD85-E75B9E9C523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ذكرك بأهم النقاط ”الاهداف التعليمية“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66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عريف النظام ، تعريف نظم المعلومات ، تعري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اه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يف أثر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لي كل الجوانب المحاسب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غير الذي طرا علي التقارير الما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فرص المتاحة للمحاسبي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295-6FB2-440C-BB6A-A0BBF12A620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</a:t>
            </a:r>
            <a:fld id="{FBD4D641-60AE-4081-A4C1-D9404194E5F0}" type="slidenum">
              <a:rPr b="0" lang="ar-SA" sz="4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ي اللقاء مع اجابة الفصل الا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976320" y="3143160"/>
            <a:ext cx="7191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مع تمنياتي لكي بالنجاح و التوفيق طالبتي العزيز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خير او ليس اخر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D517-4C36-4E66-9E81-204D735F4E0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433680" y="1600200"/>
            <a:ext cx="47959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شكراو الي لقاء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5BD7-BD82-4321-98FE-5BCAE783794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ما النتيجة   ؟ ؟ في المقدمة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لعب نظم المعلومات المحاسبية دورا مهما و رئيسيا في نجاح المنظمة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حاسبية  تهيمن و تسيطر علي نظم المعلومات الفرعية في المنشاة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المعلومات المحاسبية توفر فرص مهن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F044-7490-4597-B23C-6FEEFC584C8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مرحبا   : الفصل الاول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طار العام لنظم المعلومات المحا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30CF-0296-4D0E-A45D-19364D2FE03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–مفاهيم حول  نظم المعلومات  و اهميته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كون النظام من 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واع النظم هي :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كون نظام المعلومات من </a:t>
            </a:r>
            <a:r>
              <a:rPr b="0" lang="ar-SA" sz="3200" spc="-1" strike="noStrike">
                <a:solidFill>
                  <a:srgbClr val="996666"/>
                </a:solidFill>
                <a:latin typeface="Arial"/>
              </a:rPr>
              <a:t>خمسة اجز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مدخلات – المخرجات- المعالجة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بيانات (طلب الشراء – طلب البيع) – المعلومات (تقرير المشتريات)(فواتير العملاء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ؤال ما اهمية نظم المعلومات  هي  ص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D13-A59F-42B5-85E9-31EDC35ABBD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علاقة – المفاهيم الاخري –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لاقة بين نظم المعلومات و الحاسبات الالكترونية ؟ قد توجد علاقة او قد لا توجد علاقة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مفاهيم الاخري لنظم المعلومات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5F7-5519-45F0-A9AF-C19CAF19BD3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منهج النظم و المحاسبة  و المحاسب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هج النظم يقوم علي دعامتين اساسيت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الية التي يعمل بها النظام  اربعة خطوات   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منهج العلمي لحل المشك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حاسبة نظام للمعلومات  فسر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حاسب منتج – مقيم – مصمم نظم معلومات فس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983-DE32-4F7F-A864-AB885FDF0F5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التخطيط الاستراتيجي لتقنية المعلوم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معني التخطيط الاستراتيجي ؟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اهداف التخطيط الاستراتيجي ؟ التكامل – التنمية – الاستخدام – التحسين – الترشيد – النم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همية التخطيط الاستراتيجي ؟ الاستخدام الا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440F-FE90-4F37-95C0-E6A18F82891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تخطيط الاستراتيجي لتقنية المعلوم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رغب في بناء مشروعي الاستراتيجي لتقنية المعلومات  ما هي الامور التي افكر فيها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مراحل البناء  الاستراتيجي لتقنية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629400" y="41911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6248520" y="39625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5410080" y="42670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029200" y="472428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5105520" y="46483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0:37Z</dcterms:created>
  <dc:creator>HOME</dc:creator>
  <dc:description/>
  <dc:language>en-US</dc:language>
  <cp:lastModifiedBy>Goodluck</cp:lastModifiedBy>
  <dcterms:modified xsi:type="dcterms:W3CDTF">2013-09-06T08:12:33Z</dcterms:modified>
  <cp:revision>19</cp:revision>
  <dc:subject/>
  <dc:title>المحاضرة 2</dc:title>
</cp:coreProperties>
</file>