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684-67A7-4CAF-9918-28CA036E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AAC-8E9F-4354-9AA8-10F53CCF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E15-050A-45A2-A197-9AA05F5A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2F1-9CA7-493D-93C5-D9477027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A3D8-2900-435F-8B25-BFC60247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2E9-4675-41AA-A58A-DCCE8010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B77A-AE35-4F01-ADDE-72BAE4E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3D8B-54AF-48E5-80F0-8BB7B2D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988-4F83-4572-96CA-D193E8D4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E7C-FBFF-44AC-B748-60E13BC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171-0C94-48B3-9AEB-9D0B4F9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A50-2712-4D4E-A1B3-CD34B702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6EA-C3CC-4EBC-AE54-E14052B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7A2E-6170-450C-B536-DE10EA8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ED6-036D-4032-8AB8-5B0422CD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BB3B-CF6C-4AE6-808F-4B0994F8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1E5-BFF3-4A80-A2DA-CC59150F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3AD0-6377-4911-9F19-AACAE965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3531-F39A-4A0A-8C7F-FF1DBDB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F42D-A0E9-44A8-AE90-98E8D0B5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C0D0-F5B2-4399-BD3E-503FC9B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80D7-8E7F-498D-8AD5-6E804F2F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CF4-5D26-4F25-875E-1A4F3D30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D34B-3AF7-4C60-903D-4B03358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16B4-9D25-4A08-A4E3-CA3D4226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CD29-5155-40C7-93F7-4916F71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7ECB-3BAD-4ACE-ACDC-70C940E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66B4-3425-4403-8FDB-A275FED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072F-5A31-412B-A576-66EF0B2A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3B26-865A-4A0C-8C9F-E80A736B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4FE4-6064-47EC-ADEB-700DD9C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0BF0-E944-4FF2-B39D-7FB3AD9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46D3-B8A4-4F54-972D-EC980B8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5F8-EA34-4A18-A31C-C805F1C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B80F-1DC3-49EE-8AFE-6D899A5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DF72-F6AD-443F-B97F-9C0E63C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6433-EADA-46E6-805B-1430C9C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4AFD-DA2B-47B3-A4D3-4DD1759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96FD-ED73-4400-BBA9-38AE2B5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AAFC-9AC8-4204-A1CC-CF933BB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6250-C82D-4E6F-BD45-B09DE14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1E14-25D1-472D-8E83-8DFF7F3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2958-7EE6-4F6A-92FE-516F4751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41B0-3ABC-4E3B-980D-1AACD587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4CD-D92E-438C-8A7A-E435475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8406-03F2-49DB-ACE7-6B5B0616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3C5F-FC79-4D81-B9F1-C043313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C31D-A6B3-4694-8826-CBA72A70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70F4-E7E9-4384-B784-BE3F6D1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88B5-32C7-49FD-850C-5D0EF74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5B2A-44FD-4041-8436-B527A81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7225-5D6D-4FB0-AFA6-51530A0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B60C-1FF0-4EA7-AC00-5261AC7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9EFC-A017-435F-BA9F-FB9EDF2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FB8D-3BBA-4C8C-9764-AED2B3F9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3DE-4E37-487E-A4F7-91DC8205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FDCD-9EF1-43C0-82C1-3596CA3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FB6D-7EFB-4B73-9AD0-0689317D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2840-5261-4045-86D4-CFFC890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084CA-51AE-4C51-B9C7-C2D9A85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773D1-5EB9-4E24-BD16-09298C2E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C810-D248-416D-8732-BAA6FD3B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FA94-45B4-4090-A668-30D034F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6AA3-C3CB-46B0-B517-9BB03A9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65C6-BFC8-4A3E-B416-9E22858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8BAD6-94D5-4F9E-8163-85D77FF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B03-3BA9-4523-B0CE-E81CEE6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4ACA-D78A-4D21-9582-F0C67C5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9863-9C9B-4598-8E69-D68EF7D3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C7E2-0680-4A27-A51F-FA9274D8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4654-2ADE-42A5-92F2-A3D665DB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2489-9332-4725-B83B-4700E7A2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E30C-DD84-40C9-B683-7C70607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273A-C623-427B-A72C-3C183FF4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246B-44C2-4245-972E-D64C276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72B5-3C3B-4FC6-82FE-E8F4154E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560F-45B9-4F86-AAA1-3C9A6DD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559-20EA-4423-AF71-F7C5FC57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B7F2-95E9-49BB-8919-7A8387B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C8F6-4B1D-49E7-9B07-EBF6B8F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C42C0-D9FA-4A7E-BF7D-7EFD2E2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62970-93B8-40C4-8A21-58DF902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1C17-AA3C-4CCD-AE58-A90B25B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A41-6E23-4CB5-A070-4DF8957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80F-9D22-4471-9DB7-BE3894E83FB2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789-CB79-4B76-8311-3B64F4771E16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F6E-B6F0-4B9B-82B4-B3873760BC98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A357-C528-4304-8BA1-6CABBF44B97E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141-4CDA-4FFC-BA65-79385AAF9CDF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262-C806-4946-B5B4-FD428EC80CA1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AA2-28DA-48A3-BD2F-5689967D525B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- فروبــــــــــــــل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2223"/>
                </a:solidFill>
                <a:latin typeface="Gill Sans MT"/>
              </a:rPr>
              <a:t>الاتجاه النفسي في الترب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فريدرك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أولا  / حياته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اد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الدي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شأ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عليم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untitled"/>
          <p:cNvPicPr/>
          <p:nvPr/>
        </p:nvPicPr>
        <p:blipFill>
          <a:blip r:embed="rId2"/>
          <a:stretch/>
        </p:blipFill>
        <p:spPr>
          <a:xfrm>
            <a:off x="34920" y="4608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86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المعهد التربوي الدولي الألمان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4" descr="untitled5"/>
          <p:cNvPicPr/>
          <p:nvPr/>
        </p:nvPicPr>
        <p:blipFill>
          <a:blip r:embed="rId2"/>
          <a:stretch/>
        </p:blipFill>
        <p:spPr>
          <a:xfrm>
            <a:off x="1763640" y="1773360"/>
            <a:ext cx="6553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152280"/>
            <a:ext cx="68709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معهد فروبل للأطفال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4" descr="493817874_5e27060559"/>
          <p:cNvPicPr/>
          <p:nvPr/>
        </p:nvPicPr>
        <p:blipFill>
          <a:blip r:embed="rId2"/>
          <a:stretch/>
        </p:blipFill>
        <p:spPr>
          <a:xfrm>
            <a:off x="4788000" y="2060640"/>
            <a:ext cx="4248000" cy="468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493817880_6200aad065"/>
          <p:cNvPicPr/>
          <p:nvPr/>
        </p:nvPicPr>
        <p:blipFill>
          <a:blip r:embed="rId3"/>
          <a:stretch/>
        </p:blipFill>
        <p:spPr>
          <a:xfrm>
            <a:off x="179280" y="1343160"/>
            <a:ext cx="4327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أول من استخدم اسم :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 روضة الأطفال 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نيا / المؤثرات التى تأثر بها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ــشـأتـه الـريـفـيـ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أثـره ببستـالـوز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قـرآتـه الـمتـنـوعـ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لثا / آراء فروبل في التربية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التربية السليمة تكون بمراعاة مراحل نمو الطفل.( متاثر ببستالوزي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حاجة الصغار إلى الرعاية والحماية إلى جانب التعليم.(النمو الخلقي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كد ضرورة معاملة كل طفل على حسب إمكانياته.( الفروق الفردية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untitledb"/>
          <p:cNvPicPr/>
          <p:nvPr/>
        </p:nvPicPr>
        <p:blipFill>
          <a:blip r:embed="rId2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4360" y="907560"/>
            <a:ext cx="7812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572314"/>
                </a:solidFill>
                <a:uFillTx/>
                <a:latin typeface="Gill Sans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6" name="Organization Chart 2"/>
          <p:cNvGrpSpPr/>
          <p:nvPr/>
        </p:nvGrpSpPr>
        <p:grpSpPr>
          <a:xfrm>
            <a:off x="144360" y="2249640"/>
            <a:ext cx="8604000" cy="2979000"/>
            <a:chOff x="144360" y="2249640"/>
            <a:chExt cx="8604000" cy="2979000"/>
          </a:xfrm>
        </p:grpSpPr>
        <p:cxnSp>
          <p:nvCxnSpPr>
            <p:cNvPr id="337" name="_s1028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628600" y="2258640"/>
              <a:ext cx="596160" cy="296028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029"/>
            <p:cNvCxnSpPr>
              <a:stCxn id="341" idx="0"/>
              <a:endCxn id="339" idx="2"/>
            </p:cNvCxnSpPr>
            <p:nvPr/>
          </p:nvCxnSpPr>
          <p:spPr>
            <a:xfrm flipV="1">
              <a:off x="4446720" y="3440880"/>
              <a:ext cx="2520" cy="59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1030"/>
            <p:cNvCxnSpPr>
              <a:stCxn id="343" idx="0"/>
              <a:endCxn id="339" idx="2"/>
            </p:cNvCxnSpPr>
            <p:nvPr/>
          </p:nvCxnSpPr>
          <p:spPr>
            <a:xfrm flipH="1" flipV="1" rot="5400000">
              <a:off x="2669040" y="2259000"/>
              <a:ext cx="596160" cy="295992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9" name="_s1031"/>
            <p:cNvSpPr/>
            <p:nvPr/>
          </p:nvSpPr>
          <p:spPr>
            <a:xfrm>
              <a:off x="2696400" y="2249640"/>
              <a:ext cx="349956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عتمدت فكرته عن رياض الأطفال على ثلاث حقائ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144360" y="4037040"/>
              <a:ext cx="268668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لوصول إلى المهارة في العم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3103560" y="4037040"/>
              <a:ext cx="26852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لحصول على المعرف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6061320" y="4037040"/>
              <a:ext cx="26870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نمو القوى العقلية والجسمية والنف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200" y="203040"/>
            <a:ext cx="7850520" cy="66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 اقتراح منهج يسير عليه نظام الدراسة في روضة الأطفال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  العناية بتربية الحواس التي هي أبواب العق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ابتدع ألعاب لتشكل الوسائل والمنهج والكتاب ميزة طريقته في تربي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الرسم بالنسبة لحيا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ألعاب الحركة عند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untitled1"/>
          <p:cNvPicPr/>
          <p:nvPr/>
        </p:nvPicPr>
        <p:blipFill>
          <a:blip r:embed="rId2"/>
          <a:stretch/>
        </p:blipFill>
        <p:spPr>
          <a:xfrm>
            <a:off x="250920" y="1835280"/>
            <a:ext cx="4174920" cy="3681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untitled4"/>
          <p:cNvPicPr/>
          <p:nvPr/>
        </p:nvPicPr>
        <p:blipFill>
          <a:blip r:embed="rId3"/>
          <a:stretch/>
        </p:blipFill>
        <p:spPr>
          <a:xfrm>
            <a:off x="4714920" y="1844640"/>
            <a:ext cx="388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8:31:58Z</dcterms:created>
  <dc:creator>ام يزيد</dc:creator>
  <dc:description/>
  <dc:language>en-US</dc:language>
  <cp:lastModifiedBy>DELL</cp:lastModifiedBy>
  <dcterms:modified xsi:type="dcterms:W3CDTF">2011-12-11T17:29:28Z</dcterms:modified>
  <cp:revision>5</cp:revision>
  <dc:subject/>
  <dc:title>2- فروبــــــــــــــل</dc:title>
</cp:coreProperties>
</file>