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06A-82CC-473A-B167-580D418C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EDB-4D6D-4D64-BD99-B20C750B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996-7C08-4FAA-AC83-7723FE21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792-7DCC-4D59-9EF2-BBF01600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2047-DC4E-4470-BC21-DB572D1D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9E7-A54E-4105-8ABC-6228EF27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F405-4977-43BA-AA0E-23E1BB5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2E9E-03D8-45DA-B43B-CFA025A9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3C38-EC43-40DA-908D-F3BA240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56AA-6895-457A-94AB-F9C20270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4954-A55B-405F-B2FB-1C7FF67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B45-A445-4586-AEC3-AC92E834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455D-123D-46D0-967B-49C2021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331E-A5D9-483B-AD03-6189BE7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7621-2C8E-45C6-B2FF-4E75C4C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F849-4879-4277-8F2D-BFACF05F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6DEE-DF55-4E85-9643-ECA4052D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239C-1D4B-47AE-AD8E-1B0DBFED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961E-1C52-4644-A7A1-B472AA0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EB0F-6CBE-42A6-A0E7-7169B696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63A2-FB7A-4D66-ABBB-C7DC977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0266-B1BF-43EC-96DC-90AC0855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58F-8180-41A0-A6F2-48E46CC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6D87-03BF-41A8-BE4E-EC876073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498E-D04D-448E-8185-A17F37B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EDC2-CE24-4B3D-9C37-2FDCDBD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8778-2665-4AE9-8C10-224783E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D5C9-4AD7-44C3-9DC2-6A64ABE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7CA2-1787-4786-BE61-50150DCA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AFB4-DCBA-4D47-88E4-C17E8579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F332-F2A8-4919-BACA-3BC093F5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BE6E1-9289-4F95-BAA8-96CF77B7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F319-4A48-485A-8EC6-CC45D85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9CA-29C8-470B-A870-5D5FF940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9AB43-D30E-40ED-9BEB-E83FA240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45AF1-680B-4328-A8E0-E8A94E2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A785-A156-470F-88BE-C038F49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3050-B975-4C1B-A472-1751EDE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C05E-9235-46E6-BED3-19B44C6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D7EE-6E2D-492B-A3AF-F4F26B6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F166-0946-44A3-9772-85EB8A4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154B-2918-4AB5-914E-196122D5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0081-59C8-484D-BF37-BE8B3D7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BC48D-2B41-4424-A477-240C20B2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994-5096-47F7-BB71-0D70D0D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7301-778B-4DC1-BC0F-2297909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55AC-B614-441F-B9DA-326E57F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EA35-37D4-429C-95B9-5500183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55F0-EA94-4974-A54B-09E773F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B2E4-BD4C-4161-BC5F-51002C21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B42D5-6CA8-4903-B952-D5F988B6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D72A-3C4B-4AEE-8531-4A5E2C7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E6E9-FB35-4C0A-AB69-BD8896FF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1558-C6E2-49A8-96E2-6E227420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0C961-D63F-4E76-ADAD-CD78E846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0E9-9230-4EFF-937F-A7DE024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F698A-2123-4B28-A326-A0A0F6C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93A1-22CB-4977-856D-86CFB3C1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40951-29B1-46EA-9395-1959B59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DB3C9-C2DE-4046-AD85-3C76093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F2728-64DC-40BB-9402-0AFE4595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02837-E3F2-48DC-966C-661B671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E4B4D-E2BC-4A35-9A26-8BBA06CB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3B13-2422-4CE3-974D-B313886A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DBCC-CDA4-4FA6-A6D1-490EE68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891A-5DBF-431F-853C-A5D4324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1AB-A8D2-41D7-8FA2-26B1C3D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7563-0CCA-483C-AB02-83ECFC49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9335-13A6-4DEB-8162-D29832B7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0512-1AE7-47AF-8072-FD0ADE13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06B2E-5FC1-475B-BDE9-12A9CF85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AF7C3-3D70-42C6-AAC7-2C199D86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63619-55FB-4A51-94A9-8DE23EC0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3FA6-DFAF-4C95-92E0-7D380BFF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8527C-1333-4270-8B59-C0A43E5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DEAD-7342-41E2-8460-ECBE4733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726E-C84D-4CE6-8989-8234CDA7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CC2-248E-4FF7-96CB-363EE7C4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22E3-1328-4AED-A6AD-22EB159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7A79-426F-4A29-87CF-A45D1B0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0B5B8-7B80-4C7D-8D54-0949718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126F2-A4D6-4408-93B6-219BB1BF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D941C-A02B-4508-9406-6A98431C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0BE-31B4-4AD0-9447-0FC6C2F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9ED4-5456-4A54-99F5-B86828A86838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B07F-E96F-46AD-8A92-C5882D3D4977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0D1B-51CE-41FC-933C-394E073D6877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ABF1-2561-458F-B8E3-A11F881034A2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1C4-9FDF-4C3B-83FB-1EE7402507A8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17F7-F387-47A5-A3C4-8AF4FF0255D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BCD-CA08-4936-A838-0ABD9D9BF66E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- فروبــــــــــــــل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2223"/>
                </a:solidFill>
                <a:latin typeface="Gill Sans MT"/>
              </a:rPr>
              <a:t>الاتجاه النفسي في الترب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فريدرك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أولا  / حياته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اد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الدي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شأ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عليم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untitled"/>
          <p:cNvPicPr/>
          <p:nvPr/>
        </p:nvPicPr>
        <p:blipFill>
          <a:blip r:embed="rId2"/>
          <a:stretch/>
        </p:blipFill>
        <p:spPr>
          <a:xfrm>
            <a:off x="34920" y="4608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86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المعهد التربوي الدولي الألمان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4" descr="untitled5"/>
          <p:cNvPicPr/>
          <p:nvPr/>
        </p:nvPicPr>
        <p:blipFill>
          <a:blip r:embed="rId2"/>
          <a:stretch/>
        </p:blipFill>
        <p:spPr>
          <a:xfrm>
            <a:off x="1763640" y="1773360"/>
            <a:ext cx="6553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152280"/>
            <a:ext cx="68709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معهد فروبل للأطفال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4" descr="493817874_5e27060559"/>
          <p:cNvPicPr/>
          <p:nvPr/>
        </p:nvPicPr>
        <p:blipFill>
          <a:blip r:embed="rId2"/>
          <a:stretch/>
        </p:blipFill>
        <p:spPr>
          <a:xfrm>
            <a:off x="4788000" y="2060640"/>
            <a:ext cx="4248000" cy="468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493817880_6200aad065"/>
          <p:cNvPicPr/>
          <p:nvPr/>
        </p:nvPicPr>
        <p:blipFill>
          <a:blip r:embed="rId3"/>
          <a:stretch/>
        </p:blipFill>
        <p:spPr>
          <a:xfrm>
            <a:off x="179280" y="1343160"/>
            <a:ext cx="4327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أول من استخدم اسم :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 روضة الأطفال 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نيا / المؤثرات التى تأثر بها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ــشـأتـه الـريـفـيـ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أثـره ببستـالـوز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قـرآتـه الـمتـنـوعـ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لثا / آراء فروبل في التربية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التربية السليمة تكون بمراعاة مراحل نمو الطفل.( متاثر ببستالوزي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حاجة الصغار إلى الرعاية والحماية إلى جانب التعليم.(النمو الخلقي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كد ضرورة معاملة كل طفل على حسب إمكانياته.( الفروق الفردية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untitledb"/>
          <p:cNvPicPr/>
          <p:nvPr/>
        </p:nvPicPr>
        <p:blipFill>
          <a:blip r:embed="rId2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4360" y="907560"/>
            <a:ext cx="7812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572314"/>
                </a:solidFill>
                <a:uFillTx/>
                <a:latin typeface="Gill Sans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6" name="Organization Chart 2"/>
          <p:cNvGrpSpPr/>
          <p:nvPr/>
        </p:nvGrpSpPr>
        <p:grpSpPr>
          <a:xfrm>
            <a:off x="144360" y="2249640"/>
            <a:ext cx="8604000" cy="2979000"/>
            <a:chOff x="144360" y="2249640"/>
            <a:chExt cx="8604000" cy="2979000"/>
          </a:xfrm>
        </p:grpSpPr>
        <p:cxnSp>
          <p:nvCxnSpPr>
            <p:cNvPr id="337" name="_s1028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628600" y="2258640"/>
              <a:ext cx="596160" cy="296028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029"/>
            <p:cNvCxnSpPr>
              <a:stCxn id="341" idx="0"/>
              <a:endCxn id="339" idx="2"/>
            </p:cNvCxnSpPr>
            <p:nvPr/>
          </p:nvCxnSpPr>
          <p:spPr>
            <a:xfrm flipV="1">
              <a:off x="4446720" y="3440880"/>
              <a:ext cx="2520" cy="59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1030"/>
            <p:cNvCxnSpPr>
              <a:stCxn id="343" idx="0"/>
              <a:endCxn id="339" idx="2"/>
            </p:cNvCxnSpPr>
            <p:nvPr/>
          </p:nvCxnSpPr>
          <p:spPr>
            <a:xfrm flipH="1" flipV="1" rot="5400000">
              <a:off x="2669040" y="2259000"/>
              <a:ext cx="596160" cy="295992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9" name="_s1031"/>
            <p:cNvSpPr/>
            <p:nvPr/>
          </p:nvSpPr>
          <p:spPr>
            <a:xfrm>
              <a:off x="2696400" y="2249640"/>
              <a:ext cx="349956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عتمدت فكرته عن رياض الأطفال على ثلاث حقائ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144360" y="4037040"/>
              <a:ext cx="268668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لوصول إلى المهارة في العم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3103560" y="4037040"/>
              <a:ext cx="26852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الحصول على المعرف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6061320" y="4037040"/>
              <a:ext cx="26870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</a:rPr>
                <a:t>نمو القوى العقلية والجسمية والنف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200" y="203040"/>
            <a:ext cx="7850520" cy="66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 اقتراح منهج يسير عليه نظام الدراسة في روضة الأطفال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  العناية بتربية الحواس التي هي أبواب العق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ابتدع ألعاب لتشكل الوسائل والمنهج والكتاب ميزة طريقته في تربي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الرسم بالنسبة لحيا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ألعاب الحركة عند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untitled1"/>
          <p:cNvPicPr/>
          <p:nvPr/>
        </p:nvPicPr>
        <p:blipFill>
          <a:blip r:embed="rId2"/>
          <a:stretch/>
        </p:blipFill>
        <p:spPr>
          <a:xfrm>
            <a:off x="250920" y="1835280"/>
            <a:ext cx="4174920" cy="3681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untitled4"/>
          <p:cNvPicPr/>
          <p:nvPr/>
        </p:nvPicPr>
        <p:blipFill>
          <a:blip r:embed="rId3"/>
          <a:stretch/>
        </p:blipFill>
        <p:spPr>
          <a:xfrm>
            <a:off x="4714920" y="1844640"/>
            <a:ext cx="388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8:31:58Z</dcterms:created>
  <dc:creator>ام يزيد</dc:creator>
  <dc:description/>
  <dc:language>en-US</dc:language>
  <cp:lastModifiedBy>DELL</cp:lastModifiedBy>
  <dcterms:modified xsi:type="dcterms:W3CDTF">2011-12-11T17:29:28Z</dcterms:modified>
  <cp:revision>5</cp:revision>
  <dc:subject/>
  <dc:title>2- فروبــــــــــــــل</dc:title>
</cp:coreProperties>
</file>