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5B8E-7CF8-4152-8F3C-7CADFAD7625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7BE3-E53C-4187-95A9-B670DE1AE42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850-1E9E-48CE-93DB-74C9E7D6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294-331F-4EBC-85AC-609767C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542-A463-4473-91F1-6323A632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31F-BDA1-4289-BBB9-9A288648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F55-7071-4D5D-A296-3574F8E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D6-1502-4B7C-BDE0-02E91EA2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52B-002A-47B5-B6B2-FC3D531E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54C-F4CF-4E77-8016-5BAB2E9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812-30A3-4638-9CB8-91849AA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116-07A0-4F5F-968E-C8A05698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E11-2B51-4355-B803-675A2DD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1A4-84BF-48CC-856E-2A61045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818-5B7E-4EF9-A68B-684720569C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cs typeface="Tahoma"/>
              </a:rPr>
              <a:t>برنامج ماريا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3" descr="ماريا.jpg"/>
          <p:cNvPicPr/>
          <p:nvPr/>
        </p:nvPicPr>
        <p:blipFill>
          <a:blip r:embed="rId1"/>
          <a:stretch/>
        </p:blipFill>
        <p:spPr>
          <a:xfrm>
            <a:off x="3286080" y="2071800"/>
            <a:ext cx="2476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d0d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عنصر نائب للمحتوى 3" descr="نشاطتو"/>
          <p:cNvPicPr/>
          <p:nvPr/>
        </p:nvPicPr>
        <p:blipFill>
          <a:blip r:embed="rId1"/>
          <a:stretch/>
        </p:blipFill>
        <p:spPr>
          <a:xfrm>
            <a:off x="1523880" y="1687680"/>
            <a:ext cx="609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opperplate Gothic Bold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عنصر نائب للمحتوى 3" descr="بريق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50"/>
                </a:solidFill>
                <a:latin typeface="Tahoma"/>
                <a:cs typeface="Tahoma"/>
              </a:rPr>
              <a:t>المجالات الرئيسية لبرنامج منتسور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Tahoma"/>
              </a:rPr>
              <a:t>المجال الأول : يركز على العناية بالذات (تلميع الأحذية – غسل الأيدي – تنظيف الملابس - ترتيب المظه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Tahoma"/>
              </a:rPr>
              <a:t>المجال الثاني : يركز على العناية بالبيئة (تلميع الأثاث – غسل الملابس وكيّها  – كنس الأرض ومسحها – إزالة التربة – ترتيب الأثاث وتنظيمه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  <a:cs typeface="Tahoma"/>
              </a:rPr>
              <a:t>المجال الثالث : يركز على تنمية القدرة على تحكم العضلي العصبي الحركي ( المشي – الجري – القفز – التسلق )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ahoma"/>
                <a:cs typeface="Tahoma"/>
              </a:rPr>
              <a:t>ركن</a:t>
            </a:r>
            <a:r>
              <a:rPr b="0" lang="ar-SA" sz="7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7200" spc="-1" strike="noStrike">
                <a:solidFill>
                  <a:srgbClr val="996633"/>
                </a:solidFill>
                <a:latin typeface="Tahoma"/>
                <a:cs typeface="Tahoma"/>
              </a:rPr>
              <a:t>المواد</a:t>
            </a:r>
            <a:r>
              <a:rPr b="0" lang="ar-SA" sz="7200" spc="-1" strike="noStrike">
                <a:solidFill>
                  <a:srgbClr val="e4288a"/>
                </a:solidFill>
                <a:latin typeface="Tahoma"/>
                <a:ea typeface="Tahoma"/>
              </a:rPr>
              <a:t> الحسية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1</a:t>
            </a: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- البرج البمبي اللو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صورة 3" descr="البرج البمبي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14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2</a:t>
            </a: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- السلم البني اللو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عنصر نائب للمحتوى 3" descr="السلم البني.jpg"/>
          <p:cNvPicPr/>
          <p:nvPr/>
        </p:nvPicPr>
        <p:blipFill>
          <a:blip r:embed="rId1"/>
          <a:stretch/>
        </p:blipFill>
        <p:spPr>
          <a:xfrm>
            <a:off x="2286000" y="1857240"/>
            <a:ext cx="47862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- عشر عصي ذات لون احم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عنصر نائب للمحتوى 3" descr="عشر عصي"/>
          <p:cNvPicPr/>
          <p:nvPr/>
        </p:nvPicPr>
        <p:blipFill>
          <a:blip r:embed="rId1"/>
          <a:stretch/>
        </p:blipFill>
        <p:spPr>
          <a:xfrm>
            <a:off x="357120" y="164304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78" name="صورة 4" descr="عصي.jpg"/>
          <p:cNvPicPr/>
          <p:nvPr/>
        </p:nvPicPr>
        <p:blipFill>
          <a:blip r:embed="rId2"/>
          <a:stretch/>
        </p:blipFill>
        <p:spPr>
          <a:xfrm>
            <a:off x="5500800" y="1785960"/>
            <a:ext cx="3143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4</a:t>
            </a: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- كتل اسطوانية خشبية مجوف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عنصر نائب للمحتوى 3" descr="اسطوانات مجوفة.jpg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357800"/>
          </a:xfrm>
          <a:prstGeom prst="rect">
            <a:avLst/>
          </a:prstGeom>
          <a:ln w="0">
            <a:noFill/>
          </a:ln>
        </p:spPr>
      </p:pic>
      <p:pic>
        <p:nvPicPr>
          <p:cNvPr id="81" name="صورة 6" descr="اقرااص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29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- برطمانات وأوعية للشم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IMG01629-20101126-141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6</a:t>
            </a: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- أقراص خشبية الباريوم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عنصر نائب للمحتوى 3" descr="باريمو.jpg"/>
          <p:cNvPicPr/>
          <p:nvPr/>
        </p:nvPicPr>
        <p:blipFill>
          <a:blip r:embed="rId1"/>
          <a:stretch/>
        </p:blipFill>
        <p:spPr>
          <a:xfrm>
            <a:off x="2214720" y="2214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حي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ت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ها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5717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ولدت في 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70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در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ست الطب وكانت أول امرأة تتخرج من كلية الطب ب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96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ملت في عيادة الطب النفسي بجامعة روما وكان اهتمامها الأساسي بالأطفال المرضى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Tahoma"/>
                <a:cs typeface="Tahoma"/>
              </a:rPr>
              <a:t>عينت بوظيفة أخرى بنفس الجامعة حيث تدرس مجموعة من الأطفال المتأخرين عقلياً بمدرسة خاصة كانت تشرف علي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7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أقراص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خشبية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ونه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ahoma"/>
              </a:rPr>
              <a:t>بألوان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 مختلفة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عنصر نائب للمحتوى 3" descr="اقراص.jpg"/>
          <p:cNvPicPr/>
          <p:nvPr/>
        </p:nvPicPr>
        <p:blipFill>
          <a:blip r:embed="rId1"/>
          <a:stretch/>
        </p:blipFill>
        <p:spPr>
          <a:xfrm>
            <a:off x="2571840" y="18572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8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ff0d0d"/>
                </a:solidFill>
                <a:latin typeface="Calibri"/>
                <a:ea typeface="Tahoma"/>
              </a:rPr>
              <a:t> الصناديق 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الصوت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عنصر نائب للمحتوى 3" descr="الصناديق.jpg"/>
          <p:cNvPicPr/>
          <p:nvPr/>
        </p:nvPicPr>
        <p:blipFill>
          <a:blip r:embed="rId1"/>
          <a:stretch/>
        </p:blipFill>
        <p:spPr>
          <a:xfrm>
            <a:off x="2286000" y="2071800"/>
            <a:ext cx="4643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9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118514"/>
                </a:solidFill>
                <a:latin typeface="Calibri"/>
                <a:cs typeface="Tahoma"/>
              </a:rPr>
              <a:t>الأجراس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f19b3d"/>
                </a:solidFill>
                <a:latin typeface="Calibri"/>
                <a:cs typeface="Tahoma"/>
              </a:rPr>
              <a:t>الموسيق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عنصر نائب للمحتوى 3" descr="الاجراس الصوتية.jpg"/>
          <p:cNvPicPr/>
          <p:nvPr/>
        </p:nvPicPr>
        <p:blipFill>
          <a:blip r:embed="rId1"/>
          <a:stretch/>
        </p:blipFill>
        <p:spPr>
          <a:xfrm>
            <a:off x="2714760" y="17859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10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 –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قطع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قماش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ذات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مس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مختل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IMG01627-20101126-1413"/>
          <p:cNvPicPr/>
          <p:nvPr/>
        </p:nvPicPr>
        <p:blipFill>
          <a:blip r:embed="rId1"/>
          <a:stretch/>
        </p:blipFill>
        <p:spPr>
          <a:xfrm>
            <a:off x="1258920" y="1844640"/>
            <a:ext cx="64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11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ترموس أو أبريق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حافظ لدرجة الحرار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يتكون من عدد من الأباريق الصغيرة المصنوعة م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عدن والممتلئة بماء ذي درجات حرارة مختلف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السخونة والبرودة ويطلب من الطفل المقارن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بين درجات حرارة الماء في الإبريق والماء الموضو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في الأكواب من الزجاج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أهم مواصفات وخصائص المواد الحسية المستخدمة في برنامج منتسور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تساعد الطفل على اكتشاف أخطائه وتصحيحه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تكسب الطفل خصائص محددة دون غيره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- تساعد الطفل على التفاعل النشط والإ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ملفته لنظر الطفل واهتما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19b3d"/>
                </a:solidFill>
                <a:latin typeface="Calibri"/>
                <a:cs typeface="Tahoma"/>
              </a:rPr>
              <a:t>ركن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المواد</a:t>
            </a:r>
            <a:r>
              <a:rPr b="0" lang="ar-SA" sz="48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800080"/>
                </a:solidFill>
                <a:latin typeface="Calibri"/>
                <a:cs typeface="Tahoma"/>
              </a:rPr>
              <a:t>الاكاديمية</a:t>
            </a:r>
            <a:r>
              <a:rPr b="0" lang="ar-SA" sz="4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br>
              <a:rPr sz="4800"/>
            </a:b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تعليم </a:t>
            </a:r>
            <a:r>
              <a:rPr b="0" lang="ar-SA" sz="4800" spc="-1" strike="noStrike">
                <a:solidFill>
                  <a:srgbClr val="996633"/>
                </a:solidFill>
                <a:latin typeface="Calibri"/>
                <a:cs typeface="Tahoma"/>
              </a:rPr>
              <a:t>القراءة 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والكتاب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واد اللاز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للتدريب على 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مهارات القراء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والكتابة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عنصر نائب للمحتوى 3" descr="الادوات الأكاديمية.jpg"/>
          <p:cNvPicPr/>
          <p:nvPr/>
        </p:nvPicPr>
        <p:blipFill>
          <a:blip r:embed="rId1"/>
          <a:stretch/>
        </p:blipFill>
        <p:spPr>
          <a:xfrm>
            <a:off x="1500120" y="2143080"/>
            <a:ext cx="6357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8920" y="1197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اشكال هندس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-حروف ابجدية متحرك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185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-حروف من الورق المصنف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بطاقات عاد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صورة 3" descr="حروف مصنفرة.jpg"/>
          <p:cNvPicPr/>
          <p:nvPr/>
        </p:nvPicPr>
        <p:blipFill>
          <a:blip r:embed="rId1"/>
          <a:stretch/>
        </p:blipFill>
        <p:spPr>
          <a:xfrm>
            <a:off x="1692360" y="321300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امثلة على المواد المستخدمة في الحساب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عدد من العص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cs typeface="Tahoma"/>
              </a:rPr>
              <a:t>اعداد من الورق المصنف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حبات خرز ذهبي الل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571680"/>
            <a:ext cx="8715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ينت مدام منتسوري مشرفة حديثة الخبرة للإشراف على تربية الأطفال غيّر المنتظمين في المدارس النهار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5959"/>
                </a:solidFill>
                <a:latin typeface="Tahoma"/>
                <a:ea typeface="Tahoma"/>
              </a:rPr>
              <a:t> أكدت منتسوري ع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- أهمية الخبرات الحس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- الابتعاد عن الحفظ الأص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- يجب التخطيط لبرامج تعليم أطفال ماقبل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- الاهتمام برغبات وميول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5</a:t>
            </a: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- أن ميل الأطفال إلى اللعب و نجاحهم وفشلهم فيه له اثر كبير في شخصية الطف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بعض 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  <a:cs typeface="Tahoma"/>
              </a:rPr>
              <a:t>الصور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عنصر نائب للمحتوى 3" descr="رياضيات.jpg"/>
          <p:cNvPicPr/>
          <p:nvPr/>
        </p:nvPicPr>
        <p:blipFill>
          <a:blip r:embed="rId1"/>
          <a:stretch/>
        </p:blipFill>
        <p:spPr>
          <a:xfrm>
            <a:off x="4714920" y="2468520"/>
            <a:ext cx="3500280" cy="2790720"/>
          </a:xfrm>
          <a:prstGeom prst="rect">
            <a:avLst/>
          </a:prstGeom>
          <a:ln w="0">
            <a:noFill/>
          </a:ln>
        </p:spPr>
      </p:pic>
      <p:pic>
        <p:nvPicPr>
          <p:cNvPr id="106" name="صورة 4" descr="اعداد مصنفرة.bmp"/>
          <p:cNvPicPr/>
          <p:nvPr/>
        </p:nvPicPr>
        <p:blipFill>
          <a:blip r:embed="rId2"/>
          <a:stretch/>
        </p:blipFill>
        <p:spPr>
          <a:xfrm>
            <a:off x="755640" y="2060640"/>
            <a:ext cx="31431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بعض</a:t>
            </a:r>
            <a:r>
              <a:rPr b="0" lang="ar-SA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ص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عنصر نائب للمحتوى 3" descr="الرياضيات.jpg"/>
          <p:cNvPicPr/>
          <p:nvPr/>
        </p:nvPicPr>
        <p:blipFill>
          <a:blip r:embed="rId1"/>
          <a:stretch/>
        </p:blipFill>
        <p:spPr>
          <a:xfrm>
            <a:off x="4714920" y="1600200"/>
            <a:ext cx="41432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4" descr="رياض يات.jpg"/>
          <p:cNvPicPr/>
          <p:nvPr/>
        </p:nvPicPr>
        <p:blipFill>
          <a:blip r:embed="rId2"/>
          <a:stretch/>
        </p:blipFill>
        <p:spPr>
          <a:xfrm>
            <a:off x="571680" y="1857240"/>
            <a:ext cx="35715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ff"/>
                </a:solidFill>
                <a:latin typeface="Calibri"/>
                <a:cs typeface="Tahoma"/>
              </a:rPr>
              <a:t>أهم 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cs typeface="Tahoma"/>
              </a:rPr>
              <a:t>سمات برنامج</a:t>
            </a:r>
            <a:r>
              <a:rPr b="0" lang="ar-SA" sz="4400" spc="-1" strike="noStrike">
                <a:solidFill>
                  <a:srgbClr val="0000ff"/>
                </a:solidFill>
                <a:latin typeface="Calibri"/>
                <a:ea typeface="Tahoma"/>
              </a:rPr>
              <a:t>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cs typeface="Tahoma"/>
              </a:rPr>
              <a:t>في مجال نمو الطف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1</a:t>
            </a: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- تحقيق النمو الشامل المتكا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2</a:t>
            </a: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-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- التنظ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4</a:t>
            </a: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- تقبل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- الاستمتاع بعملية التعل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6</a:t>
            </a: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- اكتشاف القدرات الذات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500040"/>
            <a:ext cx="8964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cs typeface="Tahoma"/>
              </a:rPr>
              <a:t>في مجال تنظيم الأطفال في البرنامج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- تنظيم غير متجانس (اعمار مختلفة في مجموعة واحدة)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- مجموعات صغير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- ملاحظة المشرفة للأطفال بكتابة التقاري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 ملاحظة جميع الأطفال في نفس الوقت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قاعة الفص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بيئة غنية بالمواد والأدوات التعليم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لكل طفل مساحة خاصة لاتقل عن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متر مربع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- مساحة مناسبة لكل طفل خارج الفص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أثاث خفيف وصغير وسهل التحري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- هناك قواعد تحكم بلعب الأطفال وتعامل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40428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في مجال محور اهتمام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سلوب التعلم الذات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ستثارة الدواف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تركيز على العمليات أكثر من النواتج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ركيز على التعاون أكثر من التناف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6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مثاب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7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شاط الذاتي التلقائ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8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علم من الأقر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9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مو الاجتماعي السل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10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حرية وتحمل المسؤو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نظام وأسلوب ادارة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تحمل المسؤول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عدم التحيز لجنس الطفل أو لون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إدارة من قبل مسؤول عاد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نظم وطرق تربوية خاص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قوانين منظ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8920" y="549000"/>
            <a:ext cx="8713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cs typeface="Tahoma"/>
              </a:rPr>
              <a:t>فيما يتعلق بمشرفة \ معلم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قل قدر من التفاعل اللفظي والتعليم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تمكن من الممارسة العملية والعرض الواضح للطف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ستثارة الطفل وحفزه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ملاحظة الدقيقة الهادف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5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عدم التدخل المباشر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  <a:cs typeface="Tahoma"/>
              </a:rPr>
              <a:t>انتــــهى</a:t>
            </a: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ماريا"/>
          <p:cNvPicPr/>
          <p:nvPr/>
        </p:nvPicPr>
        <p:blipFill>
          <a:blip r:embed="rId1"/>
          <a:stretch/>
        </p:blipFill>
        <p:spPr>
          <a:xfrm>
            <a:off x="3348000" y="981000"/>
            <a:ext cx="2514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f81bd"/>
                </a:solidFill>
                <a:latin typeface="Calibri"/>
                <a:cs typeface="Tahoma"/>
              </a:rPr>
              <a:t>تتكون الأدوات 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cs typeface="Tahoma"/>
              </a:rPr>
              <a:t>والألعاب الخاصة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cs typeface="Tahoma"/>
              </a:rPr>
              <a:t>ببرامج منتسوري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cs typeface="Tahoma"/>
              </a:rPr>
              <a:t>من أربع فئات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1859c"/>
                </a:solidFill>
                <a:latin typeface="Calibri"/>
                <a:cs typeface="Tahoma"/>
              </a:rPr>
              <a:t>الفئة الأولى : تهدف إلى تدريب الأطفال على معرفة الأشكال والأحجام والأوزان والألوان والملمس ... ال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604a7b"/>
                </a:solidFill>
                <a:latin typeface="Calibri"/>
                <a:cs typeface="Tahoma"/>
              </a:rPr>
              <a:t>الفئة الثانية : تهدف إلى تدريب الأطفال على مهارات الكتابة والتي تستخدم فيها أشكال مفرغ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  <a:cs typeface="Tahoma"/>
              </a:rPr>
              <a:t>الفئة الثالثة : تهدف إلى تدريب الأطفال على مهارات القراءة والتي تستخدم فيها الحروف الأبجدية المصنوعة من ورق مقوى ومصن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  <a:cs typeface="Tahoma"/>
              </a:rPr>
              <a:t>الفئة الرابعة : تهدف إلى تدريب الأطفال على المهارات اليدوية الحياتيه المختلفة ( ربط شريط – ربط حذاء وغير ذلك)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3"/>
          <p:cNvSpPr/>
          <p:nvPr/>
        </p:nvSpPr>
        <p:spPr>
          <a:xfrm>
            <a:off x="642960" y="642960"/>
            <a:ext cx="7929720" cy="15717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برامج منتسوري الموجهه لأطفال ماقبل المدرس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مستويات المتدرجة لبرامج منتسور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رسم تخطيطي 4" descr=""/>
          <p:cNvPicPr/>
          <p:nvPr/>
        </p:nvPicPr>
        <p:blipFill>
          <a:blip r:embed="rId1"/>
          <a:stretch/>
        </p:blipFill>
        <p:spPr>
          <a:xfrm>
            <a:off x="476280" y="2322360"/>
            <a:ext cx="807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18514"/>
                </a:solidFill>
                <a:latin typeface="Tahoma"/>
                <a:cs typeface="Tahoma"/>
              </a:rPr>
              <a:t>الأركان الثلاثة في </a:t>
            </a:r>
            <a:r>
              <a:rPr b="0" lang="ar-SA" sz="3600" spc="-1" strike="noStrike">
                <a:solidFill>
                  <a:srgbClr val="604a7b"/>
                </a:solidFill>
                <a:latin typeface="Tahoma"/>
                <a:cs typeface="Tahoma"/>
              </a:rPr>
              <a:t>قاعة الصف </a:t>
            </a:r>
            <a:r>
              <a:rPr b="0" lang="ar-SA" sz="3600" spc="-1" strike="noStrike">
                <a:solidFill>
                  <a:srgbClr val="558ed5"/>
                </a:solidFill>
                <a:latin typeface="Tahoma"/>
                <a:cs typeface="Tahoma"/>
              </a:rPr>
              <a:t>عند منتسور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100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مناشط </a:t>
            </a:r>
            <a:r>
              <a:rPr b="0" lang="ar-SA" sz="4800" spc="-1" strike="noStrike">
                <a:solidFill>
                  <a:srgbClr val="0e6d09"/>
                </a:solidFill>
                <a:latin typeface="Calibri"/>
                <a:cs typeface="Tahoma"/>
              </a:rPr>
              <a:t>أركان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قاعات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منتسوري</a:t>
            </a:r>
            <a:r>
              <a:rPr b="0" lang="ar-SA" sz="6600" spc="-1" strike="noStrike">
                <a:solidFill>
                  <a:srgbClr val="e4288a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7030a0"/>
                </a:solidFill>
                <a:latin typeface="Tahoma"/>
                <a:cs typeface="Tahoma"/>
              </a:rPr>
              <a:t>ركن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f0"/>
                </a:solidFill>
                <a:latin typeface="Tahoma"/>
                <a:cs typeface="Tahoma"/>
              </a:rPr>
              <a:t>الحيا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50"/>
                </a:solidFill>
                <a:latin typeface="Tahoma"/>
                <a:cs typeface="Tahoma"/>
              </a:rPr>
              <a:t>العملي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Tahoma"/>
                <a:cs typeface="Tahoma"/>
              </a:rPr>
              <a:t>الأول : أنشطة الرعاية الشخص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الثاني : أنشطة رعاية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ثالث : أنشطة الرعاية الاجتما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رابع : أنشطة حركية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e6d09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عنصر نائب للمحتوى 3" descr="نشاط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9:59:42Z</dcterms:created>
  <dc:creator>ام يزيد</dc:creator>
  <dc:description/>
  <dc:language>en-US</dc:language>
  <cp:lastModifiedBy>DELL</cp:lastModifiedBy>
  <dcterms:modified xsi:type="dcterms:W3CDTF">2011-12-11T17:31:45Z</dcterms:modified>
  <cp:revision>47</cp:revision>
  <dc:subject/>
  <dc:title>برنامج ماريا منتسوري</dc:title>
</cp:coreProperties>
</file>