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682-EE43-472F-BBF7-AA0F3E82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579-4389-4B72-9B03-B3402CAF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E83-7BAD-4CC1-9595-72E1D136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421-B130-4A64-92F8-18A4F9FB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1630-18F6-4AF4-BADF-970F58D6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A2E0-03E9-4638-8EC4-9BA3BA30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205D-D128-4DAD-8713-5E242D01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6E68-7E81-43B4-A4FF-AF7D4B9C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F54B-68FC-4446-A298-8C568F6D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388C-786F-42EB-9F8A-C15654A8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5E74-F7F0-446D-A1FF-8D06F9C2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CD7-F18C-41A1-BB82-60A7609B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DA69-1F87-4062-9426-0F29C3D3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7CB7-80FD-4598-A6E4-BE70A98E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0B07-5BA6-4D85-B68E-5C148A26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CFB8-F5A5-4786-8B96-8B0F7E92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5374-66EB-4AEC-959E-CEB3FFA5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EDE8-8C0D-4BBC-860A-4111853E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D73AB-6464-437E-BC64-BDF4E781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9035-D4FA-4EBE-A4B7-B39F0447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99AC-4C63-490D-A367-D70B05A3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B656-7B86-4A27-90E4-9758AABE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E96-4E79-46E0-A7B9-268D2C6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1D62-BD42-4727-968C-3915101E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2B354-5E86-4E6F-A9EF-B288084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968C-C931-4184-A414-9BAF1B61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A16C-7E72-4BA7-A7E3-104AC29A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91423-577A-47F0-BE7C-C2FFF499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D8C1-D49B-4EF2-A7AF-120C98C7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2724-1EF6-4D79-8F9E-5CB983C7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4B37-B6CB-4FBF-92D1-597A02A7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90FE6-6302-43B4-B9BC-2EB42F64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027B-8395-46CF-B28E-BDF7C1D1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9CE-83C4-4992-9AB1-5D108727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28592-7B70-4B8F-85B2-88454198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668C1-428B-4C8B-BFEF-DFD97818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CC3C-6AB6-4D91-8A37-952140FE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93656-3947-49F1-A265-1C43F33D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62C56-0C82-4528-A0E2-890BEA89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8CE7-10CE-406F-8B06-EC06539E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5866E-E0DF-4D9E-885B-FF91DC34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14919-D8A3-42D3-AAF2-BBA8464B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E720C-685B-4424-AE51-B517DA25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3324-30B0-43E6-BDEA-2C20BF92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1B6-010D-4F48-BD21-E2719187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CF42D-69F6-4F92-AC07-EB0A6697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EEA28-C0DD-44AA-A89E-B61FEE4C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21F4-BE41-47DD-81AF-51D54A37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19E0-4FA2-40AB-A733-5DF6B7E1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59778-0BB0-4637-80A7-D16830B5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8BB64-2C1F-44B8-8822-036464D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C7AC9-43E2-4869-9509-C24051C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54435-2FD0-44AC-9497-2B8DB5D9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F050F-604C-4065-ABD2-9EC85EC8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B40B1-F444-4004-A1F4-14F73ABA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FD6-BCF3-4117-817B-73F03789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B5B7-9161-4344-8A83-F2C76138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8FFA5-4C61-443E-8290-80D19238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D3535-BC34-45C3-9CD1-D77DC173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E36C0-63C8-4C18-9F98-BA964549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C17E5-C6F9-46D6-BFC0-C82210C0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D0A48-B777-49C4-9E7E-19C479D8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50F68-676B-4436-A3B2-F26EB960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FE986-72DB-4C38-99C6-4C4FB221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6EB9E-9327-4370-8B48-7EF0D03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7CAFD-AA78-4F13-8345-8DBBD137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454-C6AB-4A6A-B144-0259E01C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A6285-CB16-4F25-9957-69C5EE74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875D8-E97C-47CA-8A6A-5C76D6E9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15FDA-2DE4-4DE2-9DDC-B080E842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61D03-D7C9-464B-B88C-F6EF06B7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21DBA-5348-4382-961F-2B51B505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C6207-DC40-4247-AEC5-7B40D902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6EEE2-FF99-4FC1-8EBB-BE768E7B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3FEAF-EDAC-499B-B4AA-B45D6AE0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43AF4-D192-421B-8BBE-470F0B7B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8CAC6-143A-483A-A75B-8B680CC8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C67-078D-4989-91EC-F2D79A16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B938E-5D29-4C2D-8F6F-F0A16D0B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3B476-BC73-47B4-8A11-965450A4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F6036-8E2D-444E-964F-C5D62445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635EC-A005-43ED-BB1C-262E09C4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65908-1C47-48EC-99B7-EEEBB478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98D-296D-478F-9C87-2C2802C0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7EC6-87C2-4673-AFF3-8B98E958932D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D708-7160-4491-975B-5ED28F9E134D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85FE-891B-482D-AABD-7C1AFBBBA0FC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9D51-9BE8-4707-8451-21998BCAA635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C062-29CE-4B5D-BDE1-F55972CBA844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AD02-7B1A-40FF-9612-848CFFBB73FC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116E-31F5-4492-9AA3-540825DE89DD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572314"/>
                </a:solidFill>
                <a:latin typeface="Gill Sans MT"/>
              </a:rPr>
              <a:t>جون ديوي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85840" y="571320"/>
            <a:ext cx="8400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رتبط اسمه بالحركة التقدمي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حركة التقدمية هي وليدة الفلسفة البراجماتية أو النفعي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مقياس الحق ( هو التجربة النافعة لأكبر عدد ممكن من الناس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عمل والممنفعة هما مقياس الحكم الوحيد بشرط ان يكون هذا النفع مستمراً أطول مدة ممكنة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ظهرت في بداية القرن العشرين في امريكا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سمى أيضا التربية العلمية – التربية العملية – مدرسة النشاط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13840" y="571320"/>
            <a:ext cx="8643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قوم على الاعتقاد بمايلي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أ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عالم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في حالة تغير وتطور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ا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أنسان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كائن بيولوجي واجتماعي معقد يحافظ على بقائه بأستخدام ذكائه لتحقيق التكيف مع البيئ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تربية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هي العملية التي ينمي بها الأنسان ذكائه الفردي والأجتماعي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تتميز الحركة التقدمية بما يلي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تهتم بالطفل من جميع النواحي (جسمياً – عقلياً – خلقياً – اجتماعياً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عليم يكون من خلال العمل (مدرسة النشاط) (منهج الخبرة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لاتستخدم التلقين في طريقة التدريس وانما اثارة ميول التلاميذ واهتماماتهم ومراعاة الفروق الفردية بينه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نظامها ديمقراطي حيث يشارك التلاميذ في ادارة المدرسة وتقل سلطة المعل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ربية الخلقية يجب ان تعمل على تنمية الوعي الاجتماعي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572314"/>
                </a:solidFill>
                <a:latin typeface="Gill Sans MT"/>
              </a:rPr>
              <a:t>اوجه الاختلاف بين التربية التقليدية والتربية التقدمية :</a:t>
            </a:r>
            <a:endParaRPr b="0" lang="en-US" sz="4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81000"/>
          </a:bodyPr>
          <a:p>
            <a:pPr marL="51120" indent="0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Gill Sans MT"/>
              </a:rPr>
              <a:t>التقدم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81000"/>
          </a:bodyPr>
          <a:p>
            <a:pPr marL="51120" indent="0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Gill Sans MT"/>
              </a:rPr>
              <a:t>التقليد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4000"/>
          </a:bodyPr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هتم بميول الطفل واحتياجات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ؤكد خبرات الطفل المتصلة بحياته اليومي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طفل يختار مواد المنهج واساليب العمل والتنفيذ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علاقة تعاونية بين المعلم والتلاميذ وتتسم بالديمقراطية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قوم على الانقياد والطاعة والتلقي من جانب الطفل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لايسمح له بالقيام بالخبرات النافعة التي تتصل بحياته اليومي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منهج اعده الراشدون ويتلقاه الاطفال ويحفظونه دون سؤال او اعتراض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انظمة المدرسية صارمة والمعلم مسيطر تمام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معايير فحص الخبرات واختيار الصالح منها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- معيار الاستمرارية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بمعنى ان الخبرة تؤدي الى خبرات اخرى ( خبرة مربية) تنمي المعرفة والسلوك والمهارات 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- معيار التفاعل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أي بين مايقدم للطفل من خبرات وبين مايحتاجه ويرغب فيه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ــــــــــــــــــــــــــــــــــــــــــــــــــــــــــــــــــــــــــــــــــــــــ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الخبرات المربية  الصالحة التي تخضع لمعياري الاستمرارية والتفاعل = الشخصية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نقاط الضعف في التربية التقدمية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عليم عن طريق العمل ليست الطريق المناسب لتغطية كل ابعاد المعرفة وان طريقة حل المشكلات تستخدم بعد ان يكون المتعلم قد اكتسب خلفية كافية في المادة الدراسي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منهج يتحدد حسب المنفعة الفردية للطفل وهذا يحرمه من التعرف على التراث الانساني المتراك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حرية مطلقة تماما وهذا شئ يجب الا يكون ويجب ان تظل السلطة بيد المعلم وتتقيد بسن التلاميذ ومدى نضجه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هم المبادئ التي قدمتها التربية التقدمية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تحديد الغرض من الدرس وجعله واضحا امام التلامي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لاهتمام بميول الاطفال حتى يشعروا بقيمة هذه المواد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عدم الانقياد الاعمى وتقبل أي قاعدة دون فهمها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عقل تابع للاراد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9:13:48Z</dcterms:created>
  <dc:creator>ام يزيد</dc:creator>
  <dc:description/>
  <dc:language>en-US</dc:language>
  <cp:lastModifiedBy>DELL</cp:lastModifiedBy>
  <dcterms:modified xsi:type="dcterms:W3CDTF">2011-12-11T17:33:04Z</dcterms:modified>
  <cp:revision>18</cp:revision>
  <dc:subject/>
  <dc:title>جون ديوي</dc:title>
</cp:coreProperties>
</file>