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11A-08DA-4213-ABFD-33FB478A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FE5-8BE5-48CB-BB9F-423E33F4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D9B-939F-4698-B7F0-564FF3E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778-A68A-4D29-82D9-2F8B1421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2FF7-A1B4-49EA-9E74-740272C7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3950-6852-46D7-914A-8D0DDCD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C0C7-B91E-4A9F-8534-46BE4BF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8D8B-DF27-4E2D-BAF9-E5962DBC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D74-1EB0-4CEA-B88F-F88B8F3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7B28-BAA4-478B-BDDC-F5908583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E89E-3351-49D0-8D54-D6E5DAD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20E-5373-44AF-A1CA-E7A662C1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D593-0466-4CAC-A944-36B6866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0E56-6D1C-4180-8C29-0B1C18E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2E0F-0B05-4A22-8D61-9343BD18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755-CA1C-43AA-9278-9A8D431F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A708-BC8C-4804-B658-2EB3EAE7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4982-9FAF-4469-A219-6B5F376D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64E3-4EB4-4810-9E96-A551D82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2B19-FD70-4F0F-9764-C8F1D77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4A6C-2CCC-4282-8BBE-47076FA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A9A5-7880-44FB-90F4-661E8B8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F95-341E-4429-9839-F64A1F7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7990-DF59-4FD0-940E-4B813CD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034A5-045C-4DF6-B910-E362176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FEA6-171D-457A-A65B-B2E6C031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F818-937C-4770-A2A6-B42D4C0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0DBC-B705-440F-AD08-75CEDD0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37F2-E702-4BC7-9F63-6EB06D31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0AFA-8D8D-4C33-A9C5-06D193BB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C26F-CDBF-4AFC-88FB-364EDC6A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A47C5-920F-4793-AA1F-2178FC6F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31BE-BD00-4FA7-A264-41130D89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0C1-10A0-4163-A6FB-3E70B6F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8A833-E2AC-4D63-86EB-5871E720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1EB9-F632-4EA5-B2BA-EF2E339E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9909-B264-46C1-B219-6050A3CA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3D878-747D-426B-87AA-4A1D6EC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14CA-688D-4442-9E21-E5907E9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46BE-C29E-4A43-9161-FD793DB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5576-A1E6-46C8-8E4B-07BC6179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626C-3CD0-4062-853B-C13BA899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ADBF-1C38-4E09-B5A5-71E162B7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E553A-FA7A-425D-A23E-890C72E5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98A-F52B-479A-B298-002DE8DC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20A79-13E5-4CC8-8B19-6991F780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9305-FDDC-42BF-94EB-FA4957F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2B5D-E2C9-4F1B-8816-26909B52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CD21-1D2C-4A6A-A339-0C9CAB8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2EA8-049E-4771-A0F4-1CC7468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B3F0-E2F4-4B14-9320-B215C4C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2B9F4-052E-4887-9FF8-4A19CE0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28CE0-D9E5-4FA6-98FD-A49E7A3B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997E-C5E7-498D-84FC-853F9DA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C5CB-318B-4841-8C27-78CC45D1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126-E69D-4CE3-A02F-249B0097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2DD2-71DA-45E5-BD4E-EA3359C4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069F-D2DA-4661-95C6-E4BE70C5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28AC3-29D3-4E2D-A4AC-DC1226E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CE3E-ECFB-4562-8B2E-2DD9DC08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9442B-1586-4AEC-80E0-DF481AEF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5CEAD-174C-47F6-B4C3-C3BE9155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D7EEB-AEEF-47B7-A01E-9E832D0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75F4-B79F-4CCB-985B-99A3498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7166-AB2D-466D-94FD-C80B5ED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700FC-432D-4AF8-8006-E84F10D9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D16-3F9E-4EDE-AC3F-345050D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3937B-5894-45E2-8F6E-27B82741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3320-786C-43EC-9A20-1879B60F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B231-0489-486E-B5A2-4D97FD7B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5A8C5-BCB2-4E43-97C7-9830AC0B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303D7-168C-4FA5-A4A3-275A965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48A9D-50C3-4A6A-B1D4-8C82B693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A8191-7CCF-4FD8-B1B6-97C5787C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6B5C-8733-4AA6-B600-8C3686DA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E1E45-10F3-4CEF-8AE5-726F4BF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E8505-943C-4409-A794-041A498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EE4-2A39-4439-BB88-706AFEA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0CA5A-62F0-47DB-A4B8-F9FE828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8CCBC-27E4-41B2-960D-3CCC6E5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C1CA-50EB-4B0D-82AF-FB954B69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7EB1-D16E-4EB9-A20F-44951372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83138-000B-4246-A0F4-FAE34DC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782-BB3B-4817-BF60-561F4A1D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9043-6368-4B7D-B9A3-7C906F416579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F65B-10E9-432A-B8CC-823DABF36624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AB71-2DD5-4926-B167-66ABFD86CFF7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F07A-790C-4483-B901-CDDFCA1BF814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4E9-6B61-44E2-9EDA-444C5B916B3D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D02B-7DD3-43CD-8ED6-04614A9F66C4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2FF2-BA71-484F-96B4-6CC16F0E21AA}" type="slidenum">
              <a:rPr b="0" lang="ar-SA" sz="1200" spc="-1" strike="noStrike">
                <a:solidFill>
                  <a:srgbClr val="b5a788"/>
                </a:solidFill>
                <a:latin typeface="Gill Sans MT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572314"/>
                </a:solidFill>
                <a:latin typeface="Gill Sans MT"/>
              </a:rPr>
              <a:t>جون ديوي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رتبط اسمه بالحركة التقدمي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حركة التقدمية هي وليدة الفلسفة البراجماتية أو النفعي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قياس الحق ( هو التجربة النافعة لأكبر عدد ممكن من الناس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عمل والممنفعة هما مقياس الحكم الوحيد بشرط ان يكون هذا النفع مستمراً أطول مدة ممكنة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ظهرت في بداية القرن العشرين في امريكا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سمى أيضا التربية العلمية – التربية العملية – مدرسة النشاط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1384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قوم على الاعتقاد بمايل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أ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عالم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في حالة تغير وتطور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أنسان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كائن بيولوجي واجتماعي معقد يحافظ على بقائه بأستخدام ذكائه لتحقيق التكيف مع البيئ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تربي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هي العملية التي ينمي بها الأنسان ذكائه الفردي والأجتماعي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تتميز الحركة التقدمية بما يلي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هتم بالطفل من جميع النواحي (جسمياً – عقلياً – خلقياً – اجتماعيا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يكون من خلال العمل (مدرسة النشاط) (منهج الخبرة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لاتستخدم التلقين في طريقة التدريس وانما اثارة ميول التلاميذ واهتماماتهم ومراعاة الفروق الفردية بينه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نظامها ديمقراطي حيث يشارك التلاميذ في ادارة المدرسة وتقل سلطة المعل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ربية الخلقية يجب ان تعمل على تنمية الوعي الاجتماع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572314"/>
                </a:solidFill>
                <a:latin typeface="Gill Sans MT"/>
              </a:rPr>
              <a:t>اوجه الاختلاف بين التربية التقليدية والتربية التقدمية :</a:t>
            </a:r>
            <a:endParaRPr b="0" lang="en-US" sz="4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دم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ليد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4000"/>
          </a:bodyPr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هتم بميول الطفل واحتياجات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ؤكد خبرات الطفل المتصلة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طفل يختار مواد المنهج واساليب العمل والتنفي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علاقة تعاونية بين المعلم والتلاميذ وتتسم بالديمقراطي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قوم على الانقياد والطاعة والتلقي من جانب الطفل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لايسمح له بالقيام بالخبرات النافعة التي تتصل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منهج اعده الراشدون ويتلقاه الاطفال ويحفظونه دون سؤال او اعتراض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انظمة المدرسية صارمة والمعلم مسيطر تمام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معايير فحص الخبرات واختيار الصالح منها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استمرارية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بمعنى ان الخبرة تؤدي الى خبرات اخرى ( خبرة مربية) تنمي المعرفة والسلوك والمهارات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تفاعل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أي بين مايقدم للطفل من خبرات وبين مايحتاجه ويرغب فيه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ــــــــــــــــــــــــــــــــــــــــــــــــــــــــــــــــــــــــــــــــــــــــ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الخبرات المربية  الصالحة التي تخضع لمعياري الاستمرارية والتفاعل = الشخصية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نقاط الضعف في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عن طريق العمل ليست الطريق المناسب لتغطية كل ابعاد المعرفة وان طريقة حل المشكلات تستخدم بعد ان يكون المتعلم قد اكتسب خلفية كافية في المادة الدراس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منهج يتحدد حسب المنفعة الفردية للطفل وهذا يحرمه من التعرف على التراث الانساني المتراك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حرية مطلقة تماما وهذا شئ يجب الا يكون ويجب ان تظل السلطة بيد المعلم وتتقيد بسن التلاميذ ومدى نضجه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هم المبادئ التي قدمتها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حديد الغرض من الدرس وجعله واضحا امام التلامي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اهتمام بميول الاطفال حتى يشعروا بقيمة هذه الموا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عدم الانقياد الاعمى وتقبل أي قاعدة دون فهمها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عقل تابع للاراد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9:13:48Z</dcterms:created>
  <dc:creator>ام يزيد</dc:creator>
  <dc:description/>
  <dc:language>en-US</dc:language>
  <cp:lastModifiedBy>DELL</cp:lastModifiedBy>
  <dcterms:modified xsi:type="dcterms:W3CDTF">2011-12-11T17:33:04Z</dcterms:modified>
  <cp:revision>18</cp:revision>
  <dc:subject/>
  <dc:title>جون ديوي</dc:title>
</cp:coreProperties>
</file>