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8A9-F7C1-4224-B52E-865DE4DE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CB3-67B0-4004-A121-83636496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DA4-F98B-4D37-BFB6-159C78C6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9C5-6206-4530-95BE-D00F09A5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99F-2F62-4398-817A-99607B01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479-8357-4C45-9914-D1323722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D9F-C02F-4B69-8653-CB16FD6F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533-0A27-44CD-BFC4-73077DCA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E97-FD57-40DB-8301-98C73423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362-B91F-41B0-A5B0-B71AA92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6C0-4BDD-4300-B2B6-0825BDE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AB2-333D-4110-9549-659B9268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BFB-7FBC-4D4A-B391-C86E722B09E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تجربة ريجيو اميلي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f7f7f"/>
                </a:solidFill>
                <a:latin typeface="Tahoma"/>
                <a:cs typeface="Tahoma"/>
              </a:rPr>
              <a:t>الأطفال كباحثين صغار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87640" y="259920"/>
            <a:ext cx="590544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تشجيع التعبير بلغات مختلف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يرون بان الأطفال لهم قدرة على التعبير بلغات مختلفة كاللغة والفنون بأنواعها واللعب التمثيلي وغير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لذلك يجب أن تؤمن البيئة التربوية وسائل ومواد متنوعة في غرفة الصف ، في المشغل العام في المدرسة ، في المشاغل المصغرة في الصفوف نفس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* تشجيع البحث والاستكشاف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بتجهيز الوسائل السمعية البصرية والكتب المتنوعة من موسوعات ومجلات وكتب وأجهزة كومبيوت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files.myopera.com/LinaFatafta/albums/5291522/reading-child.png"/>
          <p:cNvPicPr/>
          <p:nvPr/>
        </p:nvPicPr>
        <p:blipFill>
          <a:blip r:embed="rId1"/>
          <a:stretch/>
        </p:blipFill>
        <p:spPr>
          <a:xfrm>
            <a:off x="179280" y="1413000"/>
            <a:ext cx="2978280" cy="5149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55640" y="18864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تعبير عن البيئة والثقافة الايطال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تتميز هذه المدارس بالبيئة الهندسية والنباتات والتماثيل المعبرة عن البيئة الفنية الايطال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* اعتبار المحيط امتداد لغرفة الصف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نفتحة عمليا على كل ما يوجد في البيئة المحيطة بها من حدائق وأسواق ومعالم مختل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درس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امتداد لغرفة الصف       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دين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بكل ما فيها من حدائق وأسواق ومعالم هي امتداد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لمدرس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شاريع التي يقوم بها الأطفال عبارة عن أبحاث صغيرة مختارة من البيئة من المد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سهم إلى اليمين 3"/>
          <p:cNvSpPr/>
          <p:nvPr/>
        </p:nvSpPr>
        <p:spPr>
          <a:xfrm rot="10800000">
            <a:off x="4066920" y="3573000"/>
            <a:ext cx="928440" cy="5000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i471.photobucket.com/albums/rr71/Happygirl755/red-rose-and-pearl.jpg"/>
          <p:cNvPicPr/>
          <p:nvPr/>
        </p:nvPicPr>
        <p:blipFill>
          <a:blip r:embed="rId1"/>
          <a:stretch/>
        </p:blipFill>
        <p:spPr>
          <a:xfrm>
            <a:off x="0" y="5229360"/>
            <a:ext cx="3348000" cy="162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04a7b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604a7b"/>
                </a:solidFill>
                <a:latin typeface="Calibri"/>
              </a:rPr>
              <a:t>- طريقة المشرو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604a7b"/>
                </a:solidFill>
                <a:latin typeface="Calibri"/>
              </a:rPr>
              <a:t>الهدف : هو مساعدة الأطفال على استكشاف بيئتهم والتعرف عليها من خلال مشروع بشكل موضوع يختاره الأطفال أو المربين أو معا صغيرا أو كبيرا يقومون بالبحث و بجمع معلومات من مصادر مختلفة ثم ينظموها ثم يعبرون عنها بلغات مختلفة بمساعدة المعلمين والمربون بعد مناقشة التربويون والتفكير والتخطيط لطرق توسع وتطور الموضوع ، </a:t>
            </a:r>
            <a:r>
              <a:rPr b="0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التشجيع والتوثيق </a:t>
            </a:r>
            <a:r>
              <a:rPr b="1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والمناقشة </a:t>
            </a:r>
            <a:r>
              <a:rPr b="1" lang="ar-SA" sz="3000" spc="-1" strike="noStrike">
                <a:solidFill>
                  <a:srgbClr val="604a7b"/>
                </a:solidFill>
                <a:latin typeface="Calibri"/>
              </a:rPr>
              <a:t>.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بالختام</a:t>
            </a:r>
            <a:r>
              <a:rPr b="1" lang="ar-SA" sz="30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ar-SA" sz="3000" spc="-1" strike="noStrike">
                <a:solidFill>
                  <a:srgbClr val="604a7b"/>
                </a:solidFill>
                <a:latin typeface="Calibri"/>
              </a:rPr>
              <a:t>: تنظم المدرسة نشاطا اختتاميا بحضور أهالي المدين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560" y="0"/>
            <a:ext cx="8497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Calibri"/>
              </a:rPr>
              <a:t>التوثيق </a:t>
            </a: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  الكاميرات الفيديو والتصوير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 آلات التسج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 إنتاج الأطفال أنفسهم ، تحفظ في المشغل وتعلق على جدران المدرس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Calibri"/>
              </a:rPr>
              <a:t>مادة التوثيق </a:t>
            </a: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كافة نشاطات الأطفال ، المشاريع ،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تحضير 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عمليات التواصل بين الأطفال وبينهم وبين المعلمين لبناء المعرف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إنتاجات ، توثيق الحوارات ، الإحتفالات ، الإجابات .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7933c"/>
                </a:solidFill>
                <a:uFillTx/>
                <a:latin typeface="Calibri"/>
              </a:rPr>
              <a:t>استخدام التوثيق 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تعزيز التعلم والارتقاء به .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لمناقشة واستيعاب مافهم ومالم يف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ترسيخ فكرة أو تطويرها . 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التفكير بالمنتج وليس ما توصل له .  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متابعة تطور الأطفال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تشكل مادة بحثية لتطوير المفاهيم وإفادة غير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800"/>
            </a:b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800"/>
            </a:b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pastrychef.com/assets/images/large/lucks_decon_teardrop_heart_collection_large.jpg"/>
          <p:cNvPicPr/>
          <p:nvPr/>
        </p:nvPicPr>
        <p:blipFill>
          <a:blip r:embed="rId1"/>
          <a:stretch/>
        </p:blipFill>
        <p:spPr>
          <a:xfrm>
            <a:off x="0" y="3524400"/>
            <a:ext cx="2771640" cy="3333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979280" y="620280"/>
            <a:ext cx="670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5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- تنظيم عمل الأطفال كمجموعات صغيرة :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تم تنظيم عم الأطفال من خلال مجموعات صغيرة لا تتعدى الأربعة أو الخمسة أطفال ليربط بينهم الحوار وتبادل الآراء والتواصل والتنظيم الذاتي والتأقلم مع الآخرين بسهول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حيث أن الأطفال يتعلمون من خلال عنصر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# علاقتهم بالآخ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# خبراتهم الحس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4photos.net/photo/www_4photos_net_1142937017.jpg"/>
          <p:cNvPicPr/>
          <p:nvPr/>
        </p:nvPicPr>
        <p:blipFill>
          <a:blip r:embed="rId1"/>
          <a:stretch/>
        </p:blipFill>
        <p:spPr>
          <a:xfrm>
            <a:off x="0" y="0"/>
            <a:ext cx="1989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Arial"/>
                <a:ea typeface="Arial"/>
              </a:rPr>
              <a:t>6</a:t>
            </a:r>
            <a:r>
              <a:rPr b="0" lang="ar-SA" sz="4400" spc="-1" strike="noStrike">
                <a:solidFill>
                  <a:srgbClr val="7030a0"/>
                </a:solidFill>
                <a:latin typeface="Arial"/>
                <a:ea typeface="Arial"/>
              </a:rPr>
              <a:t>- الإدارة المجتم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البلدية بإشراف وزارة الترب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نسقون تربويو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جلس استشار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سئولي المشغ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أهالي الأطفا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يتم بينهم مشاركة فعالة على مدا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اجتماعات مختلفة فردية وجماع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cpsimages.imamu.edu.sa/ar/imagelibrary/%D8%A8%D8%A7%D9%82%D8%A9%20%D9%88%D8%B1%D8%AF%20%D8%A8%D9%86%D9%81%D8%B3%D8%AC%D9%8A%D8%A9%20%D9%85%D8%B9%20%D8%B2%D9%87%D8%B1.jpg?title=%D8%A8%D8%A7%D9%82%D8%A9%20%D9%88%D8%B1%D8%AF%20%D8%A8%D9%86%D9%81%D8%B3%D8%AC%D9%8A%D8%A9"/>
          <p:cNvPicPr/>
          <p:nvPr/>
        </p:nvPicPr>
        <p:blipFill>
          <a:blip r:embed="rId1"/>
          <a:stretch/>
        </p:blipFill>
        <p:spPr>
          <a:xfrm>
            <a:off x="0" y="2421000"/>
            <a:ext cx="3024360" cy="421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a452a"/>
                </a:solidFill>
                <a:latin typeface="Tahoma"/>
                <a:cs typeface="Tahoma"/>
              </a:rPr>
              <a:t>نبذة عام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28556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هي تجربة نوعية مميزة في رياض الأطفال ظهرت ف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بلدة ريجيو أمليا في شمال ايطالي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c000"/>
                </a:solidFill>
                <a:latin typeface="Tahoma"/>
                <a:cs typeface="Tahoma"/>
              </a:rPr>
              <a:t>تعتبر أفضل تجربة رياض الأطفال في العالم(مجلة نيوز ويك الأمريكية – </a:t>
            </a:r>
            <a:r>
              <a:rPr b="0" lang="ar-SA" sz="3000" spc="-1" strike="noStrike">
                <a:solidFill>
                  <a:srgbClr val="ffc000"/>
                </a:solidFill>
                <a:latin typeface="Tahoma"/>
                <a:ea typeface="Tahoma"/>
              </a:rPr>
              <a:t>1993</a:t>
            </a:r>
            <a:r>
              <a:rPr b="0" lang="ar-SA" sz="3000" spc="-1" strike="noStrike">
                <a:solidFill>
                  <a:srgbClr val="ffc000"/>
                </a:solidFill>
                <a:latin typeface="Tahoma"/>
                <a:ea typeface="Tahoma"/>
              </a:rPr>
              <a:t>)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Tahoma"/>
                <a:cs typeface="Tahoma"/>
              </a:rPr>
              <a:t>تتميز بتطبيقها المتكامل لعدد من النظريات التربو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Tahoma"/>
                <a:cs typeface="Tahoma"/>
              </a:rPr>
              <a:t>الحديث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7375e"/>
                </a:solidFill>
                <a:latin typeface="Tahoma"/>
                <a:cs typeface="Tahoma"/>
              </a:rPr>
              <a:t>تتمحور بشكل خاص حول نظرية فايجو تسكي البنائ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7375e"/>
                </a:solidFill>
                <a:latin typeface="Tahoma"/>
                <a:cs typeface="Tahoma"/>
              </a:rPr>
              <a:t>الاجتماعية 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صورة 3" descr="وردة حمراء.jpg"/>
          <p:cNvPicPr/>
          <p:nvPr/>
        </p:nvPicPr>
        <p:blipFill>
          <a:blip r:embed="rId1"/>
          <a:stretch/>
        </p:blipFill>
        <p:spPr>
          <a:xfrm>
            <a:off x="0" y="4714920"/>
            <a:ext cx="414324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13840" y="64260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60e92"/>
                </a:solidFill>
                <a:latin typeface="Tahoma"/>
                <a:cs typeface="Tahoma"/>
              </a:rPr>
              <a:t>ماهي رياض الأطفال في ريجيو اميلي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c000"/>
                </a:solidFill>
                <a:latin typeface="Tahoma"/>
                <a:cs typeface="Tahoma"/>
              </a:rPr>
              <a:t>هي مجموعة مدارس للأطفال تديرها بلدية المد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Tahoma"/>
                <a:cs typeface="Tahoma"/>
              </a:rPr>
              <a:t>مستفيدة من قوة الدفع التي توفرها عائلات متحفز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60e92"/>
                </a:solidFill>
                <a:latin typeface="Tahoma"/>
                <a:cs typeface="Tahoma"/>
              </a:rPr>
              <a:t>لتوفير تربية متقدمة لأطفالهم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من هو مؤسس تجربة ريجيو اميلي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7030a0"/>
                </a:solidFill>
                <a:latin typeface="Tahoma"/>
                <a:cs typeface="Tahoma"/>
              </a:rPr>
              <a:t>هو التربوي لوريس ملا جوزي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ووي.jpg"/>
          <p:cNvPicPr/>
          <p:nvPr/>
        </p:nvPicPr>
        <p:blipFill>
          <a:blip r:embed="rId1"/>
          <a:stretch/>
        </p:blipFill>
        <p:spPr>
          <a:xfrm>
            <a:off x="0" y="3000240"/>
            <a:ext cx="333360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ahoma"/>
                <a:cs typeface="Tahoma"/>
              </a:rPr>
              <a:t>المبادئ الأساس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ea typeface="Tahoma"/>
              </a:rPr>
              <a:t>1</a:t>
            </a:r>
            <a:r>
              <a:rPr b="1" lang="ar-SA" sz="2800" spc="-1" strike="noStrike">
                <a:solidFill>
                  <a:srgbClr val="ff0066"/>
                </a:solidFill>
                <a:latin typeface="Tahoma"/>
                <a:ea typeface="Tahoma"/>
              </a:rPr>
              <a:t>- صورة الطف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الطفل كائن اجتماعي بالدرجة الأول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يتعلم من خلال التفاعل الاجتماعي مع الآخري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الحاجة إلى التواصل مع الآخرين تبدأ منذ الولاد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images.jupiterimages.com/common/detail/42/67/22776742.jpg"/>
          <p:cNvPicPr/>
          <p:nvPr/>
        </p:nvPicPr>
        <p:blipFill>
          <a:blip r:embed="rId2"/>
          <a:stretch/>
        </p:blipFill>
        <p:spPr>
          <a:xfrm rot="20793600">
            <a:off x="847440" y="739440"/>
            <a:ext cx="1833480" cy="1633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285840"/>
            <a:ext cx="85694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Segoe UI"/>
                <a:ea typeface="Segoe UI"/>
              </a:rPr>
              <a:t>2</a:t>
            </a:r>
            <a:r>
              <a:rPr b="1" lang="ar-SA" sz="3200" spc="-1" strike="noStrike">
                <a:solidFill>
                  <a:srgbClr val="00b050"/>
                </a:solidFill>
                <a:latin typeface="Segoe UI"/>
                <a:ea typeface="Segoe UI"/>
              </a:rPr>
              <a:t>- دور المدرس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التعليم هو نظام علاقات وتواصل  لايتجزى من النظام الاجتماعي الأوس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دور الراشدين ( المعلمين والأهالي ) تقديم أنفسهم كمصادر للأطف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ومساعدة الأطفال أن يكتشفوا بأنفسهم الإجابات ع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أسئلته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egoe UI"/>
                <a:cs typeface="Segoe UI"/>
              </a:rPr>
              <a:t>وان يسألوا أسئلة أفض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المعلمون                        الأطف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                 الأه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ثلث متساوي الساقين 3"/>
          <p:cNvSpPr/>
          <p:nvPr/>
        </p:nvSpPr>
        <p:spPr>
          <a:xfrm>
            <a:off x="2124000" y="3716280"/>
            <a:ext cx="3384720" cy="2000160"/>
          </a:xfrm>
          <a:prstGeom prst="triangle">
            <a:avLst>
              <a:gd name="adj" fmla="val 4706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العملية 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شكل بيضاوي 3"/>
          <p:cNvSpPr/>
          <p:nvPr/>
        </p:nvSpPr>
        <p:spPr>
          <a:xfrm>
            <a:off x="250920" y="692280"/>
            <a:ext cx="7715160" cy="134280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b60e92"/>
                </a:solidFill>
                <a:latin typeface="Segoe UI"/>
                <a:cs typeface="Akhbar MT"/>
              </a:rPr>
              <a:t>عناصر النظا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سهم للأسفل 4"/>
          <p:cNvSpPr/>
          <p:nvPr/>
        </p:nvSpPr>
        <p:spPr>
          <a:xfrm>
            <a:off x="8001000" y="19288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سهم للأسفل 5"/>
          <p:cNvSpPr/>
          <p:nvPr/>
        </p:nvSpPr>
        <p:spPr>
          <a:xfrm>
            <a:off x="6715080" y="21430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سهم للأسفل 6"/>
          <p:cNvSpPr/>
          <p:nvPr/>
        </p:nvSpPr>
        <p:spPr>
          <a:xfrm>
            <a:off x="564372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سهم للأسفل 7"/>
          <p:cNvSpPr/>
          <p:nvPr/>
        </p:nvSpPr>
        <p:spPr>
          <a:xfrm>
            <a:off x="442908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سهم للأسفل 8"/>
          <p:cNvSpPr/>
          <p:nvPr/>
        </p:nvSpPr>
        <p:spPr>
          <a:xfrm>
            <a:off x="335772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سهم للأسفل 9"/>
          <p:cNvSpPr/>
          <p:nvPr/>
        </p:nvSpPr>
        <p:spPr>
          <a:xfrm>
            <a:off x="714240" y="20001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buClr>
                <a:srgbClr val="b60e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buClr>
                <a:srgbClr val="b60e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تكوين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وعمل     تنظيم     طريقة   التوثيق  تنظيم                 الادار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الجهاز    البيئة     المشروع           عمل               المجتمع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التربوي                                 الأطفا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                                         كمجموع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                                         صغير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تكوين وعمل الجهاز التربو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يتميز الجهاز التربوي في مدارس ريجيو أمليا بالنظا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التعاوني الجماعي ويتكون من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- المعلمون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معلمتان لكل صف ، تستمران مع الاطفال لمدة 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سنوات ، تنتقلان معهم من صف لأعلى ، يتحق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بذلك تعارف بين الاطفال بعضهم البعض ، وبين المعلم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والاطفال من جهه اخرى ، يساعدهم ذلك الاستمرار على الامان والبناء ، تكون المعلمة اكثر قدرة على مساعدتهم في النمو ، يقوم المعلمون بتوثيق عملهم اليومي ، ممايساعد في تمكينهم من التخطيط للمنهج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farm3.static.flickr.com/2371/2065838767_597852abcf.jpg"/>
          <p:cNvPicPr/>
          <p:nvPr/>
        </p:nvPicPr>
        <p:blipFill>
          <a:blip r:embed="rId1"/>
          <a:stretch/>
        </p:blipFill>
        <p:spPr>
          <a:xfrm>
            <a:off x="0" y="3762360"/>
            <a:ext cx="1692360" cy="309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9280" y="476280"/>
            <a:ext cx="70675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- المنسقة التربوي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مل مع الأطفال والمعلمين والأهالي والمجتمع المحلي ، ويكون دورها مع المعلمين بمساعدتهم في تصميم مشاريع جديدة وتدريبهم اثناء الخدم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- مدير المشغل : وهو المسؤول عن ادارة المشغل ومساعدة الاطفال على اتقان لغات التعبيرالمختلفة وحفظ اعمالهموانتاجهم وتوثيق نموهم وتطورهم . ويكون التوثيق من خلال :التصوير ، حفظ الأفلام والصور ، حفظ أعمال الأطفال ، الإهتمام بعرضها على الأهل وممرات المدرس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www.almhml.com/media/images/175326_9018.jpg"/>
          <p:cNvPicPr/>
          <p:nvPr/>
        </p:nvPicPr>
        <p:blipFill>
          <a:blip r:embed="rId1"/>
          <a:stretch/>
        </p:blipFill>
        <p:spPr>
          <a:xfrm>
            <a:off x="0" y="4292640"/>
            <a:ext cx="1692360" cy="256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17375e"/>
                </a:solidFill>
                <a:latin typeface="Calibri"/>
              </a:rPr>
              <a:t>- تنظيم البيئ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40000" y="1483920"/>
            <a:ext cx="634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17375e"/>
                </a:solidFill>
                <a:latin typeface="Calibri"/>
              </a:rPr>
              <a:t>* عملية التفاعل كطريقة للتعلم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تقسم الغرفة لأركان تستوعب مجموعات صغيرة من الأطفال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في وقت واحد بتنقل المعلمة لتسهل تفاعلها معهم .</a:t>
            </a:r>
            <a:r>
              <a:rPr b="1" lang="ar-SA" sz="2700" spc="-1" strike="noStrike">
                <a:solidFill>
                  <a:srgbClr val="17375e"/>
                </a:solidFill>
                <a:latin typeface="Calibri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تفاعل المعلمة مع الأهالي ومؤسسات البيئة عن طريق المكان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والمساحات الخاصة من غرف مفتوحة والمشغل الزجاجي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والتوثيق القائم على جدران والقاعات والممرات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بعرض انتاجات الأطفال ونشاطاتهم بالحوارات الت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 تساعد الأهالي للمناقشة والتعلم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vb.arabseyes.com/uploaded/4_1199316824.jpg"/>
          <p:cNvPicPr/>
          <p:nvPr/>
        </p:nvPicPr>
        <p:blipFill>
          <a:blip r:embed="rId1"/>
          <a:stretch/>
        </p:blipFill>
        <p:spPr>
          <a:xfrm>
            <a:off x="0" y="2421000"/>
            <a:ext cx="2340000" cy="4437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0:13:00Z</dcterms:created>
  <dc:creator>ام يزيد</dc:creator>
  <dc:description/>
  <dc:language>en-US</dc:language>
  <cp:lastModifiedBy>DELL</cp:lastModifiedBy>
  <dcterms:modified xsi:type="dcterms:W3CDTF">2011-12-11T17:34:20Z</dcterms:modified>
  <cp:revision>35</cp:revision>
  <dc:subject/>
  <dc:title>تجربة ريجيو اميليا</dc:title>
</cp:coreProperties>
</file>