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1648-1D34-4506-BBC7-75CEE8B04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3E8-6F25-4D38-A72E-626BE7DC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09F-A889-4DFD-8DE1-EE376AD2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257-E2C2-4B3A-BA47-C070A923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6D70-7664-4BBC-AB8C-13FE8BDF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ED16-2646-494D-9B41-A68DF878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74F8-49DD-4E71-9B9C-0C4DFCF8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53E4-A543-426E-ACBC-598030C2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CD25-2189-4AB6-AC71-BA52EBB5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F058-7896-4E5E-AA88-E6430F3F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A86A-0823-467C-9CC5-A360A9F0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59A-B2CD-4657-910A-2B2C7F72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FF17-F0C2-4587-BDD5-F968CFA6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2CEF-9B3D-4FD4-9B87-68918FAF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56C2-6412-4AD1-A2F3-ECD29535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027D-54BC-4B77-824E-9596C685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2A84-CBB6-4BB0-A399-0566456C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504-181E-4303-83E7-CE42383C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400-DFE3-4F52-AF4B-F7EA28D4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E4E-62CE-4294-86BA-60A40ABF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56E-9217-457F-B51C-EAEBCE44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C6F2-A7E6-4D85-87A6-91FE504F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BD2-857F-4B1B-9739-798353F9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D92-DDB1-4B8F-91A4-A8F23CBC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ffff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1689-7DDA-4EFB-BBC5-F2CFACAD097D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F040-C727-449F-AC9D-223C824D9C8D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9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9ffff"/>
                  </a:solidFill>
                  <a:latin typeface="Arial"/>
                </a:endParaRPr>
              </a:p>
            </p:txBody>
          </p:sp>
        </p:grpSp>
      </p:grp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99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لتجميد</a:t>
            </a:r>
            <a:r>
              <a:rPr b="0" lang="ar-SA" sz="44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Freezing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755640" y="1844640"/>
            <a:ext cx="770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بدأت صناعة التجميد في الولايات المتحدة عام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1925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م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شرائح السمك المجمدة سريعاً في القطب الشمالي احتفظت بخصائص الطعم والقوام المشابهة للسمك الطازج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سرعة التجميد تعتبر حاسمة فيما يتعلق بالجودة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التجميد السريع مع معاملات مناسبة قبل التجميد يضمن التأكد من حفظ ممتاز للقيمة التغذوية لعدد كبير من الأغذية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وافقت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FDA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بالسماح بوضع كلمة صحي على الغذاء المجمد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حجم المبيعات للأغذية المجمدة لعام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2000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م بلغ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13,6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مليون طن وبقيمة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58,5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بليون دولار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طبقت عملية التجميد السريع في البداية على عدد محدود من الأسماك واللحوم والخضار والفواكه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Arabic Transparent"/>
              </a:rPr>
              <a:t>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لحوم والأسماك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1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يستخدم التجميد السريع للحوم والأسماك المطبوخة والخام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لا يؤثر التجميد والخزن بالتجميد معنوياً على القيمة التغذوية لبروتينات اللحوم والأسماك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يسبب التسييح فقد كميات لا باس بها من السوائل وما يرتبط بها من بروتينات وعناصر أخرى ذائبة في الماء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يبلغ الفقد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% وقد يصل في بعض الحالات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5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% من وزن المنتج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العوامل المؤثرة على كمية الفقد بالرشح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. المتغيرات المؤثرة على المادة الخام ( الحيوان والعليقة والتداول فبل وبعد الذبح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. الكيماويات الماسكة للماء ( عديد الفوسفات 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  - تحمي القوام وتقلل الفقد بالرشح وتعطي النضارة المطلوبة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3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. التجميد والخزن المجمد ( معدل ودرجة حرارة التخزين وتذبذب الحرارة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4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. التسييح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لحوم والأسماك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2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اللحوم والأسماك أقل قابلية للفساد التأكسدي في الحالة المجمدة مقارنة بالخضار والفواكه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قد تقود الأكسدة على كل حال مع التخزين الطويل إلى تغيرات كيميائية مهمة وفقد للفيتامينات الحساسة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الأحماض الدهنية عديدة عدم التشبع أكثر عرضة للأكسدة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أكسدة هذه الحوامض هي التي تعطي النكهات غير المرغوبة ونكهة التزنخ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منتجات اللحوم والأسماك المحتوية على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PUFA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أقل ثباتية ولها فترة خزن أقصر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الأسماك الدهنية فترة صلاحيتها من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إلى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9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أشهر ( 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8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م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الأسماك البيضاء :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2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24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شهر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قطعيات لحم الخنزير :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2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شهر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قطعيات لحم البقر :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8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24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شهر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الفائدة التغذوية المميزة للأسماك الدهنية أنها مصدر 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n-3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docosahexanoic acid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DHA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)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و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eicosapentanoic acid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( 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EPA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أثير التجميد والتخزين المجمد على هذه الأحماض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	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حدث انخفاض مهم في محتوى شرائح السمك من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n-3 PUFA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الكلية عند التخزين على -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20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°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م لمدة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6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ش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Times New Roman"/>
              </a:rPr>
              <a:t>انخفضت كذلك في شرائح السلمون المخزن على نفس الظروف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Times New Roman"/>
              </a:rPr>
              <a:t>انخفض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DHA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و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EPA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في شرائح الساردين والكنعد المخزنة لمدة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24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ش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Times New Roman"/>
              </a:rPr>
              <a:t>دراسات أخرى لم تثبت فقد لهذه الأحماض على -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°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م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Times New Roman"/>
              </a:rPr>
              <a:t>يعتمد الفقد بواسطة الأكسدة على عوامل عدة ( دخول الأكسجين إلى العضلات والتداول قبل التجميد ونوع العضلة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  <a:cs typeface="Times New Roman"/>
              </a:rPr>
              <a:t>لا يشكل فقد هذه الأحماض خطراً إذا تم استهلاك الأسماك ضمن الفترة الموصى بها من التخزين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لمضامين التغذوية للتطورات الحديثة في التجميد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تهدف التطورات الحديثة لتحسين الخواص الحسية للأغذية المجمدة أو خفض تكاليف انتاجها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-32220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قد يكون لهذه الأهداف تأثير مهم على الاحتفاظية بالعناصر الغذائية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-32220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(أ) التطورات في سلق الخضار والفواكه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 - طرق سلق بديلة ( البخار والميكروويف) ؟ ( طبيعة المواد الخام 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-322200" algn="r" rtl="1">
              <a:lnSpc>
                <a:spcPct val="80000"/>
              </a:lnSpc>
              <a:spcBef>
                <a:spcPts val="4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(ب) التخزين المجمد في الحالة الزجاجية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</a:rPr>
              <a:t>glassy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  - الأغذية المجمدة على 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18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إلى -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24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°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م تحتوي على كميات من الماء السائل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  - إذا خفضت حرارة الأغذية إلى حد أبعد من ذلك فإن السائل المتبقي يدخل مرحلة الحالة الزجاجية ( مواد صلبة غير بلورية 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  - يقود ذلك إلى خفض معدلات التفاعلات بما فيها التفاعلات الأنزيمية إلى حد كبير  ( خزن أطول دون حدوث مخاطر من الأكسدة )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     </a:t>
            </a:r>
            <a:r>
              <a:rPr b="0" lang="ar-SA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- احتمالية أيضاً  لتجميد الخضار والفواكه  دون الحاجة  لإجراء عملية  السلق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  <a:p>
            <a:pPr marL="3222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99ffff"/>
                </a:solidFill>
                <a:latin typeface="Times New Roman"/>
                <a:ea typeface="Times New Roman"/>
              </a:rPr>
              <a:t>       - تختلف الأغذية  في درجة  الحرارة  التي  تدخل  فيها  إلى  الحالة  الزجاجية   </a:t>
            </a:r>
            <a:endParaRPr b="0" lang="en-US" sz="20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أثير درجة حرارة التجميد على حمض الأسكوربيك في البازلاء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68360" y="2205000"/>
            <a:ext cx="4608720" cy="343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ابع المضامين التغذوية للتطورات الحديثة في التجميد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( ج) استخدام الببتيدات المضادة للتجميد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- 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Anti-Freeze Peptides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( </a:t>
            </a: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AFP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- تخفض نقطة تجمد الماء وتمنع زيادة حجم بلورات الثلج خلال التخزين المبرد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- تمنع احتمالية التحطم الميكانيكي والبنائي عند وضعها في الأغذية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-- تحسن الخواص الحسية للغذاء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-- تقلل الفقد بالرشح للعناصر الغذائية من الأغذية المجمدة عند التسييح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تطبيقاتها محدودة في الوقت الراهن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التكلفة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1536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انتاجها على مستوى تجاري يتطلب استخدام التقنية الحيوية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حصائيات التجميد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  <a:cs typeface="Arabic Transparent"/>
              </a:rPr>
              <a:t>اللحوم الحمراء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والدواجن والأسماك والأغذية البحرية والخضار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10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%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البطاطس المجمدة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15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%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الوجبات الجاهزة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20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%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استهلاك الفرد من الأغذية المجمدة 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الولايات المتحدة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13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كجم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أوروبا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10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كجم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أفريقيا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3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,. كجم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آسيا : 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9</a:t>
            </a: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,. كجم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يتوقع ازدياد الطلب على الأغذية المجمدة في الدول النامية والمتطورة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أغذية مريحة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- ذات جودة حسية وتغذوية عالية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لتغير والثباتية في الأغذية المجمدة (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1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إزالة الحرارة ( منع أو تقليل التغيرات الميكروبية والكيميائية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إطالة وقت الحفظ مع بقاء الخواص الحسية والقيمة التغذوية في حالة ممتازة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درجات الحرارة المثالية للخزن المجمد الصناعي والمنزلي قد لا توقف التفاعلات الكيميائية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تظل الفواكه والخضار واللحوم محتوية على 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5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% ماء في الحالة السائلة ( المواد الذائبة أكثر تركيزاً في الماء المتبقي 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  - إزالة الماء بالتناضح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osmosis</a:t>
            </a: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بين الأقسام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16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  - قد يمزق تكون الثلج تركيب الخلية مسبباً المزج والتفاعلات بين المكونات التي كانت مفصولة مسبقاً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لتغير والثباتية في الأغذية المجمدة (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2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 algn="r" rtl="1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الأكسدة أهم تفاعل يقود إلى فقد الجودة وفقد العناصر الغذائية في الأغذية المجمدة ( محدودية الخزن)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- تطور النكهات الشاذة والتزنخ ( التحطم التأكسدي للدهون المخزنة والدهون الموجودة في أغشية الخلايا )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- فقد اللون و/ أو تغيره وتيبس التركيبات العضلية في الأسماك واللحوم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- العديد من الفيتامينات ( ج والفوليت ) أكثر حساسية للتحطم التأكسدي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التغير والثباتية في الأغذية المجمدة (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3</a:t>
            </a:r>
            <a:r>
              <a:rPr b="0" lang="ar-SA" sz="40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مميزات التجميد السريع : عدد كبير نسبي من بلورات الثلج الصغيرة 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- تحطم صغير لتركيب الخلايا والأنسجة 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- تذبذب درجات الحرارة يقود إلى زيادة حجم بلورات الثلج 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 -- تأثيرات سيئة على القوام عند التسييح 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 -- انخفاض مسك الماء مما يؤدي إلى زيادة الفاقد بالرشح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خضار والفواكه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1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التأثير الأكبر على الفيتامينات ولا توجد تأثيرات تذكر على المعادن والألياف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العوامل المهمة في التجميد: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(أ) اختيار الصنف ووقت الحصاد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 - تختار أصناف معينة وأوقات حرث خاصة ( الجودة الحسية المثالية)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  - قد يكون للصنف ووقت الحصاد بعض التأثيرات على القيمة التغذوية  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60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(ب) التخزين بعد الحصاد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  - العديد من الخضار وإلى حد أقل الفواكه غير ثابتة نسبياً بعد الحصاد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  - تتعرض إلى تغيرات كيميائية ( ↓ في بعض العناصر)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ff"/>
                </a:solidFill>
                <a:latin typeface="Times New Roman"/>
              </a:rPr>
              <a:t>           -- يعتمد الفقد خلال التخزين وقبل التجميد على السلعة وطريقة الحصاد ومدة وظروف التخزين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خضار والفواكه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2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(ج) الغسل والسلق: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الغسل يسبب بعض الفقد في العناصر الغذائية الذائبة في الماء خاصة من الأسطح المقطوعة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الأكسدة هي العامل الأهم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  -- تحتوي الخضار والفواكه على أنظمة أنزيمية تعطي أوكسجين فعال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  -- يستخدم السلق قبل التجميد لمنع تفاعلات الأكسدة والسلامة الميكروبية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451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فوائد السلق ( القرنبيط والسبانخ كمثال ):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عدم السلق قبل التجميد يعني الحفظ لأشهر قليلة مع تكون نكهة ورائحة غير مقبولة سببها أكسدة اللبيدات في الأغشية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السلق قبل التجميد : فترة حفظ من 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18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إلى 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24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شهر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قد تفقد العناصر الغذائية خلال السلق عن طريق الرشح والتحطم الميكانيكي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يستخدم الأكسوربيت في الغالب كمؤشر لفقد العناصر الغذائية  ( الفقد 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5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-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40</a:t>
            </a: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%)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- تقليل الفقد :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    -- تقليل التحطم قدر الامكان خلال التداول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  <a:p>
            <a:pPr marL="33264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99ffff"/>
                </a:solidFill>
                <a:latin typeface="Times New Roman"/>
              </a:rPr>
              <a:t>       -- ظروف تصنيع جيدة ( درجة الحرارة ووقت التعرض لها ومعدل المنتج إلى الماء)</a:t>
            </a:r>
            <a:endParaRPr b="0" lang="en-US" sz="1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خضار والفواكه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3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(د) التخزين بالتجميد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- نتائج متضاربة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- الأسباب المحتملة للاختلافات في التجارب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  -- الدنترة غير الكاملة للأنزيمات المؤكسدة خلال السلق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  -- تذبذب درجات حرارة التجميد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   - السلق الكافي يحافظ على مستويات قيمة من العناصر الحساسة لمدة قد تصل على الأقل من </a:t>
            </a: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12</a:t>
            </a: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إلى </a:t>
            </a: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18</a:t>
            </a:r>
            <a:r>
              <a:rPr b="0" lang="ar-SA" sz="3200" spc="-1" strike="noStrike">
                <a:solidFill>
                  <a:srgbClr val="99ffff"/>
                </a:solidFill>
                <a:latin typeface="Times New Roman"/>
              </a:rPr>
              <a:t> شهر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 u="sng">
                <a:solidFill>
                  <a:srgbClr val="ccccff"/>
                </a:solidFill>
                <a:uFillTx/>
                <a:latin typeface="Times New Roman"/>
                <a:cs typeface="PT Simple Bold Ruled"/>
              </a:rPr>
              <a:t>تجميد الخضار والفواكه (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4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PT Simple Bold Ruled"/>
              </a:rPr>
              <a:t>)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(هـ) الطبخ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- للطبخ تأثيرات مهمة على كمية العناصر الغذائية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- تتطلب الخضار المجمدة طبخ أقل مقارنة بالطازجة (سبق سلقها) لذا تفقد كميات أقل من العناصر خلال الطبخ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- أهمية الخضار والفواكه من الناحية الصحية 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  -- بها عدد من العناصر النباتية الكيميائية غير الغذائية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ffff"/>
                </a:solidFill>
                <a:latin typeface="Times New Roman"/>
              </a:rPr>
              <a:t>    -- من الضروري التأكد من تأثير التجميد والعمليات المرتبطة به على الإحتفاظية بهذه المركبات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8:47:16Z</dcterms:created>
  <dc:creator>user</dc:creator>
  <dc:description/>
  <dc:language>en-US</dc:language>
  <cp:lastModifiedBy>user</cp:lastModifiedBy>
  <dcterms:modified xsi:type="dcterms:W3CDTF">2004-10-24T20:45:16Z</dcterms:modified>
  <cp:revision>39</cp:revision>
  <dc:subject/>
  <dc:title>التجميد Freezing</dc:title>
</cp:coreProperties>
</file>