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842-F029-4B8E-8E8B-859ACD58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7F9-DD9C-4985-9AE3-0914C9B7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129-B99A-4193-BEBC-86797BA6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22E-F23B-4F64-AFA9-0242620F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A790-1521-4080-B7C4-3D7B290C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D340-A0C1-4E7D-A395-4102A0C8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D525-22D4-4C58-B0A4-583CFBE0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5CB5-8CE9-4FBF-8851-BF963C8B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A700-DB71-4B1F-AD53-F32D71D2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653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EDDB1-937A-40FE-A172-E67567CC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C5C5-330E-4D4B-82CA-6BAD360F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6F2-16A0-490D-8F20-25593130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C308-9A58-4849-92AD-8434E2C6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FCA0-7DF8-407D-945B-2AF89474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0E42-09F9-4DA6-9B41-D0AB28A9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8030-BF6A-4595-B3B6-B2038C1F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17DC-16A7-4DAE-9C18-43E029EB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7D4-0999-4EE1-B981-CF793F9D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6D7-E64F-465E-B5D4-FAEB5E14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701-BEE2-41D0-AB54-84F0C0E1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653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A83E-EF09-4117-9297-E8667ED5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D6B-C5EB-446B-84B4-94F2A307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BA80-330A-4EFE-ADB1-AA6DEB2D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091-60BE-4FBB-98DD-E0EC9B04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8720" y="-293400"/>
            <a:ext cx="9765000" cy="7676280"/>
            <a:chOff x="-468720" y="-293400"/>
            <a:chExt cx="976500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8720" y="-293400"/>
              <a:ext cx="9765000" cy="7676280"/>
              <a:chOff x="-468720" y="-293400"/>
              <a:chExt cx="976500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0680" y="474660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2360" y="410544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2040" y="483732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1440" y="5648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18000" y="29052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3560" y="327528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76600" y="30078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224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0440" y="476244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37680" y="59551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1976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5680" y="48682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052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0120" y="374328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47600" y="43340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78920" y="409284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2640" y="47674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1440" y="59400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0440" y="3102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0480" y="326232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7000" y="318564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79160" y="535644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22320" y="4692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5520" y="591696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9600" y="55882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4000" y="460800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499400" y="3238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488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0600" y="1381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228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31680" y="177660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444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3440" y="-3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3480" y="157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376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216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3400" y="1511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59440" y="23227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7040" y="2673360"/>
                <a:ext cx="127260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5240" y="150264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2760" y="132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3132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6280" y="1381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7796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3640" y="1776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012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89480" y="-324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8916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1320" y="80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7820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28680" y="170208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512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68280" y="267336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1640" y="1502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798800" y="133560"/>
                <a:ext cx="10155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184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6440" y="13766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5440" y="75420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1120" y="1790640"/>
                <a:ext cx="103140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3080" y="2506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4040" y="381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5680" y="-7632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532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0240" y="1506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09440" y="5099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4920" y="25545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564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0960" y="14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68880" y="735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8920" y="4691520"/>
                <a:ext cx="1090800" cy="96624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5440" y="410688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1120" y="51436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5680" y="57315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2200" y="32385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0880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4880" y="584856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6160" y="506916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5280" y="57736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0280" y="4088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0520" y="3349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6200" y="384012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3680" y="465120"/>
              <a:ext cx="8745120" cy="223920"/>
              <a:chOff x="193680" y="46512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3680" y="46512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5080" y="52884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5680" y="374760"/>
              <a:ext cx="8745120" cy="223560"/>
              <a:chOff x="85680" y="374760"/>
              <a:chExt cx="8745120" cy="223560"/>
            </a:xfrm>
          </p:grpSpPr>
          <p:sp>
            <p:nvSpPr>
              <p:cNvPr id="87" name=""/>
              <p:cNvSpPr/>
              <p:nvPr/>
            </p:nvSpPr>
            <p:spPr>
              <a:xfrm>
                <a:off x="85680" y="374760"/>
                <a:ext cx="874512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7080" y="438480"/>
                <a:ext cx="8649360" cy="554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7320" y="468360"/>
              <a:ext cx="137448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9240" y="146160"/>
              <a:ext cx="1253880" cy="1164960"/>
              <a:chOff x="219240" y="146160"/>
              <a:chExt cx="1253880" cy="1164960"/>
            </a:xfrm>
          </p:grpSpPr>
          <p:sp>
            <p:nvSpPr>
              <p:cNvPr id="91" name=""/>
              <p:cNvSpPr/>
              <p:nvPr/>
            </p:nvSpPr>
            <p:spPr>
              <a:xfrm>
                <a:off x="219240" y="159120"/>
                <a:ext cx="1253880" cy="11520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1920" y="165960"/>
                <a:ext cx="282960" cy="845640"/>
              </a:xfrm>
              <a:custGeom>
                <a:avLst/>
                <a:gdLst/>
                <a:ahLst/>
                <a:rect l="l" t="t" r="r" b="b"/>
                <a:pathLst>
                  <a:path w="642" h="1919">
                    <a:moveTo>
                      <a:pt x="209" y="42"/>
                    </a:moveTo>
                    <a:cubicBezTo>
                      <a:pt x="59" y="125"/>
                      <a:pt x="0" y="338"/>
                      <a:pt x="1" y="551"/>
                    </a:cubicBezTo>
                    <a:cubicBezTo>
                      <a:pt x="2" y="764"/>
                      <a:pt x="132" y="1103"/>
                      <a:pt x="218" y="1319"/>
                    </a:cubicBezTo>
                    <a:cubicBezTo>
                      <a:pt x="304" y="1535"/>
                      <a:pt x="462" y="1771"/>
                      <a:pt x="518" y="1845"/>
                    </a:cubicBezTo>
                    <a:cubicBezTo>
                      <a:pt x="574" y="1919"/>
                      <a:pt x="594" y="1892"/>
                      <a:pt x="551" y="1761"/>
                    </a:cubicBezTo>
                    <a:cubicBezTo>
                      <a:pt x="508" y="1630"/>
                      <a:pt x="314" y="1260"/>
                      <a:pt x="259" y="1060"/>
                    </a:cubicBezTo>
                    <a:cubicBezTo>
                      <a:pt x="204" y="860"/>
                      <a:pt x="204" y="704"/>
                      <a:pt x="218" y="559"/>
                    </a:cubicBezTo>
                    <a:cubicBezTo>
                      <a:pt x="232" y="414"/>
                      <a:pt x="300" y="266"/>
                      <a:pt x="343" y="192"/>
                    </a:cubicBezTo>
                    <a:cubicBezTo>
                      <a:pt x="386" y="118"/>
                      <a:pt x="427" y="139"/>
                      <a:pt x="476" y="117"/>
                    </a:cubicBezTo>
                    <a:cubicBezTo>
                      <a:pt x="525" y="95"/>
                      <a:pt x="628" y="76"/>
                      <a:pt x="635" y="58"/>
                    </a:cubicBezTo>
                    <a:cubicBezTo>
                      <a:pt x="642" y="40"/>
                      <a:pt x="569" y="16"/>
                      <a:pt x="518" y="8"/>
                    </a:cubicBezTo>
                    <a:cubicBezTo>
                      <a:pt x="467" y="0"/>
                      <a:pt x="378" y="2"/>
                      <a:pt x="326" y="8"/>
                    </a:cubicBezTo>
                    <a:cubicBezTo>
                      <a:pt x="274" y="14"/>
                      <a:pt x="259" y="0"/>
                      <a:pt x="209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6160"/>
                <a:ext cx="1063080" cy="277560"/>
              </a:xfrm>
              <a:custGeom>
                <a:avLst/>
                <a:gdLst/>
                <a:ahLst/>
                <a:rect l="l" t="t" r="r" b="b"/>
                <a:pathLst>
                  <a:path w="2411" h="630">
                    <a:moveTo>
                      <a:pt x="11" y="117"/>
                    </a:moveTo>
                    <a:cubicBezTo>
                      <a:pt x="41" y="92"/>
                      <a:pt x="124" y="20"/>
                      <a:pt x="250" y="10"/>
                    </a:cubicBezTo>
                    <a:cubicBezTo>
                      <a:pt x="375" y="0"/>
                      <a:pt x="545" y="18"/>
                      <a:pt x="765" y="58"/>
                    </a:cubicBezTo>
                    <a:cubicBezTo>
                      <a:pt x="986" y="100"/>
                      <a:pt x="1341" y="187"/>
                      <a:pt x="1574" y="256"/>
                    </a:cubicBezTo>
                    <a:cubicBezTo>
                      <a:pt x="1807" y="324"/>
                      <a:pt x="2032" y="415"/>
                      <a:pt x="2162" y="470"/>
                    </a:cubicBezTo>
                    <a:cubicBezTo>
                      <a:pt x="2293" y="525"/>
                      <a:pt x="2336" y="565"/>
                      <a:pt x="2359" y="586"/>
                    </a:cubicBezTo>
                    <a:cubicBezTo>
                      <a:pt x="2383" y="607"/>
                      <a:pt x="2411" y="630"/>
                      <a:pt x="2307" y="601"/>
                    </a:cubicBezTo>
                    <a:cubicBezTo>
                      <a:pt x="2204" y="573"/>
                      <a:pt x="1980" y="481"/>
                      <a:pt x="1741" y="415"/>
                    </a:cubicBezTo>
                    <a:cubicBezTo>
                      <a:pt x="1502" y="351"/>
                      <a:pt x="1100" y="251"/>
                      <a:pt x="874" y="212"/>
                    </a:cubicBezTo>
                    <a:cubicBezTo>
                      <a:pt x="648" y="173"/>
                      <a:pt x="495" y="169"/>
                      <a:pt x="382" y="179"/>
                    </a:cubicBezTo>
                    <a:cubicBezTo>
                      <a:pt x="269" y="189"/>
                      <a:pt x="256" y="269"/>
                      <a:pt x="198" y="270"/>
                    </a:cubicBezTo>
                    <a:cubicBezTo>
                      <a:pt x="140" y="271"/>
                      <a:pt x="62" y="212"/>
                      <a:pt x="31" y="187"/>
                    </a:cubicBezTo>
                    <a:cubicBezTo>
                      <a:pt x="0" y="162"/>
                      <a:pt x="15" y="132"/>
                      <a:pt x="11" y="11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6440" y="453240"/>
                <a:ext cx="68184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1040" y="371880"/>
                <a:ext cx="406080" cy="40176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81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333333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816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1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0984-BC19-44C7-A569-AF83C8803505}" type="slidenum"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720" y="-293400"/>
            <a:ext cx="9765000" cy="7676280"/>
            <a:chOff x="-46872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720" y="-293400"/>
              <a:ext cx="9765000" cy="7676280"/>
              <a:chOff x="-46872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0680" y="474660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732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440" y="5648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000" y="29052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560" y="327528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600" y="30078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24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440" y="476244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51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1976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5680" y="48682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52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0120" y="374328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600" y="43340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8920" y="409284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2640" y="47674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440" y="3102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480" y="326232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7000" y="318564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9160" y="535644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520" y="591696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600" y="55882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000" y="460800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499400" y="3238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488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600" y="1381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60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440" y="-3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480" y="157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376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16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400" y="1511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440" y="23227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60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5240" y="150264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2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280" y="1381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796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3640" y="1776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12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480" y="-324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16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320" y="80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8680" y="170208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12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1640" y="1502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560"/>
                <a:ext cx="10155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184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6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120" y="1790640"/>
                <a:ext cx="103140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080" y="2506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040" y="381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5680" y="-7632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32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240" y="1506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440" y="5099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4920" y="25545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564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0960" y="14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8920" y="4691520"/>
                <a:ext cx="1090800" cy="96624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120" y="51436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5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200" y="32385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880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880" y="584856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160" y="506916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6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9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200" y="384012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rot="17967600">
              <a:off x="356760" y="3306960"/>
              <a:ext cx="1782720" cy="16365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228600" y="3525840"/>
              <a:ext cx="8745120" cy="223920"/>
              <a:chOff x="228600" y="3525840"/>
              <a:chExt cx="8745120" cy="223920"/>
            </a:xfrm>
          </p:grpSpPr>
          <p:sp>
            <p:nvSpPr>
              <p:cNvPr id="222" name=""/>
              <p:cNvSpPr/>
              <p:nvPr/>
            </p:nvSpPr>
            <p:spPr>
              <a:xfrm>
                <a:off x="228600" y="35258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0000" y="35895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20600" y="3435480"/>
              <a:ext cx="8745120" cy="223560"/>
              <a:chOff x="120600" y="3435480"/>
              <a:chExt cx="8745120" cy="223560"/>
            </a:xfrm>
          </p:grpSpPr>
          <p:sp>
            <p:nvSpPr>
              <p:cNvPr id="225" name=""/>
              <p:cNvSpPr/>
              <p:nvPr/>
            </p:nvSpPr>
            <p:spPr>
              <a:xfrm>
                <a:off x="120600" y="3435480"/>
                <a:ext cx="874512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2000" y="3499200"/>
                <a:ext cx="8649360" cy="554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54800" y="2772360"/>
              <a:ext cx="2102040" cy="2152080"/>
              <a:chOff x="154800" y="2772360"/>
              <a:chExt cx="2102040" cy="2152080"/>
            </a:xfrm>
          </p:grpSpPr>
          <p:sp>
            <p:nvSpPr>
              <p:cNvPr id="228" name=""/>
              <p:cNvSpPr/>
              <p:nvPr/>
            </p:nvSpPr>
            <p:spPr>
              <a:xfrm rot="17970000">
                <a:off x="392040" y="3101040"/>
                <a:ext cx="1627200" cy="1494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7970000">
                <a:off x="560880" y="3728520"/>
                <a:ext cx="367200" cy="1096920"/>
              </a:xfrm>
              <a:custGeom>
                <a:avLst/>
                <a:gdLst/>
                <a:ahLst/>
                <a:rect l="l" t="t" r="r" b="b"/>
                <a:pathLst>
                  <a:path w="642" h="1919">
                    <a:moveTo>
                      <a:pt x="209" y="42"/>
                    </a:moveTo>
                    <a:cubicBezTo>
                      <a:pt x="59" y="125"/>
                      <a:pt x="0" y="338"/>
                      <a:pt x="1" y="551"/>
                    </a:cubicBezTo>
                    <a:cubicBezTo>
                      <a:pt x="2" y="764"/>
                      <a:pt x="132" y="1103"/>
                      <a:pt x="218" y="1319"/>
                    </a:cubicBezTo>
                    <a:cubicBezTo>
                      <a:pt x="304" y="1535"/>
                      <a:pt x="462" y="1771"/>
                      <a:pt x="518" y="1845"/>
                    </a:cubicBezTo>
                    <a:cubicBezTo>
                      <a:pt x="574" y="1919"/>
                      <a:pt x="594" y="1892"/>
                      <a:pt x="551" y="1761"/>
                    </a:cubicBezTo>
                    <a:cubicBezTo>
                      <a:pt x="508" y="1630"/>
                      <a:pt x="314" y="1260"/>
                      <a:pt x="259" y="1060"/>
                    </a:cubicBezTo>
                    <a:cubicBezTo>
                      <a:pt x="204" y="860"/>
                      <a:pt x="204" y="704"/>
                      <a:pt x="218" y="559"/>
                    </a:cubicBezTo>
                    <a:cubicBezTo>
                      <a:pt x="232" y="414"/>
                      <a:pt x="300" y="266"/>
                      <a:pt x="343" y="192"/>
                    </a:cubicBezTo>
                    <a:cubicBezTo>
                      <a:pt x="386" y="118"/>
                      <a:pt x="427" y="139"/>
                      <a:pt x="476" y="117"/>
                    </a:cubicBezTo>
                    <a:cubicBezTo>
                      <a:pt x="525" y="95"/>
                      <a:pt x="628" y="76"/>
                      <a:pt x="635" y="58"/>
                    </a:cubicBezTo>
                    <a:cubicBezTo>
                      <a:pt x="642" y="40"/>
                      <a:pt x="569" y="16"/>
                      <a:pt x="518" y="8"/>
                    </a:cubicBezTo>
                    <a:cubicBezTo>
                      <a:pt x="467" y="0"/>
                      <a:pt x="378" y="2"/>
                      <a:pt x="326" y="8"/>
                    </a:cubicBezTo>
                    <a:cubicBezTo>
                      <a:pt x="274" y="14"/>
                      <a:pt x="259" y="0"/>
                      <a:pt x="209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7970000">
                <a:off x="-2520" y="3398400"/>
                <a:ext cx="1379520" cy="360000"/>
              </a:xfrm>
              <a:custGeom>
                <a:avLst/>
                <a:gdLst/>
                <a:ahLst/>
                <a:rect l="l" t="t" r="r" b="b"/>
                <a:pathLst>
                  <a:path w="2411" h="630">
                    <a:moveTo>
                      <a:pt x="11" y="117"/>
                    </a:moveTo>
                    <a:cubicBezTo>
                      <a:pt x="41" y="92"/>
                      <a:pt x="124" y="20"/>
                      <a:pt x="250" y="10"/>
                    </a:cubicBezTo>
                    <a:cubicBezTo>
                      <a:pt x="375" y="0"/>
                      <a:pt x="545" y="18"/>
                      <a:pt x="765" y="58"/>
                    </a:cubicBezTo>
                    <a:cubicBezTo>
                      <a:pt x="986" y="100"/>
                      <a:pt x="1341" y="187"/>
                      <a:pt x="1574" y="256"/>
                    </a:cubicBezTo>
                    <a:cubicBezTo>
                      <a:pt x="1807" y="324"/>
                      <a:pt x="2032" y="415"/>
                      <a:pt x="2162" y="470"/>
                    </a:cubicBezTo>
                    <a:cubicBezTo>
                      <a:pt x="2293" y="525"/>
                      <a:pt x="2336" y="565"/>
                      <a:pt x="2359" y="586"/>
                    </a:cubicBezTo>
                    <a:cubicBezTo>
                      <a:pt x="2383" y="607"/>
                      <a:pt x="2411" y="630"/>
                      <a:pt x="2307" y="601"/>
                    </a:cubicBezTo>
                    <a:cubicBezTo>
                      <a:pt x="2204" y="573"/>
                      <a:pt x="1980" y="481"/>
                      <a:pt x="1741" y="415"/>
                    </a:cubicBezTo>
                    <a:cubicBezTo>
                      <a:pt x="1502" y="351"/>
                      <a:pt x="1100" y="251"/>
                      <a:pt x="874" y="212"/>
                    </a:cubicBezTo>
                    <a:cubicBezTo>
                      <a:pt x="648" y="173"/>
                      <a:pt x="495" y="169"/>
                      <a:pt x="382" y="179"/>
                    </a:cubicBezTo>
                    <a:cubicBezTo>
                      <a:pt x="269" y="189"/>
                      <a:pt x="256" y="269"/>
                      <a:pt x="198" y="270"/>
                    </a:cubicBezTo>
                    <a:cubicBezTo>
                      <a:pt x="140" y="271"/>
                      <a:pt x="62" y="212"/>
                      <a:pt x="31" y="187"/>
                    </a:cubicBezTo>
                    <a:cubicBezTo>
                      <a:pt x="0" y="162"/>
                      <a:pt x="15" y="132"/>
                      <a:pt x="11" y="11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7970000">
                <a:off x="870840" y="3358440"/>
                <a:ext cx="884880" cy="85860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7970000">
                <a:off x="661680" y="3655440"/>
                <a:ext cx="526680" cy="5212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4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333333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3C32-6081-4BEC-B7F7-3254327E82B7}" type="slidenum">
              <a:rPr b="0" lang="en-US" sz="14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 rtl="1">
              <a:spcBef>
                <a:spcPts val="601"/>
              </a:spcBef>
              <a:buClr>
                <a:srgbClr val="333333"/>
              </a:buClr>
              <a:buSzPct val="9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 rtl="1"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 rtl="1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تصنيع أغذية الحبوب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755640" y="1628280"/>
            <a:ext cx="770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مكونات حبة القمح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343400" cy="3168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تقسيم الأغذية المحتوية على النشا المهضوم بمعدلات مختلفة</a:t>
            </a:r>
            <a:endParaRPr b="0" lang="en-US" sz="2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يستخدم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Glycemic Index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(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GI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81160" indent="-28116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عريف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GI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: قياس معدل دخول الجلوكوز إلى مجرى الدم من غذاء غني بالكربوهيدرات مقارنة بوجبة مرجعية ( محلول جلوكوز) تحتوي على كمية مكافئة من الكربوهيدرات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81160" indent="-28116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GI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 - الخبز الأبيض : 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100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 - الخبز البر الكامل : 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35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-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90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 - الباستا : 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40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-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70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03240" y="680760"/>
            <a:ext cx="751536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فوائد الأغذية منخفضة</a:t>
            </a:r>
            <a:r>
              <a:rPr b="0" lang="ar-SA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GI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4840" y="2037960"/>
            <a:ext cx="749268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حسين السيطرة التمثيلية للسكري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ركيزات منخفضة لدهون الدم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حسين تحمل الجلوكوز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زيادة فترة الشعور بالشبع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حسين الأداء أثناء تمارين التحمل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خفض احتمالية التسرطن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86184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أسباب الاختلافات في</a:t>
            </a:r>
            <a:r>
              <a:rPr b="0" lang="ar-SA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GI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عملية التصنيع نفسها ( سرعة هضم النشا في الباستا والخبز الأبيض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 - عجن وتقطيع وبثق على درجات حرارة منخفضة لا تسهل من جلتنة النشا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 - تكسية بالبروتين لجزيئات النشا مما يؤدي إلى حجزها عن الأنزيمات الهاضم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 - تؤدي تقنية الغذاء أيضاً إلى تغير تركيب النشا ( نشا مقاوم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RS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5412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أنواع النشا المقاوم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RS1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نشا غير قابل للتأثر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physically inaccessible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( يوجد في الحبوب أو البذور المطحونة جزئياً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RS2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حبيبات نشا مقاومة : نشا ذو بلورات محددة مقاومة للتحلل بأنزيمات الفا- أميليز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315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RS3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نشا تعاكسي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retrograded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: نشا مجلتن معاد التبلور إلى شكل غير قابل للهضم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499"/>
              </a:spcBef>
              <a:buSzPct val="1315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RS4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نشا محور كيميائياً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(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Esters and ethers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النشا التعاكسي</a:t>
            </a:r>
            <a:r>
              <a:rPr b="0" lang="ar-SA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RS3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101680"/>
            <a:ext cx="7772400" cy="40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أكثر الأنواع اهتماماً من قبل صناعة الحبوب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70720" indent="-27072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يتكون في الغالب خلال انتاج الأغذية المحتوية على الحبوب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70720" indent="-27072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تحدد الكمية المنتجة منه 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707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 - بالمنتج وعملية التصنيع المستخدمة في انتاج الحبوب ( رقائق الحبوب تحتوي على كميات أعلى 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707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 - كميات النشا الموجودة على شكل أميلوز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707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* مهم على المستوى الفسيولوجي ( شبيه بالألياف الغذائية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707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تأثير الاستخلاص على الفيتامينات في حبوب</a:t>
            </a:r>
            <a:r>
              <a:rPr b="0" lang="en-US" sz="40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hi-IN" sz="40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القمح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5129280" cy="4199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7572"/>
                </a:solidFill>
                <a:latin typeface="Arial Narrow"/>
                <a:cs typeface="PT Bold Mirror"/>
              </a:rPr>
              <a:t>تأثير الاستخلاص على العناصر المعدنية في حبوب القمح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856040" cy="396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7572"/>
                </a:solidFill>
                <a:latin typeface="Arial Narrow"/>
              </a:rPr>
              <a:t>التطوير التغذوي للأغذية المحتوية على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hi-IN" sz="3600" spc="-1" strike="noStrike">
                <a:solidFill>
                  <a:srgbClr val="007572"/>
                </a:solidFill>
                <a:latin typeface="Arial Narrow"/>
              </a:rPr>
              <a:t>الحبوب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 algn="ctr" rtl="1">
              <a:spcBef>
                <a:spcPts val="901"/>
              </a:spcBef>
              <a:buClr>
                <a:srgbClr val="333333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33"/>
                </a:solidFill>
                <a:latin typeface="Arial Narrow"/>
              </a:rPr>
              <a:t>الوضع الراهن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  <a:p>
            <a:pPr marL="554400" indent="-554400" algn="r" rtl="1">
              <a:spcBef>
                <a:spcPts val="799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الحاجة لتطوير منتجات تساهم في رغبة المستهلك الحصول على وجبة صحي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554400" indent="-554400" algn="r" rtl="1">
              <a:spcBef>
                <a:spcPts val="799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الأغذية الوظيفية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unctional foods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554400" indent="-554400" algn="r" rtl="1">
              <a:spcBef>
                <a:spcPts val="799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عريف الأغذية الوظيفية : أغذية مصنعة تحتوي مكونات تساعد على وظائف جسمية محددة بالإضافة إلى كونها مغذي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554400" indent="-554400" algn="r" rtl="1">
              <a:spcBef>
                <a:spcPts val="799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الأغذية الوظيفية ليست عقاقير أو أدوية طبي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55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تابع الوضع الراهن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601"/>
              </a:spcBef>
              <a:buSzPct val="1096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أزداد في السنوات القليلة الماضية عدد المنتجات المحتوية على الحبوب والمسوقة على أساس أنها أغذية وظيفية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- زيادة المحتوى من الفيتامينات والمعادن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- المنتجات المحتوية على الاستروجينات النباتية 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phyto-oestrogens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( تشابه الهرمون الأنثوي 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oestradiol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     -- تقسم إلى 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3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أصناف كيميائية عامة هي 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isoflavones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و 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coumestans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و 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lignans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     -- تأثيراتها الصحية المفيدة :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        * الحد من أمراض القلب الوعائية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        * الحد من بعض الأمراض السرطانية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        * الحد من مشاكل انقطاع الطمث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-  النمو في المنتجات المغناة بالألياف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893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7572"/>
                </a:solidFill>
                <a:latin typeface="Arial Narrow"/>
              </a:rPr>
              <a:t>التطوير التغذوي للأغذية المحتوية على الحبوب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3360" y="1844640"/>
            <a:ext cx="8216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2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.اعتبارات التخطيط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التركيز على الوظيفية 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functionality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- الحصول على النتائج الفسيولوجية المرغوبة من الغذاء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- تصرف المكونات خلال التصنيع مع تأثيراتها على خصائص المنتج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الوظيفة الفسيولوجية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- استخدام 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HTST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في العلف ( خفض كفاءة تغذية الحيوان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 * زيادة جزء الألياف الغذائية ( ↑لزوجة المادة المهضومة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    * التغلب على ذلك بإضافة أنزيمات مناسبة لتحلل الألياف الغذائية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- الأخذ في الاعتبار للتأثيرات الأخرى غير المرغوبة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الوظيفة التقنية 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- توافق المنتج مع تقنية التصنيع الموجودة ( الخبز الغني بالألياف 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 - دراسة انسيابية </a:t>
            </a: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rheology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العجين وخصائص التداول ومظهر وقوام المنتج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7572"/>
                </a:solidFill>
                <a:latin typeface="Arial Narrow"/>
                <a:cs typeface="PT Bold Mirror"/>
              </a:rPr>
              <a:t>الأهمية التغذوية للحبوب وصناعة الحبوب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33"/>
                </a:solidFill>
                <a:latin typeface="Arial Narrow"/>
              </a:rPr>
              <a:t>العناصر الغذائية والألياف الغذائي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33"/>
                </a:solidFill>
                <a:latin typeface="Arial Narrow"/>
              </a:rPr>
              <a:t>تساهم الأغذية المحتوية على الحبوب في بريطانيا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   -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30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% من الطاق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   - أكثر من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20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% من البروتين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   - حوالي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50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% من الألياف الغذائي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33"/>
                </a:solidFill>
                <a:latin typeface="Arial Narrow"/>
              </a:rPr>
              <a:t>المكون المهم في أعلاف الحيوانات (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59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 % من محصول الحبوب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7572"/>
                </a:solidFill>
                <a:latin typeface="Arial Narrow"/>
              </a:rPr>
              <a:t>التطوير التغذوي للأغذية المحتوية على</a:t>
            </a: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hi-IN" sz="3600" spc="-1" strike="noStrike">
                <a:solidFill>
                  <a:srgbClr val="007572"/>
                </a:solidFill>
                <a:latin typeface="Arial Narrow"/>
              </a:rPr>
              <a:t>الحبوب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3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. التسويق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33"/>
                </a:solidFill>
                <a:latin typeface="Arial Narrow"/>
              </a:rPr>
              <a:t>احتواء المنتج على مكونات فعالة كافية للالتزام بالمتطلبات التشريعي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33"/>
                </a:solidFill>
                <a:latin typeface="Arial Narrow"/>
              </a:rPr>
              <a:t>التأكد من الوظيفة الفسيولوجية للمنتج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33"/>
                </a:solidFill>
                <a:latin typeface="Arial Narrow"/>
              </a:rPr>
              <a:t>خصائص حسية مقبولة للمنتج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33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33"/>
                </a:solidFill>
                <a:latin typeface="Arial Narrow"/>
              </a:rPr>
              <a:t>الدعاية التسويقية قانونية وصحيحة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سلبيات الحبوب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مستويات منخفضة من بعض الأحماض الأمينية ( </a:t>
            </a: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lys , thr</a:t>
            </a: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 )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74320" indent="-27432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تخضع للمعاملات التصنيعية لزيادة التوافر الحيوي للعناصر الغذائية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74320" indent="-27432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التوافر الحيوي هو كمية العنصر الغذائي الموجود في الغذاء الذي يمتص فعلياً في الجهاز الهضمي للكائن الحي المستهلك له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74320" indent="-27432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المعاملة التصنيعية للحبوب :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   - التصنيع الميكانيكي ( الطحن)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   - المعاملة الحرارية ( الخبز)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* الفائدة التغذوية الرئيسة لتصنيع الحبوب زيادة التوافر الحيوي للعناصر الغذائية  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دور العمليات الميكانيكية في التوافر الحيوي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تقسم العمليات الميكانيكية إلى 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3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أقسام: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- الحك ( الكشط)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abrasive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- التصغير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reductive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- الاثنان معاً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-548280" algn="r" rtl="1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عمليات الحك ( الكشط):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- إزالة غلاف البذرة الخارجي وطبقات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aleurone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( طبقات النخالة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bran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- تجعل الاندوسبرم النشوي قابل لتأثيرات الطبخ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- فقد في بعض فيتامينات ب المركبة ( مثل الثيامين )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- تقارير الفقد تتراوح من 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5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إلى 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10</a:t>
            </a: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أضعاف عند مقارنة مستوى الثيامين في الأرز المطحون المبيض مع الأرز غير المقشور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marL="548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33"/>
                </a:solidFill>
                <a:latin typeface="Arial Narrow"/>
              </a:rPr>
              <a:t>  - يمثل مشكلة فقط للمجتمعات المحدودة المصادر الغذائية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تابع العمليات الميكانيكية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2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. عمليات التصغير :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- غالبية الحبوب يتم تحويلها إلى أجزاء صغيرة قبل التصنيع والاستهلاك 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 -- تقطيعها إلى أجزاء ( صناعة جريش الذرة )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 -- مسحوق ( فصل النخالة و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aleurone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والجنين من الاندوسبرم النشوي ) أو تظل دون فصل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انتاج الدقيق: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- تصغير متدرج باستخدام مطاحن اسطوانية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  -- ضبط المحتوى الرطوبي لحبوب القمح 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- إزالة الاندوسبرم النشوي من النخالة (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molina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  -- نظام الحك مرة أخرى للفصل بين غلاف البذرة والاندوسبرم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* تطحن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molina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الخشنة إلى دقيق خلال نظام آخر من المطاحن الاسطوانية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-3052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غالبية القمح الأصلي يتحول إلى دقيق يطلق عليه معدل الاستخلاص 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- الدقيق الأبيض : معدل الاستخالص بين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72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و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80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- الدقيق البني    : معدل الاستخلاص بين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85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و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98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05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- الدقيق الكامل   : معدل الاستخلاص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100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% (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wholewheat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أو 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graham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)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الضبط التشريعي للدقيق وأهميته التغذوية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لا تقتصر تقنيات الطحن على التصغير الميكانيكي ولكنها تفصل أيضاً الاندوسبرم النشوي من النخالة والجنين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يحتوي الجنين والنخالة على كميات مهمة من العناصر الغذائية الأساسية ( يؤثر على الصحة العامة)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يخضع تركيب الدقيق في العديد من الدول إلى التشريعات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النقاوة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التركيب التغذوي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-3394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أهمية التشريعات من الناحية التغذوية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تحدد محتوى معين من العناصر الغذائية لكل أنواع الدقيق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يدعم الدقيق الذي له معدل استخلاص أقل من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100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% بالنياسين والثيامين والحديد ( فقد الطحن ) ويتم إغناءه بالكالسيوم 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خفض كبير في الألياف الغذائية في الدقيق الناتج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  -- الألياف في الدقيق الأبيض :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1,5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جم/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100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جم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3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  -- الألياف في دقيق القمح الكامل :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5,8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جم/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100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جم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المعاملة الحرارية للحبوب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منتجات الحبوب عديدة ومختلفة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-31896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التقنية المستخدمة لتصنيع منتج ما مهمة تغذوياً كأهمية المكونات نفسها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-31896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أثير المعاملة الحرارية والميكانيكية من الناحية التغذوية: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- الفيتامينات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- التركيب الكيموطبيعي للكربوهيدرات المعقدة الموجودة في المنتج النهائي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تأثير المعاملة الحرارية على الفيتامينات في الحبوب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عدد من الفيتامينات الموجودة أو المضافة للحبوب غير ثابتة حرارياً ( فيتامينات ب المركبة وفيتامين ج)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تعتمد درجة تحطم الفيتامين على: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المكون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خطوة الإعداد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طريقة الطبخ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الفقد خلال الخبز: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الثيامين :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15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-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25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الرايبوفلافين :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15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البيرودكسين وحمض البنتوثونيك :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25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- الفوليت : 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50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%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يعوض الفقد بإضافة الفيتامين إلى المنتج أو رشه 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3152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استخدام أنظمة ضبط الجودة للتحقق من ذلك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تأثير المعاملة الحرارية على الكربوهيدرات المعقدة في</a:t>
            </a:r>
            <a:r>
              <a:rPr b="0" lang="ar-SA" sz="36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0" lang="ar-SA" sz="3200" spc="-1" strike="noStrike">
                <a:solidFill>
                  <a:srgbClr val="007572"/>
                </a:solidFill>
                <a:latin typeface="Arial Narrow"/>
                <a:cs typeface="PT Simple Bold Ruled"/>
              </a:rPr>
              <a:t>الحبوب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يتركز الاهتمام على النشا والسكريات العديدة غير النشوية </a:t>
            </a: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NSP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تأثير التصنيع على الخصائص الفسيولوجية للنشا: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- تغيرات في التركيب الكيموطبيعي للنشا في الاندوسبرم ( الجلتنة = تمزق لا رجعي لحبيبات النشا)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2948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Arial Narrow"/>
              </a:rPr>
              <a:t>    - تؤدي الجلتنة إلى جعل النشا أكثر حساسية للتحطم بأنزيمات </a:t>
            </a:r>
            <a:r>
              <a:rPr b="0" lang="el-GR" sz="2000" spc="-1" strike="noStrike">
                <a:solidFill>
                  <a:srgbClr val="333333"/>
                </a:solidFill>
                <a:latin typeface="Arial Narrow"/>
              </a:rPr>
              <a:t>α</a:t>
            </a: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-amylases</a:t>
            </a: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 Narrow"/>
              </a:rPr>
              <a:t>     </a:t>
            </a:r>
            <a:r>
              <a:rPr b="0" lang="ar-SA" sz="2800" spc="-1" strike="noStrike">
                <a:solidFill>
                  <a:srgbClr val="333333"/>
                </a:solidFill>
                <a:latin typeface="Arial Narrow"/>
              </a:rPr>
              <a:t>- الوضع أكثر تعقيداً من ذلك ( يختلف النشا من حيث القابلية الهضمية النسبية )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13:22Z</dcterms:created>
  <dc:creator>user</dc:creator>
  <dc:description/>
  <dc:language>en-US</dc:language>
  <cp:lastModifiedBy>user</cp:lastModifiedBy>
  <dcterms:modified xsi:type="dcterms:W3CDTF">2004-10-10T22:28:58Z</dcterms:modified>
  <cp:revision>64</cp:revision>
  <dc:subject/>
  <dc:title>مكونات حبة القمح</dc:title>
</cp:coreProperties>
</file>