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C7C-91F9-4FCA-AC95-5DF4155F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B05-2BF0-4FFF-A4FD-EBB82515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326-1C28-458D-BD24-76A02E29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D9E-6F44-4715-B1E9-5C57FD44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2961-6377-4350-B317-8BD3E0D4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75BB-6F4C-4581-B228-EA240F98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C8D-585A-454D-BB8F-8A82FBB6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44E-8DA4-4879-93D0-A71DE9D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3F36-2434-40EC-9B18-5034FE8C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E9B-FBAF-400C-A2B5-860311B8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B95-8B89-4A25-84A8-C8080276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044-5305-4703-87A6-1F03EA4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547C-3C57-406E-8912-0D6C4777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85D3-FBAA-4C15-AF0E-7114F9B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79C1-E069-435A-8FF2-2D25F8C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8181-B45B-4AD0-9639-4C8A882B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C338-38B5-4E0A-83EE-649B52A1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234-F0B7-4D3E-967A-03D46088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DCF-708A-490A-9A05-5B73E82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A24-8088-41B3-A570-CCEBFAA5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C00-B1D3-4D6D-ACCC-9DDD042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D3C-2DAD-4310-887B-B830A79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7BF-1B1E-4EC6-B48B-771FF00E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750-ED3D-4CEB-A8E7-DB254BA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87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91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112-5462-4ADD-B8C0-ED3B5636244F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222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225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228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05C-C1A5-41BF-A04D-9BD70A63E264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 rtl="1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 rtl="1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 rtl="1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صنيع أغذية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مكونات حبة القمح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343400" cy="31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قسيم الأغذية المحتوية على النشا المهضوم بمعدلات مختلفة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ستخدم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lycemic Index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(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-28116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عريف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 قياس معدل دخول الجلوكوز إلى مجرى الدم من غذاء غني بالكربوهيدرات مقارنة بوجبة مرجعية ( محلول جلوكوز) تحتوي على كمية مكافئة من الكربوهيدرات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-2811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خبز الأبيض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خبز البر الكامل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35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9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باستا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4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7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3240" y="680760"/>
            <a:ext cx="75153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فوائد الأغذية منخفضة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I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4840" y="2037960"/>
            <a:ext cx="74926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السيطرة التمثيلية للسكري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ركيزات منخفضة لدهون الدم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تحمل الجلوكو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زيادة فترة الشعور بالشبع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الأداء أثناء تمارين التحمل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خفض احتمالية التسرطن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6184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أسباب الاختلافات في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I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عملية التصنيع نفسها ( سرعة هضم النشا في الباستا والخبز الأبيض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عجن وتقطيع وبثق على درجات حرارة منخفضة لا تسهل من جلتنة النشا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تكسية بالبروتين لجزيئات النشا مما يؤدي إلى حجزها عن الأنزيمات الهاضم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تؤدي تقنية الغذاء أيضاً إلى تغير تركيب النشا ( نشا مقاوم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أنواع النشا المقاوم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1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غير قابل للتأثر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physically inaccessible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( يوجد في الحبوب أو البذور المطحونة جزئياً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2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حبيبات نشا مقاومة : نشا ذو بلورات محددة مقاومة للتحلل بأنزيمات الفا- أميلي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3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تعاكسي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etrograded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 نشا مجلتن معاد التبلور إلى شكل غير قابل للهضم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4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محور كيميائياً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(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Esters and ethers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نشا التعاكسي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RS3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أكثر الأنواع اهتماماً من قبل صناعة الحبوب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تكون في الغالب خلال انتاج الأغذية المحتوية على الحبوب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تحدد الكمية المنتجة منه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بالمنتج وعملية التصنيع المستخدمة في انتاج الحبوب ( رقائق الحبوب تحتوي على كميات أعلى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كميات النشا الموجودة على شكل أميلو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* مهم على المستوى الفسيولوجي ( شبيه بالألياف الغذائية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استخلاص على الفيتامينات في حبوب</a:t>
            </a: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40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قمح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129280" cy="4199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7572"/>
                </a:solidFill>
                <a:latin typeface="Arial Narrow"/>
                <a:cs typeface="PT Bold Mirror"/>
              </a:rPr>
              <a:t>تأثير الاستخلاص على العناصر المعدنية في حبوب القمح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حبوب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ctr" rtl="1">
              <a:spcBef>
                <a:spcPts val="901"/>
              </a:spcBef>
              <a:buClr>
                <a:srgbClr val="333333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33"/>
                </a:solidFill>
                <a:latin typeface="Arial Narrow"/>
              </a:rPr>
              <a:t>الوضع الراهن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حاجة لتطوير منتجات تساهم في رغبة المستهلك الحصول على وجبة صح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أغذية الوظيفية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unctional food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عريف الأغذية الوظيفية : أغذية مصنعة تحتوي مكونات تساعد على وظائف جسمية محددة بالإضافة إلى كونها مغذ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أغذية الوظيفية ليست عقاقير أو أدوية طب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ابع الوضع الراهن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أزداد في السنوات القليلة الماضية عدد المنتجات المحتوية على الحبوب والمسوقة على أساس أنها أغذية وظيف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- زيادة المحتوى من الفيتامينات والمعادن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- المنتجات المحتوية على الاستروجينات النبات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phyto-oestrogen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( تشابه الهرمون الأنثوي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oestradiol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-- تقسم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صناف كيميائية عامة هي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isoflavone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coumestan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lignan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-- تأثيراتها الصحية المفيدة 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أمراض القلب الوع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بعض الأمراض السرطان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مشاكل انقطاع الطمث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-  النمو في المنتجات المغناة بالألياف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3360" y="1844640"/>
            <a:ext cx="8216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2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.اعتبارات التخطيط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تركيز على الوظيف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functionality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الحصول على النتائج الفسيولوجية المرغوبة من الغذاء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تصرف المكونات خلال التصنيع مع تأثيراتها على خصائص المنتج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وظيفة الفسيولوجية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استخدام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TST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في العلف ( خفض كفاءة تغذية الحيوان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* زيادة جزء الألياف الغذائية ( ↑لزوجة المادة المهضومة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* التغلب على ذلك بإضافة أنزيمات مناسبة لتحلل الألياف الغذ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الأخذ في الاعتبار للتأثيرات الأخرى غير المرغوب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وظيفة التقنية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توافق المنتج مع تقنية التصنيع الموجودة ( الخبز الغني بالألياف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دراسة انسياب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rheology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العجين وخصائص التداول ومظهر وقوام المنتج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7572"/>
                </a:solidFill>
                <a:latin typeface="Arial Narrow"/>
                <a:cs typeface="PT Bold Mirror"/>
              </a:rPr>
              <a:t>الأهمية التغذوية للحبوب وصناعة الحبوب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عناصر الغذائية والألياف الغذائ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تساهم الأغذية المحتوية على الحبوب في بريطانيا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3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طاق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أكثر من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2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بروتين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حوالي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5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ألياف الغذائ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مكون المهم في أعلاف الحيوانات (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59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محصول الحبوب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حبوب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. التسويق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حتواء المنتج على مكونات فعالة كافية للالتزام بالمتطلبات التشريع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تأكد من الوظيفة الفسيولوجية للمنتج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خصائص حسية مقبولة للمنتج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دعاية التسويقية قانونية وصحيح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سلبيات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مستويات منخفضة من بعض الأحماض الأمينية ( 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lys , thr</a:t>
            </a: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تخضع للمعاملات التصنيعية لزيادة التوافر الحيوي للعناصر الغذائية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التوافر الحيوي هو كمية العنصر الغذائي الموجود في الغذاء الذي يمتص فعلياً في الجهاز الهضمي للكائن الحي المستهلك له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المعاملة التصنيعية للحبوب :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  - التصنيع الميكانيكي ( الطحن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  - المعاملة الحرارية ( الخبز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* الفائدة التغذوية الرئيسة لتصنيع الحبوب زيادة التوافر الحيوي للعناصر الغذائية  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دور العمليات الميكانيكية في التوافر الحيوي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تقسم العمليات الميكانيكية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قسام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حك ( الكشط)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brasiv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تصغير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eductiv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اثنان معاً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-548280" algn="r" rtl="1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عمليات الحك ( الكشط)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إزالة غلاف البذرة الخارجي وطبقات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leurone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( طبقات النخالة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bran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تجعل الاندوسبرم النشوي قابل لتأثيرات الطبخ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فقد في بعض فيتامينات ب المركبة ( مثل الثيامين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تقارير الفقد تتراوح من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5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10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ضعاف عند مقارنة مستوى الثيامين في الأرز المطحون المبيض مع الأرز غير المقشور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يمثل مشكلة فقط للمجتمعات المحدودة المصادر الغذ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ابع العمليات الميكانيكية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. عمليات التصغير 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غالبية الحبوب يتم تحويلها إلى أجزاء صغيرة قبل التصنيع والاستهلاك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-- تقطيعها إلى أجزاء ( صناعة جريش الذرة 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-- مسحوق ( فصل النخالة و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leurone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الجنين من الاندوسبرم النشوي ) أو تظل دون فصل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نتاج الدقيق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تصغير متدرج باستخدام مطاحن اسطوان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ضبط المحتوى الرطوبي لحبوب القمح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إزالة الاندوسبرم النشوي من النخالة (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molina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نظام الحك مرة أخرى للفصل بين غلاف البذرة والاندوسبر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* تطحن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molina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الخشنة إلى دقيق خلال نظام آخر من المطاحن الاسطوان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غالبية القمح الأصلي يتحول إلى دقيق يطلق عليه معدل الاستخلاص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أبيض : معدل الاستخالص بي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72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8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بني    : معدل الاستخلاص بي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8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98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كامل   : معدل الاستخلاص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 (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wholewheat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أو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graham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ضبط التشريعي للدقيق وأهميته التغذوية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لا تقتصر تقنيات الطحن على التصغير الميكانيكي ولكنها تفصل أيضاً الاندوسبرم النشوي من النخالة والجنين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حتوي الجنين والنخالة على كميات مهمة من العناصر الغذائية الأساسية ( يؤثر على الصحة العامة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خضع تركيب الدقيق في العديد من الدول إلى التشريعات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نقاو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تركيب التغذوي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أهمية التشريعات من الناحية التغذو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تحدد محتوى معين من العناصر الغذائية لكل أنواع الدقيق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يدعم الدقيق الذي له معدل استخلاص أقل م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 بالنياسين والثيامين والحديد ( فقد الطحن ) ويتم إغناءه بالكالسيوم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خفض كبير في الألياف الغذائية في الدقيق الناتج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الألياف في الدقيق الأبيض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,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/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الألياف في دقيق القمح الكامل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5,8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/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معاملة الحرارية ل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منتجات الحبوب عديدة ومختلفة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تقنية المستخدمة لتصنيع منتج ما مهمة تغذوياً كأهمية المكونات نفسها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أثير المعاملة الحرارية والميكانيكية من الناحية التغذوية: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- الفيتامينات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- التركيب الكيموطبيعي للكربوهيدرات المعقدة الموجودة في المنتج النهائي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معاملة الحرارية على الفيتامينات في الحبوب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عدد من الفيتامينات الموجودة أو المضافة للحبوب غير ثابتة حرارياً ( فيتامينات ب المركبة وفيتامين ج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تعتمد درجة تحطم الفيتامين على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مكون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خطوة الإعداد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طريقة الطبخ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لفقد خلال الخبز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ثيامين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رايبوفلافين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بيرودكسين وحمض البنتوثونيك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فوليت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5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عوض الفقد بإضافة الفيتامين إلى المنتج أو رشه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ستخدام أنظمة ضبط الجودة للتحقق من ذلك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معاملة الحرارية على الكربوهيدرات المعقدة في</a:t>
            </a:r>
            <a:r>
              <a:rPr b="0" lang="ar-SA" sz="36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حبوب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تركز الاهتمام على النشا والسكريات العديدة غير النشوية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SP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أثير التصنيع على الخصائص الفسيولوجية للنشا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- تغيرات في التركيب الكيموطبيعي للنشا في الاندوسبرم ( الجلتنة = تمزق لا رجعي لحبيبات النشا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- تؤدي الجلتنة إلى جعل النشا أكثر حساسية للتحطم بأنزيمات </a:t>
            </a:r>
            <a:r>
              <a:rPr b="0" lang="el-GR" sz="2000" spc="-1" strike="noStrike">
                <a:solidFill>
                  <a:srgbClr val="333333"/>
                </a:solidFill>
                <a:latin typeface="Arial Narrow"/>
              </a:rPr>
              <a:t>α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-amylases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- الوضع أكثر تعقيداً من ذلك ( يختلف النشا من حيث القابلية الهضمية النسبية 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13:22Z</dcterms:created>
  <dc:creator>user</dc:creator>
  <dc:description/>
  <dc:language>en-US</dc:language>
  <cp:lastModifiedBy>user</cp:lastModifiedBy>
  <dcterms:modified xsi:type="dcterms:W3CDTF">2004-10-10T22:28:58Z</dcterms:modified>
  <cp:revision>64</cp:revision>
  <dc:subject/>
  <dc:title>مكونات حبة القمح</dc:title>
</cp:coreProperties>
</file>