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27A9-F3CA-48A9-BD33-E75E1E35E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D63C-F25E-40C3-B3B8-A3C9F6156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BDB3-641B-4081-9DEE-FD101F63D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ACE0-0060-4DDB-8294-FED3822A83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2003-8048-4B19-A2E2-0056D4435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A38D-6F4D-4830-8B3F-6F7DF138E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D5B1-6B7E-4E76-9EFA-4C1F4902F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13D4-E1DE-4FAC-98CA-895763A76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00B7-186E-4C50-92C3-5B16FD814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CE28-A6D6-49B2-8538-834588D89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F531-380A-4D65-9720-E4222B48B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83ED-22DC-4115-BC27-1E5CF8BCD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DDED-2488-4C0B-84F3-8D9A4B779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9662-A4AB-4E4C-BAEE-7E1359E9F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A269-A78B-474A-80FF-BF88B74B5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1DCD-EE37-4AE6-B01B-0D697E6A6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5BDF-FB50-4C07-A7C4-C395F52EE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ECE8-4B7B-491B-B097-F108AA339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CB7F-A7F8-46E6-96F8-DA1455B06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1A008-F615-4126-ABBA-D4999103B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FA28-0094-4A0D-A6E2-2901563945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9FA3-4ABC-428E-A7C5-BFE854AC411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F6A0F9-A486-418B-89FB-BADAE2EE8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33476-9CA9-473F-8FB3-AEF693EBC7E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776D84-DF80-4A3D-833A-61C57552CF0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F8DF1E-7B4E-4F90-8164-4BC66EB61AF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B41DAE-E3D1-42EF-9438-9D0A58C38C5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8EFE4A-EBCA-4796-8632-8ABF20A7FCD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F8DC4B-10C4-4E2E-950C-7769E3E65FA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9D25D3-22B2-42D6-A0B0-5CFA463C871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327ED4-602F-4665-BD87-999B933A724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3667AD-FED9-45C1-8998-27A446F2984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34EFB1-BB14-44B9-B561-C3B92FAC648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394C42-E9FC-4989-A4FF-D420774EC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36833-CC21-437E-B9F7-30C47AC11F3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935CD9-9C17-4DF0-AD90-887941984E0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A489AC-C46B-4B34-B208-B45B29D53CE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470FAA-D971-4438-BA06-1BE5516F6A2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A1E104-455B-40E6-9CC8-4FF63B859CA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62EEF9-4D3D-42E2-8B11-292F988B46E9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67ADA8-F38F-4CF7-9362-C25525DB9545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EB4A04-41A5-4E6D-BE06-B7D937A7FE4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75D15C-A6F7-473B-83B1-71B53F10D27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47AFFF-DC6E-40DB-940A-305C345FF8F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5653C2-D95B-411E-9420-30931DDBC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6B4A71-5054-4477-B375-ED81C9CB4A6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72AC21-A909-4632-83D1-84B46A97D137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5E911F-1F4A-4EC5-82E8-1645CB8AFB1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D9F476-3ACB-435B-A986-DFD7AD59C18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5E95A5-BA16-462D-80E0-AE119A2E6A9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FDBD5-ED25-4940-BC63-5FABD475216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FC6D8-1BA7-4AC9-80B3-5C1288090F11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05094-E8E3-4C1A-9426-6DFB91C6402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3B304-C373-409B-854E-D19FF3E76EC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1B5AD-3D61-45CA-BBFA-87F77893DCD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F96A7-B638-4B9B-ADF4-4B286D03243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83536-5C6A-4492-A7F3-001F325AEA5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B1892-646D-4966-9DE8-23813505359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F6955-B56D-4A85-B654-79ACE62B56F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D0E88-86AD-419F-AFFF-92172B64E9B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68F62-546A-4E87-8145-680437E45BC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C432E4-4C39-48D6-88AE-76D9258A860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88F873-E792-4C8E-B777-786D02C8B92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5C89C1-8A4F-4589-8CE8-207ECBAC561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0B1AAD-E111-4C81-BDB9-20AF1B9F1DD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C08FC-BEFC-4926-B210-ECD0EF8D330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BA8614-E2CA-41EF-A289-28AEE3F16CA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B0226-5BA4-4A00-97A6-81BF2E0C4D3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771102-025B-4E83-A6E7-638338B5258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261BC7-7900-4F8F-B967-2CB3767DE7A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C8CB5A-6837-453D-8C96-351DE83FE83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4FA036-71E1-4E9B-B8C8-3A978E1A35D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9DC3C4-B235-4845-8AAA-8FEFA9DBF31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6F71B8-32AB-45A7-80FF-5A39495E9B6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1F03CA-567B-4DC6-A07D-BD471DFF45D2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DC844-4379-44FC-89A1-74658D5B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D8D491-541E-4DE0-A937-3E577496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FAD20-107D-46D5-9160-271F87F4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B6554-009D-49E6-97E8-D9F72EF8FB86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7B7E5-C25D-443E-8C46-517842BB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4F969-E80E-418B-AA58-8E21E324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89EC0-6305-4B40-A192-7F76A28C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3436C-7DF3-4C1F-A5D5-BA9CB04D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5D5D6-DEAF-4099-8446-48D88BD0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70845-C7C8-444E-900D-42CE8797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78388-0436-447F-8F84-7E8755B2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F63B2-A6E4-4798-874D-A8BFC0827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D7D75-F2A7-4567-BC8A-F48FBD8D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D7829-E928-411E-8A32-60BFBDFF40D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A5CF3-D753-4B63-8BAD-444188C20E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6CA3C5-9D45-447C-AA03-C9566B4A33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E3F3F-DC87-47D9-8558-93D39B973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5921E-6ED8-4EBE-9520-8FCA82335F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8F3C9-F86B-410C-BCA9-B48CFAB1F3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7B66D-ED6A-4763-82B9-D4EA0419AB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50923-C0EB-4DE6-AFE2-F6A9BB9530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4A561-5578-40FD-A31B-9D78CDC2C79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2D34D-82F7-4EAC-A5F8-5B4DA85833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C7778F-DB62-49B6-B0B7-833FCEDF7C4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410A9-9EBA-4E45-8C26-30125C637E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3F764-F45A-4964-BDBC-90483DA578D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89C02-20A2-4C5B-B30C-0EDCB12601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F541-AEEA-4577-8585-435CBAFD13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A980F0-1C3D-4D1E-A9C5-B59DCF70AA3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E9ABB-ED2B-427C-B34B-214737F948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4F0D8-4A9C-48DF-AC64-24E6983687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5BEF7-F956-4922-BDDC-B2BFE8125A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3E8BAC-DD5F-4491-9E9A-7CF2D6E8684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C58F2-392C-456C-86B4-54B5B8E53F4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A535A-1A90-45D2-80F0-2647CEE540C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6BE8-1669-4C61-8A05-34BC3212D8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379BA-722C-4812-857B-59B1419B9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563A-9E83-4572-AFD8-CAD04F68233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09804F-A811-4B16-AB9F-04A2C49A5DE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0044A-29DE-4530-8ED8-411CC13B638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AAFA8-A6BB-4207-8BC5-3F2A962B262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1A33C1-9BB2-42AE-A8B0-A98E1D17AE3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464D0-AD96-49E8-A8A8-B166495379D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A94876-E737-44F2-BD6F-57996379E54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13FDC-2DE5-4231-8774-6A57B991A66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ED3D8C-906B-4624-B5FF-FB27B826702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78998F-DB95-44C5-943B-8AACCDF3B67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7B05F-2FDA-4F43-97A1-94D6610C3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6BF0-133F-4A63-A5B1-AB559A3877E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A11F5-7BC1-4664-8D17-78A15852AFD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B806A2-B1D0-4881-8740-BA1DE91CEC5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4AFD4B-7155-4AD5-B771-307F863A4AA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D02526-93F2-4B61-B6D2-D5EA74CB1FA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94DBEB-40D8-4490-94A4-93609A7CAA7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570739-2717-4333-8CEE-1E66F17A28F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5413DF-E0BA-4F79-ABFE-638DDA72DC5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4AE5C6-5AFF-454C-8C81-518E3BF565F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500F71-3FAD-4A38-B304-71FA558BFB9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03B700-87B0-479C-9922-DA86DF581E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4E9C-5355-4A1B-8AC1-7CD92400B51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B7434B-80FA-469E-9DAD-CFA8AC88FED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42846D-70E1-4D12-8988-0C481A0E209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3B839D-D702-42E5-BEA9-63B4B8F4987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9C102-29AE-435D-AE7B-F61694FAC23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04E6EA-CFDA-47A1-870F-9491644F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C88BB2-3F29-4A0E-BFB3-33BA3344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FD14B1-9450-4152-8476-69B7849B5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4A7A14-9F3C-4914-8F27-9D52F7A9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6E5AF6-3416-46C1-9422-F90C59F0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3F0C-4D88-4C82-902C-54D8017D182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BE508F-3562-4F56-AAEF-71B81728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CE2022-802A-4887-9C87-18B9602A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04044F-BFD1-46F6-848B-A2B15EE4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A75A12-9D3D-4BCC-8173-CC7734EC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06C1C2-BA0D-4913-B4EE-23730CB03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CEB4A3-A451-4DD2-88E8-03C55A5E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CA4284-25B7-476B-9650-07A3D41B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7-</a:t>
            </a:r>
            <a:fld id="{98F3F723-09F2-4130-8055-EDB7CC8A0DDF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4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385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sldNum" idx="14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7-</a:t>
            </a:r>
            <a:fld id="{419ED9D7-2F7F-456F-9D29-8BC6EF285CB9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15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28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16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7-</a:t>
            </a:r>
            <a:fld id="{1AB82FAA-7F89-440F-A183-A6E97EF24B63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17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0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71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Num" idx="18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7-</a:t>
            </a:r>
            <a:fld id="{972337E3-F2F2-4558-A457-5A9A6FC4D3C0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19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3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14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20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7-</a:t>
            </a:r>
            <a:fld id="{2B492F86-A68D-4796-A64F-A6D868561464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21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A5C8-160B-47E1-A472-ACB7DCAFDBC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7-</a:t>
            </a:r>
            <a:fld id="{BBAE713B-7F3C-4680-8E1A-EDC76AE27178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8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5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2 -</a:t>
            </a:r>
            <a:fld id="{671B49F3-855B-4C9C-9F06-174EC96A3A27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6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130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321600" y="-29226240"/>
            <a:ext cx="265896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33840" indent="-338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4520" indent="-363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3400" indent="-3456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0640" indent="-385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Line 7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7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8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CE40-C97F-4C14-84C2-322FBC5EF75E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2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9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9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0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1AF8-8391-4927-A628-B07BF00A622F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17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217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58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7" descr="Pearson_Bound_White"/>
          <p:cNvPicPr/>
          <p:nvPr/>
        </p:nvPicPr>
        <p:blipFill>
          <a:blip r:embed="rId3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DE8D-7065-41C9-B32E-0CADB652C73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7" descr="Pearson_Bound_White"/>
          <p:cNvPicPr/>
          <p:nvPr/>
        </p:nvPicPr>
        <p:blipFill>
          <a:blip r:embed="rId2"/>
          <a:stretch/>
        </p:blipFill>
        <p:spPr>
          <a:xfrm>
            <a:off x="7783560" y="6496200"/>
            <a:ext cx="1190520" cy="223560"/>
          </a:xfrm>
          <a:prstGeom prst="rect">
            <a:avLst/>
          </a:prstGeom>
          <a:ln w="0">
            <a:noFill/>
          </a:ln>
        </p:spPr>
      </p:pic>
      <p:sp>
        <p:nvSpPr>
          <p:cNvPr id="340" name="Line 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341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10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343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4" descr="Pearson_Bound_White"/>
          <p:cNvPicPr/>
          <p:nvPr/>
        </p:nvPicPr>
        <p:blipFill>
          <a:blip r:embed="rId5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Always_Learning_Text_Orange_RGB"/>
          <p:cNvPicPr/>
          <p:nvPr/>
        </p:nvPicPr>
        <p:blipFill>
          <a:blip r:embed="rId1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60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7" name="Slide Number Placeholder 5"/>
          <p:cNvSpPr/>
          <p:nvPr/>
        </p:nvSpPr>
        <p:spPr>
          <a:xfrm>
            <a:off x="22860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52A94D8C-5300-46AF-918C-5C2FA2767B9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ED0EB0CC-C724-4951-BE9A-BE884A0060E2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1" name="Text Box 2"/>
          <p:cNvSpPr/>
          <p:nvPr/>
        </p:nvSpPr>
        <p:spPr>
          <a:xfrm>
            <a:off x="533520" y="457200"/>
            <a:ext cx="609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Annual Objective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rpose of Annual Objectiv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2" name="Text Box 4"/>
          <p:cNvSpPr/>
          <p:nvPr/>
        </p:nvSpPr>
        <p:spPr>
          <a:xfrm>
            <a:off x="533520" y="2057400"/>
            <a:ext cx="8305560" cy="353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sis for resource allocat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chanism for management evaluat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tric for measuring the progress on long-term objectiv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iorities (organizational, divisional, and departmental)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0FFBE705-79CB-4821-9ACB-8EA4F49651E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Polices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0" y="1523520"/>
            <a:ext cx="9144000" cy="48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ff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fers to specific guidelines , methods , procedures , rules , forms and administrative practices established to support and encourage work toward stated goal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ff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Some examples that may requires a policy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use one or more supplier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operate one ,two , or three shif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discourage smoking at work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discourage insider trad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o discourage working on a secondary job for a different employe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Footer Placeholder 6"/>
          <p:cNvSpPr/>
          <p:nvPr/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79" name="Slide Number Placeholder 5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E4495F64-E9DE-4195-A770-CB31DF01F71B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1E08478F-4627-4216-B220-6EE5A1B0AED4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1" name="Text Box 2"/>
          <p:cNvSpPr/>
          <p:nvPr/>
        </p:nvSpPr>
        <p:spPr>
          <a:xfrm>
            <a:off x="5335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Resource Allocation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0" y="1447920"/>
            <a:ext cx="9144000" cy="611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ources allocation is a central management activit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process of allocating resources consistent with priorities indicated by approved annual objectiv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Verdana"/>
              </a:rPr>
              <a:t>All organizations have four types of resource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ial resourc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ysical resourc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uman resourc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chnological resourc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EE6D0103-15E4-4E32-9B8C-7494AA3E8B8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3D5FF00C-E328-462B-AA89-635E9593DA3B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7" name="Text Box 2"/>
          <p:cNvSpPr/>
          <p:nvPr/>
        </p:nvSpPr>
        <p:spPr>
          <a:xfrm>
            <a:off x="380880" y="4572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Managing Conflict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609480" y="1600200"/>
            <a:ext cx="7925040" cy="413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d6b06"/>
                </a:solidFill>
                <a:latin typeface="Arial"/>
              </a:rPr>
              <a:t>Conflict can be defined as</a:t>
            </a:r>
            <a:r>
              <a:rPr b="1" lang="en-US" sz="2800" spc="-1" strike="noStrike">
                <a:solidFill>
                  <a:srgbClr val="ed6b06"/>
                </a:solidFill>
                <a:latin typeface="Arial"/>
              </a:rPr>
              <a:t>--------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disagreement between two or more parties on one or more issues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lict not always “bad”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 absence of conflict can signal apath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lict can help managers identify problem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EAFF0CC6-1929-4FA5-B0B5-82EE74512E8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CD8E1E88-A061-470E-AAC0-8B4312B646D5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3" name="Text Box 2"/>
          <p:cNvSpPr/>
          <p:nvPr/>
        </p:nvSpPr>
        <p:spPr>
          <a:xfrm>
            <a:off x="457200" y="457200"/>
            <a:ext cx="838188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Managing Conflic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es for Managing Conflict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0" y="1752480"/>
            <a:ext cx="9144000" cy="45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d6b06"/>
                </a:solidFill>
                <a:latin typeface="Verdana"/>
              </a:rPr>
              <a:t>Avoidance</a:t>
            </a:r>
            <a:r>
              <a:rPr b="0" i="1" lang="en-US" sz="2400" spc="-1" strike="noStrike">
                <a:solidFill>
                  <a:srgbClr val="ed6b06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ed6b0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gnoring the problem in hopes that the conflict will resolve itself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Compromising</a:t>
            </a: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using) playing down differences between conflicting parties (there is neither a clear winner nor loser )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50"/>
                </a:solidFill>
                <a:latin typeface="Verdana"/>
              </a:rPr>
              <a:t>Confrontation</a:t>
            </a:r>
            <a:r>
              <a:rPr b="0" i="1" lang="en-US" sz="2000" spc="-1" strike="noStrike">
                <a:solidFill>
                  <a:srgbClr val="00b050"/>
                </a:solidFill>
                <a:latin typeface="Verdana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lding a meeting at which conflicting parties present their views and work through their differences.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98924F3E-818D-44DA-888B-63126E23E02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cxnSp>
        <p:nvCxnSpPr>
          <p:cNvPr id="698" name="Straight Arrow Connector 8"/>
          <p:cNvCxnSpPr/>
          <p:nvPr/>
        </p:nvCxnSpPr>
        <p:spPr>
          <a:xfrm>
            <a:off x="-2819520" y="0"/>
            <a:ext cx="915120" cy="915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699" name="Straight Arrow Connector 10"/>
          <p:cNvCxnSpPr/>
          <p:nvPr/>
        </p:nvCxnSpPr>
        <p:spPr>
          <a:xfrm>
            <a:off x="-2819520" y="0"/>
            <a:ext cx="915120" cy="915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700" name="Straight Arrow Connector 12"/>
          <p:cNvCxnSpPr/>
          <p:nvPr/>
        </p:nvCxnSpPr>
        <p:spPr>
          <a:xfrm>
            <a:off x="2133360" y="1980720"/>
            <a:ext cx="1067400" cy="1080"/>
          </a:xfrm>
          <a:prstGeom prst="straightConnector1">
            <a:avLst/>
          </a:prstGeom>
          <a:ln w="38160">
            <a:solidFill>
              <a:srgbClr val="f18938"/>
            </a:solidFill>
            <a:miter/>
            <a:tailEnd len="med" type="arrow" w="med"/>
          </a:ln>
        </p:spPr>
      </p:cxnSp>
      <p:cxnSp>
        <p:nvCxnSpPr>
          <p:cNvPr id="701" name="Straight Arrow Connector 14"/>
          <p:cNvCxnSpPr/>
          <p:nvPr/>
        </p:nvCxnSpPr>
        <p:spPr>
          <a:xfrm>
            <a:off x="3047760" y="3200040"/>
            <a:ext cx="11437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702" name="Straight Arrow Connector 15"/>
          <p:cNvCxnSpPr/>
          <p:nvPr/>
        </p:nvCxnSpPr>
        <p:spPr>
          <a:xfrm>
            <a:off x="2514240" y="4723920"/>
            <a:ext cx="114372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CBFC69DB-272B-4865-BA75-D66A9B556119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4" name="Text Box 2"/>
          <p:cNvSpPr/>
          <p:nvPr/>
        </p:nvSpPr>
        <p:spPr>
          <a:xfrm>
            <a:off x="533520" y="457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Matching Structure with Strategy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5" name="Text Box 3"/>
          <p:cNvSpPr/>
          <p:nvPr/>
        </p:nvSpPr>
        <p:spPr>
          <a:xfrm>
            <a:off x="533520" y="2057400"/>
            <a:ext cx="8001000" cy="334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hanges in strategy lead to changes in organizational Structure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ructure largely dictates how objectives and policies will be established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Structure dictates how resources will be allocated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D9A1F5ED-B320-4D4E-9F95-E74D3E7975B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EED23083-1617-4A51-B08D-2B14A44C13F6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0" name="Text Box 2"/>
          <p:cNvSpPr/>
          <p:nvPr/>
        </p:nvSpPr>
        <p:spPr>
          <a:xfrm>
            <a:off x="533520" y="457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tching Structure with Strateg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0" y="1752480"/>
            <a:ext cx="8763120" cy="28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al Structure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ivisional Structure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ic Business Unit Structure (SBU)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trix Structure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2" name="Text Box 4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3" name="Text Box 5"/>
          <p:cNvSpPr/>
          <p:nvPr/>
        </p:nvSpPr>
        <p:spPr>
          <a:xfrm>
            <a:off x="533520" y="914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asic Forms of Structure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1CCDBD50-C84F-4AC1-8983-422A4D042B6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d6b06"/>
                </a:solidFill>
                <a:uFillTx/>
                <a:latin typeface="Verdana"/>
              </a:rPr>
              <a:t>The Functional Structure </a:t>
            </a:r>
            <a:endParaRPr b="1" lang="en-US" sz="28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 functional structure groups tasks &amp; activities by business functions such as production &amp;operation ; marketing ; finance ;accounting …et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functional structure is the widely used structure because it is the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implest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least expensiv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, and promotes much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pecialization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lab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university may structure its activates by major functions that include academic affairs , student service ,  alumni relation , maintenance , and accounting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Footer Placeholder 6"/>
          <p:cNvSpPr/>
          <p:nvPr/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9" name="Slide Number Placeholder 5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0E98776E-AABB-4E04-85A3-E46BB4AAA1FC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Divisional Structure (decentralized structure )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228600" y="990360"/>
            <a:ext cx="8610480" cy="50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t is suitable for the large corporatio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t can be organized in one of four way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i="1" lang="en-US" sz="2000" spc="-1" strike="noStrike">
                <a:solidFill>
                  <a:srgbClr val="92d050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92d050"/>
                </a:solidFill>
                <a:latin typeface="Verdana"/>
              </a:rPr>
              <a:t>By geographic  a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i="1" lang="en-US" sz="2000" spc="-1" strike="noStrike">
                <a:solidFill>
                  <a:srgbClr val="92d050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92d050"/>
                </a:solidFill>
                <a:latin typeface="Verdana"/>
              </a:rPr>
              <a:t>By product or servi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i="1" lang="en-US" sz="2000" spc="-1" strike="noStrike">
                <a:solidFill>
                  <a:srgbClr val="92d050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92d050"/>
                </a:solidFill>
                <a:latin typeface="Verdana"/>
              </a:rPr>
              <a:t>By custom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92d05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i="1" lang="en-US" sz="2000" spc="-1" strike="noStrike">
                <a:solidFill>
                  <a:srgbClr val="92d050"/>
                </a:solidFill>
                <a:latin typeface="Verdana"/>
              </a:rPr>
              <a:t> </a:t>
            </a:r>
            <a:r>
              <a:rPr b="1" i="1" lang="en-US" sz="2000" spc="-1" strike="noStrike">
                <a:solidFill>
                  <a:srgbClr val="92d050"/>
                </a:solidFill>
                <a:latin typeface="Verdana"/>
              </a:rPr>
              <a:t>By process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i="1" lang="en-US" sz="2000" spc="-1" strike="noStrike">
                <a:solidFill>
                  <a:srgbClr val="92d05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divisional  structure is the second widely used structure because it enables the corporation to motivate employees ; control operation  and compete successfully in diverse lo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national investor (a comprehensive banking investment firm ) organizes its activates into four divisions ; investment banking ; private equity ; asset management ; and real estat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Footer Placeholder 3"/>
          <p:cNvSpPr/>
          <p:nvPr/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3" name="Slide Number Placeholder 4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C8E10D16-943D-49B4-A8E1-CFC896A22EA6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Strategic Business  Unit (SBU) structure 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 the number , size , and diversity  of divisions in an organization increase , the SBU  structure is needed 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ff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SABIC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has grouped its many divisions into six primary SBUs  ; chemicals ;; plastic ;polymers ; innovative plastics ; fertilizers and meta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BU  can greatly facilitate strategy implementation  effor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SBU  structure places similar  divisions into  SBU and delegates authority and responsibility for each unit to a senior executive who directly report to the CEO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Footer Placeholder 3"/>
          <p:cNvSpPr/>
          <p:nvPr/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7" name="Slide Number Placeholder 4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6FA08E37-EE14-4865-A425-D6A0100DF71C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84740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d6b06"/>
                </a:solidFill>
                <a:latin typeface="Verdana"/>
              </a:rPr>
              <a:t>Strategic Management: Concepts and Cases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664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ed R. Dav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bas J. 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dulrahman Y. Al-A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Chapter 8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Implementing Strategi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Management 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Operations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1" name="Picture 4" descr="CVR_STMA_SB_ARW_5674_CVR"/>
          <p:cNvPicPr/>
          <p:nvPr/>
        </p:nvPicPr>
        <p:blipFill>
          <a:blip r:embed="rId1"/>
          <a:stretch/>
        </p:blipFill>
        <p:spPr>
          <a:xfrm>
            <a:off x="5410080" y="1523880"/>
            <a:ext cx="2874960" cy="4138560"/>
          </a:xfrm>
          <a:prstGeom prst="rect">
            <a:avLst/>
          </a:prstGeom>
          <a:ln w="0">
            <a:noFill/>
          </a:ln>
        </p:spPr>
      </p:pic>
      <p:sp>
        <p:nvSpPr>
          <p:cNvPr id="61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3" name="Slide Number Placeholder 5"/>
          <p:cNvSpPr/>
          <p:nvPr/>
        </p:nvSpPr>
        <p:spPr>
          <a:xfrm>
            <a:off x="30492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5CAE03D9-BF92-44AB-94CA-EAABEABD199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d6b06"/>
                </a:solidFill>
                <a:uFillTx/>
                <a:latin typeface="Verdana"/>
              </a:rPr>
              <a:t>The Matrix Structure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365040" y="990360"/>
            <a:ext cx="8407440" cy="50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matrix structure is the most complex of all design because it depends on both vertical and horizontal flows of authority and communic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ome advantages of the matrix structure 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ject  objectives are clea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nnel of communication will be  increas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acilitate  the use of specialized personal, equipments , and facilities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ff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For a matrix structure to be effectiv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rganizations need participative plann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aining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ear mutual understanding of roles and responsib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cellent internal communic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utual trust and confidence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Footer Placeholder 3"/>
          <p:cNvSpPr/>
          <p:nvPr/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opyright © 2009 Pearson Education, Inc. 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Publishing as Prentice Hall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1" name="Slide Number Placeholder 4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2C92D747-7C44-489F-A475-AD46945EC2EB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8D1C7AFE-C937-42E9-856E-93CE162134CE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3" name="Text Box 2"/>
          <p:cNvSpPr/>
          <p:nvPr/>
        </p:nvSpPr>
        <p:spPr>
          <a:xfrm>
            <a:off x="533520" y="457200"/>
            <a:ext cx="80769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Restructuring,, and Re-Engineering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estructuring (also called  Downsizing, rightsizing)    )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609480" y="2590920"/>
            <a:ext cx="7315200" cy="275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ducing the size of the firm in terms of number of employees , number of divisions  or units 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target is---------- to improve both efficiency and effectiveness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E6FF27CC-FAC5-4EF2-A1ED-704C77951A2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CA0E0B75-2C31-49BB-8AC5-64593A83A971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9" name="Text Box 2"/>
          <p:cNvSpPr/>
          <p:nvPr/>
        </p:nvSpPr>
        <p:spPr>
          <a:xfrm>
            <a:off x="457200" y="457200"/>
            <a:ext cx="82296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Re-engineering ;it is called also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 innovation , Process redesig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 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0" name="Text Box 4"/>
          <p:cNvSpPr/>
          <p:nvPr/>
        </p:nvSpPr>
        <p:spPr>
          <a:xfrm>
            <a:off x="457200" y="2590920"/>
            <a:ext cx="8305920" cy="23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engineering is concerned with employee and customer well being than shareholder well – being  .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purpose is  improving cost  - quality – service – and speed of the production  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1" name="Text Box 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902D9B44-211D-46FA-B34D-15C851A3CC1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25A4886E-8A76-4100-9DD1-4D3F57FC0EBF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5" name="Text Box 2"/>
          <p:cNvSpPr/>
          <p:nvPr/>
        </p:nvSpPr>
        <p:spPr>
          <a:xfrm>
            <a:off x="533520" y="457200"/>
            <a:ext cx="8076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Linking Performance and Pay to Strategi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ituation in the Arab World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533520" y="2514600"/>
            <a:ext cx="8001000" cy="30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st companies adopt a compensation system which primarily includes a base salary with annual rises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creasingly in large Arab corporations there is a tendency to utilize pay systems similar to those found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western countries.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43126D68-F7E7-46F8-BF7F-52B06636C58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28FAA639-D482-48C9-BF67-74B8AE726ABF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1" name="Text Box 2"/>
          <p:cNvSpPr/>
          <p:nvPr/>
        </p:nvSpPr>
        <p:spPr>
          <a:xfrm>
            <a:off x="533520" y="457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roduction/Operations Concern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2" name="Text Box 4"/>
          <p:cNvSpPr/>
          <p:nvPr/>
        </p:nvSpPr>
        <p:spPr>
          <a:xfrm>
            <a:off x="533520" y="2438280"/>
            <a:ext cx="73152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duction processes typically constitute more than 70% of firm’s total assets.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3" name="Text Box 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0FD6C4F9-D5CA-4B05-AF6A-46BD42E11AE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roduction/Operations Concerns (cont’d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duction/Operations Decisions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4133880" cy="34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lant siz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lant lo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duct desig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oice of equi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hipping and packag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echnological innov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quipment and resource util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4647960" y="1904760"/>
            <a:ext cx="4133880" cy="34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Kind of too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ventory / Inventory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st contro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 of standar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ob specializ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mployee trai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0805188A-E25E-48A2-928D-27586FA49F3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bf5ea"/>
                </a:solidFill>
                <a:latin typeface="Arial"/>
              </a:rPr>
              <a:t>Ch 7-</a:t>
            </a:r>
            <a:fld id="{E6F2AF22-C4D5-4CE0-8547-51E73A6FB133}" type="slidenum">
              <a:rPr b="1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2" name="Text Box 2"/>
          <p:cNvSpPr/>
          <p:nvPr/>
        </p:nvSpPr>
        <p:spPr>
          <a:xfrm>
            <a:off x="533520" y="45720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Human Resource Concern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Resource Strategic Responsibiliti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3" name="Text Box 4"/>
          <p:cNvSpPr/>
          <p:nvPr/>
        </p:nvSpPr>
        <p:spPr>
          <a:xfrm>
            <a:off x="533520" y="2286000"/>
            <a:ext cx="7315200" cy="28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sessing staffing needs/cost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veloping performance incentiv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ild-care polici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ork–life balance issu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4" name="Text Box 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9EA026F5-97F8-4E5B-AE16-47379607171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enefits of a Diverse Workforc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380880" y="1142640"/>
            <a:ext cx="8407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mproves corporate cultu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mproves employee mora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ads to easier recruitment of employe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creases complaints and litig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reases creativ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mproves client rel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reases productiv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ximizes brand identit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duces training cos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D6D554DA-8CE0-4CC3-9A14-85542FC7DAE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hapter Outlin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9A04EF4D-3ECD-419A-A127-7D9F577AD0E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8" name="Rectangle 1"/>
          <p:cNvSpPr/>
          <p:nvPr/>
        </p:nvSpPr>
        <p:spPr>
          <a:xfrm>
            <a:off x="457200" y="1676520"/>
            <a:ext cx="791676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Nature of Strategy Implementat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nual Objectiv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lici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source Allocat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ing Conflic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tching Structure With Strategy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hapter Outline (cont’d)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8319E5E3-CE32-4AA2-B5F3-90B7A8971EE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2" name="Rectangle 1"/>
          <p:cNvSpPr/>
          <p:nvPr/>
        </p:nvSpPr>
        <p:spPr>
          <a:xfrm>
            <a:off x="609480" y="1523880"/>
            <a:ext cx="8153640" cy="39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structuring, Reengineering, and E-Engineering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nking Performance and Pay to Strategies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naging Resistance to Change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naging the Natural Environment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duction/Operations Concerns When Implementing Strategies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uman Resource Concerns When Implementing Strategies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7" descr=""/>
          <p:cNvPicPr/>
          <p:nvPr/>
        </p:nvPicPr>
        <p:blipFill>
          <a:blip r:embed="rId1"/>
          <a:srcRect l="0" t="0" r="0" b="6386"/>
          <a:stretch/>
        </p:blipFill>
        <p:spPr>
          <a:xfrm>
            <a:off x="270000" y="304920"/>
            <a:ext cx="8721720" cy="5500440"/>
          </a:xfrm>
          <a:prstGeom prst="rect">
            <a:avLst/>
          </a:prstGeom>
          <a:ln w="0">
            <a:noFill/>
          </a:ln>
        </p:spPr>
      </p:pic>
      <p:sp>
        <p:nvSpPr>
          <p:cNvPr id="62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DE6E4811-B529-4F9C-8B8A-3285DC30A15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6" name="Rectangle 1"/>
          <p:cNvSpPr/>
          <p:nvPr/>
        </p:nvSpPr>
        <p:spPr>
          <a:xfrm>
            <a:off x="742320" y="5938920"/>
            <a:ext cx="738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 Adapted from Fred R. David, “How Companies Define Their Mission,”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ong Range Planning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2, </a:t>
            </a:r>
            <a:endParaRPr b="1" lang="en-US" sz="12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. 3 (June 1988) 40.</a:t>
            </a:r>
            <a:endParaRPr b="1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533160" y="2133720"/>
            <a:ext cx="7924680" cy="25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rategy implementation is different from strategy form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rmulation focuses on effectiven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mplementation focuses on effici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Text Box 3"/>
          <p:cNvSpPr/>
          <p:nvPr/>
        </p:nvSpPr>
        <p:spPr>
          <a:xfrm>
            <a:off x="533520" y="4572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Nature of Strategy Implementat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304920" y="9907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rmulation vs. Implementation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0EAF376A-5CDA-4C6D-9676-1BF9BC173A8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/>
          </p:nvPr>
        </p:nvSpPr>
        <p:spPr>
          <a:xfrm>
            <a:off x="533160" y="2133720"/>
            <a:ext cx="7848360" cy="30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hift in responsi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Text Box 3"/>
          <p:cNvSpPr/>
          <p:nvPr/>
        </p:nvSpPr>
        <p:spPr>
          <a:xfrm>
            <a:off x="533520" y="4572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Nature of Strategy Implementation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533520" y="9144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ment Perspectiv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5" name="Oval 6"/>
          <p:cNvSpPr/>
          <p:nvPr/>
        </p:nvSpPr>
        <p:spPr>
          <a:xfrm>
            <a:off x="4648320" y="2895480"/>
            <a:ext cx="2590560" cy="1524240"/>
          </a:xfrm>
          <a:prstGeom prst="ellipse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ivisional and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unctiona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anagers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6" name="AutoShape 8"/>
          <p:cNvSpPr/>
          <p:nvPr/>
        </p:nvSpPr>
        <p:spPr>
          <a:xfrm>
            <a:off x="1828800" y="4419720"/>
            <a:ext cx="5105520" cy="914400"/>
          </a:xfrm>
          <a:custGeom>
            <a:avLst/>
            <a:gdLst>
              <a:gd name="textAreaLeft" fmla="*/ 893520 w 5105520"/>
              <a:gd name="textAreaRight" fmla="*/ 3701520 w 510552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7" name="Oval 5"/>
          <p:cNvSpPr/>
          <p:nvPr/>
        </p:nvSpPr>
        <p:spPr>
          <a:xfrm>
            <a:off x="990720" y="2895480"/>
            <a:ext cx="2666880" cy="1524240"/>
          </a:xfrm>
          <a:prstGeom prst="ellipse">
            <a:avLst/>
          </a:prstGeom>
          <a:solidFill>
            <a:srgbClr val="f189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ategists</a:t>
            </a:r>
            <a:endParaRPr b="1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09348E70-0614-4EF1-ABC4-815D360831D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nagement Issue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1" name="Rectangle 3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ssu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6019920" y="3276720"/>
            <a:ext cx="2743200" cy="380880"/>
          </a:xfrm>
          <a:prstGeom prst="rect">
            <a:avLst/>
          </a:prstGeom>
          <a:solidFill>
            <a:srgbClr val="f39b1c"/>
          </a:solidFill>
          <a:ln w="0">
            <a:noFill/>
          </a:ln>
          <a:effectLst>
            <a:outerShdw dist="17819" dir="2700000" blurRad="0" rotWithShape="0">
              <a:srgbClr val="867f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6019920" y="3962520"/>
            <a:ext cx="2743200" cy="380880"/>
          </a:xfrm>
          <a:prstGeom prst="rect">
            <a:avLst/>
          </a:prstGeom>
          <a:solidFill>
            <a:srgbClr val="f39b1c"/>
          </a:solidFill>
          <a:ln w="0">
            <a:noFill/>
          </a:ln>
          <a:effectLst>
            <a:outerShdw dist="17819" dir="2700000" blurRad="0" rotWithShape="0">
              <a:srgbClr val="867f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rganizational Structure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6019920" y="4648320"/>
            <a:ext cx="2743200" cy="380880"/>
          </a:xfrm>
          <a:prstGeom prst="rect">
            <a:avLst/>
          </a:prstGeom>
          <a:solidFill>
            <a:srgbClr val="f39b1c"/>
          </a:solidFill>
          <a:ln w="0">
            <a:noFill/>
          </a:ln>
          <a:effectLst>
            <a:outerShdw dist="17819" dir="2700000" blurRad="0" rotWithShape="0">
              <a:srgbClr val="867f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structuring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6019920" y="5334120"/>
            <a:ext cx="2743200" cy="380880"/>
          </a:xfrm>
          <a:prstGeom prst="rect">
            <a:avLst/>
          </a:prstGeom>
          <a:solidFill>
            <a:srgbClr val="f39b1c"/>
          </a:solidFill>
          <a:ln w="0">
            <a:noFill/>
          </a:ln>
          <a:effectLst>
            <a:outerShdw dist="17819" dir="2700000" blurRad="0" rotWithShape="0">
              <a:srgbClr val="867f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wards/Incentives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6" name="Rectangle 9"/>
          <p:cNvSpPr/>
          <p:nvPr/>
        </p:nvSpPr>
        <p:spPr>
          <a:xfrm>
            <a:off x="6019920" y="1905120"/>
            <a:ext cx="2743200" cy="380880"/>
          </a:xfrm>
          <a:prstGeom prst="rect">
            <a:avLst/>
          </a:prstGeom>
          <a:solidFill>
            <a:srgbClr val="f39b1c"/>
          </a:solidFill>
          <a:ln w="0">
            <a:noFill/>
          </a:ln>
          <a:effectLst>
            <a:outerShdw dist="17819" dir="2700000" blurRad="0" rotWithShape="0">
              <a:srgbClr val="867f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nnual Objectives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7" name="Rectangle 10"/>
          <p:cNvSpPr/>
          <p:nvPr/>
        </p:nvSpPr>
        <p:spPr>
          <a:xfrm>
            <a:off x="6019920" y="2590920"/>
            <a:ext cx="2743200" cy="380880"/>
          </a:xfrm>
          <a:prstGeom prst="rect">
            <a:avLst/>
          </a:prstGeom>
          <a:solidFill>
            <a:srgbClr val="f39b1c"/>
          </a:solidFill>
          <a:ln w="0">
            <a:noFill/>
          </a:ln>
          <a:effectLst>
            <a:outerShdw dist="17819" dir="2700000" blurRad="0" rotWithShape="0">
              <a:srgbClr val="867f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olicies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8" name="Line 11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9" name="Line 12"/>
          <p:cNvSpPr/>
          <p:nvPr/>
        </p:nvSpPr>
        <p:spPr>
          <a:xfrm flipV="1">
            <a:off x="3657600" y="274284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0" name="Line 13"/>
          <p:cNvSpPr/>
          <p:nvPr/>
        </p:nvSpPr>
        <p:spPr>
          <a:xfrm flipV="1">
            <a:off x="3657600" y="34290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1" name="Line 14"/>
          <p:cNvSpPr/>
          <p:nvPr/>
        </p:nvSpPr>
        <p:spPr>
          <a:xfrm>
            <a:off x="3657600" y="3886200"/>
            <a:ext cx="2286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2" name="Line 15"/>
          <p:cNvSpPr/>
          <p:nvPr/>
        </p:nvSpPr>
        <p:spPr>
          <a:xfrm>
            <a:off x="3657600" y="3886200"/>
            <a:ext cx="2362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3" name="Line 16"/>
          <p:cNvSpPr/>
          <p:nvPr/>
        </p:nvSpPr>
        <p:spPr>
          <a:xfrm>
            <a:off x="3657600" y="3886200"/>
            <a:ext cx="236232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9DA9EB7E-7620-4C22-957F-6C870DCB40D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anagement Issues (cont’d)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533520" y="3200400"/>
            <a:ext cx="3124080" cy="1371600"/>
          </a:xfrm>
          <a:prstGeom prst="rect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ssues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6019920" y="3276720"/>
            <a:ext cx="2743200" cy="380880"/>
          </a:xfrm>
          <a:prstGeom prst="rect">
            <a:avLst/>
          </a:prstGeom>
          <a:solidFill>
            <a:srgbClr val="f39b1c"/>
          </a:solidFill>
          <a:ln w="0">
            <a:noFill/>
          </a:ln>
          <a:effectLst>
            <a:outerShdw dist="17819" dir="2700000" blurRad="0" rotWithShape="0">
              <a:srgbClr val="867f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upportive Culture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9" name="Rectangle 5"/>
          <p:cNvSpPr/>
          <p:nvPr/>
        </p:nvSpPr>
        <p:spPr>
          <a:xfrm>
            <a:off x="6019920" y="3962520"/>
            <a:ext cx="2743200" cy="380880"/>
          </a:xfrm>
          <a:prstGeom prst="rect">
            <a:avLst/>
          </a:prstGeom>
          <a:solidFill>
            <a:srgbClr val="f39b1c"/>
          </a:solidFill>
          <a:ln w="0">
            <a:noFill/>
          </a:ln>
          <a:effectLst>
            <a:outerShdw dist="17819" dir="2700000" blurRad="0" rotWithShape="0">
              <a:srgbClr val="867f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roduction/Operations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0" name="Rectangle 6"/>
          <p:cNvSpPr/>
          <p:nvPr/>
        </p:nvSpPr>
        <p:spPr>
          <a:xfrm>
            <a:off x="6019920" y="4648320"/>
            <a:ext cx="2743200" cy="380880"/>
          </a:xfrm>
          <a:prstGeom prst="rect">
            <a:avLst/>
          </a:prstGeom>
          <a:solidFill>
            <a:srgbClr val="f39b1c"/>
          </a:solidFill>
          <a:ln w="0">
            <a:noFill/>
          </a:ln>
          <a:effectLst>
            <a:outerShdw dist="17819" dir="2700000" blurRad="0" rotWithShape="0">
              <a:srgbClr val="867f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Human Resources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6019920" y="1905120"/>
            <a:ext cx="2743200" cy="380880"/>
          </a:xfrm>
          <a:prstGeom prst="rect">
            <a:avLst/>
          </a:prstGeom>
          <a:solidFill>
            <a:srgbClr val="f39b1c"/>
          </a:solidFill>
          <a:ln w="0">
            <a:noFill/>
          </a:ln>
          <a:effectLst>
            <a:outerShdw dist="17819" dir="2700000" blurRad="0" rotWithShape="0">
              <a:srgbClr val="867f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sistance to Change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6019920" y="2590920"/>
            <a:ext cx="2743200" cy="380880"/>
          </a:xfrm>
          <a:prstGeom prst="rect">
            <a:avLst/>
          </a:prstGeom>
          <a:solidFill>
            <a:srgbClr val="f39b1c"/>
          </a:solidFill>
          <a:ln w="0">
            <a:noFill/>
          </a:ln>
          <a:effectLst>
            <a:outerShdw dist="17819" dir="2700000" blurRad="0" rotWithShape="0">
              <a:srgbClr val="867f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atural Environment</a:t>
            </a:r>
            <a:endParaRPr b="1" lang="en-US" sz="1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3" name="Line 10"/>
          <p:cNvSpPr/>
          <p:nvPr/>
        </p:nvSpPr>
        <p:spPr>
          <a:xfrm flipV="1">
            <a:off x="3657600" y="2133720"/>
            <a:ext cx="23623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4" name="Line 11"/>
          <p:cNvSpPr/>
          <p:nvPr/>
        </p:nvSpPr>
        <p:spPr>
          <a:xfrm flipV="1">
            <a:off x="3657600" y="2742840"/>
            <a:ext cx="23623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5" name="Line 12"/>
          <p:cNvSpPr/>
          <p:nvPr/>
        </p:nvSpPr>
        <p:spPr>
          <a:xfrm flipV="1">
            <a:off x="3657600" y="342900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6" name="Line 13"/>
          <p:cNvSpPr/>
          <p:nvPr/>
        </p:nvSpPr>
        <p:spPr>
          <a:xfrm>
            <a:off x="3657600" y="3886200"/>
            <a:ext cx="22860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7" name="Line 14"/>
          <p:cNvSpPr/>
          <p:nvPr/>
        </p:nvSpPr>
        <p:spPr>
          <a:xfrm>
            <a:off x="3657600" y="3886200"/>
            <a:ext cx="236232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8 -</a:t>
            </a:r>
            <a:fld id="{3F320206-518D-4DEA-865F-8781DA2D8D9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1" lang="en-US" sz="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8:56:05Z</dcterms:created>
  <dc:creator>Preferred Customer</dc:creator>
  <dc:description/>
  <dc:language>en-US</dc:language>
  <cp:lastModifiedBy>Default</cp:lastModifiedBy>
  <dcterms:modified xsi:type="dcterms:W3CDTF">2012-05-04T16:50:24Z</dcterms:modified>
  <cp:revision>427</cp:revision>
  <dc:subject/>
  <dc:title>Chapter 1  The Nature of Strategic Management</dc:title>
</cp:coreProperties>
</file>