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07AF-40A7-4D52-9C39-D94BA2620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9C01-9CA9-41DE-87C7-BE2A37355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D731-00DD-45E9-8762-8EB73F1B7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0844-0AEE-435C-92D8-A1666C900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31EC-8DF9-41FB-B9A7-1DACD7B8B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F23B-ED5D-4E5F-93F2-ACBFC5CE4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CFA2-5E21-4F80-A0B3-BB364DA14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17A6-17E0-4920-A473-F68EB925D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82FE-82E0-44D7-B685-BEC540FAC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8B8B-A0E4-402B-9FF8-98E23C9AB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AE62-E8B2-4D4F-81DD-17E057FAD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A8F3-8083-4747-965A-7B30116AC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FAB5-2E25-4FF0-BDB7-530995BD8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FA1D-5A72-4165-BEC5-B8A67A379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C27B-D90E-4FD0-A5DA-6E9EC34BB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967AA-F6FA-40CE-A8F4-BE78CF79D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E909-6140-4E7E-A429-572A2C8F6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3C0B-BB01-4E7E-A8C2-5538ACD42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54DF-35B2-4947-B369-4CD6CAE12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4AF7-C238-4D4E-9E8E-6757B5E3D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E0293-3E33-4441-99DE-323CAF4AC2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A9175-77F7-454B-A966-40CF47171C2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551E62-299B-4515-BA05-CBD660F68A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DF56A-068E-438A-9280-B5FEDCAD8B3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ECAC43-F6F0-47FE-B462-370442AF0CB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01F1D1-B5DD-4C92-B3CC-952FAC2B2C1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E9AC35-63A6-402D-86C6-E061DF8DDA5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5ECE6C-785C-4E72-AE95-9CFDEDF264E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812C88-3E4B-471C-82AE-340705F2516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1072FB-5E03-4048-86AC-3E22DCE226D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2B582F-6A1C-4754-B605-5EEDED9902D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F0C979-7FB6-4457-A60C-22CDE54DE2C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D4F807-0E5E-4469-BAD4-6046DC03383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DC1C8A-8DF1-4308-99DC-2D6B818A52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BC92E-1E0F-469F-929A-E5BC3B2A4E3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0DBF7C-7BA2-47B0-B366-4835177E794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0ED346-2C1E-42E7-98E1-C00BBEEE890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A5FB13-9122-4D9C-8F21-2B7BE3C06EE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7C7817-19D6-4A90-B919-D8775031FB1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F6554D-8126-43CC-A8A5-3506F63A12A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88D15A-B829-43C4-BAD2-31CC56CB093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40E218-6E74-459D-B1A3-E3963F746F5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B334FA-F56E-417F-B04D-6C8C57E36F1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6A64D6-9DBC-44CE-9876-E557AB70A34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00ABEF-55E4-4713-B35B-17521FCBC3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1899F-8BA1-46F8-A765-6E51C50A20F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DC2CEE-5DA2-4661-A3E4-CD0859937AC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B41BC7-FD4B-42A6-A626-C1FED86F09D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6A58B1-0060-4CAA-964A-2BAE0DBBAF0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6182D-A07C-4728-BD78-C640A087554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DA14E-01D7-4A17-BCCE-5CA49D9C7AB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EFBE5-5786-4B39-8CD8-3A9D401BED2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F1E0B-F103-4A0F-8ED2-0E6D5E1F233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F1CAE-7BFA-4ED8-8FFE-8D33E589273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D8138-B9D1-4627-B90B-2E49605F576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6F419-68D8-455A-9A1C-F212BB972F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AF2BAC-4864-410F-9765-2588279A06A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74E36-F583-4495-8CA5-0C13E6B5F30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ADFFA-04A2-455B-A6EC-9A062C288F3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45C69-06AF-4712-BE12-C0A12151546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C5D38-F089-49D8-BC40-991AA70F4FD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CBE04-4B65-44E9-837E-42ADD31CF04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9C7C0E-DC7A-45F8-A1AF-A6D6A707413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6C29A5-4459-452B-BFB6-58EB16C7F4D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35CCCD-477B-4D0A-A2DB-85E5713F66A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352B99-AC2B-4DA8-821F-779EFEB0DE5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B8FFB3-7654-4C41-BA07-0F86A1679A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518335-456D-44F3-BD26-D5A81965CA9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B90D27-62F1-4619-A148-85C90C8A4A2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05E2B4-5C2F-44E8-8366-9C0987569D0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A69914-260A-4B9F-8DD3-F86C06EE50A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B1581E-8E3E-449E-84B7-B39D2DB3ECE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3E0FB2-74D2-4F0C-BB58-BB3893C2177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E3DD15-E92E-45FB-AF77-B3E1CCEC80A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41D784-EDE7-4588-99BD-2BAFB23D388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CF979-919C-457B-806E-4CEC004B8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D1757-9F7E-4E3A-88E2-36207AD1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14D43-E89F-404B-942B-9E0911B6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AE6748-F600-466A-9C68-8BD5ADA0FE71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932C2-65CC-4A7C-A7AA-ED672C37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EC9FA-9ECF-4BD7-86C1-856FC838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308E5-6ABB-466E-9675-012A0D59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0DE35-AED0-4A23-ADB3-E24DA47F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F1553-8540-4A02-8C4F-9A85B4F5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9BD48-1310-4D42-891A-8B45074D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765BD-6B4B-47D3-B0E0-758597E0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A7E64-26EE-43F9-888E-B77406B97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82B89-8A21-4869-BDE5-7C5DC580E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93F0A1-CE61-44D4-8B36-B2DC63471D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CCBA7F-B3B7-4DB6-B431-B70728F5E0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9B3802-4E64-4E4E-8092-75D71535E2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120A3-F6B2-4898-AF8C-87696E9DA5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4799CA-8FD2-46D4-8163-FBC1CCB96E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4A05AF-47B2-4698-BD54-400F9DF0F4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4992C2-82EF-428A-9FB9-736A1DE760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24608C-1B92-492C-B44A-05346FBB59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9AA53F-9121-42E3-BCB9-9FC690400BC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62BC0-1B9A-494E-9BD6-1CBEC58B1AE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100D5-8D7E-4757-8B03-1E6066F0CDD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88C18C-06FA-4EA1-900F-B070CA571A1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DFC64B-005D-4382-9D00-87D5256440D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575F6-C110-4CBE-9F67-7B8ACBAF70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3355F-BE3F-41B7-AA58-3A57A922BE6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D53BC-0EAC-4883-AF1B-F1A788C263C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B663E-FD10-45F5-9170-A95C6C10725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2F391-F1E4-42E7-B08E-077F27E85F5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A2774-9340-415B-8A09-80E539FD91B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0CF8D2-981C-47A8-8AC0-BE49F3FB4A8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BF9DA-B8FD-4048-ADC2-99106B26E9C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7CDC0-97E9-492A-854D-A59B5FEEE03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9188F-0EF9-4AA1-9865-F27150AA5A2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18338C-67DA-42A0-8CB0-0D6E72482F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1C31A-6BD9-44A0-A0B1-995ECB50E15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B62082-851F-4240-89DA-FEBB969AA9F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2928E9-8D0A-433D-8904-0ED45CE993A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22A0EE-B734-4037-AEED-1DF57068FFE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7FCEBD-A108-414C-B6B5-61EAC9DC6C2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E0AC21-DF63-4DE7-BCD9-2CB5D132241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45AEF0-D6B7-4D0A-BE9F-94C03D5B3BE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73C470-6C1A-4CBD-B1FA-FE701318673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B8561F-1267-49B4-A22E-78E7A3B8C99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91D352-202E-496A-9213-8B838F24753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E1868B-7B2B-4F11-8759-B1D931E7B3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7A214-6C5C-4226-9D50-A550ECC2251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91CA88-9F56-4E6C-9BEB-C336245A300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6763B4-84D6-4C77-9200-48F23C2DB3A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BF177F-9BB3-434B-8DBD-2CDE10609D6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81B125-904B-4386-9B64-76349F8C8B7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2854EF-271C-42B8-84E8-0C30840B77B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1CDA78-B103-4AD7-A956-8F162C446BC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D63E48-064A-4C2F-8869-98933462D48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692FC3-97E3-4420-BF67-C3564960C08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528668-2420-454B-A2E6-FB107AF5D31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549029-85FA-4D38-A258-96BC5AC974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3C67F-CF7D-47B8-BDB9-15CFB818FD1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26F5E8-040B-4CCD-AD24-3822DC2E02A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D0307F-B53D-4091-B100-56F6441E3CF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B6D4E1-C15B-4849-8A2B-52E105551CB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9C3A6-D4E3-4CA8-921D-03102411739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B06CAB-C1BE-4B95-A1FC-C67184CEB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87E407-D8DE-406D-AD40-17889626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9E4931-7AA5-4F39-BDAB-4F8B7A6A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885421-F9C3-4863-B382-060531D0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B051C1-D3F9-4CFE-8384-6D1DF060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BEC3B-A5DB-477C-8F90-FDF0D790992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317778-35A6-4581-A3FE-DFC1F304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BA7DB9-333D-46D6-A8B1-32F97BF4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1BB446-69E0-4994-8D09-06A76C4E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F34C96-9EAC-4B6F-A5FE-2373E4CA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0C818B-F8FC-4282-8B54-FCBC26D0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40DAB2-3A72-4ADD-81F2-BA34EE4F4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A99064-1521-45F6-A7D2-EEB7D99F4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Ch 7-</a:t>
            </a:r>
            <a:fld id="{C5F49283-F9C6-4811-92C7-F47FDE775AF5}" type="slidenum"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Times New Roman"/>
              </a:rPr>
              <a:t>Copyright © 2009 Pearson Education, In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Times New Roman"/>
              </a:rPr>
              <a:t>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4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385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sldNum" idx="14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7-</a:t>
            </a:r>
            <a:fld id="{AEF850E2-F50A-4E74-82FD-00064A662C15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15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7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428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16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7-</a:t>
            </a:r>
            <a:fld id="{B0883A80-8A22-4BD9-AD8B-BE368CD10F2D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17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0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471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sldNum" idx="18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7-</a:t>
            </a:r>
            <a:fld id="{28FEAFA3-F426-4813-ADFA-34B1C04806A4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19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3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14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Num" idx="20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7-</a:t>
            </a:r>
            <a:fld id="{C6F1B49A-01AE-4A4A-849C-A61845B74514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21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2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pyright 2005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60C0-D1A3-4FD7-A3AB-BFBB6E92724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7-</a:t>
            </a:r>
            <a:fld id="{1AAE50EC-D608-46C1-B92B-A38BD70A5C2D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48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5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Ch 2 -</a:t>
            </a:r>
            <a:fld id="{56B624F9-792F-40B1-A4EB-9A7DB4D72BDA}" type="slidenum"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Times New Roman"/>
              </a:rPr>
              <a:t>Copyright © 2009 Pearson Education, In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Times New Roman"/>
              </a:rPr>
              <a:t>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365040" y="1762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pic>
        <p:nvPicPr>
          <p:cNvPr id="130" name="Picture 16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6b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321600" y="-29226240"/>
            <a:ext cx="265896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21000"/>
          </a:bodyPr>
          <a:p>
            <a:pPr marL="33840" indent="-33840" algn="r"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1" marL="74520" indent="-36360" algn="r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2" marL="113400" indent="-34560" algn="r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3" marL="170640" indent="-38520" algn="r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4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5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6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Line 7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7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8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7F6D-5F2F-4352-9B52-C1C5E461F7BD}" type="slidenum"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22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9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64680" y="395280"/>
            <a:ext cx="558180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64680" y="3562200"/>
            <a:ext cx="558180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1080" indent="442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178560" indent="65232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524880" indent="-183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9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0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3A43-2DE2-498A-A961-F5761C9D757F}" type="slidenum"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17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217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64680" y="395280"/>
            <a:ext cx="558180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364680" y="3562200"/>
            <a:ext cx="558180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1080" indent="442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178560" indent="65232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524880" indent="-183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56" name="Line 14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7" name="Rectangle 15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58" name="Picture 16" descr="Pearson_Strap_Bound_White"/>
          <p:cNvPicPr/>
          <p:nvPr/>
        </p:nvPicPr>
        <p:blipFill>
          <a:blip r:embed="rId2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7" descr="Pearson_Bound_White"/>
          <p:cNvPicPr/>
          <p:nvPr/>
        </p:nvPicPr>
        <p:blipFill>
          <a:blip r:embed="rId3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7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pyright 2005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00C3-C0B9-41A5-8BE0-07C216AF487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7" descr="Pearson_Bound_White"/>
          <p:cNvPicPr/>
          <p:nvPr/>
        </p:nvPicPr>
        <p:blipFill>
          <a:blip r:embed="rId2"/>
          <a:stretch/>
        </p:blipFill>
        <p:spPr>
          <a:xfrm>
            <a:off x="7783560" y="6496200"/>
            <a:ext cx="1190520" cy="223560"/>
          </a:xfrm>
          <a:prstGeom prst="rect">
            <a:avLst/>
          </a:prstGeom>
          <a:ln w="0">
            <a:noFill/>
          </a:ln>
        </p:spPr>
      </p:pic>
      <p:sp>
        <p:nvSpPr>
          <p:cNvPr id="340" name="Line 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341" name="Picture 9" descr="Always_Learning_Text_Orange_RGB"/>
          <p:cNvPicPr/>
          <p:nvPr/>
        </p:nvPicPr>
        <p:blipFill>
          <a:blip r:embed="rId3"/>
          <a:stretch/>
        </p:blipFill>
        <p:spPr>
          <a:xfrm>
            <a:off x="1262160" y="2330280"/>
            <a:ext cx="6610320" cy="172728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10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343" name="Picture 13" descr="Pearson_Strap_Bound_White"/>
          <p:cNvPicPr/>
          <p:nvPr/>
        </p:nvPicPr>
        <p:blipFill>
          <a:blip r:embed="rId4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4" descr="Pearson_Bound_White"/>
          <p:cNvPicPr/>
          <p:nvPr/>
        </p:nvPicPr>
        <p:blipFill>
          <a:blip r:embed="rId5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0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Always_Learning_Text_Orange_RGB"/>
          <p:cNvPicPr/>
          <p:nvPr/>
        </p:nvPicPr>
        <p:blipFill>
          <a:blip r:embed="rId1"/>
          <a:stretch/>
        </p:blipFill>
        <p:spPr>
          <a:xfrm>
            <a:off x="1262160" y="2330280"/>
            <a:ext cx="6610320" cy="1727280"/>
          </a:xfrm>
          <a:prstGeom prst="rect">
            <a:avLst/>
          </a:prstGeom>
          <a:ln w="0">
            <a:noFill/>
          </a:ln>
        </p:spPr>
      </p:pic>
      <p:sp>
        <p:nvSpPr>
          <p:cNvPr id="606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7" name="Slide Number Placeholder 5"/>
          <p:cNvSpPr/>
          <p:nvPr/>
        </p:nvSpPr>
        <p:spPr>
          <a:xfrm>
            <a:off x="228600" y="655308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8 -</a:t>
            </a:r>
            <a:fld id="{514E0CF9-923E-4CBB-89BD-4BF1037E548C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8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bf5ea"/>
                </a:solidFill>
                <a:latin typeface="Arial"/>
              </a:rPr>
              <a:t>Ch 7-</a:t>
            </a:r>
            <a:fld id="{BB82ACC5-0384-4926-AF3F-40EF7A42602C}" type="slidenum">
              <a:rPr b="1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71" name="Text Box 2"/>
          <p:cNvSpPr/>
          <p:nvPr/>
        </p:nvSpPr>
        <p:spPr>
          <a:xfrm>
            <a:off x="533520" y="457200"/>
            <a:ext cx="609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6b06"/>
                </a:solidFill>
                <a:latin typeface="Verdana"/>
              </a:rPr>
              <a:t>Annual Objective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rpose of Annual Objective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72" name="Text Box 4"/>
          <p:cNvSpPr/>
          <p:nvPr/>
        </p:nvSpPr>
        <p:spPr>
          <a:xfrm>
            <a:off x="533520" y="2057400"/>
            <a:ext cx="8305560" cy="353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asis for resource allocation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chanism for management evaluation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tric for measuring the progress on long-term objective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iorities (organizational, divisional, and departmental)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73" name="Text Box 5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74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8 -</a:t>
            </a:r>
            <a:fld id="{5EE8C298-9395-4555-9A7A-76AFA21CFE0E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75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6b06"/>
                </a:solidFill>
                <a:latin typeface="Verdana"/>
              </a:rPr>
              <a:t>Polices</a:t>
            </a: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0" y="1523520"/>
            <a:ext cx="9144000" cy="48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ff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fers to specific guidelines , methods , procedures , rules , forms and administrative practices established to support and encourage work toward stated goals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ff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Some examples that may requires a policy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: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 use one or more suppliers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 operate one ,two , or three shif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 discourage smoking at work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 discourage insider trad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 discourage working on a secondary job for a different employe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Footer Placeholder 6"/>
          <p:cNvSpPr/>
          <p:nvPr/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bf5ea"/>
                </a:solidFill>
                <a:latin typeface="Arial"/>
              </a:rPr>
              <a:t>Copyright © 2009 Pearson Education, Inc. </a:t>
            </a:r>
            <a:endParaRPr b="1" lang="en-US" sz="9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bf5ea"/>
                </a:solidFill>
                <a:latin typeface="Arial"/>
              </a:rPr>
              <a:t>Publishing as Prentice Hall</a:t>
            </a:r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79" name="Slide Number Placeholder 5"/>
          <p:cNvSpPr/>
          <p:nvPr/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bf5ea"/>
                </a:solidFill>
                <a:latin typeface="Arial"/>
              </a:rPr>
              <a:t>Ch 7-</a:t>
            </a:r>
            <a:fld id="{4C35EF29-EEE1-4A72-A61E-36AD617DAB2E}" type="slidenum">
              <a:rPr b="1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bf5ea"/>
                </a:solidFill>
                <a:latin typeface="Arial"/>
              </a:rPr>
              <a:t>Ch 7-</a:t>
            </a:r>
            <a:fld id="{B9B6657A-2EA9-4F11-9C47-61AD5043D61B}" type="slidenum">
              <a:rPr b="1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1" name="Text Box 2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6b06"/>
                </a:solidFill>
                <a:latin typeface="Verdana"/>
              </a:rPr>
              <a:t>Resource Allocation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2" name="Text Box 3"/>
          <p:cNvSpPr/>
          <p:nvPr/>
        </p:nvSpPr>
        <p:spPr>
          <a:xfrm>
            <a:off x="0" y="1447920"/>
            <a:ext cx="9144000" cy="611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sources allocation is a central management activity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process of allocating resources consistent with priorities indicated by approved annual objective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All organizations have four types of resource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ial resource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ysical resource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uman resource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chnological resource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3" name="Text Box 4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4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8 -</a:t>
            </a:r>
            <a:fld id="{04A1F209-B58E-42BC-BF92-5C9820E22E6E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5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bf5ea"/>
                </a:solidFill>
                <a:latin typeface="Arial"/>
              </a:rPr>
              <a:t>Ch 7-</a:t>
            </a:r>
            <a:fld id="{50E56C20-90C3-494B-B96C-C9F1AB7E707B}" type="slidenum">
              <a:rPr b="1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7" name="Text Box 2"/>
          <p:cNvSpPr/>
          <p:nvPr/>
        </p:nvSpPr>
        <p:spPr>
          <a:xfrm>
            <a:off x="380880" y="4572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6b06"/>
                </a:solidFill>
                <a:latin typeface="Verdana"/>
              </a:rPr>
              <a:t>Managing Conflict 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8" name="Text Box 3"/>
          <p:cNvSpPr/>
          <p:nvPr/>
        </p:nvSpPr>
        <p:spPr>
          <a:xfrm>
            <a:off x="609480" y="1600200"/>
            <a:ext cx="7925040" cy="413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d6b06"/>
                </a:solidFill>
                <a:latin typeface="Arial"/>
              </a:rPr>
              <a:t>Conflict can be defined as</a:t>
            </a:r>
            <a:r>
              <a:rPr b="1" lang="en-US" sz="2800" spc="-1" strike="noStrike">
                <a:solidFill>
                  <a:srgbClr val="ed6b06"/>
                </a:solidFill>
                <a:latin typeface="Arial"/>
              </a:rPr>
              <a:t>--------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disagreement between two or more parties on one or more issue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lict not always “bad”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 absence of conflict can signal apathy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lict can help managers identify problem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9" name="Text Box 4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90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8 -</a:t>
            </a:r>
            <a:fld id="{28740BCA-221E-4678-B20A-72713AC60E50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91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bf5ea"/>
                </a:solidFill>
                <a:latin typeface="Arial"/>
              </a:rPr>
              <a:t>Ch 7-</a:t>
            </a:r>
            <a:fld id="{2A4AC765-F6A8-4D0D-89B7-802F223E9A61}" type="slidenum">
              <a:rPr b="1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93" name="Text Box 2"/>
          <p:cNvSpPr/>
          <p:nvPr/>
        </p:nvSpPr>
        <p:spPr>
          <a:xfrm>
            <a:off x="457200" y="457200"/>
            <a:ext cx="838188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6b06"/>
                </a:solidFill>
                <a:latin typeface="Verdana"/>
              </a:rPr>
              <a:t>Managing Conflict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oaches for Managing Conflict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94" name="Text Box 3"/>
          <p:cNvSpPr/>
          <p:nvPr/>
        </p:nvSpPr>
        <p:spPr>
          <a:xfrm>
            <a:off x="0" y="1752480"/>
            <a:ext cx="9144000" cy="45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d6b06"/>
                </a:solidFill>
                <a:latin typeface="Verdana"/>
              </a:rPr>
              <a:t>Avoidance</a:t>
            </a:r>
            <a:r>
              <a:rPr b="0" i="1" lang="en-US" sz="2400" spc="-1" strike="noStrike">
                <a:solidFill>
                  <a:srgbClr val="ed6b06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ed6b0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gnoring the problem in hopes that the conflict will resolve itself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Compromising</a:t>
            </a: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(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fusing) playing down differences between conflicting parties (there is neither a clear winner nor loser )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050"/>
                </a:solidFill>
                <a:latin typeface="Verdana"/>
              </a:rPr>
              <a:t>Confrontation</a:t>
            </a:r>
            <a:r>
              <a:rPr b="0" i="1" lang="en-US" sz="2000" spc="-1" strike="noStrike">
                <a:solidFill>
                  <a:srgbClr val="00b050"/>
                </a:solidFill>
                <a:latin typeface="Verdana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olding a meeting at which conflicting parties present their views and work through their differences. 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95" name="Text Box 4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96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8 -</a:t>
            </a:r>
            <a:fld id="{69A8CC9E-C927-4E87-A74F-8FD86A04D7C4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97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cxnSp>
        <p:nvCxnSpPr>
          <p:cNvPr id="698" name="Straight Arrow Connector 8"/>
          <p:cNvCxnSpPr/>
          <p:nvPr/>
        </p:nvCxnSpPr>
        <p:spPr>
          <a:xfrm>
            <a:off x="-2819520" y="0"/>
            <a:ext cx="915120" cy="9151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699" name="Straight Arrow Connector 10"/>
          <p:cNvCxnSpPr/>
          <p:nvPr/>
        </p:nvCxnSpPr>
        <p:spPr>
          <a:xfrm>
            <a:off x="-2819520" y="0"/>
            <a:ext cx="915120" cy="9151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700" name="Straight Arrow Connector 12"/>
          <p:cNvCxnSpPr/>
          <p:nvPr/>
        </p:nvCxnSpPr>
        <p:spPr>
          <a:xfrm>
            <a:off x="2133360" y="1980720"/>
            <a:ext cx="1067400" cy="1080"/>
          </a:xfrm>
          <a:prstGeom prst="straightConnector1">
            <a:avLst/>
          </a:prstGeom>
          <a:ln w="38160">
            <a:solidFill>
              <a:srgbClr val="f18938"/>
            </a:solidFill>
            <a:miter/>
            <a:tailEnd len="med" type="arrow" w="med"/>
          </a:ln>
        </p:spPr>
      </p:cxnSp>
      <p:cxnSp>
        <p:nvCxnSpPr>
          <p:cNvPr id="701" name="Straight Arrow Connector 14"/>
          <p:cNvCxnSpPr/>
          <p:nvPr/>
        </p:nvCxnSpPr>
        <p:spPr>
          <a:xfrm>
            <a:off x="3047760" y="3200040"/>
            <a:ext cx="114372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02" name="Straight Arrow Connector 15"/>
          <p:cNvCxnSpPr/>
          <p:nvPr/>
        </p:nvCxnSpPr>
        <p:spPr>
          <a:xfrm>
            <a:off x="2514240" y="4723920"/>
            <a:ext cx="1143720" cy="1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bf5ea"/>
                </a:solidFill>
                <a:latin typeface="Arial"/>
              </a:rPr>
              <a:t>Ch 7-</a:t>
            </a:r>
            <a:fld id="{2C289046-2F9E-4350-982C-8F53B7DB445E}" type="slidenum">
              <a:rPr b="1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4" name="Text Box 2"/>
          <p:cNvSpPr/>
          <p:nvPr/>
        </p:nvSpPr>
        <p:spPr>
          <a:xfrm>
            <a:off x="533520" y="4572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6b06"/>
                </a:solidFill>
                <a:latin typeface="Verdana"/>
              </a:rPr>
              <a:t>Matching Structure with Strategy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5" name="Text Box 3"/>
          <p:cNvSpPr/>
          <p:nvPr/>
        </p:nvSpPr>
        <p:spPr>
          <a:xfrm>
            <a:off x="533520" y="2057400"/>
            <a:ext cx="8001000" cy="334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hanges in strategy lead to changes in organizational Structure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tructure largely dictates how objectives and policies will be established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tructure dictates how resources will be allocated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6" name="Text Box 4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7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8 -</a:t>
            </a:r>
            <a:fld id="{392B138D-340B-47FE-A356-74836AEC5ADD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8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bf5ea"/>
                </a:solidFill>
                <a:latin typeface="Arial"/>
              </a:rPr>
              <a:t>Ch 7-</a:t>
            </a:r>
            <a:fld id="{F6DC5D9E-2C64-4ECD-8E5C-B7B657E99970}" type="slidenum">
              <a:rPr b="1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0" name="Text Box 2"/>
          <p:cNvSpPr/>
          <p:nvPr/>
        </p:nvSpPr>
        <p:spPr>
          <a:xfrm>
            <a:off x="533520" y="457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Matching Structure with Strategy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1" name="Text Box 3"/>
          <p:cNvSpPr/>
          <p:nvPr/>
        </p:nvSpPr>
        <p:spPr>
          <a:xfrm>
            <a:off x="0" y="1752480"/>
            <a:ext cx="8763120" cy="280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al Structure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ivisional Structure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rategic Business Unit Structure (SBU)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trix Structure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2" name="Text Box 4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3" name="Text Box 5"/>
          <p:cNvSpPr/>
          <p:nvPr/>
        </p:nvSpPr>
        <p:spPr>
          <a:xfrm>
            <a:off x="533520" y="9144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asic Forms of Structure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4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8 -</a:t>
            </a:r>
            <a:fld id="{155061A4-3D1E-4201-B824-7267DF2B95D0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5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d6b06"/>
                </a:solidFill>
                <a:uFillTx/>
                <a:latin typeface="Verdana"/>
              </a:rPr>
              <a:t>The Functional Structure </a:t>
            </a:r>
            <a:endParaRPr b="1" lang="en-US" sz="28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 functional structure groups tasks &amp; activities by business functions such as production &amp;operation ; marketing ; finance ;accounting …et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functional structure is the widely used structure because it is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implest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least expensive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, and promotes muc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pecialization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f labo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university may structure its activates by major functions that include academic affairs , student service ,  alumni relation , maintenance , and accounting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Footer Placeholder 6"/>
          <p:cNvSpPr/>
          <p:nvPr/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bf5ea"/>
                </a:solidFill>
                <a:latin typeface="Arial"/>
              </a:rPr>
              <a:t>Copyright © 2009 Pearson Education, Inc. </a:t>
            </a:r>
            <a:endParaRPr b="1" lang="en-US" sz="9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bf5ea"/>
                </a:solidFill>
                <a:latin typeface="Arial"/>
              </a:rPr>
              <a:t>Publishing as Prentice Hall</a:t>
            </a:r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9" name="Slide Number Placeholder 5"/>
          <p:cNvSpPr/>
          <p:nvPr/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bf5ea"/>
                </a:solidFill>
                <a:latin typeface="Arial"/>
              </a:rPr>
              <a:t>Ch 7-</a:t>
            </a:r>
            <a:fld id="{4CD4A1D7-58B1-48F8-9394-0860DF8357B7}" type="slidenum">
              <a:rPr b="1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e Divisional Structure (decentralized structure )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228600" y="990360"/>
            <a:ext cx="8610480" cy="50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t is suitable for the large corporation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t can be organized in one of four way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92d050"/>
              </a:buClr>
              <a:buSzPct val="80000"/>
              <a:buFont typeface="Wingdings" charset="2"/>
              <a:buChar char="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i="1" lang="en-US" sz="2000" spc="-1" strike="noStrike">
                <a:solidFill>
                  <a:srgbClr val="92d050"/>
                </a:solidFill>
                <a:latin typeface="Verdana"/>
              </a:rPr>
              <a:t> </a:t>
            </a:r>
            <a:r>
              <a:rPr b="1" i="1" lang="en-US" sz="2000" spc="-1" strike="noStrike">
                <a:solidFill>
                  <a:srgbClr val="92d050"/>
                </a:solidFill>
                <a:latin typeface="Verdana"/>
              </a:rPr>
              <a:t>By geographic  are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92d050"/>
              </a:buClr>
              <a:buSzPct val="80000"/>
              <a:buFont typeface="Wingdings" charset="2"/>
              <a:buChar char="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i="1" lang="en-US" sz="2000" spc="-1" strike="noStrike">
                <a:solidFill>
                  <a:srgbClr val="92d050"/>
                </a:solidFill>
                <a:latin typeface="Verdana"/>
              </a:rPr>
              <a:t> </a:t>
            </a:r>
            <a:r>
              <a:rPr b="1" i="1" lang="en-US" sz="2000" spc="-1" strike="noStrike">
                <a:solidFill>
                  <a:srgbClr val="92d050"/>
                </a:solidFill>
                <a:latin typeface="Verdana"/>
              </a:rPr>
              <a:t>By product or servic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92d050"/>
              </a:buClr>
              <a:buSzPct val="80000"/>
              <a:buFont typeface="Wingdings" charset="2"/>
              <a:buChar char="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i="1" lang="en-US" sz="2000" spc="-1" strike="noStrike">
                <a:solidFill>
                  <a:srgbClr val="92d050"/>
                </a:solidFill>
                <a:latin typeface="Verdana"/>
              </a:rPr>
              <a:t> </a:t>
            </a:r>
            <a:r>
              <a:rPr b="1" i="1" lang="en-US" sz="2000" spc="-1" strike="noStrike">
                <a:solidFill>
                  <a:srgbClr val="92d050"/>
                </a:solidFill>
                <a:latin typeface="Verdana"/>
              </a:rPr>
              <a:t>By custom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92d050"/>
              </a:buClr>
              <a:buSzPct val="80000"/>
              <a:buFont typeface="Wingdings" charset="2"/>
              <a:buChar char="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i="1" lang="en-US" sz="2000" spc="-1" strike="noStrike">
                <a:solidFill>
                  <a:srgbClr val="92d050"/>
                </a:solidFill>
                <a:latin typeface="Verdana"/>
              </a:rPr>
              <a:t> </a:t>
            </a:r>
            <a:r>
              <a:rPr b="1" i="1" lang="en-US" sz="2000" spc="-1" strike="noStrike">
                <a:solidFill>
                  <a:srgbClr val="92d050"/>
                </a:solidFill>
                <a:latin typeface="Verdana"/>
              </a:rPr>
              <a:t>By process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i="1" lang="en-US" sz="2000" spc="-1" strike="noStrike">
                <a:solidFill>
                  <a:srgbClr val="92d05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divisional  structure is the second widely used structure because it enables the corporation to motivate employees ; control operation  and compete successfully in diverse lo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national investor (a comprehensive banking investment firm ) organizes its activates into four divisions ; investment banking ; private equity ; asset management ; and real estat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Footer Placeholder 3"/>
          <p:cNvSpPr/>
          <p:nvPr/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bf5ea"/>
                </a:solidFill>
                <a:latin typeface="Arial"/>
              </a:rPr>
              <a:t>Copyright © 2009 Pearson Education, Inc. </a:t>
            </a:r>
            <a:endParaRPr b="1" lang="en-US" sz="9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bf5ea"/>
                </a:solidFill>
                <a:latin typeface="Arial"/>
              </a:rPr>
              <a:t>Publishing as Prentice Hall</a:t>
            </a:r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3" name="Slide Number Placeholder 4"/>
          <p:cNvSpPr/>
          <p:nvPr/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bf5ea"/>
                </a:solidFill>
                <a:latin typeface="Arial"/>
              </a:rPr>
              <a:t>Ch 7-</a:t>
            </a:r>
            <a:fld id="{C1EAF423-4EB7-4CF1-A079-DD4891B0E214}" type="slidenum">
              <a:rPr b="1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e Strategic Business  Unit (SBU) structure  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0" y="12193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just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s the number , size , and diversity  of divisions in an organization increase , the SBU  structure is needed 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buClr>
                <a:srgbClr val="ff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SABIC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has grouped its many divisions into six primary SBUs  ; chemicals ;; plastic ;polymers ; innovative plastics ; fertilizers and metal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BU  can greatly facilitate strategy implementation  effor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SBU  structure places similar  divisions into  SBU and delegates authority and responsibility for each unit to a senior executive who directly report to the CE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Footer Placeholder 3"/>
          <p:cNvSpPr/>
          <p:nvPr/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bf5ea"/>
                </a:solidFill>
                <a:latin typeface="Arial"/>
              </a:rPr>
              <a:t>Copyright © 2009 Pearson Education, Inc. </a:t>
            </a:r>
            <a:endParaRPr b="1" lang="en-US" sz="9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bf5ea"/>
                </a:solidFill>
                <a:latin typeface="Arial"/>
              </a:rPr>
              <a:t>Publishing as Prentice Hall</a:t>
            </a:r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7" name="Slide Number Placeholder 4"/>
          <p:cNvSpPr/>
          <p:nvPr/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bf5ea"/>
                </a:solidFill>
                <a:latin typeface="Arial"/>
              </a:rPr>
              <a:t>Ch 7-</a:t>
            </a:r>
            <a:fld id="{FED20672-43AC-42CD-9C4C-18BD6157101E}" type="slidenum">
              <a:rPr b="1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64680" y="395280"/>
            <a:ext cx="84740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d6b06"/>
                </a:solidFill>
                <a:latin typeface="Verdana"/>
              </a:rPr>
              <a:t>Strategic Management: Concepts and Cases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664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Arab World Ed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red R. Dav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bbas J. A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bdulrahman Y. Al-Aa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Chapter 8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Implementing Strategi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Management 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Operations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1" name="Picture 4" descr="CVR_STMA_SB_ARW_5674_CVR"/>
          <p:cNvPicPr/>
          <p:nvPr/>
        </p:nvPicPr>
        <p:blipFill>
          <a:blip r:embed="rId1"/>
          <a:stretch/>
        </p:blipFill>
        <p:spPr>
          <a:xfrm>
            <a:off x="5410080" y="1523880"/>
            <a:ext cx="2874960" cy="4138560"/>
          </a:xfrm>
          <a:prstGeom prst="rect">
            <a:avLst/>
          </a:prstGeom>
          <a:ln w="0">
            <a:noFill/>
          </a:ln>
        </p:spPr>
      </p:pic>
      <p:sp>
        <p:nvSpPr>
          <p:cNvPr id="612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3" name="Slide Number Placeholder 5"/>
          <p:cNvSpPr/>
          <p:nvPr/>
        </p:nvSpPr>
        <p:spPr>
          <a:xfrm>
            <a:off x="304920" y="655308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8 -</a:t>
            </a:r>
            <a:fld id="{D8EB584C-9D88-4C82-91F4-066805DE9129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4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d6b06"/>
                </a:solidFill>
                <a:uFillTx/>
                <a:latin typeface="Verdana"/>
              </a:rPr>
              <a:t>The Matrix Structure 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365040" y="990360"/>
            <a:ext cx="8407440" cy="50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matrix structure is the most complex of all design because it depends on both vertical and horizontal flows of authority and communic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ome advantages of the matrix structure 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ject  objectives are clea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nnel of communication will be  increase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acilitate  the use of specialized personal, equipments , and facilities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20000"/>
              </a:lnSpc>
              <a:buClr>
                <a:srgbClr val="ff0000"/>
              </a:buClr>
              <a:buSzPct val="80000"/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For a matrix structure to be effectiv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rganizations need participative plann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raining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ear mutual understanding of roles and responsibil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cellent internal communic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utual trust and confidence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Footer Placeholder 3"/>
          <p:cNvSpPr/>
          <p:nvPr/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bf5ea"/>
                </a:solidFill>
                <a:latin typeface="Arial"/>
              </a:rPr>
              <a:t>Copyright © 2009 Pearson Education, Inc. </a:t>
            </a:r>
            <a:endParaRPr b="1" lang="en-US" sz="9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bf5ea"/>
                </a:solidFill>
                <a:latin typeface="Arial"/>
              </a:rPr>
              <a:t>Publishing as Prentice Hall</a:t>
            </a:r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1" name="Slide Number Placeholder 4"/>
          <p:cNvSpPr/>
          <p:nvPr/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bf5ea"/>
                </a:solidFill>
                <a:latin typeface="Arial"/>
              </a:rPr>
              <a:t>Ch 7-</a:t>
            </a:r>
            <a:fld id="{F669A491-D262-4448-9BAA-A3B546DE7D5F}" type="slidenum">
              <a:rPr b="1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bf5ea"/>
                </a:solidFill>
                <a:latin typeface="Arial"/>
              </a:rPr>
              <a:t>Ch 7-</a:t>
            </a:r>
            <a:fld id="{4E255525-CB14-415E-869D-A8D939630F9B}" type="slidenum">
              <a:rPr b="1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3" name="Text Box 2"/>
          <p:cNvSpPr/>
          <p:nvPr/>
        </p:nvSpPr>
        <p:spPr>
          <a:xfrm>
            <a:off x="533520" y="457200"/>
            <a:ext cx="8076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Restructuring,, and Re-Engineering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estructuring (also called  Downsizing, rightsizing)    ) 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4" name="Text Box 4"/>
          <p:cNvSpPr/>
          <p:nvPr/>
        </p:nvSpPr>
        <p:spPr>
          <a:xfrm>
            <a:off x="609480" y="2590920"/>
            <a:ext cx="7315200" cy="275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ducing the size of the firm in terms of number of employees , number of divisions  or units  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target is---------- to improve both efficiency and effectiveness 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5" name="Text Box 5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6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8 -</a:t>
            </a:r>
            <a:fld id="{7BDF636C-CAF8-4873-8B2B-C6319E2E6BCA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7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bf5ea"/>
                </a:solidFill>
                <a:latin typeface="Arial"/>
              </a:rPr>
              <a:t>Ch 7-</a:t>
            </a:r>
            <a:fld id="{541CC016-D45C-415D-A637-78B44BCF99C6}" type="slidenum">
              <a:rPr b="1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9" name="Text Box 2"/>
          <p:cNvSpPr/>
          <p:nvPr/>
        </p:nvSpPr>
        <p:spPr>
          <a:xfrm>
            <a:off x="457200" y="457200"/>
            <a:ext cx="82296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Re-engineering ;it is called also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 innovation , Process redesign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   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0" name="Text Box 4"/>
          <p:cNvSpPr/>
          <p:nvPr/>
        </p:nvSpPr>
        <p:spPr>
          <a:xfrm>
            <a:off x="457200" y="2590920"/>
            <a:ext cx="8305920" cy="233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engineering is concerned with employee and customer well being than shareholder well – being  . 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purpose is  improving cost  - quality – service – and speed of the production  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1" name="Text Box 5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2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8 -</a:t>
            </a:r>
            <a:fld id="{650B72E6-617C-4C36-BD61-F66CD00E99CF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3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bf5ea"/>
                </a:solidFill>
                <a:latin typeface="Arial"/>
              </a:rPr>
              <a:t>Ch 7-</a:t>
            </a:r>
            <a:fld id="{DF71321A-56C0-4D64-B29C-F9FC9595703D}" type="slidenum">
              <a:rPr b="1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5" name="Text Box 2"/>
          <p:cNvSpPr/>
          <p:nvPr/>
        </p:nvSpPr>
        <p:spPr>
          <a:xfrm>
            <a:off x="533520" y="457200"/>
            <a:ext cx="807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Linking Performance and Pay to Strategie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tuation in the Arab World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6" name="Text Box 4"/>
          <p:cNvSpPr/>
          <p:nvPr/>
        </p:nvSpPr>
        <p:spPr>
          <a:xfrm>
            <a:off x="533520" y="2514600"/>
            <a:ext cx="8001000" cy="300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st companies adopt a compensation system which primarily includes a base salary with annual rises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creasingly in large Arab corporations there is a tendency to utilize pay systems similar to those found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western countries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7" name="Text Box 5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8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8 -</a:t>
            </a:r>
            <a:fld id="{87F411A0-FC3F-4D46-A6CB-0BDAAECECCE6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9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bf5ea"/>
                </a:solidFill>
                <a:latin typeface="Arial"/>
              </a:rPr>
              <a:t>Ch 7-</a:t>
            </a:r>
            <a:fld id="{2555DF44-5852-4D54-B328-1212A5B44909}" type="slidenum">
              <a:rPr b="1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51" name="Text Box 2"/>
          <p:cNvSpPr/>
          <p:nvPr/>
        </p:nvSpPr>
        <p:spPr>
          <a:xfrm>
            <a:off x="533520" y="457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Production/Operations Concern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52" name="Text Box 4"/>
          <p:cNvSpPr/>
          <p:nvPr/>
        </p:nvSpPr>
        <p:spPr>
          <a:xfrm>
            <a:off x="533520" y="2438280"/>
            <a:ext cx="731520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oduction processes typically constitute more than 70% of firm’s total assets.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53" name="Text Box 5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54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8 -</a:t>
            </a:r>
            <a:fld id="{017F9DF6-D9BF-41F0-B653-2FBF48E4B0EF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55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Production/Operations Concerns (cont’d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duction/Operations Decisions</a:t>
            </a: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4133880" cy="34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lant siz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lant lo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duct desig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oice of equi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hipping and packag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chnological innov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quipment and resource utiliz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4647960" y="1904760"/>
            <a:ext cx="4133880" cy="34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Kind of tool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ventory / Inventory contr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st contr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 of standar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Job specializ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mployee trai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8 -</a:t>
            </a:r>
            <a:fld id="{35BD8451-0F62-4AED-826C-182875171DBA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0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bf5ea"/>
                </a:solidFill>
                <a:latin typeface="Arial"/>
              </a:rPr>
              <a:t>Ch 7-</a:t>
            </a:r>
            <a:fld id="{7C790EF5-C04F-4136-8E27-C1671B45DFDC}" type="slidenum">
              <a:rPr b="1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2" name="Text Box 2"/>
          <p:cNvSpPr/>
          <p:nvPr/>
        </p:nvSpPr>
        <p:spPr>
          <a:xfrm>
            <a:off x="533520" y="457200"/>
            <a:ext cx="761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Human Resource Concern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man Resource Strategic Responsibilitie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3" name="Text Box 4"/>
          <p:cNvSpPr/>
          <p:nvPr/>
        </p:nvSpPr>
        <p:spPr>
          <a:xfrm>
            <a:off x="533520" y="2286000"/>
            <a:ext cx="7315200" cy="280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ssessing staffing needs/cost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veloping performance incentive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ild-care policie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ork–life balance issue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4" name="Text Box 5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5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8 -</a:t>
            </a:r>
            <a:fld id="{FE1C983A-F10F-4207-9545-76CD22151546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6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Benefits of a Diverse Workforce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380880" y="1142640"/>
            <a:ext cx="84074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mproves corporate cultu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mproves employee mora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ads to easier recruitment of employe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creases complaints and litig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creases creativ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mproves client rel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creases productiv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ximizes brand ident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duces training cos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8 -</a:t>
            </a:r>
            <a:fld id="{7A73C12C-6390-48DB-B327-48FC04F233DD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0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hapter Outline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16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8 -</a:t>
            </a:r>
            <a:fld id="{548DD63A-E163-4D25-A8BC-036DE3993234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7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8" name="Rectangle 1"/>
          <p:cNvSpPr/>
          <p:nvPr/>
        </p:nvSpPr>
        <p:spPr>
          <a:xfrm>
            <a:off x="457200" y="1676520"/>
            <a:ext cx="791676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Nature of Strategy Implementation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nual Objective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licie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source Allocation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ing Conflict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tching Structure With Strategy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hapter Outline (cont’d)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20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8 -</a:t>
            </a:r>
            <a:fld id="{CD935D17-722A-4015-A0D0-5E7E40F504C3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1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2" name="Rectangle 1"/>
          <p:cNvSpPr/>
          <p:nvPr/>
        </p:nvSpPr>
        <p:spPr>
          <a:xfrm>
            <a:off x="609480" y="1523880"/>
            <a:ext cx="8153640" cy="39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structuring, Reengineering, and E-Engineering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inking Performance and Pay to Strategies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naging Resistance to Change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naging the Natural Environment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duction/Operations Concerns When Implementing Strategies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uman Resource Concerns When Implementing Strategies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7" descr=""/>
          <p:cNvPicPr/>
          <p:nvPr/>
        </p:nvPicPr>
        <p:blipFill>
          <a:blip r:embed="rId1"/>
          <a:srcRect l="0" t="0" r="0" b="6386"/>
          <a:stretch/>
        </p:blipFill>
        <p:spPr>
          <a:xfrm>
            <a:off x="270000" y="304920"/>
            <a:ext cx="8721720" cy="5500440"/>
          </a:xfrm>
          <a:prstGeom prst="rect">
            <a:avLst/>
          </a:prstGeom>
          <a:ln w="0">
            <a:noFill/>
          </a:ln>
        </p:spPr>
      </p:pic>
      <p:sp>
        <p:nvSpPr>
          <p:cNvPr id="624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8 -</a:t>
            </a:r>
            <a:fld id="{50C027E3-5EDB-4176-A103-3C3164EEC64F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5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6" name="Rectangle 1"/>
          <p:cNvSpPr/>
          <p:nvPr/>
        </p:nvSpPr>
        <p:spPr>
          <a:xfrm>
            <a:off x="742320" y="5938920"/>
            <a:ext cx="738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: Adapted from Fred R. David, “How Companies Define Their Mission,”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Long Range Planning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2, </a:t>
            </a:r>
            <a:endParaRPr b="1" lang="en-US" sz="12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. 3 (June 1988) 40.</a:t>
            </a:r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/>
          </p:nvPr>
        </p:nvSpPr>
        <p:spPr>
          <a:xfrm>
            <a:off x="533160" y="2133720"/>
            <a:ext cx="7924680" cy="25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rategy implementation is different from strategy formu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rmulation focuses on effectiven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mplementation focuses on effici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Text Box 3"/>
          <p:cNvSpPr/>
          <p:nvPr/>
        </p:nvSpPr>
        <p:spPr>
          <a:xfrm>
            <a:off x="533520" y="4572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Nature of Strategy Implementation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9" name="Text Box 4"/>
          <p:cNvSpPr/>
          <p:nvPr/>
        </p:nvSpPr>
        <p:spPr>
          <a:xfrm>
            <a:off x="304920" y="9907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rmulation vs. Implementation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0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8 -</a:t>
            </a:r>
            <a:fld id="{DC1AC0FD-2281-4E76-9C12-891576C4528E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1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/>
          </p:nvPr>
        </p:nvSpPr>
        <p:spPr>
          <a:xfrm>
            <a:off x="533160" y="2133720"/>
            <a:ext cx="7848360" cy="304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hift in responsi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Text Box 3"/>
          <p:cNvSpPr/>
          <p:nvPr/>
        </p:nvSpPr>
        <p:spPr>
          <a:xfrm>
            <a:off x="533520" y="457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Nature of Strategy Implementation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4" name="Text Box 4"/>
          <p:cNvSpPr/>
          <p:nvPr/>
        </p:nvSpPr>
        <p:spPr>
          <a:xfrm>
            <a:off x="533520" y="9144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ment Perspective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5" name="Oval 6"/>
          <p:cNvSpPr/>
          <p:nvPr/>
        </p:nvSpPr>
        <p:spPr>
          <a:xfrm>
            <a:off x="4648320" y="2895480"/>
            <a:ext cx="2590560" cy="1524240"/>
          </a:xfrm>
          <a:prstGeom prst="ellipse">
            <a:avLst/>
          </a:prstGeom>
          <a:solidFill>
            <a:srgbClr val="f68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ivisional and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unctiona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anagers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6" name="AutoShape 8"/>
          <p:cNvSpPr/>
          <p:nvPr/>
        </p:nvSpPr>
        <p:spPr>
          <a:xfrm>
            <a:off x="1828800" y="4419720"/>
            <a:ext cx="5105520" cy="914400"/>
          </a:xfrm>
          <a:custGeom>
            <a:avLst/>
            <a:gdLst>
              <a:gd name="textAreaLeft" fmla="*/ 893520 w 5105520"/>
              <a:gd name="textAreaRight" fmla="*/ 3701520 w 510552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ed6b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7" name="Oval 5"/>
          <p:cNvSpPr/>
          <p:nvPr/>
        </p:nvSpPr>
        <p:spPr>
          <a:xfrm>
            <a:off x="990720" y="2895480"/>
            <a:ext cx="2666880" cy="1524240"/>
          </a:xfrm>
          <a:prstGeom prst="ellipse">
            <a:avLst/>
          </a:prstGeom>
          <a:solidFill>
            <a:srgbClr val="f189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rategists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8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8 -</a:t>
            </a:r>
            <a:fld id="{721D24BE-29CE-444E-A3CE-36D7D04847EF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9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Management Issues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41" name="Rectangle 3"/>
          <p:cNvSpPr/>
          <p:nvPr/>
        </p:nvSpPr>
        <p:spPr>
          <a:xfrm>
            <a:off x="533520" y="3200400"/>
            <a:ext cx="3124080" cy="1371600"/>
          </a:xfrm>
          <a:prstGeom prst="rect">
            <a:avLst/>
          </a:prstGeom>
          <a:solidFill>
            <a:srgbClr val="ed6b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ssue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2" name="Rectangle 4"/>
          <p:cNvSpPr/>
          <p:nvPr/>
        </p:nvSpPr>
        <p:spPr>
          <a:xfrm>
            <a:off x="6019920" y="3276720"/>
            <a:ext cx="2743200" cy="380880"/>
          </a:xfrm>
          <a:prstGeom prst="rect">
            <a:avLst/>
          </a:prstGeom>
          <a:solidFill>
            <a:srgbClr val="f39b1c"/>
          </a:solidFill>
          <a:ln w="0">
            <a:noFill/>
          </a:ln>
          <a:effectLst>
            <a:outerShdw dist="17819" dir="2700000" blurRad="0" rotWithShape="0">
              <a:srgbClr val="867f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6019920" y="3962520"/>
            <a:ext cx="2743200" cy="380880"/>
          </a:xfrm>
          <a:prstGeom prst="rect">
            <a:avLst/>
          </a:prstGeom>
          <a:solidFill>
            <a:srgbClr val="f39b1c"/>
          </a:solidFill>
          <a:ln w="0">
            <a:noFill/>
          </a:ln>
          <a:effectLst>
            <a:outerShdw dist="17819" dir="2700000" blurRad="0" rotWithShape="0">
              <a:srgbClr val="867f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Organizational Structure</a:t>
            </a:r>
            <a:endParaRPr b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6019920" y="4648320"/>
            <a:ext cx="2743200" cy="380880"/>
          </a:xfrm>
          <a:prstGeom prst="rect">
            <a:avLst/>
          </a:prstGeom>
          <a:solidFill>
            <a:srgbClr val="f39b1c"/>
          </a:solidFill>
          <a:ln w="0">
            <a:noFill/>
          </a:ln>
          <a:effectLst>
            <a:outerShdw dist="17819" dir="2700000" blurRad="0" rotWithShape="0">
              <a:srgbClr val="867f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structuring</a:t>
            </a:r>
            <a:endParaRPr b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5" name="Rectangle 7"/>
          <p:cNvSpPr/>
          <p:nvPr/>
        </p:nvSpPr>
        <p:spPr>
          <a:xfrm>
            <a:off x="6019920" y="5334120"/>
            <a:ext cx="2743200" cy="380880"/>
          </a:xfrm>
          <a:prstGeom prst="rect">
            <a:avLst/>
          </a:prstGeom>
          <a:solidFill>
            <a:srgbClr val="f39b1c"/>
          </a:solidFill>
          <a:ln w="0">
            <a:noFill/>
          </a:ln>
          <a:effectLst>
            <a:outerShdw dist="17819" dir="2700000" blurRad="0" rotWithShape="0">
              <a:srgbClr val="867f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wards/Incentives</a:t>
            </a:r>
            <a:endParaRPr b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6" name="Rectangle 9"/>
          <p:cNvSpPr/>
          <p:nvPr/>
        </p:nvSpPr>
        <p:spPr>
          <a:xfrm>
            <a:off x="6019920" y="1905120"/>
            <a:ext cx="2743200" cy="380880"/>
          </a:xfrm>
          <a:prstGeom prst="rect">
            <a:avLst/>
          </a:prstGeom>
          <a:solidFill>
            <a:srgbClr val="f39b1c"/>
          </a:solidFill>
          <a:ln w="0">
            <a:noFill/>
          </a:ln>
          <a:effectLst>
            <a:outerShdw dist="17819" dir="2700000" blurRad="0" rotWithShape="0">
              <a:srgbClr val="867f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nnual Objectives</a:t>
            </a:r>
            <a:endParaRPr b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7" name="Rectangle 10"/>
          <p:cNvSpPr/>
          <p:nvPr/>
        </p:nvSpPr>
        <p:spPr>
          <a:xfrm>
            <a:off x="6019920" y="2590920"/>
            <a:ext cx="2743200" cy="380880"/>
          </a:xfrm>
          <a:prstGeom prst="rect">
            <a:avLst/>
          </a:prstGeom>
          <a:solidFill>
            <a:srgbClr val="f39b1c"/>
          </a:solidFill>
          <a:ln w="0">
            <a:noFill/>
          </a:ln>
          <a:effectLst>
            <a:outerShdw dist="17819" dir="2700000" blurRad="0" rotWithShape="0">
              <a:srgbClr val="867f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olicies</a:t>
            </a:r>
            <a:endParaRPr b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8" name="Line 11"/>
          <p:cNvSpPr/>
          <p:nvPr/>
        </p:nvSpPr>
        <p:spPr>
          <a:xfrm flipV="1">
            <a:off x="3657600" y="2133720"/>
            <a:ext cx="236232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9" name="Line 12"/>
          <p:cNvSpPr/>
          <p:nvPr/>
        </p:nvSpPr>
        <p:spPr>
          <a:xfrm flipV="1">
            <a:off x="3657600" y="2742840"/>
            <a:ext cx="23623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0" name="Line 13"/>
          <p:cNvSpPr/>
          <p:nvPr/>
        </p:nvSpPr>
        <p:spPr>
          <a:xfrm flipV="1">
            <a:off x="3657600" y="3429000"/>
            <a:ext cx="2362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1" name="Line 14"/>
          <p:cNvSpPr/>
          <p:nvPr/>
        </p:nvSpPr>
        <p:spPr>
          <a:xfrm>
            <a:off x="3657600" y="3886200"/>
            <a:ext cx="22860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2" name="Line 15"/>
          <p:cNvSpPr/>
          <p:nvPr/>
        </p:nvSpPr>
        <p:spPr>
          <a:xfrm>
            <a:off x="3657600" y="3886200"/>
            <a:ext cx="23623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3" name="Line 16"/>
          <p:cNvSpPr/>
          <p:nvPr/>
        </p:nvSpPr>
        <p:spPr>
          <a:xfrm>
            <a:off x="3657600" y="3886200"/>
            <a:ext cx="236232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4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8 -</a:t>
            </a:r>
            <a:fld id="{0CBF1458-458D-4BC7-BA88-79027183FA04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5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Management Issues (cont’d)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57" name="Rectangle 3"/>
          <p:cNvSpPr/>
          <p:nvPr/>
        </p:nvSpPr>
        <p:spPr>
          <a:xfrm>
            <a:off x="533520" y="3200400"/>
            <a:ext cx="3124080" cy="1371600"/>
          </a:xfrm>
          <a:prstGeom prst="rect">
            <a:avLst/>
          </a:prstGeom>
          <a:solidFill>
            <a:srgbClr val="ed6b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ssue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8" name="Rectangle 4"/>
          <p:cNvSpPr/>
          <p:nvPr/>
        </p:nvSpPr>
        <p:spPr>
          <a:xfrm>
            <a:off x="6019920" y="3276720"/>
            <a:ext cx="2743200" cy="380880"/>
          </a:xfrm>
          <a:prstGeom prst="rect">
            <a:avLst/>
          </a:prstGeom>
          <a:solidFill>
            <a:srgbClr val="f39b1c"/>
          </a:solidFill>
          <a:ln w="0">
            <a:noFill/>
          </a:ln>
          <a:effectLst>
            <a:outerShdw dist="17819" dir="2700000" blurRad="0" rotWithShape="0">
              <a:srgbClr val="867f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upportive Culture</a:t>
            </a:r>
            <a:endParaRPr b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9" name="Rectangle 5"/>
          <p:cNvSpPr/>
          <p:nvPr/>
        </p:nvSpPr>
        <p:spPr>
          <a:xfrm>
            <a:off x="6019920" y="3962520"/>
            <a:ext cx="2743200" cy="380880"/>
          </a:xfrm>
          <a:prstGeom prst="rect">
            <a:avLst/>
          </a:prstGeom>
          <a:solidFill>
            <a:srgbClr val="f39b1c"/>
          </a:solidFill>
          <a:ln w="0">
            <a:noFill/>
          </a:ln>
          <a:effectLst>
            <a:outerShdw dist="17819" dir="2700000" blurRad="0" rotWithShape="0">
              <a:srgbClr val="867f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roduction/Operations</a:t>
            </a:r>
            <a:endParaRPr b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0" name="Rectangle 6"/>
          <p:cNvSpPr/>
          <p:nvPr/>
        </p:nvSpPr>
        <p:spPr>
          <a:xfrm>
            <a:off x="6019920" y="4648320"/>
            <a:ext cx="2743200" cy="380880"/>
          </a:xfrm>
          <a:prstGeom prst="rect">
            <a:avLst/>
          </a:prstGeom>
          <a:solidFill>
            <a:srgbClr val="f39b1c"/>
          </a:solidFill>
          <a:ln w="0">
            <a:noFill/>
          </a:ln>
          <a:effectLst>
            <a:outerShdw dist="17819" dir="2700000" blurRad="0" rotWithShape="0">
              <a:srgbClr val="867f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uman Resources</a:t>
            </a:r>
            <a:endParaRPr b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1" name="Rectangle 8"/>
          <p:cNvSpPr/>
          <p:nvPr/>
        </p:nvSpPr>
        <p:spPr>
          <a:xfrm>
            <a:off x="6019920" y="1905120"/>
            <a:ext cx="2743200" cy="380880"/>
          </a:xfrm>
          <a:prstGeom prst="rect">
            <a:avLst/>
          </a:prstGeom>
          <a:solidFill>
            <a:srgbClr val="f39b1c"/>
          </a:solidFill>
          <a:ln w="0">
            <a:noFill/>
          </a:ln>
          <a:effectLst>
            <a:outerShdw dist="17819" dir="2700000" blurRad="0" rotWithShape="0">
              <a:srgbClr val="867f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sistance to Change</a:t>
            </a:r>
            <a:endParaRPr b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2" name="Rectangle 9"/>
          <p:cNvSpPr/>
          <p:nvPr/>
        </p:nvSpPr>
        <p:spPr>
          <a:xfrm>
            <a:off x="6019920" y="2590920"/>
            <a:ext cx="2743200" cy="380880"/>
          </a:xfrm>
          <a:prstGeom prst="rect">
            <a:avLst/>
          </a:prstGeom>
          <a:solidFill>
            <a:srgbClr val="f39b1c"/>
          </a:solidFill>
          <a:ln w="0">
            <a:noFill/>
          </a:ln>
          <a:effectLst>
            <a:outerShdw dist="17819" dir="2700000" blurRad="0" rotWithShape="0">
              <a:srgbClr val="867f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atural Environment</a:t>
            </a:r>
            <a:endParaRPr b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3" name="Line 10"/>
          <p:cNvSpPr/>
          <p:nvPr/>
        </p:nvSpPr>
        <p:spPr>
          <a:xfrm flipV="1">
            <a:off x="3657600" y="2133720"/>
            <a:ext cx="236232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4" name="Line 11"/>
          <p:cNvSpPr/>
          <p:nvPr/>
        </p:nvSpPr>
        <p:spPr>
          <a:xfrm flipV="1">
            <a:off x="3657600" y="2742840"/>
            <a:ext cx="23623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5" name="Line 12"/>
          <p:cNvSpPr/>
          <p:nvPr/>
        </p:nvSpPr>
        <p:spPr>
          <a:xfrm flipV="1">
            <a:off x="3657600" y="3429000"/>
            <a:ext cx="2362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6" name="Line 13"/>
          <p:cNvSpPr/>
          <p:nvPr/>
        </p:nvSpPr>
        <p:spPr>
          <a:xfrm>
            <a:off x="3657600" y="3886200"/>
            <a:ext cx="22860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7" name="Line 14"/>
          <p:cNvSpPr/>
          <p:nvPr/>
        </p:nvSpPr>
        <p:spPr>
          <a:xfrm>
            <a:off x="3657600" y="3886200"/>
            <a:ext cx="23623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8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8 -</a:t>
            </a:r>
            <a:fld id="{8AB45448-48FA-4381-ACAD-F9365648A631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9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7T18:56:05Z</dcterms:created>
  <dc:creator>Preferred Customer</dc:creator>
  <dc:description/>
  <dc:language>en-US</dc:language>
  <cp:lastModifiedBy>Default</cp:lastModifiedBy>
  <dcterms:modified xsi:type="dcterms:W3CDTF">2012-05-04T16:50:24Z</dcterms:modified>
  <cp:revision>427</cp:revision>
  <dc:subject/>
  <dc:title>Chapter 1  The Nature of Strategic Management</dc:title>
</cp:coreProperties>
</file>